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wmf" ContentType="image/x-wmf"/>
  <Override PartName="/ppt/media/image11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9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wmf" ContentType="image/x-wmf"/>
  <Override PartName="/ppt/media/image19.jpeg" ContentType="image/jpeg"/>
  <Override PartName="/ppt/media/image3.jpeg" ContentType="image/jpeg"/>
  <Override PartName="/ppt/media/image28.wmf" ContentType="image/x-wmf"/>
  <Override PartName="/ppt/media/image16.wmf" ContentType="image/x-wmf"/>
  <Override PartName="/ppt/media/image27.wmf" ContentType="image/x-wmf"/>
  <Override PartName="/ppt/media/image26.wmf" ContentType="image/x-wmf"/>
  <Override PartName="/ppt/media/image29.png" ContentType="image/png"/>
  <Override PartName="/ppt/media/image14.wmf" ContentType="image/x-wmf"/>
  <Override PartName="/ppt/media/image24.png" ContentType="image/png"/>
  <Override PartName="/ppt/media/image21.wmf" ContentType="image/x-wmf"/>
  <Override PartName="/ppt/media/image5.png" ContentType="image/png"/>
  <Override PartName="/ppt/media/image20.jpeg" ContentType="image/jpeg"/>
  <Override PartName="/ppt/media/image18.png" ContentType="image/png"/>
  <Override PartName="/ppt/media/image17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5E180-35B4-4A7B-8A82-AE96582B44D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0AD5F-4821-4DC4-8473-B32131B80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minute to discuss the unit used in the English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BD607-2FB5-419D-890C-229F2A8C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790-93A3-4B9B-A9F1-6C4FEFE4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992-B0BA-4A1F-B4A5-594E71AD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E5E-6C21-4A18-8113-81096C38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01CC-09F3-4633-B1EF-9406612D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58A9-C5E3-4AB9-8664-9D9FC17C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037C-202E-4793-AF54-4D013F4C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722B-FD4D-4656-91E5-A55D1615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DE7F-2F38-4203-AB04-3C20CEE3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8A2F-4F67-4E2A-8390-E5B8813A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FADE-2B83-4D49-9BA4-DC927116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5F42-1C66-44B4-B505-7E97C822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659-6295-4BFF-9F7A-64CB1AA5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4D7D-F974-4762-B3DF-6BFB0146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13A5-D171-432B-9AC9-1FD452E1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68E9-E547-4E50-8DE6-A1950635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3D7A-8D22-4172-8D83-08DC962C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2733-07C3-4BC2-A2EC-C666C43A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9603-B75E-4353-BBA8-3D5D19F9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F0716-B451-4152-848D-F3AB507F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3BDC-EED2-4182-9D8D-B727D049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1A5B-CD33-45D5-843A-451C7C89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74D08-362E-406E-9EBC-FD93EA50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55F-5B2A-411B-B6BA-E1F5CB8C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9F88-BF4C-4D81-B76D-6BE7E678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C668-6F59-4A14-9BE1-CD05CDBB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2E4F-DF6D-44E3-8F26-FE57BBEB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C3DD3-379D-4426-AF72-22F06133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033B-0D70-4217-A8FE-F4B90F75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ECA2-B6A0-49A9-B827-2C1F053E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1D15-55AB-45C7-9518-10E126D7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5AB2F-B808-44E3-B786-A130A80C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A104-28C5-4583-9D77-F3FDC52A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3D3B6-E021-471F-8161-B39E73D1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850-2AE0-466B-9205-58625856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9357-F209-40AB-BCEB-E58312F6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D31C0-3C6D-4556-A560-3416388C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D1A87-D509-4794-AD85-D40C4FDD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DB08-F9C0-46EC-9EA6-1A35C962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3DAE-2D3B-46D7-931E-CF9A2B67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5E335-7005-4572-82AD-B239C817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FC17-627B-4708-ADBC-469542C9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FF06-BD57-4801-8ED2-9BD3A4C5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CC02A-D3DD-4BEB-A144-B3537DE1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13C-2312-4353-8C2C-9A0DB4C4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F6C-2145-49AE-8CA6-24F8EB12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2C2-2DED-44A5-AAA1-23112073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1BD-37A6-4883-96A0-7114CE65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5EE-2D78-434B-94B2-88F265B2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711BD-FF9F-41A8-B252-7BBE64F3F8B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23D99-9481-4DC8-86C7-D48D585EE8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90E9B-0EE9-4211-9670-A5FEE59673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284DB-DFBE-4CBC-BC84-CB779DC33D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AF4FD-B6DC-4EF6-B8B8-69528E64C7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 and 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2"/>
          <p:cNvSpPr/>
          <p:nvPr/>
        </p:nvSpPr>
        <p:spPr>
          <a:xfrm>
            <a:off x="268200" y="7621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18116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738680" y="4967280"/>
            <a:ext cx="20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471680" y="266688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2311560" y="5272200"/>
            <a:ext cx="2520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4824360" y="5272200"/>
            <a:ext cx="2419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471680" y="3427560"/>
            <a:ext cx="6340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92240" y="1905120"/>
            <a:ext cx="784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ptive zeros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oun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lnSpc>
                <a:spcPct val="100000"/>
              </a:lnSpc>
              <a:tabLst>
                <a:tab algn="l" pos="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 figur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5000"/>
              </a:spcBef>
              <a:buClr>
                <a:srgbClr val="800080"/>
              </a:buClr>
              <a:buFont typeface="Arial"/>
              <a:buChar char="•"/>
              <a:tabLst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6.07</a:t>
            </a: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1001"/>
              </a:spcBef>
              <a:tabLst>
                <a:tab algn="l" pos="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"/>
          <p:cNvSpPr/>
          <p:nvPr/>
        </p:nvSpPr>
        <p:spPr>
          <a:xfrm>
            <a:off x="457200" y="6094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660680" y="251460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498760" y="542448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013360" y="5424480"/>
            <a:ext cx="241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660680" y="3274920"/>
            <a:ext cx="702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57200" y="182880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iling zeros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significant only if the number contains a decimal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3501"/>
              </a:spcBef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9.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1001"/>
              </a:spcBef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3"/>
          <p:cNvSpPr/>
          <p:nvPr/>
        </p:nvSpPr>
        <p:spPr>
          <a:xfrm>
            <a:off x="647640" y="68580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57168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many significant figures in each of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1943280" y="205740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0070 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4381560" y="2057400"/>
            <a:ext cx="24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2155680" y="27432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7.10 k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4381560" y="274320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4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1790640" y="35053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,890 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4447440" y="35053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1533600" y="426708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431600" y="42814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3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1741680" y="4952880"/>
            <a:ext cx="23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054 c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4431600" y="49672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791720" y="563580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,200,00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431600" y="56530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2019240" y="2514600"/>
            <a:ext cx="11430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2247840" y="3200400"/>
            <a:ext cx="83844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1943280" y="3962520"/>
            <a:ext cx="99036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1638360" y="4724280"/>
            <a:ext cx="6094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552760" y="541008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866960" y="609588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304920" y="42696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1279440" y="2787480"/>
            <a:ext cx="7559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270080" y="574524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371600" y="5470560"/>
            <a:ext cx="33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156280" y="597384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784760" y="5470560"/>
            <a:ext cx="283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304920" y="1874880"/>
            <a:ext cx="7848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00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ultiplication and Divi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sig figs in the result equals the number in the least precise measurement used in the calc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38 x 2.0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76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 (2 sig fi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5"/>
          <p:cNvSpPr/>
          <p:nvPr/>
        </p:nvSpPr>
        <p:spPr>
          <a:xfrm>
            <a:off x="571680" y="68580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88560" y="220968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4 m x 7.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523800" y="1600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3316680" y="16002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or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7405920" y="16002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649320" y="2206800"/>
            <a:ext cx="15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68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7537320" y="22096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3 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87840" y="28926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.0 g ÷ 23.7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3657960" y="2909880"/>
            <a:ext cx="32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219409283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7171560" y="289548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4.22 g/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83880" y="357840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2 cm x 2.37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3610800" y="3595680"/>
            <a:ext cx="21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474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7353360" y="3581280"/>
            <a:ext cx="15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05 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56880" y="426708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10 m ÷ 3.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3654000" y="428148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36.6666667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7366320" y="428148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40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171000" y="4967280"/>
            <a:ext cx="30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18.2 lb x 3.23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687120" y="496728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872.786 lb·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7199280" y="4952880"/>
            <a:ext cx="19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870 lb·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67680" y="5653080"/>
            <a:ext cx="30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030 g ÷ 2.87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546720" y="563580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3588850174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7196040" y="563580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359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647640" y="72396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47640" y="20192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00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ddition and Subtra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The number of decimal places in the result equals the number of decimal places in the least precise measur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8 + 11.93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.734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8.7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 sig fig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5"/>
          <p:cNvSpPr/>
          <p:nvPr/>
        </p:nvSpPr>
        <p:spPr>
          <a:xfrm>
            <a:off x="723960" y="68580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207720" y="220968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4 m + 7.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676080" y="1600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3468960" y="16002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or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7253280" y="16002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4139640" y="220680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10.24 m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7274880" y="2209680"/>
            <a:ext cx="13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10.2 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257400" y="2892600"/>
            <a:ext cx="29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.0 g - 23.73 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4203360" y="29098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76.27 g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7308360" y="289548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76.3 g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02680" y="3578400"/>
            <a:ext cx="33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2 cm + 2.37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4187880" y="35956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2.391 cm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7305480" y="358128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.39 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228240" y="426708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13.1 L - 3.872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4235040" y="42814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709.228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7314480" y="42814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709.2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229680" y="4967280"/>
            <a:ext cx="31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18.2 lb + 3.37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96520" y="496728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1821.57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7275600" y="495288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1821.6 l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37600" y="565308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030 mL - 1.87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220280" y="56386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0.1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7276680" y="563580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16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1-2 refer to the following sets of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23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3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,500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number containing three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easure of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514440" y="188928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cience, we deal with some 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ARG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123560" y="3032280"/>
            <a:ext cx="58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1 mole = 602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438120" y="402264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cience, we deal with some 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MAL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167480" y="5165640"/>
            <a:ext cx="680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s of an electr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0.000000000000000000000000000000091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74080" y="746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cientific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6"/>
          <p:cNvSpPr/>
          <p:nvPr/>
        </p:nvSpPr>
        <p:spPr>
          <a:xfrm>
            <a:off x="727200" y="168912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magine the difficulty of calculating the mass of 1 mole of electr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38120" y="3521160"/>
            <a:ext cx="826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0.000000000000000000000000000000091 k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  <a:ea typeface="Times New Roman"/>
              </a:rPr>
              <a:t>     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  <a:ea typeface="Times New Roman"/>
              </a:rPr>
              <a:t>x 602000000000000000000000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955800" y="4432320"/>
            <a:ext cx="73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??????????????????????????????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99"/>
          </a:solidFill>
          <a:ln w="540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solidFill>
            <a:srgbClr val="33cccc"/>
          </a:solidFill>
          <a:ln w="604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89856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0 mL Grad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graduate2"/>
          <p:cNvPicPr/>
          <p:nvPr/>
        </p:nvPicPr>
        <p:blipFill>
          <a:blip r:embed="rId1"/>
          <a:stretch/>
        </p:blipFill>
        <p:spPr>
          <a:xfrm>
            <a:off x="152280" y="2324160"/>
            <a:ext cx="4419720" cy="331452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sp>
        <p:nvSpPr>
          <p:cNvPr id="177" name="Text Box 7"/>
          <p:cNvSpPr/>
          <p:nvPr/>
        </p:nvSpPr>
        <p:spPr>
          <a:xfrm>
            <a:off x="1127160" y="91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at is the volume of liquid in the grad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080040" y="37018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_ . _ _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09732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92424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63048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6"/>
          <p:cNvSpPr/>
          <p:nvPr/>
        </p:nvSpPr>
        <p:spPr>
          <a:xfrm>
            <a:off x="800280" y="1660680"/>
            <a:ext cx="56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cientific Not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800280" y="2498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method of representing very large or very small numbers in the for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M x 10</a:t>
            </a:r>
            <a:r>
              <a:rPr b="1" lang="en-US" sz="28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486080" y="4251240"/>
            <a:ext cx="64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 number between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7"/>
          <p:cNvSpPr/>
          <p:nvPr/>
        </p:nvSpPr>
        <p:spPr>
          <a:xfrm>
            <a:off x="1104840" y="2827440"/>
            <a:ext cx="66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1: Insert an understood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6286680" y="8460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5"/>
          <p:cNvSpPr/>
          <p:nvPr/>
        </p:nvSpPr>
        <p:spPr>
          <a:xfrm rot="11089800">
            <a:off x="6132240" y="191556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4"/>
          <p:cNvSpPr/>
          <p:nvPr/>
        </p:nvSpPr>
        <p:spPr>
          <a:xfrm>
            <a:off x="419040" y="3436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2: Decide where the decimal must e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p so that one number is to it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3"/>
          <p:cNvSpPr/>
          <p:nvPr/>
        </p:nvSpPr>
        <p:spPr>
          <a:xfrm>
            <a:off x="2324160" y="84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2"/>
          <p:cNvSpPr/>
          <p:nvPr/>
        </p:nvSpPr>
        <p:spPr>
          <a:xfrm rot="11089800">
            <a:off x="56764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 rot="11089800">
            <a:off x="52192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0"/>
          <p:cNvSpPr/>
          <p:nvPr/>
        </p:nvSpPr>
        <p:spPr>
          <a:xfrm rot="11089800">
            <a:off x="47620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 rot="11089800">
            <a:off x="43048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8"/>
          <p:cNvSpPr/>
          <p:nvPr/>
        </p:nvSpPr>
        <p:spPr>
          <a:xfrm rot="11089800">
            <a:off x="38476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7"/>
          <p:cNvSpPr/>
          <p:nvPr/>
        </p:nvSpPr>
        <p:spPr>
          <a:xfrm rot="11089800">
            <a:off x="33904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1089800">
            <a:off x="29332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5"/>
          <p:cNvSpPr/>
          <p:nvPr/>
        </p:nvSpPr>
        <p:spPr>
          <a:xfrm rot="11089800">
            <a:off x="24760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419040" y="4503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3: Count how many places you bou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62103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57531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52959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48387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43815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9243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4671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009960" y="2232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5527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419040" y="5494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4: Re-write in the form M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1995480" y="1141560"/>
            <a:ext cx="550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  <a:ea typeface="Times New Roman"/>
              </a:rPr>
              <a:t>2 500 000 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6"/>
          <p:cNvSpPr/>
          <p:nvPr/>
        </p:nvSpPr>
        <p:spPr>
          <a:xfrm>
            <a:off x="2476440" y="16444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Calibri"/>
                <a:ea typeface="Times New Roman"/>
              </a:rPr>
              <a:t>2.5 x 10</a:t>
            </a:r>
            <a:r>
              <a:rPr b="1" lang="en-US" sz="66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372280" y="2406600"/>
            <a:ext cx="304560" cy="9144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476440" y="34732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xponent is the number of places we moved the deci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8"/>
          <p:cNvSpPr/>
          <p:nvPr/>
        </p:nvSpPr>
        <p:spPr>
          <a:xfrm>
            <a:off x="2146320" y="114624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c0504d"/>
                </a:solidFill>
                <a:latin typeface="Calibri"/>
                <a:ea typeface="Times New Roman"/>
              </a:rPr>
              <a:t>0.000057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7"/>
          <p:cNvSpPr/>
          <p:nvPr/>
        </p:nvSpPr>
        <p:spPr>
          <a:xfrm>
            <a:off x="5181480" y="84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57200" y="35132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2: Decide where the decimal must e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p so that one number is to it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380880" y="4503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3: Count how many places you bou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380880" y="5494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4: Re-write in the form M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3"/>
          <p:cNvSpPr/>
          <p:nvPr/>
        </p:nvSpPr>
        <p:spPr>
          <a:xfrm>
            <a:off x="2819520" y="214164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3429000" y="214164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3886200" y="2141640"/>
            <a:ext cx="533520" cy="228600"/>
          </a:xfrm>
          <a:custGeom>
            <a:avLst/>
            <a:gdLst>
              <a:gd name="textAreaLeft" fmla="*/ 93240 w 533520"/>
              <a:gd name="textAreaRight" fmla="*/ 387000 w 533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0"/>
          <p:cNvSpPr/>
          <p:nvPr/>
        </p:nvSpPr>
        <p:spPr>
          <a:xfrm>
            <a:off x="4419720" y="214164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4876920" y="2141640"/>
            <a:ext cx="533160" cy="228600"/>
          </a:xfrm>
          <a:custGeom>
            <a:avLst/>
            <a:gdLst>
              <a:gd name="textAreaLeft" fmla="*/ 93240 w 533160"/>
              <a:gd name="textAreaRight" fmla="*/ 386640 w 5331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291600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44952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90672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43988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497340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1933560" y="380880"/>
            <a:ext cx="51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Calibri"/>
                <a:ea typeface="Times New Roman"/>
              </a:rPr>
              <a:t>5.79 x 10</a:t>
            </a:r>
            <a:r>
              <a:rPr b="1" lang="en-US" sz="66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5257800" y="1371600"/>
            <a:ext cx="304920" cy="914400"/>
          </a:xfrm>
          <a:prstGeom prst="upArrow">
            <a:avLst>
              <a:gd name="adj1" fmla="val 50000"/>
              <a:gd name="adj2" fmla="val 74970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905120" y="25146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xponent is negative because the number we started with was less than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457200" y="4876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 number is larger than 1, the exponent is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 number is smaller than 1, the exponent is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33360" y="76212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ause for a Cause   Scientific No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120312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#1. Write the following numbers in scientific no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0.000 673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 50 000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0.000 003 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#2. The following numbers are in scientific notation. Write them in ordinary n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7.050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 4.000 05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2.350 0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7850"/>
                            </p:stCondLst>
                            <p:childTnLst>
                              <p:par>
                                <p:cTn id="87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850"/>
                            </p:stCondLst>
                            <p:childTnLst>
                              <p:par>
                                <p:cTn id="88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9750"/>
                            </p:stCondLst>
                            <p:childTnLst>
                              <p:par>
                                <p:cTn id="890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850"/>
                            </p:stCondLst>
                            <p:childTnLst>
                              <p:par>
                                <p:cTn id="89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60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7250"/>
                            </p:stCondLst>
                            <p:childTnLst>
                              <p:par>
                                <p:cTn id="91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ying and Dividing in Scientific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Multiply or divide the “M”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If multiplying, add the ex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If dividing, subtract the expon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If necessary, adjust to put back in scientific no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.3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2.3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/ (4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612800" y="1600200"/>
            <a:ext cx="65455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(6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4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(3.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4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( 4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/ (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5" dur="5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8"/>
          <p:cNvSpPr/>
          <p:nvPr/>
        </p:nvSpPr>
        <p:spPr>
          <a:xfrm>
            <a:off x="1440" y="876240"/>
            <a:ext cx="914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1601640" y="195732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3127320" y="3208320"/>
            <a:ext cx="285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3125880" y="3848040"/>
            <a:ext cx="346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1357200" y="4883040"/>
            <a:ext cx="18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1206360" y="5526000"/>
            <a:ext cx="104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2273400" y="5526000"/>
            <a:ext cx="59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3873600" y="4883040"/>
            <a:ext cx="505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4016520" y="5526000"/>
            <a:ext cx="104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"/>
          <p:cNvSpPr/>
          <p:nvPr/>
        </p:nvSpPr>
        <p:spPr>
          <a:xfrm>
            <a:off x="7149960" y="5526000"/>
            <a:ext cx="59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611280" y="57168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ature of 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457200" y="2895480"/>
            <a:ext cx="83059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 1 –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 2 –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grams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6.63 x 10</a:t>
            </a:r>
            <a:r>
              <a:rPr b="1" lang="en-US" sz="3600" spc="-1" strike="noStrike" baseline="30000">
                <a:solidFill>
                  <a:srgbClr val="c0504d"/>
                </a:solidFill>
                <a:latin typeface="Calibri"/>
              </a:rPr>
              <a:t>-34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Joule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80880" y="1638360"/>
            <a:ext cx="8382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Measurement – quantitative observation consisting of 2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3033720" y="1630440"/>
            <a:ext cx="5503680" cy="478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819000" y="169920"/>
            <a:ext cx="7972560" cy="11912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Accurate or Precis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25360" y="1974960"/>
            <a:ext cx="254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ment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se to the actu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ccepted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ment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se to one an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one measurement must be taken to determine if the measurements are prec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solidFill>
            <a:srgbClr val="ef5b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90760" y="1951200"/>
            <a:ext cx="4800600" cy="4525920"/>
          </a:xfrm>
          <a:prstGeom prst="rect">
            <a:avLst/>
          </a:prstGeom>
          <a:solidFill>
            <a:srgbClr val="c5ffff"/>
          </a:soli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8744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elf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39720" y="6858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amine the meniscus below and determine the volume of liquid contained in the graduated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graduateselftest2"/>
          <p:cNvPicPr/>
          <p:nvPr/>
        </p:nvPicPr>
        <p:blipFill>
          <a:blip r:embed="rId1"/>
          <a:stretch/>
        </p:blipFill>
        <p:spPr>
          <a:xfrm>
            <a:off x="152280" y="266688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4602240" y="327672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cylinder conta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622840" y="4235400"/>
            <a:ext cx="31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_ _ . _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62284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92776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646128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-304920"/>
            <a:ext cx="9372600" cy="7162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Pause for a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Accuracy and Pr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533520" y="2438280"/>
            <a:ext cx="8305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A handbook gives the density of calcium as 1.54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. A student runs three experiments and determines the density to be 2.25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, 2.28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 and 2.20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. Discuss this student’s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A student measures the mass of a sample as 9.67 grams, 9.99 grams and 8.85 grams. The actual mass is 7.50 grams. Discuss this student’s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0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1100"/>
                            </p:stCondLst>
                            <p:childTnLst>
                              <p:par>
                                <p:cTn id="96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647640" y="72396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undamental SI Uni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le Système International, 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4"/>
          <p:cNvGraphicFramePr/>
          <p:nvPr/>
        </p:nvGraphicFramePr>
        <p:xfrm>
          <a:off x="1022400" y="1728720"/>
          <a:ext cx="7035840" cy="50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1728720"/>
                    <a:ext cx="7035840" cy="50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I Prefixes Common to Chem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685800" y="1523880"/>
          <a:ext cx="7772400" cy="4724640"/>
        </p:xfrm>
        <a:graphic>
          <a:graphicData uri="http://schemas.openxmlformats.org/drawingml/2006/table">
            <a:tbl>
              <a:tblPr/>
              <a:tblGrid>
                <a:gridCol w="1539720"/>
                <a:gridCol w="1467000"/>
                <a:gridCol w="1906560"/>
                <a:gridCol w="2859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br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pon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i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n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 1,000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3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stairs"/>
          <p:cNvPicPr/>
          <p:nvPr/>
        </p:nvPicPr>
        <p:blipFill>
          <a:blip r:embed="rId1"/>
          <a:stretch/>
        </p:blipFill>
        <p:spPr>
          <a:xfrm>
            <a:off x="304920" y="179280"/>
            <a:ext cx="8534160" cy="6499440"/>
          </a:xfrm>
          <a:prstGeom prst="rect">
            <a:avLst/>
          </a:prstGeom>
          <a:ln w="1144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4"/>
          <p:cNvGraphicFramePr/>
          <p:nvPr/>
        </p:nvGraphicFramePr>
        <p:xfrm>
          <a:off x="0" y="-2844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Picture 6" descr="slow"/>
          <p:cNvPicPr/>
          <p:nvPr/>
        </p:nvPicPr>
        <p:blipFill>
          <a:blip r:embed="rId3"/>
          <a:stretch/>
        </p:blipFill>
        <p:spPr>
          <a:xfrm>
            <a:off x="1447920" y="1495440"/>
            <a:ext cx="6172200" cy="39146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7"/>
          <p:cNvSpPr/>
          <p:nvPr/>
        </p:nvSpPr>
        <p:spPr>
          <a:xfrm>
            <a:off x="1447920" y="1676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w Let’s Do Metrics the Right W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0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Object 4"/>
          <p:cNvGraphicFramePr/>
          <p:nvPr/>
        </p:nvGraphicFramePr>
        <p:xfrm>
          <a:off x="0" y="-2844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Rectangle 26"/>
          <p:cNvSpPr/>
          <p:nvPr/>
        </p:nvSpPr>
        <p:spPr>
          <a:xfrm>
            <a:off x="228600" y="1295280"/>
            <a:ext cx="8610480" cy="5105520"/>
          </a:xfrm>
          <a:prstGeom prst="rect">
            <a:avLst/>
          </a:prstGeom>
          <a:solidFill>
            <a:srgbClr val="993366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 Narrow"/>
              </a:rPr>
              <a:t>Practice Conversion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457200" y="14479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 Narrow"/>
              </a:rPr>
              <a:t>Express a mass of 5.712 grams in milli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367200" y="2550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374840" y="2505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5.712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07080" y="303840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1831320" y="30384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mass in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533520" y="3505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quantity given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  <a:ea typeface="Arial"/>
              </a:rPr>
              <a:t>× conversion factor =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quantity s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427560" y="40291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Convers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87052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1 g = 1,000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5"/>
          <p:cNvGrpSpPr/>
          <p:nvPr/>
        </p:nvGrpSpPr>
        <p:grpSpPr>
          <a:xfrm>
            <a:off x="838080" y="4648320"/>
            <a:ext cx="4496040" cy="1676160"/>
            <a:chOff x="838080" y="4648320"/>
            <a:chExt cx="4496040" cy="1676160"/>
          </a:xfrm>
        </p:grpSpPr>
        <p:sp>
          <p:nvSpPr>
            <p:cNvPr id="428" name="Line 36"/>
            <p:cNvSpPr/>
            <p:nvPr/>
          </p:nvSpPr>
          <p:spPr>
            <a:xfrm>
              <a:off x="838080" y="5486040"/>
              <a:ext cx="449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37"/>
            <p:cNvSpPr/>
            <p:nvPr/>
          </p:nvSpPr>
          <p:spPr>
            <a:xfrm>
              <a:off x="2895480" y="46483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38"/>
          <p:cNvSpPr/>
          <p:nvPr/>
        </p:nvSpPr>
        <p:spPr>
          <a:xfrm>
            <a:off x="1072080" y="49672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5.71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3387240" y="48769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1000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0"/>
          <p:cNvSpPr/>
          <p:nvPr/>
        </p:nvSpPr>
        <p:spPr>
          <a:xfrm>
            <a:off x="3911040" y="56386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5571360" y="5165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2"/>
          <p:cNvSpPr/>
          <p:nvPr/>
        </p:nvSpPr>
        <p:spPr>
          <a:xfrm>
            <a:off x="6283080" y="53481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5712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3"/>
          <p:cNvSpPr/>
          <p:nvPr/>
        </p:nvSpPr>
        <p:spPr>
          <a:xfrm>
            <a:off x="6095880" y="5257800"/>
            <a:ext cx="2057400" cy="76212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4"/>
          <p:cNvSpPr/>
          <p:nvPr/>
        </p:nvSpPr>
        <p:spPr>
          <a:xfrm flipV="1">
            <a:off x="2133720" y="51055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5"/>
          <p:cNvSpPr/>
          <p:nvPr/>
        </p:nvSpPr>
        <p:spPr>
          <a:xfrm flipV="1">
            <a:off x="4038480" y="57146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Object 4"/>
          <p:cNvGraphicFramePr/>
          <p:nvPr/>
        </p:nvGraphicFramePr>
        <p:xfrm>
          <a:off x="0" y="-284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5"/>
          <p:cNvSpPr/>
          <p:nvPr/>
        </p:nvSpPr>
        <p:spPr>
          <a:xfrm>
            <a:off x="533520" y="1523880"/>
            <a:ext cx="8305560" cy="4876920"/>
          </a:xfrm>
          <a:prstGeom prst="rect">
            <a:avLst/>
          </a:prstGeom>
          <a:solidFill>
            <a:srgbClr val="6699ff">
              <a:alpha val="67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0880" y="380880"/>
            <a:ext cx="8229600" cy="914400"/>
          </a:xfrm>
          <a:prstGeom prst="rect">
            <a:avLst/>
          </a:prstGeom>
          <a:solidFill>
            <a:srgbClr val="00cc66">
              <a:alpha val="55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ractice Conversion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press a mass of 5.712 grams in kil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762120" y="3048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quantity give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× conversion factor =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quantity s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4"/>
          <p:cNvGrpSpPr/>
          <p:nvPr/>
        </p:nvGrpSpPr>
        <p:grpSpPr>
          <a:xfrm>
            <a:off x="762120" y="4648320"/>
            <a:ext cx="4495680" cy="1676160"/>
            <a:chOff x="762120" y="4648320"/>
            <a:chExt cx="4495680" cy="1676160"/>
          </a:xfrm>
        </p:grpSpPr>
        <p:sp>
          <p:nvSpPr>
            <p:cNvPr id="446" name="Line 15"/>
            <p:cNvSpPr/>
            <p:nvPr/>
          </p:nvSpPr>
          <p:spPr>
            <a:xfrm>
              <a:off x="762120" y="5486040"/>
              <a:ext cx="4495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6"/>
            <p:cNvSpPr/>
            <p:nvPr/>
          </p:nvSpPr>
          <p:spPr>
            <a:xfrm>
              <a:off x="2819160" y="46483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17"/>
          <p:cNvSpPr/>
          <p:nvPr/>
        </p:nvSpPr>
        <p:spPr>
          <a:xfrm>
            <a:off x="1105560" y="48657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.71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3729240" y="486576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9"/>
          <p:cNvSpPr/>
          <p:nvPr/>
        </p:nvSpPr>
        <p:spPr>
          <a:xfrm>
            <a:off x="3640680" y="562752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0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0"/>
          <p:cNvSpPr/>
          <p:nvPr/>
        </p:nvSpPr>
        <p:spPr>
          <a:xfrm>
            <a:off x="5487480" y="5013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6256080" y="509436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0.005712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5867280" y="4952880"/>
            <a:ext cx="2667240" cy="76212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 flipV="1">
            <a:off x="1905120" y="50288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 flipV="1">
            <a:off x="4267080" y="58669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4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400"/>
                            </p:stCondLst>
                            <p:childTnLst>
                              <p:par>
                                <p:cTn id="11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4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7900"/>
                            </p:stCondLst>
                            <p:childTnLst>
                              <p:par>
                                <p:cTn id="1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8400"/>
                            </p:stCondLst>
                            <p:childTnLst>
                              <p:par>
                                <p:cTn id="1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8900"/>
                            </p:stCondLst>
                            <p:childTnLst>
                              <p:par>
                                <p:cTn id="1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94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9900"/>
                            </p:stCondLst>
                            <p:childTnLst>
                              <p:par>
                                <p:cTn id="1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19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0" y="265752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4"/>
          <p:cNvGraphicFramePr/>
          <p:nvPr/>
        </p:nvGraphicFramePr>
        <p:xfrm>
          <a:off x="0" y="-85680"/>
          <a:ext cx="9144000" cy="6946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85680"/>
                    <a:ext cx="9144000" cy="69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6"/>
          <p:cNvSpPr/>
          <p:nvPr/>
        </p:nvSpPr>
        <p:spPr>
          <a:xfrm>
            <a:off x="533520" y="152280"/>
            <a:ext cx="7924680" cy="6400800"/>
          </a:xfrm>
          <a:prstGeom prst="rect">
            <a:avLst/>
          </a:prstGeom>
          <a:solidFill>
            <a:srgbClr val="3366ff"/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914400" y="228600"/>
            <a:ext cx="739152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t’s do the following metric conversions using unit cance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0 grams = 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00 centimeters = ____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liters = ____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000 milligrams = _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meters = ____ dec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5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decimeter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" dur="3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4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Rectangle 6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1f497d">
              <a:alpha val="60000"/>
            </a:srgbClr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533520" y="457200"/>
            <a:ext cx="800100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 Narrow"/>
              </a:rPr>
              <a:t>Pause for a Cause 2 Now Its your tur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. 1500 centigrams = 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. 6.00 milliliters = ____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3. 700 meters = ____ kilo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4. 750 milligram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5. 250 meters = ____ dec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6. 0.25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7. 0.75 decimeters = ____ mill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8. 47 gram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9. 2.5 meters = ____ mill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0. 500 deciliters = ____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1. 250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2. 3500 centigrams = _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more den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25400" y="11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object that you think has the highest density and write one sentence explaining your ans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2"/>
          <p:cNvSpPr/>
          <p:nvPr/>
        </p:nvSpPr>
        <p:spPr>
          <a:xfrm>
            <a:off x="13500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13500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1"/>
          <a:stretch/>
        </p:blipFill>
        <p:spPr>
          <a:xfrm>
            <a:off x="457200" y="2766960"/>
            <a:ext cx="4338720" cy="2887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http://t0.gstatic.com/images?q=tbn:ANd9GcTUl2YAfNIh5i7gMccLrinYbuLwGWNLJl3GNBhrNMrLzSV3QnjyVA"/>
          <p:cNvPicPr/>
          <p:nvPr/>
        </p:nvPicPr>
        <p:blipFill>
          <a:blip r:embed="rId2"/>
          <a:stretch/>
        </p:blipFill>
        <p:spPr>
          <a:xfrm>
            <a:off x="3749760" y="4560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http://t2.gstatic.com/images?q=tbn:ANd9GcQLE7ewkv8c6UeyT5SCxD-HKeyP4n23aofh3lhIiIIAghYxSCiy"/>
          <p:cNvPicPr/>
          <p:nvPr/>
        </p:nvPicPr>
        <p:blipFill>
          <a:blip r:embed="rId3"/>
          <a:stretch/>
        </p:blipFill>
        <p:spPr>
          <a:xfrm>
            <a:off x="5815080" y="2427120"/>
            <a:ext cx="2469960" cy="3565800"/>
          </a:xfrm>
          <a:prstGeom prst="rect">
            <a:avLst/>
          </a:prstGeom>
          <a:ln w="0">
            <a:noFill/>
          </a:ln>
        </p:spPr>
      </p:pic>
      <p:sp>
        <p:nvSpPr>
          <p:cNvPr id="473" name="TextBox 8"/>
          <p:cNvSpPr/>
          <p:nvPr/>
        </p:nvSpPr>
        <p:spPr>
          <a:xfrm>
            <a:off x="725400" y="565452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rofoam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9"/>
          <p:cNvSpPr/>
          <p:nvPr/>
        </p:nvSpPr>
        <p:spPr>
          <a:xfrm>
            <a:off x="4156200" y="64087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0"/>
          <p:cNvSpPr/>
          <p:nvPr/>
        </p:nvSpPr>
        <p:spPr>
          <a:xfrm>
            <a:off x="7093080" y="60246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o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1447920"/>
          </a:xfrm>
          <a:prstGeom prst="rect">
            <a:avLst/>
          </a:prstGeom>
          <a:solidFill>
            <a:srgbClr val="004182"/>
          </a:solidFill>
          <a:ln w="5400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Reading the Thermome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4952520"/>
            <a:ext cx="8458200" cy="1676520"/>
          </a:xfrm>
          <a:prstGeom prst="rect">
            <a:avLst/>
          </a:prstGeom>
          <a:solidFill>
            <a:srgbClr val="000000"/>
          </a:solidFill>
          <a:ln w="442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thermometer1"/>
          <p:cNvPicPr/>
          <p:nvPr/>
        </p:nvPicPr>
        <p:blipFill>
          <a:blip r:embed="rId1"/>
          <a:stretch/>
        </p:blipFill>
        <p:spPr>
          <a:xfrm>
            <a:off x="330120" y="17524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thermometer2"/>
          <p:cNvPicPr/>
          <p:nvPr/>
        </p:nvPicPr>
        <p:blipFill>
          <a:blip r:embed="rId2"/>
          <a:stretch/>
        </p:blipFill>
        <p:spPr>
          <a:xfrm>
            <a:off x="4749840" y="17524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711360" y="777960"/>
            <a:ext cx="77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termine the readings as shown below on Celsius thermom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371600" y="5584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_ _ . _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095880" y="5584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_ _ . _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37268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7028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1348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608616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640188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69354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Deriv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I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d by multiplying or dividing standard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720" y="3048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 = (Length)(Wid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4724280" y="3505320"/>
            <a:ext cx="327672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4038480" y="3505320"/>
            <a:ext cx="381240" cy="1752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 rot="16200000">
            <a:off x="3816000" y="411048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5716440" y="29718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0"/>
          <p:cNvSpPr/>
          <p:nvPr/>
        </p:nvSpPr>
        <p:spPr>
          <a:xfrm rot="16200000">
            <a:off x="6095880" y="1371600"/>
            <a:ext cx="533520" cy="3276720"/>
          </a:xfrm>
          <a:custGeom>
            <a:avLst/>
            <a:gdLst>
              <a:gd name="textAreaLeft" fmla="*/ 0 w 533520"/>
              <a:gd name="textAreaRight" fmla="*/ 192600 w 5335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5895720" y="20732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2821320" y="411480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1877040" y="563868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3385800" y="56386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2.5 m)(5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835600" y="56386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 12.5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4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2" name="Picture 6" descr="example"/>
          <p:cNvPicPr/>
          <p:nvPr/>
        </p:nvPicPr>
        <p:blipFill>
          <a:blip r:embed="rId3"/>
          <a:stretch/>
        </p:blipFill>
        <p:spPr>
          <a:xfrm>
            <a:off x="228600" y="16002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does density describ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876920" y="13712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 Narrow"/>
              </a:rPr>
              <a:t>Density describes how tightly particles are packed within a sample of matter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tio of mass to volume, or mass divided by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1212480" y="297180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3400200" y="27226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3225240" y="335268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"/>
          <p:cNvSpPr/>
          <p:nvPr/>
        </p:nvSpPr>
        <p:spPr>
          <a:xfrm>
            <a:off x="320040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6149520" y="304812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7159680" y="27432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7259400" y="33526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7086600" y="3352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asure of how closely matter is packed into a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que for each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ty of water is 1.00 g/mL at 25˚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emperature decreases the density, so densities are given with tempera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ive proper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tances that are less dense float in substances more de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967680" y="52578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977840" y="49528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067120" y="5486400"/>
            <a:ext cx="3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1905120" y="55627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87440" y="1444680"/>
            <a:ext cx="827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ample of aluminum metal has a mass of 8.4 g. The volume of the sample is 3.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Calculate the density of alumin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3634920" y="335268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4786560" y="31240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4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4724280" y="3657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629240" y="37339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3"/>
          <p:cNvSpPr/>
          <p:nvPr/>
        </p:nvSpPr>
        <p:spPr>
          <a:xfrm>
            <a:off x="5867280" y="33526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4"/>
          <p:cNvSpPr/>
          <p:nvPr/>
        </p:nvSpPr>
        <p:spPr>
          <a:xfrm>
            <a:off x="5867280" y="388620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7162920" y="3124080"/>
            <a:ext cx="11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n’t forget uni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3621960" y="4724280"/>
            <a:ext cx="7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5334120" y="52578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3878280" y="5940360"/>
            <a:ext cx="30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forget unit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9"/>
          <p:cNvSpPr/>
          <p:nvPr/>
        </p:nvSpPr>
        <p:spPr>
          <a:xfrm>
            <a:off x="3429000" y="4648320"/>
            <a:ext cx="2971800" cy="76176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380880" y="3170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412200" y="411480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2"/>
          <p:cNvSpPr/>
          <p:nvPr/>
        </p:nvSpPr>
        <p:spPr>
          <a:xfrm>
            <a:off x="6477120" y="4876920"/>
            <a:ext cx="990360" cy="228600"/>
          </a:xfrm>
          <a:prstGeom prst="leftArrow">
            <a:avLst>
              <a:gd name="adj1" fmla="val 50000"/>
              <a:gd name="adj2" fmla="val 108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7238880" y="4648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x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1508040" y="317016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230904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4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6"/>
          <p:cNvSpPr/>
          <p:nvPr/>
        </p:nvSpPr>
        <p:spPr>
          <a:xfrm>
            <a:off x="15238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2249640" y="350532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092680" y="411480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514440" y="46180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4315680" y="472428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5114520" y="4724280"/>
            <a:ext cx="12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g/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2"/>
          <p:cNvSpPr/>
          <p:nvPr/>
        </p:nvSpPr>
        <p:spPr>
          <a:xfrm>
            <a:off x="6934320" y="19051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3"/>
          <p:cNvSpPr/>
          <p:nvPr/>
        </p:nvSpPr>
        <p:spPr>
          <a:xfrm>
            <a:off x="4191120" y="23623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4"/>
          <p:cNvSpPr/>
          <p:nvPr/>
        </p:nvSpPr>
        <p:spPr>
          <a:xfrm>
            <a:off x="7391520" y="23623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unknown liquid is discovered at a crime scene. A volume of 2.3 mL has a mass of 4.1 grams, what the liquid’s dens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487440" y="1444680"/>
            <a:ext cx="827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 has a density of 3.26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hat is the mass of a diamond that has a volume of 0.350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2"/>
          <p:cNvSpPr/>
          <p:nvPr/>
        </p:nvSpPr>
        <p:spPr>
          <a:xfrm>
            <a:off x="7772400" y="19051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3"/>
          <p:cNvSpPr/>
          <p:nvPr/>
        </p:nvSpPr>
        <p:spPr>
          <a:xfrm>
            <a:off x="6445080" y="236232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4"/>
          <p:cNvSpPr/>
          <p:nvPr/>
        </p:nvSpPr>
        <p:spPr>
          <a:xfrm>
            <a:off x="4572000" y="19051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ample of metal is found to have a mass of 4.56 g and a density of 1.98 g/mL. What is the volume of this me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 (No calculato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ical battery in a car is filled with a solution of sulfuric acid, which is approximately 39.9% sulfuric acid.  If the density of this solution is 1.3 g/mL, determine the number of grams of acid present in 500.0 mL of battery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6138360" y="1600200"/>
            <a:ext cx="283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volume of 5 grams of this subst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approximate density of the subst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0" y="669960"/>
            <a:ext cx="613872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s…which ones are important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13/7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1.8571428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…is it 1.86? Or 1.9? Or 2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we r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rting Temper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009760" y="1270080"/>
            <a:ext cx="390204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5/9 (F-3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C + 2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0" y="1270080"/>
            <a:ext cx="478476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the following temper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93 K to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m temperature to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body temperature to Kelv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6"/>
          <p:cNvSpPr txBox="1"/>
          <p:nvPr/>
        </p:nvSpPr>
        <p:spPr>
          <a:xfrm>
            <a:off x="1600200" y="1143000"/>
            <a:ext cx="72388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Dimens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561" name="WordArt 7"/>
          <p:cNvSpPr txBox="1"/>
          <p:nvPr/>
        </p:nvSpPr>
        <p:spPr>
          <a:xfrm>
            <a:off x="1752480" y="3886200"/>
            <a:ext cx="60962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Analy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7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9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1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7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1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01200" cy="73152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80880" y="10368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870120" y="633240"/>
            <a:ext cx="90151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ow many seconds are there in exactly 1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1295280" y="1676520"/>
            <a:ext cx="6553440" cy="4343400"/>
          </a:xfrm>
          <a:prstGeom prst="rect">
            <a:avLst/>
          </a:prstGeom>
          <a:solidFill>
            <a:srgbClr val="00ff00"/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0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9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to complete these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1: Read the problem CAREFU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2: Determine the unit for 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3: Write down all values given in the problem and retrieve any needed conversion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4: Set up the problem (watch carefully as teacher does this ste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5: Calculate—Multiply by numbers on the top and divide by those on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1453680" y="1773000"/>
            <a:ext cx="6705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cord long jump is 349.5 inches. Convert this to meters. There are 2.54 cm in an in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2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245960" y="1898280"/>
            <a:ext cx="683100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r is traveling 55.0 miles per hour. Convert this to meters per second. One mile is equal to 1.61 k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9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49520" y="1417320"/>
            <a:ext cx="599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mg are there is a 5.00 grain aspirin tabl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in = 0.00229 o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454 grams/lb. There are 16 oz./l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0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4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344240" y="1634760"/>
            <a:ext cx="6635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24 km/h to m/s (write out all steps before using calculato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0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9652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0, the US produced 18.4 billion (18.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pounds of phosphoric acid to be used in the manufacture of fertilizer. The average cost of the acid is $318/ton. (1 ton = 2000 lbs). What was the total value of the phosphoric acid produc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Dig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768240" y="1417680"/>
            <a:ext cx="76075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1. Light travels at a speed of 300,000 km/sec. What distance in centimeters does light travel in a y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2. A landfill can hold 4.8 X108 m</a:t>
            </a:r>
            <a:r>
              <a:rPr b="1" lang="en-US" sz="2000" spc="-1" strike="noStrike" baseline="30000">
                <a:solidFill>
                  <a:srgbClr val="898989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 of trash. If 250 000 000 objects averaging 0.060 m</a:t>
            </a:r>
            <a:r>
              <a:rPr b="1" lang="en-US" sz="2000" spc="-1" strike="noStrike" baseline="30000">
                <a:solidFill>
                  <a:srgbClr val="898989"/>
                </a:solidFill>
                <a:latin typeface="Arial Narrow"/>
              </a:rPr>
              <a:t>3 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each are placed in the landfill each year, how many years will it take to fill the landfil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3. A baker uses 1.5 tsp. of vanilla extract in each cake. How much vanilla in liters should the baker order to make 800 cakes? (1 tsp. = 5 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4. A person drinks 8 glasses of water each day, and each glass contains 300 mL. How many liters of water will that person consume in one y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5. What is the speed of a car in m/sec when it is moving 100. km/h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use for a Cau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udent Practice on Dimensional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0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1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4550"/>
                            </p:stCondLst>
                            <p:childTnLst>
                              <p:par>
                                <p:cTn id="160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9840"/>
                            </p:stCondLst>
                            <p:childTnLst>
                              <p:par>
                                <p:cTn id="161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4200"/>
                            </p:stCondLst>
                            <p:childTnLst>
                              <p:par>
                                <p:cTn id="162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18620"/>
                            </p:stCondLst>
                            <p:childTnLst>
                              <p:par>
                                <p:cTn id="162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306360" y="9144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068480" y="3122640"/>
            <a:ext cx="7770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373040" y="5119560"/>
            <a:ext cx="667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06360" y="2362320"/>
            <a:ext cx="78487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act numbers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n infinite number of significant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many beakers are on the sh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ctly 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85800" y="990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889280" y="3198960"/>
            <a:ext cx="64418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666880" y="5043600"/>
            <a:ext cx="2368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013360" y="5043600"/>
            <a:ext cx="2571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09480" y="2209680"/>
            <a:ext cx="7848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nzero intege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ount as significant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456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"/>
          <p:cNvSpPr/>
          <p:nvPr/>
        </p:nvSpPr>
        <p:spPr>
          <a:xfrm>
            <a:off x="647640" y="7621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851120" y="266688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851120" y="3427560"/>
            <a:ext cx="614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689200" y="5272200"/>
            <a:ext cx="2825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5508720" y="5272200"/>
            <a:ext cx="241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47640" y="205740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2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ading zer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not coun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 figur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4501"/>
              </a:spcBef>
              <a:buClr>
                <a:srgbClr val="80008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0.048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90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6:38:20Z</dcterms:created>
  <dc:creator>Sybil Sexton</dc:creator>
  <dc:description/>
  <dc:language>en-US</dc:language>
  <cp:lastModifiedBy>ssexton</cp:lastModifiedBy>
  <dcterms:modified xsi:type="dcterms:W3CDTF">2012-08-28T20:33:53Z</dcterms:modified>
  <cp:revision>109</cp:revision>
  <dc:subject/>
  <dc:title>Math and Measurement</dc:title>
</cp:coreProperties>
</file>