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21.wmf" ContentType="image/x-wmf"/>
  <Override PartName="/ppt/media/image5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04BF0-6335-408D-84B1-10A88F45C0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6D062-2813-4BA5-AFAE-32A204E4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minute to discuss the unit used in the English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5C290-D23B-4790-B65B-595C1DDE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83F-8A97-47BB-A8B3-B09229EE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0A7-0C7C-410A-A970-57C05645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0D6-1E7C-431D-8780-13CE442E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822-76C4-4AD0-A4F2-C3E82D1B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1EE5-C9B6-4600-B912-4C91D22C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5A3E-5BFD-4B46-8209-EF65E62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765-9F20-4D8F-AF99-8CFABED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5EDD-885B-4133-86FF-55BDDC9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F7C4-FDB8-4461-B908-423C48B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CAA5-2470-4355-AE1C-2591D89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238F-361A-48BD-A200-BD94ACAF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A50-6989-4727-BF25-A69ED69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A11F-AA5F-476B-8DA7-7BB7213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DBE4-1C33-40F7-9AC7-256A4FE2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4D7-6830-42CD-8ADE-B6B1DFB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83EB-E79E-4D56-8790-DD02BF31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22CA-3484-416E-A582-0882C61C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6450-DA53-46E6-AB3F-EDE61540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2AAA-81E6-4008-8270-4BCCD4C7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ACC1-DE2F-4A76-9994-47B5D8F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A3CA-47AE-41B8-95EE-44DA10BE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D183-E13A-4122-B444-2F6C94E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FC1-7016-49A9-9ED0-6770525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5989-E23D-48D2-BE4E-4C86F07F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E219-3531-47AF-87F1-0803982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B650-6C64-45B1-AD57-DF25778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8B81-6ACB-4738-8249-A04C730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8060-9687-4622-953A-23A7BAF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BC5E-E630-4C4A-A6FB-53F301A9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9AAE-3057-4C4D-82FA-084C2B66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93A3-633E-443E-B995-1163E9D0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F664-A494-4DC0-B0EE-B7D4B4D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CDF2-5B3E-4F33-9FAC-51D6DC8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CE6-2E0D-4E51-8276-650BDDB4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6A46-555E-46E6-95E0-027C76D6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ABB0-A59C-4865-A034-5908FC7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5FF6-F9E8-44F9-8CD7-27B5EA2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4648-64F7-4853-84E5-654652D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1232-6852-470F-B2B4-73CBD03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ECA5-A7B0-4DE9-AB17-8EECE86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4981-88EF-497D-AA37-C4CBCFEB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02EE-E720-4E6B-BF37-64A81213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B6C6-545C-4DF6-8CD4-EAAD8D52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5E4-893F-4814-90B5-C1B24CF1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DB5-21B7-4E8C-BFAA-ED37AC9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A20-EAF6-4C95-A9C5-DD577B3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078-1BB8-4BEF-8322-1EC6084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C85-847E-470E-957F-E669B6D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9B50B-8B57-4D31-8FC9-B58E7CECC2D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5DC0A-3483-4E2A-9A8E-224FBEDF50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ED2D8-BF1C-49F3-89E6-AF0479C30C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C3E2D-B96B-4875-88D8-D9EB22DEDF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3BF7C-BA9C-4A82-9F93-F8942C8AF7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 and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26820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8116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738680" y="496728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47168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11560" y="5272200"/>
            <a:ext cx="252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24360" y="5272200"/>
            <a:ext cx="241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71680" y="3427560"/>
            <a:ext cx="6340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224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tive zeros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5000"/>
              </a:spcBef>
              <a:buClr>
                <a:srgbClr val="80008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6.07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457200" y="6094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60680" y="251460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498760" y="54244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13360" y="5424480"/>
            <a:ext cx="241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660680" y="3274920"/>
            <a:ext cx="702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182880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ling zeros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ignificant only if the number contains a decim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35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.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3"/>
          <p:cNvSpPr/>
          <p:nvPr/>
        </p:nvSpPr>
        <p:spPr>
          <a:xfrm>
            <a:off x="647640" y="6858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many significant figures in each of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43280" y="20574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070 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381560" y="205740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15568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10 k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381560" y="27432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790640" y="3505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890 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447440" y="3505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533600" y="42670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431600" y="42814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3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741680" y="49528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054 c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31600" y="49672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91720" y="563580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,200,0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431600" y="56530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2019240" y="2514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247840" y="3200400"/>
            <a:ext cx="838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1943280" y="3962520"/>
            <a:ext cx="99036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1638360" y="47242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52760" y="541008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866960" y="609588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04920" y="42696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279440" y="278748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270080" y="57452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71600" y="54705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56280" y="59738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4760" y="5470560"/>
            <a:ext cx="283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304920" y="1874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ltiplication and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sig figs in the result equals the number in the least precise measurement used in the calc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8 x 2.0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76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 (2 sig fi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5"/>
          <p:cNvSpPr/>
          <p:nvPr/>
        </p:nvSpPr>
        <p:spPr>
          <a:xfrm>
            <a:off x="571680" y="6858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560" y="2209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x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52380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31668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40592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649320" y="22068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68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537320" y="22096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3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7840" y="28926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÷ 23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657960" y="2909880"/>
            <a:ext cx="32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21940928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7171560" y="28954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.22 g/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83880" y="357840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x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610800" y="359568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47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353360" y="3581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05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6880" y="42670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0 m ÷ 3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654000" y="4281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6.6666667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7366320" y="42814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71000" y="496728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x 3.2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687120" y="49672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872.786 lb·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199280" y="4952880"/>
            <a:ext cx="19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870 lb·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7680" y="565308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30 g ÷ 2.87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546720" y="563580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3588850174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96040" y="5635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359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47640" y="7239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7640" y="20192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ddition and Subt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The number of decimal places in the result equals the number of decimal places in the least precis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8 + 11.93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734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8.7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sig fig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5"/>
          <p:cNvSpPr/>
          <p:nvPr/>
        </p:nvSpPr>
        <p:spPr>
          <a:xfrm>
            <a:off x="723960" y="6858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07720" y="22096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+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7608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46896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25328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139640" y="22068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0.24 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7274880" y="22096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0.2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257400" y="2892600"/>
            <a:ext cx="29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- 23.73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420336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6.27 g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360" y="28954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6.3 g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02680" y="357840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+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4187880" y="35956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2.391 c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305480" y="35812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.39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28240" y="42670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3.1 L - 3.87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235040" y="428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09.228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314480" y="4281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09.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29680" y="49672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+ 3.3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96520" y="49672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821.5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275600" y="495288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821.6 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37600" y="56530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030 mL - 1.87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220280" y="56386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0.1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276680" y="56358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16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1-2 refer to the following sets of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23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3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,5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umber containing three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asure of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514440" y="1889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AR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123560" y="303228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1 mole = 602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38120" y="402264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167480" y="516564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s of an electr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74080" y="746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727200" y="16891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ine the difficulty of calculating the mass of 1 mole of elec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38120" y="3521160"/>
            <a:ext cx="826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x 602000000000000000000000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55800" y="443232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????????????????????????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99"/>
          </a:solidFill>
          <a:ln w="540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solidFill>
            <a:srgbClr val="33cccc"/>
          </a:solidFill>
          <a:ln w="60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9856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0 mL 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graduate2"/>
          <p:cNvPicPr/>
          <p:nvPr/>
        </p:nvPicPr>
        <p:blipFill>
          <a:blip r:embed="rId1"/>
          <a:stretch/>
        </p:blipFill>
        <p:spPr>
          <a:xfrm>
            <a:off x="152280" y="2324160"/>
            <a:ext cx="4419720" cy="331452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112716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the volume of liquid in the grad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80040" y="37018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. _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9732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2424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63048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800280" y="1660680"/>
            <a:ext cx="56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00280" y="2498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hod of representing very large or very small numbers in th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 x 10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486080" y="425124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 number between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7"/>
          <p:cNvSpPr/>
          <p:nvPr/>
        </p:nvSpPr>
        <p:spPr>
          <a:xfrm>
            <a:off x="1104840" y="282744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1: Insert an understood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6286680" y="8460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5"/>
          <p:cNvSpPr/>
          <p:nvPr/>
        </p:nvSpPr>
        <p:spPr>
          <a:xfrm rot="11089800">
            <a:off x="6132240" y="191556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419040" y="3436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"/>
          <p:cNvSpPr/>
          <p:nvPr/>
        </p:nvSpPr>
        <p:spPr>
          <a:xfrm>
            <a:off x="232416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 rot="11089800">
            <a:off x="5676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 rot="11089800">
            <a:off x="5219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1089800">
            <a:off x="4762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 rot="11089800">
            <a:off x="43048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 rot="11089800">
            <a:off x="38476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 rot="11089800">
            <a:off x="3390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089800">
            <a:off x="2933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rot="11089800">
            <a:off x="2476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1904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210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753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52959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838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3815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924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467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09960" y="223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52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1904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995480" y="114156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  <a:ea typeface="Times New Roman"/>
              </a:rPr>
              <a:t>2 500 000 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2476440" y="16444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2.5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372280" y="2406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476440" y="3473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the number of places we moved the dec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8"/>
          <p:cNvSpPr/>
          <p:nvPr/>
        </p:nvSpPr>
        <p:spPr>
          <a:xfrm>
            <a:off x="2146320" y="11462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504d"/>
                </a:solidFill>
                <a:latin typeface="Calibri"/>
                <a:ea typeface="Times New Roman"/>
              </a:rPr>
              <a:t>0.00005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18148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7200" y="35132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38088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8088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2819520" y="214164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342900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3886200" y="21416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441972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876920" y="214164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9160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4495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9067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3988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9734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933560" y="3808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5.79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257800" y="13716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9051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negative because the number we started with was less than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57200" y="4876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larger than 1, the exponent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smaller than 1, the exponent is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use for a Cause   Scientific No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12031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1. Write the following numbers in scientific no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0.000 673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50 000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0.000 003 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2. The following numbers are in scientific notation. Write them in ordinary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7.05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4.000 0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2.350 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7850"/>
                            </p:stCondLst>
                            <p:childTnLst>
                              <p:par>
                                <p:cTn id="87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85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750"/>
                            </p:stCondLst>
                            <p:childTnLst>
                              <p:par>
                                <p:cTn id="89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850"/>
                            </p:stCondLst>
                            <p:childTnLst>
                              <p:par>
                                <p:cTn id="8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250"/>
                            </p:stCondLst>
                            <p:childTnLst>
                              <p:par>
                                <p:cTn id="91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ying and Dividing in Scientific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Multiply or divide the “M”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f multiplying, add the ex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f dividing, subtract the expon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f necessary, adjust to put back in scientific no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2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4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2800" y="1600200"/>
            <a:ext cx="6545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(6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(3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( 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8"/>
          <p:cNvSpPr/>
          <p:nvPr/>
        </p:nvSpPr>
        <p:spPr>
          <a:xfrm>
            <a:off x="1440" y="876240"/>
            <a:ext cx="914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1601640" y="195732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127320" y="3208320"/>
            <a:ext cx="285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125880" y="3848040"/>
            <a:ext cx="346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357200" y="488304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120636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273400" y="5526000"/>
            <a:ext cx="59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3873600" y="4883040"/>
            <a:ext cx="50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01652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7149960" y="5526000"/>
            <a:ext cx="59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11280" y="57168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atur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1 –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2 –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grams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6.63 x 10</a:t>
            </a:r>
            <a:r>
              <a:rPr b="1" lang="en-US" sz="3600" spc="-1" strike="noStrike" baseline="30000">
                <a:solidFill>
                  <a:srgbClr val="c0504d"/>
                </a:solidFill>
                <a:latin typeface="Calibri"/>
              </a:rPr>
              <a:t>-34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Joule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638360"/>
            <a:ext cx="838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ement – quantitative observation consisting of 2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3033720" y="1630440"/>
            <a:ext cx="5503680" cy="47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819000" y="169920"/>
            <a:ext cx="7972560" cy="11912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ccurate or Preci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25360" y="1974960"/>
            <a:ext cx="25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the act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ccep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measurement must be taken to determine if the measurements are prec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solidFill>
            <a:srgbClr val="ef5b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760" y="1951200"/>
            <a:ext cx="4800600" cy="4525920"/>
          </a:xfrm>
          <a:prstGeom prst="rect">
            <a:avLst/>
          </a:prstGeom>
          <a:solidFill>
            <a:srgbClr val="c5ff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8744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f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39720" y="6858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ine the meniscus below and determine the volume of liquid contained in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graduateselftest2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4602240" y="327672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ylinder 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22840" y="42354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_ .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62284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2776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46128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-3049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Pause for a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Accuracy and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3520" y="24382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handbook gives the density of calcium as 1.54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A student runs three experiments and determines the density to be 2.25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, 2.28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 and 2.20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student measures the mass of a sample as 9.67 grams, 9.99 grams and 8.85 grams. The actual mass is 7.50 grams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100"/>
                            </p:stCondLst>
                            <p:childTnLst>
                              <p:par>
                                <p:cTn id="9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47640" y="7239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undamental SI Un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e Système International, 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022400" y="1728720"/>
          <a:ext cx="7035840" cy="50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28720"/>
                    <a:ext cx="703584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 Prefixes Common to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5800" y="1523880"/>
          <a:ext cx="7772400" cy="4724640"/>
        </p:xfrm>
        <a:graphic>
          <a:graphicData uri="http://schemas.openxmlformats.org/drawingml/2006/table">
            <a:tbl>
              <a:tblPr/>
              <a:tblGrid>
                <a:gridCol w="1539720"/>
                <a:gridCol w="1467000"/>
                <a:gridCol w="1906560"/>
                <a:gridCol w="28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b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on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 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stairs"/>
          <p:cNvPicPr/>
          <p:nvPr/>
        </p:nvPicPr>
        <p:blipFill>
          <a:blip r:embed="rId1"/>
          <a:stretch/>
        </p:blipFill>
        <p:spPr>
          <a:xfrm>
            <a:off x="304920" y="179280"/>
            <a:ext cx="8534160" cy="6499440"/>
          </a:xfrm>
          <a:prstGeom prst="rect">
            <a:avLst/>
          </a:prstGeom>
          <a:ln w="1144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6" descr="slow"/>
          <p:cNvPicPr/>
          <p:nvPr/>
        </p:nvPicPr>
        <p:blipFill>
          <a:blip r:embed="rId3"/>
          <a:stretch/>
        </p:blipFill>
        <p:spPr>
          <a:xfrm>
            <a:off x="1447920" y="1495440"/>
            <a:ext cx="6172200" cy="3914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7"/>
          <p:cNvSpPr/>
          <p:nvPr/>
        </p:nvSpPr>
        <p:spPr>
          <a:xfrm>
            <a:off x="1447920" y="1676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w Let’s Do Metrics the Right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0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26"/>
          <p:cNvSpPr/>
          <p:nvPr/>
        </p:nvSpPr>
        <p:spPr>
          <a:xfrm>
            <a:off x="228600" y="1295280"/>
            <a:ext cx="8610480" cy="5105520"/>
          </a:xfrm>
          <a:prstGeom prst="rect">
            <a:avLst/>
          </a:prstGeom>
          <a:solidFill>
            <a:srgbClr val="9933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57200" y="14479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 Narrow"/>
              </a:rPr>
              <a:t>Express a mass of 5.712 grams in milli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67200" y="2550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374840" y="2505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5.71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7080" y="3038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831320" y="30384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mass in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427560" y="40291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Convers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052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1 g = 1,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5"/>
          <p:cNvGrpSpPr/>
          <p:nvPr/>
        </p:nvGrpSpPr>
        <p:grpSpPr>
          <a:xfrm>
            <a:off x="838080" y="4648320"/>
            <a:ext cx="4496040" cy="1676160"/>
            <a:chOff x="838080" y="4648320"/>
            <a:chExt cx="4496040" cy="1676160"/>
          </a:xfrm>
        </p:grpSpPr>
        <p:sp>
          <p:nvSpPr>
            <p:cNvPr id="428" name="Line 36"/>
            <p:cNvSpPr/>
            <p:nvPr/>
          </p:nvSpPr>
          <p:spPr>
            <a:xfrm>
              <a:off x="838080" y="5486040"/>
              <a:ext cx="449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289548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38"/>
          <p:cNvSpPr/>
          <p:nvPr/>
        </p:nvSpPr>
        <p:spPr>
          <a:xfrm>
            <a:off x="1072080" y="4967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387240" y="4876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911040" y="56386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571360" y="5165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283080" y="5348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712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095880" y="5257800"/>
            <a:ext cx="205740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4"/>
          <p:cNvSpPr/>
          <p:nvPr/>
        </p:nvSpPr>
        <p:spPr>
          <a:xfrm flipV="1">
            <a:off x="2133720" y="51055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4038480" y="57146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4"/>
          <p:cNvGraphicFramePr/>
          <p:nvPr/>
        </p:nvGraphicFramePr>
        <p:xfrm>
          <a:off x="0" y="-28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5"/>
          <p:cNvSpPr/>
          <p:nvPr/>
        </p:nvSpPr>
        <p:spPr>
          <a:xfrm>
            <a:off x="533520" y="1523880"/>
            <a:ext cx="8305560" cy="4876920"/>
          </a:xfrm>
          <a:prstGeom prst="rect">
            <a:avLst/>
          </a:prstGeom>
          <a:solidFill>
            <a:srgbClr val="6699ff">
              <a:alpha val="67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solidFill>
            <a:srgbClr val="00cc66">
              <a:alpha val="55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ress a mass of 5.712 gram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621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"/>
          <p:cNvGrpSpPr/>
          <p:nvPr/>
        </p:nvGrpSpPr>
        <p:grpSpPr>
          <a:xfrm>
            <a:off x="762120" y="4648320"/>
            <a:ext cx="4495680" cy="1676160"/>
            <a:chOff x="762120" y="4648320"/>
            <a:chExt cx="4495680" cy="1676160"/>
          </a:xfrm>
        </p:grpSpPr>
        <p:sp>
          <p:nvSpPr>
            <p:cNvPr id="446" name="Line 15"/>
            <p:cNvSpPr/>
            <p:nvPr/>
          </p:nvSpPr>
          <p:spPr>
            <a:xfrm>
              <a:off x="762120" y="548604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81916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7"/>
          <p:cNvSpPr/>
          <p:nvPr/>
        </p:nvSpPr>
        <p:spPr>
          <a:xfrm>
            <a:off x="1105560" y="48657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3729240" y="48657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3640680" y="56275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5487480" y="5013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256080" y="50943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0.00571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867280" y="4952880"/>
            <a:ext cx="266724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V="1">
            <a:off x="1905120" y="50288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V="1">
            <a:off x="4267080" y="5866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94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99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265752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-8568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568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6"/>
          <p:cNvSpPr/>
          <p:nvPr/>
        </p:nvSpPr>
        <p:spPr>
          <a:xfrm>
            <a:off x="533520" y="152280"/>
            <a:ext cx="7924680" cy="6400800"/>
          </a:xfrm>
          <a:prstGeom prst="rect">
            <a:avLst/>
          </a:prstGeom>
          <a:solidFill>
            <a:srgbClr val="3366ff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14400" y="228600"/>
            <a:ext cx="73915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t’s do the following metric conversions using unit cance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grams = 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0 centimeters = ____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liters = ____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00 mill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ecimeter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6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1f497d">
              <a:alpha val="60000"/>
            </a:srgbClr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533520" y="457200"/>
            <a:ext cx="80010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 Narrow"/>
              </a:rPr>
              <a:t>Pause for a Cause 2 Now Its your tur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. 1500 centigrams = 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. 6.00 mill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. 700 meters = ____ kilo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4. 750 milli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5. 250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6. 0.2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7. 0.75 deci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8. 47 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9. 2.5 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0. 500 dec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1. 250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2. 3500 cent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more d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2540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object that you think has the highest density and write one sentence explaining your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2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57200" y="2766960"/>
            <a:ext cx="4338720" cy="2887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t0.gstatic.com/images?q=tbn:ANd9GcTUl2YAfNIh5i7gMccLrinYbuLwGWNLJl3GNBhrNMrLzSV3QnjyVA"/>
          <p:cNvPicPr/>
          <p:nvPr/>
        </p:nvPicPr>
        <p:blipFill>
          <a:blip r:embed="rId2"/>
          <a:stretch/>
        </p:blipFill>
        <p:spPr>
          <a:xfrm>
            <a:off x="3749760" y="4560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http://t2.gstatic.com/images?q=tbn:ANd9GcQLE7ewkv8c6UeyT5SCxD-HKeyP4n23aofh3lhIiIIAghYxSCiy"/>
          <p:cNvPicPr/>
          <p:nvPr/>
        </p:nvPicPr>
        <p:blipFill>
          <a:blip r:embed="rId3"/>
          <a:stretch/>
        </p:blipFill>
        <p:spPr>
          <a:xfrm>
            <a:off x="5815080" y="2427120"/>
            <a:ext cx="2469960" cy="35658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8"/>
          <p:cNvSpPr/>
          <p:nvPr/>
        </p:nvSpPr>
        <p:spPr>
          <a:xfrm>
            <a:off x="725400" y="56545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4156200" y="6408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7093080" y="60246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447920"/>
          </a:xfrm>
          <a:prstGeom prst="rect">
            <a:avLst/>
          </a:prstGeom>
          <a:solidFill>
            <a:srgbClr val="004182"/>
          </a:solidFill>
          <a:ln w="5400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Reading the Therm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458200" cy="167652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thermometer1"/>
          <p:cNvPicPr/>
          <p:nvPr/>
        </p:nvPicPr>
        <p:blipFill>
          <a:blip r:embed="rId1"/>
          <a:stretch/>
        </p:blipFill>
        <p:spPr>
          <a:xfrm>
            <a:off x="330120" y="1752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thermometer2"/>
          <p:cNvPicPr/>
          <p:nvPr/>
        </p:nvPicPr>
        <p:blipFill>
          <a:blip r:embed="rId2"/>
          <a:stretch/>
        </p:blipFill>
        <p:spPr>
          <a:xfrm>
            <a:off x="4749840" y="1752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711360" y="77796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termine the readings as shown below on Celsius therm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37160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09588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726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02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134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08616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4018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9354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riv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I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multiplying or dividing standar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720" y="3048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 = (Length)(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724280" y="3505320"/>
            <a:ext cx="327672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038480" y="35053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 rot="16200000">
            <a:off x="3816000" y="4110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71644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16200000">
            <a:off x="6095880" y="1371600"/>
            <a:ext cx="533520" cy="3276720"/>
          </a:xfrm>
          <a:custGeom>
            <a:avLst/>
            <a:gdLst>
              <a:gd name="textAreaLeft" fmla="*/ 0 w 533520"/>
              <a:gd name="textAreaRight" fmla="*/ 192600 w 5335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95720" y="207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821320" y="41148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877040" y="56386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3385800" y="5638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.5 m)(5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835600" y="56386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12.5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Picture 6" descr="example"/>
          <p:cNvPicPr/>
          <p:nvPr/>
        </p:nvPicPr>
        <p:blipFill>
          <a:blip r:embed="rId3"/>
          <a:stretch/>
        </p:blipFill>
        <p:spPr>
          <a:xfrm>
            <a:off x="228600" y="16002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es density descri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Density describes how tightly particles are packed within a sample of matter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io of mass to volume, or mass divided by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12480" y="29718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400200" y="2722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25240" y="33526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32004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149520" y="30481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159680" y="274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7259400" y="33526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708660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how closely matter is packed into a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for each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water is 1.00 g/mL at 25˚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emperature decreases the density, so densities are given with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ive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s that are less dense float in substances more d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67680" y="5257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977840" y="4952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067120" y="5486400"/>
            <a:ext cx="3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905120" y="5562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87440" y="1444680"/>
            <a:ext cx="827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of aluminum metal has a mass of 8.4 g. The volume of the sample is 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Calculate the density of alumin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634920" y="335268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786560" y="31240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7242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629240" y="37339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5867280" y="33526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5867280" y="388620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7162920" y="31240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621960" y="4724280"/>
            <a:ext cx="7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5334120" y="52578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878280" y="5940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uni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3429000" y="4648320"/>
            <a:ext cx="2971800" cy="76176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880" y="31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412200" y="411480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2"/>
          <p:cNvSpPr/>
          <p:nvPr/>
        </p:nvSpPr>
        <p:spPr>
          <a:xfrm>
            <a:off x="6477120" y="48769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x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508040" y="317016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30904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249640" y="350532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092680" y="41148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514440" y="46180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315680" y="47242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5114520" y="4724280"/>
            <a:ext cx="12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/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693432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4191120" y="23623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739152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known liquid is discovered at a crime scene. A volume of 2.3 mL has a mass of 4.1 grams, what the liquid’s dens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87440" y="144468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 has a density of 3.2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hat is the mass of a diamond that has a volume of 0.350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2"/>
          <p:cNvSpPr/>
          <p:nvPr/>
        </p:nvSpPr>
        <p:spPr>
          <a:xfrm>
            <a:off x="777240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3"/>
          <p:cNvSpPr/>
          <p:nvPr/>
        </p:nvSpPr>
        <p:spPr>
          <a:xfrm>
            <a:off x="6445080" y="23623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4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mple of metal is found to have a mass of 4.56 g and a density of 1.98 g/mL. What is the volume of this 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 (No calcula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battery in a car is filled with a solution of sulfuric acid, which is approximately 39.9% sulfuric acid.  If the density of this solution is 1.3 g/mL, determine the number of grams of acid present in 500.0 mL of battery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138360" y="1600200"/>
            <a:ext cx="28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volume of 5 grams of this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approximate density of the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61387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…which ones are important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13/7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1.8571428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…is it 1.86? Or 1.9? Or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we 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09760" y="1270080"/>
            <a:ext cx="39020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5/9 (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0" y="1270080"/>
            <a:ext cx="47847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the follow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93 K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temperature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ody temperature to Kel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6"/>
          <p:cNvSpPr txBox="1"/>
          <p:nvPr/>
        </p:nvSpPr>
        <p:spPr>
          <a:xfrm>
            <a:off x="1600200" y="1143000"/>
            <a:ext cx="7238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Dimens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1752480" y="3886200"/>
            <a:ext cx="6096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7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10368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70120" y="633240"/>
            <a:ext cx="90151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any seconds are there in exactly 1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295280" y="1676520"/>
            <a:ext cx="6553440" cy="4343400"/>
          </a:xfrm>
          <a:prstGeom prst="rect">
            <a:avLst/>
          </a:prstGeom>
          <a:solidFill>
            <a:srgbClr val="00ff00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omplete these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Read the problem CARE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Determine the unit for 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 Write down all values given in the problem and retrieve any needed convers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4: Set up the problem (watch carefully as teacher does this st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5: Calculate—Multiply by numbers on the top and divide by those on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53680" y="1773000"/>
            <a:ext cx="6705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rd long jump is 349.5 inches. Convert this to meters. There are 2.54 cm in an i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45960" y="1898280"/>
            <a:ext cx="683100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is traveling 55.0 miles per hour. Convert this to meters per second. One mile is equal to 1.61 k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49520" y="1417320"/>
            <a:ext cx="599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mg are there is a 5.00 grain aspirin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in = 0.00229 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454 grams/lb. There are 16 oz./l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44240" y="1634760"/>
            <a:ext cx="6635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24 km/h to m/s (write out all steps before using calc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9652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0, the US produced 18.4 billion (1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ounds of phosphoric acid to be used in the manufacture of fertilizer. The average cost of the acid is $318/ton. (1 ton = 2000 lbs). What was the total value of the phosphoric acid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768240" y="1417680"/>
            <a:ext cx="7607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1. Light travels at a speed of 300,000 km/sec. What distance in centimeters does light travel in a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2. A landfill can hold 4.8 X108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of trash. If 250 000 000 objects averaging 0.060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each are placed in the landfill each year, how many years will it take to fill the landfil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3. A baker uses 1.5 tsp. of vanilla extract in each cake. How much vanilla in liters should the baker order to make 800 cakes? (1 tsp. = 5 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4. A person drinks 8 glasses of water each day, and each glass contains 300 mL. How many liters of water will that person consume in one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5. What is the speed of a car in m/sec when it is moving 100. km/h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use for a Ca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udent Practice on Dimensio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0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840"/>
                            </p:stCondLst>
                            <p:childTnLst>
                              <p:par>
                                <p:cTn id="16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8620"/>
                            </p:stCondLst>
                            <p:childTnLst>
                              <p:par>
                                <p:cTn id="16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06360" y="9144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8480" y="3122640"/>
            <a:ext cx="7770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373040" y="5119560"/>
            <a:ext cx="667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06360" y="2362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ct numbers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n infinite number of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beakers are on the sh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ctly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85800" y="990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89280" y="3198960"/>
            <a:ext cx="6441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666880" y="5043600"/>
            <a:ext cx="2368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13360" y="5043600"/>
            <a:ext cx="2571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209680"/>
            <a:ext cx="7848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nzero integ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456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4764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5112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51120" y="3427560"/>
            <a:ext cx="614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689200" y="5272200"/>
            <a:ext cx="282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508720" y="5272200"/>
            <a:ext cx="241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4764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ding zer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not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4501"/>
              </a:spcBef>
              <a:buClr>
                <a:srgbClr val="80008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048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38:20Z</dcterms:created>
  <dc:creator>Sybil Sexton</dc:creator>
  <dc:description/>
  <dc:language>en-US</dc:language>
  <cp:lastModifiedBy>ssexton</cp:lastModifiedBy>
  <dcterms:modified xsi:type="dcterms:W3CDTF">2012-08-28T20:33:53Z</dcterms:modified>
  <cp:revision>109</cp:revision>
  <dc:subject/>
  <dc:title>Math and Measurement</dc:title>
</cp:coreProperties>
</file>