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wmf" ContentType="image/x-wmf"/>
  <Override PartName="/ppt/media/image11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9.wmf" ContentType="image/x-wmf"/>
  <Override PartName="/ppt/media/image8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6.wmf" ContentType="image/x-wmf"/>
  <Override PartName="/ppt/media/image19.jpeg" ContentType="image/jpeg"/>
  <Override PartName="/ppt/media/image3.jpeg" ContentType="image/jpeg"/>
  <Override PartName="/ppt/media/image28.wmf" ContentType="image/x-wmf"/>
  <Override PartName="/ppt/media/image16.wmf" ContentType="image/x-wmf"/>
  <Override PartName="/ppt/media/image27.wmf" ContentType="image/x-wmf"/>
  <Override PartName="/ppt/media/image26.wmf" ContentType="image/x-wmf"/>
  <Override PartName="/ppt/media/image29.png" ContentType="image/png"/>
  <Override PartName="/ppt/media/image14.wmf" ContentType="image/x-wmf"/>
  <Override PartName="/ppt/media/image24.png" ContentType="image/png"/>
  <Override PartName="/ppt/media/image21.wmf" ContentType="image/x-wmf"/>
  <Override PartName="/ppt/media/image5.png" ContentType="image/png"/>
  <Override PartName="/ppt/media/image20.jpeg" ContentType="image/jpeg"/>
  <Override PartName="/ppt/media/image18.png" ContentType="image/png"/>
  <Override PartName="/ppt/media/image17.wmf" ContentType="image/x-wmf"/>
  <Override PartName="/ppt/media/image2.jpeg" ContentType="image/jpeg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918DC0-B2B0-46FE-AB59-073AA148225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B1B75F-6CA3-4A31-A49E-1C026AE1A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a minute to discuss the unit used in the English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BFD78-9F0A-45AC-828F-EB7E3CC4C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D299-0799-4A1E-9713-D30EB8E4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E619-71E6-4FFA-87F5-153E9927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7875-3642-4077-A6E1-FDFA0346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B52B-25CB-45FC-A528-B5A6E038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E47D-E22E-4105-B963-A7B4461A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0B28-498D-4F02-9CE5-0B73376B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AAE4-CE41-4DA5-8284-FBACB6CA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FA04-065D-4B16-BDF5-12B59AEC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8AA2-FA62-4549-A1F3-2C94E25B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136F-E70F-4757-A78E-2BDD7F47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98A7-E320-421D-A6D8-7418466A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1FBB-73FA-45CD-B215-1B088420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5737-727F-4787-A436-A221ACDB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317A-52A6-4161-BB3B-6F078DA0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74DC-2710-464E-9931-1E193AF4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632E-9287-4E0D-990E-923A7ED0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4947-F418-42F9-B463-FC3E8BDE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4F3B9-A734-4361-B677-AD22E3EB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62674-1C45-4E0D-860D-286B7B41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99F85-0151-4F63-A9FA-7B89221D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7DD77-D64D-4780-BEE9-73DCBAED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4AF88-C986-4840-9EB9-3062CE11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FE95-724B-4881-9042-E7705CD7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D0154-1809-495F-A2F9-4E2EBF1B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4B2C3-908F-4467-A987-C6D883F3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6D19E-A961-4F46-B44F-CA9F18A7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44856-3005-485B-B9FC-08DE8330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EA1CB-04AD-4B34-8CB7-E6EFAD49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8F437-4242-4F88-904D-8E979360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98851-C6A1-4C3A-8E14-E148B8C7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83591-ECF2-4953-8379-9517BDC8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66D5A-E373-40BD-96A8-9B2B19B4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D97C6-CA40-4DE3-A9FF-15273E31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5561-B45B-469C-BD05-9978ACFC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1A085-7B64-4A85-9E07-BA016BA5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829F6-DE48-4378-93B4-7970E0E2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C819E-A7FB-4A75-BDAA-3A59460B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B222F-4FFA-4911-A566-49595A56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EBC04-2096-4733-9CCB-B3EE1B0E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856D1-A0A4-49B8-A881-F0DAD044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C8A02-AFBD-4548-A66E-6F530561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D6591-59A6-4F9F-9104-923D5FB0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30928-E424-4278-B266-2DD83F69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2230-4733-4FB6-ADA7-5D6C4F2A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7848-EBA2-4FE6-AD7D-2982FEF1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F338-2340-48FB-89C8-07EF2763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41CD-4A53-4FEA-BA96-DA98AEEC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E32D-17AC-4A6B-8518-E768BB6D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38876D-8457-44D7-B74E-E1E6EDF548F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8FDAB-0ACE-4A63-AB6E-A2BEFA5C1E5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79962C-01FA-433F-958C-1B61A1C9915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59C803-3096-4DB7-BA72-817CA5F27C2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98CAFF-8AB4-4B45-840B-03AC7ADDB00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th and Measur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it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2"/>
          <p:cNvSpPr/>
          <p:nvPr/>
        </p:nvSpPr>
        <p:spPr>
          <a:xfrm>
            <a:off x="268200" y="76212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Counting Significant Figures -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118116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738680" y="4967280"/>
            <a:ext cx="20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1471680" y="2666880"/>
            <a:ext cx="122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2311560" y="5272200"/>
            <a:ext cx="25207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4824360" y="5272200"/>
            <a:ext cx="24195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1471680" y="3427560"/>
            <a:ext cx="63403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92240" y="1905120"/>
            <a:ext cx="784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65200" indent="-565200">
              <a:buClr>
                <a:srgbClr val="ffff00"/>
              </a:buClr>
              <a:buFont typeface="Arial"/>
              <a:buChar char="•"/>
              <a:tabLst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Ze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tabLst>
                <a:tab algn="l" pos="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ptive zeros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 count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285840">
              <a:lnSpc>
                <a:spcPct val="100000"/>
              </a:lnSpc>
              <a:tabLst>
                <a:tab algn="l" pos="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ificant figur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5000"/>
              </a:spcBef>
              <a:buClr>
                <a:srgbClr val="800080"/>
              </a:buClr>
              <a:buFont typeface="Arial"/>
              <a:buChar char="•"/>
              <a:tabLst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6.07</a:t>
            </a: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1001"/>
              </a:spcBef>
              <a:tabLst>
                <a:tab algn="l" pos="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sig fi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0"/>
          <p:cNvSpPr/>
          <p:nvPr/>
        </p:nvSpPr>
        <p:spPr>
          <a:xfrm>
            <a:off x="457200" y="60948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Counting Significant Figures -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1660680" y="2514600"/>
            <a:ext cx="122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2498760" y="5424480"/>
            <a:ext cx="252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5013360" y="5424480"/>
            <a:ext cx="241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660680" y="3274920"/>
            <a:ext cx="702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57200" y="1828800"/>
            <a:ext cx="7848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65200" indent="-565200">
              <a:buClr>
                <a:srgbClr val="ffff00"/>
              </a:buClr>
              <a:buFont typeface="Arial"/>
              <a:buChar char="•"/>
              <a:tabLst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  <a:tab algn="l" pos="703404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Ze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tabLst>
                <a:tab algn="l" pos="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  <a:tab algn="l" pos="7034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railing zeros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significant only if the number contains a decimal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3501"/>
              </a:spcBef>
              <a:tabLst>
                <a:tab algn="l" pos="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  <a:tab algn="l" pos="703404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9.3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1001"/>
              </a:spcBef>
              <a:tabLst>
                <a:tab algn="l" pos="0"/>
                <a:tab algn="l" pos="669960"/>
                <a:tab algn="l" pos="1004760"/>
                <a:tab algn="l" pos="1339920"/>
                <a:tab algn="l" pos="1674720"/>
                <a:tab algn="l" pos="2009880"/>
                <a:tab algn="l" pos="2344680"/>
                <a:tab algn="l" pos="2679840"/>
                <a:tab algn="l" pos="3014640"/>
                <a:tab algn="l" pos="3349800"/>
                <a:tab algn="l" pos="3684600"/>
                <a:tab algn="l" pos="4019400"/>
                <a:tab algn="l" pos="4354560"/>
                <a:tab algn="l" pos="4689360"/>
                <a:tab algn="l" pos="5024520"/>
                <a:tab algn="l" pos="5359320"/>
                <a:tab algn="l" pos="5694480"/>
                <a:tab algn="l" pos="6029280"/>
                <a:tab algn="l" pos="6364440"/>
                <a:tab algn="l" pos="6699240"/>
                <a:tab algn="l" pos="703404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sig fi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3"/>
          <p:cNvSpPr/>
          <p:nvPr/>
        </p:nvSpPr>
        <p:spPr>
          <a:xfrm>
            <a:off x="647640" y="685800"/>
            <a:ext cx="7696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 Fig Practice 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571680" y="1447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w many significant figures in each of the follow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1943280" y="205740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0070 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4381560" y="2057400"/>
            <a:ext cx="24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5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2155680" y="274320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7.10 k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4381560" y="2743200"/>
            <a:ext cx="19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4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7"/>
          <p:cNvSpPr/>
          <p:nvPr/>
        </p:nvSpPr>
        <p:spPr>
          <a:xfrm>
            <a:off x="1790640" y="35053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,890 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4447440" y="350532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5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5"/>
          <p:cNvSpPr/>
          <p:nvPr/>
        </p:nvSpPr>
        <p:spPr>
          <a:xfrm>
            <a:off x="1533600" y="426708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29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4431600" y="428148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3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1741680" y="4952880"/>
            <a:ext cx="23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.0054 c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4431600" y="496728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2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1791720" y="5635800"/>
            <a:ext cx="23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,200,00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431600" y="565308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2 sig 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9"/>
          <p:cNvSpPr/>
          <p:nvPr/>
        </p:nvSpPr>
        <p:spPr>
          <a:xfrm>
            <a:off x="2019240" y="2514600"/>
            <a:ext cx="11430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2247840" y="3200400"/>
            <a:ext cx="83844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1943280" y="3962520"/>
            <a:ext cx="99036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1638360" y="4724280"/>
            <a:ext cx="6094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2552760" y="541008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1866960" y="609588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1"/>
          <p:cNvSpPr/>
          <p:nvPr/>
        </p:nvSpPr>
        <p:spPr>
          <a:xfrm>
            <a:off x="304920" y="42696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les for Significant Figures in Mathematica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1279440" y="2787480"/>
            <a:ext cx="75596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1270080" y="5745240"/>
            <a:ext cx="20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1371600" y="5470560"/>
            <a:ext cx="331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156280" y="5973840"/>
            <a:ext cx="20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4784760" y="5470560"/>
            <a:ext cx="283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304920" y="1874880"/>
            <a:ext cx="78483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buClr>
                <a:srgbClr val="00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66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Multiplication and Divis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 sig figs in the result equals the number in the least precise measurement used in the calcul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38 x 2.0 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.76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 (2 sig fig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8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3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5"/>
          <p:cNvSpPr/>
          <p:nvPr/>
        </p:nvSpPr>
        <p:spPr>
          <a:xfrm>
            <a:off x="571680" y="68580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 Fig Practice #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88560" y="2209680"/>
            <a:ext cx="25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24 m x 7.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523800" y="160020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2"/>
          <p:cNvSpPr/>
          <p:nvPr/>
        </p:nvSpPr>
        <p:spPr>
          <a:xfrm>
            <a:off x="3316680" y="1600200"/>
            <a:ext cx="29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Calculator s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7405920" y="160020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3649320" y="2206800"/>
            <a:ext cx="15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68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7537320" y="22096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23 m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87840" y="289260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.0 g ÷ 23.7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7"/>
          <p:cNvSpPr/>
          <p:nvPr/>
        </p:nvSpPr>
        <p:spPr>
          <a:xfrm>
            <a:off x="3657960" y="2909880"/>
            <a:ext cx="32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219409283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7171560" y="2895480"/>
            <a:ext cx="18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4.22 g/cm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83880" y="3578400"/>
            <a:ext cx="32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.02 cm x 2.371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4"/>
          <p:cNvSpPr/>
          <p:nvPr/>
        </p:nvSpPr>
        <p:spPr>
          <a:xfrm>
            <a:off x="3610800" y="3595680"/>
            <a:ext cx="21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.04742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7353360" y="3581280"/>
            <a:ext cx="156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0.05 cm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56880" y="4267080"/>
            <a:ext cx="23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10 m ÷ 3.0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3654000" y="428148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36.6666667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7366320" y="4281480"/>
            <a:ext cx="14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240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171000" y="4967280"/>
            <a:ext cx="30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818.2 lb x 3.23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3687120" y="4967280"/>
            <a:ext cx="236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872.786 lb·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7199280" y="4952880"/>
            <a:ext cx="190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5870 lb·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67680" y="5653080"/>
            <a:ext cx="304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030 g ÷ 2.87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3546720" y="563580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.3588850174 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7196040" y="563580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0.359 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647640" y="72396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Significant Figures in Mathematical 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647640" y="20192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buClr>
                <a:srgbClr val="00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ff66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Addition and Subtra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The number of decimal places in the result equals the number of decimal places in the least precise measur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8 + 11.934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.734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8.7 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3 sig fig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5"/>
          <p:cNvSpPr/>
          <p:nvPr/>
        </p:nvSpPr>
        <p:spPr>
          <a:xfrm>
            <a:off x="723960" y="68580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 Fig Practice 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207720" y="2209680"/>
            <a:ext cx="25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24 m + 7.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3"/>
          <p:cNvSpPr/>
          <p:nvPr/>
        </p:nvSpPr>
        <p:spPr>
          <a:xfrm>
            <a:off x="676080" y="160020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2"/>
          <p:cNvSpPr/>
          <p:nvPr/>
        </p:nvSpPr>
        <p:spPr>
          <a:xfrm>
            <a:off x="3468960" y="1600200"/>
            <a:ext cx="29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Calculator s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7253280" y="160020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4139640" y="2206800"/>
            <a:ext cx="15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10.24 m</a:t>
            </a:r>
            <a:r>
              <a:rPr b="0" lang="en-US" sz="2800" spc="-1" strike="noStrike" baseline="30000">
                <a:solidFill>
                  <a:srgbClr val="ff66c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9"/>
          <p:cNvSpPr/>
          <p:nvPr/>
        </p:nvSpPr>
        <p:spPr>
          <a:xfrm>
            <a:off x="7274880" y="2209680"/>
            <a:ext cx="132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10.2 m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257400" y="2892600"/>
            <a:ext cx="293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.0 g - 23.73 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4203360" y="290988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76.27 g</a:t>
            </a:r>
            <a:r>
              <a:rPr b="0" lang="en-US" sz="2800" spc="-1" strike="noStrike" baseline="30000">
                <a:solidFill>
                  <a:srgbClr val="ff66c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7308360" y="289548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76.3 g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5"/>
          <p:cNvSpPr/>
          <p:nvPr/>
        </p:nvSpPr>
        <p:spPr>
          <a:xfrm>
            <a:off x="202680" y="3578400"/>
            <a:ext cx="331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.02 cm + 2.371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4187880" y="359568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2.391 cm</a:t>
            </a:r>
            <a:r>
              <a:rPr b="0" lang="en-US" sz="2800" spc="-1" strike="noStrike" baseline="30000">
                <a:solidFill>
                  <a:srgbClr val="ff66c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7305480" y="3581280"/>
            <a:ext cx="15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2.39 cm</a:t>
            </a:r>
            <a:r>
              <a:rPr b="0" lang="en-US" sz="2800" spc="-1" strike="noStrike" baseline="30000">
                <a:solidFill>
                  <a:srgbClr val="c0504d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228240" y="4267080"/>
            <a:ext cx="28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13.1 L - 3.872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4235040" y="428148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709.228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7314480" y="42814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709.2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229680" y="4967280"/>
            <a:ext cx="312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818.2 lb + 3.37 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96520" y="496728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1821.57 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7275600" y="4952880"/>
            <a:ext cx="16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1821.6 l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237600" y="5653080"/>
            <a:ext cx="34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030 mL - 1.87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4220280" y="563868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  <a:ea typeface="Times New Roman"/>
              </a:rPr>
              <a:t>0.1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7276680" y="563580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0.16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 1-2 refer to the following sets of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023 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0030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,500 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number containing three significant fig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measure of m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8"/>
          <p:cNvSpPr/>
          <p:nvPr/>
        </p:nvSpPr>
        <p:spPr>
          <a:xfrm>
            <a:off x="514440" y="1889280"/>
            <a:ext cx="79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 science, we deal with some ver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LARG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numb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123560" y="3032280"/>
            <a:ext cx="584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1 mole = 60200000000000000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438120" y="402264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 science, we deal with some ver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MAL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numb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1167480" y="5165640"/>
            <a:ext cx="680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ss of an electron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0.000000000000000000000000000000091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74080" y="746280"/>
            <a:ext cx="36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cientific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6"/>
          <p:cNvSpPr/>
          <p:nvPr/>
        </p:nvSpPr>
        <p:spPr>
          <a:xfrm>
            <a:off x="727200" y="1689120"/>
            <a:ext cx="771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magine the difficulty of calculating the mass of 1 mole of electr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38120" y="3521160"/>
            <a:ext cx="8267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0.000000000000000000000000000000091 k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Calibri"/>
                <a:ea typeface="Times New Roman"/>
              </a:rPr>
              <a:t>           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Calibri"/>
                <a:ea typeface="Times New Roman"/>
              </a:rPr>
              <a:t>x 602000000000000000000000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955800" y="4432320"/>
            <a:ext cx="73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???????????????????????????????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99"/>
          </a:solidFill>
          <a:ln w="540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525920"/>
          </a:xfrm>
          <a:prstGeom prst="rect">
            <a:avLst/>
          </a:prstGeom>
          <a:solidFill>
            <a:srgbClr val="33cccc"/>
          </a:solidFill>
          <a:ln w="604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89856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10 mL Gradu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graduate2"/>
          <p:cNvPicPr/>
          <p:nvPr/>
        </p:nvPicPr>
        <p:blipFill>
          <a:blip r:embed="rId1"/>
          <a:stretch/>
        </p:blipFill>
        <p:spPr>
          <a:xfrm>
            <a:off x="152280" y="2324160"/>
            <a:ext cx="4419720" cy="3314520"/>
          </a:xfrm>
          <a:prstGeom prst="rect">
            <a:avLst/>
          </a:prstGeom>
          <a:ln w="66600">
            <a:solidFill>
              <a:srgbClr val="993366"/>
            </a:solidFill>
            <a:miter/>
          </a:ln>
        </p:spPr>
      </p:pic>
      <p:sp>
        <p:nvSpPr>
          <p:cNvPr id="177" name="Text Box 7"/>
          <p:cNvSpPr/>
          <p:nvPr/>
        </p:nvSpPr>
        <p:spPr>
          <a:xfrm>
            <a:off x="1127160" y="914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hat is the volume of liquid in the gradu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6080040" y="37018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_ . _ _ 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6097320" y="37018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6924240" y="37018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6630480" y="37018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6"/>
          <p:cNvSpPr/>
          <p:nvPr/>
        </p:nvSpPr>
        <p:spPr>
          <a:xfrm>
            <a:off x="800280" y="1660680"/>
            <a:ext cx="56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cientific Not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800280" y="249876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method of representing very large or very small numbers in the for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M x 10</a:t>
            </a:r>
            <a:r>
              <a:rPr b="1" lang="en-US" sz="2800" spc="-1" strike="noStrike" baseline="30000">
                <a:solidFill>
                  <a:srgbClr val="c0504d"/>
                </a:solidFill>
                <a:latin typeface="Calibri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486080" y="4251240"/>
            <a:ext cx="649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is a number between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is an 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7"/>
          <p:cNvSpPr/>
          <p:nvPr/>
        </p:nvSpPr>
        <p:spPr>
          <a:xfrm>
            <a:off x="1104840" y="2827440"/>
            <a:ext cx="66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1: Insert an understood decimal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6"/>
          <p:cNvSpPr/>
          <p:nvPr/>
        </p:nvSpPr>
        <p:spPr>
          <a:xfrm>
            <a:off x="6286680" y="84600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25"/>
          <p:cNvSpPr/>
          <p:nvPr/>
        </p:nvSpPr>
        <p:spPr>
          <a:xfrm rot="11089800">
            <a:off x="6132240" y="191556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4"/>
          <p:cNvSpPr/>
          <p:nvPr/>
        </p:nvSpPr>
        <p:spPr>
          <a:xfrm>
            <a:off x="419040" y="3436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2: Decide where the decimal must end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p so that one number is to its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23"/>
          <p:cNvSpPr/>
          <p:nvPr/>
        </p:nvSpPr>
        <p:spPr>
          <a:xfrm>
            <a:off x="2324160" y="8460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2"/>
          <p:cNvSpPr/>
          <p:nvPr/>
        </p:nvSpPr>
        <p:spPr>
          <a:xfrm rot="11089800">
            <a:off x="56764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1"/>
          <p:cNvSpPr/>
          <p:nvPr/>
        </p:nvSpPr>
        <p:spPr>
          <a:xfrm rot="11089800">
            <a:off x="52192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0"/>
          <p:cNvSpPr/>
          <p:nvPr/>
        </p:nvSpPr>
        <p:spPr>
          <a:xfrm rot="11089800">
            <a:off x="47620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9"/>
          <p:cNvSpPr/>
          <p:nvPr/>
        </p:nvSpPr>
        <p:spPr>
          <a:xfrm rot="11089800">
            <a:off x="43048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8"/>
          <p:cNvSpPr/>
          <p:nvPr/>
        </p:nvSpPr>
        <p:spPr>
          <a:xfrm rot="11089800">
            <a:off x="38476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7"/>
          <p:cNvSpPr/>
          <p:nvPr/>
        </p:nvSpPr>
        <p:spPr>
          <a:xfrm rot="11089800">
            <a:off x="33904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6"/>
          <p:cNvSpPr/>
          <p:nvPr/>
        </p:nvSpPr>
        <p:spPr>
          <a:xfrm rot="11089800">
            <a:off x="29332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5"/>
          <p:cNvSpPr/>
          <p:nvPr/>
        </p:nvSpPr>
        <p:spPr>
          <a:xfrm rot="11089800">
            <a:off x="2476080" y="191232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4"/>
          <p:cNvSpPr/>
          <p:nvPr/>
        </p:nvSpPr>
        <p:spPr>
          <a:xfrm>
            <a:off x="419040" y="4503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3: Count how many places you bou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decimal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62103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57531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52959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48387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43815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39243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34671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3009960" y="2232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2552760" y="221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419040" y="5494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4: Re-write in the form M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8"/>
          <p:cNvSpPr/>
          <p:nvPr/>
        </p:nvSpPr>
        <p:spPr>
          <a:xfrm>
            <a:off x="1995480" y="1141560"/>
            <a:ext cx="550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Arial"/>
                <a:ea typeface="Times New Roman"/>
              </a:rPr>
              <a:t>2 500 000 0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6"/>
          <p:cNvSpPr/>
          <p:nvPr/>
        </p:nvSpPr>
        <p:spPr>
          <a:xfrm>
            <a:off x="2476440" y="164448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c0504d"/>
                </a:solidFill>
                <a:latin typeface="Calibri"/>
                <a:ea typeface="Times New Roman"/>
              </a:rPr>
              <a:t>2.5 x 10</a:t>
            </a:r>
            <a:r>
              <a:rPr b="1" lang="en-US" sz="6600" spc="-1" strike="noStrike" baseline="30000">
                <a:solidFill>
                  <a:srgbClr val="c0504d"/>
                </a:solidFill>
                <a:latin typeface="Calibri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372280" y="2406600"/>
            <a:ext cx="304560" cy="914400"/>
          </a:xfrm>
          <a:prstGeom prst="upArrow">
            <a:avLst>
              <a:gd name="adj1" fmla="val 50000"/>
              <a:gd name="adj2" fmla="val 75059"/>
            </a:avLst>
          </a:pr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2476440" y="3473280"/>
            <a:ext cx="50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exponent is the number of places we moved the decim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8"/>
          <p:cNvSpPr/>
          <p:nvPr/>
        </p:nvSpPr>
        <p:spPr>
          <a:xfrm>
            <a:off x="2146320" y="114624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c0504d"/>
                </a:solidFill>
                <a:latin typeface="Calibri"/>
                <a:ea typeface="Times New Roman"/>
              </a:rPr>
              <a:t>0.000057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7"/>
          <p:cNvSpPr/>
          <p:nvPr/>
        </p:nvSpPr>
        <p:spPr>
          <a:xfrm>
            <a:off x="5181480" y="8460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457200" y="351324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2: Decide where the decimal must end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p so that one number is to its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380880" y="4503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3: Count how many places you bou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decimal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380880" y="5494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ep #4: Re-write in the form M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3"/>
          <p:cNvSpPr/>
          <p:nvPr/>
        </p:nvSpPr>
        <p:spPr>
          <a:xfrm>
            <a:off x="2819520" y="2141640"/>
            <a:ext cx="609480" cy="228600"/>
          </a:xfrm>
          <a:custGeom>
            <a:avLst/>
            <a:gdLst>
              <a:gd name="textAreaLeft" fmla="*/ 106560 w 609480"/>
              <a:gd name="textAreaRight" fmla="*/ 442080 w 6094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2"/>
          <p:cNvSpPr/>
          <p:nvPr/>
        </p:nvSpPr>
        <p:spPr>
          <a:xfrm>
            <a:off x="3429000" y="214164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3886200" y="2141640"/>
            <a:ext cx="533520" cy="228600"/>
          </a:xfrm>
          <a:custGeom>
            <a:avLst/>
            <a:gdLst>
              <a:gd name="textAreaLeft" fmla="*/ 93240 w 533520"/>
              <a:gd name="textAreaRight" fmla="*/ 387000 w 5335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0"/>
          <p:cNvSpPr/>
          <p:nvPr/>
        </p:nvSpPr>
        <p:spPr>
          <a:xfrm>
            <a:off x="4419720" y="214164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9"/>
          <p:cNvSpPr/>
          <p:nvPr/>
        </p:nvSpPr>
        <p:spPr>
          <a:xfrm>
            <a:off x="4876920" y="2141640"/>
            <a:ext cx="533160" cy="228600"/>
          </a:xfrm>
          <a:custGeom>
            <a:avLst/>
            <a:gdLst>
              <a:gd name="textAreaLeft" fmla="*/ 93240 w 533160"/>
              <a:gd name="textAreaRight" fmla="*/ 386640 w 53316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2916000" y="2446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449520" y="2446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3906720" y="2446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4439880" y="2446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4973400" y="2446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1933560" y="380880"/>
            <a:ext cx="510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c0504d"/>
                </a:solidFill>
                <a:latin typeface="Calibri"/>
                <a:ea typeface="Times New Roman"/>
              </a:rPr>
              <a:t>5.79 x 10</a:t>
            </a:r>
            <a:r>
              <a:rPr b="1" lang="en-US" sz="6600" spc="-1" strike="noStrike" baseline="30000">
                <a:solidFill>
                  <a:srgbClr val="c0504d"/>
                </a:solidFill>
                <a:latin typeface="Calibri"/>
                <a:ea typeface="Times New Roman"/>
              </a:rPr>
              <a:t>-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5"/>
          <p:cNvSpPr/>
          <p:nvPr/>
        </p:nvSpPr>
        <p:spPr>
          <a:xfrm>
            <a:off x="5257800" y="1371600"/>
            <a:ext cx="304920" cy="914400"/>
          </a:xfrm>
          <a:prstGeom prst="upArrow">
            <a:avLst>
              <a:gd name="adj1" fmla="val 50000"/>
              <a:gd name="adj2" fmla="val 74970"/>
            </a:avLst>
          </a:prstGeom>
          <a:solidFill>
            <a:srgbClr val="dc00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1905120" y="251460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exponent is negative because the number we started with was less than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457200" y="48769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f the number is larger than 1, the exponent is po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f the number is smaller than 1, the exponent is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33360" y="76212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ause for a Cause   Scientific Not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1203120"/>
            <a:ext cx="5943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#1. Write the following numbers in scientific no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. 0.000 673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. 50 000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. 0.000 003 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#2. The following numbers are in scientific notation. Write them in ordinary no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. 7.050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. 4.000 05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m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. 2.350 0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with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4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4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0" dur="5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0"/>
                            </p:stCondLst>
                            <p:childTnLst>
                              <p:par>
                                <p:cTn id="872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7850"/>
                            </p:stCondLst>
                            <p:childTnLst>
                              <p:par>
                                <p:cTn id="878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8850"/>
                            </p:stCondLst>
                            <p:childTnLst>
                              <p:par>
                                <p:cTn id="884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9750"/>
                            </p:stCondLst>
                            <p:childTnLst>
                              <p:par>
                                <p:cTn id="890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0850"/>
                            </p:stCondLst>
                            <p:childTnLst>
                              <p:par>
                                <p:cTn id="896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5000"/>
                            </p:stCondLst>
                            <p:childTnLst>
                              <p:par>
                                <p:cTn id="902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6050"/>
                            </p:stCondLst>
                            <p:childTnLst>
                              <p:par>
                                <p:cTn id="908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7250"/>
                            </p:stCondLst>
                            <p:childTnLst>
                              <p:par>
                                <p:cTn id="914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plying and Dividing in Scientific No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Multiply or divide the “M”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If multiplying, add the expon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If dividing, subtract the expon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If necessary, adjust to put back in scientific not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#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.3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x (2.3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#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2.6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/ (4.6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612800" y="1600200"/>
            <a:ext cx="65455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(6.0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x (4.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(3.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x (4.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( 4.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/ (9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5" dur="5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8"/>
          <p:cNvSpPr/>
          <p:nvPr/>
        </p:nvSpPr>
        <p:spPr>
          <a:xfrm>
            <a:off x="1440" y="876240"/>
            <a:ext cx="914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1601640" y="1957320"/>
            <a:ext cx="7542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6"/>
          <p:cNvSpPr/>
          <p:nvPr/>
        </p:nvSpPr>
        <p:spPr>
          <a:xfrm>
            <a:off x="3127320" y="3208320"/>
            <a:ext cx="285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5"/>
          <p:cNvSpPr/>
          <p:nvPr/>
        </p:nvSpPr>
        <p:spPr>
          <a:xfrm>
            <a:off x="3125880" y="3848040"/>
            <a:ext cx="3468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4"/>
          <p:cNvSpPr/>
          <p:nvPr/>
        </p:nvSpPr>
        <p:spPr>
          <a:xfrm>
            <a:off x="1357200" y="4883040"/>
            <a:ext cx="187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3"/>
          <p:cNvSpPr/>
          <p:nvPr/>
        </p:nvSpPr>
        <p:spPr>
          <a:xfrm>
            <a:off x="1206360" y="5526000"/>
            <a:ext cx="1046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2273400" y="5526000"/>
            <a:ext cx="59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3873600" y="4883040"/>
            <a:ext cx="505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4016520" y="5526000"/>
            <a:ext cx="1046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9"/>
          <p:cNvSpPr/>
          <p:nvPr/>
        </p:nvSpPr>
        <p:spPr>
          <a:xfrm>
            <a:off x="7149960" y="5526000"/>
            <a:ext cx="59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611280" y="571680"/>
            <a:ext cx="7848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Nature of Measu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457200" y="2895480"/>
            <a:ext cx="83059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t 1 –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t 2 – 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20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grams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6.63 x 10</a:t>
            </a:r>
            <a:r>
              <a:rPr b="1" lang="en-US" sz="3600" spc="-1" strike="noStrike" baseline="30000">
                <a:solidFill>
                  <a:srgbClr val="c0504d"/>
                </a:solidFill>
                <a:latin typeface="Calibri"/>
              </a:rPr>
              <a:t>-34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Joule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80880" y="1638360"/>
            <a:ext cx="8382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Measurement – quantitative observation consisting of 2 p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" descr=""/>
          <p:cNvPicPr/>
          <p:nvPr/>
        </p:nvPicPr>
        <p:blipFill>
          <a:blip r:embed="rId1"/>
          <a:stretch/>
        </p:blipFill>
        <p:spPr>
          <a:xfrm>
            <a:off x="3033720" y="1630440"/>
            <a:ext cx="5503680" cy="47880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2"/>
          <p:cNvSpPr/>
          <p:nvPr/>
        </p:nvSpPr>
        <p:spPr>
          <a:xfrm>
            <a:off x="819000" y="169920"/>
            <a:ext cx="7972560" cy="119124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Accurate or Precise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3"/>
          <p:cNvSpPr/>
          <p:nvPr/>
        </p:nvSpPr>
        <p:spPr>
          <a:xfrm>
            <a:off x="225360" y="1974960"/>
            <a:ext cx="2540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u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surements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ose to the actu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accepted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surements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ose to one ano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han one measurement must be taken to determine if the measurements are preci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447920"/>
          </a:xfrm>
          <a:prstGeom prst="rect">
            <a:avLst/>
          </a:prstGeom>
          <a:solidFill>
            <a:srgbClr val="ef5b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190760" y="1951200"/>
            <a:ext cx="4800600" cy="4525920"/>
          </a:xfrm>
          <a:prstGeom prst="rect">
            <a:avLst/>
          </a:prstGeom>
          <a:solidFill>
            <a:srgbClr val="c5ffff"/>
          </a:solidFill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487440" y="76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elf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639720" y="68580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xamine the meniscus below and determine the volume of liquid contained in the graduated cyli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graduateselftest2"/>
          <p:cNvPicPr/>
          <p:nvPr/>
        </p:nvPicPr>
        <p:blipFill>
          <a:blip r:embed="rId1"/>
          <a:stretch/>
        </p:blipFill>
        <p:spPr>
          <a:xfrm>
            <a:off x="152280" y="2666880"/>
            <a:ext cx="3886200" cy="30481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4602240" y="3276720"/>
            <a:ext cx="40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he cylinder contai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5622840" y="4235400"/>
            <a:ext cx="31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_ _ . _ 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5622840" y="41590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927760" y="41590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6461280" y="41590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0" y="-304920"/>
            <a:ext cx="9372600" cy="7162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 Narrow"/>
              </a:rPr>
              <a:t>Pause for a Ca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6699ff"/>
                </a:solidFill>
                <a:latin typeface="Arial Narrow"/>
              </a:rPr>
              <a:t>Accuracy and Pr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533520" y="2438280"/>
            <a:ext cx="83055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ad9713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A handbook gives the density of calcium as 1.54 g/cm</a:t>
            </a:r>
            <a:r>
              <a:rPr b="0" lang="en-US" sz="2800" spc="-1" strike="noStrike" baseline="30000">
                <a:solidFill>
                  <a:srgbClr val="ad9713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. A student runs three experiments and determines the density to be 2.25 g/cm</a:t>
            </a:r>
            <a:r>
              <a:rPr b="0" lang="en-US" sz="2800" spc="-1" strike="noStrike" baseline="30000">
                <a:solidFill>
                  <a:srgbClr val="ad9713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, 2.28 g/cm</a:t>
            </a:r>
            <a:r>
              <a:rPr b="0" lang="en-US" sz="2800" spc="-1" strike="noStrike" baseline="30000">
                <a:solidFill>
                  <a:srgbClr val="ad9713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 and 2.20 g/cm</a:t>
            </a:r>
            <a:r>
              <a:rPr b="0" lang="en-US" sz="2800" spc="-1" strike="noStrike" baseline="30000">
                <a:solidFill>
                  <a:srgbClr val="ad9713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. Discuss this student’s accuracy and pr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ad9713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ad9713"/>
                </a:solidFill>
                <a:latin typeface="Arial Narrow"/>
              </a:rPr>
              <a:t>A student measures the mass of a sample as 9.67 grams, 9.99 grams and 8.85 grams. The actual mass is 7.50 grams. Discuss this student’s accuracy and pr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ad9713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0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4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7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0" dur="1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000"/>
                            </p:stCondLst>
                            <p:childTnLst>
                              <p:par>
                                <p:cTn id="962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1100"/>
                            </p:stCondLst>
                            <p:childTnLst>
                              <p:par>
                                <p:cTn id="968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647640" y="72396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undamental SI Uni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le Système International, 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4"/>
          <p:cNvGraphicFramePr/>
          <p:nvPr/>
        </p:nvGraphicFramePr>
        <p:xfrm>
          <a:off x="1022400" y="1728720"/>
          <a:ext cx="7035840" cy="509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2400" y="1728720"/>
                    <a:ext cx="7035840" cy="509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I Prefixes Common to Chemi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685800" y="1523880"/>
          <a:ext cx="7772400" cy="4724640"/>
        </p:xfrm>
        <a:graphic>
          <a:graphicData uri="http://schemas.openxmlformats.org/drawingml/2006/table">
            <a:tbl>
              <a:tblPr/>
              <a:tblGrid>
                <a:gridCol w="1539720"/>
                <a:gridCol w="1467000"/>
                <a:gridCol w="1906560"/>
                <a:gridCol w="2859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fi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bbr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pon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i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00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en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l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c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1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 1,000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6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89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3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5" descr="stairs"/>
          <p:cNvPicPr/>
          <p:nvPr/>
        </p:nvPicPr>
        <p:blipFill>
          <a:blip r:embed="rId1"/>
          <a:stretch/>
        </p:blipFill>
        <p:spPr>
          <a:xfrm>
            <a:off x="304920" y="179280"/>
            <a:ext cx="8534160" cy="6499440"/>
          </a:xfrm>
          <a:prstGeom prst="rect">
            <a:avLst/>
          </a:prstGeom>
          <a:ln w="11448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5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Object 4"/>
          <p:cNvGraphicFramePr/>
          <p:nvPr/>
        </p:nvGraphicFramePr>
        <p:xfrm>
          <a:off x="0" y="-28440"/>
          <a:ext cx="9144000" cy="6886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8440"/>
                    <a:ext cx="9144000" cy="68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2" name="Picture 6" descr="slow"/>
          <p:cNvPicPr/>
          <p:nvPr/>
        </p:nvPicPr>
        <p:blipFill>
          <a:blip r:embed="rId3"/>
          <a:stretch/>
        </p:blipFill>
        <p:spPr>
          <a:xfrm>
            <a:off x="1447920" y="1495440"/>
            <a:ext cx="6172200" cy="391464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7"/>
          <p:cNvSpPr/>
          <p:nvPr/>
        </p:nvSpPr>
        <p:spPr>
          <a:xfrm>
            <a:off x="1447920" y="16765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w Let’s Do Metrics the Right W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0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7" dur="3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10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Object 4"/>
          <p:cNvGraphicFramePr/>
          <p:nvPr/>
        </p:nvGraphicFramePr>
        <p:xfrm>
          <a:off x="0" y="-28440"/>
          <a:ext cx="9144000" cy="6886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8440"/>
                    <a:ext cx="9144000" cy="68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Rectangle 26"/>
          <p:cNvSpPr/>
          <p:nvPr/>
        </p:nvSpPr>
        <p:spPr>
          <a:xfrm>
            <a:off x="228600" y="1295280"/>
            <a:ext cx="8610480" cy="5105520"/>
          </a:xfrm>
          <a:prstGeom prst="rect">
            <a:avLst/>
          </a:prstGeom>
          <a:solidFill>
            <a:srgbClr val="993366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 Narrow"/>
              </a:rPr>
              <a:t>Practice Conversion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457200" y="14479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 Narrow"/>
              </a:rPr>
              <a:t>Express a mass of 5.712 grams in milli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367200" y="25509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1374840" y="25052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5.712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307080" y="3038400"/>
            <a:ext cx="13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Unknow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1831320" y="303840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mass in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2"/>
          <p:cNvSpPr/>
          <p:nvPr/>
        </p:nvSpPr>
        <p:spPr>
          <a:xfrm>
            <a:off x="533520" y="35053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 Narrow"/>
              </a:rPr>
              <a:t>quantity given </a:t>
            </a:r>
            <a:r>
              <a:rPr b="1" i="1" lang="en-US" sz="2400" spc="-1" strike="noStrike">
                <a:solidFill>
                  <a:srgbClr val="dddddd"/>
                </a:solidFill>
                <a:latin typeface="Arial Narrow"/>
                <a:ea typeface="Arial"/>
              </a:rPr>
              <a:t>× conversion factor = </a:t>
            </a:r>
            <a:r>
              <a:rPr b="1" i="1" lang="en-US" sz="2400" spc="-1" strike="noStrike">
                <a:solidFill>
                  <a:srgbClr val="dddddd"/>
                </a:solidFill>
                <a:latin typeface="Arial Narrow"/>
              </a:rPr>
              <a:t>quantity sou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3427560" y="402912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Convers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5870520" y="403848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1 g = 1,000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35"/>
          <p:cNvGrpSpPr/>
          <p:nvPr/>
        </p:nvGrpSpPr>
        <p:grpSpPr>
          <a:xfrm>
            <a:off x="838080" y="4648320"/>
            <a:ext cx="4496040" cy="1676160"/>
            <a:chOff x="838080" y="4648320"/>
            <a:chExt cx="4496040" cy="1676160"/>
          </a:xfrm>
        </p:grpSpPr>
        <p:sp>
          <p:nvSpPr>
            <p:cNvPr id="428" name="Line 36"/>
            <p:cNvSpPr/>
            <p:nvPr/>
          </p:nvSpPr>
          <p:spPr>
            <a:xfrm>
              <a:off x="838080" y="5486040"/>
              <a:ext cx="4496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37"/>
            <p:cNvSpPr/>
            <p:nvPr/>
          </p:nvSpPr>
          <p:spPr>
            <a:xfrm>
              <a:off x="2895480" y="4648320"/>
              <a:ext cx="0" cy="167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 Box 38"/>
          <p:cNvSpPr/>
          <p:nvPr/>
        </p:nvSpPr>
        <p:spPr>
          <a:xfrm>
            <a:off x="1072080" y="496728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5.712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9"/>
          <p:cNvSpPr/>
          <p:nvPr/>
        </p:nvSpPr>
        <p:spPr>
          <a:xfrm>
            <a:off x="3387240" y="48769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1000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0"/>
          <p:cNvSpPr/>
          <p:nvPr/>
        </p:nvSpPr>
        <p:spPr>
          <a:xfrm>
            <a:off x="3911040" y="56386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1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1"/>
          <p:cNvSpPr/>
          <p:nvPr/>
        </p:nvSpPr>
        <p:spPr>
          <a:xfrm>
            <a:off x="5571360" y="516564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42"/>
          <p:cNvSpPr/>
          <p:nvPr/>
        </p:nvSpPr>
        <p:spPr>
          <a:xfrm>
            <a:off x="6283080" y="534816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5712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3"/>
          <p:cNvSpPr/>
          <p:nvPr/>
        </p:nvSpPr>
        <p:spPr>
          <a:xfrm>
            <a:off x="6095880" y="5257800"/>
            <a:ext cx="2057400" cy="762120"/>
          </a:xfrm>
          <a:prstGeom prst="rect">
            <a:avLst/>
          </a:pr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44"/>
          <p:cNvSpPr/>
          <p:nvPr/>
        </p:nvSpPr>
        <p:spPr>
          <a:xfrm flipV="1">
            <a:off x="2133720" y="51055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45"/>
          <p:cNvSpPr/>
          <p:nvPr/>
        </p:nvSpPr>
        <p:spPr>
          <a:xfrm flipV="1">
            <a:off x="4038480" y="571464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0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21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5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8500"/>
                            </p:stCondLst>
                            <p:childTnLst>
                              <p:par>
                                <p:cTn id="10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95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8" name="Object 4"/>
          <p:cNvGraphicFramePr/>
          <p:nvPr/>
        </p:nvGraphicFramePr>
        <p:xfrm>
          <a:off x="0" y="-2844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844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Rectangle 25"/>
          <p:cNvSpPr/>
          <p:nvPr/>
        </p:nvSpPr>
        <p:spPr>
          <a:xfrm>
            <a:off x="533520" y="1523880"/>
            <a:ext cx="8305560" cy="4876920"/>
          </a:xfrm>
          <a:prstGeom prst="rect">
            <a:avLst/>
          </a:prstGeom>
          <a:solidFill>
            <a:srgbClr val="6699ff">
              <a:alpha val="67000"/>
            </a:srgbClr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380880" y="380880"/>
            <a:ext cx="8229600" cy="914400"/>
          </a:xfrm>
          <a:prstGeom prst="rect">
            <a:avLst/>
          </a:prstGeom>
          <a:solidFill>
            <a:srgbClr val="00cc66">
              <a:alpha val="55000"/>
            </a:srgbClr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Practice Conversion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1752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press a mass of 5.712 grams in kilo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762120" y="30481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quantity given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× conversion factor =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quantity sou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4"/>
          <p:cNvGrpSpPr/>
          <p:nvPr/>
        </p:nvGrpSpPr>
        <p:grpSpPr>
          <a:xfrm>
            <a:off x="762120" y="4648320"/>
            <a:ext cx="4495680" cy="1676160"/>
            <a:chOff x="762120" y="4648320"/>
            <a:chExt cx="4495680" cy="1676160"/>
          </a:xfrm>
        </p:grpSpPr>
        <p:sp>
          <p:nvSpPr>
            <p:cNvPr id="446" name="Line 15"/>
            <p:cNvSpPr/>
            <p:nvPr/>
          </p:nvSpPr>
          <p:spPr>
            <a:xfrm>
              <a:off x="762120" y="5486040"/>
              <a:ext cx="4495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6"/>
            <p:cNvSpPr/>
            <p:nvPr/>
          </p:nvSpPr>
          <p:spPr>
            <a:xfrm>
              <a:off x="2819160" y="4648320"/>
              <a:ext cx="0" cy="167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 Box 17"/>
          <p:cNvSpPr/>
          <p:nvPr/>
        </p:nvSpPr>
        <p:spPr>
          <a:xfrm>
            <a:off x="1105560" y="486576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5.712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8"/>
          <p:cNvSpPr/>
          <p:nvPr/>
        </p:nvSpPr>
        <p:spPr>
          <a:xfrm>
            <a:off x="3729240" y="4865760"/>
            <a:ext cx="7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9"/>
          <p:cNvSpPr/>
          <p:nvPr/>
        </p:nvSpPr>
        <p:spPr>
          <a:xfrm>
            <a:off x="3640680" y="562752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00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0"/>
          <p:cNvSpPr/>
          <p:nvPr/>
        </p:nvSpPr>
        <p:spPr>
          <a:xfrm>
            <a:off x="5487480" y="501336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1"/>
          <p:cNvSpPr/>
          <p:nvPr/>
        </p:nvSpPr>
        <p:spPr>
          <a:xfrm>
            <a:off x="6256080" y="5094360"/>
            <a:ext cx="181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0.005712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2"/>
          <p:cNvSpPr/>
          <p:nvPr/>
        </p:nvSpPr>
        <p:spPr>
          <a:xfrm>
            <a:off x="5867280" y="4952880"/>
            <a:ext cx="2667240" cy="762120"/>
          </a:xfrm>
          <a:prstGeom prst="rect">
            <a:avLst/>
          </a:pr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3"/>
          <p:cNvSpPr/>
          <p:nvPr/>
        </p:nvSpPr>
        <p:spPr>
          <a:xfrm flipV="1">
            <a:off x="1905120" y="502884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4"/>
          <p:cNvSpPr/>
          <p:nvPr/>
        </p:nvSpPr>
        <p:spPr>
          <a:xfrm flipV="1">
            <a:off x="4267080" y="58669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0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4" dur="3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6400"/>
                            </p:stCondLst>
                            <p:childTnLst>
                              <p:par>
                                <p:cTn id="111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7400"/>
                            </p:stCondLst>
                            <p:childTnLst>
                              <p:par>
                                <p:cTn id="1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7900"/>
                            </p:stCondLst>
                            <p:childTnLst>
                              <p:par>
                                <p:cTn id="1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8400"/>
                            </p:stCondLst>
                            <p:childTnLst>
                              <p:par>
                                <p:cTn id="1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8900"/>
                            </p:stCondLst>
                            <p:childTnLst>
                              <p:par>
                                <p:cTn id="1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9400"/>
                            </p:stCondLst>
                            <p:childTnLst>
                              <p:par>
                                <p:cTn id="1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9900"/>
                            </p:stCondLst>
                            <p:childTnLst>
                              <p:par>
                                <p:cTn id="1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400"/>
                            </p:stCondLst>
                            <p:childTnLst>
                              <p:par>
                                <p:cTn id="1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0900"/>
                            </p:stCondLst>
                            <p:childTnLst>
                              <p:par>
                                <p:cTn id="1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1400"/>
                            </p:stCondLst>
                            <p:childTnLst>
                              <p:par>
                                <p:cTn id="1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1900"/>
                            </p:stCondLst>
                            <p:childTnLst>
                              <p:par>
                                <p:cTn id="1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124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5"/>
          <p:cNvSpPr/>
          <p:nvPr/>
        </p:nvSpPr>
        <p:spPr>
          <a:xfrm>
            <a:off x="0" y="2657520"/>
            <a:ext cx="914400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Object 4"/>
          <p:cNvGraphicFramePr/>
          <p:nvPr/>
        </p:nvGraphicFramePr>
        <p:xfrm>
          <a:off x="0" y="-85680"/>
          <a:ext cx="9144000" cy="6946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85680"/>
                    <a:ext cx="9144000" cy="694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Rectangle 6"/>
          <p:cNvSpPr/>
          <p:nvPr/>
        </p:nvSpPr>
        <p:spPr>
          <a:xfrm>
            <a:off x="533520" y="152280"/>
            <a:ext cx="7924680" cy="6400800"/>
          </a:xfrm>
          <a:prstGeom prst="rect">
            <a:avLst/>
          </a:prstGeom>
          <a:solidFill>
            <a:srgbClr val="3366ff"/>
          </a:solidFill>
          <a:ln w="414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914400" y="228600"/>
            <a:ext cx="739152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et’s do the following metric conversions using unit cancel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0 grams = ___ kil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00 centimeters = ____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0 liters = ____ milli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000 milligrams = ____ kil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meters = ____ deci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5 kilograms = ____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 decimeters = ____ centi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7" dur="3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4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5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Object 4"/>
          <p:cNvGraphicFramePr/>
          <p:nvPr/>
        </p:nvGraphicFramePr>
        <p:xfrm>
          <a:off x="0" y="0"/>
          <a:ext cx="9144000" cy="6886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Rectangle 6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solidFill>
            <a:srgbClr val="1f497d">
              <a:alpha val="60000"/>
            </a:srgbClr>
          </a:solidFill>
          <a:ln w="414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533520" y="457200"/>
            <a:ext cx="8001000" cy="60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 Narrow"/>
              </a:rPr>
              <a:t>Pause for a Cause 2 Now Its your tur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1. 1500 centigrams = ___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2. 6.00 milliliters = ____ 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3. 700 meters = ____ kilo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4. 750 milligrams = ____ centi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5. 250 meters = ____ deci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6. 0.25 kilograms = ____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7. 0.75 decimeters = ____ milli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8. 47 grams = ____ centi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9. 2.5 meters = ____ milli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10. 500 deciliters = ____ 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11. 250 kilograms = ____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12. 3500 centigrams = ____ kil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5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8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2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more den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725400" y="11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the object that you think has the highest density and write one sentence explaining your answ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AutoShape 2"/>
          <p:cNvSpPr/>
          <p:nvPr/>
        </p:nvSpPr>
        <p:spPr>
          <a:xfrm>
            <a:off x="135000" y="-84312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135000" y="-84312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5" descr=""/>
          <p:cNvPicPr/>
          <p:nvPr/>
        </p:nvPicPr>
        <p:blipFill>
          <a:blip r:embed="rId1"/>
          <a:stretch/>
        </p:blipFill>
        <p:spPr>
          <a:xfrm>
            <a:off x="457200" y="2766960"/>
            <a:ext cx="4338720" cy="28875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http://t0.gstatic.com/images?q=tbn:ANd9GcTUl2YAfNIh5i7gMccLrinYbuLwGWNLJl3GNBhrNMrLzSV3QnjyVA"/>
          <p:cNvPicPr/>
          <p:nvPr/>
        </p:nvPicPr>
        <p:blipFill>
          <a:blip r:embed="rId2"/>
          <a:stretch/>
        </p:blipFill>
        <p:spPr>
          <a:xfrm>
            <a:off x="3749760" y="45608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9" descr="http://t2.gstatic.com/images?q=tbn:ANd9GcQLE7ewkv8c6UeyT5SCxD-HKeyP4n23aofh3lhIiIIAghYxSCiy"/>
          <p:cNvPicPr/>
          <p:nvPr/>
        </p:nvPicPr>
        <p:blipFill>
          <a:blip r:embed="rId3"/>
          <a:stretch/>
        </p:blipFill>
        <p:spPr>
          <a:xfrm>
            <a:off x="5815080" y="2427120"/>
            <a:ext cx="2469960" cy="3565800"/>
          </a:xfrm>
          <a:prstGeom prst="rect">
            <a:avLst/>
          </a:prstGeom>
          <a:ln w="0">
            <a:noFill/>
          </a:ln>
        </p:spPr>
      </p:pic>
      <p:sp>
        <p:nvSpPr>
          <p:cNvPr id="473" name="TextBox 8"/>
          <p:cNvSpPr/>
          <p:nvPr/>
        </p:nvSpPr>
        <p:spPr>
          <a:xfrm>
            <a:off x="725400" y="565452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rofoam c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9"/>
          <p:cNvSpPr/>
          <p:nvPr/>
        </p:nvSpPr>
        <p:spPr>
          <a:xfrm>
            <a:off x="4156200" y="640872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0"/>
          <p:cNvSpPr/>
          <p:nvPr/>
        </p:nvSpPr>
        <p:spPr>
          <a:xfrm>
            <a:off x="7093080" y="602460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o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1447920"/>
          </a:xfrm>
          <a:prstGeom prst="rect">
            <a:avLst/>
          </a:prstGeom>
          <a:solidFill>
            <a:srgbClr val="004182"/>
          </a:solidFill>
          <a:ln w="54000">
            <a:solidFill>
              <a:srgbClr val="eeece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Reading the Thermomet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4952520"/>
            <a:ext cx="8458200" cy="1676520"/>
          </a:xfrm>
          <a:prstGeom prst="rect">
            <a:avLst/>
          </a:prstGeom>
          <a:solidFill>
            <a:srgbClr val="000000"/>
          </a:solidFill>
          <a:ln w="442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5" descr="thermometer1"/>
          <p:cNvPicPr/>
          <p:nvPr/>
        </p:nvPicPr>
        <p:blipFill>
          <a:blip r:embed="rId1"/>
          <a:stretch/>
        </p:blipFill>
        <p:spPr>
          <a:xfrm>
            <a:off x="330120" y="175248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thermometer2"/>
          <p:cNvPicPr/>
          <p:nvPr/>
        </p:nvPicPr>
        <p:blipFill>
          <a:blip r:embed="rId2"/>
          <a:stretch/>
        </p:blipFill>
        <p:spPr>
          <a:xfrm>
            <a:off x="4749840" y="175248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7"/>
          <p:cNvSpPr/>
          <p:nvPr/>
        </p:nvSpPr>
        <p:spPr>
          <a:xfrm>
            <a:off x="711360" y="777960"/>
            <a:ext cx="771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etermine the readings as shown below on Celsius thermom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1371600" y="5584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_ _ . _ 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095880" y="5584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_ _ . _ 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137268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170280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213480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608616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640188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6935400" y="5540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3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Deriv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I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2193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duced by multiplying or dividing standard 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94720" y="3048120"/>
            <a:ext cx="30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a = (Length)(Wid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4724280" y="3505320"/>
            <a:ext cx="3276720" cy="1752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7"/>
          <p:cNvSpPr/>
          <p:nvPr/>
        </p:nvSpPr>
        <p:spPr>
          <a:xfrm>
            <a:off x="4038480" y="3505320"/>
            <a:ext cx="381240" cy="1752480"/>
          </a:xfrm>
          <a:custGeom>
            <a:avLst/>
            <a:gdLst>
              <a:gd name="textAreaLeft" fmla="*/ 243720 w 381240"/>
              <a:gd name="textAreaRight" fmla="*/ 381600 w 3812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"/>
          <p:cNvSpPr/>
          <p:nvPr/>
        </p:nvSpPr>
        <p:spPr>
          <a:xfrm rot="16200000">
            <a:off x="3816000" y="4110480"/>
            <a:ext cx="12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9"/>
          <p:cNvSpPr/>
          <p:nvPr/>
        </p:nvSpPr>
        <p:spPr>
          <a:xfrm>
            <a:off x="5716440" y="297180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0"/>
          <p:cNvSpPr/>
          <p:nvPr/>
        </p:nvSpPr>
        <p:spPr>
          <a:xfrm rot="16200000">
            <a:off x="6095880" y="1371600"/>
            <a:ext cx="533520" cy="3276720"/>
          </a:xfrm>
          <a:custGeom>
            <a:avLst/>
            <a:gdLst>
              <a:gd name="textAreaLeft" fmla="*/ 0 w 533520"/>
              <a:gd name="textAreaRight" fmla="*/ 192600 w 5335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5895720" y="207324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2"/>
          <p:cNvSpPr/>
          <p:nvPr/>
        </p:nvSpPr>
        <p:spPr>
          <a:xfrm>
            <a:off x="2821320" y="4114800"/>
            <a:ext cx="10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3"/>
          <p:cNvSpPr/>
          <p:nvPr/>
        </p:nvSpPr>
        <p:spPr>
          <a:xfrm>
            <a:off x="1877040" y="5638680"/>
            <a:ext cx="113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a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3385800" y="563868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2.5 m)(5 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5835600" y="563868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= 12.5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4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5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0" name="Object 4"/>
          <p:cNvGraphicFramePr/>
          <p:nvPr/>
        </p:nvGraphicFramePr>
        <p:xfrm>
          <a:off x="0" y="0"/>
          <a:ext cx="9144000" cy="6886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2" name="Picture 6" descr="example"/>
          <p:cNvPicPr/>
          <p:nvPr/>
        </p:nvPicPr>
        <p:blipFill>
          <a:blip r:embed="rId3"/>
          <a:stretch/>
        </p:blipFill>
        <p:spPr>
          <a:xfrm>
            <a:off x="228600" y="1600200"/>
            <a:ext cx="4572000" cy="464832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does density describ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876920" y="137124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 Narrow"/>
              </a:rPr>
              <a:t>Density describes how tightly particles are packed within a sample of matter.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0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after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tio of mass to volume, or mass divided by volu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 Box 4"/>
          <p:cNvSpPr/>
          <p:nvPr/>
        </p:nvSpPr>
        <p:spPr>
          <a:xfrm>
            <a:off x="1212480" y="2971800"/>
            <a:ext cx="19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ns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3400200" y="272268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3225240" y="3352680"/>
            <a:ext cx="15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7"/>
          <p:cNvSpPr/>
          <p:nvPr/>
        </p:nvSpPr>
        <p:spPr>
          <a:xfrm>
            <a:off x="3200400" y="33526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8"/>
          <p:cNvSpPr/>
          <p:nvPr/>
        </p:nvSpPr>
        <p:spPr>
          <a:xfrm>
            <a:off x="6149520" y="3048120"/>
            <a:ext cx="8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9"/>
          <p:cNvSpPr/>
          <p:nvPr/>
        </p:nvSpPr>
        <p:spPr>
          <a:xfrm>
            <a:off x="7159680" y="27432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0"/>
          <p:cNvSpPr/>
          <p:nvPr/>
        </p:nvSpPr>
        <p:spPr>
          <a:xfrm>
            <a:off x="7259400" y="335268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1"/>
          <p:cNvSpPr/>
          <p:nvPr/>
        </p:nvSpPr>
        <p:spPr>
          <a:xfrm>
            <a:off x="7086600" y="3352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easure of how closely matter is packed into a volu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que for each compou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ty of water is 1.00 g/mL at 25˚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temperature decreases the density, so densities are given with temperatu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tensive proper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tances that are less dense float in substances more den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6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967680" y="5257800"/>
            <a:ext cx="8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1977840" y="495288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2067120" y="5486400"/>
            <a:ext cx="3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1905120" y="55627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487440" y="1444680"/>
            <a:ext cx="827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ample of aluminum metal has a mass of 8.4 g. The volume of the sample is 3.1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Calculate the density of alumin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3634920" y="3352680"/>
            <a:ext cx="8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0"/>
          <p:cNvSpPr/>
          <p:nvPr/>
        </p:nvSpPr>
        <p:spPr>
          <a:xfrm>
            <a:off x="4786560" y="3124080"/>
            <a:ext cx="8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.4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1"/>
          <p:cNvSpPr/>
          <p:nvPr/>
        </p:nvSpPr>
        <p:spPr>
          <a:xfrm>
            <a:off x="4724280" y="3657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629240" y="373392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1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3"/>
          <p:cNvSpPr/>
          <p:nvPr/>
        </p:nvSpPr>
        <p:spPr>
          <a:xfrm>
            <a:off x="5867280" y="3352680"/>
            <a:ext cx="990720" cy="228600"/>
          </a:xfrm>
          <a:prstGeom prst="left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4"/>
          <p:cNvSpPr/>
          <p:nvPr/>
        </p:nvSpPr>
        <p:spPr>
          <a:xfrm>
            <a:off x="5867280" y="3886200"/>
            <a:ext cx="990720" cy="228600"/>
          </a:xfrm>
          <a:prstGeom prst="left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7162920" y="3124080"/>
            <a:ext cx="115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n’t forget uni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3621960" y="4724280"/>
            <a:ext cx="7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7"/>
          <p:cNvSpPr/>
          <p:nvPr/>
        </p:nvSpPr>
        <p:spPr>
          <a:xfrm>
            <a:off x="5334120" y="525780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8"/>
          <p:cNvSpPr/>
          <p:nvPr/>
        </p:nvSpPr>
        <p:spPr>
          <a:xfrm>
            <a:off x="3878280" y="5940360"/>
            <a:ext cx="30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forget unit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9"/>
          <p:cNvSpPr/>
          <p:nvPr/>
        </p:nvSpPr>
        <p:spPr>
          <a:xfrm>
            <a:off x="3429000" y="4648320"/>
            <a:ext cx="2971800" cy="761760"/>
          </a:xfrm>
          <a:prstGeom prst="rect">
            <a:avLst/>
          </a:pr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0"/>
          <p:cNvSpPr/>
          <p:nvPr/>
        </p:nvSpPr>
        <p:spPr>
          <a:xfrm>
            <a:off x="380880" y="3170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1"/>
          <p:cNvSpPr/>
          <p:nvPr/>
        </p:nvSpPr>
        <p:spPr>
          <a:xfrm>
            <a:off x="412200" y="4114800"/>
            <a:ext cx="14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know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22"/>
          <p:cNvSpPr/>
          <p:nvPr/>
        </p:nvSpPr>
        <p:spPr>
          <a:xfrm>
            <a:off x="6477120" y="4876920"/>
            <a:ext cx="990360" cy="228600"/>
          </a:xfrm>
          <a:prstGeom prst="leftArrow">
            <a:avLst>
              <a:gd name="adj1" fmla="val 50000"/>
              <a:gd name="adj2" fmla="val 1083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3"/>
          <p:cNvSpPr/>
          <p:nvPr/>
        </p:nvSpPr>
        <p:spPr>
          <a:xfrm>
            <a:off x="7238880" y="4648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ox ans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4"/>
          <p:cNvSpPr/>
          <p:nvPr/>
        </p:nvSpPr>
        <p:spPr>
          <a:xfrm>
            <a:off x="1508040" y="3170160"/>
            <a:ext cx="7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5"/>
          <p:cNvSpPr/>
          <p:nvPr/>
        </p:nvSpPr>
        <p:spPr>
          <a:xfrm>
            <a:off x="2309040" y="31240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.4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6"/>
          <p:cNvSpPr/>
          <p:nvPr/>
        </p:nvSpPr>
        <p:spPr>
          <a:xfrm>
            <a:off x="15238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7"/>
          <p:cNvSpPr/>
          <p:nvPr/>
        </p:nvSpPr>
        <p:spPr>
          <a:xfrm>
            <a:off x="2249640" y="3505320"/>
            <a:ext cx="11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1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8"/>
          <p:cNvSpPr/>
          <p:nvPr/>
        </p:nvSpPr>
        <p:spPr>
          <a:xfrm>
            <a:off x="2092680" y="4114800"/>
            <a:ext cx="8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 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9"/>
          <p:cNvSpPr/>
          <p:nvPr/>
        </p:nvSpPr>
        <p:spPr>
          <a:xfrm>
            <a:off x="514440" y="461808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0"/>
          <p:cNvSpPr/>
          <p:nvPr/>
        </p:nvSpPr>
        <p:spPr>
          <a:xfrm>
            <a:off x="4315680" y="4724280"/>
            <a:ext cx="75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.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1"/>
          <p:cNvSpPr/>
          <p:nvPr/>
        </p:nvSpPr>
        <p:spPr>
          <a:xfrm>
            <a:off x="5114520" y="4724280"/>
            <a:ext cx="12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g/cm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32"/>
          <p:cNvSpPr/>
          <p:nvPr/>
        </p:nvSpPr>
        <p:spPr>
          <a:xfrm>
            <a:off x="6934320" y="19051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3"/>
          <p:cNvSpPr/>
          <p:nvPr/>
        </p:nvSpPr>
        <p:spPr>
          <a:xfrm>
            <a:off x="4191120" y="236232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34"/>
          <p:cNvSpPr/>
          <p:nvPr/>
        </p:nvSpPr>
        <p:spPr>
          <a:xfrm>
            <a:off x="7391520" y="236232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2" dur="indefinite" restart="never" nodeType="tmRoot">
          <p:childTnLst>
            <p:seq>
              <p:cTn id="1353" dur="indefinite" nodeType="mainSeq">
                <p:childTnLst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tr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unknown liquid is discovered at a crime scene. A volume of 2.3 mL has a mass of 4.1 grams, what the liquid’s dens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 Box 8"/>
          <p:cNvSpPr/>
          <p:nvPr/>
        </p:nvSpPr>
        <p:spPr>
          <a:xfrm>
            <a:off x="487440" y="1444680"/>
            <a:ext cx="827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mond has a density of 3.26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What is the mass of a diamond that has a volume of 0.350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32"/>
          <p:cNvSpPr/>
          <p:nvPr/>
        </p:nvSpPr>
        <p:spPr>
          <a:xfrm>
            <a:off x="7772400" y="19051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33"/>
          <p:cNvSpPr/>
          <p:nvPr/>
        </p:nvSpPr>
        <p:spPr>
          <a:xfrm>
            <a:off x="6445080" y="236232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34"/>
          <p:cNvSpPr/>
          <p:nvPr/>
        </p:nvSpPr>
        <p:spPr>
          <a:xfrm>
            <a:off x="4572000" y="190512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4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ample of metal is found to have a mass of 4.56 g and a density of 1.98 g/mL. What is the volume of this met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Problem (No calculator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ypical battery in a car is filled with a solution of sulfuric acid, which is approximately 39.9% sulfuric acid.  If the density of this solution is 1.3 g/mL, determine the number of grams of acid present in 500.0 mL of battery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6138360" y="1600200"/>
            <a:ext cx="283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volume of 5 grams of this substan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approximate density of the substan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2"/>
          <a:stretch/>
        </p:blipFill>
        <p:spPr>
          <a:xfrm>
            <a:off x="0" y="669960"/>
            <a:ext cx="613872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s…which ones are important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13/7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it 1.8571428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…is it 1.86? Or 1.9? Or 2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 we rou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verting Temper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5009760" y="1270080"/>
            <a:ext cx="390204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= 5/9 (F-3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 = C + 27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3" descr=""/>
          <p:cNvPicPr/>
          <p:nvPr/>
        </p:nvPicPr>
        <p:blipFill>
          <a:blip r:embed="rId1"/>
          <a:stretch/>
        </p:blipFill>
        <p:spPr>
          <a:xfrm>
            <a:off x="0" y="1270080"/>
            <a:ext cx="4784760" cy="52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Tr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t the following tempera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93 K to Cels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om temperature to Cels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body temperature to Kelv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WordArt 6"/>
          <p:cNvSpPr txBox="1"/>
          <p:nvPr/>
        </p:nvSpPr>
        <p:spPr>
          <a:xfrm>
            <a:off x="1600200" y="1143000"/>
            <a:ext cx="72388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Dimension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561" name="WordArt 7"/>
          <p:cNvSpPr txBox="1"/>
          <p:nvPr/>
        </p:nvSpPr>
        <p:spPr>
          <a:xfrm>
            <a:off x="1752480" y="3886200"/>
            <a:ext cx="60962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Analys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6" dur="77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7" dur="770" fill="hold"/>
                                        <p:tgtEl>
                                          <p:spTgt spid="5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9" dur="77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1" dur="77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77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7" dur="770" fill="hold"/>
                                        <p:tgtEl>
                                          <p:spTgt spid="5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9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1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-228600" y="-228600"/>
            <a:ext cx="9601200" cy="731520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80880" y="103680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870120" y="633240"/>
            <a:ext cx="901512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How many seconds are there in exactly 1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1295280" y="1676520"/>
            <a:ext cx="6553440" cy="4343400"/>
          </a:xfrm>
          <a:prstGeom prst="rect">
            <a:avLst/>
          </a:prstGeom>
          <a:solidFill>
            <a:srgbClr val="00ff00"/>
          </a:solidFill>
          <a:ln w="414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0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39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s to complete these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1: Read the problem CAREFU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2: Determine the unit for the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3: Write down all values given in the problem and retrieve any needed conversion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4: Set up the problem (watch carefully as teacher does this ste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5: Calculate—Multiply by numbers on the top and divide by those on the bott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 txBox="1"/>
          <p:nvPr/>
        </p:nvSpPr>
        <p:spPr>
          <a:xfrm>
            <a:off x="1453680" y="1773000"/>
            <a:ext cx="67057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cord long jump is 349.5 inches. Convert this to meters. There are 2.54 cm in an in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fill="hold">
                      <p:stCondLst>
                        <p:cond delay="0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2" dur="3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1245960" y="1898280"/>
            <a:ext cx="683100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ar is traveling 55.0 miles per hour. Convert this to meters per second. One mile is equal to 1.61 k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0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9" dur="3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3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649520" y="1417320"/>
            <a:ext cx="5997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any mg are there is a 5.00 grain aspirin tabl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grain = 0.00229 o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454 grams/lb. There are 16 oz./l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fill="hold">
                      <p:stCondLst>
                        <p:cond delay="0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4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344240" y="1634760"/>
            <a:ext cx="663588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24 km/h to m/s (write out all steps before using calculato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0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3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#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49652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980, the US produced 18.4 billion (18.4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pounds of phosphoric acid to be used in the manufacture of fertilizer. The average cost of the acid is $318/ton. (1 ton = 2000 lbs). What was the total value of the phosphoric acid produc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0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0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ificant Dig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768240" y="1417680"/>
            <a:ext cx="76075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1. Light travels at a speed of 300,000 km/sec. What distance in centimeters does light travel in a yea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2. A landfill can hold 4.8 X108 m</a:t>
            </a:r>
            <a:r>
              <a:rPr b="1" lang="en-US" sz="2000" spc="-1" strike="noStrike" baseline="30000">
                <a:solidFill>
                  <a:srgbClr val="898989"/>
                </a:solidFill>
                <a:latin typeface="Arial Narrow"/>
              </a:rPr>
              <a:t>3</a:t>
            </a: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 of trash. If 250 000 000 objects averaging 0.060 m</a:t>
            </a:r>
            <a:r>
              <a:rPr b="1" lang="en-US" sz="2000" spc="-1" strike="noStrike" baseline="30000">
                <a:solidFill>
                  <a:srgbClr val="898989"/>
                </a:solidFill>
                <a:latin typeface="Arial Narrow"/>
              </a:rPr>
              <a:t>3 </a:t>
            </a: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each are placed in the landfill each year, how many years will it take to fill the landfill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3. A baker uses 1.5 tsp. of vanilla extract in each cake. How much vanilla in liters should the baker order to make 800 cakes? (1 tsp. = 5 m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4. A person drinks 8 glasses of water each day, and each glass contains 300 mL. How many liters of water will that person consume in one yea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 Narrow"/>
              </a:rPr>
              <a:t>5. What is the speed of a car in m/sec when it is moving 100. km/h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ause for a Caus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udent Practice on Dimensional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1" dur="indefinite" restart="never" nodeType="tmRoot">
          <p:childTnLst>
            <p:seq>
              <p:cTn id="1592" dur="indefinite" nodeType="mainSeq">
                <p:childTnLst>
                  <p:par>
                    <p:cTn id="1593" fill="hold">
                      <p:stCondLst>
                        <p:cond delay="0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7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9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1" dur="1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4550"/>
                            </p:stCondLst>
                            <p:childTnLst>
                              <p:par>
                                <p:cTn id="1606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8" dur="10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9840"/>
                            </p:stCondLst>
                            <p:childTnLst>
                              <p:par>
                                <p:cTn id="1613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5" dur="10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14200"/>
                            </p:stCondLst>
                            <p:childTnLst>
                              <p:par>
                                <p:cTn id="1620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10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18620"/>
                            </p:stCondLst>
                            <p:childTnLst>
                              <p:par>
                                <p:cTn id="1627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9" dur="10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8"/>
          <p:cNvSpPr/>
          <p:nvPr/>
        </p:nvSpPr>
        <p:spPr>
          <a:xfrm>
            <a:off x="306360" y="9144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Counting Significant Figures -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1068480" y="3122640"/>
            <a:ext cx="77706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1373040" y="5119560"/>
            <a:ext cx="667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306360" y="2362320"/>
            <a:ext cx="78487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xact numbers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an infinite number of significant fig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0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w many beakers are on the shel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0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ctly 5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685800" y="99072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Counting Significant Figures -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1889280" y="3198960"/>
            <a:ext cx="64418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2666880" y="5043600"/>
            <a:ext cx="2368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5013360" y="5043600"/>
            <a:ext cx="25718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609480" y="2209680"/>
            <a:ext cx="78487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Nonzero integer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 count as significant fig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0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456</a:t>
            </a: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g fi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"/>
          <p:cNvSpPr/>
          <p:nvPr/>
        </p:nvSpPr>
        <p:spPr>
          <a:xfrm>
            <a:off x="647640" y="76212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les for Counting Significant Figures -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1851120" y="2666880"/>
            <a:ext cx="122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851120" y="3427560"/>
            <a:ext cx="6145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2689200" y="5272200"/>
            <a:ext cx="2825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5508720" y="5272200"/>
            <a:ext cx="241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647640" y="2057400"/>
            <a:ext cx="7848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65200" indent="-565200">
              <a:buClr>
                <a:srgbClr val="ffff00"/>
              </a:buClr>
              <a:buFont typeface="Arial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Ze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200" spc="-1" strike="noStrike">
                <a:solidFill>
                  <a:srgbClr val="00ff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ading zero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o not count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285840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ificant figur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4501"/>
              </a:spcBef>
              <a:buClr>
                <a:srgbClr val="800080"/>
              </a:buClr>
              <a:buFont typeface="Arial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0.0486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h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 algn="ctr">
              <a:spcBef>
                <a:spcPts val="90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ig fi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6T16:38:20Z</dcterms:created>
  <dc:creator>Sybil Sexton</dc:creator>
  <dc:description/>
  <dc:language>en-US</dc:language>
  <cp:lastModifiedBy>ssexton</cp:lastModifiedBy>
  <dcterms:modified xsi:type="dcterms:W3CDTF">2012-08-28T20:33:53Z</dcterms:modified>
  <cp:revision>109</cp:revision>
  <dc:subject/>
  <dc:title>Math and Measurement</dc:title>
</cp:coreProperties>
</file>