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  <p:sldId id="331" r:id="rId88"/>
    <p:sldId id="332" r:id="rId89"/>
    <p:sldId id="333" r:id="rId90"/>
    <p:sldId id="334" r:id="rId91"/>
    <p:sldId id="335" r:id="rId9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slide" Target="slides/slide76.xml"/><Relationship Id="rId89" Type="http://schemas.openxmlformats.org/officeDocument/2006/relationships/slide" Target="slides/slide77.xml"/><Relationship Id="rId90" Type="http://schemas.openxmlformats.org/officeDocument/2006/relationships/slide" Target="slides/slide78.xml"/><Relationship Id="rId91" Type="http://schemas.openxmlformats.org/officeDocument/2006/relationships/slide" Target="slides/slide79.xml"/><Relationship Id="rId92" Type="http://schemas.openxmlformats.org/officeDocument/2006/relationships/slide" Target="slides/slide80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move the slide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phase, all other things being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he size of the molecule because of the number of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signs: + ∆ means entropy increasing, - ∆ means entropy decre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4, 5 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forming gases/more partic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4, 5 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e importance of forming gases/more partic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sk why line slopes up during temp 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e the length of line during phase changes - L&gt;G is greater than S&gt;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e slope of line during each phase? I am not sure why gas is steeper slo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#2 is not, and #3 is at equilibrium, below 80.1 it would be spontaneo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#2 is not, and #3 is at equilibrium, below 80.1 it would be spontaneo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J/2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(Using ∆G values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NEXT slide will review the concept of equilibr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J/2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(Using ∆G values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NEXT slide will review the concept of equilibr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</a:t>
            </a:r>
            <a:r>
              <a:rPr b="0" lang="en-US" sz="2200" spc="-1" strike="noStrike">
                <a:solidFill>
                  <a:srgbClr val="dd2067"/>
                </a:solidFill>
                <a:latin typeface="Lucida Grande"/>
                <a:ea typeface="Lucida Grande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/2mole (Watch out for uni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 (Using ∆G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 STOP and review ns.enthalpyoverview slide 5, 8, 9 &amp;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ollecting the answer have them input the ∆G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 = [2(90)+0] - 2(-53) = +74 kJ/2mole endother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 = [2(211)+223] - 2(264)] = +117 </a:t>
            </a:r>
            <a:r>
              <a:rPr b="0" lang="en-US" sz="2200" spc="-1" strike="noStrike">
                <a:solidFill>
                  <a:srgbClr val="dd2067"/>
                </a:solidFill>
                <a:latin typeface="Lucida Grande"/>
                <a:ea typeface="Lucida Grande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/2mole (Watch out for uni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74 - 298 (0.117) = +39 kJ/2mole, not spontaneous (Using ∆G = +41 kJ/2m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 is high enough, it will be greater than 74, making ∆G negative, at 623 K or 359ºC  STOP and review ns.enthalpyoverview slide 5, 8, 9 &amp;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4 since condensation is spontaneous, exothermic, decreasing entr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4 since condensation is spontaneous, exothermic, decreasing entr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1 since Rx proceeds ∆G must be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2 since at standard conditions K=1, as it proceeds K must increase with more products fo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&amp; 4 can not be determined since one of them could be unfav if the other is favo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1 since Rx proceeds ∆G must be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2 since at standard conditions K=1, as it proceeds K must increase with more products fo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&amp; 4 can not be determined since one of them could be unfav if the other is favo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∆G = -RTl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8.31J*300*ln(2.2x10</a:t>
            </a:r>
            <a:r>
              <a:rPr b="0" lang="en-US" sz="2200" spc="-1" strike="noStrike" baseline="32000">
                <a:solidFill>
                  <a:srgbClr val="000000"/>
                </a:solidFill>
                <a:latin typeface="Lucida Grande"/>
                <a:ea typeface="Lucida Grande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25 kJ/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∆G = -RTl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8.31J*300*ln(2.2x10</a:t>
            </a:r>
            <a:r>
              <a:rPr b="0" lang="en-US" sz="2200" spc="-1" strike="noStrike" baseline="32000">
                <a:solidFill>
                  <a:srgbClr val="000000"/>
                </a:solidFill>
                <a:latin typeface="Lucida Grande"/>
                <a:ea typeface="Lucida Grande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-25 kJ/m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it is spontaneous, ∆G must be &lt;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the solution cools ∆H must be +, unfa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∆S must be +, fav and larger than ∆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answer is #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it is spontaneous, ∆G must be &lt;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the solution cools ∆H must be +, unfa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∆S must be +, fav and larger than ∆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us answer is #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that at 298, ∆G is + since it is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from the reaction that ∆S is + since more gases are form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∆H - T∆S since ∆S is positive, T∆S can become larger than ∆H at high temps and make ∆G nega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∆H were negative the reaction would be spontaneous at all te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that at 298, ∆G is + since it is not spont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know from the reaction that ∆S is + since more gases are form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 = ∆H - T∆S since ∆S is positive, T∆S can become larger than ∆H at high temps and make ∆G nega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∆H were negative the reaction would be spontaneous at all te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∆H&lt;0 is negative which is losing entrop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oint out the pictures - solv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d formation of ice crystals and why ice floa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ach that ∆H&lt;0 is negative which is losing entrop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oint out the pictures - solv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d formation of ice crystals and why ice floa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ll apply, the condensation is spontaneou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nergy is given off, more ordered, reduces vo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ll apply, the condensation is spontaneou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nergy is given off, more ordered, reduces vo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has 3 N-H bonds 6(391) = 2346 energy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[N≣N] 941 + 3(436) [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] = 2249 energy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97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lculated using ∆H 2(-46) - 0 + 0 = -92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has 3 N-H bonds 6(391) = 2346 energy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[N≣N] 941 + 3(436) [NH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] = 2249 energy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97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lculated using ∆H 2(-46) - 0 + 0 = -92 k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not true because diatomic molecule can bend and stretch more w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5 is also not true, likely they would be close but not eq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ok up N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 192, O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238 and 2NO=420   430&gt;42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 3 not true because diatomic molecule can bend and stretch more w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#5 is also not true, likely they would be close but not eq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ok up N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 192, O</a:t>
            </a:r>
            <a:r>
              <a:rPr b="0" lang="en-US" sz="2200" spc="-1" strike="noStrike" baseline="-6000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=238 and 2NO=420   430&gt;42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E9F6-44A0-4A5B-A77B-DE671CB37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F5DB-CA43-40BB-A8CC-DB70F1F9084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D0EA-089F-4C97-B0C1-A7E8BD6D31F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B7672-1911-4490-A393-D5F1927397A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98FC0-A135-4AAC-AA7A-C0A2AAEED39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15C8C-00DD-465F-AE41-2D53E44FD48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BF9A3-37AE-447D-B2FC-15C461AC79D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10AA0-C00B-4E5D-8D3E-35D2A658D48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B9B7D-6759-4F2B-983E-7C2995A9638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8188C-885C-4B6A-A55D-F35250D082C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06E46-4F6B-4B0C-9378-34ADF32C28E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68D4B8-1F25-4434-942A-723C9A1C2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98DC-A1A8-4F7E-A6C6-86BAB0FFEAA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F360CB-E696-40ED-91D0-4E3F96251ED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F3C401-7404-461E-854D-DE1A6D6360D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6CE7AE-79AA-42BD-917B-4EBEA5145E1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2D8020-D79F-4D24-B973-1F6C4315A31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DD05CA-46C7-4CC8-A56D-A928A68A00A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06DD33-1F8C-48FC-98E3-2475886353F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717BC7-57E1-451C-AB48-9A1D7E57DA9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F743A5-82A5-4A50-93DF-7CBD0A5301F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8B5B43-8B2B-4E20-B179-EB201499C37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9203A9-A7DF-4E56-B375-FA3D33D44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0675-87F1-49E7-8AC7-02906A1AB25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22A9A4-3901-4E30-B2E6-99C0582F6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476F4-A320-407C-8FA4-EF0F603192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5405A-BB2B-4AC2-85AD-9EA7542C0E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8C913-AE04-4D34-B6D8-B601ECE866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A5DC8-96AA-436E-AFD3-3D97E0B898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C6D66-DF61-45CC-8315-6150B42A2D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87F09-F0EE-4E10-8473-719F179D44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38405-69C3-495D-B674-90E30F4EB2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3F5E-23A5-4C1E-BB45-84B1B82F5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427D2-8FA0-45A2-A33B-F92C726E36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B5A1F-D838-492B-A748-6F2146660A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46C0F-5516-4860-813F-F293EADFE0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575DC-6173-4C81-BF53-9904957588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49A45-A236-4395-A2D0-154F3B2555C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A67-2EAF-4401-81AC-2F9376F9AC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0BAB-0D0E-46FC-B892-37B97A8635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2C8-A65F-4CB3-B81E-8478B42859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BBC-D6DA-4993-B278-507EFCC368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C30-16EC-4B7A-BF25-0A6C6B49F3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1B96-F176-4BE6-AF35-ACAEEED7B7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0283-C9E4-43F6-96D4-82626B50B5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F2F-48C7-494C-8314-5FAB70CF45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0AC-5031-4F04-A76D-1EC796495C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F38-F621-4857-A37E-AA58B1CC80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91A-4BDF-441C-8869-3ED72A9D59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350-8803-4494-AD67-FA650B44B8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00D6-3BB5-441F-BB39-B94310B99C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3C4EC-D851-4530-90B2-C18E674A46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E3C4F-B2FE-4C2C-8EA6-579CE91EE9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7A2AC-22B4-4027-9486-0969A9D22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00A8A-CF34-4337-BBF9-BFE1D64739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C0243-ED10-435F-86B1-EB8A816F65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F9633-847A-420D-A418-946552EBC48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5C978-48BF-478B-A19C-82CC4271B66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F6A1C-36C3-4525-AC3F-2B23074426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C2E2B-AAA1-4E25-BEB8-47AC9D71F3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E155B-6898-47F7-885F-C8AF610C7E1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8DD1A-9062-40B0-A334-BAE2473EA1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25B6C-DA8E-4BEB-A38D-3DC837A840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48931-137C-4E3A-B36F-A4C76869AC7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E1C63-2623-481A-8BCF-6BE545C24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4D75-CDA3-4A7D-ABAB-0F503E59873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CEA8A-FF2C-42C5-AF23-95A90C023FB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BD0B7-7158-4DF8-9277-E30F6E479E1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167B7-D06D-41B6-9DFB-C9C1B70CC01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CC6EF-2DF3-4C56-A65A-3626C174FA1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4E6C6-0202-4979-932E-4EE8BC56FB8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D1493-965F-4E11-8AFD-6DA635C6275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1DAEF-8F62-46C0-AE1C-D341F16D0B5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675E0-C7B0-4B8F-82A0-F9508A3CDB1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6A535-DE91-4069-BB4E-EB7943EC310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E829C-2EEB-4F4A-BC30-C15AF82B3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292E-00AA-43D2-89DF-BAC0DD0D110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26BD2-47AA-4AFF-A0AD-37648DA27F2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2697-C9D6-4942-81CB-880FB5FFD4B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DB68-3B2B-47B5-B3E4-0839DD66419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0816-1938-458E-8C86-A82D0E424BA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F837-47F6-432C-8D28-6F676C4F05C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ABEE-2AAE-469C-BDB2-22EF86338E0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4047-E478-400E-92E8-DB072A2A32A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1420-8759-4491-A979-7BC6B64ED9D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535E-E9EF-4570-9AC0-4001B6C4F10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F0FC-10B3-46DF-BC31-962CA6791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3E1C-AC5D-45FE-ABAD-63D377B324E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E516-09B2-4D8F-91B3-80C0854FC18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347D-8C6C-45C0-8AA6-9FE4BC1D541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ED5C-CFE9-450E-829B-2D98941296A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3987B8-6B68-474D-B10C-25D674E007C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3B1AAF-C2D5-4622-82B7-4FFEE982FAC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169221-BED6-4DC2-8CFB-F6E8488D6E7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61C7E9-1375-4AFE-814E-0B312718660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EBBF36-984A-440F-99AD-FBC6D410E6B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BF0DC1-2206-413D-8559-B14182D6E14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B5102D-C52E-473E-90F7-FD2902980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A77B-B796-4879-91E8-40DBB731D12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123D56-7D05-4DD7-BCBC-F64175BAB53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A5DF7-3A64-48BD-8C49-EA5818A3FDB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FC6587-49FC-42B1-9C22-4A5459CDB89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A27DB3-B136-4AD9-B4C3-47EF9354554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B6F3A3-8888-4B1F-BEC4-B297CDC1B48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613E8-C405-4446-988B-EBCBD2F2C23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AFF40-0EC8-4AF0-A1F9-B381E806BAB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41E62-2B99-436E-9689-E809C87F09A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656C0-1072-41CC-ADC5-D693E16D697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928C6F-DAB2-460D-A0BE-91CAB51C8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BF1E-16F9-4B1B-9D42-2435ACD6D3F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202680" y="254160"/>
            <a:ext cx="12687480" cy="10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A225A-80FB-40CC-B054-3AFFA9EA9D2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A7615-976C-4D05-9C3F-F1E8845BD4E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8DAA8-625A-4AF2-BF5F-818CC5DFFA3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2112A-194E-48CF-9B54-C72B31F69FA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02680" y="6277320"/>
            <a:ext cx="126874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DF7F2-4B62-4AD8-A2A8-FD3A82C05E2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703920" y="262908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0268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703920" y="6277320"/>
            <a:ext cx="6191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1EEB1-8768-4021-A52F-AB4A129E876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49244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782560" y="262908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0268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49244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782560" y="6277320"/>
            <a:ext cx="4085280" cy="33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8CBC6-AE9D-4F31-B4CC-0E88D346DDC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65A09-CAF7-4E42-9BC9-590A2AD5661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B1702-9AE6-4CFE-8FC4-00090F4D3A6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D44F0-3BC2-46D6-BD67-56D13D3CB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5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lvl="6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11160" y="933408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4DF6-B79B-4C83-A410-530BB0BC262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0"/>
          </p:nvPr>
        </p:nvSpPr>
        <p:spPr>
          <a:xfrm>
            <a:off x="1254708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F24C-18FF-4BC5-BB79-4594461F94F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53304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89DE-2502-4320-A8ED-E4BA6FD1121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FC54-FEBC-4606-8380-7FB8ACE2A66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169B-1D22-4390-AA12-410C6D06E67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spcBef>
                <a:spcPts val="1001"/>
              </a:spcBef>
              <a:buClr>
                <a:srgbClr val="000000"/>
              </a:buClr>
              <a:buSzPct val="69000"/>
              <a:buFont typeface="Arial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57200"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253304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D8D8-D154-407F-BD96-2978B57DD29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02680" y="2629080"/>
            <a:ext cx="1268748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FFAC-3211-4F81-A482-E3A3B70313E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82680" y="253800"/>
            <a:ext cx="1160784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02680" y="2311560"/>
            <a:ext cx="1268748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EB2A-DC5B-4AEE-ADAF-B8142683AE6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D0A7-6E55-4817-BF9A-12176AFE1E5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202680" y="1638360"/>
            <a:ext cx="1268748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286000" indent="-4572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743200" indent="-457200">
              <a:spcBef>
                <a:spcPts val="1001"/>
              </a:spcBef>
              <a:buClr>
                <a:srgbClr val="000000"/>
              </a:buClr>
              <a:buSzPct val="80000"/>
              <a:buFont typeface="Zapf Dingbats"/>
              <a:buChar char="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12534480" y="92451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3A1B-0839-4BBB-8ABE-E53523FA106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4D6B-21F5-41D2-A84C-BFF356D815B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Thermodynamics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Entropy and Free Energy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3831-75DF-4064-BB4A-BC7EFD34BA0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1920" y="190440"/>
            <a:ext cx="1268748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Spontaneity and Kinetics and Reaction Direction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12648960" cy="697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is unrelated to the speed of a reaction - Kinetics tells us about the rate of a rea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me spontaneous processes may be extremely slow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has dir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f a reaction is spontaneous in one direction, it is NOT spontaneous in the other direct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8139648" presetSubtype="571834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5022-E65B-4790-A4C4-5B800EA89D4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4E52-3E4C-4703-91A0-0FE36AEEFFE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dd2067"/>
                </a:solidFill>
                <a:latin typeface="Arial"/>
              </a:rPr>
              <a:t>Solid (If all other things were similar)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not really enough information to determin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FE43-866C-422D-931A-B6C5D8356F5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 at room conditions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51920" y="2945880"/>
            <a:ext cx="12687480" cy="66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1 mole of gold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1 mole of mercury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7330-16BD-40D0-A8B0-069631CAAE1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least entropy at room conditions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2945880"/>
            <a:ext cx="12687480" cy="66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dd2067"/>
                </a:solidFill>
                <a:latin typeface="Arial"/>
              </a:rPr>
              <a:t>1 mole of gold, since it is solid, yet the mercury would be liquid at room temp.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1 mole of mercury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7749-8A33-44C5-960C-12E74431D8E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EEA0-4831-45CE-BBF9-D16A0506F95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51920" y="1472760"/>
            <a:ext cx="12687480" cy="81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N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 u="sng">
                <a:solidFill>
                  <a:srgbClr val="dd2067"/>
                </a:solidFill>
                <a:uFillTx/>
                <a:latin typeface="Arial"/>
              </a:rPr>
              <a:t>All else being the same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, larger molecules have higher entropy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E28F-943D-455D-89A1-0683B2711AE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00007d"/>
                </a:solidFill>
                <a:latin typeface="Arial"/>
              </a:rPr>
              <a:t>Which has the most entropy?</a:t>
            </a:r>
            <a:endParaRPr b="0" lang="en-US" sz="7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02680" y="6781320"/>
            <a:ext cx="12687480" cy="28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And can you name these three molecules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C4F5-8032-4211-9371-C117E2110A1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rcRect l="0" t="0" r="0" b="27440"/>
          <a:stretch/>
        </p:blipFill>
        <p:spPr>
          <a:xfrm>
            <a:off x="203040" y="2629080"/>
            <a:ext cx="12520800" cy="28317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5"/>
          <p:cNvSpPr/>
          <p:nvPr/>
        </p:nvSpPr>
        <p:spPr>
          <a:xfrm>
            <a:off x="1628280" y="56170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5757840" y="56170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10469520" y="56170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5883-9902-4352-9F91-1E649EDE6F4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00007d"/>
                </a:solidFill>
                <a:latin typeface="Arial"/>
              </a:rPr>
              <a:t>Which has the most entropy?</a:t>
            </a:r>
            <a:endParaRPr b="0" lang="en-US" sz="7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02680" y="2006280"/>
            <a:ext cx="12687480" cy="76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Propane is a larger an thus has more entropy than analogous molecules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4C95-39F1-489D-8FB3-A978FB99E65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4" descr=""/>
          <p:cNvPicPr/>
          <p:nvPr/>
        </p:nvPicPr>
        <p:blipFill>
          <a:blip r:embed="rId1"/>
          <a:srcRect l="0" t="0" r="0" b="7908"/>
          <a:stretch/>
        </p:blipFill>
        <p:spPr>
          <a:xfrm>
            <a:off x="241200" y="4013280"/>
            <a:ext cx="12520800" cy="3593880"/>
          </a:xfrm>
          <a:prstGeom prst="rect">
            <a:avLst/>
          </a:prstGeom>
          <a:ln w="0">
            <a:noFill/>
          </a:ln>
        </p:spPr>
      </p:pic>
      <p:sp>
        <p:nvSpPr>
          <p:cNvPr id="467" name="Oval 5"/>
          <p:cNvSpPr/>
          <p:nvPr/>
        </p:nvSpPr>
        <p:spPr>
          <a:xfrm>
            <a:off x="8255160" y="3759120"/>
            <a:ext cx="4597200" cy="4102200"/>
          </a:xfrm>
          <a:prstGeom prst="ellipse">
            <a:avLst/>
          </a:prstGeom>
          <a:noFill/>
          <a:ln w="63360">
            <a:solidFill>
              <a:srgbClr val="dd20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13D5-448D-443A-9C6B-959D04C6ADC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two moles of NO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one mole of N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7500" spc="-1" strike="noStrike" baseline="-6000">
                <a:solidFill>
                  <a:srgbClr val="000000"/>
                </a:solidFill>
                <a:latin typeface="Arial"/>
              </a:rPr>
              <a:t>4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4BC4-0B68-46E6-A15B-013C243A7C5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77840" y="25200"/>
            <a:ext cx="12687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Spontaneity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77480" y="1307880"/>
            <a:ext cx="12649320" cy="78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Every process has a preferred direction, which can be referred to as the spontaneous direction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A spontaneous process can be reversed only by some action or outside force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A process can be spontaneous, yet may not occur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50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ter behind a dam won’t flow until the gate is open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50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 mixture of CH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will remain until spark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pontaneous in thermodynamics does not have the same meaning as in everyday speec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8060672" presetSubtype="75646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B71D-1C3C-431D-AC07-940B83EDC4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1920" y="1929960"/>
            <a:ext cx="12687480" cy="76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d2067"/>
                </a:solidFill>
                <a:latin typeface="Arial"/>
              </a:rPr>
              <a:t>two moles of NO</a:t>
            </a:r>
            <a:r>
              <a:rPr b="0" lang="en-US" sz="72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371600" indent="0">
              <a:spcBef>
                <a:spcPts val="9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d2067"/>
                </a:solidFill>
                <a:latin typeface="Arial"/>
              </a:rPr>
              <a:t>since these molecules are not tied together with a bond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9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ne mole of N</a:t>
            </a:r>
            <a:r>
              <a:rPr b="0" lang="en-US" sz="7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7200" spc="-1" strike="noStrike" baseline="-6000">
                <a:solidFill>
                  <a:srgbClr val="00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9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9669-B708-4BB1-BB65-A8BECC4570A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51920" y="1841400"/>
            <a:ext cx="12687480" cy="77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He at 0ºC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He at 0 K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1 and 2 have the same entropy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F30A-9931-448B-91BE-9DD3210CFA2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51920" y="1472760"/>
            <a:ext cx="12687480" cy="81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e at 0ºC (This is 273 K…a higher temp=more entropy all else being the sam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e at 0 K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t enough information to determin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1 and 2 have the same entrop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D67C-F465-4F03-A8A1-F363621A6C4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1920" y="1841400"/>
            <a:ext cx="12687480" cy="77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10 ml of 1 M NaC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10 ml of 2 M NaCl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1 and 2 have the same entropy since they both represent the same molecule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5B56-EFD3-43E7-A538-7796C729464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7d"/>
                </a:solidFill>
                <a:latin typeface="Arial"/>
              </a:rPr>
              <a:t>Which has more entropy?</a:t>
            </a:r>
            <a:endParaRPr b="0" lang="en-US" sz="8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51920" y="1841400"/>
            <a:ext cx="12687480" cy="77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10 ml of 1 M NaCl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dd2067"/>
                </a:solidFill>
                <a:latin typeface="Arial"/>
              </a:rPr>
              <a:t>10 ml of 2 M NaCl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13716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dd2067"/>
                </a:solidFill>
                <a:latin typeface="Arial"/>
              </a:rPr>
              <a:t>Higher concentration will have more entropy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1371600" indent="-137160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1 and 2 have the same entropy </a:t>
            </a: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ince they both represent the same molecule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E7CB-AC55-48DA-9E5F-75EF416AF86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7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sign of the entropy change of the process of sugar added to water to form a solution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02680" y="3123720"/>
            <a:ext cx="12687480" cy="64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impossible to determine without more informatio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859E-C428-43EA-B08D-3E8CF5EAD64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6ABB-7232-483D-AE64-935FFD25726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7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sign of the entropy change of the process of sugar added to water to form a solution i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02680" y="3123720"/>
            <a:ext cx="12687480" cy="64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posi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impossible to determine without more informatio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616D-2B6A-4625-99B7-114DA158CB8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9978-D117-4E83-9D69-8BE5A52646B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5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en a solution of salt water is formed</a:t>
            </a:r>
            <a:br>
              <a:rPr sz="5700"/>
            </a:br>
            <a:r>
              <a:rPr b="0" i="1" lang="en-US" sz="3700" spc="-1" strike="noStrike">
                <a:solidFill>
                  <a:srgbClr val="00007d"/>
                </a:solidFill>
                <a:latin typeface="Arial"/>
              </a:rPr>
              <a:t>(Choose all that apply.)</a:t>
            </a:r>
            <a:endParaRPr b="0" lang="en-US" sz="3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02680" y="1981080"/>
            <a:ext cx="12687480" cy="76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salt &g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water &g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salt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water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for water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41C3-DDCB-4F22-B257-E4B0E74B12A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6267-016B-4BC9-AF10-DAB5BE1A232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5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en a solution of salt water is formed</a:t>
            </a:r>
            <a:br>
              <a:rPr sz="5700"/>
            </a:br>
            <a:r>
              <a:rPr b="0" i="1" lang="en-US" sz="3700" spc="-1" strike="noStrike">
                <a:solidFill>
                  <a:srgbClr val="00007d"/>
                </a:solidFill>
                <a:latin typeface="Arial"/>
              </a:rPr>
              <a:t>(Choose all that apply.)</a:t>
            </a:r>
            <a:endParaRPr b="0" lang="en-US" sz="3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02680" y="1981080"/>
            <a:ext cx="12687480" cy="76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for salt &gt; 0  alway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water &g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for salt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for water &lt; 0 sometimes (Remember how water surrounds the ions in a hydrosphere? This creates more order in the water.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entropy for water 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CF1E-B7E2-46A8-9426-CE5CC289E0B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C7C6-3FAD-4A4D-B428-335B5E9DEEB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processes below in which entropy increases (more than 1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02680" y="2133720"/>
            <a:ext cx="1268748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a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Na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⇋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L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⇋ 3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6697-3027-4CA7-A0E5-E40624EC889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DD42-16CF-47D6-A3BA-D78B2A02D5F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The Common-Sense Law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ngs tend to become dispers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rbles will scatter,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not roll back in the bag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ences fall down,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piles of wood don’t assembl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igsaw puzzles disassemble easily,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shaking the box never result in reassembl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ach process reduces the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onstraint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on the objec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8061056" presetSubtype="756468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A2B9-3C0F-4ECF-BA35-39D984BD529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processes below in which entropy increases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02680" y="2133720"/>
            <a:ext cx="1268748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CaC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3(s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→ Ca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+ C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→ 2S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NaCl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→ Na</a:t>
            </a:r>
            <a:r>
              <a:rPr b="0" lang="en-US" sz="5400" spc="-1" strike="noStrike" baseline="32000">
                <a:solidFill>
                  <a:srgbClr val="dd2067"/>
                </a:solidFill>
                <a:latin typeface="Arial"/>
              </a:rPr>
              <a:t>+1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aq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+ Cl</a:t>
            </a:r>
            <a:r>
              <a:rPr b="0" lang="en-US" sz="5400" spc="-1" strike="noStrike" baseline="32000">
                <a:solidFill>
                  <a:srgbClr val="dd2067"/>
                </a:solidFill>
                <a:latin typeface="Arial"/>
              </a:rPr>
              <a:t>-1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(aq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→ C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uld be unlikely that you would be asked to distinguish something like this as it is a VERY tough decision as demonstrated by next slide showing that there is very small entropy decr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⇋ H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400" spc="-1" strike="noStrike" baseline="-6000">
                <a:solidFill>
                  <a:srgbClr val="000000"/>
                </a:solidFill>
                <a:latin typeface="Arial"/>
              </a:rPr>
              <a:t>(L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60000"/>
              </a:lnSpc>
              <a:spcBef>
                <a:spcPts val="975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2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3(g)</a:t>
            </a:r>
            <a:r>
              <a:rPr b="0" lang="en-US" sz="5400" spc="-1" strike="noStrike">
                <a:solidFill>
                  <a:srgbClr val="dd2067"/>
                </a:solidFill>
                <a:latin typeface="Arial"/>
              </a:rPr>
              <a:t> ⇋ 3O</a:t>
            </a:r>
            <a:r>
              <a:rPr b="0" lang="en-US" sz="54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6620-4A23-46D2-9CC1-0D43F3CDADC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8DAE-BCD4-4FCD-B77E-4F56DB25322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0080" y="202680"/>
            <a:ext cx="12687480" cy="22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Which graph below might best represent entropy changes as temperature increases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83240" y="9662040"/>
            <a:ext cx="1462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emp (K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38880" y="1816200"/>
            <a:ext cx="3961440" cy="3895200"/>
            <a:chOff x="38880" y="1816200"/>
            <a:chExt cx="3961440" cy="3895200"/>
          </a:xfrm>
        </p:grpSpPr>
        <p:grpSp>
          <p:nvGrpSpPr>
            <p:cNvPr id="514" name="Group 4"/>
            <p:cNvGrpSpPr/>
            <p:nvPr/>
          </p:nvGrpSpPr>
          <p:grpSpPr>
            <a:xfrm>
              <a:off x="38880" y="1816200"/>
              <a:ext cx="3961440" cy="3895200"/>
              <a:chOff x="38880" y="1816200"/>
              <a:chExt cx="3961440" cy="3895200"/>
            </a:xfrm>
          </p:grpSpPr>
          <p:sp>
            <p:nvSpPr>
              <p:cNvPr id="515" name="Line 5"/>
              <p:cNvSpPr/>
              <p:nvPr/>
            </p:nvSpPr>
            <p:spPr>
              <a:xfrm>
                <a:off x="317160" y="538488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6"/>
              <p:cNvSpPr/>
              <p:nvPr/>
            </p:nvSpPr>
            <p:spPr>
              <a:xfrm>
                <a:off x="317160" y="181620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7"/>
              <p:cNvSpPr/>
              <p:nvPr/>
            </p:nvSpPr>
            <p:spPr>
              <a:xfrm>
                <a:off x="1562040" y="181620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8"/>
              <p:cNvSpPr/>
              <p:nvPr/>
            </p:nvSpPr>
            <p:spPr>
              <a:xfrm>
                <a:off x="2781000" y="181620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9"/>
              <p:cNvSpPr/>
              <p:nvPr/>
            </p:nvSpPr>
            <p:spPr>
              <a:xfrm>
                <a:off x="320400" y="182880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10"/>
              <p:cNvSpPr/>
              <p:nvPr/>
            </p:nvSpPr>
            <p:spPr>
              <a:xfrm>
                <a:off x="571680" y="184500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1"/>
              <p:cNvSpPr/>
              <p:nvPr/>
            </p:nvSpPr>
            <p:spPr>
              <a:xfrm>
                <a:off x="1771560" y="184500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12"/>
              <p:cNvSpPr/>
              <p:nvPr/>
            </p:nvSpPr>
            <p:spPr>
              <a:xfrm>
                <a:off x="3114360" y="184500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3"/>
              <p:cNvSpPr/>
              <p:nvPr/>
            </p:nvSpPr>
            <p:spPr>
              <a:xfrm>
                <a:off x="1415520" y="529956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14"/>
              <p:cNvSpPr/>
              <p:nvPr/>
            </p:nvSpPr>
            <p:spPr>
              <a:xfrm>
                <a:off x="38880" y="345276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Line 15"/>
            <p:cNvSpPr/>
            <p:nvPr/>
          </p:nvSpPr>
          <p:spPr>
            <a:xfrm flipV="1">
              <a:off x="330120" y="2270160"/>
              <a:ext cx="3520800" cy="31017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6"/>
          <p:cNvGrpSpPr/>
          <p:nvPr/>
        </p:nvGrpSpPr>
        <p:grpSpPr>
          <a:xfrm>
            <a:off x="4063320" y="5753160"/>
            <a:ext cx="3962520" cy="3895200"/>
            <a:chOff x="4063320" y="5753160"/>
            <a:chExt cx="3962520" cy="3895200"/>
          </a:xfrm>
        </p:grpSpPr>
        <p:grpSp>
          <p:nvGrpSpPr>
            <p:cNvPr id="527" name="Group 17"/>
            <p:cNvGrpSpPr/>
            <p:nvPr/>
          </p:nvGrpSpPr>
          <p:grpSpPr>
            <a:xfrm>
              <a:off x="4063320" y="5753160"/>
              <a:ext cx="3962520" cy="3895200"/>
              <a:chOff x="4063320" y="5753160"/>
              <a:chExt cx="3962520" cy="3895200"/>
            </a:xfrm>
          </p:grpSpPr>
          <p:sp>
            <p:nvSpPr>
              <p:cNvPr id="528" name="Line 18"/>
              <p:cNvSpPr/>
              <p:nvPr/>
            </p:nvSpPr>
            <p:spPr>
              <a:xfrm>
                <a:off x="4341600" y="9321840"/>
                <a:ext cx="36810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9"/>
              <p:cNvSpPr/>
              <p:nvPr/>
            </p:nvSpPr>
            <p:spPr>
              <a:xfrm>
                <a:off x="4341600" y="5753160"/>
                <a:ext cx="121968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20"/>
              <p:cNvSpPr/>
              <p:nvPr/>
            </p:nvSpPr>
            <p:spPr>
              <a:xfrm>
                <a:off x="5586840" y="5753160"/>
                <a:ext cx="121932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21"/>
              <p:cNvSpPr/>
              <p:nvPr/>
            </p:nvSpPr>
            <p:spPr>
              <a:xfrm>
                <a:off x="6806160" y="5753160"/>
                <a:ext cx="121968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22"/>
              <p:cNvSpPr/>
              <p:nvPr/>
            </p:nvSpPr>
            <p:spPr>
              <a:xfrm>
                <a:off x="4344840" y="576576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23"/>
              <p:cNvSpPr/>
              <p:nvPr/>
            </p:nvSpPr>
            <p:spPr>
              <a:xfrm>
                <a:off x="4596120" y="578196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24"/>
              <p:cNvSpPr/>
              <p:nvPr/>
            </p:nvSpPr>
            <p:spPr>
              <a:xfrm>
                <a:off x="5796360" y="578196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5"/>
              <p:cNvSpPr/>
              <p:nvPr/>
            </p:nvSpPr>
            <p:spPr>
              <a:xfrm>
                <a:off x="7139880" y="578196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26"/>
              <p:cNvSpPr/>
              <p:nvPr/>
            </p:nvSpPr>
            <p:spPr>
              <a:xfrm>
                <a:off x="5440680" y="923652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27"/>
              <p:cNvSpPr/>
              <p:nvPr/>
            </p:nvSpPr>
            <p:spPr>
              <a:xfrm>
                <a:off x="4063320" y="73897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Line 28"/>
            <p:cNvSpPr/>
            <p:nvPr/>
          </p:nvSpPr>
          <p:spPr>
            <a:xfrm flipV="1">
              <a:off x="4354560" y="8951760"/>
              <a:ext cx="1221120" cy="35712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9"/>
            <p:cNvSpPr/>
            <p:nvPr/>
          </p:nvSpPr>
          <p:spPr>
            <a:xfrm flipV="1">
              <a:off x="5586840" y="8248680"/>
              <a:ext cx="1214640" cy="66672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30"/>
            <p:cNvSpPr/>
            <p:nvPr/>
          </p:nvSpPr>
          <p:spPr>
            <a:xfrm flipV="1">
              <a:off x="6819480" y="6516360"/>
              <a:ext cx="1175040" cy="17002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31"/>
          <p:cNvGrpSpPr/>
          <p:nvPr/>
        </p:nvGrpSpPr>
        <p:grpSpPr>
          <a:xfrm>
            <a:off x="8228880" y="1816200"/>
            <a:ext cx="3966120" cy="3895200"/>
            <a:chOff x="8228880" y="1816200"/>
            <a:chExt cx="3966120" cy="3895200"/>
          </a:xfrm>
        </p:grpSpPr>
        <p:grpSp>
          <p:nvGrpSpPr>
            <p:cNvPr id="542" name="Group 32"/>
            <p:cNvGrpSpPr/>
            <p:nvPr/>
          </p:nvGrpSpPr>
          <p:grpSpPr>
            <a:xfrm>
              <a:off x="8228880" y="1816200"/>
              <a:ext cx="3961440" cy="3895200"/>
              <a:chOff x="8228880" y="1816200"/>
              <a:chExt cx="3961440" cy="3895200"/>
            </a:xfrm>
          </p:grpSpPr>
          <p:sp>
            <p:nvSpPr>
              <p:cNvPr id="543" name="Line 33"/>
              <p:cNvSpPr/>
              <p:nvPr/>
            </p:nvSpPr>
            <p:spPr>
              <a:xfrm>
                <a:off x="8507160" y="538488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4"/>
              <p:cNvSpPr/>
              <p:nvPr/>
            </p:nvSpPr>
            <p:spPr>
              <a:xfrm>
                <a:off x="8507160" y="181620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5"/>
              <p:cNvSpPr/>
              <p:nvPr/>
            </p:nvSpPr>
            <p:spPr>
              <a:xfrm>
                <a:off x="9752040" y="181620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36"/>
              <p:cNvSpPr/>
              <p:nvPr/>
            </p:nvSpPr>
            <p:spPr>
              <a:xfrm>
                <a:off x="10971000" y="181620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37"/>
              <p:cNvSpPr/>
              <p:nvPr/>
            </p:nvSpPr>
            <p:spPr>
              <a:xfrm>
                <a:off x="8510400" y="182880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8"/>
              <p:cNvSpPr/>
              <p:nvPr/>
            </p:nvSpPr>
            <p:spPr>
              <a:xfrm>
                <a:off x="8761680" y="184500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9"/>
              <p:cNvSpPr/>
              <p:nvPr/>
            </p:nvSpPr>
            <p:spPr>
              <a:xfrm>
                <a:off x="9961560" y="184500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40"/>
              <p:cNvSpPr/>
              <p:nvPr/>
            </p:nvSpPr>
            <p:spPr>
              <a:xfrm>
                <a:off x="11304360" y="184500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41"/>
              <p:cNvSpPr/>
              <p:nvPr/>
            </p:nvSpPr>
            <p:spPr>
              <a:xfrm>
                <a:off x="9605520" y="529956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42"/>
              <p:cNvSpPr/>
              <p:nvPr/>
            </p:nvSpPr>
            <p:spPr>
              <a:xfrm>
                <a:off x="8228880" y="345276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Line 43"/>
            <p:cNvSpPr/>
            <p:nvPr/>
          </p:nvSpPr>
          <p:spPr>
            <a:xfrm flipV="1">
              <a:off x="8532720" y="514476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44"/>
            <p:cNvSpPr/>
            <p:nvPr/>
          </p:nvSpPr>
          <p:spPr>
            <a:xfrm flipV="1">
              <a:off x="9752040" y="4586400"/>
              <a:ext cx="1224000" cy="108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45"/>
            <p:cNvSpPr/>
            <p:nvPr/>
          </p:nvSpPr>
          <p:spPr>
            <a:xfrm flipV="1">
              <a:off x="10971000" y="2846520"/>
              <a:ext cx="1224000" cy="108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46"/>
            <p:cNvSpPr/>
            <p:nvPr/>
          </p:nvSpPr>
          <p:spPr>
            <a:xfrm flipH="1" flipV="1">
              <a:off x="10949040" y="2873520"/>
              <a:ext cx="9360" cy="16984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47"/>
            <p:cNvSpPr/>
            <p:nvPr/>
          </p:nvSpPr>
          <p:spPr>
            <a:xfrm flipV="1">
              <a:off x="9738360" y="4622760"/>
              <a:ext cx="1800" cy="5205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48"/>
          <p:cNvGrpSpPr/>
          <p:nvPr/>
        </p:nvGrpSpPr>
        <p:grpSpPr>
          <a:xfrm>
            <a:off x="4050720" y="1816200"/>
            <a:ext cx="3962520" cy="3895200"/>
            <a:chOff x="4050720" y="1816200"/>
            <a:chExt cx="3962520" cy="3895200"/>
          </a:xfrm>
        </p:grpSpPr>
        <p:grpSp>
          <p:nvGrpSpPr>
            <p:cNvPr id="559" name="Group 49"/>
            <p:cNvGrpSpPr/>
            <p:nvPr/>
          </p:nvGrpSpPr>
          <p:grpSpPr>
            <a:xfrm>
              <a:off x="4050720" y="1816200"/>
              <a:ext cx="3962160" cy="3895200"/>
              <a:chOff x="4050720" y="1816200"/>
              <a:chExt cx="3962160" cy="3895200"/>
            </a:xfrm>
          </p:grpSpPr>
          <p:sp>
            <p:nvSpPr>
              <p:cNvPr id="560" name="Line 50"/>
              <p:cNvSpPr/>
              <p:nvPr/>
            </p:nvSpPr>
            <p:spPr>
              <a:xfrm>
                <a:off x="4329000" y="5384880"/>
                <a:ext cx="368064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51"/>
              <p:cNvSpPr/>
              <p:nvPr/>
            </p:nvSpPr>
            <p:spPr>
              <a:xfrm>
                <a:off x="4329000" y="181620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52"/>
              <p:cNvSpPr/>
              <p:nvPr/>
            </p:nvSpPr>
            <p:spPr>
              <a:xfrm>
                <a:off x="5574240" y="181620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53"/>
              <p:cNvSpPr/>
              <p:nvPr/>
            </p:nvSpPr>
            <p:spPr>
              <a:xfrm>
                <a:off x="6793560" y="181620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54"/>
              <p:cNvSpPr/>
              <p:nvPr/>
            </p:nvSpPr>
            <p:spPr>
              <a:xfrm>
                <a:off x="4332240" y="182880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55"/>
              <p:cNvSpPr/>
              <p:nvPr/>
            </p:nvSpPr>
            <p:spPr>
              <a:xfrm>
                <a:off x="4583520" y="184500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56"/>
              <p:cNvSpPr/>
              <p:nvPr/>
            </p:nvSpPr>
            <p:spPr>
              <a:xfrm>
                <a:off x="5783760" y="184500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57"/>
              <p:cNvSpPr/>
              <p:nvPr/>
            </p:nvSpPr>
            <p:spPr>
              <a:xfrm>
                <a:off x="7126920" y="184500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58"/>
              <p:cNvSpPr/>
              <p:nvPr/>
            </p:nvSpPr>
            <p:spPr>
              <a:xfrm>
                <a:off x="5428080" y="529956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59"/>
              <p:cNvSpPr/>
              <p:nvPr/>
            </p:nvSpPr>
            <p:spPr>
              <a:xfrm>
                <a:off x="4050720" y="345276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Line 60"/>
            <p:cNvSpPr/>
            <p:nvPr/>
          </p:nvSpPr>
          <p:spPr>
            <a:xfrm flipV="1">
              <a:off x="4341960" y="5014800"/>
              <a:ext cx="1221120" cy="35712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61"/>
            <p:cNvSpPr/>
            <p:nvPr/>
          </p:nvSpPr>
          <p:spPr>
            <a:xfrm flipV="1">
              <a:off x="5574240" y="4001760"/>
              <a:ext cx="1246320" cy="4554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62"/>
            <p:cNvSpPr/>
            <p:nvPr/>
          </p:nvSpPr>
          <p:spPr>
            <a:xfrm flipV="1">
              <a:off x="6793560" y="1974600"/>
              <a:ext cx="1219680" cy="7426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63"/>
            <p:cNvSpPr/>
            <p:nvPr/>
          </p:nvSpPr>
          <p:spPr>
            <a:xfrm flipH="1" flipV="1">
              <a:off x="6771600" y="2720520"/>
              <a:ext cx="9360" cy="126684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64"/>
            <p:cNvSpPr/>
            <p:nvPr/>
          </p:nvSpPr>
          <p:spPr>
            <a:xfrm flipV="1">
              <a:off x="5574240" y="4470480"/>
              <a:ext cx="1440" cy="5205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65"/>
          <p:cNvGrpSpPr/>
          <p:nvPr/>
        </p:nvGrpSpPr>
        <p:grpSpPr>
          <a:xfrm>
            <a:off x="8228880" y="5753160"/>
            <a:ext cx="3966120" cy="3895200"/>
            <a:chOff x="8228880" y="5753160"/>
            <a:chExt cx="3966120" cy="3895200"/>
          </a:xfrm>
        </p:grpSpPr>
        <p:grpSp>
          <p:nvGrpSpPr>
            <p:cNvPr id="576" name="Group 66"/>
            <p:cNvGrpSpPr/>
            <p:nvPr/>
          </p:nvGrpSpPr>
          <p:grpSpPr>
            <a:xfrm>
              <a:off x="8228880" y="5753160"/>
              <a:ext cx="3961440" cy="3895200"/>
              <a:chOff x="8228880" y="5753160"/>
              <a:chExt cx="3961440" cy="3895200"/>
            </a:xfrm>
          </p:grpSpPr>
          <p:sp>
            <p:nvSpPr>
              <p:cNvPr id="577" name="Line 67"/>
              <p:cNvSpPr/>
              <p:nvPr/>
            </p:nvSpPr>
            <p:spPr>
              <a:xfrm>
                <a:off x="8507160" y="932184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68"/>
              <p:cNvSpPr/>
              <p:nvPr/>
            </p:nvSpPr>
            <p:spPr>
              <a:xfrm>
                <a:off x="8507160" y="575316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69"/>
              <p:cNvSpPr/>
              <p:nvPr/>
            </p:nvSpPr>
            <p:spPr>
              <a:xfrm>
                <a:off x="9752040" y="575316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70"/>
              <p:cNvSpPr/>
              <p:nvPr/>
            </p:nvSpPr>
            <p:spPr>
              <a:xfrm>
                <a:off x="10971000" y="575316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71"/>
              <p:cNvSpPr/>
              <p:nvPr/>
            </p:nvSpPr>
            <p:spPr>
              <a:xfrm>
                <a:off x="8510400" y="576576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72"/>
              <p:cNvSpPr/>
              <p:nvPr/>
            </p:nvSpPr>
            <p:spPr>
              <a:xfrm>
                <a:off x="8761680" y="578196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73"/>
              <p:cNvSpPr/>
              <p:nvPr/>
            </p:nvSpPr>
            <p:spPr>
              <a:xfrm>
                <a:off x="9961560" y="578196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74"/>
              <p:cNvSpPr/>
              <p:nvPr/>
            </p:nvSpPr>
            <p:spPr>
              <a:xfrm>
                <a:off x="11304360" y="578196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75"/>
              <p:cNvSpPr/>
              <p:nvPr/>
            </p:nvSpPr>
            <p:spPr>
              <a:xfrm>
                <a:off x="9605520" y="923652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76"/>
              <p:cNvSpPr/>
              <p:nvPr/>
            </p:nvSpPr>
            <p:spPr>
              <a:xfrm>
                <a:off x="8228880" y="73897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Line 77"/>
            <p:cNvSpPr/>
            <p:nvPr/>
          </p:nvSpPr>
          <p:spPr>
            <a:xfrm flipV="1">
              <a:off x="8532720" y="908172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78"/>
            <p:cNvSpPr/>
            <p:nvPr/>
          </p:nvSpPr>
          <p:spPr>
            <a:xfrm flipV="1">
              <a:off x="9752040" y="788796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79"/>
            <p:cNvSpPr/>
            <p:nvPr/>
          </p:nvSpPr>
          <p:spPr>
            <a:xfrm flipV="1">
              <a:off x="10971000" y="6681240"/>
              <a:ext cx="1224000" cy="111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80"/>
            <p:cNvSpPr/>
            <p:nvPr/>
          </p:nvSpPr>
          <p:spPr>
            <a:xfrm flipH="1" flipV="1">
              <a:off x="9736200" y="7873560"/>
              <a:ext cx="2880" cy="12063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81"/>
            <p:cNvSpPr/>
            <p:nvPr/>
          </p:nvSpPr>
          <p:spPr>
            <a:xfrm flipH="1" flipV="1">
              <a:off x="10968120" y="6667200"/>
              <a:ext cx="2880" cy="12063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Rectangle 82"/>
          <p:cNvSpPr/>
          <p:nvPr/>
        </p:nvSpPr>
        <p:spPr>
          <a:xfrm>
            <a:off x="1971000" y="259416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3"/>
          <p:cNvSpPr/>
          <p:nvPr/>
        </p:nvSpPr>
        <p:spPr>
          <a:xfrm>
            <a:off x="5996880" y="259416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4"/>
          <p:cNvSpPr/>
          <p:nvPr/>
        </p:nvSpPr>
        <p:spPr>
          <a:xfrm>
            <a:off x="10162440" y="259416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85"/>
          <p:cNvSpPr/>
          <p:nvPr/>
        </p:nvSpPr>
        <p:spPr>
          <a:xfrm>
            <a:off x="6073200" y="65314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86"/>
          <p:cNvSpPr/>
          <p:nvPr/>
        </p:nvSpPr>
        <p:spPr>
          <a:xfrm>
            <a:off x="10238760" y="653148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87"/>
          <p:cNvGrpSpPr/>
          <p:nvPr/>
        </p:nvGrpSpPr>
        <p:grpSpPr>
          <a:xfrm>
            <a:off x="26280" y="5753160"/>
            <a:ext cx="3961440" cy="3895200"/>
            <a:chOff x="26280" y="5753160"/>
            <a:chExt cx="3961440" cy="3895200"/>
          </a:xfrm>
        </p:grpSpPr>
        <p:grpSp>
          <p:nvGrpSpPr>
            <p:cNvPr id="598" name="Group 88"/>
            <p:cNvGrpSpPr/>
            <p:nvPr/>
          </p:nvGrpSpPr>
          <p:grpSpPr>
            <a:xfrm>
              <a:off x="26280" y="5753160"/>
              <a:ext cx="3961440" cy="3895200"/>
              <a:chOff x="26280" y="5753160"/>
              <a:chExt cx="3961440" cy="3895200"/>
            </a:xfrm>
          </p:grpSpPr>
          <p:sp>
            <p:nvSpPr>
              <p:cNvPr id="599" name="Line 89"/>
              <p:cNvSpPr/>
              <p:nvPr/>
            </p:nvSpPr>
            <p:spPr>
              <a:xfrm>
                <a:off x="304560" y="9321840"/>
                <a:ext cx="36799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90"/>
              <p:cNvSpPr/>
              <p:nvPr/>
            </p:nvSpPr>
            <p:spPr>
              <a:xfrm>
                <a:off x="304560" y="5753160"/>
                <a:ext cx="1219320" cy="3555720"/>
              </a:xfrm>
              <a:prstGeom prst="rect">
                <a:avLst/>
              </a:prstGeom>
              <a:solidFill>
                <a:srgbClr val="ffd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91"/>
              <p:cNvSpPr/>
              <p:nvPr/>
            </p:nvSpPr>
            <p:spPr>
              <a:xfrm>
                <a:off x="1549440" y="5753160"/>
                <a:ext cx="1218960" cy="3555720"/>
              </a:xfrm>
              <a:prstGeom prst="rect">
                <a:avLst/>
              </a:prstGeom>
              <a:solidFill>
                <a:srgbClr val="a7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92"/>
              <p:cNvSpPr/>
              <p:nvPr/>
            </p:nvSpPr>
            <p:spPr>
              <a:xfrm>
                <a:off x="2768400" y="5753160"/>
                <a:ext cx="1219320" cy="3555720"/>
              </a:xfrm>
              <a:prstGeom prst="rect">
                <a:avLst/>
              </a:prstGeom>
              <a:solidFill>
                <a:srgbClr val="bbf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93"/>
              <p:cNvSpPr/>
              <p:nvPr/>
            </p:nvSpPr>
            <p:spPr>
              <a:xfrm>
                <a:off x="307800" y="5765760"/>
                <a:ext cx="0" cy="357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94"/>
              <p:cNvSpPr/>
              <p:nvPr/>
            </p:nvSpPr>
            <p:spPr>
              <a:xfrm>
                <a:off x="559080" y="5781960"/>
                <a:ext cx="762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95"/>
              <p:cNvSpPr/>
              <p:nvPr/>
            </p:nvSpPr>
            <p:spPr>
              <a:xfrm>
                <a:off x="1758960" y="5781960"/>
                <a:ext cx="8010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quid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96"/>
              <p:cNvSpPr/>
              <p:nvPr/>
            </p:nvSpPr>
            <p:spPr>
              <a:xfrm>
                <a:off x="3101760" y="5781960"/>
                <a:ext cx="554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97"/>
              <p:cNvSpPr/>
              <p:nvPr/>
            </p:nvSpPr>
            <p:spPr>
              <a:xfrm>
                <a:off x="1402920" y="9236520"/>
                <a:ext cx="1462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mp (K)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→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98"/>
              <p:cNvSpPr/>
              <p:nvPr/>
            </p:nvSpPr>
            <p:spPr>
              <a:xfrm>
                <a:off x="26280" y="73897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Line 99"/>
            <p:cNvSpPr/>
            <p:nvPr/>
          </p:nvSpPr>
          <p:spPr>
            <a:xfrm>
              <a:off x="322200" y="8902800"/>
              <a:ext cx="1216080" cy="108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00"/>
            <p:cNvSpPr/>
            <p:nvPr/>
          </p:nvSpPr>
          <p:spPr>
            <a:xfrm flipV="1">
              <a:off x="1548720" y="7938720"/>
              <a:ext cx="1245960" cy="4554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01"/>
            <p:cNvSpPr/>
            <p:nvPr/>
          </p:nvSpPr>
          <p:spPr>
            <a:xfrm flipV="1">
              <a:off x="2767680" y="5911560"/>
              <a:ext cx="1219320" cy="74268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02"/>
            <p:cNvSpPr/>
            <p:nvPr/>
          </p:nvSpPr>
          <p:spPr>
            <a:xfrm flipH="1" flipV="1">
              <a:off x="2746440" y="6657480"/>
              <a:ext cx="9360" cy="126540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03"/>
            <p:cNvSpPr/>
            <p:nvPr/>
          </p:nvSpPr>
          <p:spPr>
            <a:xfrm flipV="1">
              <a:off x="1549440" y="8407440"/>
              <a:ext cx="1440" cy="520560"/>
            </a:xfrm>
            <a:prstGeom prst="line">
              <a:avLst/>
            </a:prstGeom>
            <a:ln w="38160">
              <a:solidFill>
                <a:srgbClr val="dd20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Rectangle 104"/>
          <p:cNvSpPr/>
          <p:nvPr/>
        </p:nvSpPr>
        <p:spPr>
          <a:xfrm>
            <a:off x="1971000" y="6874200"/>
            <a:ext cx="298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8083-FDE6-4670-B621-B0B657CAC09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Which graph below might best represent entropy changes as temperature increases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03040" y="2629080"/>
            <a:ext cx="6591600" cy="69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Entropy increase as temperature increases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At phase changes, temperature stays the same (remember!) but the disorder will continue to increase.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3" descr=""/>
          <p:cNvPicPr/>
          <p:nvPr/>
        </p:nvPicPr>
        <p:blipFill>
          <a:blip r:embed="rId1"/>
          <a:srcRect l="0" t="0" r="0" b="4244"/>
          <a:stretch/>
        </p:blipFill>
        <p:spPr>
          <a:xfrm>
            <a:off x="6969240" y="2082960"/>
            <a:ext cx="5921280" cy="518148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4"/>
          <p:cNvSpPr/>
          <p:nvPr/>
        </p:nvSpPr>
        <p:spPr>
          <a:xfrm>
            <a:off x="183240" y="9662040"/>
            <a:ext cx="1462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emp (K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9C54-EEED-4E21-B70F-9356858A741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Spontaneity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66760" y="3936960"/>
            <a:ext cx="1234440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F212-B34F-4E4D-8B46-0004456C614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7d"/>
                </a:solidFill>
                <a:latin typeface="Arial"/>
              </a:rPr>
              <a:t>Which process(es) is(are) NOT spontaneous?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02680" y="1307880"/>
            <a:ext cx="12687480" cy="83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en a piece of hot metal at 150ºC is dropped into water at 40ºC, the water warms up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1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ter at room temperature decomposes into gaseous 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1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nzene vapor, C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at a pressure of 1 atm condenses to liquid benzene at its normal boiling point of 80.1ºC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1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nder a pressure of 1 atm, C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Arial"/>
              </a:rPr>
              <a:t>2(s)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sublimes at room temperature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nverts to 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nce initi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C0F5-3F2F-481A-B94B-EDC3CD411DE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DC0F-4A58-4D8E-AA6C-0D19D6DBF1F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7d"/>
                </a:solidFill>
                <a:latin typeface="Arial"/>
              </a:rPr>
              <a:t>Which process(es) is(are) NOT spontaneous?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02680" y="1307880"/>
            <a:ext cx="12687480" cy="83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 piece of hot metal at 150ºC is dropped into water at 40ºC, the water warms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Water at room temperature decomposes into gaseous H</a:t>
            </a:r>
            <a:r>
              <a:rPr b="0" lang="en-US" sz="40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 and O</a:t>
            </a:r>
            <a:r>
              <a:rPr b="0" lang="en-US" sz="40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zene vapor, C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6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t a pressure of 1 atm condenses to liquid benzene at its normal boiling point of 80.1º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1001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61b0"/>
                </a:solidFill>
                <a:latin typeface="Arial"/>
              </a:rPr>
              <a:t># 3 is at equilibrium, ∆G = 0, below 80.1º it would be spontaneous, above 80.1ºC is not spontaneo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 a pressure of 1 atm, C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(s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ublimes at room temperatu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nverts to H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40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nce initi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ED35-D817-404D-BEFE-16E80C46046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4623-2B64-4E8F-B01F-984C38D5894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1920" y="190080"/>
            <a:ext cx="12687480" cy="21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Spontaneity and Kinetics</a:t>
            </a:r>
            <a:br>
              <a:rPr sz="7400"/>
            </a:br>
            <a:r>
              <a:rPr b="0" lang="en-US" sz="6600" spc="-1" strike="noStrike">
                <a:solidFill>
                  <a:srgbClr val="00007d"/>
                </a:solidFill>
                <a:latin typeface="Arial"/>
              </a:rPr>
              <a:t>as related to Reaction Direction</a:t>
            </a:r>
            <a:endParaRPr b="0" lang="en-US" sz="6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12648960" cy="697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is unrelated to the speed of a re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me spontaneous processes may be extremely slow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inetics tells us about the rate of a rea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ntaneity has dir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f a reaction is spontaneous in one direction, it is NOT spontaneous in the other direct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E48B-7730-48CB-9774-C7AF60DD574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Two Forces Drive Reaction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128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gh entropy is favo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 increase (+) is favor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5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w energy is favo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 decrease (-) is favor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8871680" presetSubtype="57625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3B15-CAE0-49CC-AAD7-168ECD53870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7400" spc="-1" strike="noStrike" baseline="32000">
                <a:solidFill>
                  <a:srgbClr val="00007d"/>
                </a:solidFill>
                <a:latin typeface="Arial"/>
              </a:rPr>
              <a:t>nd</a:t>
            </a: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 Law of Thermodynamic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54160" y="1473120"/>
            <a:ext cx="12648960" cy="128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om the second law of thermodynamics, we know that the entropy of the universe is always increasing. For every process and re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= ∆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+ ∆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surrounding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8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&gt; 0 (always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200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t it is not always easy or practical to calculate ∆S</a:t>
            </a:r>
            <a:r>
              <a:rPr b="0" lang="en-US" sz="48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because it is difficult to know all of the entropy changes to the surroundings (universe), ∆S</a:t>
            </a:r>
            <a:r>
              <a:rPr b="0" lang="en-US" sz="4800" spc="-1" strike="noStrike" baseline="-6000">
                <a:solidFill>
                  <a:srgbClr val="000000"/>
                </a:solidFill>
                <a:latin typeface="Arial"/>
              </a:rPr>
              <a:t>surrounding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8872448" presetSubtype="662021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B072-FAFC-4F3C-AAEF-729F14B6489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7d"/>
                </a:solidFill>
                <a:latin typeface="Arial"/>
              </a:rPr>
              <a:t>So how can we predict spontaneity?</a:t>
            </a:r>
            <a:endParaRPr b="0" lang="en-US" sz="6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128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ibbs Free Energy (G) combines the two driving forces into one relationshi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maximum useful work that can be done by a system on its surroundings in a spontaneous process occurring at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constant temp and pressur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 = ∆H - T∆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lthough the restriction of constant T and P are stringent, they do apply to many important chemical process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iological processes in the bo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boratory or industrially controlled proces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8873216" presetSubtype="66392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907D-ED81-460C-9BD8-D0D1AA5EAA6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7d"/>
                </a:solidFill>
                <a:latin typeface="Arial"/>
              </a:rPr>
              <a:t>The Common-Sense Law applies at the molecular level as well. </a:t>
            </a:r>
            <a:endParaRPr b="0" lang="en-US" sz="6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7480" y="2552760"/>
            <a:ext cx="12649320" cy="70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alt dissol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ases disp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7478640" y="2349360"/>
            <a:ext cx="4954680" cy="4330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2"/>
          <a:srcRect l="0" t="0" r="0" b="11224"/>
          <a:stretch/>
        </p:blipFill>
        <p:spPr>
          <a:xfrm>
            <a:off x="579600" y="6934320"/>
            <a:ext cx="114379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D206-3E9A-444E-BF18-D7344B52E58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∆</a:t>
            </a: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G = ∆H - T∆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If ∆G &lt; 0 , a reaction will proceed in the forward direction and is considered spontaneous.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599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If ∆G = 0, a reaction will be at equilibrium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599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If ∆G &gt; 0, a reaction will not proceed in forward direction and is considered not spontaneous.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8980736" presetSubtype="910734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8980736" presetSubtype="910734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8980736" presetSubtype="910734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8F5A-556B-4F19-A9ED-2393A5A5F13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0840" y="19008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7d"/>
                </a:solidFill>
                <a:latin typeface="Arial"/>
              </a:rPr>
              <a:t>Using ∆Gº</a:t>
            </a:r>
            <a:endParaRPr b="0" lang="en-US" sz="6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40840" y="1320840"/>
            <a:ext cx="12649320" cy="82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tandard condi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at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M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The ∆Gº values in the table are reported for temperatures at 25º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 values have been established for a great many substances making the ∆G calculation below convenient at 1M or 1atm at 25ºC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Rx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 = ∑n∆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prod - ∑n∆G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ºreac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8981504" presetSubtype="576884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1F3C-172B-43A0-BA60-5EFFDF2FB9E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55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The reaction below is NOT spontaneous at 298 K. Is there a temperature at which this reaction can become spontaneous?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the reaction: ∆Hº=+74kJ, ∆Sº=117J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02680" y="5625720"/>
            <a:ext cx="1268748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t enough information to determine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648F-99BC-47E8-A668-8F07EA89C2E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5DF2-2B0D-4409-958A-490DAE32A05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The reaction below is NOT spontaneous at 298 K. Is there a temperature at which this reaction can become spontaneous?</a:t>
            </a:r>
            <a:br>
              <a:rPr sz="5200"/>
            </a:b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2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2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2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br>
              <a:rPr sz="5200"/>
            </a:br>
            <a:r>
              <a:rPr b="0" lang="en-US" sz="5200" spc="-1" strike="noStrike">
                <a:solidFill>
                  <a:srgbClr val="00007d"/>
                </a:solidFill>
                <a:latin typeface="Arial"/>
              </a:rPr>
              <a:t>For the reaction: ∆Hº=+74kJ, ∆Sº=117J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02680" y="4330440"/>
            <a:ext cx="1268748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886680" indent="-88668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Yes, at approximately 632 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11"/>
              </a:spcBef>
              <a:buClr>
                <a:srgbClr val="2961b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∆</a:t>
            </a: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H=+74kJ, ∆S=117J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11"/>
              </a:spcBef>
              <a:buClr>
                <a:srgbClr val="2961b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∆</a:t>
            </a: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G = ∆H - T∆S, since ∆G&gt;0 is not spontaneous and ∆G&lt;0 is spontaneous, when ∆G=0 the spontaneity “switches”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11"/>
              </a:spcBef>
              <a:buClr>
                <a:srgbClr val="2961b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961b0"/>
                </a:solidFill>
                <a:latin typeface="Arial"/>
              </a:rPr>
              <a:t>0 = 74kJ - T(0.117kJ)  solve T = 632 K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1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1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enough information to determi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28CE-14F8-42A7-AD28-83715B5ABAD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8264-6BEB-4D4F-ACB4-058FE507EA0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At 298 K this reaction is not spontaneous and at temps above 632 K the reaction becomes spontaneous. What occurs AT 632 K?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17520" y="5753160"/>
            <a:ext cx="1268712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reaction stop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reaction is at equilibrium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ome other situation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5D46-4E2E-46EE-81F7-C90136427EF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D8E1-D7F4-4ED6-B497-50ECA0927D0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At standard conditions this reaction is not spontaneous and at temps above 633 K the reaction becomes spontaneous. What occurs AT 633 K?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2NO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→ 2N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+ Cl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02680" y="5118120"/>
            <a:ext cx="12687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The reaction stop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The reaction is at equilibrium, since ∆G =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ome other situation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6676-9541-454B-B25B-07E466A7ABB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0C74-60EE-4001-B8C2-F8D8478ACF1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n every and any non spontaneous reaction be made spontaneous at some temperatur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02680" y="3022200"/>
            <a:ext cx="12687480" cy="65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I don’t know, and I would just be guessing or following my neighbors, but I don’t really know how to analytically think through to an answer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44ED-6213-46A4-B908-BB4107C27F8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3D76-CBC7-428B-BA07-A73865BBC57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n every and any non spontaneous reaction be made spontaneous at some temperature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02680" y="3022200"/>
            <a:ext cx="12687480" cy="65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d2067"/>
                </a:solidFill>
                <a:latin typeface="Arial"/>
              </a:rPr>
              <a:t>no, remember: ∆G = ∆H - T∆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When ∆H is +, and ∆S is -, no temperature will ever make the reaction spontaneou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If ∆H is - and ∆S is -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increasing the T value will make ∆G more +,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spcBef>
                <a:spcPts val="1001"/>
              </a:spcBef>
              <a:buClr>
                <a:srgbClr val="000000"/>
              </a:buClr>
              <a:buSzPct val="80000"/>
              <a:buFont typeface="Lucida Grande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961b0"/>
                </a:solidFill>
                <a:latin typeface="Arial"/>
              </a:rPr>
              <a:t>decreasing the T would make the less + and the temp may not be able to be lowered enough to turn it spontaneous. (Remember that there is a lower limit to temperature values, absolute zero.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936D-628E-4173-85A6-FC37199B952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2E9B-AEE9-4A9B-B42E-CCA9957E559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0080" y="253800"/>
            <a:ext cx="12687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set of thermodynamic parameters that best describes the system below at standard conditions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⇋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393840" y="3924360"/>
          <a:ext cx="6541920" cy="5295960"/>
        </p:xfrm>
        <a:graphic>
          <a:graphicData uri="http://schemas.openxmlformats.org/drawingml/2006/table">
            <a:tbl>
              <a:tblPr/>
              <a:tblGrid>
                <a:gridCol w="984240"/>
                <a:gridCol w="1852560"/>
                <a:gridCol w="1852560"/>
                <a:gridCol w="1852560"/>
              </a:tblGrid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81C7-E7EC-4492-84FF-08906F54B79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0080" y="253800"/>
            <a:ext cx="12687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set of thermodynamic parameters that best describes the system below at standard conditions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⇋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93840" y="3924360"/>
          <a:ext cx="6541920" cy="5295960"/>
        </p:xfrm>
        <a:graphic>
          <a:graphicData uri="http://schemas.openxmlformats.org/drawingml/2006/table">
            <a:tbl>
              <a:tblPr/>
              <a:tblGrid>
                <a:gridCol w="984240"/>
                <a:gridCol w="1852560"/>
                <a:gridCol w="1852560"/>
                <a:gridCol w="1852560"/>
              </a:tblGrid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BA8C-7AE0-4F7F-99FC-BD958763C99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1920" y="21600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rocess(es) shown below is(are) spontaneou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rcRect l="9733" t="7258" r="9959" b="4213"/>
          <a:stretch/>
        </p:blipFill>
        <p:spPr>
          <a:xfrm>
            <a:off x="133200" y="2879640"/>
            <a:ext cx="5905800" cy="615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rcRect l="2160" t="2324" r="2700" b="3614"/>
          <a:stretch/>
        </p:blipFill>
        <p:spPr>
          <a:xfrm>
            <a:off x="6337440" y="2882880"/>
            <a:ext cx="5959440" cy="614700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4400640" y="455004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10139400" y="455004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1E9C-2BCF-43CF-AEEE-55F24BD6BD6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Select the set of thermodynamic parameters that best describes the system below at standard conditions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⇋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(L)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02680" y="3784680"/>
            <a:ext cx="6007320" cy="58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61b0"/>
                </a:solidFill>
                <a:latin typeface="Arial"/>
              </a:rPr>
              <a:t>Considering S—gas to liq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2961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61b0"/>
                </a:solidFill>
                <a:latin typeface="Arial"/>
              </a:rPr>
              <a:t>Considering H—the gas is condensing (giving off heat NOT taking it i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6324480" y="3936960"/>
          <a:ext cx="6542280" cy="5295960"/>
        </p:xfrm>
        <a:graphic>
          <a:graphicData uri="http://schemas.openxmlformats.org/drawingml/2006/table">
            <a:tbl>
              <a:tblPr/>
              <a:tblGrid>
                <a:gridCol w="984240"/>
                <a:gridCol w="1852920"/>
                <a:gridCol w="1852560"/>
                <a:gridCol w="1852560"/>
              </a:tblGrid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9D33-A766-41B4-9655-0FA39C499DA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02680" y="203040"/>
            <a:ext cx="1268748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apply to any reaction that proceeds spontaneously to form products from initial standard conditions.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02680" y="3796920"/>
            <a:ext cx="12687480" cy="58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&lt;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&lt;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&gt;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43CC-0C6C-47E8-B66B-E9966B6A104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4D9E-1C83-47B2-8232-8931CB3C898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26874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7d"/>
                </a:solidFill>
                <a:latin typeface="Arial"/>
              </a:rPr>
              <a:t>Which apply to any reaction that proceeds spontaneously to form products from initial standard conditions.</a:t>
            </a:r>
            <a:endParaRPr b="0" lang="en-US" sz="55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02680" y="2793960"/>
            <a:ext cx="12687480" cy="681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886680" indent="-88668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G&lt;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because we know that if the reaction proceeds (spontaneous) it must have a negative ∆G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99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K</a:t>
            </a:r>
            <a:r>
              <a:rPr b="0" lang="en-US" sz="4500" spc="-1" strike="noStrike" baseline="-6000">
                <a:solidFill>
                  <a:srgbClr val="dd2067"/>
                </a:solidFill>
                <a:latin typeface="Arial"/>
              </a:rPr>
              <a:t>eq</a:t>
            </a: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&gt;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because we know at standard conditions of 1 atm, 1M K would always = 1, so if the reaction proceeds K will end up greater than 1 since as the reaction proceeds products will increase and reactants will decrease resulting in K larger than 1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H&lt;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886680" indent="-886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&gt;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2CB0-B23D-4B60-A05E-CAB1E190CD2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80C5-F2DB-49DA-B32E-4F3A35EA231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lculate ∆G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T, 300K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in kJ/mole for a reaction at 300K in which K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eq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2.2x10</a:t>
            </a:r>
            <a:r>
              <a:rPr b="0" lang="en-US" sz="5700" spc="-1" strike="noStrike" baseline="32000">
                <a:solidFill>
                  <a:srgbClr val="00007d"/>
                </a:solidFill>
                <a:latin typeface="Arial"/>
              </a:rPr>
              <a:t>4</a:t>
            </a:r>
            <a:br>
              <a:rPr sz="5700"/>
            </a:br>
            <a:r>
              <a:rPr b="0" i="1" lang="en-US" sz="5200" spc="-1" strike="noStrike">
                <a:solidFill>
                  <a:srgbClr val="00007d"/>
                </a:solidFill>
                <a:latin typeface="Arial"/>
              </a:rPr>
              <a:t>Round to the nearest whole number - You may use your calculator.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02680" y="3987720"/>
            <a:ext cx="12687480" cy="56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ubmit your answer rounded to the nearest whole number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5076-41AA-4CC2-820E-FC4B41C6541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D7BC-482D-4447-96DF-07F8F2A4541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Calculate ∆Gº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T, 300K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in kJ/mole for a reaction at 300K in which K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eq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= 2.2x10</a:t>
            </a:r>
            <a:r>
              <a:rPr b="0" lang="en-US" sz="5700" spc="-1" strike="noStrike" baseline="32000">
                <a:solidFill>
                  <a:srgbClr val="00007d"/>
                </a:solidFill>
                <a:latin typeface="Arial"/>
              </a:rPr>
              <a:t>4</a:t>
            </a:r>
            <a:br>
              <a:rPr sz="5700"/>
            </a:br>
            <a:r>
              <a:rPr b="0" i="1" lang="en-US" sz="5200" spc="-1" strike="noStrike">
                <a:solidFill>
                  <a:srgbClr val="00007d"/>
                </a:solidFill>
                <a:latin typeface="Arial"/>
              </a:rPr>
              <a:t>Round to the nearest whole number - You may use your calculator.</a:t>
            </a:r>
            <a:endParaRPr b="0" lang="en-US" sz="5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02680" y="3987720"/>
            <a:ext cx="12687480" cy="56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-25 kJ/mol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32C3-DD34-415D-A5F6-BB5A3D266C7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655C-8843-4C54-9E96-24E68170FCB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en two solutions are combined and a precipitate forms while the solution cools. Which describes the value of ∆G, and its component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02680" y="3733560"/>
            <a:ext cx="12687480" cy="58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lt; 0, |∆H| &g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lt; 0, |∆H| &l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gt; 0, |∆H| &g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gt; 0, |∆H| &lt; |T∆S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= 0, |T∆S| = |∆H|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0E33-B1A4-4213-8F5B-6803EDA6E0B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B9F0-4BAF-4C50-B5CC-05A97AE952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2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When two solutions are combined and a precipitate forms while the solution cools. Which describes the value of ∆G, and its components?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02680" y="2476440"/>
            <a:ext cx="12687480" cy="71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4920" indent="-6649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&lt; 0, |∆H| &g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dd2067"/>
                </a:solidFill>
                <a:latin typeface="Arial"/>
              </a:rPr>
              <a:t>G &lt; 0, |∆H| &l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108440" indent="-66492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Since we know that the solution cools, we know that ∆H is positive, and since that is unfavorable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1108440" indent="-66492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although it is completely counter intuitive, the driving force for this reaction </a:t>
            </a:r>
            <a:r>
              <a:rPr b="0" i="1" lang="en-US" sz="3500" spc="-1" strike="noStrike">
                <a:solidFill>
                  <a:srgbClr val="2961b0"/>
                </a:solidFill>
                <a:latin typeface="Arial"/>
              </a:rPr>
              <a:t>must</a:t>
            </a: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 be an increase in entropy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1108440" indent="-664920">
              <a:spcBef>
                <a:spcPts val="799"/>
              </a:spcBef>
              <a:buClr>
                <a:srgbClr val="2961b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61b0"/>
                </a:solidFill>
                <a:latin typeface="Arial"/>
              </a:rPr>
              <a:t>and for the reaction to be spontaneous (∆G&lt;0), the |T∆S| factor must be larger than the |∆H| factor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&gt; 0, |∆H| &g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&gt; 0, |∆H| &lt; |T∆S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664920" indent="-664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G = 0, |T∆S| = |∆H|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0236-7472-4D7F-BFA7-5187E6EBFB2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D063-3954-463F-A569-E3E391B6159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a spontaneous reaction, what happens to the value of ∆G as a reaction proceed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02680" y="3060360"/>
            <a:ext cx="1268748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ets more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ets less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5056-43A6-4B64-84C7-D7930DB2742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5F1B-074F-4E01-BC11-DE5A2B75A8D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a spontaneous reaction, what happens to the value of ∆G as a reaction proceed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02680" y="3060360"/>
            <a:ext cx="1268748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ets more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gets less negativ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tays the sam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9089-8C27-4AB6-B9AA-BA142A434F9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119D-6F5E-4988-893E-9CFD64EBCA6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The reaction below is not spontaneous at standard conditions but becomes spontaneous at higher temperatures.   2C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→ A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+ 3B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Which of the following is true at 298 K?</a:t>
            </a:r>
            <a:endParaRPr b="0" lang="en-US" sz="41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202680" y="2857320"/>
            <a:ext cx="12687480" cy="67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, ∆H, and ∆S are all 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, ∆H, and ∆S are all neg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H are positive, but ∆S is neg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S are positive, but ∆H is neg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H are negative, but ∆S is 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and ∆S are negative, but ∆H is 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is positive, but we can not know about the sign of ∆S or ∆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7680" indent="-8776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 is negative, but we can not know about the sign of ∆S or ∆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0248-9DAF-47CA-9942-9FF4086C36F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92A4-94FD-40E6-AF25-DD96290195F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rocess(es) shown below is(are) spontaneou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02680" y="2082600"/>
            <a:ext cx="12687480" cy="75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dd2067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d2067"/>
                </a:solidFill>
                <a:latin typeface="Arial"/>
              </a:rPr>
              <a:t>Both are,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yet #1 is endothermic and #2 is exothermic. (Notice the settings—table and freezer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s means that analyzing just energy changes is not enough to determine when a process will be spontaneou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E860-3DD5-4211-8C16-19B93700D63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rcRect l="9733" t="7258" r="9959" b="4213"/>
          <a:stretch/>
        </p:blipFill>
        <p:spPr>
          <a:xfrm>
            <a:off x="3987720" y="5486400"/>
            <a:ext cx="3746520" cy="3902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"/>
          <p:cNvPicPr/>
          <p:nvPr/>
        </p:nvPicPr>
        <p:blipFill>
          <a:blip r:embed="rId2"/>
          <a:srcRect l="2160" t="2324" r="2700" b="3614"/>
          <a:stretch/>
        </p:blipFill>
        <p:spPr>
          <a:xfrm>
            <a:off x="8559720" y="5562720"/>
            <a:ext cx="3784680" cy="390348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6"/>
          <p:cNvSpPr/>
          <p:nvPr/>
        </p:nvSpPr>
        <p:spPr>
          <a:xfrm>
            <a:off x="3156120" y="579456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7497720" y="579456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6491904" presetSubtype="572418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6491904" presetSubtype="572418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BA4A-28C8-43FE-907B-5DE9745D0BC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The reaction below is not spontaneous at standard conditions but becomes spontaneous at higher temperatures.   2C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 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--&gt; A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+ 3B</a:t>
            </a:r>
            <a:r>
              <a:rPr b="0" lang="en-US" sz="4100" spc="-1" strike="noStrike" baseline="-6000">
                <a:solidFill>
                  <a:srgbClr val="00007d"/>
                </a:solidFill>
                <a:latin typeface="Arial"/>
              </a:rPr>
              <a:t>(g)</a:t>
            </a: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Which of the following is true at 298 K?</a:t>
            </a:r>
            <a:endParaRPr b="0" lang="en-US" sz="41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202680" y="2857320"/>
            <a:ext cx="12687480" cy="67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905040" indent="-90504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G, ∆H, and ∆S are all po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751"/>
              </a:spcBef>
              <a:buClr>
                <a:srgbClr val="dd2067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at 298 K, not spontaneous means G 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751"/>
              </a:spcBef>
              <a:buClr>
                <a:srgbClr val="dd2067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2067"/>
                </a:solidFill>
                <a:latin typeface="Arial"/>
              </a:rPr>
              <a:t>when ∆S is positive, the |T∆S| factor will increase at higher temperatures and since the equation is, -T∆S, at some temp the T∆S factor will be greater than the ∆H and the value of ∆G will become  negati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, ∆H, and ∆S are all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H are positive, but ∆S is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S are positive, but ∆H is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H are negative, but ∆S is po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and ∆S are negative, but ∆H is po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is positive, but we can not know about the sign of ∆S or ∆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 is negative, but we can not know about the sign of ∆S or ∆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88F6-A171-421F-9F74-C3D9417998F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36A1-EBCE-4609-BF6D-9D5F91E100A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1" descr=""/>
          <p:cNvPicPr/>
          <p:nvPr/>
        </p:nvPicPr>
        <p:blipFill>
          <a:blip r:embed="rId1"/>
          <a:stretch/>
        </p:blipFill>
        <p:spPr>
          <a:xfrm>
            <a:off x="7886880" y="5460840"/>
            <a:ext cx="5054400" cy="412776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which of the following would ∆S&lt;0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03040" y="1294920"/>
            <a:ext cx="7683840" cy="83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Dissolving a substanc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Melt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Falling leav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xidation of a metal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Decomposition of water into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4" descr=""/>
          <p:cNvPicPr/>
          <p:nvPr/>
        </p:nvPicPr>
        <p:blipFill>
          <a:blip r:embed="rId2"/>
          <a:stretch/>
        </p:blipFill>
        <p:spPr>
          <a:xfrm>
            <a:off x="7886880" y="1270080"/>
            <a:ext cx="5054400" cy="41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A8F5-6B63-43EF-8441-0C7E33284A6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1" descr=""/>
          <p:cNvPicPr/>
          <p:nvPr/>
        </p:nvPicPr>
        <p:blipFill>
          <a:blip r:embed="rId1"/>
          <a:stretch/>
        </p:blipFill>
        <p:spPr>
          <a:xfrm>
            <a:off x="7886880" y="5460840"/>
            <a:ext cx="5054400" cy="412776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For which of the following would ∆S&lt;0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03040" y="1294920"/>
            <a:ext cx="7683840" cy="83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Dissolving a substanc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Melting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alling leav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d2067"/>
                </a:solidFill>
                <a:latin typeface="Arial"/>
              </a:rPr>
              <a:t>Oxidation of a meta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24"/>
              </a:spcBef>
              <a:buClr>
                <a:srgbClr val="dd2067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2067"/>
                </a:solidFill>
                <a:latin typeface="Arial"/>
              </a:rPr>
              <a:t>oxidation will often produce a solid metal oxide which will have more order than a pure metal and the oxygen g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9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Decomposition of water into H</a:t>
            </a:r>
            <a:r>
              <a:rPr b="0" lang="en-US" sz="5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52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2"/>
          <a:stretch/>
        </p:blipFill>
        <p:spPr>
          <a:xfrm>
            <a:off x="7886880" y="1270080"/>
            <a:ext cx="5054400" cy="41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0444-9A2B-432A-AFD2-7054FFB6955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arameters below correctly describe the condensation of water on the inside of your car windshield on a cold morning. </a:t>
            </a:r>
            <a:r>
              <a:rPr b="0" i="1" lang="en-US" sz="49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51920" y="3848040"/>
            <a:ext cx="1268748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 &lt; 0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V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497D-8B89-453C-932D-4B6B80C95BD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parameters below correctly describe the condensation of water on the inside of your car windshield on a cold morning. </a:t>
            </a:r>
            <a:r>
              <a:rPr b="0" i="1" lang="en-US" sz="49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51920" y="3848040"/>
            <a:ext cx="1268748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G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 &lt; 0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&lt; 0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V &lt; 0—V is for volume, which decrases when a gas forms into a liqui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9D18-518F-461A-B650-F34C7965EDE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02680" y="190080"/>
            <a:ext cx="12687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∆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H for the reaction below is negative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+ 3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2(g)  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→  2NH</a:t>
            </a:r>
            <a:r>
              <a:rPr b="0" lang="en-US" sz="5700" spc="-1" strike="noStrike" baseline="-6000">
                <a:solidFill>
                  <a:srgbClr val="00007d"/>
                </a:solidFill>
                <a:latin typeface="Arial"/>
              </a:rPr>
              <a:t>3(g)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    ∆H = -97kJ</a:t>
            </a:r>
            <a:br>
              <a:rPr sz="5700"/>
            </a:b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Which is larger, the bond dissociation value of the reactants or products?</a:t>
            </a:r>
            <a:endParaRPr b="0" lang="en-US" sz="57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02680" y="4876920"/>
            <a:ext cx="12687480" cy="47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43000" indent="-11430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depends on other factors, and cannot be determined with the information given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5588-F044-467D-8736-435BC770EA9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1AF1-87FA-4316-BA1C-C21CFD20B2A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02680" y="127080"/>
            <a:ext cx="1268748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∆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H for the reaction below is negative</a:t>
            </a:r>
            <a:br>
              <a:rPr sz="39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0" lang="en-US" sz="3900" spc="-1" strike="noStrike" baseline="-6000">
                <a:solidFill>
                  <a:srgbClr val="00007d"/>
                </a:solidFill>
                <a:latin typeface="Arial"/>
              </a:rPr>
              <a:t>2(g) 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+ 3H</a:t>
            </a:r>
            <a:r>
              <a:rPr b="0" lang="en-US" sz="3900" spc="-1" strike="noStrike" baseline="-6000">
                <a:solidFill>
                  <a:srgbClr val="00007d"/>
                </a:solidFill>
                <a:latin typeface="Arial"/>
              </a:rPr>
              <a:t>2(g)  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→  2NH</a:t>
            </a:r>
            <a:r>
              <a:rPr b="0" lang="en-US" sz="3900" spc="-1" strike="noStrike" baseline="-6000">
                <a:solidFill>
                  <a:srgbClr val="00007d"/>
                </a:solidFill>
                <a:latin typeface="Arial"/>
              </a:rPr>
              <a:t>3(g)</a:t>
            </a: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      ∆H = -97kJ</a:t>
            </a:r>
            <a:br>
              <a:rPr sz="3900"/>
            </a:br>
            <a:r>
              <a:rPr b="0" lang="en-US" sz="3900" spc="-1" strike="noStrike">
                <a:solidFill>
                  <a:srgbClr val="00007d"/>
                </a:solidFill>
                <a:latin typeface="Arial"/>
              </a:rPr>
              <a:t>Which is larger, the bond dissociation value of the reactants or products?</a:t>
            </a:r>
            <a:endParaRPr b="0" lang="en-US" sz="39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02680" y="2603160"/>
            <a:ext cx="1268748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850"/>
              </a:spcBef>
              <a:buClr>
                <a:srgbClr val="dd206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Product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dd2067"/>
                </a:solidFill>
                <a:latin typeface="Arial"/>
              </a:rPr>
              <a:t>Because the reaction is exothermic, the product bonds must release more energy when formed than the reactant bonds required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3. depends on other factors, and cannot be determined with the information given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5731-764F-45E8-A367-7796463DE55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FCCF-60D7-494B-B1C8-7E2F1AD4A1D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51920" y="126720"/>
            <a:ext cx="1268748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7d"/>
                </a:solidFill>
                <a:latin typeface="Arial"/>
              </a:rPr>
              <a:t>Consider the disorder of the following reactions and select the choice for which the sign of ∆S is INCORRECT.</a:t>
            </a:r>
            <a:br>
              <a:rPr sz="5100"/>
            </a:b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90080" y="3123720"/>
            <a:ext cx="126874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H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AgCl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a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2S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  <a:tab algn="l" pos="104727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4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9B26-350E-4865-AB42-D6BEF2239BF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51920" y="126720"/>
            <a:ext cx="1268748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7d"/>
                </a:solidFill>
                <a:latin typeface="Arial"/>
              </a:rPr>
              <a:t>Consider the disorder of the following reactions and select the choice for which the sign of ∆S is INCORRECT.</a:t>
            </a:r>
            <a:br>
              <a:rPr sz="5100"/>
            </a:b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0080" y="3123720"/>
            <a:ext cx="126874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→ H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(L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5600" spc="-1" strike="noStrike" baseline="32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AgCl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CaC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-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2S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+ 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→ 2SO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3(g)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00695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→ 4F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S 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EECB-4D5D-4B42-9206-313E3AA857D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d"/>
                </a:solidFill>
                <a:latin typeface="Arial"/>
              </a:rPr>
              <a:t>Choose the pair of samples of matter that INCORRECTLY compares their entropy values.</a:t>
            </a: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 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254160" y="2629080"/>
          <a:ext cx="12496680" cy="5933880"/>
        </p:xfrm>
        <a:graphic>
          <a:graphicData uri="http://schemas.openxmlformats.org/drawingml/2006/table">
            <a:tbl>
              <a:tblPr/>
              <a:tblGrid>
                <a:gridCol w="639720"/>
                <a:gridCol w="5456160"/>
                <a:gridCol w="738000"/>
                <a:gridCol w="5662800"/>
              </a:tblGrid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s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50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F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Ar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ole 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8AA6-29C2-4F50-BA3F-E4285D050C3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02680" y="342720"/>
            <a:ext cx="1268748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Opposing Dispersal Trend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02680" y="1510920"/>
            <a:ext cx="12687480" cy="8102520"/>
          </a:xfrm>
          <a:prstGeom prst="rect">
            <a:avLst/>
          </a:prstGeom>
          <a:noFill/>
          <a:ln w="0">
            <a:noFill/>
          </a:ln>
        </p:spPr>
        <p:txBody>
          <a:bodyPr lIns="0" rIns="417744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ezing water leads to more ordered matter and seems like a violation of the common-sense la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s means that analyzing just change in disorder is not enough to determine when a process will be spontaneou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 what should we conside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1"/>
          <a:srcRect l="9733" t="7258" r="9959" b="4213"/>
          <a:stretch/>
        </p:blipFill>
        <p:spPr>
          <a:xfrm>
            <a:off x="8788320" y="1371600"/>
            <a:ext cx="3746520" cy="3902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rcRect l="2160" t="2324" r="2700" b="3614"/>
          <a:stretch/>
        </p:blipFill>
        <p:spPr>
          <a:xfrm>
            <a:off x="8810640" y="5621400"/>
            <a:ext cx="3784680" cy="39034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6"/>
          <p:cNvSpPr/>
          <p:nvPr/>
        </p:nvSpPr>
        <p:spPr>
          <a:xfrm>
            <a:off x="11942640" y="5794560"/>
            <a:ext cx="59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#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7744128" presetSubtype="571028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7744128" presetSubtype="571028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7744128" presetSubtype="571028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A59C-E927-4E55-8572-AEAFC2EE2D7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d"/>
                </a:solidFill>
                <a:latin typeface="Arial"/>
              </a:rPr>
              <a:t>Choose the pair of samples of matter that INCORRECTLY compares their entropy values.</a:t>
            </a: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 Select all that apply.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368280" y="2527200"/>
          <a:ext cx="12496680" cy="5934240"/>
        </p:xfrm>
        <a:graphic>
          <a:graphicData uri="http://schemas.openxmlformats.org/drawingml/2006/table">
            <a:tbl>
              <a:tblPr/>
              <a:tblGrid>
                <a:gridCol w="639720"/>
                <a:gridCol w="5456160"/>
                <a:gridCol w="738360"/>
                <a:gridCol w="5662440"/>
              </a:tblGrid>
              <a:tr h="98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ntropy of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s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L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50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F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Ar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25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  <a:tr h="98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ole 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e 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4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 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O</a:t>
                      </a:r>
                      <a:r>
                        <a:rPr b="0" lang="en-US" sz="4300" spc="-1" strike="noStrike" baseline="-6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STP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4fc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BAED-B731-4BA2-8F98-76772B4D2EB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4160" y="254160"/>
            <a:ext cx="126871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negative for any exothermic reaction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909D-631B-44B0-B120-6E0410E687C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C43D-B67D-4AB2-B9AC-643C75D5A19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negative for any exothermic reaction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59C4-C0FB-4190-9083-2EDA2A62D45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3157-D0A8-45FC-9F11-89A0DFD4E9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always positive for all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(Select as many as apply.)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1F00-F421-49B2-B85D-BB9C2106BE6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F4A2-84AA-4C80-9A58-A368CB79206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is always positive for all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dd2067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BA80-7AB8-4C29-8150-7686D777A0E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6A19-320C-4DB1-B519-B3DB6CD5884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can be negative for spontaneous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(Activation Energy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87D5-76A8-4F0F-8A3F-3B18E09F435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9AF8-F876-4BAB-87DD-C6AB9CDBBF4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Its value can be negative for spontaneous reactions.</a:t>
            </a:r>
            <a:r>
              <a:rPr b="0" lang="en-US" sz="4600" spc="-1" strike="noStrike">
                <a:solidFill>
                  <a:srgbClr val="00007d"/>
                </a:solidFill>
                <a:latin typeface="Arial"/>
              </a:rPr>
              <a:t> Select the thermodynamic quantity below that makes the statement above true.</a:t>
            </a:r>
            <a:r>
              <a:rPr b="0" lang="en-US" sz="5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4600" spc="-1" strike="noStrike">
                <a:solidFill>
                  <a:srgbClr val="00007d"/>
                </a:solidFill>
                <a:latin typeface="Arial"/>
              </a:rPr>
              <a:t>Select as many as apply.</a:t>
            </a:r>
            <a:endParaRPr b="0" lang="en-US" sz="4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02680" y="3758760"/>
            <a:ext cx="126874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eq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G (must b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H (can b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600" spc="-1" strike="noStrike">
                <a:solidFill>
                  <a:srgbClr val="dd2067"/>
                </a:solidFill>
                <a:latin typeface="Arial"/>
              </a:rPr>
              <a:t>S (can be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600" spc="-1" strike="noStrike" baseline="-6000">
                <a:solidFill>
                  <a:srgbClr val="000000"/>
                </a:solidFill>
                <a:latin typeface="Arial"/>
              </a:rPr>
              <a:t>a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01FA-9726-4A7C-97A9-062F0773AD7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3"/>
          <p:cNvSpPr/>
          <p:nvPr/>
        </p:nvSpPr>
        <p:spPr>
          <a:xfrm>
            <a:off x="12611160" y="933444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A482-F1B4-4F55-A6FF-F138F3E7A08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66760" y="177840"/>
            <a:ext cx="125222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00007d"/>
                </a:solidFill>
                <a:latin typeface="Arial"/>
              </a:rPr>
              <a:t>Calculating ∆S</a:t>
            </a:r>
            <a:endParaRPr b="0" lang="en-US" sz="89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1CB5-3D43-4B5E-A4B7-EA8886A078C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Boiling and Melting Point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a substance is at its boiling or melting temperature it is at equilibriu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at equilibrium ∆G =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nce ∆G = ∆Hº - T∆S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∆Sº = ∆H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 the ∆S of melting or boiling = ∆H/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is how entropy of some substances can be calculate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9939200" presetSubtype="762689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EC36-CDDF-406B-8277-D851159F388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The molar heat of fusion, ∆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for water is 6.01 kJ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. Which expression gives the molar entropy of fusion, ∆S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in kJ K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for ice at its normal melting point?</a:t>
            </a:r>
            <a:endParaRPr b="0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02680" y="3403080"/>
            <a:ext cx="12687480" cy="62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4.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7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9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9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5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EC1A-C4B4-49A8-A579-27EEC8780B7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Group 4"/>
          <p:cNvGrpSpPr/>
          <p:nvPr/>
        </p:nvGrpSpPr>
        <p:grpSpPr>
          <a:xfrm>
            <a:off x="3124080" y="6010560"/>
            <a:ext cx="1184400" cy="1212120"/>
            <a:chOff x="3124080" y="6010560"/>
            <a:chExt cx="1184400" cy="1212120"/>
          </a:xfrm>
        </p:grpSpPr>
        <p:sp>
          <p:nvSpPr>
            <p:cNvPr id="793" name="Rectangle 5"/>
            <p:cNvSpPr/>
            <p:nvPr/>
          </p:nvSpPr>
          <p:spPr>
            <a:xfrm>
              <a:off x="3264480" y="601056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6"/>
            <p:cNvSpPr/>
            <p:nvPr/>
          </p:nvSpPr>
          <p:spPr>
            <a:xfrm>
              <a:off x="3273840" y="658224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7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V="1">
              <a:off x="3124080" y="665280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8"/>
          <p:cNvGrpSpPr/>
          <p:nvPr/>
        </p:nvGrpSpPr>
        <p:grpSpPr>
          <a:xfrm>
            <a:off x="3124080" y="7445520"/>
            <a:ext cx="1184400" cy="1212120"/>
            <a:chOff x="3124080" y="7445520"/>
            <a:chExt cx="1184400" cy="1212120"/>
          </a:xfrm>
        </p:grpSpPr>
        <p:sp>
          <p:nvSpPr>
            <p:cNvPr id="797" name="Rectangle 9"/>
            <p:cNvSpPr/>
            <p:nvPr/>
          </p:nvSpPr>
          <p:spPr>
            <a:xfrm>
              <a:off x="3264480" y="744552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0"/>
            <p:cNvSpPr/>
            <p:nvPr/>
          </p:nvSpPr>
          <p:spPr>
            <a:xfrm>
              <a:off x="3273840" y="801720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8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11"/>
            <p:cNvSpPr/>
            <p:nvPr/>
          </p:nvSpPr>
          <p:spPr>
            <a:xfrm flipV="1">
              <a:off x="3124080" y="808776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7D73-0ED9-4BB5-BFB3-AA4219BCC85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Entropy, (S) is a measure of dispersal - dispersal of matter </a:t>
            </a:r>
            <a:r>
              <a:rPr b="0" i="1" lang="en-US" sz="4800" spc="-1" strike="noStrike">
                <a:solidFill>
                  <a:srgbClr val="00007d"/>
                </a:solidFill>
                <a:latin typeface="Arial"/>
              </a:rPr>
              <a:t>and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dispersal of energy</a:t>
            </a:r>
            <a:endParaRPr b="0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0080" y="1765080"/>
            <a:ext cx="12649320" cy="78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In 1877 Ludwig Boltzman defined the entropy of a substance as the number of ways to describe a system, “degrees of freedom”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863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Remember the First Law of Thermodynamic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Energy is never lost or gained, only change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37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 = 0 (always)       ∆E = q + w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163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cond Law of Thermodynamic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In any spontaneous process, the total entropy increases.  ∆S</a:t>
            </a:r>
            <a:r>
              <a:rPr b="0" lang="en-US" sz="37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∆S</a:t>
            </a:r>
            <a:r>
              <a:rPr b="0" lang="en-US" sz="3700" spc="-1" strike="noStrike" baseline="-6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+ ∆S</a:t>
            </a:r>
            <a:r>
              <a:rPr b="0" lang="en-US" sz="3700" spc="-1" strike="noStrike" baseline="-6000">
                <a:solidFill>
                  <a:srgbClr val="000000"/>
                </a:solidFill>
                <a:latin typeface="Arial"/>
              </a:rPr>
              <a:t>surrounding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986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700" spc="-1" strike="noStrike" baseline="-6000">
                <a:solidFill>
                  <a:srgbClr val="000000"/>
                </a:solidFill>
                <a:latin typeface="Arial"/>
              </a:rPr>
              <a:t>total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 &gt; 0 (always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8138880" presetSubtype="57245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lide Number Placeholder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970D-0E96-4793-A9F3-A85871A7FA0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02680" y="254160"/>
            <a:ext cx="12687480" cy="31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The molar heat of fusion, ∆H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for water is 6.01 kJ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. Which expression gives the molar entropy of fusion, ∆S</a:t>
            </a:r>
            <a:r>
              <a:rPr b="0" lang="en-US" sz="4800" spc="-1" strike="noStrike" baseline="-6000">
                <a:solidFill>
                  <a:srgbClr val="00007d"/>
                </a:solidFill>
                <a:latin typeface="Arial"/>
              </a:rPr>
              <a:t>fus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, in kJ K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mol</a:t>
            </a:r>
            <a:r>
              <a:rPr b="0" lang="en-US" sz="4800" spc="-1" strike="noStrike" baseline="32000">
                <a:solidFill>
                  <a:srgbClr val="00007d"/>
                </a:solidFill>
                <a:latin typeface="Arial"/>
              </a:rPr>
              <a:t>-1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for ice at its normal melting point?</a:t>
            </a:r>
            <a:endParaRPr b="0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17520" y="3543480"/>
            <a:ext cx="12687120" cy="62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4.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7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.01 x 29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2900"/>
              </a:spcBef>
              <a:buClr>
                <a:srgbClr val="dd206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2067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dd2067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dd2067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dd2067"/>
                </a:solidFill>
                <a:latin typeface="Arial"/>
              </a:rPr>
              <a:t> =         ice melts at 0 C (273 K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5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5000" spc="-1" strike="noStrike" baseline="-6000">
                <a:solidFill>
                  <a:srgbClr val="000000"/>
                </a:solidFill>
                <a:latin typeface="Arial"/>
              </a:rPr>
              <a:t>fus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3"/>
          <p:cNvSpPr/>
          <p:nvPr/>
        </p:nvSpPr>
        <p:spPr>
          <a:xfrm>
            <a:off x="12534840" y="92455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7F81-DA84-4CCB-83F0-A68C9F83D0C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4"/>
          <p:cNvGrpSpPr/>
          <p:nvPr/>
        </p:nvGrpSpPr>
        <p:grpSpPr>
          <a:xfrm>
            <a:off x="3284640" y="6010560"/>
            <a:ext cx="1184400" cy="1212120"/>
            <a:chOff x="3284640" y="6010560"/>
            <a:chExt cx="1184400" cy="1212120"/>
          </a:xfrm>
        </p:grpSpPr>
        <p:sp>
          <p:nvSpPr>
            <p:cNvPr id="805" name="Rectangle 5"/>
            <p:cNvSpPr/>
            <p:nvPr/>
          </p:nvSpPr>
          <p:spPr>
            <a:xfrm>
              <a:off x="3425040" y="601056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dd2067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6"/>
            <p:cNvSpPr/>
            <p:nvPr/>
          </p:nvSpPr>
          <p:spPr>
            <a:xfrm>
              <a:off x="3434400" y="658224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dd2067"/>
                  </a:solidFill>
                  <a:latin typeface="Arial"/>
                  <a:ea typeface="Arial"/>
                </a:rPr>
                <a:t>27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7"/>
            <p:cNvSpPr/>
            <p:nvPr/>
          </p:nvSpPr>
          <p:spPr>
            <a:xfrm flipV="1">
              <a:off x="3284640" y="665280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8"/>
          <p:cNvGrpSpPr/>
          <p:nvPr/>
        </p:nvGrpSpPr>
        <p:grpSpPr>
          <a:xfrm>
            <a:off x="3124080" y="7445520"/>
            <a:ext cx="1184400" cy="1212120"/>
            <a:chOff x="3124080" y="7445520"/>
            <a:chExt cx="1184400" cy="1212120"/>
          </a:xfrm>
        </p:grpSpPr>
        <p:sp>
          <p:nvSpPr>
            <p:cNvPr id="809" name="Rectangle 9"/>
            <p:cNvSpPr/>
            <p:nvPr/>
          </p:nvSpPr>
          <p:spPr>
            <a:xfrm>
              <a:off x="3264480" y="7445520"/>
              <a:ext cx="1040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0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0"/>
            <p:cNvSpPr/>
            <p:nvPr/>
          </p:nvSpPr>
          <p:spPr>
            <a:xfrm>
              <a:off x="3273840" y="8017200"/>
              <a:ext cx="892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8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11"/>
            <p:cNvSpPr/>
            <p:nvPr/>
          </p:nvSpPr>
          <p:spPr>
            <a:xfrm flipV="1">
              <a:off x="3124080" y="8087760"/>
              <a:ext cx="1184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3"/>
          <p:cNvSpPr/>
          <p:nvPr/>
        </p:nvSpPr>
        <p:spPr>
          <a:xfrm>
            <a:off x="12533400" y="9271080"/>
            <a:ext cx="369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694F-3220-4441-80D7-BAA5992737F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02680" y="253800"/>
            <a:ext cx="1268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7d"/>
                </a:solidFill>
                <a:latin typeface="Arial"/>
              </a:rPr>
              <a:t>Third Law of Thermodynamics</a:t>
            </a:r>
            <a:endParaRPr b="0" lang="en-US" sz="7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0840" y="1638360"/>
            <a:ext cx="12649320" cy="79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Third law of Thermodynam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 pure, perfect crystal at 0 K has zero entrop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800" spc="-1" strike="noStrike" baseline="-6000">
                <a:solidFill>
                  <a:srgbClr val="000000"/>
                </a:solidFill>
                <a:latin typeface="Arial"/>
              </a:rPr>
              <a:t>(pure, perfect crystal; T=0K)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s makes it possible to measure the absolute entropy of any substance at any temperatu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te that unlike ∆Hº</a:t>
            </a:r>
            <a:r>
              <a:rPr b="0" lang="en-US" sz="4800" spc="-1" strike="noStrike" baseline="-6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Sº values are never zero at any temperature above 0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8139264" presetSubtype="76270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sexton</cp:lastModifiedBy>
  <dcterms:modified xsi:type="dcterms:W3CDTF">2014-01-08T21:29:01Z</dcterms:modified>
  <cp:revision>34</cp:revision>
  <dc:subject/>
  <dc:title>Thermodynamics</dc:title>
</cp:coreProperties>
</file>