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k why line slopes up during temp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the length of line during phase changes - L&gt;G is greater than S&gt;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slope of line during each phase? I am not sure why gas is steeper sl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CA92-4701-421A-A2F8-F2C92D308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1D96-FBB1-4AD4-AF16-D7D8A581238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72B2-1F51-4344-9E02-20A641AF807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0A6D7-5C8C-4D99-9A6C-5E43F91E58F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44A7-211E-4679-8F60-4C21063A4E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453D-3951-4C44-AEED-954A6F12BC7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CAC1-0E66-4DDA-9457-61FC89AAE92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D241-CED3-467F-8F4C-4E27227A259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D3D0-4650-443B-9E8F-03727DD3A1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EFD5-8B12-4348-A9DC-DF13614C508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BC6F-D853-4636-B6DD-F5BB7703C84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73293-B042-4EE7-9AEE-1A60986C2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1001-A0CD-414C-BBEB-43A91BACA1B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D8CA2-7732-4D3F-8ADF-123883FF9A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8DA4A-877E-4216-85AF-C2F6859627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9FAAF-FE4F-4D2D-A442-798C1CC430A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AE0A3-E37C-4E20-9B50-A9330120700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2BCC7-F50F-4C81-B97F-7D6DA914FBD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E54BB-E6B1-4CE4-A461-2A2337891E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EAA656-2F15-4AE3-AC31-F9519A3AE73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B267A-161F-4070-BACD-DEA14BCC1A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631D3-FB67-406D-B909-DC542960BCB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A8B461-D012-49AA-A6BC-35F750BCF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3AC3-8C0B-4628-8C9B-D3120AF613E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DA2A2E-2915-45B3-98B0-9A5C05C02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2408-3478-434D-81EB-B55E1B936A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A92E-D280-4704-A13C-6DD6D361AB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5B4B-7FAC-4520-B54A-3622371C03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76A2-734C-4503-8A50-74DB0A7A07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5E11-BE57-4D51-A75C-B032DCE52D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2670C-88B8-472A-8D75-D1D04D72EF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DF15-C91F-4047-A8F6-B4B900805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92E0-6639-4366-B4A3-909BC341E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B9CE-5CDB-4AF7-8ED0-544F7B6062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896C-EE47-4BBC-A874-745DEFC50B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D207-E485-4C04-8203-2D00CEB956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77BA-481B-4802-B546-25098C6603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70A3-C33C-40C8-9E78-D4C2EA9831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698-3730-4AA5-BCD5-4BC745BFB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428-4D04-4FBA-99BE-BD94A1E432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7A9-8D6E-41A6-86CF-50FD31C67D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D62-D774-4E39-AF5C-52EF6A1BF1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425-6CE7-49B3-8010-70D0135311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A44D-3EE1-4690-9EED-22A108B432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659-E8E4-43E6-8CCD-68114FCC43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E47-3846-45C9-A819-31F5DCBDA9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5CD-25E0-4BB5-A997-FF8A2311B8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DE9-A052-4625-8A0D-27A430A0E1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DC0-44D8-4907-A131-751C8BCA0A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80C-BA3C-4CE8-B62E-6E8DF60406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738-92AF-4FBC-AF32-0D794F5020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D379B-EEFA-48D9-8C80-A9BC2F2772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6780D-D8A7-46FE-9AD9-765C955AB8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E11A4-D6E7-4FBF-8350-F7D6498DC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5A6C-D53D-4E7E-BE28-B25F7222EA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54DB8-AC33-4C32-BE80-A0E6E10C71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03C72-2183-4ABC-993A-7593363574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D773F-E2A1-4971-90DF-A89A148549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25FA7-1D21-46F9-B044-3098398E49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95887-AA18-4207-A025-60588D87D8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F835F-2C7D-4F3A-8442-A96B085F6C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AF89A-3F47-4D39-BA61-D8A2B70847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EB0B9-96C4-4DE3-B405-7711D9DD2F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D7CFC-A6EC-426A-BF67-D5C0B5DECF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5E69B-9F73-4E5D-8324-3545EBA67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2A67-E95E-4501-B1DF-F4A439E344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537D4-AA9F-4696-8F3B-6D0276BAFA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F26A4-0814-4CA5-9BE8-4915FBC7672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307FC-32C6-4EC6-95E7-C871E3ECA97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AD5A8-C9A5-4ED4-A22D-DB50D37CF6E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DA27E-8AB6-4351-89E9-885458F13C9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5FB70-79B1-47CE-A2EC-574D0C932CF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80DF7-7EAE-4C2B-873C-16A5044F9A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A9BD7-AF01-43C8-9202-1E408E331D3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FE9A9-22D2-45AE-B5FC-9266C438CB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C826C-9E05-4701-BC50-CC855D60B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2FBA-4B44-4BBC-8E8E-9CAFA9E521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21E2C-9F5F-4086-9A13-CE645E47559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CE85-3C53-46CA-9F3E-A8C248DE0D8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5F19-4D82-43EA-B736-278BFF55DB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31EB-6068-400D-AE29-CEB99C61724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988C-2F2F-4C77-88ED-807BC3DE97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D271-1669-44A9-BA66-1F3DB32BB23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00D9-176B-4DC1-9DC7-09B164F206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ABCF-1913-4BE5-B755-9D91B533B50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375B-A428-4235-A456-D177E20B032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A151-5E8D-44E4-ACE5-3BAAB9B16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3B3F-7CEC-4F29-AA22-8126635171C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01E5-3BBB-4B55-B795-86BE66E00D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B971-847B-465A-8165-75C10492A0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B737-B481-4841-A25A-8A45DEDE671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A1118-9840-401B-9D44-556E087D0B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DE26E-5CBF-43D1-9ACF-AB983E7956D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39EE7-CFF6-4801-8C3B-3925041F15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BDA09-9024-4050-9154-7D646173DE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15A14-CE29-4ED7-AE42-B66FF1788D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B311E-6001-4830-A7B5-146DA8FAB52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AE45C-1792-4D1D-B260-AE546339F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8C97-D037-4790-88B0-97CBECD54A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5112E-E889-46E6-B20B-F3C6B5FD18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D2F0D-90E5-4B8F-B0E8-D5286E56D5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C11E4-0EFB-4A63-96FB-499AE0061E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02768-27B7-4138-9042-AD10C7158E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EC2D4-3D73-4A7D-BE0F-55DDEDD75AD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9DFC9-65B6-427C-A56A-7DCB307CCD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A3BEC-2364-4D92-84C9-FE682D1A42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E405F-272E-46B8-84F9-B1915EF2ED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C620C-524B-4853-9C00-7583F0632D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3A9BD-2766-4CE5-9850-832964EDA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5C1D-4634-48BA-817B-969C163808A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9A100-BC53-4CF5-9AA1-3A2DA300865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1EBD5-5700-4113-B8C6-2A38DE3526B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78728-BBDA-4738-AA7B-27327A26B62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2CBCD-4323-41B6-A483-FC177284BB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5F7D0-173E-4AA0-8C8E-E033CD5F48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76F25-6182-4F8D-B1E7-2D2C16CAFC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1AAB7-D87D-48F0-B9A1-836FF8E5BC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33BF-5CA1-4312-9564-23A1522CDA7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AE18-AED5-4086-86DE-6DFE9B778BF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39FA-D907-4CC2-A9E5-0886CC179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4840-5963-4E98-99BE-491E253614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A959-5284-4424-8841-BEEF57F255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FAEF-6276-4C8C-90F5-91D0ED17256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4CC-A18D-4E8C-A37C-7A4BCBC4E0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D2F4-404A-4E18-B96D-9721D18964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99C-9249-481A-BF4D-8BD717CC139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8AF1-3BD3-4C35-AD77-EAB5A7A687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F92F-DBF8-486D-99AE-CE510BA74D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6542-2B06-4624-AFC9-F7C40A750D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6147-07FA-4BCE-A0F0-D826BADA6C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EDA0-1E3E-4F15-A379-4863B16B6E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dynamic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Entropy and Free Energy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7FE2-B2CD-4B41-9E3C-1E0899887BD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1920" y="190440"/>
            <a:ext cx="1268748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 and Reaction Direction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 - 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80A-924B-4B42-99D3-511423E65F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1B1-7826-4567-9569-8E0B0DED7F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dd2067"/>
                </a:solidFill>
                <a:latin typeface="Arial"/>
              </a:rPr>
              <a:t>Solid (If all other things were similar)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really enough information to determ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8E85-5E4D-4E6B-B4E1-6EC4994A7C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gol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01DF-7EC8-4CD0-A847-5FF025F6C1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dd2067"/>
                </a:solidFill>
                <a:latin typeface="Arial"/>
              </a:rPr>
              <a:t>1 mole of gold, since it is solid, yet the mercury would be liquid at room temp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650C-88DF-404C-BB14-3CF867787B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F5A-7CBF-4155-A9A2-B61E09CB37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N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 u="sng">
                <a:solidFill>
                  <a:srgbClr val="dd2067"/>
                </a:solidFill>
                <a:uFillTx/>
                <a:latin typeface="Arial"/>
              </a:rPr>
              <a:t>All else being the same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, larger molecules have higher entropy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DE65-D2E9-4334-B0E1-DAF0DEB3AA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2680" y="6781320"/>
            <a:ext cx="12687480" cy="28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nd can you name these three molecules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AC22-283F-47F2-9468-B98692400B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0" t="0" r="0" b="27440"/>
          <a:stretch/>
        </p:blipFill>
        <p:spPr>
          <a:xfrm>
            <a:off x="203040" y="2629080"/>
            <a:ext cx="12520800" cy="28317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162828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575784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1046952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D840-6AB6-40E9-9EAB-B9F35F2730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02680" y="2006280"/>
            <a:ext cx="12687480" cy="76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ropane is a larger an thus has more entropy than analogous molecules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BEF9-9488-41DD-9573-8416D65A5E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rcRect l="0" t="0" r="0" b="7908"/>
          <a:stretch/>
        </p:blipFill>
        <p:spPr>
          <a:xfrm>
            <a:off x="241200" y="4013280"/>
            <a:ext cx="12520800" cy="3593880"/>
          </a:xfrm>
          <a:prstGeom prst="rect">
            <a:avLst/>
          </a:prstGeom>
          <a:ln w="0">
            <a:noFill/>
          </a:ln>
        </p:spPr>
      </p:pic>
      <p:sp>
        <p:nvSpPr>
          <p:cNvPr id="467" name="Oval 5"/>
          <p:cNvSpPr/>
          <p:nvPr/>
        </p:nvSpPr>
        <p:spPr>
          <a:xfrm>
            <a:off x="8255160" y="3759120"/>
            <a:ext cx="4597200" cy="4102200"/>
          </a:xfrm>
          <a:prstGeom prst="ellipse">
            <a:avLst/>
          </a:prstGeom>
          <a:noFill/>
          <a:ln w="63360">
            <a:solidFill>
              <a:srgbClr val="dd20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F9BD-4507-4DD0-95E1-20177D5C68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two moles of 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5B2F-ADE2-4482-827C-0F932FFF284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7840" y="25200"/>
            <a:ext cx="12687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7480" y="1307880"/>
            <a:ext cx="12649320" cy="78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very process has a preferred direction, which can be referred to as the spontaneous direction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spontaneous process can be reversed only by some action or outside forc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process can be spontaneous, yet may not occu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er behind a dam won’t flow until the gate is open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mixture of CH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will remain until spark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pontaneous in thermodynamics does not have the same meaning as in everyday spe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3F3C-AB2A-4821-AE33-1D8DFD5033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two moles of NO</a:t>
            </a:r>
            <a:r>
              <a:rPr b="0" lang="en-US" sz="72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since these molecules are not tied together with a bon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038E-B477-4A98-AEEE-598ED1649A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ºC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6EBC-CE84-4A2C-8404-EE9B61678D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e at 0ºC (This is 273 K…a higher temp=more entropy all else being the sam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DB75-0FF3-4DE6-99B1-F6376D4CE7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2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 and 2 have the same entropy 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A3D0-D84B-4300-A13D-D187D88E95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10 ml of 2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Higher concentration will have more entropy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 and 2 have the same entropy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EC55-AA1D-4AB5-BEAF-A7C80EC4B0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257A-97F7-425D-87BB-3616684640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04C8-CB16-4971-BD87-E47A2F494E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DD7E-C4E1-4F9A-9A30-2BF127A2B3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AF55-9558-4E7C-9066-25949A3A0D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34DB-B02D-4D37-8510-41A65940B0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72DC-56DD-4764-B953-38E163F97F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salt &gt; 0  alway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water &lt; 0 sometimes (Remember how water surrounds the ions in a hydrosphere? This creates more order in the water.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612D-E88B-4331-9A63-2ACF7B43BC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9505-4E7B-45C4-BE4C-F45ADCA78C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 (more than 1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Na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2FF1-EEC6-49D1-AAAC-2D0641D11E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631-E96B-413C-AC71-EAFC6466E97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e Common-Sense Law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tend to become disper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bles will scatter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not roll back in the bag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ences fall down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piles of wood don’t assembl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igsaw puzzles disassemble easily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shaking the box never result in reassemb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ch process reduces th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n the objec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DCF-3DF1-4747-B19B-29DE4184EC7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Ca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Ca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NaCl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Na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+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l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-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be unlikely that you would be asked to distinguish something like this as it is a VERY tough decision as demonstrated by next slide showing that there is very small entropy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2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⇋ 3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BF7A-6190-4427-A0E1-D672CBF058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E96F-277D-4BA4-90F0-A49865DB355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080" y="202680"/>
            <a:ext cx="12687480" cy="22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8880" y="1816200"/>
            <a:ext cx="3961440" cy="3895200"/>
            <a:chOff x="38880" y="1816200"/>
            <a:chExt cx="3961440" cy="3895200"/>
          </a:xfrm>
        </p:grpSpPr>
        <p:grpSp>
          <p:nvGrpSpPr>
            <p:cNvPr id="514" name="Group 4"/>
            <p:cNvGrpSpPr/>
            <p:nvPr/>
          </p:nvGrpSpPr>
          <p:grpSpPr>
            <a:xfrm>
              <a:off x="38880" y="1816200"/>
              <a:ext cx="3961440" cy="3895200"/>
              <a:chOff x="38880" y="1816200"/>
              <a:chExt cx="3961440" cy="3895200"/>
            </a:xfrm>
          </p:grpSpPr>
          <p:sp>
            <p:nvSpPr>
              <p:cNvPr id="515" name="Line 5"/>
              <p:cNvSpPr/>
              <p:nvPr/>
            </p:nvSpPr>
            <p:spPr>
              <a:xfrm>
                <a:off x="31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6"/>
              <p:cNvSpPr/>
              <p:nvPr/>
            </p:nvSpPr>
            <p:spPr>
              <a:xfrm>
                <a:off x="31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7"/>
              <p:cNvSpPr/>
              <p:nvPr/>
            </p:nvSpPr>
            <p:spPr>
              <a:xfrm>
                <a:off x="156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278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9"/>
              <p:cNvSpPr/>
              <p:nvPr/>
            </p:nvSpPr>
            <p:spPr>
              <a:xfrm>
                <a:off x="32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0"/>
              <p:cNvSpPr/>
              <p:nvPr/>
            </p:nvSpPr>
            <p:spPr>
              <a:xfrm>
                <a:off x="57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1"/>
              <p:cNvSpPr/>
              <p:nvPr/>
            </p:nvSpPr>
            <p:spPr>
              <a:xfrm>
                <a:off x="177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2"/>
              <p:cNvSpPr/>
              <p:nvPr/>
            </p:nvSpPr>
            <p:spPr>
              <a:xfrm>
                <a:off x="311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3"/>
              <p:cNvSpPr/>
              <p:nvPr/>
            </p:nvSpPr>
            <p:spPr>
              <a:xfrm>
                <a:off x="141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4"/>
              <p:cNvSpPr/>
              <p:nvPr/>
            </p:nvSpPr>
            <p:spPr>
              <a:xfrm>
                <a:off x="3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Line 15"/>
            <p:cNvSpPr/>
            <p:nvPr/>
          </p:nvSpPr>
          <p:spPr>
            <a:xfrm flipV="1">
              <a:off x="330120" y="2270160"/>
              <a:ext cx="3520800" cy="31017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6"/>
          <p:cNvGrpSpPr/>
          <p:nvPr/>
        </p:nvGrpSpPr>
        <p:grpSpPr>
          <a:xfrm>
            <a:off x="4063320" y="5753160"/>
            <a:ext cx="3962520" cy="3895200"/>
            <a:chOff x="4063320" y="5753160"/>
            <a:chExt cx="3962520" cy="3895200"/>
          </a:xfrm>
        </p:grpSpPr>
        <p:grpSp>
          <p:nvGrpSpPr>
            <p:cNvPr id="527" name="Group 17"/>
            <p:cNvGrpSpPr/>
            <p:nvPr/>
          </p:nvGrpSpPr>
          <p:grpSpPr>
            <a:xfrm>
              <a:off x="4063320" y="5753160"/>
              <a:ext cx="3962520" cy="3895200"/>
              <a:chOff x="4063320" y="5753160"/>
              <a:chExt cx="3962520" cy="3895200"/>
            </a:xfrm>
          </p:grpSpPr>
          <p:sp>
            <p:nvSpPr>
              <p:cNvPr id="528" name="Line 18"/>
              <p:cNvSpPr/>
              <p:nvPr/>
            </p:nvSpPr>
            <p:spPr>
              <a:xfrm>
                <a:off x="4341600" y="9321840"/>
                <a:ext cx="36810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9"/>
              <p:cNvSpPr/>
              <p:nvPr/>
            </p:nvSpPr>
            <p:spPr>
              <a:xfrm>
                <a:off x="4341600" y="5753160"/>
                <a:ext cx="121968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20"/>
              <p:cNvSpPr/>
              <p:nvPr/>
            </p:nvSpPr>
            <p:spPr>
              <a:xfrm>
                <a:off x="5586840" y="5753160"/>
                <a:ext cx="121932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21"/>
              <p:cNvSpPr/>
              <p:nvPr/>
            </p:nvSpPr>
            <p:spPr>
              <a:xfrm>
                <a:off x="6806160" y="5753160"/>
                <a:ext cx="121968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22"/>
              <p:cNvSpPr/>
              <p:nvPr/>
            </p:nvSpPr>
            <p:spPr>
              <a:xfrm>
                <a:off x="434484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3"/>
              <p:cNvSpPr/>
              <p:nvPr/>
            </p:nvSpPr>
            <p:spPr>
              <a:xfrm>
                <a:off x="459612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24"/>
              <p:cNvSpPr/>
              <p:nvPr/>
            </p:nvSpPr>
            <p:spPr>
              <a:xfrm>
                <a:off x="57963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5"/>
              <p:cNvSpPr/>
              <p:nvPr/>
            </p:nvSpPr>
            <p:spPr>
              <a:xfrm>
                <a:off x="713988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26"/>
              <p:cNvSpPr/>
              <p:nvPr/>
            </p:nvSpPr>
            <p:spPr>
              <a:xfrm>
                <a:off x="544068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27"/>
              <p:cNvSpPr/>
              <p:nvPr/>
            </p:nvSpPr>
            <p:spPr>
              <a:xfrm>
                <a:off x="406332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Line 28"/>
            <p:cNvSpPr/>
            <p:nvPr/>
          </p:nvSpPr>
          <p:spPr>
            <a:xfrm flipV="1">
              <a:off x="4354560" y="895176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9"/>
            <p:cNvSpPr/>
            <p:nvPr/>
          </p:nvSpPr>
          <p:spPr>
            <a:xfrm flipV="1">
              <a:off x="5586840" y="8248680"/>
              <a:ext cx="1214640" cy="6667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0"/>
            <p:cNvSpPr/>
            <p:nvPr/>
          </p:nvSpPr>
          <p:spPr>
            <a:xfrm flipV="1">
              <a:off x="6819480" y="6516360"/>
              <a:ext cx="1175040" cy="17002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1"/>
          <p:cNvGrpSpPr/>
          <p:nvPr/>
        </p:nvGrpSpPr>
        <p:grpSpPr>
          <a:xfrm>
            <a:off x="8228880" y="1816200"/>
            <a:ext cx="3966120" cy="3895200"/>
            <a:chOff x="8228880" y="1816200"/>
            <a:chExt cx="3966120" cy="3895200"/>
          </a:xfrm>
        </p:grpSpPr>
        <p:grpSp>
          <p:nvGrpSpPr>
            <p:cNvPr id="542" name="Group 32"/>
            <p:cNvGrpSpPr/>
            <p:nvPr/>
          </p:nvGrpSpPr>
          <p:grpSpPr>
            <a:xfrm>
              <a:off x="8228880" y="1816200"/>
              <a:ext cx="3961440" cy="3895200"/>
              <a:chOff x="8228880" y="1816200"/>
              <a:chExt cx="3961440" cy="3895200"/>
            </a:xfrm>
          </p:grpSpPr>
          <p:sp>
            <p:nvSpPr>
              <p:cNvPr id="543" name="Line 33"/>
              <p:cNvSpPr/>
              <p:nvPr/>
            </p:nvSpPr>
            <p:spPr>
              <a:xfrm>
                <a:off x="850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4"/>
              <p:cNvSpPr/>
              <p:nvPr/>
            </p:nvSpPr>
            <p:spPr>
              <a:xfrm>
                <a:off x="850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5"/>
              <p:cNvSpPr/>
              <p:nvPr/>
            </p:nvSpPr>
            <p:spPr>
              <a:xfrm>
                <a:off x="975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6"/>
              <p:cNvSpPr/>
              <p:nvPr/>
            </p:nvSpPr>
            <p:spPr>
              <a:xfrm>
                <a:off x="1097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7"/>
              <p:cNvSpPr/>
              <p:nvPr/>
            </p:nvSpPr>
            <p:spPr>
              <a:xfrm>
                <a:off x="851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8"/>
              <p:cNvSpPr/>
              <p:nvPr/>
            </p:nvSpPr>
            <p:spPr>
              <a:xfrm>
                <a:off x="876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9"/>
              <p:cNvSpPr/>
              <p:nvPr/>
            </p:nvSpPr>
            <p:spPr>
              <a:xfrm>
                <a:off x="996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40"/>
              <p:cNvSpPr/>
              <p:nvPr/>
            </p:nvSpPr>
            <p:spPr>
              <a:xfrm>
                <a:off x="1130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41"/>
              <p:cNvSpPr/>
              <p:nvPr/>
            </p:nvSpPr>
            <p:spPr>
              <a:xfrm>
                <a:off x="960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42"/>
              <p:cNvSpPr/>
              <p:nvPr/>
            </p:nvSpPr>
            <p:spPr>
              <a:xfrm>
                <a:off x="822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Line 43"/>
            <p:cNvSpPr/>
            <p:nvPr/>
          </p:nvSpPr>
          <p:spPr>
            <a:xfrm flipV="1">
              <a:off x="8532720" y="51447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44"/>
            <p:cNvSpPr/>
            <p:nvPr/>
          </p:nvSpPr>
          <p:spPr>
            <a:xfrm flipV="1">
              <a:off x="9752040" y="458640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45"/>
            <p:cNvSpPr/>
            <p:nvPr/>
          </p:nvSpPr>
          <p:spPr>
            <a:xfrm flipV="1">
              <a:off x="10971000" y="284652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6"/>
            <p:cNvSpPr/>
            <p:nvPr/>
          </p:nvSpPr>
          <p:spPr>
            <a:xfrm flipH="1" flipV="1">
              <a:off x="10949040" y="2873520"/>
              <a:ext cx="9360" cy="16984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47"/>
            <p:cNvSpPr/>
            <p:nvPr/>
          </p:nvSpPr>
          <p:spPr>
            <a:xfrm flipV="1">
              <a:off x="9738360" y="4622760"/>
              <a:ext cx="180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8"/>
          <p:cNvGrpSpPr/>
          <p:nvPr/>
        </p:nvGrpSpPr>
        <p:grpSpPr>
          <a:xfrm>
            <a:off x="4050720" y="1816200"/>
            <a:ext cx="3962520" cy="3895200"/>
            <a:chOff x="4050720" y="1816200"/>
            <a:chExt cx="3962520" cy="3895200"/>
          </a:xfrm>
        </p:grpSpPr>
        <p:grpSp>
          <p:nvGrpSpPr>
            <p:cNvPr id="559" name="Group 49"/>
            <p:cNvGrpSpPr/>
            <p:nvPr/>
          </p:nvGrpSpPr>
          <p:grpSpPr>
            <a:xfrm>
              <a:off x="4050720" y="1816200"/>
              <a:ext cx="3962160" cy="3895200"/>
              <a:chOff x="4050720" y="1816200"/>
              <a:chExt cx="3962160" cy="3895200"/>
            </a:xfrm>
          </p:grpSpPr>
          <p:sp>
            <p:nvSpPr>
              <p:cNvPr id="560" name="Line 50"/>
              <p:cNvSpPr/>
              <p:nvPr/>
            </p:nvSpPr>
            <p:spPr>
              <a:xfrm>
                <a:off x="4329000" y="5384880"/>
                <a:ext cx="36806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51"/>
              <p:cNvSpPr/>
              <p:nvPr/>
            </p:nvSpPr>
            <p:spPr>
              <a:xfrm>
                <a:off x="432900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52"/>
              <p:cNvSpPr/>
              <p:nvPr/>
            </p:nvSpPr>
            <p:spPr>
              <a:xfrm>
                <a:off x="55742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53"/>
              <p:cNvSpPr/>
              <p:nvPr/>
            </p:nvSpPr>
            <p:spPr>
              <a:xfrm>
                <a:off x="679356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54"/>
              <p:cNvSpPr/>
              <p:nvPr/>
            </p:nvSpPr>
            <p:spPr>
              <a:xfrm>
                <a:off x="433224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55"/>
              <p:cNvSpPr/>
              <p:nvPr/>
            </p:nvSpPr>
            <p:spPr>
              <a:xfrm>
                <a:off x="458352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56"/>
              <p:cNvSpPr/>
              <p:nvPr/>
            </p:nvSpPr>
            <p:spPr>
              <a:xfrm>
                <a:off x="57837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57"/>
              <p:cNvSpPr/>
              <p:nvPr/>
            </p:nvSpPr>
            <p:spPr>
              <a:xfrm>
                <a:off x="712692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58"/>
              <p:cNvSpPr/>
              <p:nvPr/>
            </p:nvSpPr>
            <p:spPr>
              <a:xfrm>
                <a:off x="542808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59"/>
              <p:cNvSpPr/>
              <p:nvPr/>
            </p:nvSpPr>
            <p:spPr>
              <a:xfrm>
                <a:off x="405072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Line 60"/>
            <p:cNvSpPr/>
            <p:nvPr/>
          </p:nvSpPr>
          <p:spPr>
            <a:xfrm flipV="1">
              <a:off x="4341960" y="501480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61"/>
            <p:cNvSpPr/>
            <p:nvPr/>
          </p:nvSpPr>
          <p:spPr>
            <a:xfrm flipV="1">
              <a:off x="5574240" y="4001760"/>
              <a:ext cx="124632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2"/>
            <p:cNvSpPr/>
            <p:nvPr/>
          </p:nvSpPr>
          <p:spPr>
            <a:xfrm flipV="1">
              <a:off x="6793560" y="1974600"/>
              <a:ext cx="121968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3"/>
            <p:cNvSpPr/>
            <p:nvPr/>
          </p:nvSpPr>
          <p:spPr>
            <a:xfrm flipH="1" flipV="1">
              <a:off x="6771600" y="2720520"/>
              <a:ext cx="9360" cy="126684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4"/>
            <p:cNvSpPr/>
            <p:nvPr/>
          </p:nvSpPr>
          <p:spPr>
            <a:xfrm flipV="1">
              <a:off x="5574240" y="447048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5"/>
          <p:cNvGrpSpPr/>
          <p:nvPr/>
        </p:nvGrpSpPr>
        <p:grpSpPr>
          <a:xfrm>
            <a:off x="8228880" y="5753160"/>
            <a:ext cx="3966120" cy="3895200"/>
            <a:chOff x="8228880" y="5753160"/>
            <a:chExt cx="3966120" cy="3895200"/>
          </a:xfrm>
        </p:grpSpPr>
        <p:grpSp>
          <p:nvGrpSpPr>
            <p:cNvPr id="576" name="Group 66"/>
            <p:cNvGrpSpPr/>
            <p:nvPr/>
          </p:nvGrpSpPr>
          <p:grpSpPr>
            <a:xfrm>
              <a:off x="8228880" y="5753160"/>
              <a:ext cx="3961440" cy="3895200"/>
              <a:chOff x="8228880" y="5753160"/>
              <a:chExt cx="3961440" cy="3895200"/>
            </a:xfrm>
          </p:grpSpPr>
          <p:sp>
            <p:nvSpPr>
              <p:cNvPr id="577" name="Line 67"/>
              <p:cNvSpPr/>
              <p:nvPr/>
            </p:nvSpPr>
            <p:spPr>
              <a:xfrm>
                <a:off x="85071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8"/>
              <p:cNvSpPr/>
              <p:nvPr/>
            </p:nvSpPr>
            <p:spPr>
              <a:xfrm>
                <a:off x="85071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69"/>
              <p:cNvSpPr/>
              <p:nvPr/>
            </p:nvSpPr>
            <p:spPr>
              <a:xfrm>
                <a:off x="97520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70"/>
              <p:cNvSpPr/>
              <p:nvPr/>
            </p:nvSpPr>
            <p:spPr>
              <a:xfrm>
                <a:off x="109710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71"/>
              <p:cNvSpPr/>
              <p:nvPr/>
            </p:nvSpPr>
            <p:spPr>
              <a:xfrm>
                <a:off x="85104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72"/>
              <p:cNvSpPr/>
              <p:nvPr/>
            </p:nvSpPr>
            <p:spPr>
              <a:xfrm>
                <a:off x="87616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73"/>
              <p:cNvSpPr/>
              <p:nvPr/>
            </p:nvSpPr>
            <p:spPr>
              <a:xfrm>
                <a:off x="99615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74"/>
              <p:cNvSpPr/>
              <p:nvPr/>
            </p:nvSpPr>
            <p:spPr>
              <a:xfrm>
                <a:off x="113043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75"/>
              <p:cNvSpPr/>
              <p:nvPr/>
            </p:nvSpPr>
            <p:spPr>
              <a:xfrm>
                <a:off x="96055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76"/>
              <p:cNvSpPr/>
              <p:nvPr/>
            </p:nvSpPr>
            <p:spPr>
              <a:xfrm>
                <a:off x="82288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Line 77"/>
            <p:cNvSpPr/>
            <p:nvPr/>
          </p:nvSpPr>
          <p:spPr>
            <a:xfrm flipV="1">
              <a:off x="8532720" y="908172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78"/>
            <p:cNvSpPr/>
            <p:nvPr/>
          </p:nvSpPr>
          <p:spPr>
            <a:xfrm flipV="1">
              <a:off x="9752040" y="78879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79"/>
            <p:cNvSpPr/>
            <p:nvPr/>
          </p:nvSpPr>
          <p:spPr>
            <a:xfrm flipV="1">
              <a:off x="10971000" y="668124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80"/>
            <p:cNvSpPr/>
            <p:nvPr/>
          </p:nvSpPr>
          <p:spPr>
            <a:xfrm flipH="1" flipV="1">
              <a:off x="9736200" y="787356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81"/>
            <p:cNvSpPr/>
            <p:nvPr/>
          </p:nvSpPr>
          <p:spPr>
            <a:xfrm flipH="1" flipV="1">
              <a:off x="10968120" y="666720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Rectangle 82"/>
          <p:cNvSpPr/>
          <p:nvPr/>
        </p:nvSpPr>
        <p:spPr>
          <a:xfrm>
            <a:off x="197100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3"/>
          <p:cNvSpPr/>
          <p:nvPr/>
        </p:nvSpPr>
        <p:spPr>
          <a:xfrm>
            <a:off x="599688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4"/>
          <p:cNvSpPr/>
          <p:nvPr/>
        </p:nvSpPr>
        <p:spPr>
          <a:xfrm>
            <a:off x="1016244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5"/>
          <p:cNvSpPr/>
          <p:nvPr/>
        </p:nvSpPr>
        <p:spPr>
          <a:xfrm>
            <a:off x="607320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6"/>
          <p:cNvSpPr/>
          <p:nvPr/>
        </p:nvSpPr>
        <p:spPr>
          <a:xfrm>
            <a:off x="1023876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7"/>
          <p:cNvGrpSpPr/>
          <p:nvPr/>
        </p:nvGrpSpPr>
        <p:grpSpPr>
          <a:xfrm>
            <a:off x="26280" y="5753160"/>
            <a:ext cx="3961440" cy="3895200"/>
            <a:chOff x="26280" y="5753160"/>
            <a:chExt cx="3961440" cy="3895200"/>
          </a:xfrm>
        </p:grpSpPr>
        <p:grpSp>
          <p:nvGrpSpPr>
            <p:cNvPr id="598" name="Group 88"/>
            <p:cNvGrpSpPr/>
            <p:nvPr/>
          </p:nvGrpSpPr>
          <p:grpSpPr>
            <a:xfrm>
              <a:off x="26280" y="5753160"/>
              <a:ext cx="3961440" cy="3895200"/>
              <a:chOff x="26280" y="5753160"/>
              <a:chExt cx="3961440" cy="3895200"/>
            </a:xfrm>
          </p:grpSpPr>
          <p:sp>
            <p:nvSpPr>
              <p:cNvPr id="599" name="Line 89"/>
              <p:cNvSpPr/>
              <p:nvPr/>
            </p:nvSpPr>
            <p:spPr>
              <a:xfrm>
                <a:off x="3045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90"/>
              <p:cNvSpPr/>
              <p:nvPr/>
            </p:nvSpPr>
            <p:spPr>
              <a:xfrm>
                <a:off x="3045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91"/>
              <p:cNvSpPr/>
              <p:nvPr/>
            </p:nvSpPr>
            <p:spPr>
              <a:xfrm>
                <a:off x="15494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92"/>
              <p:cNvSpPr/>
              <p:nvPr/>
            </p:nvSpPr>
            <p:spPr>
              <a:xfrm>
                <a:off x="27684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93"/>
              <p:cNvSpPr/>
              <p:nvPr/>
            </p:nvSpPr>
            <p:spPr>
              <a:xfrm>
                <a:off x="3078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94"/>
              <p:cNvSpPr/>
              <p:nvPr/>
            </p:nvSpPr>
            <p:spPr>
              <a:xfrm>
                <a:off x="5590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95"/>
              <p:cNvSpPr/>
              <p:nvPr/>
            </p:nvSpPr>
            <p:spPr>
              <a:xfrm>
                <a:off x="17589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96"/>
              <p:cNvSpPr/>
              <p:nvPr/>
            </p:nvSpPr>
            <p:spPr>
              <a:xfrm>
                <a:off x="31017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97"/>
              <p:cNvSpPr/>
              <p:nvPr/>
            </p:nvSpPr>
            <p:spPr>
              <a:xfrm>
                <a:off x="14029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98"/>
              <p:cNvSpPr/>
              <p:nvPr/>
            </p:nvSpPr>
            <p:spPr>
              <a:xfrm>
                <a:off x="262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Line 99"/>
            <p:cNvSpPr/>
            <p:nvPr/>
          </p:nvSpPr>
          <p:spPr>
            <a:xfrm>
              <a:off x="322200" y="8902800"/>
              <a:ext cx="121608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0"/>
            <p:cNvSpPr/>
            <p:nvPr/>
          </p:nvSpPr>
          <p:spPr>
            <a:xfrm flipV="1">
              <a:off x="1548720" y="7938720"/>
              <a:ext cx="124596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1"/>
            <p:cNvSpPr/>
            <p:nvPr/>
          </p:nvSpPr>
          <p:spPr>
            <a:xfrm flipV="1">
              <a:off x="2767680" y="5911560"/>
              <a:ext cx="121932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2"/>
            <p:cNvSpPr/>
            <p:nvPr/>
          </p:nvSpPr>
          <p:spPr>
            <a:xfrm flipH="1" flipV="1">
              <a:off x="2746440" y="6657480"/>
              <a:ext cx="9360" cy="126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03"/>
            <p:cNvSpPr/>
            <p:nvPr/>
          </p:nvSpPr>
          <p:spPr>
            <a:xfrm flipV="1">
              <a:off x="1549440" y="840744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104"/>
          <p:cNvSpPr/>
          <p:nvPr/>
        </p:nvSpPr>
        <p:spPr>
          <a:xfrm>
            <a:off x="1971000" y="687420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DC0B-5AB3-4014-87D4-2295800F4B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03040" y="2629080"/>
            <a:ext cx="6591600" cy="69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ntropy increase as temperature increases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t phase changes, temperature stays the same (remember!) but the disorder will continue to increas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rcRect l="0" t="0" r="0" b="4244"/>
          <a:stretch/>
        </p:blipFill>
        <p:spPr>
          <a:xfrm>
            <a:off x="6969240" y="2082960"/>
            <a:ext cx="5921280" cy="51814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173E-B4ED-41B8-BCD6-D7FD7991B9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9A74-6D60-42DA-A503-821E179BD8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ter at room temperature decomposes into gaseous 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E6EB-BC68-47C1-AD31-D9839C13A1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0521-1293-45C3-9E2C-944044E9E0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Water at room temperature decomposes into gaseous H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 and O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1001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61b0"/>
                </a:solidFill>
                <a:latin typeface="Arial"/>
              </a:rPr>
              <a:t># 3 is at equilibrium, ∆G = 0, below 80.1º it would be spontaneous, above 80.1ºC is not spontaneo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2F8-E596-4BBE-B79D-6B749B5A71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B6B2-4D04-49C6-8D44-EF999B1EB2E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1920" y="190080"/>
            <a:ext cx="1268748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</a:t>
            </a:r>
            <a:br>
              <a:rPr sz="7400"/>
            </a:br>
            <a:r>
              <a:rPr b="0" lang="en-US" sz="6600" spc="-1" strike="noStrike">
                <a:solidFill>
                  <a:srgbClr val="00007d"/>
                </a:solidFill>
                <a:latin typeface="Arial"/>
              </a:rPr>
              <a:t>as related to Reaction Direction</a:t>
            </a:r>
            <a:endParaRPr b="0" lang="en-US" sz="6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991-7D7B-4C79-AECD-AB5B6FCE419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wo Forces Drive Reaction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 entrop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 increase (+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w energ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 decrease (-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2CD3-F387-4667-831F-DAEF6BF689B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7400" spc="-1" strike="noStrike" baseline="32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54160" y="1473120"/>
            <a:ext cx="1264896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m the second law of thermodynamics, we know that the entropy of the universe is always increasing. For every process and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20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it is not always easy or practical to calculate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ecause it is difficult to know all of the entropy changes to the surroundings (universe),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4735-230B-41F5-A802-7F34331B8B3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7d"/>
                </a:solidFill>
                <a:latin typeface="Arial"/>
              </a:rPr>
              <a:t>So how can we predict spontaneity?</a:t>
            </a:r>
            <a:endParaRPr b="0" lang="en-US" sz="6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ibbs Free Energy (G) combines the two driving forces into one relationshi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aximum useful work that can be done by a system on its surroundings in a spontaneous process occurring at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constant temp and pressur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= ∆H - T∆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though the restriction of constant T and P are stringent, they do apply to many important chemical process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iological processes in the bo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boratory or industrially controlled proc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0BB-F511-4B5C-8FAB-704DB63AFDC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7d"/>
                </a:solidFill>
                <a:latin typeface="Arial"/>
              </a:rPr>
              <a:t>The Common-Sense Law applies at the molecular level as well. </a:t>
            </a:r>
            <a:endParaRPr b="0" lang="en-US" sz="6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7480" y="2552760"/>
            <a:ext cx="12649320" cy="70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lt disso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ses disp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7478640" y="2349360"/>
            <a:ext cx="4954680" cy="4330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rcRect l="0" t="0" r="0" b="11224"/>
          <a:stretch/>
        </p:blipFill>
        <p:spPr>
          <a:xfrm>
            <a:off x="579600" y="6934320"/>
            <a:ext cx="11437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7988-7B46-48DF-8477-E679DBBC551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G = ∆H - T∆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lt; 0 , a reaction will proceed in the forward direction and is considered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= 0, a reaction will be at equilibriu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gt; 0, a reaction will not proceed in forward direction and is considered not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A0E6-8FCB-4A84-8723-298B89DAB1A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0840" y="19008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7d"/>
                </a:solidFill>
                <a:latin typeface="Arial"/>
              </a:rPr>
              <a:t>Using ∆Gº</a:t>
            </a:r>
            <a:endParaRPr b="0" lang="en-US" sz="6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40840" y="1320840"/>
            <a:ext cx="12649320" cy="82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tandard condi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a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M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e ∆Gº values in the table are reported for temperatures at 25º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values have been established for a great many substances making the ∆G calculation below convenient at 1M or 1atm at 25ºC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Rx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=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prod -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rea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22AC-5668-4460-8BA6-7FDF343774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02680" y="5625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085D-20A1-4349-8BA0-11683DB7B9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F775-4969-434B-84F8-AE1F366FB6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02680" y="4330440"/>
            <a:ext cx="1268748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Yes, at approximately 632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H=+74kJ, ∆S=117J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G = ∆H - T∆S, since ∆G&gt;0 is not spontaneous and ∆G&lt;0 is spontaneous, when ∆G=0 the spontaneity “switches”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0 = 74kJ - T(0.117kJ)  solve T = 632 K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6558-11B1-48C1-8364-F737586263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BD9D-C9DF-4D67-8F94-D28E9C65C9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298 K this reaction is not spontaneous and at temps above 632 K the reaction becomes spontaneous. What occurs AT 632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17520" y="5753160"/>
            <a:ext cx="1268712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is at equilibrium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CE8D-911B-42F5-B52A-200FBD9F9C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48FA-5EBD-4E80-85CC-FD52C541F0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standard conditions this reaction is not spontaneous and at temps above 633 K the reaction becomes spontaneous. What occurs AT 633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02680" y="5118120"/>
            <a:ext cx="1268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The reaction is at equilibrium, since ∆G =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B8A5-2172-4D1F-A7C8-557814B4A8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E0D9-09C6-4D8F-9A04-166B8D5076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 don’t know, and I would just be guessing or following my neighbors, but I don’t really know how to analytically think through to an answ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CBCB-BD0E-4118-BB8C-11AF78B10A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4FDB-EBDF-4F78-878F-651C60E97D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d2067"/>
                </a:solidFill>
                <a:latin typeface="Arial"/>
              </a:rPr>
              <a:t>no, remember: ∆G = ∆H - T∆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When ∆H is +, and ∆S is -, no temperature will ever make the reaction spontaneou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f ∆H is - and ∆S is -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ncreasing the T value will make ∆G more +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decreasing the T would make the less + and the temp may not be able to be lowered enough to turn it spontaneous. (Remember that there is a lower limit to temperature values, absolute zero.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3DF2-C957-423E-98DC-5E03637D69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6C69-4385-485F-9B38-1CBDB0B478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4732-8A3D-4E73-8291-E95F3AE745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36B3-4400-42D8-8882-A3BAA9797A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21600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133200" y="2879640"/>
            <a:ext cx="5905800" cy="615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6337440" y="2882880"/>
            <a:ext cx="5959440" cy="6147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440064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1013940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BD3C-4A75-43ED-B629-52FB2AB0C3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2680" y="3784680"/>
            <a:ext cx="600732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S—gas to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H—the gas is condensing (giving off heat NOT taking it 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324480" y="3936960"/>
          <a:ext cx="654228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92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6195-C06F-4B25-8680-9584226C8D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02680" y="203040"/>
            <a:ext cx="1268748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02680" y="3796920"/>
            <a:ext cx="12687480" cy="58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428F-8F93-4A88-A352-9B00566105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598A-7723-4D2C-AEED-B6C8C5B1AB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02680" y="2793960"/>
            <a:ext cx="12687480" cy="68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that if the reaction proceeds (spontaneous) it must have a negative ∆G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45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&gt;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at standard conditions of 1 atm, 1M K would always = 1, so if the reaction proceeds K will end up greater than 1 since as the reaction proceeds products will increase and reactants will decrease resulting in K larger than 1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48E2-EB3B-4CE7-901B-0012C66AE4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2455-7477-4BA8-A54F-472141BAE6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ubmit your answer rounded to the nearest whole numb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1B16-24F3-4EF8-BCCB-7472445884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2ECD-10CC-440A-8A12-94849A79EA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25 kJ/m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EF2F-7AC3-42DF-9EB1-8C71C9E560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BF49-0166-4A1C-9AE9-7E5972FB1C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02680" y="3733560"/>
            <a:ext cx="12687480" cy="58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B8A1-618F-4ACC-AA0A-FF637A532C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7705-E9F4-4F7B-BBEA-B478FECD4B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02680" y="2476440"/>
            <a:ext cx="12687480" cy="71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4920" indent="-6649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 &l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Since we know that the solution cools, we know that ∆H is positive, and since that is unfavorable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lthough it is completely counter intuitive, the driving force for this reaction </a:t>
            </a:r>
            <a:r>
              <a:rPr b="0" i="1" lang="en-US" sz="3500" spc="-1" strike="noStrike">
                <a:solidFill>
                  <a:srgbClr val="2961b0"/>
                </a:solidFill>
                <a:latin typeface="Arial"/>
              </a:rPr>
              <a:t>must</a:t>
            </a: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 be an increase in entropy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nd for the reaction to be spontaneous (∆G&lt;0), the |T∆S| factor must be larger than the |∆H| facto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6577-90FC-4FEC-BA87-2194A5FDC9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7E02-00FA-4237-AF94-92C125813B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CD63-2640-479E-90D9-F2A0F6B32F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3CD5-B09A-44C4-8D98-34AD199488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CA61-28DC-404F-B046-093BDE9DD2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856D-6C5D-4C8F-9E06-64F83AA221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→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540-D49B-43B3-87FF-D154881AFB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D98D-F619-41FA-84EA-89532AB49D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02680" y="2082600"/>
            <a:ext cx="12687480" cy="75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Both are,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yet #1 is endothermic and #2 is exothermic. (Notice the settings—table and freezer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s means that analyzing just energy changes is not enough to determine when a process will be spontaneou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7C06-3A04-4A63-9AE4-F6CE0F2506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3987720" y="54864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559720" y="556272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31561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74977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D5FE-BCE9-4804-8BEB-69D6F6221B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--&gt;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905040" indent="-905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G, ∆H, and ∆S are all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at 298 K, not spontaneous means G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when ∆S is positive, the |T∆S| factor will increase at higher temperatures and since the equation is, -T∆S, at some temp the T∆S factor will be greater than the ∆H and the value of ∆G will become  nega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AA61-6EDF-4917-81A5-9B9610BF0B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FD1B-60FD-4E5E-8BF9-BCD0A71AC7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xidation of a met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DD5A-7133-4C6D-990C-B92F12E2F5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Oxidation of a meta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24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oxidation will often produce a solid metal oxide which will have more order than a pure metal and the oxygen g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6026-16B6-40BD-96CE-BA69BC2C65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V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DA5F-C50E-45F3-A2FF-8527838C11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V &lt; 0—V is for volume, which decrases when a gas forms into a liqu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5D17-7E8E-4646-8A6A-E81D944871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02680" y="190080"/>
            <a:ext cx="12687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  ∆H = -97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02680" y="4876920"/>
            <a:ext cx="12687480" cy="47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pends on other factors, and cannot be determined with the information give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2D4A-29F1-4830-BC2F-5B3E4CD2BD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E57B-C12D-46E6-91A5-BCD07B0CE4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02680" y="127080"/>
            <a:ext cx="1268748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      ∆H = -97kJ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3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02680" y="2603160"/>
            <a:ext cx="1268748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850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Produc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Because the reaction is exothermic, the product bonds must release more energy when formed than the reactant bonds require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3. depends on other factors, and cannot be determined with the information given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4003-95E2-4FD3-B7D2-FDB76E573B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5703-42F7-4169-A8AC-FBE724F12C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38BF-5550-4095-95FA-231356FF14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5B4F-D203-43E9-B746-8775640CB0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254160" y="2629080"/>
          <a:ext cx="12496680" cy="593388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000"/>
                <a:gridCol w="5662800"/>
              </a:tblGrid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99B6-526D-4666-9896-BA4A0FC965B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Opposing Dispersal Trend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02680" y="1510920"/>
            <a:ext cx="12687480" cy="8102520"/>
          </a:xfrm>
          <a:prstGeom prst="rect">
            <a:avLst/>
          </a:prstGeom>
          <a:noFill/>
          <a:ln w="0">
            <a:noFill/>
          </a:ln>
        </p:spPr>
        <p:txBody>
          <a:bodyPr lIns="0" rIns="417744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zing water leads to more ordered matter and seems like a violation of the common-sense la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eans that analyzing just change in disorder is not enough to determine when a process will be spontaneo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what should we consid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8788320" y="13716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810640" y="562140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1194264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3F6-D6BC-4F5D-9975-E11E178995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368280" y="2527200"/>
          <a:ext cx="12496680" cy="593424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360"/>
                <a:gridCol w="5662440"/>
              </a:tblGrid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F99B-3D13-4DA2-BAAB-8EBD028B73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4160" y="254160"/>
            <a:ext cx="126871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48C7-7F55-46B8-877F-F3C071AB28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419D-9117-4B1D-8256-9F7390BD8A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B632-BD0E-42A9-8DDE-2C8EFAD79D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813-EC3D-4BA0-BD12-5A4E3D272F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(Select as many as apply.)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73F3-5F1B-4A3E-A492-1ECA1F873D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7E9A-88E4-412B-A710-8CFCDF70D6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91DE-6AE8-4F32-80F6-08371005AF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2D50-AFBF-44C8-BF5B-E3F2B4CEDA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DA57-263F-4D46-A058-A02EB68AD2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C49F-3CEA-4D32-96D1-5752844852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(must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AAC3-286E-4F31-B6DA-F7918AB863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16F1-5253-4AD5-8899-E0A17DBDAA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alculating ∆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671D-2A19-4178-A7F3-6B6BABBB846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Boiling and Melting Point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substance is at its boiling or melting temperature it is at equilib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at equilibrium ∆G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nce ∆G = ∆Hº - T∆S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∆Sº = ∆H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the ∆S of melting or boiling = ∆H/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is how entropy of some substances can be calcula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986-A444-44B1-9A67-5B52B53FA8A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02680" y="3403080"/>
            <a:ext cx="12687480" cy="62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6543-0DD4-4CFD-8EC7-957E8156CC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4"/>
          <p:cNvGrpSpPr/>
          <p:nvPr/>
        </p:nvGrpSpPr>
        <p:grpSpPr>
          <a:xfrm>
            <a:off x="3124080" y="6010560"/>
            <a:ext cx="1184400" cy="1212120"/>
            <a:chOff x="3124080" y="6010560"/>
            <a:chExt cx="1184400" cy="1212120"/>
          </a:xfrm>
        </p:grpSpPr>
        <p:sp>
          <p:nvSpPr>
            <p:cNvPr id="793" name="Rectangle 5"/>
            <p:cNvSpPr/>
            <p:nvPr/>
          </p:nvSpPr>
          <p:spPr>
            <a:xfrm>
              <a:off x="326448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6"/>
            <p:cNvSpPr/>
            <p:nvPr/>
          </p:nvSpPr>
          <p:spPr>
            <a:xfrm>
              <a:off x="327384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V="1">
              <a:off x="312408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797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281D-A602-4D56-8A75-98A94BA92B4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Entropy, (S) is a measure of dispersal - dispersal of matter </a:t>
            </a:r>
            <a:r>
              <a:rPr b="0" i="1" lang="en-US" sz="4800" spc="-1" strike="noStrike">
                <a:solidFill>
                  <a:srgbClr val="00007d"/>
                </a:solidFill>
                <a:latin typeface="Arial"/>
              </a:rPr>
              <a:t>and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dispersal of energy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0080" y="1765080"/>
            <a:ext cx="12649320" cy="78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In 1877 Ludwig Boltzman defined the entropy of a substance as the number of ways to describe a system, “degrees of freedom”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8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member the First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nergy is never lost or gained, only change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= 0 (always)       ∆E = q + w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1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n any spontaneous process, the total entropy increases. 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70FD-D889-4638-B857-CD940E6C43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17520" y="3543480"/>
            <a:ext cx="12687120" cy="62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dd2067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 =         ice melts at 0 C (273 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B524-2A2F-4DD9-9BC1-BAAEE1251D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3284640" y="6010560"/>
            <a:ext cx="1184400" cy="1212120"/>
            <a:chOff x="3284640" y="6010560"/>
            <a:chExt cx="1184400" cy="1212120"/>
          </a:xfrm>
        </p:grpSpPr>
        <p:sp>
          <p:nvSpPr>
            <p:cNvPr id="805" name="Rectangle 5"/>
            <p:cNvSpPr/>
            <p:nvPr/>
          </p:nvSpPr>
          <p:spPr>
            <a:xfrm>
              <a:off x="342504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"/>
            <p:cNvSpPr/>
            <p:nvPr/>
          </p:nvSpPr>
          <p:spPr>
            <a:xfrm>
              <a:off x="343440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"/>
            <p:cNvSpPr/>
            <p:nvPr/>
          </p:nvSpPr>
          <p:spPr>
            <a:xfrm flipV="1">
              <a:off x="328464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809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5B92-96FB-4040-B03A-207C31B6B0A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ird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hird law of Thermodynam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pure, perfect crystal at 0 K has zero entrop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800" spc="-1" strike="noStrike" baseline="-6000">
                <a:solidFill>
                  <a:srgbClr val="000000"/>
                </a:solidFill>
                <a:latin typeface="Arial"/>
              </a:rPr>
              <a:t>(pure, perfect crystal; T=0K)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akes it possible to measure the absolute entropy of any substance at any temperat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e that unlike ∆Hº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Sº values are never zero at any temperature above 0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9:01Z</dcterms:modified>
  <cp:revision>34</cp:revision>
  <dc:subject/>
  <dc:title>Thermodynamics</dc:title>
</cp:coreProperties>
</file>