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3EE-514C-40A0-AAD5-FBE74C9B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607-CFA8-4BF5-8E58-365455A7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14C-84BC-47DF-8E24-FD3B7852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365-4F02-4FCC-992F-C640610D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97F-035E-4CB6-B564-679791C6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14E-9BA6-4D19-BE5D-B3437124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04A-4709-4A64-8081-4D00EB96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BFC-8838-4D8D-9D1E-EBA21FE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AFD-BF21-4D0D-ABC5-073735F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72D-5A82-41B8-9540-6B73B4E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0CD-0DDB-4ECB-831C-3B7E3DA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8DC-F5CB-43C6-AFC2-B96061F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22A6-55E4-44CA-A795-B6E9C71E6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2217600" y="1440000"/>
            <a:ext cx="435240" cy="43488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6160" y="4000"/>
                </a:moveTo>
                <a:cubicBezTo>
                  <a:pt x="6232" y="4000"/>
                  <a:pt x="6361" y="4040"/>
                  <a:pt x="6414" y="4032"/>
                </a:cubicBezTo>
                <a:cubicBezTo>
                  <a:pt x="6493" y="4020"/>
                  <a:pt x="6523" y="4016"/>
                  <a:pt x="6604" y="4032"/>
                </a:cubicBezTo>
                <a:cubicBezTo>
                  <a:pt x="6640" y="4039"/>
                  <a:pt x="6693" y="4032"/>
                  <a:pt x="6731" y="4032"/>
                </a:cubicBezTo>
                <a:cubicBezTo>
                  <a:pt x="6731" y="4081"/>
                  <a:pt x="6718" y="4152"/>
                  <a:pt x="6699" y="4191"/>
                </a:cubicBezTo>
                <a:cubicBezTo>
                  <a:pt x="6664" y="4262"/>
                  <a:pt x="6621" y="4389"/>
                  <a:pt x="6604" y="4477"/>
                </a:cubicBezTo>
                <a:cubicBezTo>
                  <a:pt x="6583" y="4585"/>
                  <a:pt x="6576" y="4716"/>
                  <a:pt x="6572" y="4826"/>
                </a:cubicBezTo>
                <a:cubicBezTo>
                  <a:pt x="6568" y="4935"/>
                  <a:pt x="6598" y="5010"/>
                  <a:pt x="6604" y="5112"/>
                </a:cubicBezTo>
                <a:cubicBezTo>
                  <a:pt x="6604" y="5165"/>
                  <a:pt x="6604" y="5175"/>
                  <a:pt x="6604" y="5207"/>
                </a:cubicBezTo>
              </a:path>
              <a:path w="1207" h="1208">
                <a:moveTo>
                  <a:pt x="6255" y="4762"/>
                </a:moveTo>
                <a:cubicBezTo>
                  <a:pt x="6272" y="4712"/>
                  <a:pt x="6316" y="4702"/>
                  <a:pt x="6382" y="4699"/>
                </a:cubicBezTo>
                <a:cubicBezTo>
                  <a:pt x="6496" y="4694"/>
                  <a:pt x="6588" y="4671"/>
                  <a:pt x="6699" y="4667"/>
                </a:cubicBezTo>
                <a:cubicBezTo>
                  <a:pt x="6816" y="4662"/>
                  <a:pt x="6918" y="4669"/>
                  <a:pt x="7017" y="4699"/>
                </a:cubicBezTo>
                <a:cubicBezTo>
                  <a:pt x="7027" y="4699"/>
                  <a:pt x="7038" y="4699"/>
                  <a:pt x="7048" y="4699"/>
                </a:cubicBezTo>
              </a:path>
              <a:path w="1207" h="1208">
                <a:moveTo>
                  <a:pt x="7366" y="5048"/>
                </a:moveTo>
                <a:cubicBezTo>
                  <a:pt x="7314" y="5061"/>
                  <a:pt x="7315" y="5060"/>
                  <a:pt x="7302" y="5112"/>
                </a:cubicBezTo>
                <a:cubicBezTo>
                  <a:pt x="7313" y="5112"/>
                  <a:pt x="7419" y="5112"/>
                  <a:pt x="7334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Ink 3"/>
          <p:cNvSpPr/>
          <p:nvPr/>
        </p:nvSpPr>
        <p:spPr>
          <a:xfrm>
            <a:off x="3772080" y="1347840"/>
            <a:ext cx="190944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0478" y="4382"/>
                </a:moveTo>
                <a:cubicBezTo>
                  <a:pt x="10513" y="4452"/>
                  <a:pt x="10555" y="4445"/>
                  <a:pt x="10636" y="4445"/>
                </a:cubicBezTo>
                <a:cubicBezTo>
                  <a:pt x="10743" y="4445"/>
                  <a:pt x="10833" y="4458"/>
                  <a:pt x="10922" y="4477"/>
                </a:cubicBezTo>
                <a:cubicBezTo>
                  <a:pt x="10987" y="4491"/>
                  <a:pt x="11005" y="4478"/>
                  <a:pt x="11049" y="4445"/>
                </a:cubicBezTo>
              </a:path>
              <a:path w="5303" h="1589">
                <a:moveTo>
                  <a:pt x="11208" y="4254"/>
                </a:moveTo>
                <a:cubicBezTo>
                  <a:pt x="11220" y="4207"/>
                  <a:pt x="11257" y="4158"/>
                  <a:pt x="11303" y="4128"/>
                </a:cubicBezTo>
                <a:cubicBezTo>
                  <a:pt x="11356" y="4094"/>
                  <a:pt x="11462" y="4075"/>
                  <a:pt x="11525" y="4096"/>
                </a:cubicBezTo>
                <a:cubicBezTo>
                  <a:pt x="11583" y="4116"/>
                  <a:pt x="11648" y="4161"/>
                  <a:pt x="11652" y="4223"/>
                </a:cubicBezTo>
                <a:cubicBezTo>
                  <a:pt x="11657" y="4291"/>
                  <a:pt x="11650" y="4425"/>
                  <a:pt x="11620" y="4477"/>
                </a:cubicBezTo>
                <a:cubicBezTo>
                  <a:pt x="11560" y="4581"/>
                  <a:pt x="11489" y="4683"/>
                  <a:pt x="11430" y="4794"/>
                </a:cubicBezTo>
                <a:cubicBezTo>
                  <a:pt x="11401" y="4848"/>
                  <a:pt x="11378" y="4895"/>
                  <a:pt x="11366" y="4953"/>
                </a:cubicBezTo>
                <a:cubicBezTo>
                  <a:pt x="11415" y="4990"/>
                  <a:pt x="11432" y="4985"/>
                  <a:pt x="11494" y="4985"/>
                </a:cubicBezTo>
                <a:cubicBezTo>
                  <a:pt x="11596" y="4985"/>
                  <a:pt x="11581" y="4959"/>
                  <a:pt x="11684" y="4985"/>
                </a:cubicBezTo>
                <a:cubicBezTo>
                  <a:pt x="11731" y="4997"/>
                  <a:pt x="11793" y="4985"/>
                  <a:pt x="11843" y="4985"/>
                </a:cubicBezTo>
              </a:path>
              <a:path w="5303" h="1589">
                <a:moveTo>
                  <a:pt x="11906" y="4445"/>
                </a:moveTo>
                <a:cubicBezTo>
                  <a:pt x="11906" y="4386"/>
                  <a:pt x="11898" y="4363"/>
                  <a:pt x="11938" y="4318"/>
                </a:cubicBezTo>
                <a:cubicBezTo>
                  <a:pt x="11996" y="4253"/>
                  <a:pt x="12078" y="4227"/>
                  <a:pt x="12160" y="4223"/>
                </a:cubicBezTo>
                <a:cubicBezTo>
                  <a:pt x="12230" y="4219"/>
                  <a:pt x="12297" y="4211"/>
                  <a:pt x="12351" y="4254"/>
                </a:cubicBezTo>
                <a:cubicBezTo>
                  <a:pt x="12410" y="4301"/>
                  <a:pt x="12378" y="4356"/>
                  <a:pt x="12351" y="4413"/>
                </a:cubicBezTo>
                <a:cubicBezTo>
                  <a:pt x="12305" y="4511"/>
                  <a:pt x="12250" y="4581"/>
                  <a:pt x="12192" y="4667"/>
                </a:cubicBezTo>
                <a:cubicBezTo>
                  <a:pt x="12138" y="4748"/>
                  <a:pt x="12104" y="4849"/>
                  <a:pt x="12065" y="4921"/>
                </a:cubicBezTo>
                <a:cubicBezTo>
                  <a:pt x="12036" y="4975"/>
                  <a:pt x="12006" y="5028"/>
                  <a:pt x="12097" y="5048"/>
                </a:cubicBezTo>
                <a:cubicBezTo>
                  <a:pt x="12198" y="5070"/>
                  <a:pt x="12291" y="5031"/>
                  <a:pt x="12382" y="5016"/>
                </a:cubicBezTo>
                <a:cubicBezTo>
                  <a:pt x="12463" y="5002"/>
                  <a:pt x="12502" y="5026"/>
                  <a:pt x="12573" y="4985"/>
                </a:cubicBezTo>
              </a:path>
              <a:path w="5303" h="1589">
                <a:moveTo>
                  <a:pt x="12636" y="4350"/>
                </a:moveTo>
                <a:cubicBezTo>
                  <a:pt x="12636" y="4283"/>
                  <a:pt x="12666" y="4249"/>
                  <a:pt x="12732" y="4223"/>
                </a:cubicBezTo>
                <a:cubicBezTo>
                  <a:pt x="12777" y="4205"/>
                  <a:pt x="12828" y="4227"/>
                  <a:pt x="12859" y="4254"/>
                </a:cubicBezTo>
                <a:cubicBezTo>
                  <a:pt x="12923" y="4311"/>
                  <a:pt x="12922" y="4329"/>
                  <a:pt x="12922" y="4413"/>
                </a:cubicBezTo>
                <a:cubicBezTo>
                  <a:pt x="12922" y="4521"/>
                  <a:pt x="12906" y="4572"/>
                  <a:pt x="12859" y="4667"/>
                </a:cubicBezTo>
                <a:cubicBezTo>
                  <a:pt x="12822" y="4741"/>
                  <a:pt x="12758" y="4813"/>
                  <a:pt x="12732" y="4890"/>
                </a:cubicBezTo>
                <a:cubicBezTo>
                  <a:pt x="12711" y="4951"/>
                  <a:pt x="12681" y="4960"/>
                  <a:pt x="12732" y="5016"/>
                </a:cubicBezTo>
                <a:cubicBezTo>
                  <a:pt x="12788" y="5079"/>
                  <a:pt x="12847" y="5020"/>
                  <a:pt x="12922" y="5016"/>
                </a:cubicBezTo>
                <a:cubicBezTo>
                  <a:pt x="13004" y="5011"/>
                  <a:pt x="13060" y="4985"/>
                  <a:pt x="13144" y="4985"/>
                </a:cubicBezTo>
              </a:path>
              <a:path w="5303" h="1589">
                <a:moveTo>
                  <a:pt x="13430" y="4318"/>
                </a:moveTo>
                <a:cubicBezTo>
                  <a:pt x="13406" y="4334"/>
                  <a:pt x="13348" y="4450"/>
                  <a:pt x="13335" y="4508"/>
                </a:cubicBezTo>
                <a:cubicBezTo>
                  <a:pt x="13317" y="4587"/>
                  <a:pt x="13280" y="4710"/>
                  <a:pt x="13303" y="4794"/>
                </a:cubicBezTo>
                <a:cubicBezTo>
                  <a:pt x="13329" y="4888"/>
                  <a:pt x="13380" y="4942"/>
                  <a:pt x="13462" y="4985"/>
                </a:cubicBezTo>
                <a:cubicBezTo>
                  <a:pt x="13564" y="5038"/>
                  <a:pt x="13600" y="4971"/>
                  <a:pt x="13684" y="4921"/>
                </a:cubicBezTo>
                <a:cubicBezTo>
                  <a:pt x="13759" y="4877"/>
                  <a:pt x="13822" y="4791"/>
                  <a:pt x="13843" y="4699"/>
                </a:cubicBezTo>
                <a:cubicBezTo>
                  <a:pt x="13865" y="4603"/>
                  <a:pt x="13821" y="4527"/>
                  <a:pt x="13780" y="4445"/>
                </a:cubicBezTo>
                <a:cubicBezTo>
                  <a:pt x="13750" y="4385"/>
                  <a:pt x="13688" y="4304"/>
                  <a:pt x="13621" y="4286"/>
                </a:cubicBezTo>
                <a:cubicBezTo>
                  <a:pt x="13589" y="4278"/>
                  <a:pt x="13530" y="4286"/>
                  <a:pt x="13494" y="4286"/>
                </a:cubicBezTo>
              </a:path>
              <a:path w="5303" h="1589">
                <a:moveTo>
                  <a:pt x="14446" y="3778"/>
                </a:moveTo>
                <a:cubicBezTo>
                  <a:pt x="14446" y="3849"/>
                  <a:pt x="14418" y="3898"/>
                  <a:pt x="14414" y="3969"/>
                </a:cubicBezTo>
                <a:cubicBezTo>
                  <a:pt x="14408" y="4067"/>
                  <a:pt x="14425" y="4133"/>
                  <a:pt x="14446" y="4223"/>
                </a:cubicBezTo>
                <a:cubicBezTo>
                  <a:pt x="14463" y="4295"/>
                  <a:pt x="14433" y="4323"/>
                  <a:pt x="14478" y="4382"/>
                </a:cubicBezTo>
              </a:path>
              <a:path w="5303" h="1589">
                <a:moveTo>
                  <a:pt x="14732" y="3874"/>
                </a:moveTo>
                <a:cubicBezTo>
                  <a:pt x="14675" y="3888"/>
                  <a:pt x="14621" y="3926"/>
                  <a:pt x="14573" y="3969"/>
                </a:cubicBezTo>
                <a:cubicBezTo>
                  <a:pt x="14540" y="3998"/>
                  <a:pt x="14515" y="4054"/>
                  <a:pt x="14510" y="4096"/>
                </a:cubicBezTo>
                <a:cubicBezTo>
                  <a:pt x="14502" y="4164"/>
                  <a:pt x="14570" y="4168"/>
                  <a:pt x="14605" y="4191"/>
                </a:cubicBezTo>
                <a:cubicBezTo>
                  <a:pt x="14663" y="4230"/>
                  <a:pt x="14700" y="4267"/>
                  <a:pt x="14764" y="4286"/>
                </a:cubicBezTo>
                <a:cubicBezTo>
                  <a:pt x="14810" y="4300"/>
                  <a:pt x="14821" y="4312"/>
                  <a:pt x="14859" y="4350"/>
                </a:cubicBezTo>
              </a:path>
              <a:path w="5303" h="1589">
                <a:moveTo>
                  <a:pt x="15018" y="3778"/>
                </a:moveTo>
                <a:cubicBezTo>
                  <a:pt x="15064" y="3860"/>
                  <a:pt x="15085" y="3916"/>
                  <a:pt x="15113" y="4000"/>
                </a:cubicBezTo>
                <a:cubicBezTo>
                  <a:pt x="15144" y="4091"/>
                  <a:pt x="15176" y="4126"/>
                  <a:pt x="15176" y="4223"/>
                </a:cubicBezTo>
                <a:cubicBezTo>
                  <a:pt x="15176" y="4312"/>
                  <a:pt x="15100" y="4293"/>
                  <a:pt x="15050" y="4254"/>
                </a:cubicBezTo>
                <a:cubicBezTo>
                  <a:pt x="15039" y="4244"/>
                  <a:pt x="15029" y="4233"/>
                  <a:pt x="15018" y="4223"/>
                </a:cubicBezTo>
              </a:path>
              <a:path w="5303" h="1589">
                <a:moveTo>
                  <a:pt x="14796" y="3874"/>
                </a:moveTo>
                <a:cubicBezTo>
                  <a:pt x="14853" y="3796"/>
                  <a:pt x="14859" y="3810"/>
                  <a:pt x="14954" y="3778"/>
                </a:cubicBezTo>
                <a:cubicBezTo>
                  <a:pt x="15055" y="3744"/>
                  <a:pt x="15130" y="3746"/>
                  <a:pt x="15240" y="3746"/>
                </a:cubicBezTo>
                <a:cubicBezTo>
                  <a:pt x="15325" y="3746"/>
                  <a:pt x="15364" y="3788"/>
                  <a:pt x="15430" y="3810"/>
                </a:cubicBezTo>
                <a:cubicBezTo>
                  <a:pt x="15466" y="3810"/>
                  <a:pt x="15480" y="3813"/>
                  <a:pt x="15494" y="3842"/>
                </a:cubicBezTo>
              </a:path>
              <a:path w="5303" h="1589">
                <a:moveTo>
                  <a:pt x="14224" y="4699"/>
                </a:moveTo>
                <a:cubicBezTo>
                  <a:pt x="14305" y="4650"/>
                  <a:pt x="14383" y="4658"/>
                  <a:pt x="14478" y="4636"/>
                </a:cubicBezTo>
                <a:cubicBezTo>
                  <a:pt x="14627" y="4601"/>
                  <a:pt x="14767" y="4604"/>
                  <a:pt x="14922" y="4604"/>
                </a:cubicBezTo>
                <a:cubicBezTo>
                  <a:pt x="15033" y="4604"/>
                  <a:pt x="15110" y="4628"/>
                  <a:pt x="15208" y="4636"/>
                </a:cubicBezTo>
                <a:cubicBezTo>
                  <a:pt x="15240" y="4636"/>
                  <a:pt x="15250" y="4636"/>
                  <a:pt x="15240" y="4667"/>
                </a:cubicBezTo>
              </a:path>
              <a:path w="5303" h="1589">
                <a:moveTo>
                  <a:pt x="14637" y="4921"/>
                </a:moveTo>
                <a:cubicBezTo>
                  <a:pt x="14637" y="4991"/>
                  <a:pt x="14652" y="5012"/>
                  <a:pt x="14668" y="5080"/>
                </a:cubicBezTo>
                <a:cubicBezTo>
                  <a:pt x="14684" y="5147"/>
                  <a:pt x="14700" y="5198"/>
                  <a:pt x="14700" y="5270"/>
                </a:cubicBezTo>
                <a:cubicBezTo>
                  <a:pt x="14700" y="5302"/>
                  <a:pt x="14700" y="5313"/>
                  <a:pt x="14700" y="5334"/>
                </a:cubicBezTo>
                <a:cubicBezTo>
                  <a:pt x="14700" y="5218"/>
                  <a:pt x="14664" y="5043"/>
                  <a:pt x="14732" y="4953"/>
                </a:cubicBezTo>
                <a:cubicBezTo>
                  <a:pt x="14799" y="4953"/>
                  <a:pt x="14810" y="4968"/>
                  <a:pt x="14859" y="5016"/>
                </a:cubicBezTo>
                <a:cubicBezTo>
                  <a:pt x="14885" y="5042"/>
                  <a:pt x="14937" y="5169"/>
                  <a:pt x="14922" y="5207"/>
                </a:cubicBezTo>
                <a:cubicBezTo>
                  <a:pt x="14912" y="5218"/>
                  <a:pt x="14901" y="5228"/>
                  <a:pt x="14891" y="5239"/>
                </a:cubicBezTo>
                <a:cubicBezTo>
                  <a:pt x="14891" y="5291"/>
                  <a:pt x="14891" y="5196"/>
                  <a:pt x="14891" y="5144"/>
                </a:cubicBezTo>
                <a:cubicBezTo>
                  <a:pt x="14891" y="5067"/>
                  <a:pt x="14900" y="4959"/>
                  <a:pt x="14986" y="4921"/>
                </a:cubicBezTo>
                <a:cubicBezTo>
                  <a:pt x="15055" y="4890"/>
                  <a:pt x="15056" y="4896"/>
                  <a:pt x="15113" y="4953"/>
                </a:cubicBezTo>
                <a:cubicBezTo>
                  <a:pt x="15165" y="5005"/>
                  <a:pt x="15145" y="5074"/>
                  <a:pt x="15145" y="5144"/>
                </a:cubicBezTo>
                <a:cubicBezTo>
                  <a:pt x="15145" y="5207"/>
                  <a:pt x="15126" y="5253"/>
                  <a:pt x="15176" y="5270"/>
                </a:cubicBezTo>
              </a:path>
              <a:path w="5303" h="1589">
                <a:moveTo>
                  <a:pt x="15335" y="4921"/>
                </a:moveTo>
                <a:cubicBezTo>
                  <a:pt x="15295" y="4935"/>
                  <a:pt x="15260" y="5026"/>
                  <a:pt x="15240" y="5080"/>
                </a:cubicBezTo>
                <a:cubicBezTo>
                  <a:pt x="15218" y="5141"/>
                  <a:pt x="15235" y="5190"/>
                  <a:pt x="15272" y="5207"/>
                </a:cubicBezTo>
                <a:cubicBezTo>
                  <a:pt x="15327" y="5233"/>
                  <a:pt x="15416" y="5234"/>
                  <a:pt x="15462" y="5175"/>
                </a:cubicBezTo>
                <a:cubicBezTo>
                  <a:pt x="15487" y="5142"/>
                  <a:pt x="15579" y="5068"/>
                  <a:pt x="15558" y="5016"/>
                </a:cubicBezTo>
                <a:cubicBezTo>
                  <a:pt x="15532" y="4952"/>
                  <a:pt x="15426" y="4953"/>
                  <a:pt x="15399" y="4921"/>
                </a:cubicBezTo>
                <a:cubicBezTo>
                  <a:pt x="15399" y="4911"/>
                  <a:pt x="15399" y="4900"/>
                  <a:pt x="15399" y="4890"/>
                </a:cubicBezTo>
              </a:path>
              <a:path w="5303" h="1589">
                <a:moveTo>
                  <a:pt x="15716" y="4636"/>
                </a:moveTo>
                <a:cubicBezTo>
                  <a:pt x="15700" y="4715"/>
                  <a:pt x="15684" y="4773"/>
                  <a:pt x="15684" y="4858"/>
                </a:cubicBezTo>
                <a:cubicBezTo>
                  <a:pt x="15684" y="4973"/>
                  <a:pt x="15709" y="5064"/>
                  <a:pt x="15716" y="5175"/>
                </a:cubicBezTo>
                <a:cubicBezTo>
                  <a:pt x="15720" y="5236"/>
                  <a:pt x="15746" y="5289"/>
                  <a:pt x="15780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Ink 4"/>
          <p:cNvSpPr/>
          <p:nvPr/>
        </p:nvSpPr>
        <p:spPr>
          <a:xfrm>
            <a:off x="2149560" y="2778120"/>
            <a:ext cx="2639880" cy="1017720"/>
          </a:xfrm>
          <a:custGeom>
            <a:avLst/>
            <a:gdLst/>
            <a:ahLst/>
            <a:rect l="l" t="t" r="r" b="b"/>
            <a:pathLst>
              <a:path w="7335" h="2827">
                <a:moveTo>
                  <a:pt x="6350" y="8985"/>
                </a:moveTo>
                <a:cubicBezTo>
                  <a:pt x="6329" y="8975"/>
                  <a:pt x="6307" y="8964"/>
                  <a:pt x="6286" y="8954"/>
                </a:cubicBezTo>
                <a:cubicBezTo>
                  <a:pt x="6302" y="9034"/>
                  <a:pt x="6351" y="9099"/>
                  <a:pt x="6382" y="9176"/>
                </a:cubicBezTo>
                <a:cubicBezTo>
                  <a:pt x="6444" y="9334"/>
                  <a:pt x="6474" y="9492"/>
                  <a:pt x="6509" y="9652"/>
                </a:cubicBezTo>
                <a:cubicBezTo>
                  <a:pt x="6528" y="9740"/>
                  <a:pt x="6549" y="9831"/>
                  <a:pt x="6572" y="9906"/>
                </a:cubicBezTo>
                <a:cubicBezTo>
                  <a:pt x="6572" y="9942"/>
                  <a:pt x="6575" y="9956"/>
                  <a:pt x="6604" y="9970"/>
                </a:cubicBezTo>
              </a:path>
              <a:path w="7335" h="2827">
                <a:moveTo>
                  <a:pt x="6096" y="9303"/>
                </a:moveTo>
                <a:cubicBezTo>
                  <a:pt x="6009" y="9204"/>
                  <a:pt x="5975" y="9150"/>
                  <a:pt x="5969" y="9017"/>
                </a:cubicBezTo>
                <a:cubicBezTo>
                  <a:pt x="5964" y="8916"/>
                  <a:pt x="6056" y="8796"/>
                  <a:pt x="6128" y="8731"/>
                </a:cubicBezTo>
                <a:cubicBezTo>
                  <a:pt x="6224" y="8643"/>
                  <a:pt x="6450" y="8535"/>
                  <a:pt x="6572" y="8509"/>
                </a:cubicBezTo>
                <a:cubicBezTo>
                  <a:pt x="6699" y="8482"/>
                  <a:pt x="6810" y="8523"/>
                  <a:pt x="6922" y="8572"/>
                </a:cubicBezTo>
                <a:cubicBezTo>
                  <a:pt x="6911" y="8693"/>
                  <a:pt x="6887" y="8714"/>
                  <a:pt x="6826" y="8826"/>
                </a:cubicBezTo>
                <a:cubicBezTo>
                  <a:pt x="6755" y="8956"/>
                  <a:pt x="6650" y="9135"/>
                  <a:pt x="6540" y="9239"/>
                </a:cubicBezTo>
                <a:cubicBezTo>
                  <a:pt x="6519" y="9250"/>
                  <a:pt x="6498" y="9260"/>
                  <a:pt x="6477" y="9271"/>
                </a:cubicBezTo>
                <a:cubicBezTo>
                  <a:pt x="6521" y="9150"/>
                  <a:pt x="6536" y="9139"/>
                  <a:pt x="6636" y="9049"/>
                </a:cubicBezTo>
                <a:cubicBezTo>
                  <a:pt x="6737" y="8958"/>
                  <a:pt x="6851" y="8902"/>
                  <a:pt x="6985" y="8890"/>
                </a:cubicBezTo>
                <a:cubicBezTo>
                  <a:pt x="7105" y="8879"/>
                  <a:pt x="7220" y="8942"/>
                  <a:pt x="7271" y="9049"/>
                </a:cubicBezTo>
                <a:cubicBezTo>
                  <a:pt x="7346" y="9208"/>
                  <a:pt x="7275" y="9347"/>
                  <a:pt x="7207" y="9493"/>
                </a:cubicBezTo>
                <a:cubicBezTo>
                  <a:pt x="7139" y="9637"/>
                  <a:pt x="6996" y="9819"/>
                  <a:pt x="6858" y="9906"/>
                </a:cubicBezTo>
                <a:cubicBezTo>
                  <a:pt x="6775" y="9958"/>
                  <a:pt x="6674" y="9988"/>
                  <a:pt x="6604" y="9906"/>
                </a:cubicBezTo>
                <a:cubicBezTo>
                  <a:pt x="6573" y="9845"/>
                  <a:pt x="6563" y="9826"/>
                  <a:pt x="6572" y="9779"/>
                </a:cubicBezTo>
              </a:path>
              <a:path w="7335" h="2827">
                <a:moveTo>
                  <a:pt x="7461" y="9208"/>
                </a:moveTo>
                <a:cubicBezTo>
                  <a:pt x="7559" y="9196"/>
                  <a:pt x="7623" y="9167"/>
                  <a:pt x="7684" y="9080"/>
                </a:cubicBezTo>
                <a:cubicBezTo>
                  <a:pt x="7730" y="9014"/>
                  <a:pt x="7795" y="8903"/>
                  <a:pt x="7810" y="8826"/>
                </a:cubicBezTo>
                <a:cubicBezTo>
                  <a:pt x="7817" y="8790"/>
                  <a:pt x="7810" y="8738"/>
                  <a:pt x="7810" y="8700"/>
                </a:cubicBezTo>
                <a:cubicBezTo>
                  <a:pt x="7716" y="8700"/>
                  <a:pt x="7680" y="8710"/>
                  <a:pt x="7620" y="8795"/>
                </a:cubicBezTo>
                <a:cubicBezTo>
                  <a:pt x="7559" y="8880"/>
                  <a:pt x="7529" y="9010"/>
                  <a:pt x="7525" y="9112"/>
                </a:cubicBezTo>
                <a:cubicBezTo>
                  <a:pt x="7520" y="9224"/>
                  <a:pt x="7558" y="9279"/>
                  <a:pt x="7652" y="9334"/>
                </a:cubicBezTo>
                <a:cubicBezTo>
                  <a:pt x="7754" y="9394"/>
                  <a:pt x="7862" y="9366"/>
                  <a:pt x="7969" y="9334"/>
                </a:cubicBezTo>
                <a:cubicBezTo>
                  <a:pt x="8076" y="9303"/>
                  <a:pt x="8115" y="9253"/>
                  <a:pt x="8192" y="9176"/>
                </a:cubicBezTo>
              </a:path>
              <a:path w="7335" h="2827">
                <a:moveTo>
                  <a:pt x="8572" y="8414"/>
                </a:moveTo>
                <a:cubicBezTo>
                  <a:pt x="8510" y="8366"/>
                  <a:pt x="8508" y="8379"/>
                  <a:pt x="8446" y="8414"/>
                </a:cubicBezTo>
                <a:cubicBezTo>
                  <a:pt x="8347" y="8471"/>
                  <a:pt x="8296" y="8561"/>
                  <a:pt x="8255" y="8668"/>
                </a:cubicBezTo>
                <a:cubicBezTo>
                  <a:pt x="8212" y="8780"/>
                  <a:pt x="8207" y="8878"/>
                  <a:pt x="8255" y="8985"/>
                </a:cubicBezTo>
                <a:cubicBezTo>
                  <a:pt x="8290" y="9064"/>
                  <a:pt x="8424" y="9085"/>
                  <a:pt x="8509" y="9049"/>
                </a:cubicBezTo>
                <a:cubicBezTo>
                  <a:pt x="8605" y="9008"/>
                  <a:pt x="8704" y="8943"/>
                  <a:pt x="8795" y="8890"/>
                </a:cubicBezTo>
              </a:path>
              <a:path w="7335" h="2827">
                <a:moveTo>
                  <a:pt x="9144" y="8318"/>
                </a:moveTo>
                <a:cubicBezTo>
                  <a:pt x="9049" y="8263"/>
                  <a:pt x="9047" y="8279"/>
                  <a:pt x="8985" y="8350"/>
                </a:cubicBezTo>
                <a:cubicBezTo>
                  <a:pt x="8915" y="8430"/>
                  <a:pt x="8844" y="8559"/>
                  <a:pt x="8826" y="8668"/>
                </a:cubicBezTo>
                <a:cubicBezTo>
                  <a:pt x="8816" y="8727"/>
                  <a:pt x="8807" y="8866"/>
                  <a:pt x="8890" y="8890"/>
                </a:cubicBezTo>
                <a:cubicBezTo>
                  <a:pt x="8985" y="8917"/>
                  <a:pt x="9055" y="8820"/>
                  <a:pt x="9112" y="8763"/>
                </a:cubicBezTo>
                <a:cubicBezTo>
                  <a:pt x="9189" y="8686"/>
                  <a:pt x="9176" y="8612"/>
                  <a:pt x="9176" y="8509"/>
                </a:cubicBezTo>
                <a:cubicBezTo>
                  <a:pt x="9176" y="8441"/>
                  <a:pt x="9179" y="8370"/>
                  <a:pt x="9144" y="8318"/>
                </a:cubicBezTo>
                <a:cubicBezTo>
                  <a:pt x="9115" y="8290"/>
                  <a:pt x="9105" y="8275"/>
                  <a:pt x="9112" y="8318"/>
                </a:cubicBezTo>
                <a:cubicBezTo>
                  <a:pt x="9124" y="8403"/>
                  <a:pt x="9167" y="8458"/>
                  <a:pt x="9208" y="8541"/>
                </a:cubicBezTo>
                <a:cubicBezTo>
                  <a:pt x="9238" y="8601"/>
                  <a:pt x="9298" y="8682"/>
                  <a:pt x="9366" y="8700"/>
                </a:cubicBezTo>
                <a:cubicBezTo>
                  <a:pt x="9462" y="8726"/>
                  <a:pt x="9477" y="8695"/>
                  <a:pt x="9525" y="8636"/>
                </a:cubicBezTo>
                <a:cubicBezTo>
                  <a:pt x="9561" y="8600"/>
                  <a:pt x="9572" y="8583"/>
                  <a:pt x="9557" y="8541"/>
                </a:cubicBezTo>
              </a:path>
              <a:path w="7335" h="2827">
                <a:moveTo>
                  <a:pt x="9557" y="8033"/>
                </a:moveTo>
                <a:cubicBezTo>
                  <a:pt x="9557" y="8177"/>
                  <a:pt x="9566" y="8310"/>
                  <a:pt x="9588" y="8446"/>
                </a:cubicBezTo>
                <a:cubicBezTo>
                  <a:pt x="9599" y="8513"/>
                  <a:pt x="9608" y="8602"/>
                  <a:pt x="9684" y="8636"/>
                </a:cubicBezTo>
                <a:cubicBezTo>
                  <a:pt x="9723" y="8653"/>
                  <a:pt x="9789" y="8636"/>
                  <a:pt x="9811" y="8604"/>
                </a:cubicBezTo>
                <a:cubicBezTo>
                  <a:pt x="9867" y="8522"/>
                  <a:pt x="9874" y="8481"/>
                  <a:pt x="9874" y="8382"/>
                </a:cubicBezTo>
                <a:cubicBezTo>
                  <a:pt x="9874" y="8258"/>
                  <a:pt x="9863" y="8138"/>
                  <a:pt x="9842" y="8033"/>
                </a:cubicBezTo>
                <a:cubicBezTo>
                  <a:pt x="9827" y="7957"/>
                  <a:pt x="9853" y="7956"/>
                  <a:pt x="9779" y="7938"/>
                </a:cubicBezTo>
              </a:path>
              <a:path w="7335" h="2827">
                <a:moveTo>
                  <a:pt x="10414" y="7842"/>
                </a:moveTo>
                <a:cubicBezTo>
                  <a:pt x="10446" y="7810"/>
                  <a:pt x="10457" y="7800"/>
                  <a:pt x="10414" y="7779"/>
                </a:cubicBezTo>
                <a:cubicBezTo>
                  <a:pt x="10340" y="7797"/>
                  <a:pt x="10300" y="7832"/>
                  <a:pt x="10224" y="7874"/>
                </a:cubicBezTo>
                <a:cubicBezTo>
                  <a:pt x="10155" y="7912"/>
                  <a:pt x="10081" y="7952"/>
                  <a:pt x="10065" y="8033"/>
                </a:cubicBezTo>
                <a:cubicBezTo>
                  <a:pt x="10046" y="8127"/>
                  <a:pt x="10098" y="8106"/>
                  <a:pt x="10160" y="8128"/>
                </a:cubicBezTo>
                <a:cubicBezTo>
                  <a:pt x="10233" y="8154"/>
                  <a:pt x="10346" y="8210"/>
                  <a:pt x="10414" y="8223"/>
                </a:cubicBezTo>
                <a:cubicBezTo>
                  <a:pt x="10508" y="8241"/>
                  <a:pt x="10580" y="8230"/>
                  <a:pt x="10604" y="8350"/>
                </a:cubicBezTo>
                <a:cubicBezTo>
                  <a:pt x="10614" y="8400"/>
                  <a:pt x="10577" y="8478"/>
                  <a:pt x="10541" y="8509"/>
                </a:cubicBezTo>
                <a:cubicBezTo>
                  <a:pt x="10509" y="8537"/>
                  <a:pt x="10398" y="8598"/>
                  <a:pt x="10350" y="8572"/>
                </a:cubicBezTo>
                <a:cubicBezTo>
                  <a:pt x="10340" y="8562"/>
                  <a:pt x="10329" y="8551"/>
                  <a:pt x="10319" y="8541"/>
                </a:cubicBezTo>
              </a:path>
              <a:path w="7335" h="2827">
                <a:moveTo>
                  <a:pt x="10636" y="8255"/>
                </a:moveTo>
                <a:cubicBezTo>
                  <a:pt x="10725" y="8211"/>
                  <a:pt x="10787" y="8193"/>
                  <a:pt x="10858" y="8128"/>
                </a:cubicBezTo>
                <a:cubicBezTo>
                  <a:pt x="10919" y="8072"/>
                  <a:pt x="10972" y="8043"/>
                  <a:pt x="11017" y="7969"/>
                </a:cubicBezTo>
                <a:cubicBezTo>
                  <a:pt x="11063" y="7893"/>
                  <a:pt x="11081" y="7868"/>
                  <a:pt x="11081" y="7779"/>
                </a:cubicBezTo>
                <a:cubicBezTo>
                  <a:pt x="11081" y="7712"/>
                  <a:pt x="11040" y="7715"/>
                  <a:pt x="10986" y="7715"/>
                </a:cubicBezTo>
                <a:cubicBezTo>
                  <a:pt x="10882" y="7715"/>
                  <a:pt x="10866" y="7795"/>
                  <a:pt x="10827" y="7874"/>
                </a:cubicBezTo>
                <a:cubicBezTo>
                  <a:pt x="10797" y="7935"/>
                  <a:pt x="10768" y="8058"/>
                  <a:pt x="10795" y="8128"/>
                </a:cubicBezTo>
                <a:cubicBezTo>
                  <a:pt x="10830" y="8218"/>
                  <a:pt x="10877" y="8234"/>
                  <a:pt x="10954" y="8255"/>
                </a:cubicBezTo>
                <a:cubicBezTo>
                  <a:pt x="11088" y="8292"/>
                  <a:pt x="11146" y="8276"/>
                  <a:pt x="11271" y="8255"/>
                </a:cubicBezTo>
                <a:cubicBezTo>
                  <a:pt x="11324" y="8255"/>
                  <a:pt x="11334" y="8255"/>
                  <a:pt x="11366" y="8255"/>
                </a:cubicBezTo>
              </a:path>
              <a:path w="7335" h="2827">
                <a:moveTo>
                  <a:pt x="6572" y="10541"/>
                </a:moveTo>
                <a:cubicBezTo>
                  <a:pt x="6615" y="10493"/>
                  <a:pt x="6615" y="10483"/>
                  <a:pt x="6668" y="10446"/>
                </a:cubicBezTo>
                <a:cubicBezTo>
                  <a:pt x="6811" y="10345"/>
                  <a:pt x="6954" y="10234"/>
                  <a:pt x="7112" y="10160"/>
                </a:cubicBezTo>
                <a:cubicBezTo>
                  <a:pt x="7320" y="10063"/>
                  <a:pt x="7511" y="9948"/>
                  <a:pt x="7715" y="9842"/>
                </a:cubicBezTo>
                <a:cubicBezTo>
                  <a:pt x="7958" y="9716"/>
                  <a:pt x="8197" y="9604"/>
                  <a:pt x="8446" y="9493"/>
                </a:cubicBezTo>
                <a:cubicBezTo>
                  <a:pt x="8711" y="9375"/>
                  <a:pt x="8975" y="9260"/>
                  <a:pt x="9239" y="9144"/>
                </a:cubicBezTo>
                <a:cubicBezTo>
                  <a:pt x="9558" y="9004"/>
                  <a:pt x="9893" y="8905"/>
                  <a:pt x="10224" y="8795"/>
                </a:cubicBezTo>
                <a:cubicBezTo>
                  <a:pt x="10458" y="8717"/>
                  <a:pt x="10687" y="8640"/>
                  <a:pt x="10922" y="8572"/>
                </a:cubicBezTo>
                <a:cubicBezTo>
                  <a:pt x="11070" y="8529"/>
                  <a:pt x="11219" y="8505"/>
                  <a:pt x="11366" y="8477"/>
                </a:cubicBezTo>
                <a:cubicBezTo>
                  <a:pt x="11427" y="8465"/>
                  <a:pt x="11524" y="8436"/>
                  <a:pt x="11589" y="8446"/>
                </a:cubicBezTo>
                <a:cubicBezTo>
                  <a:pt x="11589" y="8477"/>
                  <a:pt x="11589" y="8488"/>
                  <a:pt x="11557" y="8477"/>
                </a:cubicBezTo>
              </a:path>
              <a:path w="7335" h="2827">
                <a:moveTo>
                  <a:pt x="11779" y="9493"/>
                </a:moveTo>
                <a:cubicBezTo>
                  <a:pt x="11769" y="9583"/>
                  <a:pt x="11768" y="9690"/>
                  <a:pt x="11748" y="9779"/>
                </a:cubicBezTo>
                <a:cubicBezTo>
                  <a:pt x="11721" y="9902"/>
                  <a:pt x="11716" y="10000"/>
                  <a:pt x="11716" y="10128"/>
                </a:cubicBezTo>
                <a:cubicBezTo>
                  <a:pt x="11716" y="10177"/>
                  <a:pt x="11729" y="10303"/>
                  <a:pt x="11748" y="10350"/>
                </a:cubicBezTo>
                <a:cubicBezTo>
                  <a:pt x="11776" y="10379"/>
                  <a:pt x="11782" y="10390"/>
                  <a:pt x="11811" y="10382"/>
                </a:cubicBezTo>
              </a:path>
              <a:path w="7335" h="2827">
                <a:moveTo>
                  <a:pt x="12128" y="9620"/>
                </a:moveTo>
                <a:cubicBezTo>
                  <a:pt x="12091" y="9709"/>
                  <a:pt x="12091" y="9785"/>
                  <a:pt x="12065" y="9874"/>
                </a:cubicBezTo>
                <a:cubicBezTo>
                  <a:pt x="12040" y="9961"/>
                  <a:pt x="12024" y="10040"/>
                  <a:pt x="12065" y="10128"/>
                </a:cubicBezTo>
                <a:cubicBezTo>
                  <a:pt x="12106" y="10216"/>
                  <a:pt x="12134" y="10224"/>
                  <a:pt x="12224" y="10224"/>
                </a:cubicBezTo>
                <a:cubicBezTo>
                  <a:pt x="12309" y="10224"/>
                  <a:pt x="12324" y="10219"/>
                  <a:pt x="12382" y="10160"/>
                </a:cubicBezTo>
                <a:cubicBezTo>
                  <a:pt x="12449" y="10092"/>
                  <a:pt x="12446" y="10067"/>
                  <a:pt x="12446" y="9970"/>
                </a:cubicBezTo>
                <a:cubicBezTo>
                  <a:pt x="12446" y="9890"/>
                  <a:pt x="12461" y="9816"/>
                  <a:pt x="12414" y="9747"/>
                </a:cubicBezTo>
                <a:cubicBezTo>
                  <a:pt x="12381" y="9698"/>
                  <a:pt x="12311" y="9639"/>
                  <a:pt x="12256" y="9620"/>
                </a:cubicBezTo>
                <a:cubicBezTo>
                  <a:pt x="12214" y="9606"/>
                  <a:pt x="12142" y="9620"/>
                  <a:pt x="12097" y="9620"/>
                </a:cubicBezTo>
              </a:path>
              <a:path w="7335" h="2827">
                <a:moveTo>
                  <a:pt x="13144" y="9493"/>
                </a:moveTo>
                <a:cubicBezTo>
                  <a:pt x="12996" y="9493"/>
                  <a:pt x="12848" y="9493"/>
                  <a:pt x="12700" y="9493"/>
                </a:cubicBezTo>
                <a:cubicBezTo>
                  <a:pt x="12714" y="9551"/>
                  <a:pt x="12732" y="9583"/>
                  <a:pt x="12732" y="9652"/>
                </a:cubicBezTo>
                <a:cubicBezTo>
                  <a:pt x="12732" y="9688"/>
                  <a:pt x="12735" y="9702"/>
                  <a:pt x="12764" y="9716"/>
                </a:cubicBezTo>
                <a:cubicBezTo>
                  <a:pt x="12809" y="9679"/>
                  <a:pt x="12865" y="9624"/>
                  <a:pt x="12922" y="9620"/>
                </a:cubicBezTo>
                <a:cubicBezTo>
                  <a:pt x="12996" y="9615"/>
                  <a:pt x="13081" y="9609"/>
                  <a:pt x="13144" y="9652"/>
                </a:cubicBezTo>
                <a:cubicBezTo>
                  <a:pt x="13202" y="9691"/>
                  <a:pt x="13281" y="9776"/>
                  <a:pt x="13303" y="9842"/>
                </a:cubicBezTo>
                <a:cubicBezTo>
                  <a:pt x="13321" y="9896"/>
                  <a:pt x="13303" y="9962"/>
                  <a:pt x="13272" y="10001"/>
                </a:cubicBezTo>
                <a:cubicBezTo>
                  <a:pt x="13229" y="10055"/>
                  <a:pt x="13169" y="10080"/>
                  <a:pt x="13113" y="10096"/>
                </a:cubicBezTo>
                <a:cubicBezTo>
                  <a:pt x="13077" y="10106"/>
                  <a:pt x="12971" y="10091"/>
                  <a:pt x="12954" y="10065"/>
                </a:cubicBezTo>
                <a:cubicBezTo>
                  <a:pt x="12954" y="10054"/>
                  <a:pt x="12954" y="10044"/>
                  <a:pt x="1295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Ink 5"/>
          <p:cNvSpPr/>
          <p:nvPr/>
        </p:nvSpPr>
        <p:spPr>
          <a:xfrm>
            <a:off x="3978360" y="419400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1049" y="11684"/>
                </a:moveTo>
                <a:cubicBezTo>
                  <a:pt x="11049" y="11673"/>
                  <a:pt x="11049" y="11663"/>
                  <a:pt x="11049" y="11652"/>
                </a:cubicBezTo>
              </a:path>
              <a:path w="1" h="33">
                <a:moveTo>
                  <a:pt x="11049" y="11684"/>
                </a:moveTo>
                <a:lnTo>
                  <a:pt x="11049" y="11684"/>
                </a:lnTo>
                <a:lnTo>
                  <a:pt x="11049" y="116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Ink 6"/>
          <p:cNvSpPr/>
          <p:nvPr/>
        </p:nvSpPr>
        <p:spPr>
          <a:xfrm>
            <a:off x="3943440" y="4194000"/>
            <a:ext cx="206280" cy="12960"/>
          </a:xfrm>
          <a:custGeom>
            <a:avLst/>
            <a:gdLst/>
            <a:ahLst/>
            <a:rect l="l" t="t" r="r" b="b"/>
            <a:pathLst>
              <a:path w="572" h="33">
                <a:moveTo>
                  <a:pt x="11049" y="11684"/>
                </a:moveTo>
                <a:cubicBezTo>
                  <a:pt x="11131" y="11672"/>
                  <a:pt x="11151" y="11660"/>
                  <a:pt x="11208" y="11652"/>
                </a:cubicBezTo>
                <a:cubicBezTo>
                  <a:pt x="11262" y="11644"/>
                  <a:pt x="11607" y="11652"/>
                  <a:pt x="11462" y="11652"/>
                </a:cubicBezTo>
                <a:cubicBezTo>
                  <a:pt x="11282" y="11652"/>
                  <a:pt x="10806" y="11652"/>
                  <a:pt x="10986" y="11652"/>
                </a:cubicBezTo>
                <a:cubicBezTo>
                  <a:pt x="11176" y="11652"/>
                  <a:pt x="11684" y="11652"/>
                  <a:pt x="11494" y="11652"/>
                </a:cubicBezTo>
                <a:cubicBezTo>
                  <a:pt x="11430" y="11652"/>
                  <a:pt x="11367" y="11652"/>
                  <a:pt x="113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k 7"/>
          <p:cNvSpPr/>
          <p:nvPr/>
        </p:nvSpPr>
        <p:spPr>
          <a:xfrm>
            <a:off x="4343400" y="3772080"/>
            <a:ext cx="1303200" cy="641160"/>
          </a:xfrm>
          <a:custGeom>
            <a:avLst/>
            <a:gdLst/>
            <a:ahLst/>
            <a:rect l="l" t="t" r="r" b="b"/>
            <a:pathLst>
              <a:path w="3620" h="1779">
                <a:moveTo>
                  <a:pt x="12192" y="11144"/>
                </a:moveTo>
                <a:cubicBezTo>
                  <a:pt x="12169" y="11198"/>
                  <a:pt x="12110" y="11285"/>
                  <a:pt x="12097" y="11335"/>
                </a:cubicBezTo>
                <a:cubicBezTo>
                  <a:pt x="12076" y="11414"/>
                  <a:pt x="12086" y="11488"/>
                  <a:pt x="12097" y="11557"/>
                </a:cubicBezTo>
                <a:cubicBezTo>
                  <a:pt x="12105" y="11609"/>
                  <a:pt x="12136" y="11648"/>
                  <a:pt x="12192" y="11652"/>
                </a:cubicBezTo>
                <a:cubicBezTo>
                  <a:pt x="12252" y="11656"/>
                  <a:pt x="12333" y="11649"/>
                  <a:pt x="12382" y="11620"/>
                </a:cubicBezTo>
                <a:cubicBezTo>
                  <a:pt x="12442" y="11585"/>
                  <a:pt x="12466" y="11511"/>
                  <a:pt x="12510" y="11462"/>
                </a:cubicBezTo>
                <a:cubicBezTo>
                  <a:pt x="12541" y="11430"/>
                  <a:pt x="12552" y="11419"/>
                  <a:pt x="12573" y="11398"/>
                </a:cubicBezTo>
              </a:path>
              <a:path w="3620" h="1779">
                <a:moveTo>
                  <a:pt x="12573" y="11112"/>
                </a:moveTo>
                <a:cubicBezTo>
                  <a:pt x="12527" y="11173"/>
                  <a:pt x="12529" y="11229"/>
                  <a:pt x="12510" y="11303"/>
                </a:cubicBezTo>
                <a:cubicBezTo>
                  <a:pt x="12478" y="11425"/>
                  <a:pt x="12478" y="11524"/>
                  <a:pt x="12478" y="11652"/>
                </a:cubicBezTo>
                <a:cubicBezTo>
                  <a:pt x="12478" y="11832"/>
                  <a:pt x="12478" y="12308"/>
                  <a:pt x="12478" y="12128"/>
                </a:cubicBezTo>
              </a:path>
              <a:path w="3620" h="1779">
                <a:moveTo>
                  <a:pt x="13240" y="10795"/>
                </a:moveTo>
                <a:cubicBezTo>
                  <a:pt x="13172" y="10761"/>
                  <a:pt x="13157" y="10817"/>
                  <a:pt x="13113" y="10890"/>
                </a:cubicBezTo>
                <a:cubicBezTo>
                  <a:pt x="13051" y="10995"/>
                  <a:pt x="13024" y="11125"/>
                  <a:pt x="12986" y="11240"/>
                </a:cubicBezTo>
                <a:cubicBezTo>
                  <a:pt x="12943" y="11369"/>
                  <a:pt x="12927" y="11516"/>
                  <a:pt x="12922" y="11652"/>
                </a:cubicBezTo>
                <a:cubicBezTo>
                  <a:pt x="12919" y="11747"/>
                  <a:pt x="12935" y="11887"/>
                  <a:pt x="12986" y="11970"/>
                </a:cubicBezTo>
                <a:cubicBezTo>
                  <a:pt x="13025" y="12034"/>
                  <a:pt x="13039" y="12065"/>
                  <a:pt x="13113" y="12065"/>
                </a:cubicBezTo>
                <a:cubicBezTo>
                  <a:pt x="13158" y="12065"/>
                  <a:pt x="13180" y="12059"/>
                  <a:pt x="13208" y="12033"/>
                </a:cubicBezTo>
              </a:path>
              <a:path w="3620" h="1779">
                <a:moveTo>
                  <a:pt x="13430" y="11271"/>
                </a:moveTo>
                <a:cubicBezTo>
                  <a:pt x="13440" y="11243"/>
                  <a:pt x="13486" y="11222"/>
                  <a:pt x="13526" y="11208"/>
                </a:cubicBezTo>
                <a:cubicBezTo>
                  <a:pt x="13573" y="11192"/>
                  <a:pt x="13723" y="11190"/>
                  <a:pt x="13748" y="11240"/>
                </a:cubicBezTo>
                <a:cubicBezTo>
                  <a:pt x="13784" y="11311"/>
                  <a:pt x="13782" y="11339"/>
                  <a:pt x="13748" y="11398"/>
                </a:cubicBezTo>
                <a:cubicBezTo>
                  <a:pt x="13706" y="11472"/>
                  <a:pt x="13672" y="11552"/>
                  <a:pt x="13621" y="11620"/>
                </a:cubicBezTo>
                <a:cubicBezTo>
                  <a:pt x="13598" y="11651"/>
                  <a:pt x="13505" y="11700"/>
                  <a:pt x="13526" y="11748"/>
                </a:cubicBezTo>
                <a:cubicBezTo>
                  <a:pt x="13544" y="11788"/>
                  <a:pt x="13651" y="11793"/>
                  <a:pt x="13684" y="11779"/>
                </a:cubicBezTo>
                <a:cubicBezTo>
                  <a:pt x="13741" y="11756"/>
                  <a:pt x="13806" y="11721"/>
                  <a:pt x="13875" y="11716"/>
                </a:cubicBezTo>
                <a:cubicBezTo>
                  <a:pt x="13940" y="11712"/>
                  <a:pt x="13947" y="11698"/>
                  <a:pt x="14002" y="11684"/>
                </a:cubicBezTo>
              </a:path>
              <a:path w="3620" h="1779">
                <a:moveTo>
                  <a:pt x="14288" y="11208"/>
                </a:moveTo>
                <a:cubicBezTo>
                  <a:pt x="14238" y="11183"/>
                  <a:pt x="14187" y="11194"/>
                  <a:pt x="14129" y="11240"/>
                </a:cubicBezTo>
                <a:cubicBezTo>
                  <a:pt x="14036" y="11314"/>
                  <a:pt x="14056" y="11381"/>
                  <a:pt x="14160" y="11398"/>
                </a:cubicBezTo>
                <a:cubicBezTo>
                  <a:pt x="14224" y="11409"/>
                  <a:pt x="14246" y="11378"/>
                  <a:pt x="14288" y="11335"/>
                </a:cubicBezTo>
                <a:cubicBezTo>
                  <a:pt x="14326" y="11297"/>
                  <a:pt x="14395" y="11215"/>
                  <a:pt x="14319" y="11176"/>
                </a:cubicBezTo>
                <a:cubicBezTo>
                  <a:pt x="14288" y="11176"/>
                  <a:pt x="14277" y="11176"/>
                  <a:pt x="14256" y="11176"/>
                </a:cubicBezTo>
              </a:path>
              <a:path w="3620" h="1779">
                <a:moveTo>
                  <a:pt x="14256" y="11398"/>
                </a:moveTo>
                <a:cubicBezTo>
                  <a:pt x="14212" y="11453"/>
                  <a:pt x="14152" y="11521"/>
                  <a:pt x="14129" y="11589"/>
                </a:cubicBezTo>
                <a:cubicBezTo>
                  <a:pt x="14118" y="11623"/>
                  <a:pt x="14074" y="11708"/>
                  <a:pt x="14097" y="11748"/>
                </a:cubicBezTo>
                <a:cubicBezTo>
                  <a:pt x="14141" y="11826"/>
                  <a:pt x="14234" y="11761"/>
                  <a:pt x="14288" y="11748"/>
                </a:cubicBezTo>
                <a:cubicBezTo>
                  <a:pt x="14365" y="11729"/>
                  <a:pt x="14367" y="11682"/>
                  <a:pt x="14414" y="11620"/>
                </a:cubicBezTo>
                <a:cubicBezTo>
                  <a:pt x="14465" y="11552"/>
                  <a:pt x="14421" y="11547"/>
                  <a:pt x="14414" y="11462"/>
                </a:cubicBezTo>
                <a:cubicBezTo>
                  <a:pt x="14412" y="11438"/>
                  <a:pt x="14355" y="11382"/>
                  <a:pt x="14319" y="11366"/>
                </a:cubicBezTo>
                <a:cubicBezTo>
                  <a:pt x="14309" y="11366"/>
                  <a:pt x="14298" y="11366"/>
                  <a:pt x="14288" y="11366"/>
                </a:cubicBezTo>
              </a:path>
              <a:path w="3620" h="1779">
                <a:moveTo>
                  <a:pt x="14700" y="10954"/>
                </a:moveTo>
                <a:cubicBezTo>
                  <a:pt x="14647" y="11032"/>
                  <a:pt x="14659" y="11058"/>
                  <a:pt x="14605" y="11144"/>
                </a:cubicBezTo>
                <a:cubicBezTo>
                  <a:pt x="14581" y="11183"/>
                  <a:pt x="14536" y="11347"/>
                  <a:pt x="14542" y="11398"/>
                </a:cubicBezTo>
                <a:cubicBezTo>
                  <a:pt x="14547" y="11446"/>
                  <a:pt x="14577" y="11555"/>
                  <a:pt x="14605" y="11589"/>
                </a:cubicBezTo>
                <a:cubicBezTo>
                  <a:pt x="14646" y="11639"/>
                  <a:pt x="14706" y="11620"/>
                  <a:pt x="14764" y="11620"/>
                </a:cubicBezTo>
                <a:cubicBezTo>
                  <a:pt x="14775" y="11620"/>
                  <a:pt x="14785" y="11620"/>
                  <a:pt x="14796" y="11620"/>
                </a:cubicBezTo>
                <a:cubicBezTo>
                  <a:pt x="14799" y="11601"/>
                  <a:pt x="14860" y="11467"/>
                  <a:pt x="14859" y="11462"/>
                </a:cubicBezTo>
                <a:cubicBezTo>
                  <a:pt x="14849" y="11419"/>
                  <a:pt x="14807" y="11371"/>
                  <a:pt x="14764" y="11366"/>
                </a:cubicBezTo>
                <a:cubicBezTo>
                  <a:pt x="14697" y="11358"/>
                  <a:pt x="14692" y="11457"/>
                  <a:pt x="14668" y="11494"/>
                </a:cubicBezTo>
                <a:cubicBezTo>
                  <a:pt x="14631" y="11551"/>
                  <a:pt x="14631" y="11576"/>
                  <a:pt x="14700" y="11620"/>
                </a:cubicBezTo>
                <a:cubicBezTo>
                  <a:pt x="14762" y="11660"/>
                  <a:pt x="14789" y="11652"/>
                  <a:pt x="14859" y="11652"/>
                </a:cubicBezTo>
              </a:path>
              <a:path w="3620" h="1779">
                <a:moveTo>
                  <a:pt x="15081" y="10478"/>
                </a:moveTo>
                <a:cubicBezTo>
                  <a:pt x="15091" y="10546"/>
                  <a:pt x="15093" y="10551"/>
                  <a:pt x="15145" y="10604"/>
                </a:cubicBezTo>
                <a:cubicBezTo>
                  <a:pt x="15220" y="10680"/>
                  <a:pt x="15301" y="10773"/>
                  <a:pt x="15367" y="10858"/>
                </a:cubicBezTo>
                <a:cubicBezTo>
                  <a:pt x="15450" y="10964"/>
                  <a:pt x="15534" y="11118"/>
                  <a:pt x="15589" y="11240"/>
                </a:cubicBezTo>
                <a:cubicBezTo>
                  <a:pt x="15643" y="11360"/>
                  <a:pt x="15680" y="11491"/>
                  <a:pt x="15684" y="11620"/>
                </a:cubicBezTo>
                <a:cubicBezTo>
                  <a:pt x="15688" y="11760"/>
                  <a:pt x="15646" y="11889"/>
                  <a:pt x="15558" y="12002"/>
                </a:cubicBezTo>
                <a:cubicBezTo>
                  <a:pt x="15495" y="12083"/>
                  <a:pt x="15407" y="12126"/>
                  <a:pt x="15335" y="12192"/>
                </a:cubicBezTo>
                <a:cubicBezTo>
                  <a:pt x="15324" y="12202"/>
                  <a:pt x="15219" y="12309"/>
                  <a:pt x="15304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Ink 8"/>
          <p:cNvSpPr/>
          <p:nvPr/>
        </p:nvSpPr>
        <p:spPr>
          <a:xfrm>
            <a:off x="3875040" y="4664160"/>
            <a:ext cx="206280" cy="11160"/>
          </a:xfrm>
          <a:custGeom>
            <a:avLst/>
            <a:gdLst/>
            <a:ahLst/>
            <a:rect l="l" t="t" r="r" b="b"/>
            <a:pathLst>
              <a:path w="573" h="33">
                <a:moveTo>
                  <a:pt x="10763" y="12954"/>
                </a:moveTo>
                <a:cubicBezTo>
                  <a:pt x="10841" y="12987"/>
                  <a:pt x="10869" y="12986"/>
                  <a:pt x="10954" y="12986"/>
                </a:cubicBezTo>
                <a:cubicBezTo>
                  <a:pt x="11081" y="12986"/>
                  <a:pt x="11208" y="12986"/>
                  <a:pt x="11335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nk 9"/>
          <p:cNvSpPr/>
          <p:nvPr/>
        </p:nvSpPr>
        <p:spPr>
          <a:xfrm>
            <a:off x="4286160" y="4275000"/>
            <a:ext cx="1646280" cy="628920"/>
          </a:xfrm>
          <a:custGeom>
            <a:avLst/>
            <a:gdLst/>
            <a:ahLst/>
            <a:rect l="l" t="t" r="r" b="b"/>
            <a:pathLst>
              <a:path w="4573" h="1748">
                <a:moveTo>
                  <a:pt x="11906" y="12732"/>
                </a:moveTo>
                <a:cubicBezTo>
                  <a:pt x="11967" y="12625"/>
                  <a:pt x="11973" y="12651"/>
                  <a:pt x="12065" y="12605"/>
                </a:cubicBezTo>
                <a:cubicBezTo>
                  <a:pt x="12110" y="12583"/>
                  <a:pt x="12197" y="12543"/>
                  <a:pt x="12256" y="12573"/>
                </a:cubicBezTo>
                <a:cubicBezTo>
                  <a:pt x="12324" y="12607"/>
                  <a:pt x="12315" y="12675"/>
                  <a:pt x="12287" y="12732"/>
                </a:cubicBezTo>
                <a:cubicBezTo>
                  <a:pt x="12253" y="12802"/>
                  <a:pt x="12101" y="12937"/>
                  <a:pt x="12033" y="12954"/>
                </a:cubicBezTo>
                <a:cubicBezTo>
                  <a:pt x="12074" y="12923"/>
                  <a:pt x="12148" y="12899"/>
                  <a:pt x="12192" y="12890"/>
                </a:cubicBezTo>
                <a:cubicBezTo>
                  <a:pt x="12281" y="12872"/>
                  <a:pt x="12308" y="12933"/>
                  <a:pt x="12351" y="12986"/>
                </a:cubicBezTo>
                <a:cubicBezTo>
                  <a:pt x="12385" y="13028"/>
                  <a:pt x="12401" y="13086"/>
                  <a:pt x="12382" y="13144"/>
                </a:cubicBezTo>
                <a:cubicBezTo>
                  <a:pt x="12350" y="13242"/>
                  <a:pt x="12267" y="13278"/>
                  <a:pt x="12192" y="13335"/>
                </a:cubicBezTo>
                <a:cubicBezTo>
                  <a:pt x="12134" y="13379"/>
                  <a:pt x="12076" y="13422"/>
                  <a:pt x="12002" y="13430"/>
                </a:cubicBezTo>
                <a:cubicBezTo>
                  <a:pt x="11960" y="13430"/>
                  <a:pt x="11949" y="13420"/>
                  <a:pt x="11970" y="13367"/>
                </a:cubicBezTo>
              </a:path>
              <a:path w="4573" h="1748">
                <a:moveTo>
                  <a:pt x="13049" y="12382"/>
                </a:moveTo>
                <a:cubicBezTo>
                  <a:pt x="13015" y="12429"/>
                  <a:pt x="12968" y="12512"/>
                  <a:pt x="12954" y="12573"/>
                </a:cubicBezTo>
                <a:cubicBezTo>
                  <a:pt x="12929" y="12686"/>
                  <a:pt x="12914" y="12809"/>
                  <a:pt x="12890" y="12922"/>
                </a:cubicBezTo>
                <a:cubicBezTo>
                  <a:pt x="12862" y="13053"/>
                  <a:pt x="12842" y="13139"/>
                  <a:pt x="12890" y="13272"/>
                </a:cubicBezTo>
                <a:cubicBezTo>
                  <a:pt x="12927" y="13375"/>
                  <a:pt x="12969" y="13402"/>
                  <a:pt x="13049" y="13462"/>
                </a:cubicBezTo>
                <a:cubicBezTo>
                  <a:pt x="13137" y="13529"/>
                  <a:pt x="13140" y="13508"/>
                  <a:pt x="13240" y="13494"/>
                </a:cubicBezTo>
              </a:path>
              <a:path w="4573" h="1748">
                <a:moveTo>
                  <a:pt x="13398" y="12541"/>
                </a:moveTo>
                <a:cubicBezTo>
                  <a:pt x="13439" y="12511"/>
                  <a:pt x="13504" y="12491"/>
                  <a:pt x="13557" y="12478"/>
                </a:cubicBezTo>
                <a:cubicBezTo>
                  <a:pt x="13607" y="12465"/>
                  <a:pt x="13693" y="12419"/>
                  <a:pt x="13748" y="12446"/>
                </a:cubicBezTo>
                <a:cubicBezTo>
                  <a:pt x="13784" y="12464"/>
                  <a:pt x="13810" y="12485"/>
                  <a:pt x="13843" y="12510"/>
                </a:cubicBezTo>
                <a:cubicBezTo>
                  <a:pt x="13812" y="12550"/>
                  <a:pt x="13790" y="12636"/>
                  <a:pt x="13748" y="12668"/>
                </a:cubicBezTo>
                <a:cubicBezTo>
                  <a:pt x="13722" y="12688"/>
                  <a:pt x="13684" y="12700"/>
                  <a:pt x="13652" y="12732"/>
                </a:cubicBezTo>
                <a:cubicBezTo>
                  <a:pt x="13691" y="12722"/>
                  <a:pt x="13773" y="12716"/>
                  <a:pt x="13811" y="12700"/>
                </a:cubicBezTo>
                <a:cubicBezTo>
                  <a:pt x="13870" y="12675"/>
                  <a:pt x="13915" y="12683"/>
                  <a:pt x="13970" y="12732"/>
                </a:cubicBezTo>
                <a:cubicBezTo>
                  <a:pt x="14022" y="12778"/>
                  <a:pt x="14008" y="12834"/>
                  <a:pt x="13970" y="12890"/>
                </a:cubicBezTo>
                <a:cubicBezTo>
                  <a:pt x="13935" y="12943"/>
                  <a:pt x="13862" y="12987"/>
                  <a:pt x="13811" y="13018"/>
                </a:cubicBezTo>
                <a:cubicBezTo>
                  <a:pt x="13763" y="13046"/>
                  <a:pt x="13641" y="13103"/>
                  <a:pt x="13652" y="13049"/>
                </a:cubicBezTo>
                <a:cubicBezTo>
                  <a:pt x="13663" y="13039"/>
                  <a:pt x="13673" y="13028"/>
                  <a:pt x="13684" y="13018"/>
                </a:cubicBezTo>
              </a:path>
              <a:path w="4573" h="1748">
                <a:moveTo>
                  <a:pt x="14351" y="12510"/>
                </a:moveTo>
                <a:cubicBezTo>
                  <a:pt x="14337" y="12488"/>
                  <a:pt x="14273" y="12451"/>
                  <a:pt x="14224" y="12478"/>
                </a:cubicBezTo>
                <a:cubicBezTo>
                  <a:pt x="14188" y="12498"/>
                  <a:pt x="14078" y="12558"/>
                  <a:pt x="14065" y="12605"/>
                </a:cubicBezTo>
                <a:cubicBezTo>
                  <a:pt x="14046" y="12671"/>
                  <a:pt x="14064" y="12725"/>
                  <a:pt x="14129" y="12732"/>
                </a:cubicBezTo>
                <a:cubicBezTo>
                  <a:pt x="14169" y="12737"/>
                  <a:pt x="14227" y="12694"/>
                  <a:pt x="14256" y="12668"/>
                </a:cubicBezTo>
                <a:cubicBezTo>
                  <a:pt x="14299" y="12630"/>
                  <a:pt x="14309" y="12593"/>
                  <a:pt x="14319" y="12541"/>
                </a:cubicBezTo>
                <a:cubicBezTo>
                  <a:pt x="14370" y="12625"/>
                  <a:pt x="14324" y="12640"/>
                  <a:pt x="14319" y="12732"/>
                </a:cubicBezTo>
                <a:cubicBezTo>
                  <a:pt x="14313" y="12827"/>
                  <a:pt x="14281" y="13197"/>
                  <a:pt x="14351" y="13081"/>
                </a:cubicBezTo>
              </a:path>
              <a:path w="4573" h="1748">
                <a:moveTo>
                  <a:pt x="14510" y="12541"/>
                </a:moveTo>
                <a:cubicBezTo>
                  <a:pt x="14565" y="12487"/>
                  <a:pt x="14624" y="12438"/>
                  <a:pt x="14700" y="12414"/>
                </a:cubicBezTo>
                <a:cubicBezTo>
                  <a:pt x="14735" y="12403"/>
                  <a:pt x="14832" y="12456"/>
                  <a:pt x="14859" y="12478"/>
                </a:cubicBezTo>
                <a:cubicBezTo>
                  <a:pt x="14915" y="12523"/>
                  <a:pt x="14898" y="12587"/>
                  <a:pt x="14859" y="12636"/>
                </a:cubicBezTo>
                <a:cubicBezTo>
                  <a:pt x="14811" y="12696"/>
                  <a:pt x="14728" y="12719"/>
                  <a:pt x="14668" y="12764"/>
                </a:cubicBezTo>
                <a:cubicBezTo>
                  <a:pt x="14565" y="12841"/>
                  <a:pt x="14611" y="12780"/>
                  <a:pt x="14668" y="12764"/>
                </a:cubicBezTo>
                <a:cubicBezTo>
                  <a:pt x="14737" y="12745"/>
                  <a:pt x="14863" y="12756"/>
                  <a:pt x="14922" y="12795"/>
                </a:cubicBezTo>
                <a:cubicBezTo>
                  <a:pt x="14944" y="12810"/>
                  <a:pt x="15021" y="12899"/>
                  <a:pt x="15018" y="12922"/>
                </a:cubicBezTo>
                <a:cubicBezTo>
                  <a:pt x="15012" y="12964"/>
                  <a:pt x="14932" y="13063"/>
                  <a:pt x="14891" y="13081"/>
                </a:cubicBezTo>
                <a:cubicBezTo>
                  <a:pt x="14881" y="13086"/>
                  <a:pt x="14737" y="13145"/>
                  <a:pt x="14732" y="13144"/>
                </a:cubicBezTo>
                <a:cubicBezTo>
                  <a:pt x="14721" y="13134"/>
                  <a:pt x="14711" y="13123"/>
                  <a:pt x="14700" y="13113"/>
                </a:cubicBezTo>
              </a:path>
              <a:path w="4573" h="1748">
                <a:moveTo>
                  <a:pt x="15240" y="12922"/>
                </a:moveTo>
                <a:cubicBezTo>
                  <a:pt x="15208" y="12922"/>
                  <a:pt x="15197" y="12922"/>
                  <a:pt x="15240" y="12922"/>
                </a:cubicBezTo>
              </a:path>
              <a:path w="4573" h="1748">
                <a:moveTo>
                  <a:pt x="15716" y="12414"/>
                </a:moveTo>
                <a:cubicBezTo>
                  <a:pt x="15688" y="12371"/>
                  <a:pt x="15654" y="12382"/>
                  <a:pt x="15589" y="12382"/>
                </a:cubicBezTo>
                <a:cubicBezTo>
                  <a:pt x="15521" y="12382"/>
                  <a:pt x="15487" y="12410"/>
                  <a:pt x="15430" y="12414"/>
                </a:cubicBezTo>
                <a:cubicBezTo>
                  <a:pt x="15409" y="12414"/>
                  <a:pt x="15388" y="12414"/>
                  <a:pt x="15367" y="12414"/>
                </a:cubicBezTo>
                <a:cubicBezTo>
                  <a:pt x="15377" y="12493"/>
                  <a:pt x="15409" y="12540"/>
                  <a:pt x="15430" y="12605"/>
                </a:cubicBezTo>
                <a:cubicBezTo>
                  <a:pt x="15440" y="12636"/>
                  <a:pt x="15514" y="12660"/>
                  <a:pt x="15558" y="12636"/>
                </a:cubicBezTo>
                <a:cubicBezTo>
                  <a:pt x="15633" y="12595"/>
                  <a:pt x="15638" y="12613"/>
                  <a:pt x="15716" y="12636"/>
                </a:cubicBezTo>
                <a:cubicBezTo>
                  <a:pt x="15798" y="12660"/>
                  <a:pt x="15818" y="12669"/>
                  <a:pt x="15875" y="12732"/>
                </a:cubicBezTo>
                <a:cubicBezTo>
                  <a:pt x="15939" y="12803"/>
                  <a:pt x="15899" y="12834"/>
                  <a:pt x="15843" y="12890"/>
                </a:cubicBezTo>
                <a:cubicBezTo>
                  <a:pt x="15802" y="12931"/>
                  <a:pt x="15711" y="13004"/>
                  <a:pt x="15653" y="13018"/>
                </a:cubicBezTo>
                <a:cubicBezTo>
                  <a:pt x="15589" y="13033"/>
                  <a:pt x="15569" y="13019"/>
                  <a:pt x="15526" y="12986"/>
                </a:cubicBezTo>
              </a:path>
              <a:path w="4573" h="1748">
                <a:moveTo>
                  <a:pt x="15843" y="11906"/>
                </a:moveTo>
                <a:cubicBezTo>
                  <a:pt x="15854" y="11908"/>
                  <a:pt x="15910" y="11931"/>
                  <a:pt x="15970" y="11970"/>
                </a:cubicBezTo>
                <a:cubicBezTo>
                  <a:pt x="16063" y="12030"/>
                  <a:pt x="16154" y="12103"/>
                  <a:pt x="16224" y="12192"/>
                </a:cubicBezTo>
                <a:cubicBezTo>
                  <a:pt x="16315" y="12308"/>
                  <a:pt x="16395" y="12436"/>
                  <a:pt x="16446" y="12573"/>
                </a:cubicBezTo>
                <a:cubicBezTo>
                  <a:pt x="16484" y="12676"/>
                  <a:pt x="16516" y="12880"/>
                  <a:pt x="16478" y="12986"/>
                </a:cubicBezTo>
                <a:cubicBezTo>
                  <a:pt x="16426" y="13134"/>
                  <a:pt x="16268" y="13318"/>
                  <a:pt x="16161" y="13430"/>
                </a:cubicBezTo>
                <a:cubicBezTo>
                  <a:pt x="16099" y="13495"/>
                  <a:pt x="16034" y="13558"/>
                  <a:pt x="15970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5794200" y="777960"/>
            <a:ext cx="949680" cy="743040"/>
          </a:xfrm>
          <a:custGeom>
            <a:avLst/>
            <a:gdLst/>
            <a:ahLst/>
            <a:rect l="l" t="t" r="r" b="b"/>
            <a:pathLst>
              <a:path w="2636" h="2065">
                <a:moveTo>
                  <a:pt x="17748" y="2858"/>
                </a:moveTo>
                <a:cubicBezTo>
                  <a:pt x="17696" y="2839"/>
                  <a:pt x="17647" y="2804"/>
                  <a:pt x="17590" y="2794"/>
                </a:cubicBezTo>
                <a:cubicBezTo>
                  <a:pt x="17523" y="2783"/>
                  <a:pt x="17508" y="2817"/>
                  <a:pt x="17462" y="2858"/>
                </a:cubicBezTo>
                <a:cubicBezTo>
                  <a:pt x="17278" y="3021"/>
                  <a:pt x="17104" y="3201"/>
                  <a:pt x="16923" y="3366"/>
                </a:cubicBezTo>
                <a:cubicBezTo>
                  <a:pt x="16753" y="3521"/>
                  <a:pt x="16593" y="3698"/>
                  <a:pt x="16446" y="3874"/>
                </a:cubicBezTo>
                <a:cubicBezTo>
                  <a:pt x="16374" y="3960"/>
                  <a:pt x="16267" y="4106"/>
                  <a:pt x="16161" y="4159"/>
                </a:cubicBezTo>
                <a:cubicBezTo>
                  <a:pt x="16129" y="4159"/>
                  <a:pt x="16118" y="4159"/>
                  <a:pt x="16097" y="4159"/>
                </a:cubicBezTo>
                <a:cubicBezTo>
                  <a:pt x="16097" y="3958"/>
                  <a:pt x="16097" y="3757"/>
                  <a:pt x="16097" y="3556"/>
                </a:cubicBezTo>
                <a:cubicBezTo>
                  <a:pt x="16122" y="3623"/>
                  <a:pt x="16129" y="3660"/>
                  <a:pt x="16129" y="3746"/>
                </a:cubicBezTo>
                <a:cubicBezTo>
                  <a:pt x="16129" y="3864"/>
                  <a:pt x="16102" y="3950"/>
                  <a:pt x="16097" y="4064"/>
                </a:cubicBezTo>
                <a:cubicBezTo>
                  <a:pt x="16094" y="4133"/>
                  <a:pt x="16094" y="4185"/>
                  <a:pt x="16161" y="4223"/>
                </a:cubicBezTo>
                <a:cubicBezTo>
                  <a:pt x="16199" y="4245"/>
                  <a:pt x="16316" y="4200"/>
                  <a:pt x="16351" y="4191"/>
                </a:cubicBezTo>
                <a:cubicBezTo>
                  <a:pt x="16474" y="4158"/>
                  <a:pt x="16587" y="4089"/>
                  <a:pt x="16700" y="4032"/>
                </a:cubicBezTo>
                <a:cubicBezTo>
                  <a:pt x="16764" y="4000"/>
                  <a:pt x="16785" y="3990"/>
                  <a:pt x="16796" y="3937"/>
                </a:cubicBezTo>
              </a:path>
              <a:path w="2636" h="2065">
                <a:moveTo>
                  <a:pt x="17970" y="2508"/>
                </a:moveTo>
                <a:cubicBezTo>
                  <a:pt x="17929" y="2452"/>
                  <a:pt x="17925" y="2417"/>
                  <a:pt x="17970" y="2350"/>
                </a:cubicBezTo>
                <a:cubicBezTo>
                  <a:pt x="18024" y="2269"/>
                  <a:pt x="18110" y="2233"/>
                  <a:pt x="18193" y="2191"/>
                </a:cubicBezTo>
                <a:cubicBezTo>
                  <a:pt x="18266" y="2155"/>
                  <a:pt x="18394" y="2136"/>
                  <a:pt x="18478" y="2159"/>
                </a:cubicBezTo>
                <a:cubicBezTo>
                  <a:pt x="18568" y="2184"/>
                  <a:pt x="18621" y="2238"/>
                  <a:pt x="18637" y="2318"/>
                </a:cubicBezTo>
                <a:cubicBezTo>
                  <a:pt x="18657" y="2422"/>
                  <a:pt x="18643" y="2570"/>
                  <a:pt x="18606" y="2667"/>
                </a:cubicBezTo>
                <a:cubicBezTo>
                  <a:pt x="18576" y="2746"/>
                  <a:pt x="18506" y="2800"/>
                  <a:pt x="18447" y="2858"/>
                </a:cubicBezTo>
                <a:cubicBezTo>
                  <a:pt x="18424" y="2880"/>
                  <a:pt x="18274" y="3006"/>
                  <a:pt x="18288" y="3016"/>
                </a:cubicBezTo>
                <a:cubicBezTo>
                  <a:pt x="18324" y="3016"/>
                  <a:pt x="18338" y="3019"/>
                  <a:pt x="18352" y="3048"/>
                </a:cubicBezTo>
              </a:path>
              <a:path w="2636" h="2065">
                <a:moveTo>
                  <a:pt x="18637" y="3270"/>
                </a:moveTo>
                <a:cubicBezTo>
                  <a:pt x="18588" y="3283"/>
                  <a:pt x="18512" y="3319"/>
                  <a:pt x="18478" y="3366"/>
                </a:cubicBezTo>
                <a:cubicBezTo>
                  <a:pt x="18451" y="3405"/>
                  <a:pt x="18417" y="3494"/>
                  <a:pt x="18478" y="3524"/>
                </a:cubicBezTo>
                <a:cubicBezTo>
                  <a:pt x="18526" y="3548"/>
                  <a:pt x="18603" y="3519"/>
                  <a:pt x="18637" y="3492"/>
                </a:cubicBezTo>
                <a:cubicBezTo>
                  <a:pt x="18691" y="3449"/>
                  <a:pt x="18724" y="3450"/>
                  <a:pt x="18732" y="3366"/>
                </a:cubicBezTo>
                <a:cubicBezTo>
                  <a:pt x="18739" y="3298"/>
                  <a:pt x="18687" y="3302"/>
                  <a:pt x="18637" y="3302"/>
                </a:cubicBezTo>
                <a:cubicBezTo>
                  <a:pt x="18560" y="3302"/>
                  <a:pt x="18542" y="3318"/>
                  <a:pt x="18478" y="3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Ink 2"/>
          <p:cNvSpPr/>
          <p:nvPr/>
        </p:nvSpPr>
        <p:spPr>
          <a:xfrm>
            <a:off x="3589200" y="1978200"/>
            <a:ext cx="11160" cy="1080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001" y="5524"/>
                </a:moveTo>
                <a:cubicBezTo>
                  <a:pt x="9970" y="5524"/>
                  <a:pt x="9960" y="5524"/>
                  <a:pt x="9970" y="5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Ink 3"/>
          <p:cNvSpPr/>
          <p:nvPr/>
        </p:nvSpPr>
        <p:spPr>
          <a:xfrm>
            <a:off x="2239920" y="1839960"/>
            <a:ext cx="412920" cy="309600"/>
          </a:xfrm>
          <a:custGeom>
            <a:avLst/>
            <a:gdLst/>
            <a:ahLst/>
            <a:rect l="l" t="t" r="r" b="b"/>
            <a:pathLst>
              <a:path w="1144" h="858">
                <a:moveTo>
                  <a:pt x="6255" y="5112"/>
                </a:moveTo>
                <a:cubicBezTo>
                  <a:pt x="6216" y="5176"/>
                  <a:pt x="6223" y="5223"/>
                  <a:pt x="6223" y="5302"/>
                </a:cubicBezTo>
                <a:cubicBezTo>
                  <a:pt x="6223" y="5427"/>
                  <a:pt x="6236" y="5535"/>
                  <a:pt x="6255" y="5652"/>
                </a:cubicBezTo>
                <a:cubicBezTo>
                  <a:pt x="6267" y="5729"/>
                  <a:pt x="6215" y="5945"/>
                  <a:pt x="6286" y="5969"/>
                </a:cubicBezTo>
              </a:path>
              <a:path w="1144" h="858">
                <a:moveTo>
                  <a:pt x="6572" y="5270"/>
                </a:moveTo>
                <a:cubicBezTo>
                  <a:pt x="6530" y="5339"/>
                  <a:pt x="6530" y="5412"/>
                  <a:pt x="6509" y="5493"/>
                </a:cubicBezTo>
                <a:cubicBezTo>
                  <a:pt x="6480" y="5604"/>
                  <a:pt x="6448" y="5702"/>
                  <a:pt x="6509" y="5810"/>
                </a:cubicBezTo>
                <a:cubicBezTo>
                  <a:pt x="6538" y="5862"/>
                  <a:pt x="6560" y="5947"/>
                  <a:pt x="6636" y="5937"/>
                </a:cubicBezTo>
                <a:cubicBezTo>
                  <a:pt x="6730" y="5925"/>
                  <a:pt x="6779" y="5888"/>
                  <a:pt x="6826" y="5810"/>
                </a:cubicBezTo>
                <a:cubicBezTo>
                  <a:pt x="6873" y="5733"/>
                  <a:pt x="6886" y="5613"/>
                  <a:pt x="6890" y="5524"/>
                </a:cubicBezTo>
                <a:cubicBezTo>
                  <a:pt x="6894" y="5422"/>
                  <a:pt x="6853" y="5324"/>
                  <a:pt x="6794" y="5239"/>
                </a:cubicBezTo>
                <a:cubicBezTo>
                  <a:pt x="6767" y="5199"/>
                  <a:pt x="6690" y="5123"/>
                  <a:pt x="6636" y="5144"/>
                </a:cubicBezTo>
                <a:cubicBezTo>
                  <a:pt x="6557" y="5175"/>
                  <a:pt x="6588" y="5216"/>
                  <a:pt x="6604" y="5270"/>
                </a:cubicBezTo>
              </a:path>
              <a:path w="1144" h="858">
                <a:moveTo>
                  <a:pt x="7366" y="5652"/>
                </a:moveTo>
                <a:cubicBezTo>
                  <a:pt x="7281" y="5707"/>
                  <a:pt x="7324" y="5707"/>
                  <a:pt x="7271" y="5778"/>
                </a:cubicBezTo>
                <a:cubicBezTo>
                  <a:pt x="7373" y="5753"/>
                  <a:pt x="7320" y="5714"/>
                  <a:pt x="7334" y="5747"/>
                </a:cubicBezTo>
                <a:cubicBezTo>
                  <a:pt x="7345" y="5757"/>
                  <a:pt x="7355" y="5768"/>
                  <a:pt x="7366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063960" y="1736640"/>
            <a:ext cx="857160" cy="309600"/>
          </a:xfrm>
          <a:custGeom>
            <a:avLst/>
            <a:gdLst/>
            <a:ahLst/>
            <a:rect l="l" t="t" r="r" b="b"/>
            <a:pathLst>
              <a:path w="2382" h="858">
                <a:moveTo>
                  <a:pt x="8509" y="4890"/>
                </a:moveTo>
                <a:cubicBezTo>
                  <a:pt x="8577" y="4890"/>
                  <a:pt x="8603" y="4870"/>
                  <a:pt x="8668" y="4858"/>
                </a:cubicBezTo>
                <a:cubicBezTo>
                  <a:pt x="8734" y="4846"/>
                  <a:pt x="8800" y="4832"/>
                  <a:pt x="8858" y="4826"/>
                </a:cubicBezTo>
                <a:cubicBezTo>
                  <a:pt x="8899" y="4821"/>
                  <a:pt x="8944" y="4826"/>
                  <a:pt x="8985" y="4826"/>
                </a:cubicBezTo>
                <a:cubicBezTo>
                  <a:pt x="8985" y="4990"/>
                  <a:pt x="8979" y="5146"/>
                  <a:pt x="8954" y="5302"/>
                </a:cubicBezTo>
                <a:cubicBezTo>
                  <a:pt x="8938" y="5403"/>
                  <a:pt x="8927" y="5605"/>
                  <a:pt x="8985" y="5683"/>
                </a:cubicBezTo>
              </a:path>
              <a:path w="2382" h="858">
                <a:moveTo>
                  <a:pt x="8731" y="5429"/>
                </a:moveTo>
                <a:cubicBezTo>
                  <a:pt x="8815" y="5429"/>
                  <a:pt x="8874" y="5416"/>
                  <a:pt x="8954" y="5398"/>
                </a:cubicBezTo>
                <a:cubicBezTo>
                  <a:pt x="9010" y="5385"/>
                  <a:pt x="9063" y="5381"/>
                  <a:pt x="9112" y="5366"/>
                </a:cubicBezTo>
                <a:cubicBezTo>
                  <a:pt x="9168" y="5349"/>
                  <a:pt x="9157" y="5392"/>
                  <a:pt x="9176" y="5334"/>
                </a:cubicBezTo>
              </a:path>
              <a:path w="2382" h="858">
                <a:moveTo>
                  <a:pt x="9303" y="5080"/>
                </a:moveTo>
                <a:cubicBezTo>
                  <a:pt x="9313" y="5039"/>
                  <a:pt x="9351" y="4974"/>
                  <a:pt x="9398" y="4953"/>
                </a:cubicBezTo>
                <a:cubicBezTo>
                  <a:pt x="9447" y="4931"/>
                  <a:pt x="9524" y="4956"/>
                  <a:pt x="9557" y="4985"/>
                </a:cubicBezTo>
                <a:cubicBezTo>
                  <a:pt x="9605" y="5028"/>
                  <a:pt x="9588" y="5082"/>
                  <a:pt x="9588" y="5144"/>
                </a:cubicBezTo>
                <a:cubicBezTo>
                  <a:pt x="9588" y="5245"/>
                  <a:pt x="9566" y="5270"/>
                  <a:pt x="9462" y="5302"/>
                </a:cubicBezTo>
                <a:cubicBezTo>
                  <a:pt x="9415" y="5316"/>
                  <a:pt x="9399" y="5294"/>
                  <a:pt x="9366" y="5270"/>
                </a:cubicBezTo>
                <a:cubicBezTo>
                  <a:pt x="9443" y="5238"/>
                  <a:pt x="9473" y="5239"/>
                  <a:pt x="9557" y="5239"/>
                </a:cubicBezTo>
                <a:cubicBezTo>
                  <a:pt x="9611" y="5239"/>
                  <a:pt x="9676" y="5297"/>
                  <a:pt x="9716" y="5334"/>
                </a:cubicBezTo>
                <a:cubicBezTo>
                  <a:pt x="9756" y="5370"/>
                  <a:pt x="9777" y="5419"/>
                  <a:pt x="9811" y="5461"/>
                </a:cubicBezTo>
                <a:cubicBezTo>
                  <a:pt x="9771" y="5500"/>
                  <a:pt x="9703" y="5574"/>
                  <a:pt x="9652" y="5588"/>
                </a:cubicBezTo>
                <a:cubicBezTo>
                  <a:pt x="9610" y="5599"/>
                  <a:pt x="9507" y="5643"/>
                  <a:pt x="9462" y="5620"/>
                </a:cubicBezTo>
                <a:cubicBezTo>
                  <a:pt x="9430" y="5588"/>
                  <a:pt x="9419" y="5577"/>
                  <a:pt x="9398" y="5556"/>
                </a:cubicBezTo>
              </a:path>
              <a:path w="2382" h="858">
                <a:moveTo>
                  <a:pt x="10160" y="5112"/>
                </a:moveTo>
                <a:cubicBezTo>
                  <a:pt x="10203" y="5004"/>
                  <a:pt x="10231" y="4958"/>
                  <a:pt x="10350" y="4921"/>
                </a:cubicBezTo>
                <a:cubicBezTo>
                  <a:pt x="10357" y="4919"/>
                  <a:pt x="10525" y="4946"/>
                  <a:pt x="10541" y="4953"/>
                </a:cubicBezTo>
                <a:cubicBezTo>
                  <a:pt x="10579" y="4969"/>
                  <a:pt x="10640" y="5075"/>
                  <a:pt x="10636" y="5112"/>
                </a:cubicBezTo>
                <a:cubicBezTo>
                  <a:pt x="10628" y="5180"/>
                  <a:pt x="10572" y="5272"/>
                  <a:pt x="10541" y="5334"/>
                </a:cubicBezTo>
                <a:cubicBezTo>
                  <a:pt x="10499" y="5418"/>
                  <a:pt x="10412" y="5466"/>
                  <a:pt x="10382" y="5556"/>
                </a:cubicBezTo>
                <a:cubicBezTo>
                  <a:pt x="10382" y="5588"/>
                  <a:pt x="10382" y="5599"/>
                  <a:pt x="10382" y="5620"/>
                </a:cubicBezTo>
                <a:cubicBezTo>
                  <a:pt x="10478" y="5620"/>
                  <a:pt x="10548" y="5603"/>
                  <a:pt x="10636" y="5588"/>
                </a:cubicBezTo>
                <a:cubicBezTo>
                  <a:pt x="10732" y="5572"/>
                  <a:pt x="10797" y="5591"/>
                  <a:pt x="10890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Ink 5"/>
          <p:cNvSpPr/>
          <p:nvPr/>
        </p:nvSpPr>
        <p:spPr>
          <a:xfrm>
            <a:off x="4149720" y="1622520"/>
            <a:ext cx="1143000" cy="480960"/>
          </a:xfrm>
          <a:custGeom>
            <a:avLst/>
            <a:gdLst/>
            <a:ahLst/>
            <a:rect l="l" t="t" r="r" b="b"/>
            <a:pathLst>
              <a:path w="3176" h="1335">
                <a:moveTo>
                  <a:pt x="11557" y="4667"/>
                </a:moveTo>
                <a:cubicBezTo>
                  <a:pt x="11522" y="4749"/>
                  <a:pt x="11525" y="4799"/>
                  <a:pt x="11525" y="4890"/>
                </a:cubicBezTo>
                <a:cubicBezTo>
                  <a:pt x="11525" y="4979"/>
                  <a:pt x="11557" y="5050"/>
                  <a:pt x="11557" y="5144"/>
                </a:cubicBezTo>
                <a:cubicBezTo>
                  <a:pt x="11557" y="5216"/>
                  <a:pt x="11589" y="5263"/>
                  <a:pt x="11589" y="5334"/>
                </a:cubicBezTo>
                <a:cubicBezTo>
                  <a:pt x="11589" y="5345"/>
                  <a:pt x="11589" y="5355"/>
                  <a:pt x="11589" y="5366"/>
                </a:cubicBezTo>
              </a:path>
              <a:path w="3176" h="1335">
                <a:moveTo>
                  <a:pt x="11906" y="4826"/>
                </a:moveTo>
                <a:cubicBezTo>
                  <a:pt x="11831" y="4864"/>
                  <a:pt x="11751" y="4903"/>
                  <a:pt x="11684" y="4953"/>
                </a:cubicBezTo>
                <a:cubicBezTo>
                  <a:pt x="11640" y="4986"/>
                  <a:pt x="11594" y="5062"/>
                  <a:pt x="11589" y="5112"/>
                </a:cubicBezTo>
                <a:cubicBezTo>
                  <a:pt x="11581" y="5184"/>
                  <a:pt x="11612" y="5215"/>
                  <a:pt x="11684" y="5239"/>
                </a:cubicBezTo>
                <a:cubicBezTo>
                  <a:pt x="11737" y="5257"/>
                  <a:pt x="11826" y="5250"/>
                  <a:pt x="11874" y="5270"/>
                </a:cubicBezTo>
                <a:cubicBezTo>
                  <a:pt x="11942" y="5299"/>
                  <a:pt x="11911" y="5302"/>
                  <a:pt x="12002" y="5302"/>
                </a:cubicBezTo>
              </a:path>
              <a:path w="3176" h="1335">
                <a:moveTo>
                  <a:pt x="12287" y="4699"/>
                </a:moveTo>
                <a:cubicBezTo>
                  <a:pt x="12323" y="4746"/>
                  <a:pt x="12368" y="4828"/>
                  <a:pt x="12382" y="4890"/>
                </a:cubicBezTo>
                <a:cubicBezTo>
                  <a:pt x="12398" y="4965"/>
                  <a:pt x="12414" y="5033"/>
                  <a:pt x="12414" y="5112"/>
                </a:cubicBezTo>
                <a:cubicBezTo>
                  <a:pt x="12414" y="5165"/>
                  <a:pt x="12414" y="5175"/>
                  <a:pt x="12414" y="5207"/>
                </a:cubicBezTo>
                <a:cubicBezTo>
                  <a:pt x="12342" y="5207"/>
                  <a:pt x="12310" y="5216"/>
                  <a:pt x="12256" y="5175"/>
                </a:cubicBezTo>
              </a:path>
              <a:path w="3176" h="1335">
                <a:moveTo>
                  <a:pt x="12002" y="4794"/>
                </a:moveTo>
                <a:cubicBezTo>
                  <a:pt x="12019" y="4726"/>
                  <a:pt x="12089" y="4711"/>
                  <a:pt x="12160" y="4699"/>
                </a:cubicBezTo>
                <a:cubicBezTo>
                  <a:pt x="12271" y="4680"/>
                  <a:pt x="12397" y="4671"/>
                  <a:pt x="12510" y="4667"/>
                </a:cubicBezTo>
                <a:cubicBezTo>
                  <a:pt x="12620" y="4663"/>
                  <a:pt x="12716" y="4636"/>
                  <a:pt x="12827" y="4636"/>
                </a:cubicBezTo>
                <a:cubicBezTo>
                  <a:pt x="12891" y="4636"/>
                  <a:pt x="12954" y="4636"/>
                  <a:pt x="13018" y="4636"/>
                </a:cubicBezTo>
              </a:path>
              <a:path w="3176" h="1335">
                <a:moveTo>
                  <a:pt x="13272" y="4508"/>
                </a:moveTo>
                <a:cubicBezTo>
                  <a:pt x="13204" y="4576"/>
                  <a:pt x="13199" y="4610"/>
                  <a:pt x="13176" y="4699"/>
                </a:cubicBezTo>
                <a:cubicBezTo>
                  <a:pt x="13140" y="4837"/>
                  <a:pt x="13090" y="4975"/>
                  <a:pt x="13049" y="5112"/>
                </a:cubicBezTo>
                <a:cubicBezTo>
                  <a:pt x="13005" y="5259"/>
                  <a:pt x="12959" y="5391"/>
                  <a:pt x="12890" y="5524"/>
                </a:cubicBezTo>
                <a:cubicBezTo>
                  <a:pt x="12845" y="5611"/>
                  <a:pt x="12812" y="5693"/>
                  <a:pt x="12764" y="5778"/>
                </a:cubicBezTo>
              </a:path>
              <a:path w="3176" h="1335">
                <a:moveTo>
                  <a:pt x="13208" y="5239"/>
                </a:moveTo>
                <a:cubicBezTo>
                  <a:pt x="13248" y="5330"/>
                  <a:pt x="13250" y="5367"/>
                  <a:pt x="13208" y="5461"/>
                </a:cubicBezTo>
                <a:cubicBezTo>
                  <a:pt x="13178" y="5528"/>
                  <a:pt x="13151" y="5611"/>
                  <a:pt x="13144" y="5683"/>
                </a:cubicBezTo>
                <a:cubicBezTo>
                  <a:pt x="13144" y="5694"/>
                  <a:pt x="13144" y="5704"/>
                  <a:pt x="13144" y="5715"/>
                </a:cubicBezTo>
                <a:cubicBezTo>
                  <a:pt x="13159" y="5641"/>
                  <a:pt x="13196" y="5566"/>
                  <a:pt x="13208" y="5493"/>
                </a:cubicBezTo>
                <a:cubicBezTo>
                  <a:pt x="13224" y="5399"/>
                  <a:pt x="13222" y="5345"/>
                  <a:pt x="13335" y="5334"/>
                </a:cubicBezTo>
                <a:cubicBezTo>
                  <a:pt x="13346" y="5334"/>
                  <a:pt x="13356" y="5334"/>
                  <a:pt x="13367" y="5334"/>
                </a:cubicBezTo>
                <a:cubicBezTo>
                  <a:pt x="13411" y="5394"/>
                  <a:pt x="13398" y="5446"/>
                  <a:pt x="13398" y="5524"/>
                </a:cubicBezTo>
                <a:cubicBezTo>
                  <a:pt x="13398" y="5599"/>
                  <a:pt x="13367" y="5636"/>
                  <a:pt x="13367" y="5715"/>
                </a:cubicBezTo>
                <a:cubicBezTo>
                  <a:pt x="13367" y="5619"/>
                  <a:pt x="13391" y="5551"/>
                  <a:pt x="13430" y="5461"/>
                </a:cubicBezTo>
                <a:cubicBezTo>
                  <a:pt x="13457" y="5398"/>
                  <a:pt x="13495" y="5284"/>
                  <a:pt x="13557" y="5270"/>
                </a:cubicBezTo>
                <a:cubicBezTo>
                  <a:pt x="13568" y="5270"/>
                  <a:pt x="13578" y="5270"/>
                  <a:pt x="13589" y="5270"/>
                </a:cubicBezTo>
                <a:cubicBezTo>
                  <a:pt x="13634" y="5330"/>
                  <a:pt x="13621" y="5382"/>
                  <a:pt x="13621" y="5461"/>
                </a:cubicBezTo>
                <a:cubicBezTo>
                  <a:pt x="13621" y="5541"/>
                  <a:pt x="13589" y="5600"/>
                  <a:pt x="13589" y="5683"/>
                </a:cubicBezTo>
                <a:cubicBezTo>
                  <a:pt x="13589" y="5749"/>
                  <a:pt x="13585" y="5747"/>
                  <a:pt x="13652" y="5747"/>
                </a:cubicBezTo>
              </a:path>
              <a:path w="3176" h="1335">
                <a:moveTo>
                  <a:pt x="13875" y="5366"/>
                </a:moveTo>
                <a:cubicBezTo>
                  <a:pt x="13859" y="5428"/>
                  <a:pt x="13812" y="5493"/>
                  <a:pt x="13780" y="5556"/>
                </a:cubicBezTo>
                <a:cubicBezTo>
                  <a:pt x="13745" y="5627"/>
                  <a:pt x="13729" y="5656"/>
                  <a:pt x="13780" y="5715"/>
                </a:cubicBezTo>
                <a:cubicBezTo>
                  <a:pt x="13827" y="5769"/>
                  <a:pt x="13887" y="5756"/>
                  <a:pt x="13938" y="5715"/>
                </a:cubicBezTo>
                <a:cubicBezTo>
                  <a:pt x="13994" y="5670"/>
                  <a:pt x="14050" y="5595"/>
                  <a:pt x="14065" y="5524"/>
                </a:cubicBezTo>
                <a:cubicBezTo>
                  <a:pt x="14074" y="5485"/>
                  <a:pt x="14042" y="5386"/>
                  <a:pt x="14002" y="5366"/>
                </a:cubicBezTo>
                <a:cubicBezTo>
                  <a:pt x="13966" y="5366"/>
                  <a:pt x="13952" y="5363"/>
                  <a:pt x="13938" y="5334"/>
                </a:cubicBezTo>
              </a:path>
              <a:path w="3176" h="1335">
                <a:moveTo>
                  <a:pt x="14256" y="5112"/>
                </a:moveTo>
                <a:cubicBezTo>
                  <a:pt x="14214" y="5140"/>
                  <a:pt x="14196" y="5228"/>
                  <a:pt x="14192" y="5302"/>
                </a:cubicBezTo>
                <a:cubicBezTo>
                  <a:pt x="14187" y="5395"/>
                  <a:pt x="14186" y="5480"/>
                  <a:pt x="14224" y="5556"/>
                </a:cubicBezTo>
                <a:cubicBezTo>
                  <a:pt x="14278" y="5663"/>
                  <a:pt x="14239" y="5670"/>
                  <a:pt x="14351" y="5715"/>
                </a:cubicBezTo>
                <a:cubicBezTo>
                  <a:pt x="14443" y="5752"/>
                  <a:pt x="14462" y="5755"/>
                  <a:pt x="14542" y="5683"/>
                </a:cubicBezTo>
                <a:cubicBezTo>
                  <a:pt x="14599" y="5632"/>
                  <a:pt x="14669" y="5600"/>
                  <a:pt x="14700" y="5524"/>
                </a:cubicBezTo>
                <a:cubicBezTo>
                  <a:pt x="14709" y="5502"/>
                  <a:pt x="14700" y="5453"/>
                  <a:pt x="14700" y="5429"/>
                </a:cubicBezTo>
                <a:cubicBezTo>
                  <a:pt x="14620" y="5445"/>
                  <a:pt x="14570" y="5472"/>
                  <a:pt x="14542" y="5556"/>
                </a:cubicBezTo>
                <a:cubicBezTo>
                  <a:pt x="14520" y="5622"/>
                  <a:pt x="14528" y="5759"/>
                  <a:pt x="14573" y="5810"/>
                </a:cubicBezTo>
                <a:cubicBezTo>
                  <a:pt x="14623" y="5866"/>
                  <a:pt x="14636" y="5838"/>
                  <a:pt x="14700" y="5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Ink 6"/>
          <p:cNvSpPr/>
          <p:nvPr/>
        </p:nvSpPr>
        <p:spPr>
          <a:xfrm>
            <a:off x="5086440" y="1177920"/>
            <a:ext cx="731880" cy="536760"/>
          </a:xfrm>
          <a:custGeom>
            <a:avLst/>
            <a:gdLst/>
            <a:ahLst/>
            <a:rect l="l" t="t" r="r" b="b"/>
            <a:pathLst>
              <a:path w="2033" h="1493">
                <a:moveTo>
                  <a:pt x="15367" y="3588"/>
                </a:moveTo>
                <a:cubicBezTo>
                  <a:pt x="15305" y="3650"/>
                  <a:pt x="15241" y="3693"/>
                  <a:pt x="15176" y="3746"/>
                </a:cubicBezTo>
                <a:cubicBezTo>
                  <a:pt x="15034" y="3863"/>
                  <a:pt x="14902" y="4006"/>
                  <a:pt x="14764" y="4128"/>
                </a:cubicBezTo>
                <a:cubicBezTo>
                  <a:pt x="14640" y="4238"/>
                  <a:pt x="14534" y="4362"/>
                  <a:pt x="14414" y="4477"/>
                </a:cubicBezTo>
                <a:cubicBezTo>
                  <a:pt x="14328" y="4560"/>
                  <a:pt x="14250" y="4627"/>
                  <a:pt x="14160" y="4699"/>
                </a:cubicBezTo>
                <a:cubicBezTo>
                  <a:pt x="14160" y="4593"/>
                  <a:pt x="14160" y="4488"/>
                  <a:pt x="14160" y="4382"/>
                </a:cubicBezTo>
                <a:cubicBezTo>
                  <a:pt x="14179" y="4449"/>
                  <a:pt x="14178" y="4520"/>
                  <a:pt x="14160" y="4604"/>
                </a:cubicBezTo>
                <a:cubicBezTo>
                  <a:pt x="14143" y="4682"/>
                  <a:pt x="14143" y="4693"/>
                  <a:pt x="14160" y="4762"/>
                </a:cubicBezTo>
                <a:cubicBezTo>
                  <a:pt x="14216" y="4742"/>
                  <a:pt x="14266" y="4728"/>
                  <a:pt x="14319" y="4699"/>
                </a:cubicBezTo>
                <a:cubicBezTo>
                  <a:pt x="14398" y="4657"/>
                  <a:pt x="14461" y="4647"/>
                  <a:pt x="14542" y="4604"/>
                </a:cubicBezTo>
                <a:cubicBezTo>
                  <a:pt x="14563" y="4593"/>
                  <a:pt x="14584" y="4583"/>
                  <a:pt x="14605" y="4572"/>
                </a:cubicBezTo>
              </a:path>
              <a:path w="2033" h="1493">
                <a:moveTo>
                  <a:pt x="15716" y="3461"/>
                </a:moveTo>
                <a:cubicBezTo>
                  <a:pt x="15725" y="3415"/>
                  <a:pt x="15754" y="3319"/>
                  <a:pt x="15812" y="3302"/>
                </a:cubicBezTo>
                <a:cubicBezTo>
                  <a:pt x="15868" y="3286"/>
                  <a:pt x="15970" y="3245"/>
                  <a:pt x="16034" y="3270"/>
                </a:cubicBezTo>
                <a:cubicBezTo>
                  <a:pt x="16089" y="3291"/>
                  <a:pt x="16153" y="3297"/>
                  <a:pt x="16161" y="3366"/>
                </a:cubicBezTo>
                <a:cubicBezTo>
                  <a:pt x="16168" y="3430"/>
                  <a:pt x="16149" y="3501"/>
                  <a:pt x="16129" y="3556"/>
                </a:cubicBezTo>
                <a:cubicBezTo>
                  <a:pt x="16102" y="3633"/>
                  <a:pt x="16056" y="3719"/>
                  <a:pt x="16002" y="3778"/>
                </a:cubicBezTo>
                <a:cubicBezTo>
                  <a:pt x="15972" y="3811"/>
                  <a:pt x="15938" y="3842"/>
                  <a:pt x="15907" y="3874"/>
                </a:cubicBezTo>
              </a:path>
              <a:path w="2033" h="1493">
                <a:moveTo>
                  <a:pt x="16002" y="4191"/>
                </a:moveTo>
                <a:cubicBezTo>
                  <a:pt x="15951" y="4204"/>
                  <a:pt x="15951" y="4203"/>
                  <a:pt x="15938" y="4254"/>
                </a:cubicBezTo>
                <a:cubicBezTo>
                  <a:pt x="15993" y="4276"/>
                  <a:pt x="16046" y="4281"/>
                  <a:pt x="16066" y="4223"/>
                </a:cubicBezTo>
                <a:cubicBezTo>
                  <a:pt x="16017" y="4199"/>
                  <a:pt x="15948" y="4247"/>
                  <a:pt x="16002" y="4254"/>
                </a:cubicBezTo>
                <a:cubicBezTo>
                  <a:pt x="16013" y="4254"/>
                  <a:pt x="16023" y="4254"/>
                  <a:pt x="16034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Ink 7"/>
          <p:cNvSpPr/>
          <p:nvPr/>
        </p:nvSpPr>
        <p:spPr>
          <a:xfrm>
            <a:off x="5429160" y="3508200"/>
            <a:ext cx="1692360" cy="12960"/>
          </a:xfrm>
          <a:custGeom>
            <a:avLst/>
            <a:gdLst/>
            <a:ahLst/>
            <a:rect l="l" t="t" r="r" b="b"/>
            <a:pathLst>
              <a:path w="4700" h="33">
                <a:moveTo>
                  <a:pt x="15113" y="9747"/>
                </a:moveTo>
                <a:cubicBezTo>
                  <a:pt x="15084" y="9776"/>
                  <a:pt x="15069" y="9787"/>
                  <a:pt x="15113" y="9779"/>
                </a:cubicBezTo>
              </a:path>
              <a:path w="4700" h="33">
                <a:moveTo>
                  <a:pt x="19780" y="9747"/>
                </a:moveTo>
                <a:lnTo>
                  <a:pt x="19780" y="9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Ink 8"/>
          <p:cNvSpPr/>
          <p:nvPr/>
        </p:nvSpPr>
        <p:spPr>
          <a:xfrm>
            <a:off x="2354400" y="3475080"/>
            <a:ext cx="1326960" cy="263520"/>
          </a:xfrm>
          <a:custGeom>
            <a:avLst/>
            <a:gdLst/>
            <a:ahLst/>
            <a:rect l="l" t="t" r="r" b="b"/>
            <a:pathLst>
              <a:path w="3685" h="731">
                <a:moveTo>
                  <a:pt x="6540" y="10128"/>
                </a:moveTo>
                <a:cubicBezTo>
                  <a:pt x="6540" y="10139"/>
                  <a:pt x="6540" y="10149"/>
                  <a:pt x="6540" y="10160"/>
                </a:cubicBezTo>
                <a:cubicBezTo>
                  <a:pt x="6621" y="10160"/>
                  <a:pt x="6664" y="10172"/>
                  <a:pt x="6731" y="10192"/>
                </a:cubicBezTo>
                <a:cubicBezTo>
                  <a:pt x="6817" y="10218"/>
                  <a:pt x="6917" y="10181"/>
                  <a:pt x="6985" y="10160"/>
                </a:cubicBezTo>
                <a:cubicBezTo>
                  <a:pt x="7020" y="10150"/>
                  <a:pt x="7076" y="10160"/>
                  <a:pt x="7112" y="10160"/>
                </a:cubicBezTo>
              </a:path>
              <a:path w="3685" h="731">
                <a:moveTo>
                  <a:pt x="7588" y="9906"/>
                </a:moveTo>
                <a:cubicBezTo>
                  <a:pt x="7599" y="9885"/>
                  <a:pt x="7609" y="9863"/>
                  <a:pt x="7620" y="9842"/>
                </a:cubicBezTo>
                <a:cubicBezTo>
                  <a:pt x="7571" y="9807"/>
                  <a:pt x="7554" y="9811"/>
                  <a:pt x="7493" y="9811"/>
                </a:cubicBezTo>
                <a:cubicBezTo>
                  <a:pt x="7434" y="9811"/>
                  <a:pt x="7362" y="9844"/>
                  <a:pt x="7334" y="9906"/>
                </a:cubicBezTo>
                <a:cubicBezTo>
                  <a:pt x="7334" y="9942"/>
                  <a:pt x="7331" y="9956"/>
                  <a:pt x="7302" y="9970"/>
                </a:cubicBezTo>
                <a:cubicBezTo>
                  <a:pt x="7341" y="9998"/>
                  <a:pt x="7407" y="10023"/>
                  <a:pt x="7461" y="10001"/>
                </a:cubicBezTo>
                <a:cubicBezTo>
                  <a:pt x="7516" y="9979"/>
                  <a:pt x="7525" y="9884"/>
                  <a:pt x="7556" y="9842"/>
                </a:cubicBezTo>
                <a:cubicBezTo>
                  <a:pt x="7556" y="9987"/>
                  <a:pt x="7563" y="10129"/>
                  <a:pt x="7588" y="10255"/>
                </a:cubicBezTo>
                <a:cubicBezTo>
                  <a:pt x="7602" y="10323"/>
                  <a:pt x="7559" y="10362"/>
                  <a:pt x="7620" y="10382"/>
                </a:cubicBezTo>
              </a:path>
              <a:path w="3685" h="731">
                <a:moveTo>
                  <a:pt x="7874" y="9906"/>
                </a:moveTo>
                <a:cubicBezTo>
                  <a:pt x="7829" y="9965"/>
                  <a:pt x="7839" y="10032"/>
                  <a:pt x="7810" y="10096"/>
                </a:cubicBezTo>
                <a:cubicBezTo>
                  <a:pt x="7768" y="10188"/>
                  <a:pt x="7787" y="10191"/>
                  <a:pt x="7810" y="10287"/>
                </a:cubicBezTo>
                <a:cubicBezTo>
                  <a:pt x="7820" y="10328"/>
                  <a:pt x="7880" y="10392"/>
                  <a:pt x="7938" y="10382"/>
                </a:cubicBezTo>
                <a:cubicBezTo>
                  <a:pt x="7977" y="10375"/>
                  <a:pt x="8034" y="10317"/>
                  <a:pt x="8064" y="10287"/>
                </a:cubicBezTo>
                <a:cubicBezTo>
                  <a:pt x="8111" y="10240"/>
                  <a:pt x="8096" y="10190"/>
                  <a:pt x="8096" y="10128"/>
                </a:cubicBezTo>
                <a:cubicBezTo>
                  <a:pt x="8096" y="10048"/>
                  <a:pt x="8074" y="10001"/>
                  <a:pt x="8033" y="9970"/>
                </a:cubicBezTo>
                <a:cubicBezTo>
                  <a:pt x="8008" y="9952"/>
                  <a:pt x="7904" y="9893"/>
                  <a:pt x="7874" y="9906"/>
                </a:cubicBezTo>
                <a:cubicBezTo>
                  <a:pt x="7863" y="9917"/>
                  <a:pt x="7853" y="9927"/>
                  <a:pt x="7842" y="9938"/>
                </a:cubicBezTo>
              </a:path>
              <a:path w="3685" h="731">
                <a:moveTo>
                  <a:pt x="8192" y="9842"/>
                </a:moveTo>
                <a:cubicBezTo>
                  <a:pt x="8214" y="9799"/>
                  <a:pt x="8261" y="9753"/>
                  <a:pt x="8318" y="9747"/>
                </a:cubicBezTo>
                <a:cubicBezTo>
                  <a:pt x="8357" y="9743"/>
                  <a:pt x="8472" y="9784"/>
                  <a:pt x="8446" y="9842"/>
                </a:cubicBezTo>
                <a:cubicBezTo>
                  <a:pt x="8430" y="9877"/>
                  <a:pt x="8405" y="9907"/>
                  <a:pt x="8382" y="9938"/>
                </a:cubicBezTo>
                <a:cubicBezTo>
                  <a:pt x="8410" y="9917"/>
                  <a:pt x="8466" y="9882"/>
                  <a:pt x="8509" y="9906"/>
                </a:cubicBezTo>
                <a:cubicBezTo>
                  <a:pt x="8552" y="9930"/>
                  <a:pt x="8574" y="9995"/>
                  <a:pt x="8604" y="10033"/>
                </a:cubicBezTo>
                <a:cubicBezTo>
                  <a:pt x="8556" y="10096"/>
                  <a:pt x="8565" y="10155"/>
                  <a:pt x="8477" y="10192"/>
                </a:cubicBezTo>
                <a:cubicBezTo>
                  <a:pt x="8430" y="10212"/>
                  <a:pt x="8374" y="10241"/>
                  <a:pt x="8318" y="10255"/>
                </a:cubicBezTo>
                <a:cubicBezTo>
                  <a:pt x="8287" y="10255"/>
                  <a:pt x="8277" y="10255"/>
                  <a:pt x="8287" y="10224"/>
                </a:cubicBezTo>
              </a:path>
              <a:path w="3685" h="731">
                <a:moveTo>
                  <a:pt x="8826" y="9652"/>
                </a:moveTo>
                <a:cubicBezTo>
                  <a:pt x="8813" y="9717"/>
                  <a:pt x="8774" y="9778"/>
                  <a:pt x="8763" y="9842"/>
                </a:cubicBezTo>
                <a:cubicBezTo>
                  <a:pt x="8746" y="9937"/>
                  <a:pt x="8741" y="10109"/>
                  <a:pt x="8795" y="10192"/>
                </a:cubicBezTo>
                <a:cubicBezTo>
                  <a:pt x="8826" y="10240"/>
                  <a:pt x="8843" y="10287"/>
                  <a:pt x="8922" y="10255"/>
                </a:cubicBezTo>
                <a:cubicBezTo>
                  <a:pt x="8987" y="10229"/>
                  <a:pt x="9103" y="10159"/>
                  <a:pt x="9144" y="10096"/>
                </a:cubicBezTo>
                <a:cubicBezTo>
                  <a:pt x="9170" y="10044"/>
                  <a:pt x="9181" y="10036"/>
                  <a:pt x="9176" y="10001"/>
                </a:cubicBezTo>
                <a:cubicBezTo>
                  <a:pt x="9096" y="10001"/>
                  <a:pt x="9057" y="10013"/>
                  <a:pt x="9017" y="10065"/>
                </a:cubicBezTo>
                <a:cubicBezTo>
                  <a:pt x="8991" y="10099"/>
                  <a:pt x="8958" y="10185"/>
                  <a:pt x="8954" y="10224"/>
                </a:cubicBezTo>
                <a:cubicBezTo>
                  <a:pt x="8950" y="10260"/>
                  <a:pt x="9004" y="10339"/>
                  <a:pt x="9049" y="10319"/>
                </a:cubicBezTo>
                <a:cubicBezTo>
                  <a:pt x="9059" y="10308"/>
                  <a:pt x="9070" y="10298"/>
                  <a:pt x="9080" y="10287"/>
                </a:cubicBezTo>
              </a:path>
              <a:path w="3685" h="731">
                <a:moveTo>
                  <a:pt x="9462" y="10160"/>
                </a:moveTo>
                <a:cubicBezTo>
                  <a:pt x="9420" y="10188"/>
                  <a:pt x="9405" y="10173"/>
                  <a:pt x="9462" y="10192"/>
                </a:cubicBezTo>
              </a:path>
              <a:path w="3685" h="731">
                <a:moveTo>
                  <a:pt x="9747" y="9716"/>
                </a:moveTo>
                <a:cubicBezTo>
                  <a:pt x="9721" y="9761"/>
                  <a:pt x="9694" y="9849"/>
                  <a:pt x="9684" y="9906"/>
                </a:cubicBezTo>
                <a:cubicBezTo>
                  <a:pt x="9668" y="9996"/>
                  <a:pt x="9696" y="10086"/>
                  <a:pt x="9747" y="10160"/>
                </a:cubicBezTo>
                <a:cubicBezTo>
                  <a:pt x="9790" y="10222"/>
                  <a:pt x="9845" y="10231"/>
                  <a:pt x="9906" y="10255"/>
                </a:cubicBezTo>
                <a:cubicBezTo>
                  <a:pt x="9998" y="10292"/>
                  <a:pt x="10048" y="10252"/>
                  <a:pt x="10128" y="10192"/>
                </a:cubicBezTo>
                <a:cubicBezTo>
                  <a:pt x="10170" y="10160"/>
                  <a:pt x="10218" y="10115"/>
                  <a:pt x="10224" y="10065"/>
                </a:cubicBezTo>
                <a:cubicBezTo>
                  <a:pt x="10234" y="9973"/>
                  <a:pt x="10141" y="9997"/>
                  <a:pt x="10096" y="10033"/>
                </a:cubicBezTo>
                <a:cubicBezTo>
                  <a:pt x="10033" y="10084"/>
                  <a:pt x="10007" y="10114"/>
                  <a:pt x="10001" y="10192"/>
                </a:cubicBezTo>
                <a:cubicBezTo>
                  <a:pt x="9997" y="10243"/>
                  <a:pt x="10024" y="10318"/>
                  <a:pt x="10065" y="10350"/>
                </a:cubicBezTo>
                <a:cubicBezTo>
                  <a:pt x="10096" y="10350"/>
                  <a:pt x="10107" y="10350"/>
                  <a:pt x="10128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932280" y="3051000"/>
            <a:ext cx="3726000" cy="777960"/>
          </a:xfrm>
          <a:custGeom>
            <a:avLst/>
            <a:gdLst/>
            <a:ahLst/>
            <a:rect l="l" t="t" r="r" b="b"/>
            <a:pathLst>
              <a:path w="10351" h="2160">
                <a:moveTo>
                  <a:pt x="10922" y="9652"/>
                </a:moveTo>
                <a:cubicBezTo>
                  <a:pt x="10982" y="9697"/>
                  <a:pt x="11033" y="9684"/>
                  <a:pt x="11112" y="9684"/>
                </a:cubicBezTo>
                <a:cubicBezTo>
                  <a:pt x="11186" y="9684"/>
                  <a:pt x="11261" y="9684"/>
                  <a:pt x="11335" y="9684"/>
                </a:cubicBezTo>
              </a:path>
              <a:path w="10351" h="2160">
                <a:moveTo>
                  <a:pt x="11112" y="9842"/>
                </a:moveTo>
                <a:cubicBezTo>
                  <a:pt x="11176" y="9842"/>
                  <a:pt x="11239" y="9842"/>
                  <a:pt x="11303" y="9842"/>
                </a:cubicBezTo>
              </a:path>
              <a:path w="10351" h="2160">
                <a:moveTo>
                  <a:pt x="12192" y="9588"/>
                </a:moveTo>
                <a:cubicBezTo>
                  <a:pt x="12160" y="9557"/>
                  <a:pt x="12149" y="9546"/>
                  <a:pt x="12192" y="9525"/>
                </a:cubicBezTo>
                <a:cubicBezTo>
                  <a:pt x="12123" y="9525"/>
                  <a:pt x="12090" y="9551"/>
                  <a:pt x="12033" y="9557"/>
                </a:cubicBezTo>
                <a:cubicBezTo>
                  <a:pt x="12023" y="9557"/>
                  <a:pt x="12012" y="9557"/>
                  <a:pt x="12002" y="9557"/>
                </a:cubicBezTo>
                <a:cubicBezTo>
                  <a:pt x="12002" y="9614"/>
                  <a:pt x="12027" y="9633"/>
                  <a:pt x="12033" y="9684"/>
                </a:cubicBezTo>
                <a:cubicBezTo>
                  <a:pt x="12033" y="9716"/>
                  <a:pt x="12033" y="9726"/>
                  <a:pt x="12033" y="9747"/>
                </a:cubicBezTo>
                <a:cubicBezTo>
                  <a:pt x="12092" y="9689"/>
                  <a:pt x="12108" y="9684"/>
                  <a:pt x="12192" y="9684"/>
                </a:cubicBezTo>
                <a:cubicBezTo>
                  <a:pt x="12247" y="9684"/>
                  <a:pt x="12281" y="9741"/>
                  <a:pt x="12319" y="9779"/>
                </a:cubicBezTo>
                <a:cubicBezTo>
                  <a:pt x="12369" y="9829"/>
                  <a:pt x="12407" y="9864"/>
                  <a:pt x="12414" y="9938"/>
                </a:cubicBezTo>
                <a:cubicBezTo>
                  <a:pt x="12422" y="10020"/>
                  <a:pt x="12406" y="10041"/>
                  <a:pt x="12351" y="10096"/>
                </a:cubicBezTo>
                <a:cubicBezTo>
                  <a:pt x="12301" y="10146"/>
                  <a:pt x="12266" y="10185"/>
                  <a:pt x="12192" y="10192"/>
                </a:cubicBezTo>
                <a:cubicBezTo>
                  <a:pt x="12125" y="10199"/>
                  <a:pt x="12118" y="10249"/>
                  <a:pt x="12097" y="10160"/>
                </a:cubicBezTo>
              </a:path>
              <a:path w="10351" h="2160">
                <a:moveTo>
                  <a:pt x="12827" y="9208"/>
                </a:moveTo>
                <a:cubicBezTo>
                  <a:pt x="12814" y="9257"/>
                  <a:pt x="12795" y="9277"/>
                  <a:pt x="12795" y="9334"/>
                </a:cubicBezTo>
                <a:cubicBezTo>
                  <a:pt x="12795" y="9418"/>
                  <a:pt x="12743" y="9474"/>
                  <a:pt x="12732" y="9557"/>
                </a:cubicBezTo>
                <a:cubicBezTo>
                  <a:pt x="12718" y="9667"/>
                  <a:pt x="12722" y="9778"/>
                  <a:pt x="12732" y="9874"/>
                </a:cubicBezTo>
                <a:cubicBezTo>
                  <a:pt x="12742" y="9971"/>
                  <a:pt x="12723" y="9994"/>
                  <a:pt x="12795" y="10065"/>
                </a:cubicBezTo>
                <a:cubicBezTo>
                  <a:pt x="12839" y="10109"/>
                  <a:pt x="12876" y="10135"/>
                  <a:pt x="12890" y="10192"/>
                </a:cubicBezTo>
              </a:path>
              <a:path w="10351" h="2160">
                <a:moveTo>
                  <a:pt x="13049" y="9716"/>
                </a:moveTo>
                <a:cubicBezTo>
                  <a:pt x="13105" y="9757"/>
                  <a:pt x="13134" y="9747"/>
                  <a:pt x="13208" y="9747"/>
                </a:cubicBezTo>
                <a:cubicBezTo>
                  <a:pt x="13240" y="9747"/>
                  <a:pt x="13271" y="9747"/>
                  <a:pt x="13303" y="9747"/>
                </a:cubicBezTo>
              </a:path>
              <a:path w="10351" h="2160">
                <a:moveTo>
                  <a:pt x="13398" y="9525"/>
                </a:moveTo>
                <a:cubicBezTo>
                  <a:pt x="13398" y="9623"/>
                  <a:pt x="13414" y="9690"/>
                  <a:pt x="13430" y="9779"/>
                </a:cubicBezTo>
                <a:cubicBezTo>
                  <a:pt x="13445" y="9860"/>
                  <a:pt x="13442" y="9923"/>
                  <a:pt x="13462" y="10001"/>
                </a:cubicBezTo>
                <a:cubicBezTo>
                  <a:pt x="13462" y="10037"/>
                  <a:pt x="13465" y="10051"/>
                  <a:pt x="13494" y="10065"/>
                </a:cubicBezTo>
              </a:path>
              <a:path w="10351" h="2160">
                <a:moveTo>
                  <a:pt x="13526" y="9652"/>
                </a:moveTo>
                <a:cubicBezTo>
                  <a:pt x="13542" y="9588"/>
                  <a:pt x="13556" y="9588"/>
                  <a:pt x="13621" y="9588"/>
                </a:cubicBezTo>
                <a:cubicBezTo>
                  <a:pt x="13656" y="9588"/>
                  <a:pt x="13749" y="9602"/>
                  <a:pt x="13780" y="9620"/>
                </a:cubicBezTo>
                <a:cubicBezTo>
                  <a:pt x="13807" y="9635"/>
                  <a:pt x="13896" y="9669"/>
                  <a:pt x="13875" y="9716"/>
                </a:cubicBezTo>
                <a:cubicBezTo>
                  <a:pt x="13852" y="9766"/>
                  <a:pt x="13821" y="9829"/>
                  <a:pt x="13780" y="9874"/>
                </a:cubicBezTo>
                <a:cubicBezTo>
                  <a:pt x="13752" y="9905"/>
                  <a:pt x="13686" y="9948"/>
                  <a:pt x="13716" y="10001"/>
                </a:cubicBezTo>
                <a:cubicBezTo>
                  <a:pt x="13757" y="10073"/>
                  <a:pt x="13824" y="10014"/>
                  <a:pt x="13875" y="10001"/>
                </a:cubicBezTo>
                <a:cubicBezTo>
                  <a:pt x="13926" y="9988"/>
                  <a:pt x="13951" y="9951"/>
                  <a:pt x="14002" y="9938"/>
                </a:cubicBezTo>
              </a:path>
              <a:path w="10351" h="2160">
                <a:moveTo>
                  <a:pt x="14034" y="9588"/>
                </a:moveTo>
                <a:cubicBezTo>
                  <a:pt x="13992" y="9644"/>
                  <a:pt x="14002" y="9673"/>
                  <a:pt x="14002" y="9747"/>
                </a:cubicBezTo>
                <a:cubicBezTo>
                  <a:pt x="14002" y="9796"/>
                  <a:pt x="14037" y="9895"/>
                  <a:pt x="14065" y="9938"/>
                </a:cubicBezTo>
                <a:cubicBezTo>
                  <a:pt x="14096" y="9985"/>
                  <a:pt x="14143" y="9970"/>
                  <a:pt x="14192" y="9970"/>
                </a:cubicBezTo>
                <a:cubicBezTo>
                  <a:pt x="14282" y="9970"/>
                  <a:pt x="14309" y="9976"/>
                  <a:pt x="14319" y="9874"/>
                </a:cubicBezTo>
                <a:cubicBezTo>
                  <a:pt x="14324" y="9822"/>
                  <a:pt x="14318" y="9820"/>
                  <a:pt x="14288" y="9779"/>
                </a:cubicBezTo>
                <a:cubicBezTo>
                  <a:pt x="14243" y="9813"/>
                  <a:pt x="14199" y="9811"/>
                  <a:pt x="14192" y="9874"/>
                </a:cubicBezTo>
                <a:cubicBezTo>
                  <a:pt x="14186" y="9925"/>
                  <a:pt x="14203" y="9978"/>
                  <a:pt x="14256" y="10001"/>
                </a:cubicBezTo>
                <a:cubicBezTo>
                  <a:pt x="14277" y="10010"/>
                  <a:pt x="14328" y="10001"/>
                  <a:pt x="14351" y="10001"/>
                </a:cubicBezTo>
              </a:path>
              <a:path w="10351" h="2160">
                <a:moveTo>
                  <a:pt x="14510" y="9620"/>
                </a:moveTo>
                <a:cubicBezTo>
                  <a:pt x="14486" y="9579"/>
                  <a:pt x="14441" y="9496"/>
                  <a:pt x="14510" y="9462"/>
                </a:cubicBezTo>
                <a:cubicBezTo>
                  <a:pt x="14524" y="9455"/>
                  <a:pt x="14630" y="9427"/>
                  <a:pt x="14637" y="9430"/>
                </a:cubicBezTo>
                <a:cubicBezTo>
                  <a:pt x="14670" y="9445"/>
                  <a:pt x="14746" y="9485"/>
                  <a:pt x="14764" y="9525"/>
                </a:cubicBezTo>
                <a:cubicBezTo>
                  <a:pt x="14810" y="9628"/>
                  <a:pt x="14674" y="9633"/>
                  <a:pt x="14637" y="9652"/>
                </a:cubicBezTo>
                <a:cubicBezTo>
                  <a:pt x="14537" y="9702"/>
                  <a:pt x="14679" y="9622"/>
                  <a:pt x="14700" y="9620"/>
                </a:cubicBezTo>
                <a:cubicBezTo>
                  <a:pt x="14776" y="9611"/>
                  <a:pt x="14788" y="9660"/>
                  <a:pt x="14859" y="9684"/>
                </a:cubicBezTo>
                <a:cubicBezTo>
                  <a:pt x="14916" y="9703"/>
                  <a:pt x="14900" y="9761"/>
                  <a:pt x="14859" y="9811"/>
                </a:cubicBezTo>
                <a:cubicBezTo>
                  <a:pt x="14817" y="9863"/>
                  <a:pt x="14795" y="9874"/>
                  <a:pt x="14732" y="9874"/>
                </a:cubicBezTo>
              </a:path>
              <a:path w="10351" h="2160">
                <a:moveTo>
                  <a:pt x="15335" y="9271"/>
                </a:moveTo>
                <a:cubicBezTo>
                  <a:pt x="15299" y="9320"/>
                  <a:pt x="15295" y="9373"/>
                  <a:pt x="15272" y="9430"/>
                </a:cubicBezTo>
                <a:cubicBezTo>
                  <a:pt x="15245" y="9498"/>
                  <a:pt x="15219" y="9575"/>
                  <a:pt x="15240" y="9652"/>
                </a:cubicBezTo>
                <a:cubicBezTo>
                  <a:pt x="15259" y="9721"/>
                  <a:pt x="15285" y="9761"/>
                  <a:pt x="15335" y="9811"/>
                </a:cubicBezTo>
                <a:cubicBezTo>
                  <a:pt x="15396" y="9871"/>
                  <a:pt x="15403" y="9830"/>
                  <a:pt x="15462" y="9811"/>
                </a:cubicBezTo>
                <a:cubicBezTo>
                  <a:pt x="15523" y="9791"/>
                  <a:pt x="15534" y="9773"/>
                  <a:pt x="15558" y="9716"/>
                </a:cubicBezTo>
                <a:cubicBezTo>
                  <a:pt x="15584" y="9653"/>
                  <a:pt x="15589" y="9649"/>
                  <a:pt x="15589" y="9588"/>
                </a:cubicBezTo>
                <a:cubicBezTo>
                  <a:pt x="15512" y="9588"/>
                  <a:pt x="15528" y="9601"/>
                  <a:pt x="15494" y="9652"/>
                </a:cubicBezTo>
                <a:cubicBezTo>
                  <a:pt x="15474" y="9681"/>
                  <a:pt x="15437" y="9735"/>
                  <a:pt x="15462" y="9779"/>
                </a:cubicBezTo>
                <a:cubicBezTo>
                  <a:pt x="15487" y="9825"/>
                  <a:pt x="15502" y="9868"/>
                  <a:pt x="15558" y="9874"/>
                </a:cubicBezTo>
                <a:cubicBezTo>
                  <a:pt x="15568" y="9874"/>
                  <a:pt x="15579" y="9874"/>
                  <a:pt x="15589" y="9874"/>
                </a:cubicBezTo>
              </a:path>
              <a:path w="10351" h="2160">
                <a:moveTo>
                  <a:pt x="15684" y="8954"/>
                </a:moveTo>
                <a:cubicBezTo>
                  <a:pt x="15697" y="9018"/>
                  <a:pt x="15737" y="9091"/>
                  <a:pt x="15780" y="9144"/>
                </a:cubicBezTo>
                <a:cubicBezTo>
                  <a:pt x="15844" y="9223"/>
                  <a:pt x="15953" y="9311"/>
                  <a:pt x="16002" y="9398"/>
                </a:cubicBezTo>
                <a:cubicBezTo>
                  <a:pt x="16061" y="9501"/>
                  <a:pt x="16066" y="9601"/>
                  <a:pt x="16066" y="9716"/>
                </a:cubicBezTo>
                <a:cubicBezTo>
                  <a:pt x="16066" y="9815"/>
                  <a:pt x="16033" y="9920"/>
                  <a:pt x="15970" y="10001"/>
                </a:cubicBezTo>
                <a:cubicBezTo>
                  <a:pt x="15927" y="10057"/>
                  <a:pt x="15875" y="10139"/>
                  <a:pt x="15812" y="10160"/>
                </a:cubicBezTo>
                <a:cubicBezTo>
                  <a:pt x="15801" y="10160"/>
                  <a:pt x="15791" y="10160"/>
                  <a:pt x="15780" y="10160"/>
                </a:cubicBezTo>
              </a:path>
              <a:path w="10351" h="2160">
                <a:moveTo>
                  <a:pt x="16383" y="9366"/>
                </a:moveTo>
                <a:cubicBezTo>
                  <a:pt x="16383" y="9449"/>
                  <a:pt x="16402" y="9521"/>
                  <a:pt x="16415" y="9588"/>
                </a:cubicBezTo>
                <a:cubicBezTo>
                  <a:pt x="16428" y="9651"/>
                  <a:pt x="16440" y="9723"/>
                  <a:pt x="16446" y="9779"/>
                </a:cubicBezTo>
                <a:cubicBezTo>
                  <a:pt x="16452" y="9833"/>
                  <a:pt x="16462" y="9830"/>
                  <a:pt x="16510" y="9842"/>
                </a:cubicBezTo>
              </a:path>
              <a:path w="10351" h="2160">
                <a:moveTo>
                  <a:pt x="16320" y="9684"/>
                </a:moveTo>
                <a:cubicBezTo>
                  <a:pt x="16415" y="9684"/>
                  <a:pt x="16510" y="9684"/>
                  <a:pt x="16605" y="9684"/>
                </a:cubicBezTo>
              </a:path>
              <a:path w="10351" h="2160">
                <a:moveTo>
                  <a:pt x="17336" y="9430"/>
                </a:moveTo>
                <a:cubicBezTo>
                  <a:pt x="17336" y="9377"/>
                  <a:pt x="17316" y="9303"/>
                  <a:pt x="17240" y="9334"/>
                </a:cubicBezTo>
                <a:cubicBezTo>
                  <a:pt x="17195" y="9352"/>
                  <a:pt x="17124" y="9398"/>
                  <a:pt x="17082" y="9430"/>
                </a:cubicBezTo>
                <a:cubicBezTo>
                  <a:pt x="17045" y="9458"/>
                  <a:pt x="17028" y="9516"/>
                  <a:pt x="17018" y="9557"/>
                </a:cubicBezTo>
                <a:cubicBezTo>
                  <a:pt x="17080" y="9602"/>
                  <a:pt x="17083" y="9592"/>
                  <a:pt x="17145" y="9557"/>
                </a:cubicBezTo>
                <a:cubicBezTo>
                  <a:pt x="17227" y="9510"/>
                  <a:pt x="17197" y="9495"/>
                  <a:pt x="17240" y="9430"/>
                </a:cubicBezTo>
                <a:cubicBezTo>
                  <a:pt x="17272" y="9398"/>
                  <a:pt x="17283" y="9387"/>
                  <a:pt x="17304" y="9366"/>
                </a:cubicBezTo>
                <a:cubicBezTo>
                  <a:pt x="17304" y="9456"/>
                  <a:pt x="17272" y="10095"/>
                  <a:pt x="17336" y="10096"/>
                </a:cubicBezTo>
                <a:cubicBezTo>
                  <a:pt x="17336" y="10086"/>
                  <a:pt x="17336" y="10075"/>
                  <a:pt x="17336" y="10065"/>
                </a:cubicBezTo>
              </a:path>
              <a:path w="10351" h="2160">
                <a:moveTo>
                  <a:pt x="17875" y="9080"/>
                </a:moveTo>
                <a:cubicBezTo>
                  <a:pt x="17815" y="9151"/>
                  <a:pt x="17763" y="9234"/>
                  <a:pt x="17748" y="9334"/>
                </a:cubicBezTo>
                <a:cubicBezTo>
                  <a:pt x="17733" y="9432"/>
                  <a:pt x="17710" y="9624"/>
                  <a:pt x="17716" y="9716"/>
                </a:cubicBezTo>
                <a:cubicBezTo>
                  <a:pt x="17723" y="9828"/>
                  <a:pt x="17739" y="9989"/>
                  <a:pt x="17780" y="10096"/>
                </a:cubicBezTo>
                <a:cubicBezTo>
                  <a:pt x="17806" y="10165"/>
                  <a:pt x="17834" y="10251"/>
                  <a:pt x="17907" y="10287"/>
                </a:cubicBezTo>
                <a:cubicBezTo>
                  <a:pt x="17939" y="10287"/>
                  <a:pt x="17949" y="10287"/>
                  <a:pt x="17970" y="10287"/>
                </a:cubicBezTo>
              </a:path>
              <a:path w="10351" h="2160">
                <a:moveTo>
                  <a:pt x="18066" y="9716"/>
                </a:moveTo>
                <a:cubicBezTo>
                  <a:pt x="18108" y="9716"/>
                  <a:pt x="18165" y="9759"/>
                  <a:pt x="18193" y="9747"/>
                </a:cubicBezTo>
                <a:cubicBezTo>
                  <a:pt x="18258" y="9719"/>
                  <a:pt x="18269" y="9716"/>
                  <a:pt x="18352" y="9716"/>
                </a:cubicBezTo>
                <a:cubicBezTo>
                  <a:pt x="18388" y="9716"/>
                  <a:pt x="18401" y="9713"/>
                  <a:pt x="18415" y="9684"/>
                </a:cubicBezTo>
              </a:path>
              <a:path w="10351" h="2160">
                <a:moveTo>
                  <a:pt x="18542" y="9430"/>
                </a:moveTo>
                <a:cubicBezTo>
                  <a:pt x="18552" y="9392"/>
                  <a:pt x="18581" y="9334"/>
                  <a:pt x="18637" y="9366"/>
                </a:cubicBezTo>
                <a:cubicBezTo>
                  <a:pt x="18702" y="9403"/>
                  <a:pt x="18727" y="9460"/>
                  <a:pt x="18732" y="9525"/>
                </a:cubicBezTo>
                <a:cubicBezTo>
                  <a:pt x="18740" y="9624"/>
                  <a:pt x="18689" y="9629"/>
                  <a:pt x="18669" y="9716"/>
                </a:cubicBezTo>
                <a:cubicBezTo>
                  <a:pt x="18652" y="9789"/>
                  <a:pt x="18619" y="9870"/>
                  <a:pt x="18574" y="9938"/>
                </a:cubicBezTo>
                <a:cubicBezTo>
                  <a:pt x="18563" y="9949"/>
                  <a:pt x="18553" y="9959"/>
                  <a:pt x="18542" y="9970"/>
                </a:cubicBezTo>
                <a:cubicBezTo>
                  <a:pt x="18621" y="10047"/>
                  <a:pt x="18600" y="10027"/>
                  <a:pt x="18701" y="10001"/>
                </a:cubicBezTo>
                <a:cubicBezTo>
                  <a:pt x="18757" y="9987"/>
                  <a:pt x="18813" y="9941"/>
                  <a:pt x="18860" y="9906"/>
                </a:cubicBezTo>
              </a:path>
              <a:path w="10351" h="2160">
                <a:moveTo>
                  <a:pt x="19050" y="9334"/>
                </a:moveTo>
                <a:cubicBezTo>
                  <a:pt x="19009" y="9344"/>
                  <a:pt x="18944" y="9383"/>
                  <a:pt x="18923" y="9430"/>
                </a:cubicBezTo>
                <a:cubicBezTo>
                  <a:pt x="18892" y="9501"/>
                  <a:pt x="18926" y="9593"/>
                  <a:pt x="18986" y="9620"/>
                </a:cubicBezTo>
                <a:cubicBezTo>
                  <a:pt x="19025" y="9638"/>
                  <a:pt x="19118" y="9604"/>
                  <a:pt x="19145" y="9588"/>
                </a:cubicBezTo>
                <a:cubicBezTo>
                  <a:pt x="19213" y="9548"/>
                  <a:pt x="19211" y="9481"/>
                  <a:pt x="19177" y="9430"/>
                </a:cubicBezTo>
                <a:cubicBezTo>
                  <a:pt x="19148" y="9387"/>
                  <a:pt x="19126" y="9398"/>
                  <a:pt x="19082" y="9398"/>
                </a:cubicBezTo>
              </a:path>
              <a:path w="10351" h="2160">
                <a:moveTo>
                  <a:pt x="19082" y="9620"/>
                </a:moveTo>
                <a:cubicBezTo>
                  <a:pt x="19070" y="9667"/>
                  <a:pt x="19048" y="9734"/>
                  <a:pt x="19018" y="9779"/>
                </a:cubicBezTo>
                <a:cubicBezTo>
                  <a:pt x="18998" y="9809"/>
                  <a:pt x="18961" y="9862"/>
                  <a:pt x="18986" y="9906"/>
                </a:cubicBezTo>
                <a:cubicBezTo>
                  <a:pt x="19005" y="9940"/>
                  <a:pt x="19080" y="9966"/>
                  <a:pt x="19114" y="9970"/>
                </a:cubicBezTo>
                <a:cubicBezTo>
                  <a:pt x="19155" y="9975"/>
                  <a:pt x="19242" y="9901"/>
                  <a:pt x="19272" y="9874"/>
                </a:cubicBezTo>
                <a:cubicBezTo>
                  <a:pt x="19307" y="9842"/>
                  <a:pt x="19327" y="9762"/>
                  <a:pt x="19304" y="9716"/>
                </a:cubicBezTo>
                <a:cubicBezTo>
                  <a:pt x="19279" y="9666"/>
                  <a:pt x="19233" y="9610"/>
                  <a:pt x="19177" y="9588"/>
                </a:cubicBezTo>
                <a:cubicBezTo>
                  <a:pt x="19141" y="9588"/>
                  <a:pt x="19128" y="9585"/>
                  <a:pt x="19114" y="9557"/>
                </a:cubicBezTo>
              </a:path>
              <a:path w="10351" h="2160">
                <a:moveTo>
                  <a:pt x="19653" y="9303"/>
                </a:moveTo>
                <a:cubicBezTo>
                  <a:pt x="19625" y="9260"/>
                  <a:pt x="19591" y="9271"/>
                  <a:pt x="19526" y="9271"/>
                </a:cubicBezTo>
                <a:cubicBezTo>
                  <a:pt x="19455" y="9271"/>
                  <a:pt x="19437" y="9303"/>
                  <a:pt x="19368" y="9303"/>
                </a:cubicBezTo>
                <a:cubicBezTo>
                  <a:pt x="19382" y="9360"/>
                  <a:pt x="19399" y="9394"/>
                  <a:pt x="19399" y="9462"/>
                </a:cubicBezTo>
                <a:cubicBezTo>
                  <a:pt x="19399" y="9493"/>
                  <a:pt x="19399" y="9504"/>
                  <a:pt x="19399" y="9525"/>
                </a:cubicBezTo>
                <a:cubicBezTo>
                  <a:pt x="19472" y="9525"/>
                  <a:pt x="19535" y="9509"/>
                  <a:pt x="19590" y="9557"/>
                </a:cubicBezTo>
                <a:cubicBezTo>
                  <a:pt x="19652" y="9611"/>
                  <a:pt x="19678" y="9635"/>
                  <a:pt x="19685" y="9716"/>
                </a:cubicBezTo>
                <a:cubicBezTo>
                  <a:pt x="19687" y="9736"/>
                  <a:pt x="19621" y="9797"/>
                  <a:pt x="19590" y="9811"/>
                </a:cubicBezTo>
                <a:cubicBezTo>
                  <a:pt x="19559" y="9825"/>
                  <a:pt x="19528" y="9834"/>
                  <a:pt x="19494" y="9842"/>
                </a:cubicBezTo>
              </a:path>
              <a:path w="10351" h="2160">
                <a:moveTo>
                  <a:pt x="20130" y="9271"/>
                </a:moveTo>
                <a:cubicBezTo>
                  <a:pt x="20067" y="9280"/>
                  <a:pt x="20017" y="9296"/>
                  <a:pt x="20002" y="9366"/>
                </a:cubicBezTo>
                <a:cubicBezTo>
                  <a:pt x="19987" y="9434"/>
                  <a:pt x="19997" y="9486"/>
                  <a:pt x="20066" y="9493"/>
                </a:cubicBezTo>
                <a:cubicBezTo>
                  <a:pt x="20121" y="9499"/>
                  <a:pt x="20153" y="9498"/>
                  <a:pt x="20193" y="9462"/>
                </a:cubicBezTo>
                <a:cubicBezTo>
                  <a:pt x="20230" y="9429"/>
                  <a:pt x="20291" y="9333"/>
                  <a:pt x="20225" y="9303"/>
                </a:cubicBezTo>
                <a:cubicBezTo>
                  <a:pt x="20203" y="9293"/>
                  <a:pt x="20127" y="9303"/>
                  <a:pt x="20098" y="9303"/>
                </a:cubicBezTo>
              </a:path>
              <a:path w="10351" h="2160">
                <a:moveTo>
                  <a:pt x="20193" y="9493"/>
                </a:moveTo>
                <a:cubicBezTo>
                  <a:pt x="20157" y="9529"/>
                  <a:pt x="20113" y="9575"/>
                  <a:pt x="20098" y="9620"/>
                </a:cubicBezTo>
                <a:cubicBezTo>
                  <a:pt x="20098" y="9656"/>
                  <a:pt x="20095" y="9670"/>
                  <a:pt x="20066" y="9684"/>
                </a:cubicBezTo>
                <a:cubicBezTo>
                  <a:pt x="20126" y="9744"/>
                  <a:pt x="20140" y="9772"/>
                  <a:pt x="20225" y="9779"/>
                </a:cubicBezTo>
                <a:cubicBezTo>
                  <a:pt x="20277" y="9783"/>
                  <a:pt x="20347" y="9749"/>
                  <a:pt x="20384" y="9716"/>
                </a:cubicBezTo>
                <a:cubicBezTo>
                  <a:pt x="20411" y="9692"/>
                  <a:pt x="20436" y="9626"/>
                  <a:pt x="20415" y="9588"/>
                </a:cubicBezTo>
                <a:cubicBezTo>
                  <a:pt x="20385" y="9534"/>
                  <a:pt x="20335" y="9523"/>
                  <a:pt x="20320" y="9462"/>
                </a:cubicBezTo>
              </a:path>
              <a:path w="10351" h="2160">
                <a:moveTo>
                  <a:pt x="20384" y="8954"/>
                </a:moveTo>
                <a:cubicBezTo>
                  <a:pt x="20469" y="8975"/>
                  <a:pt x="20448" y="9000"/>
                  <a:pt x="20510" y="9049"/>
                </a:cubicBezTo>
                <a:cubicBezTo>
                  <a:pt x="20591" y="9112"/>
                  <a:pt x="20634" y="9158"/>
                  <a:pt x="20701" y="9239"/>
                </a:cubicBezTo>
                <a:cubicBezTo>
                  <a:pt x="20773" y="9326"/>
                  <a:pt x="20838" y="9441"/>
                  <a:pt x="20860" y="9557"/>
                </a:cubicBezTo>
                <a:cubicBezTo>
                  <a:pt x="20873" y="9626"/>
                  <a:pt x="20838" y="9784"/>
                  <a:pt x="20796" y="9842"/>
                </a:cubicBezTo>
                <a:cubicBezTo>
                  <a:pt x="20737" y="9925"/>
                  <a:pt x="20678" y="9968"/>
                  <a:pt x="20606" y="10033"/>
                </a:cubicBezTo>
                <a:cubicBezTo>
                  <a:pt x="20577" y="10062"/>
                  <a:pt x="20571" y="10073"/>
                  <a:pt x="20542" y="10065"/>
                </a:cubicBezTo>
              </a:path>
              <a:path w="10351" h="2160">
                <a:moveTo>
                  <a:pt x="12382" y="8700"/>
                </a:moveTo>
                <a:cubicBezTo>
                  <a:pt x="12307" y="8709"/>
                  <a:pt x="12264" y="8735"/>
                  <a:pt x="12192" y="8763"/>
                </a:cubicBezTo>
                <a:cubicBezTo>
                  <a:pt x="12035" y="8825"/>
                  <a:pt x="11872" y="8847"/>
                  <a:pt x="11716" y="8890"/>
                </a:cubicBezTo>
                <a:cubicBezTo>
                  <a:pt x="11584" y="8926"/>
                  <a:pt x="11688" y="8915"/>
                  <a:pt x="11589" y="8890"/>
                </a:cubicBezTo>
                <a:cubicBezTo>
                  <a:pt x="11641" y="8997"/>
                  <a:pt x="11658" y="9066"/>
                  <a:pt x="11684" y="9176"/>
                </a:cubicBezTo>
                <a:cubicBezTo>
                  <a:pt x="11719" y="9327"/>
                  <a:pt x="11695" y="9467"/>
                  <a:pt x="11716" y="9620"/>
                </a:cubicBezTo>
                <a:cubicBezTo>
                  <a:pt x="11738" y="9778"/>
                  <a:pt x="11763" y="9940"/>
                  <a:pt x="11779" y="10096"/>
                </a:cubicBezTo>
                <a:cubicBezTo>
                  <a:pt x="11790" y="10204"/>
                  <a:pt x="11783" y="10342"/>
                  <a:pt x="11811" y="10446"/>
                </a:cubicBezTo>
                <a:cubicBezTo>
                  <a:pt x="11818" y="10474"/>
                  <a:pt x="11890" y="10589"/>
                  <a:pt x="11906" y="10604"/>
                </a:cubicBezTo>
                <a:cubicBezTo>
                  <a:pt x="11955" y="10650"/>
                  <a:pt x="12007" y="10633"/>
                  <a:pt x="12065" y="10636"/>
                </a:cubicBezTo>
                <a:cubicBezTo>
                  <a:pt x="12179" y="10642"/>
                  <a:pt x="12272" y="10620"/>
                  <a:pt x="12382" y="10604"/>
                </a:cubicBezTo>
                <a:cubicBezTo>
                  <a:pt x="12489" y="10589"/>
                  <a:pt x="12572" y="10615"/>
                  <a:pt x="12668" y="10636"/>
                </a:cubicBezTo>
                <a:cubicBezTo>
                  <a:pt x="12679" y="10636"/>
                  <a:pt x="12689" y="10636"/>
                  <a:pt x="12700" y="10636"/>
                </a:cubicBezTo>
              </a:path>
              <a:path w="10351" h="2160">
                <a:moveTo>
                  <a:pt x="20542" y="8509"/>
                </a:moveTo>
                <a:cubicBezTo>
                  <a:pt x="20612" y="8535"/>
                  <a:pt x="20705" y="8549"/>
                  <a:pt x="20764" y="8541"/>
                </a:cubicBezTo>
                <a:cubicBezTo>
                  <a:pt x="20866" y="8527"/>
                  <a:pt x="20944" y="8509"/>
                  <a:pt x="21050" y="8509"/>
                </a:cubicBezTo>
                <a:cubicBezTo>
                  <a:pt x="21106" y="8509"/>
                  <a:pt x="21206" y="8457"/>
                  <a:pt x="21241" y="8509"/>
                </a:cubicBezTo>
                <a:cubicBezTo>
                  <a:pt x="21337" y="8652"/>
                  <a:pt x="21257" y="9202"/>
                  <a:pt x="21272" y="9366"/>
                </a:cubicBezTo>
                <a:cubicBezTo>
                  <a:pt x="21292" y="9581"/>
                  <a:pt x="21221" y="9835"/>
                  <a:pt x="21241" y="10033"/>
                </a:cubicBezTo>
                <a:cubicBezTo>
                  <a:pt x="21248" y="10096"/>
                  <a:pt x="21272" y="10154"/>
                  <a:pt x="21272" y="10224"/>
                </a:cubicBezTo>
                <a:cubicBezTo>
                  <a:pt x="21220" y="10213"/>
                  <a:pt x="21140" y="10186"/>
                  <a:pt x="21114" y="10192"/>
                </a:cubicBezTo>
                <a:cubicBezTo>
                  <a:pt x="21070" y="10202"/>
                  <a:pt x="20980" y="10231"/>
                  <a:pt x="20955" y="10224"/>
                </a:cubicBezTo>
                <a:cubicBezTo>
                  <a:pt x="20944" y="10213"/>
                  <a:pt x="20934" y="10203"/>
                  <a:pt x="20923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3954600" y="4229280"/>
            <a:ext cx="195120" cy="23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10986" y="11811"/>
                </a:moveTo>
                <a:cubicBezTo>
                  <a:pt x="11046" y="11811"/>
                  <a:pt x="11086" y="11785"/>
                  <a:pt x="11144" y="11779"/>
                </a:cubicBezTo>
                <a:cubicBezTo>
                  <a:pt x="11207" y="11773"/>
                  <a:pt x="11228" y="11748"/>
                  <a:pt x="11303" y="11748"/>
                </a:cubicBezTo>
                <a:cubicBezTo>
                  <a:pt x="11377" y="11748"/>
                  <a:pt x="11451" y="11748"/>
                  <a:pt x="11525" y="11748"/>
                </a:cubicBezTo>
                <a:cubicBezTo>
                  <a:pt x="11517" y="11752"/>
                  <a:pt x="11391" y="11783"/>
                  <a:pt x="11366" y="11779"/>
                </a:cubicBezTo>
                <a:cubicBezTo>
                  <a:pt x="11298" y="11768"/>
                  <a:pt x="11316" y="11771"/>
                  <a:pt x="11240" y="11779"/>
                </a:cubicBezTo>
                <a:cubicBezTo>
                  <a:pt x="11209" y="11782"/>
                  <a:pt x="11175" y="11779"/>
                  <a:pt x="1114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4400640" y="3897360"/>
            <a:ext cx="606240" cy="617400"/>
          </a:xfrm>
          <a:custGeom>
            <a:avLst/>
            <a:gdLst/>
            <a:ahLst/>
            <a:rect l="l" t="t" r="r" b="b"/>
            <a:pathLst>
              <a:path w="1683" h="1715">
                <a:moveTo>
                  <a:pt x="12573" y="11557"/>
                </a:moveTo>
                <a:cubicBezTo>
                  <a:pt x="12598" y="11431"/>
                  <a:pt x="12633" y="11507"/>
                  <a:pt x="12700" y="11430"/>
                </a:cubicBezTo>
                <a:cubicBezTo>
                  <a:pt x="12712" y="11417"/>
                  <a:pt x="12795" y="11360"/>
                  <a:pt x="12827" y="11366"/>
                </a:cubicBezTo>
                <a:cubicBezTo>
                  <a:pt x="12888" y="11378"/>
                  <a:pt x="12927" y="11456"/>
                  <a:pt x="12954" y="11494"/>
                </a:cubicBezTo>
                <a:cubicBezTo>
                  <a:pt x="13000" y="11559"/>
                  <a:pt x="12980" y="11639"/>
                  <a:pt x="12954" y="11716"/>
                </a:cubicBezTo>
                <a:cubicBezTo>
                  <a:pt x="12920" y="11816"/>
                  <a:pt x="12844" y="11881"/>
                  <a:pt x="12795" y="11970"/>
                </a:cubicBezTo>
                <a:cubicBezTo>
                  <a:pt x="12754" y="12044"/>
                  <a:pt x="12728" y="12100"/>
                  <a:pt x="12668" y="12160"/>
                </a:cubicBezTo>
                <a:cubicBezTo>
                  <a:pt x="12657" y="12171"/>
                  <a:pt x="12647" y="12181"/>
                  <a:pt x="12636" y="12192"/>
                </a:cubicBezTo>
                <a:cubicBezTo>
                  <a:pt x="12700" y="12176"/>
                  <a:pt x="12718" y="12160"/>
                  <a:pt x="12795" y="12160"/>
                </a:cubicBezTo>
                <a:cubicBezTo>
                  <a:pt x="12878" y="12160"/>
                  <a:pt x="12938" y="12186"/>
                  <a:pt x="13018" y="12192"/>
                </a:cubicBezTo>
                <a:cubicBezTo>
                  <a:pt x="13083" y="12197"/>
                  <a:pt x="13122" y="12201"/>
                  <a:pt x="13176" y="12224"/>
                </a:cubicBezTo>
                <a:cubicBezTo>
                  <a:pt x="13262" y="12261"/>
                  <a:pt x="13236" y="12289"/>
                  <a:pt x="13303" y="12256"/>
                </a:cubicBezTo>
              </a:path>
              <a:path w="1683" h="1715">
                <a:moveTo>
                  <a:pt x="13367" y="11620"/>
                </a:moveTo>
                <a:cubicBezTo>
                  <a:pt x="13410" y="11676"/>
                  <a:pt x="13443" y="11729"/>
                  <a:pt x="13494" y="11779"/>
                </a:cubicBezTo>
                <a:cubicBezTo>
                  <a:pt x="13556" y="11841"/>
                  <a:pt x="13619" y="11884"/>
                  <a:pt x="13684" y="11938"/>
                </a:cubicBezTo>
                <a:cubicBezTo>
                  <a:pt x="13737" y="11982"/>
                  <a:pt x="13792" y="12019"/>
                  <a:pt x="13843" y="12065"/>
                </a:cubicBezTo>
                <a:cubicBezTo>
                  <a:pt x="13875" y="12097"/>
                  <a:pt x="13885" y="12108"/>
                  <a:pt x="13906" y="12065"/>
                </a:cubicBezTo>
              </a:path>
              <a:path w="1683" h="1715">
                <a:moveTo>
                  <a:pt x="13780" y="11589"/>
                </a:moveTo>
                <a:cubicBezTo>
                  <a:pt x="13741" y="11639"/>
                  <a:pt x="13726" y="11693"/>
                  <a:pt x="13684" y="11748"/>
                </a:cubicBezTo>
                <a:cubicBezTo>
                  <a:pt x="13632" y="11816"/>
                  <a:pt x="13596" y="11891"/>
                  <a:pt x="13557" y="11970"/>
                </a:cubicBezTo>
                <a:cubicBezTo>
                  <a:pt x="13524" y="12036"/>
                  <a:pt x="13457" y="12099"/>
                  <a:pt x="13430" y="12160"/>
                </a:cubicBezTo>
                <a:cubicBezTo>
                  <a:pt x="13430" y="12171"/>
                  <a:pt x="13430" y="12181"/>
                  <a:pt x="13430" y="12192"/>
                </a:cubicBezTo>
              </a:path>
              <a:path w="1683" h="1715">
                <a:moveTo>
                  <a:pt x="13049" y="10827"/>
                </a:moveTo>
                <a:cubicBezTo>
                  <a:pt x="12985" y="10850"/>
                  <a:pt x="12894" y="10910"/>
                  <a:pt x="12827" y="10922"/>
                </a:cubicBezTo>
                <a:cubicBezTo>
                  <a:pt x="12694" y="10945"/>
                  <a:pt x="12586" y="10986"/>
                  <a:pt x="12446" y="10986"/>
                </a:cubicBezTo>
                <a:cubicBezTo>
                  <a:pt x="12365" y="10986"/>
                  <a:pt x="12323" y="10970"/>
                  <a:pt x="12256" y="10954"/>
                </a:cubicBezTo>
                <a:cubicBezTo>
                  <a:pt x="12245" y="10954"/>
                  <a:pt x="12235" y="10954"/>
                  <a:pt x="12224" y="10954"/>
                </a:cubicBezTo>
                <a:cubicBezTo>
                  <a:pt x="12295" y="11042"/>
                  <a:pt x="12287" y="11095"/>
                  <a:pt x="12287" y="11208"/>
                </a:cubicBezTo>
                <a:cubicBezTo>
                  <a:pt x="12287" y="11354"/>
                  <a:pt x="12292" y="11472"/>
                  <a:pt x="12287" y="11620"/>
                </a:cubicBezTo>
                <a:cubicBezTo>
                  <a:pt x="12282" y="11773"/>
                  <a:pt x="12262" y="11914"/>
                  <a:pt x="12256" y="12065"/>
                </a:cubicBezTo>
                <a:cubicBezTo>
                  <a:pt x="12252" y="12161"/>
                  <a:pt x="12272" y="12242"/>
                  <a:pt x="12287" y="12319"/>
                </a:cubicBezTo>
                <a:cubicBezTo>
                  <a:pt x="12305" y="12409"/>
                  <a:pt x="12239" y="12506"/>
                  <a:pt x="12351" y="12541"/>
                </a:cubicBezTo>
                <a:cubicBezTo>
                  <a:pt x="12428" y="12565"/>
                  <a:pt x="12505" y="12521"/>
                  <a:pt x="12573" y="12510"/>
                </a:cubicBezTo>
                <a:cubicBezTo>
                  <a:pt x="12688" y="12491"/>
                  <a:pt x="12811" y="12497"/>
                  <a:pt x="12922" y="12478"/>
                </a:cubicBezTo>
                <a:cubicBezTo>
                  <a:pt x="12993" y="12466"/>
                  <a:pt x="13025" y="12491"/>
                  <a:pt x="1308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5394240" y="3794040"/>
            <a:ext cx="1463760" cy="687600"/>
          </a:xfrm>
          <a:custGeom>
            <a:avLst/>
            <a:gdLst/>
            <a:ahLst/>
            <a:rect l="l" t="t" r="r" b="b"/>
            <a:pathLst>
              <a:path w="4065" h="1906">
                <a:moveTo>
                  <a:pt x="15145" y="11398"/>
                </a:moveTo>
                <a:cubicBezTo>
                  <a:pt x="15145" y="11499"/>
                  <a:pt x="15149" y="11568"/>
                  <a:pt x="15176" y="11652"/>
                </a:cubicBezTo>
                <a:cubicBezTo>
                  <a:pt x="15193" y="11703"/>
                  <a:pt x="15176" y="11787"/>
                  <a:pt x="15176" y="11843"/>
                </a:cubicBezTo>
              </a:path>
              <a:path w="4065" h="1906">
                <a:moveTo>
                  <a:pt x="14986" y="11620"/>
                </a:moveTo>
                <a:cubicBezTo>
                  <a:pt x="15042" y="11662"/>
                  <a:pt x="15070" y="11652"/>
                  <a:pt x="15145" y="11652"/>
                </a:cubicBezTo>
                <a:cubicBezTo>
                  <a:pt x="15226" y="11652"/>
                  <a:pt x="15304" y="11668"/>
                  <a:pt x="15367" y="11620"/>
                </a:cubicBezTo>
              </a:path>
              <a:path w="4065" h="1906">
                <a:moveTo>
                  <a:pt x="15938" y="11240"/>
                </a:moveTo>
                <a:cubicBezTo>
                  <a:pt x="15938" y="11358"/>
                  <a:pt x="15885" y="11878"/>
                  <a:pt x="15970" y="11906"/>
                </a:cubicBezTo>
              </a:path>
              <a:path w="4065" h="1906">
                <a:moveTo>
                  <a:pt x="16034" y="11430"/>
                </a:moveTo>
                <a:cubicBezTo>
                  <a:pt x="16068" y="11351"/>
                  <a:pt x="16069" y="11302"/>
                  <a:pt x="16161" y="11271"/>
                </a:cubicBezTo>
                <a:cubicBezTo>
                  <a:pt x="16226" y="11249"/>
                  <a:pt x="16368" y="11260"/>
                  <a:pt x="16415" y="11303"/>
                </a:cubicBezTo>
                <a:cubicBezTo>
                  <a:pt x="16500" y="11380"/>
                  <a:pt x="16468" y="11405"/>
                  <a:pt x="16446" y="11494"/>
                </a:cubicBezTo>
                <a:cubicBezTo>
                  <a:pt x="16421" y="11594"/>
                  <a:pt x="16378" y="11602"/>
                  <a:pt x="16320" y="11684"/>
                </a:cubicBezTo>
                <a:cubicBezTo>
                  <a:pt x="16306" y="11705"/>
                  <a:pt x="16249" y="11819"/>
                  <a:pt x="16256" y="11843"/>
                </a:cubicBezTo>
                <a:cubicBezTo>
                  <a:pt x="16282" y="11935"/>
                  <a:pt x="16341" y="11906"/>
                  <a:pt x="16415" y="11906"/>
                </a:cubicBezTo>
                <a:cubicBezTo>
                  <a:pt x="16477" y="11906"/>
                  <a:pt x="16553" y="11905"/>
                  <a:pt x="16605" y="11874"/>
                </a:cubicBezTo>
                <a:cubicBezTo>
                  <a:pt x="16645" y="11851"/>
                  <a:pt x="16663" y="11839"/>
                  <a:pt x="16700" y="11811"/>
                </a:cubicBezTo>
              </a:path>
              <a:path w="4065" h="1906">
                <a:moveTo>
                  <a:pt x="17050" y="11112"/>
                </a:moveTo>
                <a:cubicBezTo>
                  <a:pt x="17006" y="11171"/>
                  <a:pt x="17006" y="11200"/>
                  <a:pt x="16986" y="11271"/>
                </a:cubicBezTo>
                <a:cubicBezTo>
                  <a:pt x="16954" y="11388"/>
                  <a:pt x="16927" y="11498"/>
                  <a:pt x="16923" y="11620"/>
                </a:cubicBezTo>
                <a:cubicBezTo>
                  <a:pt x="16919" y="11731"/>
                  <a:pt x="16910" y="11837"/>
                  <a:pt x="16954" y="11938"/>
                </a:cubicBezTo>
                <a:cubicBezTo>
                  <a:pt x="16975" y="11987"/>
                  <a:pt x="17020" y="12111"/>
                  <a:pt x="17082" y="12128"/>
                </a:cubicBezTo>
                <a:cubicBezTo>
                  <a:pt x="17143" y="12145"/>
                  <a:pt x="17187" y="12119"/>
                  <a:pt x="17240" y="12097"/>
                </a:cubicBezTo>
              </a:path>
              <a:path w="4065" h="1906">
                <a:moveTo>
                  <a:pt x="17526" y="11335"/>
                </a:moveTo>
                <a:cubicBezTo>
                  <a:pt x="17464" y="11396"/>
                  <a:pt x="17408" y="11447"/>
                  <a:pt x="17367" y="11525"/>
                </a:cubicBezTo>
                <a:cubicBezTo>
                  <a:pt x="17317" y="11621"/>
                  <a:pt x="17326" y="11688"/>
                  <a:pt x="17336" y="11779"/>
                </a:cubicBezTo>
                <a:cubicBezTo>
                  <a:pt x="17342" y="11829"/>
                  <a:pt x="17365" y="11919"/>
                  <a:pt x="17431" y="11938"/>
                </a:cubicBezTo>
                <a:cubicBezTo>
                  <a:pt x="17530" y="11967"/>
                  <a:pt x="17553" y="11917"/>
                  <a:pt x="17621" y="11874"/>
                </a:cubicBezTo>
                <a:cubicBezTo>
                  <a:pt x="17692" y="11829"/>
                  <a:pt x="17733" y="11772"/>
                  <a:pt x="17748" y="11684"/>
                </a:cubicBezTo>
                <a:cubicBezTo>
                  <a:pt x="17759" y="11620"/>
                  <a:pt x="17722" y="11508"/>
                  <a:pt x="17685" y="11462"/>
                </a:cubicBezTo>
                <a:cubicBezTo>
                  <a:pt x="17656" y="11425"/>
                  <a:pt x="17599" y="11408"/>
                  <a:pt x="17558" y="11398"/>
                </a:cubicBezTo>
              </a:path>
              <a:path w="4065" h="1906">
                <a:moveTo>
                  <a:pt x="18002" y="11144"/>
                </a:moveTo>
                <a:cubicBezTo>
                  <a:pt x="18002" y="11212"/>
                  <a:pt x="18022" y="11238"/>
                  <a:pt x="18034" y="11303"/>
                </a:cubicBezTo>
                <a:cubicBezTo>
                  <a:pt x="18054" y="11417"/>
                  <a:pt x="18116" y="11453"/>
                  <a:pt x="18161" y="11557"/>
                </a:cubicBezTo>
                <a:cubicBezTo>
                  <a:pt x="18212" y="11673"/>
                  <a:pt x="18252" y="11766"/>
                  <a:pt x="18288" y="11874"/>
                </a:cubicBezTo>
                <a:cubicBezTo>
                  <a:pt x="18317" y="11959"/>
                  <a:pt x="18328" y="12042"/>
                  <a:pt x="18288" y="12128"/>
                </a:cubicBezTo>
                <a:cubicBezTo>
                  <a:pt x="18262" y="12184"/>
                  <a:pt x="18184" y="12218"/>
                  <a:pt x="18129" y="12224"/>
                </a:cubicBezTo>
                <a:cubicBezTo>
                  <a:pt x="18098" y="12224"/>
                  <a:pt x="18087" y="12224"/>
                  <a:pt x="18098" y="12192"/>
                </a:cubicBezTo>
              </a:path>
              <a:path w="4065" h="1906">
                <a:moveTo>
                  <a:pt x="18002" y="10541"/>
                </a:moveTo>
                <a:cubicBezTo>
                  <a:pt x="18046" y="10584"/>
                  <a:pt x="18130" y="10643"/>
                  <a:pt x="18193" y="10636"/>
                </a:cubicBezTo>
                <a:cubicBezTo>
                  <a:pt x="18311" y="10623"/>
                  <a:pt x="18440" y="10636"/>
                  <a:pt x="18574" y="10636"/>
                </a:cubicBezTo>
                <a:cubicBezTo>
                  <a:pt x="18673" y="10636"/>
                  <a:pt x="18746" y="10570"/>
                  <a:pt x="18828" y="10636"/>
                </a:cubicBezTo>
                <a:cubicBezTo>
                  <a:pt x="18867" y="10667"/>
                  <a:pt x="18856" y="10664"/>
                  <a:pt x="18860" y="10732"/>
                </a:cubicBezTo>
                <a:cubicBezTo>
                  <a:pt x="18865" y="10810"/>
                  <a:pt x="18872" y="10880"/>
                  <a:pt x="18891" y="10954"/>
                </a:cubicBezTo>
                <a:cubicBezTo>
                  <a:pt x="18919" y="11063"/>
                  <a:pt x="18972" y="11195"/>
                  <a:pt x="18986" y="11303"/>
                </a:cubicBezTo>
                <a:cubicBezTo>
                  <a:pt x="19006" y="11452"/>
                  <a:pt x="19018" y="11596"/>
                  <a:pt x="19018" y="11748"/>
                </a:cubicBezTo>
                <a:cubicBezTo>
                  <a:pt x="19018" y="11888"/>
                  <a:pt x="19050" y="12018"/>
                  <a:pt x="19050" y="12160"/>
                </a:cubicBezTo>
                <a:cubicBezTo>
                  <a:pt x="19050" y="12211"/>
                  <a:pt x="19076" y="12378"/>
                  <a:pt x="19018" y="12414"/>
                </a:cubicBezTo>
                <a:cubicBezTo>
                  <a:pt x="18971" y="12443"/>
                  <a:pt x="18914" y="12437"/>
                  <a:pt x="18860" y="12446"/>
                </a:cubicBezTo>
                <a:cubicBezTo>
                  <a:pt x="18720" y="12470"/>
                  <a:pt x="18558" y="12446"/>
                  <a:pt x="18415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3886200" y="478944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827" y="13303"/>
                </a:moveTo>
                <a:cubicBezTo>
                  <a:pt x="10816" y="13314"/>
                  <a:pt x="10806" y="13324"/>
                  <a:pt x="10795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336840" y="4675320"/>
            <a:ext cx="480960" cy="331560"/>
          </a:xfrm>
          <a:custGeom>
            <a:avLst/>
            <a:gdLst/>
            <a:ahLst/>
            <a:rect l="l" t="t" r="r" b="b"/>
            <a:pathLst>
              <a:path w="1334" h="921">
                <a:moveTo>
                  <a:pt x="9303" y="12986"/>
                </a:moveTo>
                <a:cubicBezTo>
                  <a:pt x="9303" y="13082"/>
                  <a:pt x="9286" y="13152"/>
                  <a:pt x="9271" y="13240"/>
                </a:cubicBezTo>
                <a:cubicBezTo>
                  <a:pt x="9246" y="13390"/>
                  <a:pt x="9239" y="13643"/>
                  <a:pt x="9303" y="13780"/>
                </a:cubicBezTo>
                <a:cubicBezTo>
                  <a:pt x="9334" y="13847"/>
                  <a:pt x="9396" y="13862"/>
                  <a:pt x="9462" y="13875"/>
                </a:cubicBezTo>
                <a:cubicBezTo>
                  <a:pt x="9571" y="13897"/>
                  <a:pt x="9680" y="13877"/>
                  <a:pt x="9779" y="13906"/>
                </a:cubicBezTo>
                <a:cubicBezTo>
                  <a:pt x="9814" y="13916"/>
                  <a:pt x="9869" y="13906"/>
                  <a:pt x="9906" y="13906"/>
                </a:cubicBezTo>
              </a:path>
              <a:path w="1334" h="921">
                <a:moveTo>
                  <a:pt x="10065" y="13748"/>
                </a:moveTo>
                <a:cubicBezTo>
                  <a:pt x="10079" y="13692"/>
                  <a:pt x="10122" y="13653"/>
                  <a:pt x="10128" y="13589"/>
                </a:cubicBezTo>
                <a:cubicBezTo>
                  <a:pt x="10128" y="13557"/>
                  <a:pt x="10128" y="13547"/>
                  <a:pt x="10128" y="13526"/>
                </a:cubicBezTo>
                <a:cubicBezTo>
                  <a:pt x="10049" y="13545"/>
                  <a:pt x="10014" y="13572"/>
                  <a:pt x="10001" y="13652"/>
                </a:cubicBezTo>
                <a:cubicBezTo>
                  <a:pt x="9991" y="13709"/>
                  <a:pt x="9990" y="13800"/>
                  <a:pt x="10033" y="13843"/>
                </a:cubicBezTo>
                <a:cubicBezTo>
                  <a:pt x="10047" y="13856"/>
                  <a:pt x="10131" y="13891"/>
                  <a:pt x="10160" y="13875"/>
                </a:cubicBezTo>
                <a:cubicBezTo>
                  <a:pt x="10209" y="13848"/>
                  <a:pt x="10244" y="13823"/>
                  <a:pt x="10287" y="13780"/>
                </a:cubicBezTo>
              </a:path>
              <a:path w="1334" h="921">
                <a:moveTo>
                  <a:pt x="10414" y="13303"/>
                </a:moveTo>
                <a:cubicBezTo>
                  <a:pt x="10372" y="13414"/>
                  <a:pt x="10389" y="13448"/>
                  <a:pt x="10414" y="13557"/>
                </a:cubicBezTo>
                <a:cubicBezTo>
                  <a:pt x="10430" y="13625"/>
                  <a:pt x="10417" y="13717"/>
                  <a:pt x="10446" y="13780"/>
                </a:cubicBezTo>
                <a:cubicBezTo>
                  <a:pt x="10462" y="13814"/>
                  <a:pt x="10486" y="13843"/>
                  <a:pt x="10509" y="13875"/>
                </a:cubicBezTo>
              </a:path>
              <a:path w="1334" h="921">
                <a:moveTo>
                  <a:pt x="10319" y="13621"/>
                </a:moveTo>
                <a:cubicBezTo>
                  <a:pt x="10394" y="13621"/>
                  <a:pt x="10451" y="13602"/>
                  <a:pt x="10509" y="13589"/>
                </a:cubicBezTo>
                <a:cubicBezTo>
                  <a:pt x="10567" y="13589"/>
                  <a:pt x="10583" y="13594"/>
                  <a:pt x="10604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3954600" y="4800600"/>
            <a:ext cx="114120" cy="195120"/>
          </a:xfrm>
          <a:custGeom>
            <a:avLst/>
            <a:gdLst/>
            <a:ahLst/>
            <a:rect l="l" t="t" r="r" b="b"/>
            <a:pathLst>
              <a:path w="318" h="541">
                <a:moveTo>
                  <a:pt x="11208" y="13335"/>
                </a:moveTo>
                <a:cubicBezTo>
                  <a:pt x="11195" y="13374"/>
                  <a:pt x="11146" y="13382"/>
                  <a:pt x="11112" y="13398"/>
                </a:cubicBezTo>
                <a:cubicBezTo>
                  <a:pt x="11049" y="13427"/>
                  <a:pt x="11012" y="13442"/>
                  <a:pt x="10986" y="13494"/>
                </a:cubicBezTo>
                <a:cubicBezTo>
                  <a:pt x="11043" y="13509"/>
                  <a:pt x="11075" y="13526"/>
                  <a:pt x="11144" y="13526"/>
                </a:cubicBezTo>
                <a:cubicBezTo>
                  <a:pt x="11200" y="13526"/>
                  <a:pt x="11233" y="13583"/>
                  <a:pt x="11271" y="13621"/>
                </a:cubicBezTo>
                <a:cubicBezTo>
                  <a:pt x="11318" y="13668"/>
                  <a:pt x="11303" y="13714"/>
                  <a:pt x="11303" y="13780"/>
                </a:cubicBezTo>
                <a:cubicBezTo>
                  <a:pt x="11303" y="13857"/>
                  <a:pt x="11237" y="13870"/>
                  <a:pt x="11176" y="13875"/>
                </a:cubicBezTo>
                <a:cubicBezTo>
                  <a:pt x="11107" y="13881"/>
                  <a:pt x="11076" y="13865"/>
                  <a:pt x="110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4354560" y="4697280"/>
            <a:ext cx="731880" cy="298440"/>
          </a:xfrm>
          <a:custGeom>
            <a:avLst/>
            <a:gdLst/>
            <a:ahLst/>
            <a:rect l="l" t="t" r="r" b="b"/>
            <a:pathLst>
              <a:path w="2033" h="827">
                <a:moveTo>
                  <a:pt x="12287" y="13303"/>
                </a:moveTo>
                <a:cubicBezTo>
                  <a:pt x="12318" y="13297"/>
                  <a:pt x="12457" y="13272"/>
                  <a:pt x="12382" y="13272"/>
                </a:cubicBezTo>
                <a:cubicBezTo>
                  <a:pt x="12332" y="13272"/>
                  <a:pt x="12235" y="13306"/>
                  <a:pt x="12192" y="13335"/>
                </a:cubicBezTo>
                <a:cubicBezTo>
                  <a:pt x="12152" y="13362"/>
                  <a:pt x="12136" y="13369"/>
                  <a:pt x="12097" y="13398"/>
                </a:cubicBezTo>
                <a:cubicBezTo>
                  <a:pt x="12117" y="13481"/>
                  <a:pt x="12155" y="13448"/>
                  <a:pt x="12224" y="13494"/>
                </a:cubicBezTo>
                <a:cubicBezTo>
                  <a:pt x="12304" y="13547"/>
                  <a:pt x="12369" y="13513"/>
                  <a:pt x="12446" y="13589"/>
                </a:cubicBezTo>
                <a:cubicBezTo>
                  <a:pt x="12499" y="13642"/>
                  <a:pt x="12540" y="13696"/>
                  <a:pt x="12446" y="13748"/>
                </a:cubicBezTo>
                <a:cubicBezTo>
                  <a:pt x="12424" y="13760"/>
                  <a:pt x="12300" y="13814"/>
                  <a:pt x="12287" y="13811"/>
                </a:cubicBezTo>
                <a:cubicBezTo>
                  <a:pt x="12277" y="13801"/>
                  <a:pt x="12266" y="13790"/>
                  <a:pt x="12256" y="13780"/>
                </a:cubicBezTo>
              </a:path>
              <a:path w="2033" h="827">
                <a:moveTo>
                  <a:pt x="12827" y="13272"/>
                </a:moveTo>
                <a:cubicBezTo>
                  <a:pt x="12766" y="13332"/>
                  <a:pt x="12737" y="13377"/>
                  <a:pt x="12700" y="13430"/>
                </a:cubicBezTo>
                <a:cubicBezTo>
                  <a:pt x="12634" y="13523"/>
                  <a:pt x="12582" y="13565"/>
                  <a:pt x="12573" y="13684"/>
                </a:cubicBezTo>
                <a:cubicBezTo>
                  <a:pt x="12569" y="13729"/>
                  <a:pt x="12582" y="13796"/>
                  <a:pt x="12636" y="13811"/>
                </a:cubicBezTo>
                <a:cubicBezTo>
                  <a:pt x="12698" y="13828"/>
                  <a:pt x="12781" y="13751"/>
                  <a:pt x="12827" y="13716"/>
                </a:cubicBezTo>
                <a:cubicBezTo>
                  <a:pt x="12880" y="13676"/>
                  <a:pt x="12918" y="13622"/>
                  <a:pt x="12922" y="13557"/>
                </a:cubicBezTo>
                <a:cubicBezTo>
                  <a:pt x="12927" y="13486"/>
                  <a:pt x="12879" y="13429"/>
                  <a:pt x="12859" y="13398"/>
                </a:cubicBezTo>
                <a:cubicBezTo>
                  <a:pt x="12817" y="13335"/>
                  <a:pt x="12804" y="13321"/>
                  <a:pt x="12732" y="13303"/>
                </a:cubicBezTo>
              </a:path>
              <a:path w="2033" h="827">
                <a:moveTo>
                  <a:pt x="13113" y="13049"/>
                </a:moveTo>
                <a:cubicBezTo>
                  <a:pt x="13102" y="13139"/>
                  <a:pt x="13081" y="13209"/>
                  <a:pt x="13081" y="13303"/>
                </a:cubicBezTo>
                <a:cubicBezTo>
                  <a:pt x="13081" y="13402"/>
                  <a:pt x="13049" y="13488"/>
                  <a:pt x="13049" y="13589"/>
                </a:cubicBezTo>
                <a:cubicBezTo>
                  <a:pt x="13049" y="13641"/>
                  <a:pt x="13039" y="13777"/>
                  <a:pt x="13081" y="13811"/>
                </a:cubicBezTo>
                <a:cubicBezTo>
                  <a:pt x="13092" y="13811"/>
                  <a:pt x="13102" y="13811"/>
                  <a:pt x="13113" y="13811"/>
                </a:cubicBezTo>
              </a:path>
              <a:path w="2033" h="827">
                <a:moveTo>
                  <a:pt x="13240" y="13430"/>
                </a:moveTo>
                <a:cubicBezTo>
                  <a:pt x="13277" y="13479"/>
                  <a:pt x="13272" y="13495"/>
                  <a:pt x="13272" y="13557"/>
                </a:cubicBezTo>
                <a:cubicBezTo>
                  <a:pt x="13272" y="13614"/>
                  <a:pt x="13300" y="13676"/>
                  <a:pt x="13335" y="13716"/>
                </a:cubicBezTo>
                <a:cubicBezTo>
                  <a:pt x="13369" y="13754"/>
                  <a:pt x="13417" y="13797"/>
                  <a:pt x="13462" y="13811"/>
                </a:cubicBezTo>
                <a:cubicBezTo>
                  <a:pt x="13494" y="13811"/>
                  <a:pt x="13505" y="13811"/>
                  <a:pt x="13526" y="13811"/>
                </a:cubicBezTo>
                <a:cubicBezTo>
                  <a:pt x="13526" y="13741"/>
                  <a:pt x="13511" y="13720"/>
                  <a:pt x="13494" y="13652"/>
                </a:cubicBezTo>
                <a:cubicBezTo>
                  <a:pt x="13480" y="13597"/>
                  <a:pt x="13476" y="13542"/>
                  <a:pt x="13462" y="13494"/>
                </a:cubicBezTo>
                <a:cubicBezTo>
                  <a:pt x="13453" y="13463"/>
                  <a:pt x="13493" y="13335"/>
                  <a:pt x="13494" y="13335"/>
                </a:cubicBezTo>
                <a:cubicBezTo>
                  <a:pt x="13505" y="13346"/>
                  <a:pt x="13515" y="13356"/>
                  <a:pt x="13526" y="13367"/>
                </a:cubicBezTo>
              </a:path>
              <a:path w="2033" h="827">
                <a:moveTo>
                  <a:pt x="13811" y="13684"/>
                </a:moveTo>
                <a:cubicBezTo>
                  <a:pt x="13870" y="13651"/>
                  <a:pt x="13930" y="13628"/>
                  <a:pt x="13938" y="13557"/>
                </a:cubicBezTo>
                <a:cubicBezTo>
                  <a:pt x="13945" y="13492"/>
                  <a:pt x="13943" y="13447"/>
                  <a:pt x="13906" y="13398"/>
                </a:cubicBezTo>
                <a:cubicBezTo>
                  <a:pt x="13844" y="13414"/>
                  <a:pt x="13802" y="13459"/>
                  <a:pt x="13780" y="13526"/>
                </a:cubicBezTo>
                <a:cubicBezTo>
                  <a:pt x="13750" y="13616"/>
                  <a:pt x="13765" y="13641"/>
                  <a:pt x="13780" y="13716"/>
                </a:cubicBezTo>
                <a:cubicBezTo>
                  <a:pt x="13793" y="13779"/>
                  <a:pt x="13802" y="13827"/>
                  <a:pt x="13875" y="13843"/>
                </a:cubicBezTo>
                <a:cubicBezTo>
                  <a:pt x="13888" y="13846"/>
                  <a:pt x="14033" y="13876"/>
                  <a:pt x="14034" y="13875"/>
                </a:cubicBezTo>
                <a:cubicBezTo>
                  <a:pt x="14084" y="13852"/>
                  <a:pt x="14069" y="13843"/>
                  <a:pt x="14129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3336840" y="5315040"/>
            <a:ext cx="1800" cy="12600"/>
          </a:xfrm>
          <a:custGeom>
            <a:avLst/>
            <a:gdLst/>
            <a:ahLst/>
            <a:rect l="l" t="t" r="r" b="b"/>
            <a:pathLst>
              <a:path w="1" h="33">
                <a:moveTo>
                  <a:pt x="9271" y="14796"/>
                </a:moveTo>
                <a:cubicBezTo>
                  <a:pt x="9271" y="14785"/>
                  <a:pt x="9271" y="14775"/>
                  <a:pt x="927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3817800" y="5154480"/>
            <a:ext cx="114480" cy="103320"/>
          </a:xfrm>
          <a:custGeom>
            <a:avLst/>
            <a:gdLst/>
            <a:ahLst/>
            <a:rect l="l" t="t" r="r" b="b"/>
            <a:pathLst>
              <a:path w="319" h="287">
                <a:moveTo>
                  <a:pt x="10604" y="14351"/>
                </a:moveTo>
                <a:cubicBezTo>
                  <a:pt x="10660" y="14318"/>
                  <a:pt x="10696" y="14319"/>
                  <a:pt x="10763" y="14319"/>
                </a:cubicBezTo>
                <a:cubicBezTo>
                  <a:pt x="10828" y="14319"/>
                  <a:pt x="10838" y="14333"/>
                  <a:pt x="10890" y="14351"/>
                </a:cubicBezTo>
                <a:cubicBezTo>
                  <a:pt x="10901" y="14351"/>
                  <a:pt x="10911" y="14351"/>
                  <a:pt x="10922" y="14351"/>
                </a:cubicBezTo>
              </a:path>
              <a:path w="319" h="287">
                <a:moveTo>
                  <a:pt x="10732" y="14573"/>
                </a:moveTo>
                <a:cubicBezTo>
                  <a:pt x="10806" y="14630"/>
                  <a:pt x="10788" y="14588"/>
                  <a:pt x="10858" y="14573"/>
                </a:cubicBezTo>
                <a:cubicBezTo>
                  <a:pt x="10879" y="14573"/>
                  <a:pt x="10901" y="14573"/>
                  <a:pt x="10922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2182680" y="5132520"/>
            <a:ext cx="1086120" cy="307800"/>
          </a:xfrm>
          <a:custGeom>
            <a:avLst/>
            <a:gdLst/>
            <a:ahLst/>
            <a:rect l="l" t="t" r="r" b="b"/>
            <a:pathLst>
              <a:path w="3017" h="858">
                <a:moveTo>
                  <a:pt x="6064" y="14732"/>
                </a:moveTo>
                <a:cubicBezTo>
                  <a:pt x="6137" y="14753"/>
                  <a:pt x="6172" y="14760"/>
                  <a:pt x="6255" y="14764"/>
                </a:cubicBezTo>
                <a:cubicBezTo>
                  <a:pt x="6322" y="14767"/>
                  <a:pt x="6457" y="14718"/>
                  <a:pt x="6509" y="14732"/>
                </a:cubicBezTo>
                <a:cubicBezTo>
                  <a:pt x="6577" y="14750"/>
                  <a:pt x="6597" y="14764"/>
                  <a:pt x="6668" y="14764"/>
                </a:cubicBezTo>
                <a:cubicBezTo>
                  <a:pt x="6678" y="14764"/>
                  <a:pt x="6689" y="14764"/>
                  <a:pt x="6699" y="14764"/>
                </a:cubicBezTo>
              </a:path>
              <a:path w="3017" h="858">
                <a:moveTo>
                  <a:pt x="7302" y="14414"/>
                </a:moveTo>
                <a:cubicBezTo>
                  <a:pt x="7302" y="14349"/>
                  <a:pt x="7306" y="14319"/>
                  <a:pt x="7271" y="14288"/>
                </a:cubicBezTo>
                <a:cubicBezTo>
                  <a:pt x="7215" y="14239"/>
                  <a:pt x="7155" y="14256"/>
                  <a:pt x="7080" y="14256"/>
                </a:cubicBezTo>
                <a:cubicBezTo>
                  <a:pt x="7026" y="14256"/>
                  <a:pt x="6990" y="14314"/>
                  <a:pt x="6953" y="14351"/>
                </a:cubicBezTo>
                <a:cubicBezTo>
                  <a:pt x="6907" y="14398"/>
                  <a:pt x="6912" y="14431"/>
                  <a:pt x="6953" y="14478"/>
                </a:cubicBezTo>
                <a:cubicBezTo>
                  <a:pt x="7003" y="14535"/>
                  <a:pt x="7086" y="14516"/>
                  <a:pt x="7144" y="14478"/>
                </a:cubicBezTo>
                <a:cubicBezTo>
                  <a:pt x="7190" y="14447"/>
                  <a:pt x="7200" y="14311"/>
                  <a:pt x="7239" y="14351"/>
                </a:cubicBezTo>
                <a:cubicBezTo>
                  <a:pt x="7260" y="14373"/>
                  <a:pt x="7266" y="14663"/>
                  <a:pt x="7271" y="14700"/>
                </a:cubicBezTo>
                <a:cubicBezTo>
                  <a:pt x="7285" y="14797"/>
                  <a:pt x="7302" y="14886"/>
                  <a:pt x="7302" y="14986"/>
                </a:cubicBezTo>
                <a:cubicBezTo>
                  <a:pt x="7302" y="15048"/>
                  <a:pt x="7304" y="15064"/>
                  <a:pt x="7334" y="15113"/>
                </a:cubicBezTo>
              </a:path>
              <a:path w="3017" h="858">
                <a:moveTo>
                  <a:pt x="7461" y="14383"/>
                </a:moveTo>
                <a:cubicBezTo>
                  <a:pt x="7416" y="14443"/>
                  <a:pt x="7417" y="14500"/>
                  <a:pt x="7398" y="14573"/>
                </a:cubicBezTo>
                <a:cubicBezTo>
                  <a:pt x="7365" y="14700"/>
                  <a:pt x="7409" y="14721"/>
                  <a:pt x="7430" y="14827"/>
                </a:cubicBezTo>
                <a:cubicBezTo>
                  <a:pt x="7444" y="14895"/>
                  <a:pt x="7475" y="14948"/>
                  <a:pt x="7556" y="14954"/>
                </a:cubicBezTo>
                <a:cubicBezTo>
                  <a:pt x="7606" y="14958"/>
                  <a:pt x="7698" y="14919"/>
                  <a:pt x="7715" y="14859"/>
                </a:cubicBezTo>
                <a:cubicBezTo>
                  <a:pt x="7745" y="14754"/>
                  <a:pt x="7732" y="14705"/>
                  <a:pt x="7715" y="14605"/>
                </a:cubicBezTo>
                <a:cubicBezTo>
                  <a:pt x="7700" y="14514"/>
                  <a:pt x="7680" y="14436"/>
                  <a:pt x="7588" y="14383"/>
                </a:cubicBezTo>
                <a:cubicBezTo>
                  <a:pt x="7562" y="14368"/>
                  <a:pt x="7524" y="14359"/>
                  <a:pt x="7493" y="14351"/>
                </a:cubicBezTo>
              </a:path>
              <a:path w="3017" h="858">
                <a:moveTo>
                  <a:pt x="7810" y="14319"/>
                </a:moveTo>
                <a:cubicBezTo>
                  <a:pt x="7878" y="14266"/>
                  <a:pt x="7915" y="14256"/>
                  <a:pt x="8001" y="14256"/>
                </a:cubicBezTo>
                <a:cubicBezTo>
                  <a:pt x="8066" y="14256"/>
                  <a:pt x="8108" y="14247"/>
                  <a:pt x="8160" y="14288"/>
                </a:cubicBezTo>
                <a:cubicBezTo>
                  <a:pt x="8207" y="14325"/>
                  <a:pt x="8280" y="14377"/>
                  <a:pt x="8255" y="14446"/>
                </a:cubicBezTo>
                <a:cubicBezTo>
                  <a:pt x="8238" y="14492"/>
                  <a:pt x="8177" y="14583"/>
                  <a:pt x="8128" y="14605"/>
                </a:cubicBezTo>
                <a:cubicBezTo>
                  <a:pt x="8051" y="14639"/>
                  <a:pt x="8052" y="14610"/>
                  <a:pt x="8128" y="14605"/>
                </a:cubicBezTo>
                <a:cubicBezTo>
                  <a:pt x="8209" y="14599"/>
                  <a:pt x="8266" y="14566"/>
                  <a:pt x="8350" y="14605"/>
                </a:cubicBezTo>
                <a:cubicBezTo>
                  <a:pt x="8401" y="14629"/>
                  <a:pt x="8473" y="14672"/>
                  <a:pt x="8477" y="14732"/>
                </a:cubicBezTo>
                <a:cubicBezTo>
                  <a:pt x="8482" y="14800"/>
                  <a:pt x="8485" y="14864"/>
                  <a:pt x="8446" y="14922"/>
                </a:cubicBezTo>
                <a:cubicBezTo>
                  <a:pt x="8405" y="14984"/>
                  <a:pt x="8319" y="15013"/>
                  <a:pt x="8255" y="15018"/>
                </a:cubicBezTo>
                <a:cubicBezTo>
                  <a:pt x="8181" y="15024"/>
                  <a:pt x="8204" y="14992"/>
                  <a:pt x="8223" y="14954"/>
                </a:cubicBezTo>
              </a:path>
              <a:path w="3017" h="858">
                <a:moveTo>
                  <a:pt x="8763" y="14256"/>
                </a:moveTo>
                <a:cubicBezTo>
                  <a:pt x="8748" y="14316"/>
                  <a:pt x="8749" y="14381"/>
                  <a:pt x="8731" y="14446"/>
                </a:cubicBezTo>
                <a:cubicBezTo>
                  <a:pt x="8702" y="14552"/>
                  <a:pt x="8639" y="14609"/>
                  <a:pt x="8668" y="14732"/>
                </a:cubicBezTo>
                <a:cubicBezTo>
                  <a:pt x="8683" y="14794"/>
                  <a:pt x="8754" y="14876"/>
                  <a:pt x="8795" y="14922"/>
                </a:cubicBezTo>
                <a:cubicBezTo>
                  <a:pt x="8827" y="14957"/>
                  <a:pt x="8907" y="14978"/>
                  <a:pt x="8954" y="14954"/>
                </a:cubicBezTo>
                <a:cubicBezTo>
                  <a:pt x="9006" y="14927"/>
                  <a:pt x="9025" y="14863"/>
                  <a:pt x="9049" y="14827"/>
                </a:cubicBezTo>
                <a:cubicBezTo>
                  <a:pt x="9091" y="14763"/>
                  <a:pt x="9093" y="14728"/>
                  <a:pt x="9049" y="14668"/>
                </a:cubicBezTo>
                <a:cubicBezTo>
                  <a:pt x="9001" y="14680"/>
                  <a:pt x="8961" y="14697"/>
                  <a:pt x="8922" y="14732"/>
                </a:cubicBezTo>
                <a:cubicBezTo>
                  <a:pt x="8861" y="14787"/>
                  <a:pt x="8858" y="14810"/>
                  <a:pt x="8858" y="14891"/>
                </a:cubicBezTo>
                <a:cubicBezTo>
                  <a:pt x="8858" y="14975"/>
                  <a:pt x="8874" y="14952"/>
                  <a:pt x="8954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3440160" y="5121360"/>
            <a:ext cx="183960" cy="285840"/>
          </a:xfrm>
          <a:custGeom>
            <a:avLst/>
            <a:gdLst/>
            <a:ahLst/>
            <a:rect l="l" t="t" r="r" b="b"/>
            <a:pathLst>
              <a:path w="509" h="795">
                <a:moveTo>
                  <a:pt x="9620" y="14256"/>
                </a:moveTo>
                <a:cubicBezTo>
                  <a:pt x="9620" y="14171"/>
                  <a:pt x="9592" y="14338"/>
                  <a:pt x="9588" y="14351"/>
                </a:cubicBezTo>
                <a:cubicBezTo>
                  <a:pt x="9558" y="14436"/>
                  <a:pt x="9533" y="14544"/>
                  <a:pt x="9557" y="14637"/>
                </a:cubicBezTo>
                <a:cubicBezTo>
                  <a:pt x="9581" y="14731"/>
                  <a:pt x="9591" y="14811"/>
                  <a:pt x="9652" y="14891"/>
                </a:cubicBezTo>
                <a:cubicBezTo>
                  <a:pt x="9711" y="14968"/>
                  <a:pt x="9711" y="14986"/>
                  <a:pt x="9811" y="14986"/>
                </a:cubicBezTo>
                <a:cubicBezTo>
                  <a:pt x="9871" y="14986"/>
                  <a:pt x="9937" y="14942"/>
                  <a:pt x="9970" y="14891"/>
                </a:cubicBezTo>
                <a:cubicBezTo>
                  <a:pt x="10020" y="14812"/>
                  <a:pt x="10006" y="14779"/>
                  <a:pt x="10033" y="14700"/>
                </a:cubicBezTo>
                <a:cubicBezTo>
                  <a:pt x="10061" y="14645"/>
                  <a:pt x="10078" y="14630"/>
                  <a:pt x="10033" y="14605"/>
                </a:cubicBezTo>
                <a:cubicBezTo>
                  <a:pt x="9968" y="14579"/>
                  <a:pt x="9905" y="14583"/>
                  <a:pt x="9874" y="14668"/>
                </a:cubicBezTo>
                <a:cubicBezTo>
                  <a:pt x="9851" y="14731"/>
                  <a:pt x="9781" y="14847"/>
                  <a:pt x="9811" y="14922"/>
                </a:cubicBezTo>
                <a:cubicBezTo>
                  <a:pt x="9829" y="14967"/>
                  <a:pt x="9854" y="15014"/>
                  <a:pt x="9906" y="15018"/>
                </a:cubicBezTo>
                <a:cubicBezTo>
                  <a:pt x="9927" y="15018"/>
                  <a:pt x="9949" y="15018"/>
                  <a:pt x="9970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Ink 2"/>
          <p:cNvSpPr/>
          <p:nvPr/>
        </p:nvSpPr>
        <p:spPr>
          <a:xfrm>
            <a:off x="1589040" y="1360440"/>
            <a:ext cx="297000" cy="389160"/>
          </a:xfrm>
          <a:custGeom>
            <a:avLst/>
            <a:gdLst/>
            <a:ahLst/>
            <a:rect l="l" t="t" r="r" b="b"/>
            <a:pathLst>
              <a:path w="827" h="1081">
                <a:moveTo>
                  <a:pt x="4445" y="3810"/>
                </a:moveTo>
                <a:cubicBezTo>
                  <a:pt x="4432" y="3860"/>
                  <a:pt x="4392" y="3907"/>
                  <a:pt x="4413" y="3969"/>
                </a:cubicBezTo>
                <a:cubicBezTo>
                  <a:pt x="4446" y="4065"/>
                  <a:pt x="4450" y="4158"/>
                  <a:pt x="4477" y="4254"/>
                </a:cubicBezTo>
                <a:cubicBezTo>
                  <a:pt x="4509" y="4369"/>
                  <a:pt x="4534" y="4482"/>
                  <a:pt x="4540" y="4604"/>
                </a:cubicBezTo>
                <a:cubicBezTo>
                  <a:pt x="4544" y="4688"/>
                  <a:pt x="4564" y="4755"/>
                  <a:pt x="4572" y="4826"/>
                </a:cubicBezTo>
                <a:cubicBezTo>
                  <a:pt x="4572" y="4837"/>
                  <a:pt x="4572" y="4847"/>
                  <a:pt x="4572" y="4858"/>
                </a:cubicBezTo>
              </a:path>
              <a:path w="827" h="1081">
                <a:moveTo>
                  <a:pt x="4826" y="3778"/>
                </a:moveTo>
                <a:cubicBezTo>
                  <a:pt x="4802" y="3861"/>
                  <a:pt x="4826" y="3900"/>
                  <a:pt x="4826" y="4000"/>
                </a:cubicBezTo>
                <a:cubicBezTo>
                  <a:pt x="4826" y="4118"/>
                  <a:pt x="4858" y="4228"/>
                  <a:pt x="4858" y="4350"/>
                </a:cubicBezTo>
                <a:cubicBezTo>
                  <a:pt x="4858" y="4467"/>
                  <a:pt x="4865" y="4558"/>
                  <a:pt x="4890" y="4667"/>
                </a:cubicBezTo>
                <a:cubicBezTo>
                  <a:pt x="4901" y="4713"/>
                  <a:pt x="4916" y="4751"/>
                  <a:pt x="4921" y="4794"/>
                </a:cubicBezTo>
                <a:cubicBezTo>
                  <a:pt x="4921" y="4805"/>
                  <a:pt x="4921" y="4815"/>
                  <a:pt x="4921" y="4826"/>
                </a:cubicBezTo>
              </a:path>
              <a:path w="827" h="1081">
                <a:moveTo>
                  <a:pt x="5239" y="4699"/>
                </a:moveTo>
                <a:cubicBezTo>
                  <a:pt x="5210" y="4742"/>
                  <a:pt x="5171" y="4695"/>
                  <a:pt x="5207" y="4731"/>
                </a:cubicBezTo>
                <a:cubicBezTo>
                  <a:pt x="5218" y="4731"/>
                  <a:pt x="5228" y="4731"/>
                  <a:pt x="5239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Ink 3"/>
          <p:cNvSpPr/>
          <p:nvPr/>
        </p:nvSpPr>
        <p:spPr>
          <a:xfrm>
            <a:off x="2092320" y="1314360"/>
            <a:ext cx="1004760" cy="514440"/>
          </a:xfrm>
          <a:custGeom>
            <a:avLst/>
            <a:gdLst/>
            <a:ahLst/>
            <a:rect l="l" t="t" r="r" b="b"/>
            <a:pathLst>
              <a:path w="2795" h="1430">
                <a:moveTo>
                  <a:pt x="7048" y="3905"/>
                </a:moveTo>
                <a:cubicBezTo>
                  <a:pt x="7007" y="3891"/>
                  <a:pt x="7013" y="3839"/>
                  <a:pt x="7048" y="3810"/>
                </a:cubicBezTo>
                <a:cubicBezTo>
                  <a:pt x="7116" y="3754"/>
                  <a:pt x="7200" y="3740"/>
                  <a:pt x="7271" y="3715"/>
                </a:cubicBezTo>
                <a:cubicBezTo>
                  <a:pt x="7353" y="3686"/>
                  <a:pt x="7428" y="3656"/>
                  <a:pt x="7493" y="3746"/>
                </a:cubicBezTo>
                <a:cubicBezTo>
                  <a:pt x="7551" y="3827"/>
                  <a:pt x="7556" y="3871"/>
                  <a:pt x="7556" y="3969"/>
                </a:cubicBezTo>
                <a:cubicBezTo>
                  <a:pt x="7556" y="4070"/>
                  <a:pt x="7510" y="4188"/>
                  <a:pt x="7430" y="4254"/>
                </a:cubicBezTo>
                <a:cubicBezTo>
                  <a:pt x="7372" y="4301"/>
                  <a:pt x="7312" y="4384"/>
                  <a:pt x="7239" y="4413"/>
                </a:cubicBezTo>
                <a:cubicBezTo>
                  <a:pt x="7228" y="4413"/>
                  <a:pt x="7218" y="4413"/>
                  <a:pt x="7207" y="4413"/>
                </a:cubicBezTo>
                <a:cubicBezTo>
                  <a:pt x="7159" y="4348"/>
                  <a:pt x="7183" y="4342"/>
                  <a:pt x="7239" y="4286"/>
                </a:cubicBezTo>
                <a:cubicBezTo>
                  <a:pt x="7280" y="4245"/>
                  <a:pt x="7368" y="4210"/>
                  <a:pt x="7430" y="4223"/>
                </a:cubicBezTo>
                <a:cubicBezTo>
                  <a:pt x="7559" y="4251"/>
                  <a:pt x="7582" y="4277"/>
                  <a:pt x="7684" y="4350"/>
                </a:cubicBezTo>
                <a:cubicBezTo>
                  <a:pt x="7766" y="4409"/>
                  <a:pt x="7793" y="4469"/>
                  <a:pt x="7810" y="4572"/>
                </a:cubicBezTo>
                <a:cubicBezTo>
                  <a:pt x="7819" y="4627"/>
                  <a:pt x="7756" y="4756"/>
                  <a:pt x="7715" y="4794"/>
                </a:cubicBezTo>
                <a:cubicBezTo>
                  <a:pt x="7634" y="4869"/>
                  <a:pt x="7556" y="4889"/>
                  <a:pt x="7461" y="4921"/>
                </a:cubicBezTo>
                <a:cubicBezTo>
                  <a:pt x="7423" y="4934"/>
                  <a:pt x="7293" y="4981"/>
                  <a:pt x="7271" y="4921"/>
                </a:cubicBezTo>
                <a:cubicBezTo>
                  <a:pt x="7271" y="4868"/>
                  <a:pt x="7271" y="4858"/>
                  <a:pt x="7271" y="4826"/>
                </a:cubicBezTo>
              </a:path>
              <a:path w="2795" h="1430">
                <a:moveTo>
                  <a:pt x="8033" y="3842"/>
                </a:moveTo>
                <a:cubicBezTo>
                  <a:pt x="8033" y="3956"/>
                  <a:pt x="8047" y="4053"/>
                  <a:pt x="8064" y="4159"/>
                </a:cubicBezTo>
                <a:cubicBezTo>
                  <a:pt x="8078" y="4248"/>
                  <a:pt x="8096" y="4312"/>
                  <a:pt x="8160" y="4382"/>
                </a:cubicBezTo>
                <a:cubicBezTo>
                  <a:pt x="8192" y="4417"/>
                  <a:pt x="8300" y="4497"/>
                  <a:pt x="8350" y="4477"/>
                </a:cubicBezTo>
                <a:cubicBezTo>
                  <a:pt x="8412" y="4452"/>
                  <a:pt x="8455" y="4403"/>
                  <a:pt x="8477" y="4350"/>
                </a:cubicBezTo>
                <a:cubicBezTo>
                  <a:pt x="8515" y="4261"/>
                  <a:pt x="8541" y="4224"/>
                  <a:pt x="8541" y="4128"/>
                </a:cubicBezTo>
              </a:path>
              <a:path w="2795" h="1430">
                <a:moveTo>
                  <a:pt x="8509" y="3746"/>
                </a:moveTo>
                <a:cubicBezTo>
                  <a:pt x="8509" y="3929"/>
                  <a:pt x="8464" y="4147"/>
                  <a:pt x="8477" y="4318"/>
                </a:cubicBezTo>
                <a:cubicBezTo>
                  <a:pt x="8485" y="4424"/>
                  <a:pt x="8483" y="4592"/>
                  <a:pt x="8509" y="4699"/>
                </a:cubicBezTo>
                <a:cubicBezTo>
                  <a:pt x="8522" y="4753"/>
                  <a:pt x="8544" y="4848"/>
                  <a:pt x="8572" y="4890"/>
                </a:cubicBezTo>
                <a:cubicBezTo>
                  <a:pt x="8583" y="4900"/>
                  <a:pt x="8593" y="4911"/>
                  <a:pt x="8604" y="4921"/>
                </a:cubicBezTo>
              </a:path>
              <a:path w="2795" h="1430">
                <a:moveTo>
                  <a:pt x="6414" y="4032"/>
                </a:moveTo>
                <a:cubicBezTo>
                  <a:pt x="6403" y="4043"/>
                  <a:pt x="6393" y="4053"/>
                  <a:pt x="6382" y="4064"/>
                </a:cubicBezTo>
                <a:cubicBezTo>
                  <a:pt x="6437" y="4137"/>
                  <a:pt x="6420" y="4198"/>
                  <a:pt x="6445" y="4286"/>
                </a:cubicBezTo>
                <a:cubicBezTo>
                  <a:pt x="6474" y="4389"/>
                  <a:pt x="6503" y="4494"/>
                  <a:pt x="6509" y="4604"/>
                </a:cubicBezTo>
                <a:cubicBezTo>
                  <a:pt x="6511" y="4632"/>
                  <a:pt x="6509" y="4836"/>
                  <a:pt x="6509" y="4762"/>
                </a:cubicBezTo>
                <a:cubicBezTo>
                  <a:pt x="6509" y="4741"/>
                  <a:pt x="6509" y="4720"/>
                  <a:pt x="6509" y="4699"/>
                </a:cubicBezTo>
              </a:path>
              <a:path w="2795" h="1430">
                <a:moveTo>
                  <a:pt x="6223" y="4477"/>
                </a:moveTo>
                <a:cubicBezTo>
                  <a:pt x="6188" y="4442"/>
                  <a:pt x="6343" y="4436"/>
                  <a:pt x="6414" y="4413"/>
                </a:cubicBezTo>
                <a:cubicBezTo>
                  <a:pt x="6514" y="4380"/>
                  <a:pt x="6632" y="4366"/>
                  <a:pt x="6731" y="4350"/>
                </a:cubicBezTo>
                <a:cubicBezTo>
                  <a:pt x="6798" y="4339"/>
                  <a:pt x="6840" y="4340"/>
                  <a:pt x="6858" y="4286"/>
                </a:cubicBezTo>
              </a:path>
              <a:path w="2795" h="1430">
                <a:moveTo>
                  <a:pt x="6699" y="3746"/>
                </a:moveTo>
                <a:cubicBezTo>
                  <a:pt x="6641" y="3700"/>
                  <a:pt x="6594" y="3708"/>
                  <a:pt x="6540" y="3683"/>
                </a:cubicBezTo>
                <a:cubicBezTo>
                  <a:pt x="6484" y="3657"/>
                  <a:pt x="6411" y="3644"/>
                  <a:pt x="6350" y="3683"/>
                </a:cubicBezTo>
                <a:cubicBezTo>
                  <a:pt x="6266" y="3737"/>
                  <a:pt x="6130" y="3833"/>
                  <a:pt x="6064" y="3905"/>
                </a:cubicBezTo>
                <a:cubicBezTo>
                  <a:pt x="5981" y="3996"/>
                  <a:pt x="5916" y="4141"/>
                  <a:pt x="5874" y="4254"/>
                </a:cubicBezTo>
                <a:cubicBezTo>
                  <a:pt x="5830" y="4372"/>
                  <a:pt x="5781" y="4508"/>
                  <a:pt x="5810" y="4636"/>
                </a:cubicBezTo>
                <a:cubicBezTo>
                  <a:pt x="5836" y="4751"/>
                  <a:pt x="5908" y="4829"/>
                  <a:pt x="5969" y="4921"/>
                </a:cubicBezTo>
                <a:cubicBezTo>
                  <a:pt x="6027" y="5009"/>
                  <a:pt x="6112" y="5059"/>
                  <a:pt x="6223" y="5080"/>
                </a:cubicBezTo>
                <a:cubicBezTo>
                  <a:pt x="6327" y="5100"/>
                  <a:pt x="6473" y="5070"/>
                  <a:pt x="6572" y="5048"/>
                </a:cubicBezTo>
                <a:cubicBezTo>
                  <a:pt x="6661" y="5028"/>
                  <a:pt x="6815" y="4945"/>
                  <a:pt x="6890" y="4890"/>
                </a:cubicBezTo>
                <a:cubicBezTo>
                  <a:pt x="6985" y="4820"/>
                  <a:pt x="7005" y="4705"/>
                  <a:pt x="7048" y="4604"/>
                </a:cubicBezTo>
                <a:cubicBezTo>
                  <a:pt x="7084" y="4520"/>
                  <a:pt x="7100" y="4412"/>
                  <a:pt x="7080" y="4318"/>
                </a:cubicBezTo>
                <a:cubicBezTo>
                  <a:pt x="7058" y="4214"/>
                  <a:pt x="7042" y="4101"/>
                  <a:pt x="7017" y="4000"/>
                </a:cubicBezTo>
                <a:cubicBezTo>
                  <a:pt x="6987" y="3879"/>
                  <a:pt x="6909" y="3819"/>
                  <a:pt x="6826" y="3746"/>
                </a:cubicBezTo>
                <a:cubicBezTo>
                  <a:pt x="6741" y="3671"/>
                  <a:pt x="6714" y="3683"/>
                  <a:pt x="660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Ink 4"/>
          <p:cNvSpPr/>
          <p:nvPr/>
        </p:nvSpPr>
        <p:spPr>
          <a:xfrm>
            <a:off x="3543480" y="1336680"/>
            <a:ext cx="560160" cy="560520"/>
          </a:xfrm>
          <a:custGeom>
            <a:avLst/>
            <a:gdLst/>
            <a:ahLst/>
            <a:rect l="l" t="t" r="r" b="b"/>
            <a:pathLst>
              <a:path w="1557" h="1556">
                <a:moveTo>
                  <a:pt x="9938" y="3715"/>
                </a:moveTo>
                <a:cubicBezTo>
                  <a:pt x="9954" y="3794"/>
                  <a:pt x="9970" y="3852"/>
                  <a:pt x="9970" y="3937"/>
                </a:cubicBezTo>
                <a:cubicBezTo>
                  <a:pt x="9970" y="4033"/>
                  <a:pt x="9970" y="4526"/>
                  <a:pt x="9970" y="4413"/>
                </a:cubicBezTo>
              </a:path>
              <a:path w="1557" h="1556">
                <a:moveTo>
                  <a:pt x="10319" y="3874"/>
                </a:moveTo>
                <a:cubicBezTo>
                  <a:pt x="10245" y="3920"/>
                  <a:pt x="10190" y="3970"/>
                  <a:pt x="10128" y="4032"/>
                </a:cubicBezTo>
                <a:cubicBezTo>
                  <a:pt x="10092" y="4068"/>
                  <a:pt x="10048" y="4115"/>
                  <a:pt x="10033" y="4159"/>
                </a:cubicBezTo>
                <a:cubicBezTo>
                  <a:pt x="10019" y="4201"/>
                  <a:pt x="10098" y="4248"/>
                  <a:pt x="10128" y="4254"/>
                </a:cubicBezTo>
                <a:cubicBezTo>
                  <a:pt x="10195" y="4268"/>
                  <a:pt x="10259" y="4306"/>
                  <a:pt x="10319" y="4318"/>
                </a:cubicBezTo>
                <a:cubicBezTo>
                  <a:pt x="10431" y="4341"/>
                  <a:pt x="10336" y="4356"/>
                  <a:pt x="10414" y="4382"/>
                </a:cubicBezTo>
              </a:path>
              <a:path w="1557" h="1556">
                <a:moveTo>
                  <a:pt x="10636" y="3778"/>
                </a:moveTo>
                <a:cubicBezTo>
                  <a:pt x="10676" y="3845"/>
                  <a:pt x="10675" y="3898"/>
                  <a:pt x="10700" y="3969"/>
                </a:cubicBezTo>
                <a:cubicBezTo>
                  <a:pt x="10732" y="4059"/>
                  <a:pt x="10732" y="4125"/>
                  <a:pt x="10732" y="4223"/>
                </a:cubicBezTo>
                <a:cubicBezTo>
                  <a:pt x="10732" y="4312"/>
                  <a:pt x="10664" y="4299"/>
                  <a:pt x="10636" y="4223"/>
                </a:cubicBezTo>
                <a:cubicBezTo>
                  <a:pt x="10636" y="4212"/>
                  <a:pt x="10636" y="4202"/>
                  <a:pt x="10636" y="4191"/>
                </a:cubicBezTo>
              </a:path>
              <a:path w="1557" h="1556">
                <a:moveTo>
                  <a:pt x="10414" y="3905"/>
                </a:moveTo>
                <a:cubicBezTo>
                  <a:pt x="10459" y="3861"/>
                  <a:pt x="10490" y="3832"/>
                  <a:pt x="10541" y="3810"/>
                </a:cubicBezTo>
                <a:cubicBezTo>
                  <a:pt x="10648" y="3763"/>
                  <a:pt x="10741" y="3731"/>
                  <a:pt x="10858" y="3715"/>
                </a:cubicBezTo>
                <a:cubicBezTo>
                  <a:pt x="10921" y="3707"/>
                  <a:pt x="11137" y="3689"/>
                  <a:pt x="11144" y="3746"/>
                </a:cubicBezTo>
                <a:cubicBezTo>
                  <a:pt x="11144" y="3778"/>
                  <a:pt x="11144" y="3789"/>
                  <a:pt x="11144" y="3810"/>
                </a:cubicBezTo>
              </a:path>
              <a:path w="1557" h="1556">
                <a:moveTo>
                  <a:pt x="9842" y="4667"/>
                </a:moveTo>
                <a:cubicBezTo>
                  <a:pt x="9935" y="4615"/>
                  <a:pt x="9991" y="4605"/>
                  <a:pt x="10096" y="4572"/>
                </a:cubicBezTo>
                <a:cubicBezTo>
                  <a:pt x="10224" y="4532"/>
                  <a:pt x="10377" y="4523"/>
                  <a:pt x="10509" y="4508"/>
                </a:cubicBezTo>
                <a:cubicBezTo>
                  <a:pt x="10607" y="4497"/>
                  <a:pt x="10782" y="4481"/>
                  <a:pt x="10858" y="4540"/>
                </a:cubicBezTo>
              </a:path>
              <a:path w="1557" h="1556">
                <a:moveTo>
                  <a:pt x="10319" y="4858"/>
                </a:moveTo>
                <a:cubicBezTo>
                  <a:pt x="10319" y="4937"/>
                  <a:pt x="10346" y="4974"/>
                  <a:pt x="10350" y="5048"/>
                </a:cubicBezTo>
                <a:cubicBezTo>
                  <a:pt x="10355" y="5130"/>
                  <a:pt x="10382" y="5186"/>
                  <a:pt x="10382" y="5270"/>
                </a:cubicBezTo>
                <a:cubicBezTo>
                  <a:pt x="10382" y="5175"/>
                  <a:pt x="10366" y="5094"/>
                  <a:pt x="10350" y="5016"/>
                </a:cubicBezTo>
                <a:cubicBezTo>
                  <a:pt x="10350" y="4995"/>
                  <a:pt x="10350" y="4974"/>
                  <a:pt x="10350" y="4953"/>
                </a:cubicBezTo>
                <a:cubicBezTo>
                  <a:pt x="10430" y="4893"/>
                  <a:pt x="10419" y="4950"/>
                  <a:pt x="10478" y="5016"/>
                </a:cubicBezTo>
                <a:cubicBezTo>
                  <a:pt x="10529" y="5073"/>
                  <a:pt x="10532" y="5102"/>
                  <a:pt x="10541" y="5175"/>
                </a:cubicBezTo>
                <a:cubicBezTo>
                  <a:pt x="10502" y="5254"/>
                  <a:pt x="10499" y="5084"/>
                  <a:pt x="10509" y="5048"/>
                </a:cubicBezTo>
                <a:cubicBezTo>
                  <a:pt x="10533" y="4964"/>
                  <a:pt x="10548" y="4958"/>
                  <a:pt x="10604" y="4921"/>
                </a:cubicBezTo>
                <a:cubicBezTo>
                  <a:pt x="10629" y="4904"/>
                  <a:pt x="10714" y="4896"/>
                  <a:pt x="10732" y="4953"/>
                </a:cubicBezTo>
                <a:cubicBezTo>
                  <a:pt x="10752" y="5016"/>
                  <a:pt x="10763" y="5073"/>
                  <a:pt x="10763" y="5144"/>
                </a:cubicBezTo>
                <a:cubicBezTo>
                  <a:pt x="10763" y="5180"/>
                  <a:pt x="10766" y="5193"/>
                  <a:pt x="10795" y="5207"/>
                </a:cubicBezTo>
              </a:path>
              <a:path w="1557" h="1556">
                <a:moveTo>
                  <a:pt x="10922" y="4890"/>
                </a:moveTo>
                <a:cubicBezTo>
                  <a:pt x="10908" y="4957"/>
                  <a:pt x="10875" y="5014"/>
                  <a:pt x="10858" y="5080"/>
                </a:cubicBezTo>
                <a:cubicBezTo>
                  <a:pt x="10841" y="5147"/>
                  <a:pt x="10902" y="5220"/>
                  <a:pt x="10954" y="5239"/>
                </a:cubicBezTo>
                <a:cubicBezTo>
                  <a:pt x="10998" y="5255"/>
                  <a:pt x="11054" y="5171"/>
                  <a:pt x="11081" y="5144"/>
                </a:cubicBezTo>
                <a:cubicBezTo>
                  <a:pt x="11121" y="5104"/>
                  <a:pt x="11181" y="5020"/>
                  <a:pt x="11144" y="4953"/>
                </a:cubicBezTo>
                <a:cubicBezTo>
                  <a:pt x="11117" y="4905"/>
                  <a:pt x="11063" y="4899"/>
                  <a:pt x="11017" y="4890"/>
                </a:cubicBezTo>
              </a:path>
              <a:path w="1557" h="1556">
                <a:moveTo>
                  <a:pt x="11398" y="4572"/>
                </a:moveTo>
                <a:cubicBezTo>
                  <a:pt x="11398" y="4686"/>
                  <a:pt x="11384" y="4783"/>
                  <a:pt x="11366" y="4890"/>
                </a:cubicBezTo>
                <a:cubicBezTo>
                  <a:pt x="11354" y="4960"/>
                  <a:pt x="11366" y="5041"/>
                  <a:pt x="11366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Ink 5"/>
          <p:cNvSpPr/>
          <p:nvPr/>
        </p:nvSpPr>
        <p:spPr>
          <a:xfrm>
            <a:off x="3932280" y="2789280"/>
            <a:ext cx="434880" cy="68400"/>
          </a:xfrm>
          <a:custGeom>
            <a:avLst/>
            <a:gdLst/>
            <a:ahLst/>
            <a:rect l="l" t="t" r="r" b="b"/>
            <a:pathLst>
              <a:path w="1207" h="192">
                <a:moveTo>
                  <a:pt x="11017" y="7938"/>
                </a:moveTo>
                <a:cubicBezTo>
                  <a:pt x="10967" y="7886"/>
                  <a:pt x="10985" y="7937"/>
                  <a:pt x="10922" y="7906"/>
                </a:cubicBezTo>
              </a:path>
              <a:path w="1207" h="192">
                <a:moveTo>
                  <a:pt x="11462" y="7842"/>
                </a:moveTo>
                <a:cubicBezTo>
                  <a:pt x="11451" y="7842"/>
                  <a:pt x="11441" y="7842"/>
                  <a:pt x="11430" y="7842"/>
                </a:cubicBezTo>
              </a:path>
              <a:path w="1207" h="192">
                <a:moveTo>
                  <a:pt x="12128" y="7747"/>
                </a:moveTo>
                <a:cubicBezTo>
                  <a:pt x="12118" y="7747"/>
                  <a:pt x="12107" y="7747"/>
                  <a:pt x="12097" y="7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Ink 6"/>
          <p:cNvSpPr/>
          <p:nvPr/>
        </p:nvSpPr>
        <p:spPr>
          <a:xfrm>
            <a:off x="2000160" y="2446200"/>
            <a:ext cx="1828800" cy="503280"/>
          </a:xfrm>
          <a:custGeom>
            <a:avLst/>
            <a:gdLst/>
            <a:ahLst/>
            <a:rect l="l" t="t" r="r" b="b"/>
            <a:pathLst>
              <a:path w="5081" h="1399">
                <a:moveTo>
                  <a:pt x="5747" y="7017"/>
                </a:moveTo>
                <a:cubicBezTo>
                  <a:pt x="5710" y="6932"/>
                  <a:pt x="5687" y="6896"/>
                  <a:pt x="5715" y="7017"/>
                </a:cubicBezTo>
                <a:cubicBezTo>
                  <a:pt x="5746" y="7150"/>
                  <a:pt x="5766" y="7295"/>
                  <a:pt x="5778" y="7430"/>
                </a:cubicBezTo>
                <a:cubicBezTo>
                  <a:pt x="5793" y="7601"/>
                  <a:pt x="5825" y="7769"/>
                  <a:pt x="5842" y="7938"/>
                </a:cubicBezTo>
                <a:cubicBezTo>
                  <a:pt x="5852" y="8034"/>
                  <a:pt x="5859" y="8114"/>
                  <a:pt x="5906" y="8192"/>
                </a:cubicBezTo>
              </a:path>
              <a:path w="5081" h="1399">
                <a:moveTo>
                  <a:pt x="5588" y="7176"/>
                </a:moveTo>
                <a:cubicBezTo>
                  <a:pt x="5551" y="7077"/>
                  <a:pt x="5547" y="7049"/>
                  <a:pt x="5588" y="6953"/>
                </a:cubicBezTo>
                <a:cubicBezTo>
                  <a:pt x="5629" y="6857"/>
                  <a:pt x="5707" y="6814"/>
                  <a:pt x="5810" y="6794"/>
                </a:cubicBezTo>
                <a:cubicBezTo>
                  <a:pt x="5920" y="6773"/>
                  <a:pt x="6067" y="6789"/>
                  <a:pt x="6160" y="6858"/>
                </a:cubicBezTo>
                <a:cubicBezTo>
                  <a:pt x="6254" y="6928"/>
                  <a:pt x="6280" y="7012"/>
                  <a:pt x="6223" y="7112"/>
                </a:cubicBezTo>
                <a:cubicBezTo>
                  <a:pt x="6154" y="7235"/>
                  <a:pt x="6051" y="7319"/>
                  <a:pt x="5937" y="7398"/>
                </a:cubicBezTo>
                <a:cubicBezTo>
                  <a:pt x="5851" y="7457"/>
                  <a:pt x="5809" y="7481"/>
                  <a:pt x="5715" y="7493"/>
                </a:cubicBezTo>
                <a:cubicBezTo>
                  <a:pt x="5730" y="7389"/>
                  <a:pt x="5759" y="7388"/>
                  <a:pt x="5874" y="7366"/>
                </a:cubicBezTo>
                <a:cubicBezTo>
                  <a:pt x="5969" y="7348"/>
                  <a:pt x="6139" y="7348"/>
                  <a:pt x="6223" y="7398"/>
                </a:cubicBezTo>
                <a:cubicBezTo>
                  <a:pt x="6301" y="7444"/>
                  <a:pt x="6456" y="7555"/>
                  <a:pt x="6477" y="7652"/>
                </a:cubicBezTo>
                <a:cubicBezTo>
                  <a:pt x="6502" y="7765"/>
                  <a:pt x="6395" y="7899"/>
                  <a:pt x="6318" y="7969"/>
                </a:cubicBezTo>
                <a:cubicBezTo>
                  <a:pt x="6239" y="8041"/>
                  <a:pt x="6100" y="8149"/>
                  <a:pt x="6001" y="8160"/>
                </a:cubicBezTo>
                <a:cubicBezTo>
                  <a:pt x="5890" y="8172"/>
                  <a:pt x="5958" y="8137"/>
                  <a:pt x="5937" y="8064"/>
                </a:cubicBezTo>
              </a:path>
              <a:path w="5081" h="1399">
                <a:moveTo>
                  <a:pt x="6668" y="7842"/>
                </a:moveTo>
                <a:cubicBezTo>
                  <a:pt x="6750" y="7811"/>
                  <a:pt x="6823" y="7809"/>
                  <a:pt x="6890" y="7747"/>
                </a:cubicBezTo>
                <a:cubicBezTo>
                  <a:pt x="6963" y="7679"/>
                  <a:pt x="7029" y="7641"/>
                  <a:pt x="7080" y="7556"/>
                </a:cubicBezTo>
                <a:cubicBezTo>
                  <a:pt x="7114" y="7500"/>
                  <a:pt x="7112" y="7487"/>
                  <a:pt x="7112" y="7430"/>
                </a:cubicBezTo>
                <a:cubicBezTo>
                  <a:pt x="7009" y="7430"/>
                  <a:pt x="6997" y="7450"/>
                  <a:pt x="6922" y="7525"/>
                </a:cubicBezTo>
                <a:cubicBezTo>
                  <a:pt x="6832" y="7615"/>
                  <a:pt x="6826" y="7653"/>
                  <a:pt x="6826" y="7779"/>
                </a:cubicBezTo>
                <a:cubicBezTo>
                  <a:pt x="6826" y="7886"/>
                  <a:pt x="6864" y="7922"/>
                  <a:pt x="6953" y="7969"/>
                </a:cubicBezTo>
                <a:cubicBezTo>
                  <a:pt x="7069" y="8030"/>
                  <a:pt x="7184" y="7984"/>
                  <a:pt x="7302" y="7938"/>
                </a:cubicBezTo>
                <a:cubicBezTo>
                  <a:pt x="7323" y="7927"/>
                  <a:pt x="7345" y="7917"/>
                  <a:pt x="7366" y="7906"/>
                </a:cubicBezTo>
              </a:path>
              <a:path w="5081" h="1399">
                <a:moveTo>
                  <a:pt x="7938" y="7430"/>
                </a:moveTo>
                <a:cubicBezTo>
                  <a:pt x="7836" y="7379"/>
                  <a:pt x="7809" y="7353"/>
                  <a:pt x="7715" y="7430"/>
                </a:cubicBezTo>
                <a:cubicBezTo>
                  <a:pt x="7605" y="7520"/>
                  <a:pt x="7532" y="7590"/>
                  <a:pt x="7461" y="7715"/>
                </a:cubicBezTo>
                <a:cubicBezTo>
                  <a:pt x="7424" y="7781"/>
                  <a:pt x="7374" y="7907"/>
                  <a:pt x="7430" y="7969"/>
                </a:cubicBezTo>
                <a:cubicBezTo>
                  <a:pt x="7476" y="8020"/>
                  <a:pt x="7657" y="8015"/>
                  <a:pt x="7715" y="8001"/>
                </a:cubicBezTo>
                <a:cubicBezTo>
                  <a:pt x="7736" y="7990"/>
                  <a:pt x="7758" y="7980"/>
                  <a:pt x="7779" y="7969"/>
                </a:cubicBezTo>
              </a:path>
              <a:path w="5081" h="1399">
                <a:moveTo>
                  <a:pt x="8223" y="7525"/>
                </a:moveTo>
                <a:cubicBezTo>
                  <a:pt x="8152" y="7516"/>
                  <a:pt x="8168" y="7475"/>
                  <a:pt x="8096" y="7556"/>
                </a:cubicBezTo>
                <a:cubicBezTo>
                  <a:pt x="8037" y="7622"/>
                  <a:pt x="8005" y="7691"/>
                  <a:pt x="8001" y="7779"/>
                </a:cubicBezTo>
                <a:cubicBezTo>
                  <a:pt x="7997" y="7862"/>
                  <a:pt x="7988" y="7922"/>
                  <a:pt x="8064" y="7969"/>
                </a:cubicBezTo>
                <a:cubicBezTo>
                  <a:pt x="8130" y="8010"/>
                  <a:pt x="8204" y="7898"/>
                  <a:pt x="8223" y="7874"/>
                </a:cubicBezTo>
                <a:cubicBezTo>
                  <a:pt x="8261" y="7827"/>
                  <a:pt x="8271" y="7712"/>
                  <a:pt x="8255" y="7652"/>
                </a:cubicBezTo>
                <a:cubicBezTo>
                  <a:pt x="8255" y="7616"/>
                  <a:pt x="8252" y="7602"/>
                  <a:pt x="8223" y="7588"/>
                </a:cubicBezTo>
                <a:cubicBezTo>
                  <a:pt x="8223" y="7598"/>
                  <a:pt x="8230" y="7689"/>
                  <a:pt x="8255" y="7747"/>
                </a:cubicBezTo>
                <a:cubicBezTo>
                  <a:pt x="8288" y="7823"/>
                  <a:pt x="8339" y="7904"/>
                  <a:pt x="8414" y="7938"/>
                </a:cubicBezTo>
                <a:cubicBezTo>
                  <a:pt x="8452" y="7955"/>
                  <a:pt x="8545" y="7979"/>
                  <a:pt x="8572" y="7938"/>
                </a:cubicBezTo>
                <a:cubicBezTo>
                  <a:pt x="8605" y="7888"/>
                  <a:pt x="8604" y="7779"/>
                  <a:pt x="8604" y="7715"/>
                </a:cubicBezTo>
                <a:cubicBezTo>
                  <a:pt x="8604" y="7649"/>
                  <a:pt x="8606" y="7466"/>
                  <a:pt x="8636" y="7525"/>
                </a:cubicBezTo>
                <a:cubicBezTo>
                  <a:pt x="8662" y="7575"/>
                  <a:pt x="8641" y="7655"/>
                  <a:pt x="8668" y="7715"/>
                </a:cubicBezTo>
                <a:cubicBezTo>
                  <a:pt x="8679" y="7741"/>
                  <a:pt x="8753" y="7898"/>
                  <a:pt x="8763" y="7906"/>
                </a:cubicBezTo>
                <a:cubicBezTo>
                  <a:pt x="8795" y="7906"/>
                  <a:pt x="8805" y="7906"/>
                  <a:pt x="8826" y="7906"/>
                </a:cubicBezTo>
                <a:cubicBezTo>
                  <a:pt x="8878" y="7846"/>
                  <a:pt x="8892" y="7803"/>
                  <a:pt x="8922" y="7715"/>
                </a:cubicBezTo>
                <a:cubicBezTo>
                  <a:pt x="8947" y="7640"/>
                  <a:pt x="8965" y="7569"/>
                  <a:pt x="8985" y="7493"/>
                </a:cubicBezTo>
                <a:cubicBezTo>
                  <a:pt x="8997" y="7446"/>
                  <a:pt x="9009" y="7541"/>
                  <a:pt x="9017" y="7588"/>
                </a:cubicBezTo>
                <a:cubicBezTo>
                  <a:pt x="9035" y="7695"/>
                  <a:pt x="9006" y="7779"/>
                  <a:pt x="9080" y="7874"/>
                </a:cubicBezTo>
                <a:cubicBezTo>
                  <a:pt x="9122" y="7929"/>
                  <a:pt x="9167" y="7978"/>
                  <a:pt x="9239" y="7969"/>
                </a:cubicBezTo>
                <a:cubicBezTo>
                  <a:pt x="9336" y="7957"/>
                  <a:pt x="9351" y="7918"/>
                  <a:pt x="9398" y="7842"/>
                </a:cubicBezTo>
                <a:cubicBezTo>
                  <a:pt x="9461" y="7740"/>
                  <a:pt x="9463" y="7661"/>
                  <a:pt x="9493" y="7556"/>
                </a:cubicBezTo>
                <a:cubicBezTo>
                  <a:pt x="9513" y="7485"/>
                  <a:pt x="9525" y="7441"/>
                  <a:pt x="9525" y="7366"/>
                </a:cubicBezTo>
                <a:cubicBezTo>
                  <a:pt x="9525" y="7355"/>
                  <a:pt x="9525" y="7345"/>
                  <a:pt x="9525" y="7334"/>
                </a:cubicBezTo>
                <a:cubicBezTo>
                  <a:pt x="9608" y="7406"/>
                  <a:pt x="9624" y="7428"/>
                  <a:pt x="9684" y="7525"/>
                </a:cubicBezTo>
                <a:cubicBezTo>
                  <a:pt x="9739" y="7615"/>
                  <a:pt x="9815" y="7674"/>
                  <a:pt x="9874" y="7747"/>
                </a:cubicBezTo>
                <a:cubicBezTo>
                  <a:pt x="9923" y="7808"/>
                  <a:pt x="9923" y="7841"/>
                  <a:pt x="9938" y="7906"/>
                </a:cubicBezTo>
                <a:cubicBezTo>
                  <a:pt x="9881" y="7928"/>
                  <a:pt x="9815" y="7958"/>
                  <a:pt x="9747" y="7969"/>
                </a:cubicBezTo>
                <a:cubicBezTo>
                  <a:pt x="9657" y="7984"/>
                  <a:pt x="9553" y="7969"/>
                  <a:pt x="9462" y="7969"/>
                </a:cubicBezTo>
                <a:cubicBezTo>
                  <a:pt x="9559" y="7969"/>
                  <a:pt x="9626" y="7969"/>
                  <a:pt x="9716" y="7938"/>
                </a:cubicBezTo>
                <a:cubicBezTo>
                  <a:pt x="9849" y="7892"/>
                  <a:pt x="9995" y="7909"/>
                  <a:pt x="10128" y="7874"/>
                </a:cubicBezTo>
                <a:cubicBezTo>
                  <a:pt x="10264" y="7838"/>
                  <a:pt x="10333" y="7754"/>
                  <a:pt x="10382" y="7652"/>
                </a:cubicBezTo>
                <a:cubicBezTo>
                  <a:pt x="10407" y="7600"/>
                  <a:pt x="10436" y="7500"/>
                  <a:pt x="10382" y="7461"/>
                </a:cubicBezTo>
                <a:cubicBezTo>
                  <a:pt x="10309" y="7409"/>
                  <a:pt x="10256" y="7429"/>
                  <a:pt x="10192" y="7493"/>
                </a:cubicBezTo>
                <a:cubicBezTo>
                  <a:pt x="10122" y="7563"/>
                  <a:pt x="10128" y="7622"/>
                  <a:pt x="10128" y="7715"/>
                </a:cubicBezTo>
                <a:cubicBezTo>
                  <a:pt x="10128" y="7806"/>
                  <a:pt x="10168" y="7869"/>
                  <a:pt x="10224" y="7938"/>
                </a:cubicBezTo>
                <a:cubicBezTo>
                  <a:pt x="10277" y="8004"/>
                  <a:pt x="10365" y="8047"/>
                  <a:pt x="10446" y="8064"/>
                </a:cubicBezTo>
                <a:cubicBezTo>
                  <a:pt x="10519" y="8079"/>
                  <a:pt x="10571" y="8057"/>
                  <a:pt x="10636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Ink 7"/>
          <p:cNvSpPr/>
          <p:nvPr/>
        </p:nvSpPr>
        <p:spPr>
          <a:xfrm>
            <a:off x="3371760" y="376092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9398" y="10478"/>
                </a:moveTo>
                <a:cubicBezTo>
                  <a:pt x="9337" y="10478"/>
                  <a:pt x="9367" y="10456"/>
                  <a:pt x="939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Ink 8"/>
          <p:cNvSpPr/>
          <p:nvPr/>
        </p:nvSpPr>
        <p:spPr>
          <a:xfrm>
            <a:off x="2297160" y="3589200"/>
            <a:ext cx="971640" cy="263520"/>
          </a:xfrm>
          <a:custGeom>
            <a:avLst/>
            <a:gdLst/>
            <a:ahLst/>
            <a:rect l="l" t="t" r="r" b="b"/>
            <a:pathLst>
              <a:path w="2699" h="731">
                <a:moveTo>
                  <a:pt x="6382" y="10446"/>
                </a:moveTo>
                <a:cubicBezTo>
                  <a:pt x="6526" y="10446"/>
                  <a:pt x="6658" y="10448"/>
                  <a:pt x="6794" y="10414"/>
                </a:cubicBezTo>
                <a:cubicBezTo>
                  <a:pt x="6831" y="10405"/>
                  <a:pt x="6884" y="10414"/>
                  <a:pt x="6922" y="10414"/>
                </a:cubicBezTo>
              </a:path>
              <a:path w="2699" h="731">
                <a:moveTo>
                  <a:pt x="7302" y="10033"/>
                </a:moveTo>
                <a:cubicBezTo>
                  <a:pt x="7302" y="10086"/>
                  <a:pt x="7267" y="10187"/>
                  <a:pt x="7271" y="10224"/>
                </a:cubicBezTo>
                <a:cubicBezTo>
                  <a:pt x="7280" y="10301"/>
                  <a:pt x="7302" y="10360"/>
                  <a:pt x="7302" y="10446"/>
                </a:cubicBezTo>
                <a:cubicBezTo>
                  <a:pt x="7302" y="10512"/>
                  <a:pt x="7279" y="10618"/>
                  <a:pt x="7334" y="10636"/>
                </a:cubicBezTo>
              </a:path>
              <a:path w="2699" h="731">
                <a:moveTo>
                  <a:pt x="7430" y="10128"/>
                </a:moveTo>
                <a:cubicBezTo>
                  <a:pt x="7471" y="10097"/>
                  <a:pt x="7484" y="10054"/>
                  <a:pt x="7525" y="10033"/>
                </a:cubicBezTo>
                <a:cubicBezTo>
                  <a:pt x="7567" y="10012"/>
                  <a:pt x="7652" y="9993"/>
                  <a:pt x="7684" y="10033"/>
                </a:cubicBezTo>
                <a:cubicBezTo>
                  <a:pt x="7737" y="10098"/>
                  <a:pt x="7716" y="10151"/>
                  <a:pt x="7652" y="10192"/>
                </a:cubicBezTo>
                <a:cubicBezTo>
                  <a:pt x="7601" y="10225"/>
                  <a:pt x="7546" y="10274"/>
                  <a:pt x="7493" y="10287"/>
                </a:cubicBezTo>
                <a:cubicBezTo>
                  <a:pt x="7547" y="10246"/>
                  <a:pt x="7580" y="10255"/>
                  <a:pt x="7652" y="10255"/>
                </a:cubicBezTo>
                <a:cubicBezTo>
                  <a:pt x="7737" y="10255"/>
                  <a:pt x="7751" y="10260"/>
                  <a:pt x="7810" y="10319"/>
                </a:cubicBezTo>
                <a:cubicBezTo>
                  <a:pt x="7848" y="10356"/>
                  <a:pt x="7860" y="10423"/>
                  <a:pt x="7842" y="10478"/>
                </a:cubicBezTo>
                <a:cubicBezTo>
                  <a:pt x="7817" y="10553"/>
                  <a:pt x="7717" y="10633"/>
                  <a:pt x="7652" y="10668"/>
                </a:cubicBezTo>
                <a:cubicBezTo>
                  <a:pt x="7613" y="10689"/>
                  <a:pt x="7563" y="10728"/>
                  <a:pt x="7556" y="10668"/>
                </a:cubicBezTo>
                <a:cubicBezTo>
                  <a:pt x="7556" y="10657"/>
                  <a:pt x="7556" y="10647"/>
                  <a:pt x="7556" y="10636"/>
                </a:cubicBezTo>
              </a:path>
              <a:path w="2699" h="731">
                <a:moveTo>
                  <a:pt x="8064" y="10096"/>
                </a:moveTo>
                <a:cubicBezTo>
                  <a:pt x="8048" y="10161"/>
                  <a:pt x="7985" y="10216"/>
                  <a:pt x="7969" y="10287"/>
                </a:cubicBezTo>
                <a:cubicBezTo>
                  <a:pt x="7952" y="10362"/>
                  <a:pt x="7935" y="10441"/>
                  <a:pt x="7969" y="10509"/>
                </a:cubicBezTo>
                <a:cubicBezTo>
                  <a:pt x="7990" y="10551"/>
                  <a:pt x="8053" y="10601"/>
                  <a:pt x="8096" y="10604"/>
                </a:cubicBezTo>
                <a:cubicBezTo>
                  <a:pt x="8152" y="10608"/>
                  <a:pt x="8253" y="10590"/>
                  <a:pt x="8287" y="10541"/>
                </a:cubicBezTo>
                <a:cubicBezTo>
                  <a:pt x="8329" y="10481"/>
                  <a:pt x="8380" y="10398"/>
                  <a:pt x="8350" y="10319"/>
                </a:cubicBezTo>
                <a:cubicBezTo>
                  <a:pt x="8326" y="10256"/>
                  <a:pt x="8259" y="10182"/>
                  <a:pt x="8192" y="10160"/>
                </a:cubicBezTo>
                <a:cubicBezTo>
                  <a:pt x="8152" y="10147"/>
                  <a:pt x="8106" y="10136"/>
                  <a:pt x="8064" y="10128"/>
                </a:cubicBezTo>
              </a:path>
              <a:path w="2699" h="731">
                <a:moveTo>
                  <a:pt x="8477" y="10128"/>
                </a:moveTo>
                <a:cubicBezTo>
                  <a:pt x="8533" y="10080"/>
                  <a:pt x="8594" y="10026"/>
                  <a:pt x="8668" y="10001"/>
                </a:cubicBezTo>
                <a:cubicBezTo>
                  <a:pt x="8752" y="9973"/>
                  <a:pt x="8760" y="9987"/>
                  <a:pt x="8826" y="10001"/>
                </a:cubicBezTo>
                <a:cubicBezTo>
                  <a:pt x="8909" y="10018"/>
                  <a:pt x="8922" y="10006"/>
                  <a:pt x="8922" y="10096"/>
                </a:cubicBezTo>
                <a:cubicBezTo>
                  <a:pt x="8922" y="10170"/>
                  <a:pt x="8874" y="10207"/>
                  <a:pt x="8826" y="10255"/>
                </a:cubicBezTo>
                <a:cubicBezTo>
                  <a:pt x="8784" y="10297"/>
                  <a:pt x="8747" y="10319"/>
                  <a:pt x="8731" y="10287"/>
                </a:cubicBezTo>
                <a:cubicBezTo>
                  <a:pt x="8773" y="10262"/>
                  <a:pt x="8834" y="10235"/>
                  <a:pt x="8890" y="10255"/>
                </a:cubicBezTo>
                <a:cubicBezTo>
                  <a:pt x="8948" y="10276"/>
                  <a:pt x="9014" y="10295"/>
                  <a:pt x="9049" y="10350"/>
                </a:cubicBezTo>
                <a:cubicBezTo>
                  <a:pt x="9093" y="10420"/>
                  <a:pt x="9089" y="10489"/>
                  <a:pt x="9017" y="10541"/>
                </a:cubicBezTo>
                <a:cubicBezTo>
                  <a:pt x="8962" y="10581"/>
                  <a:pt x="8855" y="10644"/>
                  <a:pt x="8795" y="10668"/>
                </a:cubicBezTo>
                <a:cubicBezTo>
                  <a:pt x="8752" y="10686"/>
                  <a:pt x="8729" y="10658"/>
                  <a:pt x="8700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nk 9"/>
          <p:cNvSpPr/>
          <p:nvPr/>
        </p:nvSpPr>
        <p:spPr>
          <a:xfrm>
            <a:off x="3440160" y="3543480"/>
            <a:ext cx="538200" cy="263520"/>
          </a:xfrm>
          <a:custGeom>
            <a:avLst/>
            <a:gdLst/>
            <a:ahLst/>
            <a:rect l="l" t="t" r="r" b="b"/>
            <a:pathLst>
              <a:path w="1493" h="732">
                <a:moveTo>
                  <a:pt x="9557" y="10096"/>
                </a:moveTo>
                <a:cubicBezTo>
                  <a:pt x="9588" y="10022"/>
                  <a:pt x="9596" y="9994"/>
                  <a:pt x="9652" y="9938"/>
                </a:cubicBezTo>
                <a:cubicBezTo>
                  <a:pt x="9698" y="9892"/>
                  <a:pt x="9754" y="9854"/>
                  <a:pt x="9811" y="9842"/>
                </a:cubicBezTo>
                <a:cubicBezTo>
                  <a:pt x="9851" y="9834"/>
                  <a:pt x="9950" y="9866"/>
                  <a:pt x="9970" y="9906"/>
                </a:cubicBezTo>
                <a:cubicBezTo>
                  <a:pt x="9998" y="9962"/>
                  <a:pt x="9995" y="10003"/>
                  <a:pt x="9970" y="10065"/>
                </a:cubicBezTo>
                <a:cubicBezTo>
                  <a:pt x="9937" y="10147"/>
                  <a:pt x="9882" y="10210"/>
                  <a:pt x="9842" y="10287"/>
                </a:cubicBezTo>
                <a:cubicBezTo>
                  <a:pt x="9810" y="10347"/>
                  <a:pt x="9779" y="10429"/>
                  <a:pt x="9747" y="10478"/>
                </a:cubicBezTo>
                <a:cubicBezTo>
                  <a:pt x="9719" y="10506"/>
                  <a:pt x="9708" y="10513"/>
                  <a:pt x="9716" y="10541"/>
                </a:cubicBezTo>
                <a:cubicBezTo>
                  <a:pt x="9793" y="10575"/>
                  <a:pt x="9822" y="10573"/>
                  <a:pt x="9906" y="10573"/>
                </a:cubicBezTo>
                <a:cubicBezTo>
                  <a:pt x="10001" y="10573"/>
                  <a:pt x="10070" y="10548"/>
                  <a:pt x="10160" y="10541"/>
                </a:cubicBezTo>
                <a:cubicBezTo>
                  <a:pt x="10232" y="10535"/>
                  <a:pt x="10286" y="10559"/>
                  <a:pt x="10319" y="10509"/>
                </a:cubicBezTo>
              </a:path>
              <a:path w="1493" h="732">
                <a:moveTo>
                  <a:pt x="10700" y="9970"/>
                </a:moveTo>
                <a:cubicBezTo>
                  <a:pt x="10749" y="9933"/>
                  <a:pt x="10765" y="9938"/>
                  <a:pt x="10827" y="9938"/>
                </a:cubicBezTo>
                <a:cubicBezTo>
                  <a:pt x="10904" y="9938"/>
                  <a:pt x="10959" y="9925"/>
                  <a:pt x="11017" y="9970"/>
                </a:cubicBezTo>
              </a:path>
              <a:path w="1493" h="732">
                <a:moveTo>
                  <a:pt x="10827" y="10128"/>
                </a:moveTo>
                <a:cubicBezTo>
                  <a:pt x="10905" y="10117"/>
                  <a:pt x="10933" y="10096"/>
                  <a:pt x="11017" y="10096"/>
                </a:cubicBezTo>
                <a:cubicBezTo>
                  <a:pt x="11028" y="10096"/>
                  <a:pt x="11038" y="10096"/>
                  <a:pt x="1104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Ink 10"/>
          <p:cNvSpPr/>
          <p:nvPr/>
        </p:nvSpPr>
        <p:spPr>
          <a:xfrm>
            <a:off x="4206960" y="3246480"/>
            <a:ext cx="1257120" cy="593640"/>
          </a:xfrm>
          <a:custGeom>
            <a:avLst/>
            <a:gdLst/>
            <a:ahLst/>
            <a:rect l="l" t="t" r="r" b="b"/>
            <a:pathLst>
              <a:path w="3493" h="1652">
                <a:moveTo>
                  <a:pt x="11906" y="9811"/>
                </a:moveTo>
                <a:cubicBezTo>
                  <a:pt x="11915" y="9776"/>
                  <a:pt x="11957" y="9697"/>
                  <a:pt x="12002" y="9684"/>
                </a:cubicBezTo>
                <a:cubicBezTo>
                  <a:pt x="12050" y="9670"/>
                  <a:pt x="12231" y="9667"/>
                  <a:pt x="12256" y="9716"/>
                </a:cubicBezTo>
                <a:cubicBezTo>
                  <a:pt x="12289" y="9780"/>
                  <a:pt x="12234" y="9830"/>
                  <a:pt x="12224" y="9874"/>
                </a:cubicBezTo>
                <a:cubicBezTo>
                  <a:pt x="12207" y="9952"/>
                  <a:pt x="12189" y="10000"/>
                  <a:pt x="12128" y="10065"/>
                </a:cubicBezTo>
                <a:cubicBezTo>
                  <a:pt x="12064" y="10134"/>
                  <a:pt x="12026" y="10173"/>
                  <a:pt x="12002" y="10255"/>
                </a:cubicBezTo>
                <a:cubicBezTo>
                  <a:pt x="11985" y="10312"/>
                  <a:pt x="12012" y="10344"/>
                  <a:pt x="12065" y="10350"/>
                </a:cubicBezTo>
                <a:cubicBezTo>
                  <a:pt x="12135" y="10358"/>
                  <a:pt x="12166" y="10323"/>
                  <a:pt x="12224" y="10319"/>
                </a:cubicBezTo>
                <a:cubicBezTo>
                  <a:pt x="12308" y="10313"/>
                  <a:pt x="12394" y="10319"/>
                  <a:pt x="12478" y="10319"/>
                </a:cubicBezTo>
              </a:path>
              <a:path w="3493" h="1652">
                <a:moveTo>
                  <a:pt x="12827" y="9557"/>
                </a:moveTo>
                <a:cubicBezTo>
                  <a:pt x="12779" y="9613"/>
                  <a:pt x="12714" y="9699"/>
                  <a:pt x="12700" y="9779"/>
                </a:cubicBezTo>
                <a:cubicBezTo>
                  <a:pt x="12681" y="9888"/>
                  <a:pt x="12672" y="10018"/>
                  <a:pt x="12668" y="10128"/>
                </a:cubicBezTo>
                <a:cubicBezTo>
                  <a:pt x="12664" y="10231"/>
                  <a:pt x="12669" y="10350"/>
                  <a:pt x="12700" y="10446"/>
                </a:cubicBezTo>
                <a:cubicBezTo>
                  <a:pt x="12715" y="10492"/>
                  <a:pt x="12770" y="10620"/>
                  <a:pt x="12827" y="10636"/>
                </a:cubicBezTo>
                <a:cubicBezTo>
                  <a:pt x="12917" y="10662"/>
                  <a:pt x="12927" y="10649"/>
                  <a:pt x="13018" y="10636"/>
                </a:cubicBezTo>
              </a:path>
              <a:path w="3493" h="1652">
                <a:moveTo>
                  <a:pt x="13049" y="10065"/>
                </a:moveTo>
                <a:cubicBezTo>
                  <a:pt x="13105" y="10106"/>
                  <a:pt x="13134" y="10096"/>
                  <a:pt x="13208" y="10096"/>
                </a:cubicBezTo>
                <a:cubicBezTo>
                  <a:pt x="13280" y="10096"/>
                  <a:pt x="13308" y="10084"/>
                  <a:pt x="13367" y="10065"/>
                </a:cubicBezTo>
                <a:cubicBezTo>
                  <a:pt x="13377" y="10065"/>
                  <a:pt x="13388" y="10065"/>
                  <a:pt x="13398" y="10065"/>
                </a:cubicBezTo>
              </a:path>
              <a:path w="3493" h="1652">
                <a:moveTo>
                  <a:pt x="13621" y="9716"/>
                </a:moveTo>
                <a:cubicBezTo>
                  <a:pt x="13595" y="9776"/>
                  <a:pt x="13561" y="9841"/>
                  <a:pt x="13557" y="9906"/>
                </a:cubicBezTo>
                <a:cubicBezTo>
                  <a:pt x="13554" y="9948"/>
                  <a:pt x="13577" y="10043"/>
                  <a:pt x="13621" y="10065"/>
                </a:cubicBezTo>
                <a:cubicBezTo>
                  <a:pt x="13683" y="10097"/>
                  <a:pt x="13764" y="10049"/>
                  <a:pt x="13811" y="10033"/>
                </a:cubicBezTo>
                <a:cubicBezTo>
                  <a:pt x="13845" y="10021"/>
                  <a:pt x="13925" y="9985"/>
                  <a:pt x="13938" y="9938"/>
                </a:cubicBezTo>
                <a:cubicBezTo>
                  <a:pt x="13938" y="9917"/>
                  <a:pt x="13938" y="9895"/>
                  <a:pt x="13938" y="9874"/>
                </a:cubicBezTo>
              </a:path>
              <a:path w="3493" h="1652">
                <a:moveTo>
                  <a:pt x="13938" y="9652"/>
                </a:moveTo>
                <a:cubicBezTo>
                  <a:pt x="13928" y="9722"/>
                  <a:pt x="13926" y="9802"/>
                  <a:pt x="13906" y="9874"/>
                </a:cubicBezTo>
                <a:cubicBezTo>
                  <a:pt x="13881" y="9965"/>
                  <a:pt x="13875" y="10030"/>
                  <a:pt x="13875" y="10128"/>
                </a:cubicBezTo>
                <a:cubicBezTo>
                  <a:pt x="13875" y="10216"/>
                  <a:pt x="13885" y="10277"/>
                  <a:pt x="13906" y="10350"/>
                </a:cubicBezTo>
                <a:cubicBezTo>
                  <a:pt x="13906" y="10382"/>
                  <a:pt x="13906" y="10393"/>
                  <a:pt x="13938" y="10382"/>
                </a:cubicBezTo>
              </a:path>
              <a:path w="3493" h="1652">
                <a:moveTo>
                  <a:pt x="14160" y="9716"/>
                </a:moveTo>
                <a:cubicBezTo>
                  <a:pt x="14144" y="9795"/>
                  <a:pt x="14129" y="9853"/>
                  <a:pt x="14129" y="9938"/>
                </a:cubicBezTo>
                <a:cubicBezTo>
                  <a:pt x="14129" y="10025"/>
                  <a:pt x="14122" y="10088"/>
                  <a:pt x="14160" y="10160"/>
                </a:cubicBezTo>
                <a:cubicBezTo>
                  <a:pt x="14200" y="10235"/>
                  <a:pt x="14242" y="10272"/>
                  <a:pt x="14319" y="10287"/>
                </a:cubicBezTo>
                <a:cubicBezTo>
                  <a:pt x="14405" y="10304"/>
                  <a:pt x="14456" y="10246"/>
                  <a:pt x="14510" y="10192"/>
                </a:cubicBezTo>
                <a:cubicBezTo>
                  <a:pt x="14558" y="10144"/>
                  <a:pt x="14573" y="10132"/>
                  <a:pt x="14573" y="10065"/>
                </a:cubicBezTo>
                <a:cubicBezTo>
                  <a:pt x="14573" y="10029"/>
                  <a:pt x="14570" y="10015"/>
                  <a:pt x="14542" y="10001"/>
                </a:cubicBezTo>
                <a:cubicBezTo>
                  <a:pt x="14487" y="10015"/>
                  <a:pt x="14457" y="10053"/>
                  <a:pt x="14414" y="10096"/>
                </a:cubicBezTo>
                <a:cubicBezTo>
                  <a:pt x="14348" y="10162"/>
                  <a:pt x="14394" y="10195"/>
                  <a:pt x="14414" y="10255"/>
                </a:cubicBezTo>
                <a:cubicBezTo>
                  <a:pt x="14424" y="10285"/>
                  <a:pt x="14454" y="10374"/>
                  <a:pt x="14510" y="10350"/>
                </a:cubicBezTo>
                <a:cubicBezTo>
                  <a:pt x="14546" y="10315"/>
                  <a:pt x="14563" y="10304"/>
                  <a:pt x="14605" y="10319"/>
                </a:cubicBezTo>
              </a:path>
              <a:path w="3493" h="1652">
                <a:moveTo>
                  <a:pt x="14700" y="9366"/>
                </a:moveTo>
                <a:cubicBezTo>
                  <a:pt x="14712" y="9451"/>
                  <a:pt x="14745" y="9484"/>
                  <a:pt x="14796" y="9557"/>
                </a:cubicBezTo>
                <a:cubicBezTo>
                  <a:pt x="14871" y="9665"/>
                  <a:pt x="14944" y="9766"/>
                  <a:pt x="15018" y="9874"/>
                </a:cubicBezTo>
                <a:cubicBezTo>
                  <a:pt x="15107" y="10003"/>
                  <a:pt x="15107" y="10083"/>
                  <a:pt x="15145" y="10224"/>
                </a:cubicBezTo>
                <a:cubicBezTo>
                  <a:pt x="15171" y="10322"/>
                  <a:pt x="15143" y="10412"/>
                  <a:pt x="15081" y="10509"/>
                </a:cubicBezTo>
                <a:cubicBezTo>
                  <a:pt x="15069" y="10528"/>
                  <a:pt x="14982" y="10631"/>
                  <a:pt x="14954" y="10604"/>
                </a:cubicBezTo>
                <a:cubicBezTo>
                  <a:pt x="14954" y="10594"/>
                  <a:pt x="14954" y="10583"/>
                  <a:pt x="14954" y="10573"/>
                </a:cubicBezTo>
              </a:path>
              <a:path w="3493" h="1652">
                <a:moveTo>
                  <a:pt x="12160" y="9017"/>
                </a:moveTo>
                <a:cubicBezTo>
                  <a:pt x="12108" y="9069"/>
                  <a:pt x="12075" y="9097"/>
                  <a:pt x="12002" y="9112"/>
                </a:cubicBezTo>
                <a:cubicBezTo>
                  <a:pt x="11902" y="9132"/>
                  <a:pt x="11798" y="9105"/>
                  <a:pt x="11716" y="9080"/>
                </a:cubicBezTo>
                <a:cubicBezTo>
                  <a:pt x="11705" y="9080"/>
                  <a:pt x="11695" y="9080"/>
                  <a:pt x="11684" y="9080"/>
                </a:cubicBezTo>
                <a:cubicBezTo>
                  <a:pt x="11684" y="9185"/>
                  <a:pt x="11700" y="9268"/>
                  <a:pt x="11716" y="9366"/>
                </a:cubicBezTo>
                <a:cubicBezTo>
                  <a:pt x="11735" y="9481"/>
                  <a:pt x="11723" y="9602"/>
                  <a:pt x="11748" y="9716"/>
                </a:cubicBezTo>
                <a:cubicBezTo>
                  <a:pt x="11782" y="9870"/>
                  <a:pt x="11804" y="10034"/>
                  <a:pt x="11811" y="10192"/>
                </a:cubicBezTo>
                <a:cubicBezTo>
                  <a:pt x="11816" y="10290"/>
                  <a:pt x="11762" y="10536"/>
                  <a:pt x="11843" y="10604"/>
                </a:cubicBezTo>
                <a:cubicBezTo>
                  <a:pt x="11866" y="10624"/>
                  <a:pt x="11912" y="10686"/>
                  <a:pt x="11970" y="10668"/>
                </a:cubicBezTo>
                <a:cubicBezTo>
                  <a:pt x="12046" y="10645"/>
                  <a:pt x="12055" y="10679"/>
                  <a:pt x="12128" y="10668"/>
                </a:cubicBezTo>
                <a:cubicBezTo>
                  <a:pt x="12185" y="10659"/>
                  <a:pt x="12265" y="10674"/>
                  <a:pt x="12319" y="10668"/>
                </a:cubicBezTo>
                <a:cubicBezTo>
                  <a:pt x="12355" y="10668"/>
                  <a:pt x="12369" y="10665"/>
                  <a:pt x="12382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Ink 11"/>
          <p:cNvSpPr/>
          <p:nvPr/>
        </p:nvSpPr>
        <p:spPr>
          <a:xfrm>
            <a:off x="5622840" y="3463920"/>
            <a:ext cx="115920" cy="204840"/>
          </a:xfrm>
          <a:custGeom>
            <a:avLst/>
            <a:gdLst/>
            <a:ahLst/>
            <a:rect l="l" t="t" r="r" b="b"/>
            <a:pathLst>
              <a:path w="318" h="573">
                <a:moveTo>
                  <a:pt x="15780" y="9620"/>
                </a:moveTo>
                <a:cubicBezTo>
                  <a:pt x="15741" y="9684"/>
                  <a:pt x="15748" y="9732"/>
                  <a:pt x="15748" y="9811"/>
                </a:cubicBezTo>
                <a:cubicBezTo>
                  <a:pt x="15748" y="9916"/>
                  <a:pt x="15757" y="9998"/>
                  <a:pt x="15780" y="10096"/>
                </a:cubicBezTo>
                <a:cubicBezTo>
                  <a:pt x="15786" y="10122"/>
                  <a:pt x="15812" y="10231"/>
                  <a:pt x="15812" y="10160"/>
                </a:cubicBezTo>
              </a:path>
              <a:path w="318" h="573">
                <a:moveTo>
                  <a:pt x="15621" y="9938"/>
                </a:moveTo>
                <a:cubicBezTo>
                  <a:pt x="15727" y="9938"/>
                  <a:pt x="15832" y="9938"/>
                  <a:pt x="1593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Ink 12"/>
          <p:cNvSpPr/>
          <p:nvPr/>
        </p:nvSpPr>
        <p:spPr>
          <a:xfrm>
            <a:off x="5954760" y="3051000"/>
            <a:ext cx="1623960" cy="630360"/>
          </a:xfrm>
          <a:custGeom>
            <a:avLst/>
            <a:gdLst/>
            <a:ahLst/>
            <a:rect l="l" t="t" r="r" b="b"/>
            <a:pathLst>
              <a:path w="4509" h="1748">
                <a:moveTo>
                  <a:pt x="16542" y="9525"/>
                </a:moveTo>
                <a:cubicBezTo>
                  <a:pt x="16542" y="9615"/>
                  <a:pt x="16552" y="9673"/>
                  <a:pt x="16574" y="9747"/>
                </a:cubicBezTo>
                <a:cubicBezTo>
                  <a:pt x="16587" y="9788"/>
                  <a:pt x="16621" y="9852"/>
                  <a:pt x="16669" y="9874"/>
                </a:cubicBezTo>
                <a:cubicBezTo>
                  <a:pt x="16721" y="9897"/>
                  <a:pt x="16816" y="9870"/>
                  <a:pt x="16859" y="9842"/>
                </a:cubicBezTo>
                <a:cubicBezTo>
                  <a:pt x="16911" y="9808"/>
                  <a:pt x="16953" y="9789"/>
                  <a:pt x="16986" y="9747"/>
                </a:cubicBezTo>
                <a:cubicBezTo>
                  <a:pt x="17018" y="9716"/>
                  <a:pt x="17029" y="9705"/>
                  <a:pt x="17050" y="9684"/>
                </a:cubicBezTo>
              </a:path>
              <a:path w="4509" h="1748">
                <a:moveTo>
                  <a:pt x="17018" y="9430"/>
                </a:moveTo>
                <a:cubicBezTo>
                  <a:pt x="17005" y="9480"/>
                  <a:pt x="17002" y="9534"/>
                  <a:pt x="16986" y="9588"/>
                </a:cubicBezTo>
                <a:cubicBezTo>
                  <a:pt x="16957" y="9687"/>
                  <a:pt x="16954" y="9769"/>
                  <a:pt x="16954" y="9874"/>
                </a:cubicBezTo>
                <a:cubicBezTo>
                  <a:pt x="16954" y="9983"/>
                  <a:pt x="16958" y="10068"/>
                  <a:pt x="16986" y="10160"/>
                </a:cubicBezTo>
                <a:cubicBezTo>
                  <a:pt x="16986" y="10192"/>
                  <a:pt x="16986" y="10203"/>
                  <a:pt x="17018" y="10192"/>
                </a:cubicBezTo>
              </a:path>
              <a:path w="4509" h="1748">
                <a:moveTo>
                  <a:pt x="17590" y="9049"/>
                </a:moveTo>
                <a:cubicBezTo>
                  <a:pt x="17553" y="9109"/>
                  <a:pt x="17532" y="9166"/>
                  <a:pt x="17526" y="9239"/>
                </a:cubicBezTo>
                <a:cubicBezTo>
                  <a:pt x="17519" y="9324"/>
                  <a:pt x="17475" y="9406"/>
                  <a:pt x="17462" y="9493"/>
                </a:cubicBezTo>
                <a:cubicBezTo>
                  <a:pt x="17450" y="9574"/>
                  <a:pt x="17425" y="9740"/>
                  <a:pt x="17431" y="9811"/>
                </a:cubicBezTo>
                <a:cubicBezTo>
                  <a:pt x="17437" y="9884"/>
                  <a:pt x="17455" y="10033"/>
                  <a:pt x="17494" y="10096"/>
                </a:cubicBezTo>
                <a:cubicBezTo>
                  <a:pt x="17524" y="10144"/>
                  <a:pt x="17601" y="10218"/>
                  <a:pt x="17653" y="10224"/>
                </a:cubicBezTo>
                <a:cubicBezTo>
                  <a:pt x="17664" y="10224"/>
                  <a:pt x="17674" y="10224"/>
                  <a:pt x="17685" y="10224"/>
                </a:cubicBezTo>
              </a:path>
              <a:path w="4509" h="1748">
                <a:moveTo>
                  <a:pt x="17812" y="9684"/>
                </a:moveTo>
                <a:cubicBezTo>
                  <a:pt x="17868" y="9695"/>
                  <a:pt x="17910" y="9716"/>
                  <a:pt x="17970" y="9716"/>
                </a:cubicBezTo>
                <a:cubicBezTo>
                  <a:pt x="18047" y="9716"/>
                  <a:pt x="18100" y="9696"/>
                  <a:pt x="18161" y="9684"/>
                </a:cubicBezTo>
                <a:cubicBezTo>
                  <a:pt x="18214" y="9684"/>
                  <a:pt x="18224" y="9684"/>
                  <a:pt x="18256" y="9684"/>
                </a:cubicBezTo>
              </a:path>
              <a:path w="4509" h="1748">
                <a:moveTo>
                  <a:pt x="18383" y="9430"/>
                </a:moveTo>
                <a:cubicBezTo>
                  <a:pt x="18399" y="9364"/>
                  <a:pt x="18437" y="9341"/>
                  <a:pt x="18510" y="9334"/>
                </a:cubicBezTo>
                <a:cubicBezTo>
                  <a:pt x="18575" y="9328"/>
                  <a:pt x="18581" y="9331"/>
                  <a:pt x="18606" y="9366"/>
                </a:cubicBezTo>
                <a:cubicBezTo>
                  <a:pt x="18655" y="9433"/>
                  <a:pt x="18669" y="9434"/>
                  <a:pt x="18669" y="9525"/>
                </a:cubicBezTo>
                <a:cubicBezTo>
                  <a:pt x="18669" y="9606"/>
                  <a:pt x="18596" y="9663"/>
                  <a:pt x="18542" y="9716"/>
                </a:cubicBezTo>
                <a:cubicBezTo>
                  <a:pt x="18522" y="9736"/>
                  <a:pt x="18465" y="9813"/>
                  <a:pt x="18478" y="9842"/>
                </a:cubicBezTo>
                <a:cubicBezTo>
                  <a:pt x="18501" y="9894"/>
                  <a:pt x="18594" y="9874"/>
                  <a:pt x="18637" y="9874"/>
                </a:cubicBezTo>
                <a:cubicBezTo>
                  <a:pt x="18708" y="9874"/>
                  <a:pt x="18728" y="9859"/>
                  <a:pt x="18796" y="9842"/>
                </a:cubicBezTo>
                <a:cubicBezTo>
                  <a:pt x="18828" y="9842"/>
                  <a:pt x="18838" y="9842"/>
                  <a:pt x="18828" y="9811"/>
                </a:cubicBezTo>
              </a:path>
              <a:path w="4509" h="1748">
                <a:moveTo>
                  <a:pt x="18986" y="9398"/>
                </a:moveTo>
                <a:cubicBezTo>
                  <a:pt x="18986" y="9387"/>
                  <a:pt x="18986" y="9377"/>
                  <a:pt x="18986" y="9366"/>
                </a:cubicBezTo>
                <a:cubicBezTo>
                  <a:pt x="18925" y="9382"/>
                  <a:pt x="18873" y="9426"/>
                  <a:pt x="18860" y="9493"/>
                </a:cubicBezTo>
                <a:cubicBezTo>
                  <a:pt x="18854" y="9522"/>
                  <a:pt x="18860" y="9559"/>
                  <a:pt x="18860" y="9588"/>
                </a:cubicBezTo>
                <a:cubicBezTo>
                  <a:pt x="18931" y="9588"/>
                  <a:pt x="18960" y="9576"/>
                  <a:pt x="19018" y="9557"/>
                </a:cubicBezTo>
                <a:cubicBezTo>
                  <a:pt x="19094" y="9532"/>
                  <a:pt x="19082" y="9472"/>
                  <a:pt x="19082" y="9398"/>
                </a:cubicBezTo>
                <a:cubicBezTo>
                  <a:pt x="19082" y="9343"/>
                  <a:pt x="19037" y="9366"/>
                  <a:pt x="18986" y="9366"/>
                </a:cubicBezTo>
              </a:path>
              <a:path w="4509" h="1748">
                <a:moveTo>
                  <a:pt x="18955" y="9588"/>
                </a:moveTo>
                <a:cubicBezTo>
                  <a:pt x="18945" y="9629"/>
                  <a:pt x="18938" y="9675"/>
                  <a:pt x="18923" y="9716"/>
                </a:cubicBezTo>
                <a:cubicBezTo>
                  <a:pt x="18888" y="9814"/>
                  <a:pt x="18882" y="9800"/>
                  <a:pt x="18955" y="9874"/>
                </a:cubicBezTo>
                <a:cubicBezTo>
                  <a:pt x="19016" y="9936"/>
                  <a:pt x="19051" y="9893"/>
                  <a:pt x="19114" y="9874"/>
                </a:cubicBezTo>
                <a:cubicBezTo>
                  <a:pt x="19160" y="9860"/>
                  <a:pt x="19193" y="9828"/>
                  <a:pt x="19209" y="9779"/>
                </a:cubicBezTo>
                <a:cubicBezTo>
                  <a:pt x="19241" y="9684"/>
                  <a:pt x="19178" y="9643"/>
                  <a:pt x="19145" y="9588"/>
                </a:cubicBezTo>
                <a:cubicBezTo>
                  <a:pt x="19115" y="9539"/>
                  <a:pt x="19117" y="9510"/>
                  <a:pt x="19050" y="9493"/>
                </a:cubicBezTo>
              </a:path>
              <a:path w="4509" h="1748">
                <a:moveTo>
                  <a:pt x="19558" y="9366"/>
                </a:moveTo>
                <a:cubicBezTo>
                  <a:pt x="19502" y="9324"/>
                  <a:pt x="19474" y="9334"/>
                  <a:pt x="19399" y="9334"/>
                </a:cubicBezTo>
                <a:cubicBezTo>
                  <a:pt x="19330" y="9334"/>
                  <a:pt x="19298" y="9352"/>
                  <a:pt x="19240" y="9366"/>
                </a:cubicBezTo>
                <a:cubicBezTo>
                  <a:pt x="19277" y="9415"/>
                  <a:pt x="19272" y="9431"/>
                  <a:pt x="19272" y="9493"/>
                </a:cubicBezTo>
                <a:cubicBezTo>
                  <a:pt x="19272" y="9525"/>
                  <a:pt x="19272" y="9536"/>
                  <a:pt x="19272" y="9557"/>
                </a:cubicBezTo>
                <a:cubicBezTo>
                  <a:pt x="19330" y="9557"/>
                  <a:pt x="19347" y="9531"/>
                  <a:pt x="19399" y="9525"/>
                </a:cubicBezTo>
                <a:cubicBezTo>
                  <a:pt x="19456" y="9519"/>
                  <a:pt x="19516" y="9530"/>
                  <a:pt x="19558" y="9557"/>
                </a:cubicBezTo>
                <a:cubicBezTo>
                  <a:pt x="19615" y="9594"/>
                  <a:pt x="19633" y="9617"/>
                  <a:pt x="19653" y="9684"/>
                </a:cubicBezTo>
                <a:cubicBezTo>
                  <a:pt x="19668" y="9736"/>
                  <a:pt x="19608" y="9766"/>
                  <a:pt x="19590" y="9779"/>
                </a:cubicBezTo>
                <a:cubicBezTo>
                  <a:pt x="19523" y="9829"/>
                  <a:pt x="19522" y="9842"/>
                  <a:pt x="19431" y="9842"/>
                </a:cubicBezTo>
                <a:cubicBezTo>
                  <a:pt x="19378" y="9842"/>
                  <a:pt x="19383" y="9855"/>
                  <a:pt x="19368" y="9811"/>
                </a:cubicBezTo>
              </a:path>
              <a:path w="4509" h="1748">
                <a:moveTo>
                  <a:pt x="19812" y="9716"/>
                </a:moveTo>
                <a:cubicBezTo>
                  <a:pt x="19782" y="9716"/>
                  <a:pt x="19782" y="9716"/>
                  <a:pt x="19812" y="9716"/>
                </a:cubicBezTo>
              </a:path>
              <a:path w="4509" h="1748">
                <a:moveTo>
                  <a:pt x="20066" y="9239"/>
                </a:moveTo>
                <a:cubicBezTo>
                  <a:pt x="20009" y="9281"/>
                  <a:pt x="19966" y="9284"/>
                  <a:pt x="19939" y="9366"/>
                </a:cubicBezTo>
                <a:cubicBezTo>
                  <a:pt x="19922" y="9418"/>
                  <a:pt x="19913" y="9460"/>
                  <a:pt x="19939" y="9493"/>
                </a:cubicBezTo>
                <a:cubicBezTo>
                  <a:pt x="19965" y="9526"/>
                  <a:pt x="20023" y="9540"/>
                  <a:pt x="20066" y="9525"/>
                </a:cubicBezTo>
                <a:cubicBezTo>
                  <a:pt x="20126" y="9503"/>
                  <a:pt x="20186" y="9461"/>
                  <a:pt x="20193" y="9398"/>
                </a:cubicBezTo>
                <a:cubicBezTo>
                  <a:pt x="20196" y="9375"/>
                  <a:pt x="20157" y="9279"/>
                  <a:pt x="20130" y="9271"/>
                </a:cubicBezTo>
                <a:cubicBezTo>
                  <a:pt x="20069" y="9252"/>
                  <a:pt x="20043" y="9273"/>
                  <a:pt x="20002" y="9303"/>
                </a:cubicBezTo>
              </a:path>
              <a:path w="4509" h="1748">
                <a:moveTo>
                  <a:pt x="20130" y="9493"/>
                </a:moveTo>
                <a:cubicBezTo>
                  <a:pt x="20094" y="9538"/>
                  <a:pt x="20022" y="9579"/>
                  <a:pt x="20002" y="9620"/>
                </a:cubicBezTo>
                <a:cubicBezTo>
                  <a:pt x="19984" y="9656"/>
                  <a:pt x="20008" y="9757"/>
                  <a:pt x="20034" y="9779"/>
                </a:cubicBezTo>
                <a:cubicBezTo>
                  <a:pt x="20092" y="9829"/>
                  <a:pt x="20127" y="9796"/>
                  <a:pt x="20193" y="9779"/>
                </a:cubicBezTo>
                <a:cubicBezTo>
                  <a:pt x="20254" y="9764"/>
                  <a:pt x="20315" y="9757"/>
                  <a:pt x="20320" y="9684"/>
                </a:cubicBezTo>
                <a:cubicBezTo>
                  <a:pt x="20328" y="9574"/>
                  <a:pt x="20299" y="9592"/>
                  <a:pt x="20225" y="9525"/>
                </a:cubicBezTo>
                <a:cubicBezTo>
                  <a:pt x="20179" y="9483"/>
                  <a:pt x="20177" y="9508"/>
                  <a:pt x="20161" y="9462"/>
                </a:cubicBezTo>
              </a:path>
              <a:path w="4509" h="1748">
                <a:moveTo>
                  <a:pt x="20256" y="8795"/>
                </a:moveTo>
                <a:cubicBezTo>
                  <a:pt x="20324" y="8795"/>
                  <a:pt x="20342" y="8825"/>
                  <a:pt x="20384" y="8858"/>
                </a:cubicBezTo>
                <a:cubicBezTo>
                  <a:pt x="20464" y="8921"/>
                  <a:pt x="20472" y="8975"/>
                  <a:pt x="20510" y="9049"/>
                </a:cubicBezTo>
                <a:cubicBezTo>
                  <a:pt x="20546" y="9121"/>
                  <a:pt x="20600" y="9195"/>
                  <a:pt x="20638" y="9271"/>
                </a:cubicBezTo>
                <a:cubicBezTo>
                  <a:pt x="20680" y="9356"/>
                  <a:pt x="20719" y="9589"/>
                  <a:pt x="20701" y="9684"/>
                </a:cubicBezTo>
                <a:cubicBezTo>
                  <a:pt x="20687" y="9757"/>
                  <a:pt x="20664" y="9868"/>
                  <a:pt x="20638" y="9938"/>
                </a:cubicBezTo>
                <a:cubicBezTo>
                  <a:pt x="20612" y="10008"/>
                  <a:pt x="20553" y="10062"/>
                  <a:pt x="20510" y="10096"/>
                </a:cubicBezTo>
                <a:cubicBezTo>
                  <a:pt x="20485" y="10116"/>
                  <a:pt x="20384" y="10223"/>
                  <a:pt x="20447" y="10128"/>
                </a:cubicBezTo>
              </a:path>
              <a:path w="4509" h="1748">
                <a:moveTo>
                  <a:pt x="20415" y="8509"/>
                </a:moveTo>
                <a:cubicBezTo>
                  <a:pt x="20525" y="8546"/>
                  <a:pt x="20526" y="8528"/>
                  <a:pt x="20638" y="8509"/>
                </a:cubicBezTo>
                <a:cubicBezTo>
                  <a:pt x="20684" y="8501"/>
                  <a:pt x="20859" y="8472"/>
                  <a:pt x="20892" y="8477"/>
                </a:cubicBezTo>
                <a:cubicBezTo>
                  <a:pt x="20941" y="8485"/>
                  <a:pt x="20939" y="8485"/>
                  <a:pt x="20987" y="8509"/>
                </a:cubicBezTo>
                <a:cubicBezTo>
                  <a:pt x="20987" y="8592"/>
                  <a:pt x="20964" y="8656"/>
                  <a:pt x="20955" y="8731"/>
                </a:cubicBezTo>
                <a:cubicBezTo>
                  <a:pt x="20927" y="8951"/>
                  <a:pt x="20967" y="9185"/>
                  <a:pt x="20987" y="9398"/>
                </a:cubicBezTo>
                <a:cubicBezTo>
                  <a:pt x="21007" y="9612"/>
                  <a:pt x="20990" y="9823"/>
                  <a:pt x="21018" y="10033"/>
                </a:cubicBezTo>
                <a:cubicBezTo>
                  <a:pt x="21028" y="10105"/>
                  <a:pt x="21029" y="10130"/>
                  <a:pt x="21050" y="10192"/>
                </a:cubicBezTo>
                <a:cubicBezTo>
                  <a:pt x="20891" y="10192"/>
                  <a:pt x="20733" y="10192"/>
                  <a:pt x="2057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Ink 13"/>
          <p:cNvSpPr/>
          <p:nvPr/>
        </p:nvSpPr>
        <p:spPr>
          <a:xfrm>
            <a:off x="3989520" y="3921120"/>
            <a:ext cx="982440" cy="617400"/>
          </a:xfrm>
          <a:custGeom>
            <a:avLst/>
            <a:gdLst/>
            <a:ahLst/>
            <a:rect l="l" t="t" r="r" b="b"/>
            <a:pathLst>
              <a:path w="2731" h="1716">
                <a:moveTo>
                  <a:pt x="11081" y="11970"/>
                </a:moveTo>
                <a:cubicBezTo>
                  <a:pt x="11139" y="11970"/>
                  <a:pt x="11156" y="11942"/>
                  <a:pt x="11208" y="11938"/>
                </a:cubicBezTo>
                <a:cubicBezTo>
                  <a:pt x="11311" y="11931"/>
                  <a:pt x="11406" y="11924"/>
                  <a:pt x="11494" y="11906"/>
                </a:cubicBezTo>
                <a:cubicBezTo>
                  <a:pt x="11543" y="11896"/>
                  <a:pt x="11795" y="11906"/>
                  <a:pt x="11748" y="11906"/>
                </a:cubicBezTo>
                <a:cubicBezTo>
                  <a:pt x="11568" y="11906"/>
                  <a:pt x="11091" y="11906"/>
                  <a:pt x="11271" y="11906"/>
                </a:cubicBezTo>
                <a:cubicBezTo>
                  <a:pt x="11368" y="11906"/>
                  <a:pt x="11723" y="11863"/>
                  <a:pt x="11748" y="11938"/>
                </a:cubicBezTo>
              </a:path>
              <a:path w="2731" h="1716">
                <a:moveTo>
                  <a:pt x="12573" y="11589"/>
                </a:moveTo>
                <a:cubicBezTo>
                  <a:pt x="12586" y="11535"/>
                  <a:pt x="12598" y="11512"/>
                  <a:pt x="12636" y="11494"/>
                </a:cubicBezTo>
                <a:cubicBezTo>
                  <a:pt x="12722" y="11454"/>
                  <a:pt x="12694" y="11423"/>
                  <a:pt x="12795" y="11398"/>
                </a:cubicBezTo>
                <a:cubicBezTo>
                  <a:pt x="12851" y="11384"/>
                  <a:pt x="12915" y="11395"/>
                  <a:pt x="12954" y="11430"/>
                </a:cubicBezTo>
                <a:cubicBezTo>
                  <a:pt x="12998" y="11469"/>
                  <a:pt x="12986" y="11502"/>
                  <a:pt x="12986" y="11557"/>
                </a:cubicBezTo>
                <a:cubicBezTo>
                  <a:pt x="12986" y="11654"/>
                  <a:pt x="12907" y="11707"/>
                  <a:pt x="12859" y="11779"/>
                </a:cubicBezTo>
                <a:cubicBezTo>
                  <a:pt x="12809" y="11854"/>
                  <a:pt x="12732" y="11925"/>
                  <a:pt x="12700" y="12002"/>
                </a:cubicBezTo>
                <a:cubicBezTo>
                  <a:pt x="12687" y="12034"/>
                  <a:pt x="12677" y="12062"/>
                  <a:pt x="12668" y="12097"/>
                </a:cubicBezTo>
                <a:cubicBezTo>
                  <a:pt x="12736" y="12097"/>
                  <a:pt x="12758" y="12071"/>
                  <a:pt x="12827" y="12065"/>
                </a:cubicBezTo>
                <a:cubicBezTo>
                  <a:pt x="12891" y="12060"/>
                  <a:pt x="13181" y="12111"/>
                  <a:pt x="13208" y="12097"/>
                </a:cubicBezTo>
                <a:cubicBezTo>
                  <a:pt x="13208" y="12086"/>
                  <a:pt x="13208" y="12076"/>
                  <a:pt x="13208" y="12065"/>
                </a:cubicBezTo>
              </a:path>
              <a:path w="2731" h="1716">
                <a:moveTo>
                  <a:pt x="13335" y="11652"/>
                </a:moveTo>
                <a:cubicBezTo>
                  <a:pt x="13398" y="11715"/>
                  <a:pt x="13457" y="11759"/>
                  <a:pt x="13526" y="11811"/>
                </a:cubicBezTo>
                <a:cubicBezTo>
                  <a:pt x="13579" y="11851"/>
                  <a:pt x="13635" y="11894"/>
                  <a:pt x="13684" y="11938"/>
                </a:cubicBezTo>
                <a:cubicBezTo>
                  <a:pt x="13730" y="11979"/>
                  <a:pt x="13753" y="12019"/>
                  <a:pt x="13811" y="12033"/>
                </a:cubicBezTo>
              </a:path>
              <a:path w="2731" h="1716">
                <a:moveTo>
                  <a:pt x="13748" y="11716"/>
                </a:moveTo>
                <a:cubicBezTo>
                  <a:pt x="13708" y="11756"/>
                  <a:pt x="13635" y="11822"/>
                  <a:pt x="13621" y="11874"/>
                </a:cubicBezTo>
                <a:cubicBezTo>
                  <a:pt x="13598" y="11961"/>
                  <a:pt x="13554" y="12013"/>
                  <a:pt x="13526" y="12097"/>
                </a:cubicBezTo>
                <a:cubicBezTo>
                  <a:pt x="13510" y="12147"/>
                  <a:pt x="13515" y="12147"/>
                  <a:pt x="13462" y="12160"/>
                </a:cubicBezTo>
              </a:path>
              <a:path w="2731" h="1716">
                <a:moveTo>
                  <a:pt x="12827" y="10922"/>
                </a:moveTo>
                <a:cubicBezTo>
                  <a:pt x="12765" y="10897"/>
                  <a:pt x="12767" y="10886"/>
                  <a:pt x="12700" y="10922"/>
                </a:cubicBezTo>
                <a:cubicBezTo>
                  <a:pt x="12644" y="10952"/>
                  <a:pt x="12575" y="11061"/>
                  <a:pt x="12541" y="11112"/>
                </a:cubicBezTo>
                <a:cubicBezTo>
                  <a:pt x="12452" y="11244"/>
                  <a:pt x="12412" y="11383"/>
                  <a:pt x="12351" y="11525"/>
                </a:cubicBezTo>
                <a:cubicBezTo>
                  <a:pt x="12292" y="11663"/>
                  <a:pt x="12236" y="11845"/>
                  <a:pt x="12256" y="12002"/>
                </a:cubicBezTo>
                <a:cubicBezTo>
                  <a:pt x="12274" y="12141"/>
                  <a:pt x="12339" y="12267"/>
                  <a:pt x="12414" y="12382"/>
                </a:cubicBezTo>
                <a:cubicBezTo>
                  <a:pt x="12466" y="12461"/>
                  <a:pt x="12570" y="12578"/>
                  <a:pt x="12668" y="12605"/>
                </a:cubicBezTo>
                <a:cubicBezTo>
                  <a:pt x="12732" y="12605"/>
                  <a:pt x="12753" y="12605"/>
                  <a:pt x="12795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Ink 14"/>
          <p:cNvSpPr/>
          <p:nvPr/>
        </p:nvSpPr>
        <p:spPr>
          <a:xfrm>
            <a:off x="5268960" y="3782880"/>
            <a:ext cx="1474920" cy="731880"/>
          </a:xfrm>
          <a:custGeom>
            <a:avLst/>
            <a:gdLst/>
            <a:ahLst/>
            <a:rect l="l" t="t" r="r" b="b"/>
            <a:pathLst>
              <a:path w="4096" h="2033">
                <a:moveTo>
                  <a:pt x="14827" y="11366"/>
                </a:moveTo>
                <a:cubicBezTo>
                  <a:pt x="14827" y="11530"/>
                  <a:pt x="14820" y="11688"/>
                  <a:pt x="14859" y="11843"/>
                </a:cubicBezTo>
                <a:cubicBezTo>
                  <a:pt x="14864" y="11861"/>
                  <a:pt x="14859" y="12022"/>
                  <a:pt x="14859" y="11938"/>
                </a:cubicBezTo>
              </a:path>
              <a:path w="4096" h="2033">
                <a:moveTo>
                  <a:pt x="14637" y="11716"/>
                </a:moveTo>
                <a:cubicBezTo>
                  <a:pt x="14741" y="11716"/>
                  <a:pt x="14825" y="11700"/>
                  <a:pt x="14922" y="11684"/>
                </a:cubicBezTo>
                <a:cubicBezTo>
                  <a:pt x="14959" y="11678"/>
                  <a:pt x="15161" y="11649"/>
                  <a:pt x="15176" y="11652"/>
                </a:cubicBezTo>
                <a:cubicBezTo>
                  <a:pt x="15187" y="11663"/>
                  <a:pt x="15197" y="11673"/>
                  <a:pt x="15208" y="11684"/>
                </a:cubicBezTo>
              </a:path>
              <a:path w="4096" h="2033">
                <a:moveTo>
                  <a:pt x="15653" y="11335"/>
                </a:moveTo>
                <a:cubicBezTo>
                  <a:pt x="15756" y="11335"/>
                  <a:pt x="15842" y="11319"/>
                  <a:pt x="15938" y="11303"/>
                </a:cubicBezTo>
                <a:cubicBezTo>
                  <a:pt x="16022" y="11289"/>
                  <a:pt x="16111" y="11285"/>
                  <a:pt x="16192" y="11271"/>
                </a:cubicBezTo>
                <a:cubicBezTo>
                  <a:pt x="16241" y="11263"/>
                  <a:pt x="16353" y="11267"/>
                  <a:pt x="16383" y="11303"/>
                </a:cubicBezTo>
                <a:cubicBezTo>
                  <a:pt x="16451" y="11385"/>
                  <a:pt x="16397" y="11413"/>
                  <a:pt x="16383" y="11494"/>
                </a:cubicBezTo>
                <a:cubicBezTo>
                  <a:pt x="16368" y="11576"/>
                  <a:pt x="16325" y="11627"/>
                  <a:pt x="16320" y="11716"/>
                </a:cubicBezTo>
                <a:cubicBezTo>
                  <a:pt x="16317" y="11776"/>
                  <a:pt x="16272" y="11890"/>
                  <a:pt x="16288" y="11938"/>
                </a:cubicBezTo>
                <a:cubicBezTo>
                  <a:pt x="16296" y="11961"/>
                  <a:pt x="16320" y="12034"/>
                  <a:pt x="16320" y="11970"/>
                </a:cubicBezTo>
              </a:path>
              <a:path w="4096" h="2033">
                <a:moveTo>
                  <a:pt x="16002" y="11779"/>
                </a:moveTo>
                <a:cubicBezTo>
                  <a:pt x="16215" y="11779"/>
                  <a:pt x="16435" y="11797"/>
                  <a:pt x="16637" y="11748"/>
                </a:cubicBezTo>
                <a:cubicBezTo>
                  <a:pt x="16648" y="11748"/>
                  <a:pt x="16658" y="11748"/>
                  <a:pt x="16669" y="11748"/>
                </a:cubicBezTo>
              </a:path>
              <a:path w="4096" h="2033">
                <a:moveTo>
                  <a:pt x="17113" y="11112"/>
                </a:moveTo>
                <a:cubicBezTo>
                  <a:pt x="17113" y="11044"/>
                  <a:pt x="17068" y="11205"/>
                  <a:pt x="17050" y="11240"/>
                </a:cubicBezTo>
                <a:cubicBezTo>
                  <a:pt x="16991" y="11357"/>
                  <a:pt x="16967" y="11491"/>
                  <a:pt x="16954" y="11620"/>
                </a:cubicBezTo>
                <a:cubicBezTo>
                  <a:pt x="16942" y="11740"/>
                  <a:pt x="16949" y="11860"/>
                  <a:pt x="16986" y="11970"/>
                </a:cubicBezTo>
                <a:cubicBezTo>
                  <a:pt x="17016" y="12060"/>
                  <a:pt x="17048" y="12128"/>
                  <a:pt x="17145" y="12160"/>
                </a:cubicBezTo>
                <a:cubicBezTo>
                  <a:pt x="17156" y="12160"/>
                  <a:pt x="17166" y="12160"/>
                  <a:pt x="17177" y="12160"/>
                </a:cubicBezTo>
              </a:path>
              <a:path w="4096" h="2033">
                <a:moveTo>
                  <a:pt x="17462" y="11462"/>
                </a:moveTo>
                <a:cubicBezTo>
                  <a:pt x="17405" y="11477"/>
                  <a:pt x="17379" y="11523"/>
                  <a:pt x="17367" y="11589"/>
                </a:cubicBezTo>
                <a:cubicBezTo>
                  <a:pt x="17350" y="11682"/>
                  <a:pt x="17358" y="11763"/>
                  <a:pt x="17367" y="11843"/>
                </a:cubicBezTo>
                <a:cubicBezTo>
                  <a:pt x="17377" y="11936"/>
                  <a:pt x="17385" y="11995"/>
                  <a:pt x="17494" y="12002"/>
                </a:cubicBezTo>
                <a:cubicBezTo>
                  <a:pt x="17601" y="12009"/>
                  <a:pt x="17592" y="12012"/>
                  <a:pt x="17653" y="11938"/>
                </a:cubicBezTo>
                <a:cubicBezTo>
                  <a:pt x="17695" y="11887"/>
                  <a:pt x="17712" y="11814"/>
                  <a:pt x="17716" y="11748"/>
                </a:cubicBezTo>
                <a:cubicBezTo>
                  <a:pt x="17721" y="11661"/>
                  <a:pt x="17678" y="11588"/>
                  <a:pt x="17621" y="11525"/>
                </a:cubicBezTo>
                <a:cubicBezTo>
                  <a:pt x="17569" y="11468"/>
                  <a:pt x="17545" y="11490"/>
                  <a:pt x="17494" y="11462"/>
                </a:cubicBezTo>
                <a:cubicBezTo>
                  <a:pt x="17483" y="11451"/>
                  <a:pt x="17473" y="11441"/>
                  <a:pt x="17462" y="11430"/>
                </a:cubicBezTo>
              </a:path>
              <a:path w="4096" h="2033">
                <a:moveTo>
                  <a:pt x="17875" y="11112"/>
                </a:moveTo>
                <a:cubicBezTo>
                  <a:pt x="17887" y="11159"/>
                  <a:pt x="17936" y="11230"/>
                  <a:pt x="17970" y="11271"/>
                </a:cubicBezTo>
                <a:cubicBezTo>
                  <a:pt x="18036" y="11351"/>
                  <a:pt x="18119" y="11429"/>
                  <a:pt x="18161" y="11525"/>
                </a:cubicBezTo>
                <a:cubicBezTo>
                  <a:pt x="18213" y="11643"/>
                  <a:pt x="18281" y="11743"/>
                  <a:pt x="18288" y="11874"/>
                </a:cubicBezTo>
                <a:cubicBezTo>
                  <a:pt x="18292" y="11958"/>
                  <a:pt x="18268" y="12088"/>
                  <a:pt x="18224" y="12160"/>
                </a:cubicBezTo>
                <a:cubicBezTo>
                  <a:pt x="18201" y="12198"/>
                  <a:pt x="18123" y="12237"/>
                  <a:pt x="18098" y="12192"/>
                </a:cubicBezTo>
                <a:cubicBezTo>
                  <a:pt x="18098" y="12181"/>
                  <a:pt x="18098" y="12171"/>
                  <a:pt x="18098" y="12160"/>
                </a:cubicBezTo>
              </a:path>
              <a:path w="4096" h="2033">
                <a:moveTo>
                  <a:pt x="17844" y="10509"/>
                </a:moveTo>
                <a:cubicBezTo>
                  <a:pt x="17952" y="10620"/>
                  <a:pt x="18092" y="10716"/>
                  <a:pt x="18193" y="10827"/>
                </a:cubicBezTo>
                <a:cubicBezTo>
                  <a:pt x="18290" y="10934"/>
                  <a:pt x="18404" y="11084"/>
                  <a:pt x="18478" y="11208"/>
                </a:cubicBezTo>
                <a:cubicBezTo>
                  <a:pt x="18561" y="11348"/>
                  <a:pt x="18654" y="11495"/>
                  <a:pt x="18701" y="11652"/>
                </a:cubicBezTo>
                <a:cubicBezTo>
                  <a:pt x="18749" y="11811"/>
                  <a:pt x="18743" y="11969"/>
                  <a:pt x="18701" y="12128"/>
                </a:cubicBezTo>
                <a:cubicBezTo>
                  <a:pt x="18666" y="12261"/>
                  <a:pt x="18581" y="12339"/>
                  <a:pt x="18510" y="12446"/>
                </a:cubicBezTo>
                <a:cubicBezTo>
                  <a:pt x="18452" y="12533"/>
                  <a:pt x="18477" y="12480"/>
                  <a:pt x="18415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Ink 15"/>
          <p:cNvSpPr/>
          <p:nvPr/>
        </p:nvSpPr>
        <p:spPr>
          <a:xfrm>
            <a:off x="37148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0319" y="13684"/>
                </a:moveTo>
                <a:cubicBezTo>
                  <a:pt x="10319" y="13695"/>
                  <a:pt x="10319" y="13705"/>
                  <a:pt x="1031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Ink 16"/>
          <p:cNvSpPr/>
          <p:nvPr/>
        </p:nvSpPr>
        <p:spPr>
          <a:xfrm>
            <a:off x="2903400" y="4822920"/>
            <a:ext cx="708120" cy="480960"/>
          </a:xfrm>
          <a:custGeom>
            <a:avLst/>
            <a:gdLst/>
            <a:ahLst/>
            <a:rect l="l" t="t" r="r" b="b"/>
            <a:pathLst>
              <a:path w="1970" h="1335">
                <a:moveTo>
                  <a:pt x="8064" y="13398"/>
                </a:moveTo>
                <a:cubicBezTo>
                  <a:pt x="8064" y="13604"/>
                  <a:pt x="8071" y="13806"/>
                  <a:pt x="8096" y="14002"/>
                </a:cubicBezTo>
                <a:cubicBezTo>
                  <a:pt x="8112" y="14131"/>
                  <a:pt x="8142" y="14255"/>
                  <a:pt x="8160" y="14383"/>
                </a:cubicBezTo>
                <a:cubicBezTo>
                  <a:pt x="8163" y="14406"/>
                  <a:pt x="8129" y="14732"/>
                  <a:pt x="8192" y="14732"/>
                </a:cubicBezTo>
                <a:cubicBezTo>
                  <a:pt x="8252" y="14732"/>
                  <a:pt x="8361" y="14663"/>
                  <a:pt x="8414" y="14637"/>
                </a:cubicBezTo>
                <a:cubicBezTo>
                  <a:pt x="8510" y="14589"/>
                  <a:pt x="8658" y="14577"/>
                  <a:pt x="8763" y="14573"/>
                </a:cubicBezTo>
                <a:cubicBezTo>
                  <a:pt x="8833" y="14570"/>
                  <a:pt x="8864" y="14595"/>
                  <a:pt x="8922" y="14605"/>
                </a:cubicBezTo>
                <a:cubicBezTo>
                  <a:pt x="8954" y="14605"/>
                  <a:pt x="8964" y="14605"/>
                  <a:pt x="8985" y="14605"/>
                </a:cubicBezTo>
              </a:path>
              <a:path w="1970" h="1335">
                <a:moveTo>
                  <a:pt x="9112" y="14319"/>
                </a:moveTo>
                <a:cubicBezTo>
                  <a:pt x="9144" y="14264"/>
                  <a:pt x="9213" y="14214"/>
                  <a:pt x="9239" y="14160"/>
                </a:cubicBezTo>
                <a:cubicBezTo>
                  <a:pt x="9271" y="14092"/>
                  <a:pt x="9303" y="14041"/>
                  <a:pt x="9303" y="13970"/>
                </a:cubicBezTo>
                <a:cubicBezTo>
                  <a:pt x="9303" y="13934"/>
                  <a:pt x="9300" y="13920"/>
                  <a:pt x="9271" y="13906"/>
                </a:cubicBezTo>
                <a:cubicBezTo>
                  <a:pt x="9215" y="13963"/>
                  <a:pt x="9183" y="13966"/>
                  <a:pt x="9144" y="14034"/>
                </a:cubicBezTo>
                <a:cubicBezTo>
                  <a:pt x="9108" y="14098"/>
                  <a:pt x="9091" y="14214"/>
                  <a:pt x="9112" y="14288"/>
                </a:cubicBezTo>
                <a:cubicBezTo>
                  <a:pt x="9122" y="14325"/>
                  <a:pt x="9197" y="14434"/>
                  <a:pt x="9239" y="14446"/>
                </a:cubicBezTo>
                <a:cubicBezTo>
                  <a:pt x="9299" y="14463"/>
                  <a:pt x="9388" y="14451"/>
                  <a:pt x="9430" y="14414"/>
                </a:cubicBezTo>
                <a:cubicBezTo>
                  <a:pt x="9473" y="14373"/>
                  <a:pt x="9494" y="14351"/>
                  <a:pt x="9525" y="14319"/>
                </a:cubicBezTo>
              </a:path>
              <a:path w="1970" h="1335">
                <a:moveTo>
                  <a:pt x="9684" y="13621"/>
                </a:moveTo>
                <a:cubicBezTo>
                  <a:pt x="9700" y="13684"/>
                  <a:pt x="9701" y="13741"/>
                  <a:pt x="9716" y="13811"/>
                </a:cubicBezTo>
                <a:cubicBezTo>
                  <a:pt x="9741" y="13927"/>
                  <a:pt x="9763" y="14044"/>
                  <a:pt x="9779" y="14160"/>
                </a:cubicBezTo>
                <a:cubicBezTo>
                  <a:pt x="9791" y="14248"/>
                  <a:pt x="9828" y="14340"/>
                  <a:pt x="9842" y="14414"/>
                </a:cubicBezTo>
                <a:cubicBezTo>
                  <a:pt x="9842" y="14435"/>
                  <a:pt x="9842" y="14457"/>
                  <a:pt x="9842" y="14478"/>
                </a:cubicBezTo>
              </a:path>
              <a:path w="1970" h="1335">
                <a:moveTo>
                  <a:pt x="9620" y="14160"/>
                </a:moveTo>
                <a:cubicBezTo>
                  <a:pt x="9736" y="14160"/>
                  <a:pt x="9839" y="14162"/>
                  <a:pt x="9938" y="14192"/>
                </a:cubicBezTo>
                <a:cubicBezTo>
                  <a:pt x="9963" y="14200"/>
                  <a:pt x="10007" y="14192"/>
                  <a:pt x="10033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nk 17"/>
          <p:cNvSpPr/>
          <p:nvPr/>
        </p:nvSpPr>
        <p:spPr>
          <a:xfrm>
            <a:off x="3807000" y="4960800"/>
            <a:ext cx="193680" cy="217800"/>
          </a:xfrm>
          <a:custGeom>
            <a:avLst/>
            <a:gdLst/>
            <a:ahLst/>
            <a:rect l="l" t="t" r="r" b="b"/>
            <a:pathLst>
              <a:path w="540" h="604">
                <a:moveTo>
                  <a:pt x="10954" y="13780"/>
                </a:moveTo>
                <a:cubicBezTo>
                  <a:pt x="10874" y="13809"/>
                  <a:pt x="10806" y="13817"/>
                  <a:pt x="10732" y="13843"/>
                </a:cubicBezTo>
                <a:cubicBezTo>
                  <a:pt x="10686" y="13859"/>
                  <a:pt x="10594" y="13920"/>
                  <a:pt x="10573" y="13970"/>
                </a:cubicBezTo>
                <a:cubicBezTo>
                  <a:pt x="10573" y="13981"/>
                  <a:pt x="10573" y="13991"/>
                  <a:pt x="10573" y="14002"/>
                </a:cubicBezTo>
                <a:cubicBezTo>
                  <a:pt x="10624" y="14043"/>
                  <a:pt x="10697" y="14085"/>
                  <a:pt x="10763" y="14097"/>
                </a:cubicBezTo>
                <a:cubicBezTo>
                  <a:pt x="10852" y="14113"/>
                  <a:pt x="10938" y="14137"/>
                  <a:pt x="11017" y="14192"/>
                </a:cubicBezTo>
                <a:cubicBezTo>
                  <a:pt x="11062" y="14223"/>
                  <a:pt x="11092" y="14248"/>
                  <a:pt x="11112" y="14288"/>
                </a:cubicBezTo>
                <a:cubicBezTo>
                  <a:pt x="11076" y="14359"/>
                  <a:pt x="11049" y="14328"/>
                  <a:pt x="10986" y="14351"/>
                </a:cubicBezTo>
                <a:cubicBezTo>
                  <a:pt x="10935" y="14370"/>
                  <a:pt x="10836" y="14384"/>
                  <a:pt x="10795" y="14319"/>
                </a:cubicBezTo>
                <a:cubicBezTo>
                  <a:pt x="10795" y="14288"/>
                  <a:pt x="10795" y="14277"/>
                  <a:pt x="1079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nk 18"/>
          <p:cNvSpPr/>
          <p:nvPr/>
        </p:nvSpPr>
        <p:spPr>
          <a:xfrm>
            <a:off x="4332240" y="4743360"/>
            <a:ext cx="1189080" cy="584280"/>
          </a:xfrm>
          <a:custGeom>
            <a:avLst/>
            <a:gdLst/>
            <a:ahLst/>
            <a:rect l="l" t="t" r="r" b="b"/>
            <a:pathLst>
              <a:path w="3303" h="1621">
                <a:moveTo>
                  <a:pt x="12510" y="13716"/>
                </a:moveTo>
                <a:cubicBezTo>
                  <a:pt x="12520" y="13705"/>
                  <a:pt x="12531" y="13695"/>
                  <a:pt x="12541" y="13684"/>
                </a:cubicBezTo>
                <a:cubicBezTo>
                  <a:pt x="12465" y="13625"/>
                  <a:pt x="12439" y="13669"/>
                  <a:pt x="12351" y="13684"/>
                </a:cubicBezTo>
                <a:cubicBezTo>
                  <a:pt x="12236" y="13703"/>
                  <a:pt x="12222" y="13748"/>
                  <a:pt x="12128" y="13811"/>
                </a:cubicBezTo>
                <a:cubicBezTo>
                  <a:pt x="12066" y="13852"/>
                  <a:pt x="12020" y="13912"/>
                  <a:pt x="12065" y="13970"/>
                </a:cubicBezTo>
                <a:cubicBezTo>
                  <a:pt x="12119" y="14039"/>
                  <a:pt x="12201" y="14081"/>
                  <a:pt x="12287" y="14097"/>
                </a:cubicBezTo>
                <a:cubicBezTo>
                  <a:pt x="12359" y="14111"/>
                  <a:pt x="12486" y="14129"/>
                  <a:pt x="12541" y="14192"/>
                </a:cubicBezTo>
                <a:cubicBezTo>
                  <a:pt x="12541" y="14237"/>
                  <a:pt x="12547" y="14260"/>
                  <a:pt x="12573" y="14288"/>
                </a:cubicBezTo>
                <a:cubicBezTo>
                  <a:pt x="12485" y="14331"/>
                  <a:pt x="12405" y="14355"/>
                  <a:pt x="12319" y="14383"/>
                </a:cubicBezTo>
                <a:cubicBezTo>
                  <a:pt x="12219" y="14416"/>
                  <a:pt x="12204" y="14428"/>
                  <a:pt x="12128" y="14351"/>
                </a:cubicBezTo>
                <a:cubicBezTo>
                  <a:pt x="12118" y="14340"/>
                  <a:pt x="12107" y="14330"/>
                  <a:pt x="12097" y="14319"/>
                </a:cubicBezTo>
              </a:path>
              <a:path w="3303" h="1621">
                <a:moveTo>
                  <a:pt x="12795" y="13780"/>
                </a:moveTo>
                <a:cubicBezTo>
                  <a:pt x="12795" y="13860"/>
                  <a:pt x="12776" y="13898"/>
                  <a:pt x="12764" y="13970"/>
                </a:cubicBezTo>
                <a:cubicBezTo>
                  <a:pt x="12746" y="14073"/>
                  <a:pt x="12720" y="14123"/>
                  <a:pt x="12764" y="14224"/>
                </a:cubicBezTo>
                <a:cubicBezTo>
                  <a:pt x="12807" y="14323"/>
                  <a:pt x="12853" y="14296"/>
                  <a:pt x="12922" y="14256"/>
                </a:cubicBezTo>
                <a:cubicBezTo>
                  <a:pt x="12987" y="14219"/>
                  <a:pt x="13062" y="14179"/>
                  <a:pt x="13081" y="14097"/>
                </a:cubicBezTo>
                <a:cubicBezTo>
                  <a:pt x="13101" y="14012"/>
                  <a:pt x="13067" y="13940"/>
                  <a:pt x="13018" y="13875"/>
                </a:cubicBezTo>
                <a:cubicBezTo>
                  <a:pt x="12977" y="13820"/>
                  <a:pt x="12886" y="13782"/>
                  <a:pt x="12827" y="13748"/>
                </a:cubicBezTo>
              </a:path>
              <a:path w="3303" h="1621">
                <a:moveTo>
                  <a:pt x="13176" y="13398"/>
                </a:moveTo>
                <a:cubicBezTo>
                  <a:pt x="13192" y="13462"/>
                  <a:pt x="13216" y="13520"/>
                  <a:pt x="13240" y="13589"/>
                </a:cubicBezTo>
                <a:cubicBezTo>
                  <a:pt x="13278" y="13697"/>
                  <a:pt x="13288" y="13826"/>
                  <a:pt x="13303" y="13938"/>
                </a:cubicBezTo>
                <a:cubicBezTo>
                  <a:pt x="13312" y="14004"/>
                  <a:pt x="13309" y="14136"/>
                  <a:pt x="13335" y="14192"/>
                </a:cubicBezTo>
                <a:cubicBezTo>
                  <a:pt x="13363" y="14254"/>
                  <a:pt x="13358" y="14251"/>
                  <a:pt x="13398" y="14224"/>
                </a:cubicBezTo>
              </a:path>
              <a:path w="3303" h="1621">
                <a:moveTo>
                  <a:pt x="13494" y="13780"/>
                </a:moveTo>
                <a:cubicBezTo>
                  <a:pt x="13545" y="13843"/>
                  <a:pt x="13546" y="13905"/>
                  <a:pt x="13589" y="13970"/>
                </a:cubicBezTo>
                <a:cubicBezTo>
                  <a:pt x="13640" y="14046"/>
                  <a:pt x="13703" y="14111"/>
                  <a:pt x="13748" y="14192"/>
                </a:cubicBezTo>
                <a:cubicBezTo>
                  <a:pt x="13780" y="14249"/>
                  <a:pt x="13798" y="14275"/>
                  <a:pt x="13843" y="14319"/>
                </a:cubicBezTo>
                <a:cubicBezTo>
                  <a:pt x="13861" y="14283"/>
                  <a:pt x="13859" y="14163"/>
                  <a:pt x="13843" y="14097"/>
                </a:cubicBezTo>
                <a:cubicBezTo>
                  <a:pt x="13821" y="14006"/>
                  <a:pt x="13811" y="13941"/>
                  <a:pt x="13811" y="13843"/>
                </a:cubicBezTo>
                <a:cubicBezTo>
                  <a:pt x="13811" y="13779"/>
                  <a:pt x="13811" y="13716"/>
                  <a:pt x="13811" y="13652"/>
                </a:cubicBezTo>
              </a:path>
              <a:path w="3303" h="1621">
                <a:moveTo>
                  <a:pt x="14129" y="14002"/>
                </a:moveTo>
                <a:cubicBezTo>
                  <a:pt x="14182" y="14043"/>
                  <a:pt x="14203" y="14049"/>
                  <a:pt x="14256" y="14002"/>
                </a:cubicBezTo>
                <a:cubicBezTo>
                  <a:pt x="14288" y="13973"/>
                  <a:pt x="14328" y="13856"/>
                  <a:pt x="14319" y="13811"/>
                </a:cubicBezTo>
                <a:cubicBezTo>
                  <a:pt x="14295" y="13738"/>
                  <a:pt x="14307" y="13706"/>
                  <a:pt x="14256" y="13716"/>
                </a:cubicBezTo>
                <a:cubicBezTo>
                  <a:pt x="14186" y="13734"/>
                  <a:pt x="14164" y="13777"/>
                  <a:pt x="14129" y="13843"/>
                </a:cubicBezTo>
                <a:cubicBezTo>
                  <a:pt x="14094" y="13909"/>
                  <a:pt x="14076" y="14022"/>
                  <a:pt x="14097" y="14097"/>
                </a:cubicBezTo>
                <a:cubicBezTo>
                  <a:pt x="14121" y="14182"/>
                  <a:pt x="14209" y="14231"/>
                  <a:pt x="14288" y="14256"/>
                </a:cubicBezTo>
                <a:cubicBezTo>
                  <a:pt x="14336" y="14271"/>
                  <a:pt x="14443" y="14250"/>
                  <a:pt x="14478" y="14224"/>
                </a:cubicBezTo>
                <a:cubicBezTo>
                  <a:pt x="14531" y="14171"/>
                  <a:pt x="14541" y="14161"/>
                  <a:pt x="14573" y="14129"/>
                </a:cubicBezTo>
              </a:path>
              <a:path w="3303" h="1621">
                <a:moveTo>
                  <a:pt x="14891" y="13272"/>
                </a:moveTo>
                <a:cubicBezTo>
                  <a:pt x="14953" y="13209"/>
                  <a:pt x="14960" y="13208"/>
                  <a:pt x="15050" y="13208"/>
                </a:cubicBezTo>
                <a:cubicBezTo>
                  <a:pt x="15136" y="13208"/>
                  <a:pt x="15202" y="13218"/>
                  <a:pt x="15272" y="13176"/>
                </a:cubicBezTo>
                <a:cubicBezTo>
                  <a:pt x="15340" y="13227"/>
                  <a:pt x="15335" y="13205"/>
                  <a:pt x="15335" y="13303"/>
                </a:cubicBezTo>
                <a:cubicBezTo>
                  <a:pt x="15335" y="13387"/>
                  <a:pt x="15308" y="13444"/>
                  <a:pt x="15304" y="13526"/>
                </a:cubicBezTo>
                <a:cubicBezTo>
                  <a:pt x="15299" y="13618"/>
                  <a:pt x="15279" y="13691"/>
                  <a:pt x="15272" y="13780"/>
                </a:cubicBezTo>
                <a:cubicBezTo>
                  <a:pt x="15267" y="13842"/>
                  <a:pt x="15272" y="13908"/>
                  <a:pt x="15272" y="13970"/>
                </a:cubicBezTo>
              </a:path>
              <a:path w="3303" h="1621">
                <a:moveTo>
                  <a:pt x="14891" y="13240"/>
                </a:moveTo>
                <a:cubicBezTo>
                  <a:pt x="14835" y="13313"/>
                  <a:pt x="14869" y="13311"/>
                  <a:pt x="14891" y="13398"/>
                </a:cubicBezTo>
                <a:cubicBezTo>
                  <a:pt x="14905" y="13454"/>
                  <a:pt x="14972" y="13505"/>
                  <a:pt x="14986" y="13557"/>
                </a:cubicBezTo>
                <a:cubicBezTo>
                  <a:pt x="15004" y="13623"/>
                  <a:pt x="15024" y="13681"/>
                  <a:pt x="15050" y="13748"/>
                </a:cubicBezTo>
                <a:cubicBezTo>
                  <a:pt x="15071" y="13802"/>
                  <a:pt x="15107" y="13854"/>
                  <a:pt x="15113" y="13906"/>
                </a:cubicBezTo>
                <a:cubicBezTo>
                  <a:pt x="15119" y="13959"/>
                  <a:pt x="15129" y="13958"/>
                  <a:pt x="15176" y="13970"/>
                </a:cubicBezTo>
              </a:path>
              <a:path w="3303" h="1621">
                <a:moveTo>
                  <a:pt x="15272" y="14446"/>
                </a:moveTo>
                <a:cubicBezTo>
                  <a:pt x="15212" y="14476"/>
                  <a:pt x="15197" y="14547"/>
                  <a:pt x="15145" y="14605"/>
                </a:cubicBezTo>
                <a:cubicBezTo>
                  <a:pt x="15105" y="14650"/>
                  <a:pt x="15089" y="14746"/>
                  <a:pt x="15145" y="14796"/>
                </a:cubicBezTo>
                <a:cubicBezTo>
                  <a:pt x="15173" y="14821"/>
                  <a:pt x="15289" y="14780"/>
                  <a:pt x="15304" y="14764"/>
                </a:cubicBezTo>
                <a:cubicBezTo>
                  <a:pt x="15326" y="14740"/>
                  <a:pt x="15355" y="14642"/>
                  <a:pt x="15335" y="14605"/>
                </a:cubicBezTo>
                <a:cubicBezTo>
                  <a:pt x="15294" y="14562"/>
                  <a:pt x="15272" y="14541"/>
                  <a:pt x="1524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Ink 19"/>
          <p:cNvSpPr/>
          <p:nvPr/>
        </p:nvSpPr>
        <p:spPr>
          <a:xfrm>
            <a:off x="3463920" y="5783400"/>
            <a:ext cx="1440" cy="12600"/>
          </a:xfrm>
          <a:custGeom>
            <a:avLst/>
            <a:gdLst/>
            <a:ahLst/>
            <a:rect l="l" t="t" r="r" b="b"/>
            <a:pathLst>
              <a:path w="1" h="32">
                <a:moveTo>
                  <a:pt x="9620" y="16097"/>
                </a:moveTo>
                <a:cubicBezTo>
                  <a:pt x="9620" y="16087"/>
                  <a:pt x="9620" y="16076"/>
                  <a:pt x="9620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nk 20"/>
          <p:cNvSpPr/>
          <p:nvPr/>
        </p:nvSpPr>
        <p:spPr>
          <a:xfrm>
            <a:off x="2378160" y="5578560"/>
            <a:ext cx="1736640" cy="285840"/>
          </a:xfrm>
          <a:custGeom>
            <a:avLst/>
            <a:gdLst/>
            <a:ahLst/>
            <a:rect l="l" t="t" r="r" b="b"/>
            <a:pathLst>
              <a:path w="4827" h="795">
                <a:moveTo>
                  <a:pt x="6604" y="15907"/>
                </a:moveTo>
                <a:cubicBezTo>
                  <a:pt x="6661" y="15918"/>
                  <a:pt x="6740" y="15920"/>
                  <a:pt x="6794" y="15938"/>
                </a:cubicBezTo>
                <a:cubicBezTo>
                  <a:pt x="6851" y="15957"/>
                  <a:pt x="6904" y="15985"/>
                  <a:pt x="6953" y="16002"/>
                </a:cubicBezTo>
                <a:cubicBezTo>
                  <a:pt x="6985" y="16002"/>
                  <a:pt x="6996" y="16002"/>
                  <a:pt x="7017" y="16002"/>
                </a:cubicBezTo>
              </a:path>
              <a:path w="4827" h="795">
                <a:moveTo>
                  <a:pt x="7461" y="15589"/>
                </a:moveTo>
                <a:cubicBezTo>
                  <a:pt x="7444" y="15675"/>
                  <a:pt x="7430" y="15717"/>
                  <a:pt x="7430" y="15812"/>
                </a:cubicBezTo>
                <a:cubicBezTo>
                  <a:pt x="7430" y="15907"/>
                  <a:pt x="7447" y="15978"/>
                  <a:pt x="7461" y="16066"/>
                </a:cubicBezTo>
                <a:cubicBezTo>
                  <a:pt x="7472" y="16133"/>
                  <a:pt x="7523" y="16195"/>
                  <a:pt x="7493" y="16256"/>
                </a:cubicBezTo>
                <a:cubicBezTo>
                  <a:pt x="7482" y="16256"/>
                  <a:pt x="7472" y="16256"/>
                  <a:pt x="7461" y="16256"/>
                </a:cubicBezTo>
              </a:path>
              <a:path w="4827" h="795">
                <a:moveTo>
                  <a:pt x="7620" y="15684"/>
                </a:moveTo>
                <a:cubicBezTo>
                  <a:pt x="7630" y="15617"/>
                  <a:pt x="7636" y="15567"/>
                  <a:pt x="7715" y="15558"/>
                </a:cubicBezTo>
                <a:cubicBezTo>
                  <a:pt x="7799" y="15549"/>
                  <a:pt x="7848" y="15522"/>
                  <a:pt x="7938" y="15558"/>
                </a:cubicBezTo>
                <a:cubicBezTo>
                  <a:pt x="7987" y="15577"/>
                  <a:pt x="8048" y="15636"/>
                  <a:pt x="8064" y="15684"/>
                </a:cubicBezTo>
                <a:cubicBezTo>
                  <a:pt x="8084" y="15744"/>
                  <a:pt x="7974" y="15793"/>
                  <a:pt x="7938" y="15812"/>
                </a:cubicBezTo>
                <a:cubicBezTo>
                  <a:pt x="7880" y="15842"/>
                  <a:pt x="7837" y="15892"/>
                  <a:pt x="7779" y="15907"/>
                </a:cubicBezTo>
                <a:cubicBezTo>
                  <a:pt x="7838" y="15861"/>
                  <a:pt x="7890" y="15875"/>
                  <a:pt x="7969" y="15875"/>
                </a:cubicBezTo>
                <a:cubicBezTo>
                  <a:pt x="8029" y="15875"/>
                  <a:pt x="8095" y="15918"/>
                  <a:pt x="8128" y="15970"/>
                </a:cubicBezTo>
                <a:cubicBezTo>
                  <a:pt x="8190" y="16067"/>
                  <a:pt x="8196" y="16101"/>
                  <a:pt x="8128" y="16192"/>
                </a:cubicBezTo>
                <a:cubicBezTo>
                  <a:pt x="8079" y="16257"/>
                  <a:pt x="8046" y="16256"/>
                  <a:pt x="7969" y="16256"/>
                </a:cubicBezTo>
                <a:cubicBezTo>
                  <a:pt x="7900" y="16256"/>
                  <a:pt x="7851" y="16272"/>
                  <a:pt x="7842" y="16192"/>
                </a:cubicBezTo>
                <a:cubicBezTo>
                  <a:pt x="7842" y="16182"/>
                  <a:pt x="7842" y="16171"/>
                  <a:pt x="7842" y="16161"/>
                </a:cubicBezTo>
              </a:path>
              <a:path w="4827" h="795">
                <a:moveTo>
                  <a:pt x="8446" y="15558"/>
                </a:moveTo>
                <a:cubicBezTo>
                  <a:pt x="8462" y="15616"/>
                  <a:pt x="8467" y="15678"/>
                  <a:pt x="8446" y="15748"/>
                </a:cubicBezTo>
                <a:cubicBezTo>
                  <a:pt x="8419" y="15839"/>
                  <a:pt x="8414" y="15904"/>
                  <a:pt x="8414" y="16002"/>
                </a:cubicBezTo>
                <a:cubicBezTo>
                  <a:pt x="8414" y="16065"/>
                  <a:pt x="8487" y="16167"/>
                  <a:pt x="8541" y="16192"/>
                </a:cubicBezTo>
                <a:cubicBezTo>
                  <a:pt x="8578" y="16209"/>
                  <a:pt x="8685" y="16239"/>
                  <a:pt x="8731" y="16224"/>
                </a:cubicBezTo>
                <a:cubicBezTo>
                  <a:pt x="8828" y="16192"/>
                  <a:pt x="8826" y="16156"/>
                  <a:pt x="8826" y="16066"/>
                </a:cubicBezTo>
                <a:cubicBezTo>
                  <a:pt x="8826" y="15997"/>
                  <a:pt x="8791" y="15872"/>
                  <a:pt x="8763" y="15812"/>
                </a:cubicBezTo>
                <a:cubicBezTo>
                  <a:pt x="8736" y="15755"/>
                  <a:pt x="8644" y="15742"/>
                  <a:pt x="8604" y="15716"/>
                </a:cubicBezTo>
                <a:cubicBezTo>
                  <a:pt x="8593" y="15705"/>
                  <a:pt x="8583" y="15695"/>
                  <a:pt x="8572" y="15684"/>
                </a:cubicBezTo>
              </a:path>
              <a:path w="4827" h="795">
                <a:moveTo>
                  <a:pt x="8954" y="15621"/>
                </a:moveTo>
                <a:cubicBezTo>
                  <a:pt x="9002" y="15548"/>
                  <a:pt x="9019" y="15534"/>
                  <a:pt x="9112" y="15526"/>
                </a:cubicBezTo>
                <a:cubicBezTo>
                  <a:pt x="9179" y="15520"/>
                  <a:pt x="9217" y="15529"/>
                  <a:pt x="9271" y="15558"/>
                </a:cubicBezTo>
                <a:cubicBezTo>
                  <a:pt x="9344" y="15597"/>
                  <a:pt x="9380" y="15635"/>
                  <a:pt x="9334" y="15716"/>
                </a:cubicBezTo>
                <a:cubicBezTo>
                  <a:pt x="9301" y="15774"/>
                  <a:pt x="9235" y="15850"/>
                  <a:pt x="9176" y="15875"/>
                </a:cubicBezTo>
                <a:cubicBezTo>
                  <a:pt x="9144" y="15888"/>
                  <a:pt x="9115" y="15898"/>
                  <a:pt x="9080" y="15907"/>
                </a:cubicBezTo>
                <a:cubicBezTo>
                  <a:pt x="9118" y="15878"/>
                  <a:pt x="9184" y="15852"/>
                  <a:pt x="9239" y="15875"/>
                </a:cubicBezTo>
                <a:cubicBezTo>
                  <a:pt x="9286" y="15895"/>
                  <a:pt x="9368" y="15955"/>
                  <a:pt x="9398" y="16002"/>
                </a:cubicBezTo>
                <a:cubicBezTo>
                  <a:pt x="9440" y="16067"/>
                  <a:pt x="9433" y="16141"/>
                  <a:pt x="9366" y="16192"/>
                </a:cubicBezTo>
                <a:cubicBezTo>
                  <a:pt x="9338" y="16213"/>
                  <a:pt x="9239" y="16250"/>
                  <a:pt x="9208" y="16256"/>
                </a:cubicBezTo>
                <a:cubicBezTo>
                  <a:pt x="9144" y="16269"/>
                  <a:pt x="9093" y="16232"/>
                  <a:pt x="9080" y="16192"/>
                </a:cubicBezTo>
              </a:path>
              <a:path w="4827" h="795">
                <a:moveTo>
                  <a:pt x="9779" y="15716"/>
                </a:moveTo>
                <a:cubicBezTo>
                  <a:pt x="9823" y="15658"/>
                  <a:pt x="9816" y="15616"/>
                  <a:pt x="9874" y="15558"/>
                </a:cubicBezTo>
                <a:cubicBezTo>
                  <a:pt x="9908" y="15525"/>
                  <a:pt x="10015" y="15482"/>
                  <a:pt x="10065" y="15494"/>
                </a:cubicBezTo>
                <a:cubicBezTo>
                  <a:pt x="10085" y="15499"/>
                  <a:pt x="10214" y="15546"/>
                  <a:pt x="10224" y="15558"/>
                </a:cubicBezTo>
                <a:cubicBezTo>
                  <a:pt x="10269" y="15614"/>
                  <a:pt x="10255" y="15682"/>
                  <a:pt x="10255" y="15748"/>
                </a:cubicBezTo>
                <a:cubicBezTo>
                  <a:pt x="10255" y="15822"/>
                  <a:pt x="10204" y="15906"/>
                  <a:pt x="10160" y="15970"/>
                </a:cubicBezTo>
                <a:cubicBezTo>
                  <a:pt x="10126" y="16019"/>
                  <a:pt x="10016" y="16156"/>
                  <a:pt x="9970" y="16192"/>
                </a:cubicBezTo>
                <a:cubicBezTo>
                  <a:pt x="9938" y="16192"/>
                  <a:pt x="9927" y="16192"/>
                  <a:pt x="9938" y="16224"/>
                </a:cubicBezTo>
                <a:cubicBezTo>
                  <a:pt x="9992" y="16265"/>
                  <a:pt x="10024" y="16256"/>
                  <a:pt x="10096" y="16256"/>
                </a:cubicBezTo>
                <a:cubicBezTo>
                  <a:pt x="10211" y="16256"/>
                  <a:pt x="10316" y="16255"/>
                  <a:pt x="10414" y="16288"/>
                </a:cubicBezTo>
                <a:cubicBezTo>
                  <a:pt x="10460" y="16303"/>
                  <a:pt x="10478" y="16280"/>
                  <a:pt x="10509" y="16256"/>
                </a:cubicBezTo>
              </a:path>
              <a:path w="4827" h="795">
                <a:moveTo>
                  <a:pt x="10954" y="15621"/>
                </a:moveTo>
                <a:cubicBezTo>
                  <a:pt x="11014" y="15576"/>
                  <a:pt x="11065" y="15589"/>
                  <a:pt x="11144" y="15589"/>
                </a:cubicBezTo>
                <a:cubicBezTo>
                  <a:pt x="11236" y="15589"/>
                  <a:pt x="11254" y="15576"/>
                  <a:pt x="11335" y="15589"/>
                </a:cubicBezTo>
                <a:cubicBezTo>
                  <a:pt x="11345" y="15589"/>
                  <a:pt x="11356" y="15589"/>
                  <a:pt x="11366" y="15589"/>
                </a:cubicBezTo>
              </a:path>
              <a:path w="4827" h="795">
                <a:moveTo>
                  <a:pt x="11176" y="15843"/>
                </a:moveTo>
                <a:cubicBezTo>
                  <a:pt x="11249" y="15854"/>
                  <a:pt x="11287" y="15875"/>
                  <a:pt x="11366" y="15875"/>
                </a:cubicBezTo>
                <a:cubicBezTo>
                  <a:pt x="11398" y="15875"/>
                  <a:pt x="11409" y="15875"/>
                  <a:pt x="1143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Ink 21"/>
          <p:cNvSpPr/>
          <p:nvPr/>
        </p:nvSpPr>
        <p:spPr>
          <a:xfrm>
            <a:off x="6035760" y="5521320"/>
            <a:ext cx="147600" cy="228600"/>
          </a:xfrm>
          <a:custGeom>
            <a:avLst/>
            <a:gdLst/>
            <a:ahLst/>
            <a:rect l="l" t="t" r="r" b="b"/>
            <a:pathLst>
              <a:path w="414" h="636">
                <a:moveTo>
                  <a:pt x="16923" y="15335"/>
                </a:moveTo>
                <a:cubicBezTo>
                  <a:pt x="16923" y="15547"/>
                  <a:pt x="16923" y="15758"/>
                  <a:pt x="16923" y="15970"/>
                </a:cubicBezTo>
              </a:path>
              <a:path w="414" h="636">
                <a:moveTo>
                  <a:pt x="16764" y="15653"/>
                </a:moveTo>
                <a:cubicBezTo>
                  <a:pt x="16832" y="15653"/>
                  <a:pt x="16854" y="15678"/>
                  <a:pt x="16923" y="15684"/>
                </a:cubicBezTo>
                <a:cubicBezTo>
                  <a:pt x="16979" y="15689"/>
                  <a:pt x="17031" y="15732"/>
                  <a:pt x="17082" y="15748"/>
                </a:cubicBezTo>
                <a:cubicBezTo>
                  <a:pt x="17124" y="15748"/>
                  <a:pt x="17145" y="15748"/>
                  <a:pt x="17177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Ink 22"/>
          <p:cNvSpPr/>
          <p:nvPr/>
        </p:nvSpPr>
        <p:spPr>
          <a:xfrm>
            <a:off x="6435720" y="5418000"/>
            <a:ext cx="422280" cy="366840"/>
          </a:xfrm>
          <a:custGeom>
            <a:avLst/>
            <a:gdLst/>
            <a:ahLst/>
            <a:rect l="l" t="t" r="r" b="b"/>
            <a:pathLst>
              <a:path w="1176" h="1017">
                <a:moveTo>
                  <a:pt x="17875" y="15304"/>
                </a:moveTo>
                <a:cubicBezTo>
                  <a:pt x="17935" y="15244"/>
                  <a:pt x="17977" y="15175"/>
                  <a:pt x="18034" y="15113"/>
                </a:cubicBezTo>
                <a:cubicBezTo>
                  <a:pt x="18079" y="15063"/>
                  <a:pt x="18173" y="15051"/>
                  <a:pt x="18224" y="15081"/>
                </a:cubicBezTo>
                <a:cubicBezTo>
                  <a:pt x="18290" y="15119"/>
                  <a:pt x="18308" y="15201"/>
                  <a:pt x="18288" y="15272"/>
                </a:cubicBezTo>
                <a:cubicBezTo>
                  <a:pt x="18256" y="15386"/>
                  <a:pt x="18176" y="15512"/>
                  <a:pt x="18129" y="15621"/>
                </a:cubicBezTo>
                <a:cubicBezTo>
                  <a:pt x="18093" y="15704"/>
                  <a:pt x="18022" y="15798"/>
                  <a:pt x="17970" y="15875"/>
                </a:cubicBezTo>
                <a:cubicBezTo>
                  <a:pt x="17946" y="15911"/>
                  <a:pt x="17905" y="15969"/>
                  <a:pt x="17970" y="16002"/>
                </a:cubicBezTo>
                <a:cubicBezTo>
                  <a:pt x="18020" y="16027"/>
                  <a:pt x="18066" y="16034"/>
                  <a:pt x="18129" y="16034"/>
                </a:cubicBezTo>
                <a:cubicBezTo>
                  <a:pt x="18237" y="16034"/>
                  <a:pt x="18323" y="16030"/>
                  <a:pt x="18415" y="16002"/>
                </a:cubicBezTo>
                <a:cubicBezTo>
                  <a:pt x="18451" y="16002"/>
                  <a:pt x="18465" y="15999"/>
                  <a:pt x="18478" y="15970"/>
                </a:cubicBezTo>
              </a:path>
              <a:path w="1176" h="1017">
                <a:moveTo>
                  <a:pt x="18542" y="15367"/>
                </a:moveTo>
                <a:cubicBezTo>
                  <a:pt x="18595" y="15420"/>
                  <a:pt x="18625" y="15467"/>
                  <a:pt x="18669" y="15526"/>
                </a:cubicBezTo>
                <a:cubicBezTo>
                  <a:pt x="18720" y="15594"/>
                  <a:pt x="18767" y="15654"/>
                  <a:pt x="18828" y="15716"/>
                </a:cubicBezTo>
                <a:cubicBezTo>
                  <a:pt x="18890" y="15779"/>
                  <a:pt x="18929" y="15844"/>
                  <a:pt x="18986" y="15907"/>
                </a:cubicBezTo>
                <a:cubicBezTo>
                  <a:pt x="19042" y="15969"/>
                  <a:pt x="19032" y="15993"/>
                  <a:pt x="19050" y="15907"/>
                </a:cubicBezTo>
              </a:path>
              <a:path w="1176" h="1017">
                <a:moveTo>
                  <a:pt x="18955" y="15367"/>
                </a:moveTo>
                <a:cubicBezTo>
                  <a:pt x="18944" y="15356"/>
                  <a:pt x="18934" y="15346"/>
                  <a:pt x="18923" y="15335"/>
                </a:cubicBezTo>
                <a:cubicBezTo>
                  <a:pt x="18863" y="15410"/>
                  <a:pt x="18836" y="15470"/>
                  <a:pt x="18796" y="15558"/>
                </a:cubicBezTo>
                <a:cubicBezTo>
                  <a:pt x="18750" y="15658"/>
                  <a:pt x="18685" y="15740"/>
                  <a:pt x="18637" y="15843"/>
                </a:cubicBezTo>
                <a:cubicBezTo>
                  <a:pt x="18598" y="15927"/>
                  <a:pt x="18602" y="15990"/>
                  <a:pt x="18542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Ink 2"/>
          <p:cNvSpPr/>
          <p:nvPr/>
        </p:nvSpPr>
        <p:spPr>
          <a:xfrm>
            <a:off x="903240" y="1325520"/>
            <a:ext cx="696960" cy="320760"/>
          </a:xfrm>
          <a:custGeom>
            <a:avLst/>
            <a:gdLst/>
            <a:ahLst/>
            <a:rect l="l" t="t" r="r" b="b"/>
            <a:pathLst>
              <a:path w="1938" h="890">
                <a:moveTo>
                  <a:pt x="2572" y="3746"/>
                </a:moveTo>
                <a:cubicBezTo>
                  <a:pt x="2572" y="3913"/>
                  <a:pt x="2621" y="4139"/>
                  <a:pt x="2604" y="4286"/>
                </a:cubicBezTo>
                <a:cubicBezTo>
                  <a:pt x="2592" y="4384"/>
                  <a:pt x="2586" y="4393"/>
                  <a:pt x="2604" y="4477"/>
                </a:cubicBezTo>
                <a:cubicBezTo>
                  <a:pt x="2604" y="4530"/>
                  <a:pt x="2604" y="4540"/>
                  <a:pt x="2604" y="4572"/>
                </a:cubicBezTo>
              </a:path>
              <a:path w="1938" h="890">
                <a:moveTo>
                  <a:pt x="2508" y="3874"/>
                </a:moveTo>
                <a:cubicBezTo>
                  <a:pt x="2525" y="3788"/>
                  <a:pt x="2547" y="3784"/>
                  <a:pt x="2604" y="3746"/>
                </a:cubicBezTo>
                <a:cubicBezTo>
                  <a:pt x="2644" y="3719"/>
                  <a:pt x="2680" y="3687"/>
                  <a:pt x="2730" y="3683"/>
                </a:cubicBezTo>
                <a:cubicBezTo>
                  <a:pt x="2793" y="3678"/>
                  <a:pt x="2845" y="3707"/>
                  <a:pt x="2889" y="3746"/>
                </a:cubicBezTo>
                <a:cubicBezTo>
                  <a:pt x="2910" y="3764"/>
                  <a:pt x="2966" y="3846"/>
                  <a:pt x="2953" y="3874"/>
                </a:cubicBezTo>
                <a:cubicBezTo>
                  <a:pt x="2925" y="3936"/>
                  <a:pt x="2911" y="3978"/>
                  <a:pt x="2858" y="4032"/>
                </a:cubicBezTo>
                <a:cubicBezTo>
                  <a:pt x="2812" y="4078"/>
                  <a:pt x="2774" y="4089"/>
                  <a:pt x="2730" y="4128"/>
                </a:cubicBezTo>
                <a:cubicBezTo>
                  <a:pt x="2702" y="4156"/>
                  <a:pt x="2695" y="4167"/>
                  <a:pt x="2667" y="4159"/>
                </a:cubicBezTo>
                <a:cubicBezTo>
                  <a:pt x="2707" y="4130"/>
                  <a:pt x="2745" y="4101"/>
                  <a:pt x="2794" y="4096"/>
                </a:cubicBezTo>
                <a:cubicBezTo>
                  <a:pt x="2867" y="4088"/>
                  <a:pt x="2963" y="4082"/>
                  <a:pt x="3016" y="4128"/>
                </a:cubicBezTo>
                <a:cubicBezTo>
                  <a:pt x="3049" y="4157"/>
                  <a:pt x="3104" y="4215"/>
                  <a:pt x="3112" y="4254"/>
                </a:cubicBezTo>
                <a:cubicBezTo>
                  <a:pt x="3121" y="4297"/>
                  <a:pt x="3128" y="4421"/>
                  <a:pt x="3080" y="4445"/>
                </a:cubicBezTo>
                <a:cubicBezTo>
                  <a:pt x="3018" y="4476"/>
                  <a:pt x="2935" y="4525"/>
                  <a:pt x="2858" y="4540"/>
                </a:cubicBezTo>
                <a:cubicBezTo>
                  <a:pt x="2805" y="4550"/>
                  <a:pt x="2689" y="4599"/>
                  <a:pt x="2635" y="4572"/>
                </a:cubicBezTo>
                <a:cubicBezTo>
                  <a:pt x="2592" y="4550"/>
                  <a:pt x="2583" y="4542"/>
                  <a:pt x="2572" y="4508"/>
                </a:cubicBezTo>
              </a:path>
              <a:path w="1938" h="890">
                <a:moveTo>
                  <a:pt x="3524" y="4128"/>
                </a:moveTo>
                <a:cubicBezTo>
                  <a:pt x="3461" y="4081"/>
                  <a:pt x="3460" y="4093"/>
                  <a:pt x="3397" y="4128"/>
                </a:cubicBezTo>
                <a:cubicBezTo>
                  <a:pt x="3316" y="4174"/>
                  <a:pt x="3328" y="4209"/>
                  <a:pt x="3270" y="4286"/>
                </a:cubicBezTo>
                <a:cubicBezTo>
                  <a:pt x="3244" y="4320"/>
                  <a:pt x="3201" y="4408"/>
                  <a:pt x="3270" y="4445"/>
                </a:cubicBezTo>
                <a:cubicBezTo>
                  <a:pt x="3337" y="4481"/>
                  <a:pt x="3390" y="4421"/>
                  <a:pt x="3429" y="4382"/>
                </a:cubicBezTo>
                <a:cubicBezTo>
                  <a:pt x="3478" y="4334"/>
                  <a:pt x="3492" y="4321"/>
                  <a:pt x="3492" y="4254"/>
                </a:cubicBezTo>
                <a:cubicBezTo>
                  <a:pt x="3492" y="4212"/>
                  <a:pt x="3492" y="4170"/>
                  <a:pt x="3492" y="4128"/>
                </a:cubicBezTo>
                <a:cubicBezTo>
                  <a:pt x="3500" y="4158"/>
                  <a:pt x="3509" y="4227"/>
                  <a:pt x="3524" y="4254"/>
                </a:cubicBezTo>
                <a:cubicBezTo>
                  <a:pt x="3536" y="4276"/>
                  <a:pt x="3576" y="4372"/>
                  <a:pt x="3588" y="4382"/>
                </a:cubicBezTo>
                <a:cubicBezTo>
                  <a:pt x="3623" y="4410"/>
                  <a:pt x="3682" y="4503"/>
                  <a:pt x="3715" y="4445"/>
                </a:cubicBezTo>
                <a:cubicBezTo>
                  <a:pt x="3715" y="4434"/>
                  <a:pt x="3715" y="4424"/>
                  <a:pt x="3715" y="4413"/>
                </a:cubicBezTo>
              </a:path>
              <a:path w="1938" h="890">
                <a:moveTo>
                  <a:pt x="4096" y="4096"/>
                </a:moveTo>
                <a:cubicBezTo>
                  <a:pt x="4053" y="4039"/>
                  <a:pt x="4052" y="3996"/>
                  <a:pt x="3969" y="3969"/>
                </a:cubicBezTo>
                <a:cubicBezTo>
                  <a:pt x="3927" y="3955"/>
                  <a:pt x="3840" y="3982"/>
                  <a:pt x="3810" y="4000"/>
                </a:cubicBezTo>
                <a:cubicBezTo>
                  <a:pt x="3763" y="4028"/>
                  <a:pt x="3726" y="4081"/>
                  <a:pt x="3715" y="4128"/>
                </a:cubicBezTo>
                <a:cubicBezTo>
                  <a:pt x="3761" y="4155"/>
                  <a:pt x="3820" y="4187"/>
                  <a:pt x="3874" y="4191"/>
                </a:cubicBezTo>
                <a:cubicBezTo>
                  <a:pt x="3952" y="4197"/>
                  <a:pt x="3999" y="4196"/>
                  <a:pt x="4064" y="4223"/>
                </a:cubicBezTo>
                <a:cubicBezTo>
                  <a:pt x="4147" y="4258"/>
                  <a:pt x="4152" y="4291"/>
                  <a:pt x="4191" y="4350"/>
                </a:cubicBezTo>
                <a:cubicBezTo>
                  <a:pt x="4269" y="4466"/>
                  <a:pt x="4119" y="4422"/>
                  <a:pt x="4064" y="4445"/>
                </a:cubicBezTo>
                <a:cubicBezTo>
                  <a:pt x="3982" y="4479"/>
                  <a:pt x="4004" y="4453"/>
                  <a:pt x="3905" y="4445"/>
                </a:cubicBezTo>
                <a:cubicBezTo>
                  <a:pt x="3857" y="4441"/>
                  <a:pt x="3874" y="4427"/>
                  <a:pt x="3874" y="4382"/>
                </a:cubicBezTo>
              </a:path>
              <a:path w="1938" h="890">
                <a:moveTo>
                  <a:pt x="4413" y="4096"/>
                </a:moveTo>
                <a:cubicBezTo>
                  <a:pt x="4392" y="4125"/>
                  <a:pt x="4359" y="4180"/>
                  <a:pt x="4382" y="4223"/>
                </a:cubicBezTo>
                <a:cubicBezTo>
                  <a:pt x="4409" y="4271"/>
                  <a:pt x="4439" y="4327"/>
                  <a:pt x="4445" y="4382"/>
                </a:cubicBezTo>
                <a:cubicBezTo>
                  <a:pt x="4445" y="4413"/>
                  <a:pt x="4445" y="4424"/>
                  <a:pt x="4445" y="44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3"/>
          <p:cNvSpPr/>
          <p:nvPr/>
        </p:nvSpPr>
        <p:spPr>
          <a:xfrm>
            <a:off x="1554120" y="1382760"/>
            <a:ext cx="881280" cy="720720"/>
          </a:xfrm>
          <a:custGeom>
            <a:avLst/>
            <a:gdLst/>
            <a:ahLst/>
            <a:rect l="l" t="t" r="r" b="b"/>
            <a:pathLst>
              <a:path w="2446" h="2001">
                <a:moveTo>
                  <a:pt x="4318" y="3842"/>
                </a:moveTo>
                <a:lnTo>
                  <a:pt x="4318" y="3842"/>
                </a:lnTo>
              </a:path>
              <a:path w="2446" h="2001">
                <a:moveTo>
                  <a:pt x="6763" y="5842"/>
                </a:moveTo>
                <a:lnTo>
                  <a:pt x="6763" y="5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4"/>
          <p:cNvSpPr/>
          <p:nvPr/>
        </p:nvSpPr>
        <p:spPr>
          <a:xfrm>
            <a:off x="1668600" y="1406520"/>
            <a:ext cx="355320" cy="204840"/>
          </a:xfrm>
          <a:custGeom>
            <a:avLst/>
            <a:gdLst/>
            <a:ahLst/>
            <a:rect l="l" t="t" r="r" b="b"/>
            <a:pathLst>
              <a:path w="985" h="573">
                <a:moveTo>
                  <a:pt x="4921" y="4096"/>
                </a:moveTo>
                <a:cubicBezTo>
                  <a:pt x="4908" y="4043"/>
                  <a:pt x="4886" y="4007"/>
                  <a:pt x="4826" y="4000"/>
                </a:cubicBezTo>
                <a:cubicBezTo>
                  <a:pt x="4769" y="3994"/>
                  <a:pt x="4685" y="4080"/>
                  <a:pt x="4667" y="4128"/>
                </a:cubicBezTo>
                <a:cubicBezTo>
                  <a:pt x="4650" y="4173"/>
                  <a:pt x="4636" y="4201"/>
                  <a:pt x="4636" y="4254"/>
                </a:cubicBezTo>
                <a:cubicBezTo>
                  <a:pt x="4636" y="4294"/>
                  <a:pt x="4634" y="4392"/>
                  <a:pt x="4667" y="4413"/>
                </a:cubicBezTo>
                <a:cubicBezTo>
                  <a:pt x="4706" y="4439"/>
                  <a:pt x="4779" y="4445"/>
                  <a:pt x="4826" y="4477"/>
                </a:cubicBezTo>
                <a:cubicBezTo>
                  <a:pt x="4884" y="4434"/>
                  <a:pt x="4926" y="4439"/>
                  <a:pt x="4985" y="4382"/>
                </a:cubicBezTo>
              </a:path>
              <a:path w="985" h="573">
                <a:moveTo>
                  <a:pt x="5556" y="4000"/>
                </a:moveTo>
                <a:cubicBezTo>
                  <a:pt x="5494" y="3974"/>
                  <a:pt x="5418" y="3963"/>
                  <a:pt x="5366" y="3937"/>
                </a:cubicBezTo>
                <a:cubicBezTo>
                  <a:pt x="5293" y="3900"/>
                  <a:pt x="5312" y="3945"/>
                  <a:pt x="5239" y="3969"/>
                </a:cubicBezTo>
                <a:cubicBezTo>
                  <a:pt x="5187" y="3986"/>
                  <a:pt x="5151" y="4001"/>
                  <a:pt x="5144" y="4064"/>
                </a:cubicBezTo>
                <a:cubicBezTo>
                  <a:pt x="5134" y="4155"/>
                  <a:pt x="5225" y="4136"/>
                  <a:pt x="5270" y="4159"/>
                </a:cubicBezTo>
                <a:cubicBezTo>
                  <a:pt x="5307" y="4178"/>
                  <a:pt x="5366" y="4173"/>
                  <a:pt x="5398" y="4191"/>
                </a:cubicBezTo>
                <a:cubicBezTo>
                  <a:pt x="5465" y="4229"/>
                  <a:pt x="5490" y="4225"/>
                  <a:pt x="5556" y="4286"/>
                </a:cubicBezTo>
                <a:cubicBezTo>
                  <a:pt x="5633" y="4357"/>
                  <a:pt x="5611" y="4375"/>
                  <a:pt x="5588" y="4445"/>
                </a:cubicBezTo>
                <a:cubicBezTo>
                  <a:pt x="5570" y="4499"/>
                  <a:pt x="5520" y="4477"/>
                  <a:pt x="5461" y="4477"/>
                </a:cubicBezTo>
                <a:cubicBezTo>
                  <a:pt x="5381" y="4477"/>
                  <a:pt x="5336" y="4465"/>
                  <a:pt x="5270" y="4445"/>
                </a:cubicBezTo>
                <a:cubicBezTo>
                  <a:pt x="5234" y="4445"/>
                  <a:pt x="5221" y="4442"/>
                  <a:pt x="5207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5"/>
          <p:cNvSpPr/>
          <p:nvPr/>
        </p:nvSpPr>
        <p:spPr>
          <a:xfrm>
            <a:off x="2239920" y="2103480"/>
            <a:ext cx="731880" cy="571320"/>
          </a:xfrm>
          <a:custGeom>
            <a:avLst/>
            <a:gdLst/>
            <a:ahLst/>
            <a:rect l="l" t="t" r="r" b="b"/>
            <a:pathLst>
              <a:path w="2033" h="1589">
                <a:moveTo>
                  <a:pt x="6477" y="5906"/>
                </a:moveTo>
                <a:cubicBezTo>
                  <a:pt x="6418" y="5964"/>
                  <a:pt x="6414" y="5980"/>
                  <a:pt x="6414" y="6064"/>
                </a:cubicBezTo>
                <a:cubicBezTo>
                  <a:pt x="6414" y="6089"/>
                  <a:pt x="6471" y="6145"/>
                  <a:pt x="6509" y="6128"/>
                </a:cubicBezTo>
                <a:cubicBezTo>
                  <a:pt x="6556" y="6107"/>
                  <a:pt x="6588" y="6053"/>
                  <a:pt x="6636" y="6032"/>
                </a:cubicBezTo>
                <a:cubicBezTo>
                  <a:pt x="6706" y="6001"/>
                  <a:pt x="6699" y="5992"/>
                  <a:pt x="6699" y="5906"/>
                </a:cubicBezTo>
                <a:cubicBezTo>
                  <a:pt x="6699" y="5895"/>
                  <a:pt x="6699" y="5885"/>
                  <a:pt x="6699" y="5874"/>
                </a:cubicBezTo>
                <a:cubicBezTo>
                  <a:pt x="6699" y="6068"/>
                  <a:pt x="6696" y="6271"/>
                  <a:pt x="6731" y="6445"/>
                </a:cubicBezTo>
                <a:cubicBezTo>
                  <a:pt x="6743" y="6503"/>
                  <a:pt x="6757" y="6573"/>
                  <a:pt x="6826" y="6604"/>
                </a:cubicBezTo>
                <a:cubicBezTo>
                  <a:pt x="6884" y="6630"/>
                  <a:pt x="6908" y="6579"/>
                  <a:pt x="6922" y="6572"/>
                </a:cubicBezTo>
                <a:cubicBezTo>
                  <a:pt x="7001" y="6531"/>
                  <a:pt x="7023" y="6548"/>
                  <a:pt x="7048" y="6445"/>
                </a:cubicBezTo>
                <a:cubicBezTo>
                  <a:pt x="7063" y="6383"/>
                  <a:pt x="7044" y="6333"/>
                  <a:pt x="7017" y="6286"/>
                </a:cubicBezTo>
                <a:cubicBezTo>
                  <a:pt x="6972" y="6208"/>
                  <a:pt x="6990" y="6161"/>
                  <a:pt x="6890" y="6128"/>
                </a:cubicBezTo>
                <a:cubicBezTo>
                  <a:pt x="6841" y="6112"/>
                  <a:pt x="6741" y="6018"/>
                  <a:pt x="6763" y="6064"/>
                </a:cubicBezTo>
                <a:cubicBezTo>
                  <a:pt x="6773" y="6075"/>
                  <a:pt x="6784" y="6085"/>
                  <a:pt x="6794" y="6096"/>
                </a:cubicBezTo>
              </a:path>
              <a:path w="2033" h="1589">
                <a:moveTo>
                  <a:pt x="6509" y="5906"/>
                </a:moveTo>
                <a:cubicBezTo>
                  <a:pt x="6557" y="5857"/>
                  <a:pt x="6568" y="5842"/>
                  <a:pt x="6636" y="5842"/>
                </a:cubicBezTo>
                <a:cubicBezTo>
                  <a:pt x="6678" y="5842"/>
                  <a:pt x="6721" y="5842"/>
                  <a:pt x="6763" y="5842"/>
                </a:cubicBezTo>
              </a:path>
              <a:path w="2033" h="1589">
                <a:moveTo>
                  <a:pt x="6223" y="6794"/>
                </a:moveTo>
                <a:cubicBezTo>
                  <a:pt x="6244" y="6784"/>
                  <a:pt x="6374" y="6759"/>
                  <a:pt x="6414" y="6763"/>
                </a:cubicBezTo>
                <a:cubicBezTo>
                  <a:pt x="6507" y="6773"/>
                  <a:pt x="6590" y="6763"/>
                  <a:pt x="6699" y="6763"/>
                </a:cubicBezTo>
                <a:cubicBezTo>
                  <a:pt x="6799" y="6763"/>
                  <a:pt x="7275" y="6714"/>
                  <a:pt x="7302" y="6794"/>
                </a:cubicBezTo>
              </a:path>
              <a:path w="2033" h="1589">
                <a:moveTo>
                  <a:pt x="6477" y="7144"/>
                </a:moveTo>
                <a:cubicBezTo>
                  <a:pt x="6477" y="7212"/>
                  <a:pt x="6503" y="7233"/>
                  <a:pt x="6509" y="7302"/>
                </a:cubicBezTo>
                <a:cubicBezTo>
                  <a:pt x="6513" y="7344"/>
                  <a:pt x="6509" y="7388"/>
                  <a:pt x="6509" y="7430"/>
                </a:cubicBezTo>
                <a:cubicBezTo>
                  <a:pt x="6540" y="7356"/>
                  <a:pt x="6540" y="7320"/>
                  <a:pt x="6540" y="7239"/>
                </a:cubicBezTo>
                <a:cubicBezTo>
                  <a:pt x="6540" y="7183"/>
                  <a:pt x="6538" y="7189"/>
                  <a:pt x="6572" y="7144"/>
                </a:cubicBezTo>
                <a:cubicBezTo>
                  <a:pt x="6619" y="7156"/>
                  <a:pt x="6652" y="7191"/>
                  <a:pt x="6668" y="7239"/>
                </a:cubicBezTo>
                <a:cubicBezTo>
                  <a:pt x="6684" y="7286"/>
                  <a:pt x="6699" y="7311"/>
                  <a:pt x="6699" y="7366"/>
                </a:cubicBezTo>
                <a:cubicBezTo>
                  <a:pt x="6699" y="7442"/>
                  <a:pt x="6727" y="7288"/>
                  <a:pt x="6731" y="7271"/>
                </a:cubicBezTo>
                <a:cubicBezTo>
                  <a:pt x="6739" y="7238"/>
                  <a:pt x="6736" y="7162"/>
                  <a:pt x="6763" y="7144"/>
                </a:cubicBezTo>
                <a:cubicBezTo>
                  <a:pt x="6773" y="7144"/>
                  <a:pt x="6784" y="7144"/>
                  <a:pt x="6794" y="7144"/>
                </a:cubicBezTo>
                <a:cubicBezTo>
                  <a:pt x="6831" y="7156"/>
                  <a:pt x="6852" y="7187"/>
                  <a:pt x="6858" y="7239"/>
                </a:cubicBezTo>
                <a:cubicBezTo>
                  <a:pt x="6864" y="7289"/>
                  <a:pt x="6833" y="7370"/>
                  <a:pt x="6890" y="7398"/>
                </a:cubicBezTo>
                <a:cubicBezTo>
                  <a:pt x="6922" y="7398"/>
                  <a:pt x="6933" y="7398"/>
                  <a:pt x="6922" y="7366"/>
                </a:cubicBezTo>
              </a:path>
              <a:path w="2033" h="1589">
                <a:moveTo>
                  <a:pt x="7017" y="7144"/>
                </a:moveTo>
                <a:cubicBezTo>
                  <a:pt x="7017" y="7199"/>
                  <a:pt x="6991" y="7337"/>
                  <a:pt x="7048" y="7366"/>
                </a:cubicBezTo>
                <a:cubicBezTo>
                  <a:pt x="7128" y="7406"/>
                  <a:pt x="7211" y="7338"/>
                  <a:pt x="7239" y="7271"/>
                </a:cubicBezTo>
                <a:cubicBezTo>
                  <a:pt x="7255" y="7233"/>
                  <a:pt x="7246" y="7132"/>
                  <a:pt x="7207" y="7112"/>
                </a:cubicBezTo>
                <a:cubicBezTo>
                  <a:pt x="7181" y="7099"/>
                  <a:pt x="7079" y="7049"/>
                  <a:pt x="7048" y="7080"/>
                </a:cubicBezTo>
                <a:cubicBezTo>
                  <a:pt x="7048" y="7091"/>
                  <a:pt x="7048" y="7101"/>
                  <a:pt x="7048" y="7112"/>
                </a:cubicBezTo>
              </a:path>
              <a:path w="2033" h="1589">
                <a:moveTo>
                  <a:pt x="7398" y="6922"/>
                </a:moveTo>
                <a:cubicBezTo>
                  <a:pt x="7366" y="6996"/>
                  <a:pt x="7366" y="7031"/>
                  <a:pt x="7366" y="7112"/>
                </a:cubicBezTo>
                <a:cubicBezTo>
                  <a:pt x="7366" y="7152"/>
                  <a:pt x="7380" y="7267"/>
                  <a:pt x="7398" y="7302"/>
                </a:cubicBezTo>
                <a:cubicBezTo>
                  <a:pt x="7416" y="7337"/>
                  <a:pt x="7451" y="7411"/>
                  <a:pt x="7493" y="7430"/>
                </a:cubicBezTo>
                <a:cubicBezTo>
                  <a:pt x="7504" y="7430"/>
                  <a:pt x="7514" y="7430"/>
                  <a:pt x="7525" y="7430"/>
                </a:cubicBezTo>
              </a:path>
              <a:path w="2033" h="1589">
                <a:moveTo>
                  <a:pt x="7588" y="7302"/>
                </a:moveTo>
                <a:cubicBezTo>
                  <a:pt x="7634" y="7266"/>
                  <a:pt x="7685" y="7201"/>
                  <a:pt x="7715" y="7176"/>
                </a:cubicBezTo>
                <a:cubicBezTo>
                  <a:pt x="7777" y="7145"/>
                  <a:pt x="7798" y="7137"/>
                  <a:pt x="7779" y="7080"/>
                </a:cubicBezTo>
                <a:cubicBezTo>
                  <a:pt x="7679" y="7080"/>
                  <a:pt x="7701" y="7112"/>
                  <a:pt x="7652" y="7144"/>
                </a:cubicBezTo>
                <a:cubicBezTo>
                  <a:pt x="7622" y="7164"/>
                  <a:pt x="7566" y="7223"/>
                  <a:pt x="7556" y="7271"/>
                </a:cubicBezTo>
                <a:cubicBezTo>
                  <a:pt x="7544" y="7327"/>
                  <a:pt x="7598" y="7406"/>
                  <a:pt x="7652" y="7430"/>
                </a:cubicBezTo>
                <a:cubicBezTo>
                  <a:pt x="7699" y="7451"/>
                  <a:pt x="7789" y="7430"/>
                  <a:pt x="7842" y="7430"/>
                </a:cubicBezTo>
              </a:path>
              <a:path w="2033" h="1589">
                <a:moveTo>
                  <a:pt x="8192" y="7048"/>
                </a:moveTo>
                <a:cubicBezTo>
                  <a:pt x="8127" y="7048"/>
                  <a:pt x="8117" y="7062"/>
                  <a:pt x="8064" y="7080"/>
                </a:cubicBezTo>
                <a:cubicBezTo>
                  <a:pt x="8035" y="7090"/>
                  <a:pt x="7944" y="7121"/>
                  <a:pt x="7969" y="7176"/>
                </a:cubicBezTo>
                <a:cubicBezTo>
                  <a:pt x="8001" y="7247"/>
                  <a:pt x="8052" y="7214"/>
                  <a:pt x="8096" y="7239"/>
                </a:cubicBezTo>
                <a:cubicBezTo>
                  <a:pt x="8138" y="7262"/>
                  <a:pt x="8190" y="7304"/>
                  <a:pt x="8223" y="7334"/>
                </a:cubicBezTo>
                <a:cubicBezTo>
                  <a:pt x="8314" y="7415"/>
                  <a:pt x="8190" y="7430"/>
                  <a:pt x="8128" y="7430"/>
                </a:cubicBezTo>
                <a:cubicBezTo>
                  <a:pt x="8086" y="7430"/>
                  <a:pt x="8043" y="7430"/>
                  <a:pt x="800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6"/>
          <p:cNvSpPr/>
          <p:nvPr/>
        </p:nvSpPr>
        <p:spPr>
          <a:xfrm>
            <a:off x="1235160" y="2136600"/>
            <a:ext cx="799920" cy="331920"/>
          </a:xfrm>
          <a:custGeom>
            <a:avLst/>
            <a:gdLst/>
            <a:ahLst/>
            <a:rect l="l" t="t" r="r" b="b"/>
            <a:pathLst>
              <a:path w="2224" h="922">
                <a:moveTo>
                  <a:pt x="3874" y="5937"/>
                </a:moveTo>
                <a:cubicBezTo>
                  <a:pt x="3860" y="6008"/>
                  <a:pt x="3794" y="6067"/>
                  <a:pt x="3778" y="6128"/>
                </a:cubicBezTo>
                <a:cubicBezTo>
                  <a:pt x="3756" y="6208"/>
                  <a:pt x="3724" y="6267"/>
                  <a:pt x="3683" y="6350"/>
                </a:cubicBezTo>
                <a:cubicBezTo>
                  <a:pt x="3632" y="6452"/>
                  <a:pt x="3600" y="6574"/>
                  <a:pt x="3556" y="6668"/>
                </a:cubicBezTo>
                <a:cubicBezTo>
                  <a:pt x="3535" y="6712"/>
                  <a:pt x="3523" y="6754"/>
                  <a:pt x="3492" y="6794"/>
                </a:cubicBezTo>
              </a:path>
              <a:path w="2224" h="922">
                <a:moveTo>
                  <a:pt x="3905" y="5937"/>
                </a:moveTo>
                <a:cubicBezTo>
                  <a:pt x="3921" y="6001"/>
                  <a:pt x="3977" y="6027"/>
                  <a:pt x="4000" y="6096"/>
                </a:cubicBezTo>
                <a:cubicBezTo>
                  <a:pt x="4018" y="6152"/>
                  <a:pt x="4052" y="6207"/>
                  <a:pt x="4096" y="6255"/>
                </a:cubicBezTo>
                <a:cubicBezTo>
                  <a:pt x="4140" y="6303"/>
                  <a:pt x="4202" y="6381"/>
                  <a:pt x="4223" y="6445"/>
                </a:cubicBezTo>
                <a:cubicBezTo>
                  <a:pt x="4242" y="6501"/>
                  <a:pt x="4296" y="6549"/>
                  <a:pt x="4318" y="6604"/>
                </a:cubicBezTo>
                <a:cubicBezTo>
                  <a:pt x="4335" y="6647"/>
                  <a:pt x="4344" y="6661"/>
                  <a:pt x="4382" y="6699"/>
                </a:cubicBezTo>
                <a:cubicBezTo>
                  <a:pt x="4326" y="6732"/>
                  <a:pt x="4290" y="6731"/>
                  <a:pt x="4223" y="6731"/>
                </a:cubicBezTo>
                <a:cubicBezTo>
                  <a:pt x="3958" y="6731"/>
                  <a:pt x="3694" y="6731"/>
                  <a:pt x="3429" y="6731"/>
                </a:cubicBezTo>
              </a:path>
              <a:path w="2224" h="922">
                <a:moveTo>
                  <a:pt x="4762" y="5969"/>
                </a:moveTo>
                <a:cubicBezTo>
                  <a:pt x="4713" y="6052"/>
                  <a:pt x="4757" y="6069"/>
                  <a:pt x="4762" y="6160"/>
                </a:cubicBezTo>
                <a:cubicBezTo>
                  <a:pt x="4769" y="6282"/>
                  <a:pt x="4776" y="6393"/>
                  <a:pt x="4794" y="6509"/>
                </a:cubicBezTo>
                <a:cubicBezTo>
                  <a:pt x="4798" y="6533"/>
                  <a:pt x="4779" y="6874"/>
                  <a:pt x="4826" y="6858"/>
                </a:cubicBezTo>
                <a:cubicBezTo>
                  <a:pt x="4826" y="6847"/>
                  <a:pt x="4826" y="6837"/>
                  <a:pt x="4826" y="6826"/>
                </a:cubicBezTo>
              </a:path>
              <a:path w="2224" h="922">
                <a:moveTo>
                  <a:pt x="5080" y="5937"/>
                </a:moveTo>
                <a:cubicBezTo>
                  <a:pt x="5080" y="6112"/>
                  <a:pt x="5088" y="6275"/>
                  <a:pt x="5112" y="6445"/>
                </a:cubicBezTo>
                <a:cubicBezTo>
                  <a:pt x="5124" y="6527"/>
                  <a:pt x="5125" y="6589"/>
                  <a:pt x="5144" y="6668"/>
                </a:cubicBezTo>
                <a:cubicBezTo>
                  <a:pt x="5150" y="6696"/>
                  <a:pt x="5144" y="6735"/>
                  <a:pt x="5144" y="6763"/>
                </a:cubicBezTo>
              </a:path>
              <a:path w="2224" h="922">
                <a:moveTo>
                  <a:pt x="4731" y="6382"/>
                </a:moveTo>
                <a:cubicBezTo>
                  <a:pt x="4837" y="6382"/>
                  <a:pt x="4926" y="6377"/>
                  <a:pt x="5016" y="6350"/>
                </a:cubicBezTo>
                <a:cubicBezTo>
                  <a:pt x="5116" y="6320"/>
                  <a:pt x="5216" y="6383"/>
                  <a:pt x="5302" y="6318"/>
                </a:cubicBezTo>
              </a:path>
              <a:path w="2224" h="922">
                <a:moveTo>
                  <a:pt x="5334" y="6509"/>
                </a:moveTo>
                <a:cubicBezTo>
                  <a:pt x="5427" y="6509"/>
                  <a:pt x="5470" y="6499"/>
                  <a:pt x="5556" y="6477"/>
                </a:cubicBezTo>
                <a:cubicBezTo>
                  <a:pt x="5567" y="6477"/>
                  <a:pt x="5577" y="6477"/>
                  <a:pt x="5588" y="6477"/>
                </a:cubicBezTo>
              </a:path>
              <a:path w="2224" h="922">
                <a:moveTo>
                  <a:pt x="5429" y="6636"/>
                </a:moveTo>
                <a:cubicBezTo>
                  <a:pt x="5467" y="6665"/>
                  <a:pt x="5535" y="6695"/>
                  <a:pt x="5588" y="6668"/>
                </a:cubicBezTo>
                <a:cubicBezTo>
                  <a:pt x="5617" y="6639"/>
                  <a:pt x="5623" y="6628"/>
                  <a:pt x="5652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7"/>
          <p:cNvSpPr/>
          <p:nvPr/>
        </p:nvSpPr>
        <p:spPr>
          <a:xfrm>
            <a:off x="4435560" y="2136600"/>
            <a:ext cx="285840" cy="366840"/>
          </a:xfrm>
          <a:custGeom>
            <a:avLst/>
            <a:gdLst/>
            <a:ahLst/>
            <a:rect l="l" t="t" r="r" b="b"/>
            <a:pathLst>
              <a:path w="795" h="1017">
                <a:moveTo>
                  <a:pt x="12764" y="6032"/>
                </a:moveTo>
                <a:cubicBezTo>
                  <a:pt x="12751" y="5980"/>
                  <a:pt x="12727" y="5944"/>
                  <a:pt x="12668" y="5937"/>
                </a:cubicBezTo>
                <a:cubicBezTo>
                  <a:pt x="12588" y="5928"/>
                  <a:pt x="12565" y="5997"/>
                  <a:pt x="12510" y="6032"/>
                </a:cubicBezTo>
                <a:cubicBezTo>
                  <a:pt x="12424" y="6087"/>
                  <a:pt x="12410" y="6144"/>
                  <a:pt x="12351" y="6223"/>
                </a:cubicBezTo>
                <a:cubicBezTo>
                  <a:pt x="12307" y="6282"/>
                  <a:pt x="12303" y="6327"/>
                  <a:pt x="12351" y="6382"/>
                </a:cubicBezTo>
                <a:cubicBezTo>
                  <a:pt x="12395" y="6433"/>
                  <a:pt x="12490" y="6408"/>
                  <a:pt x="12541" y="6382"/>
                </a:cubicBezTo>
                <a:cubicBezTo>
                  <a:pt x="12601" y="6352"/>
                  <a:pt x="12626" y="6270"/>
                  <a:pt x="12668" y="6223"/>
                </a:cubicBezTo>
                <a:cubicBezTo>
                  <a:pt x="12701" y="6187"/>
                  <a:pt x="12744" y="6084"/>
                  <a:pt x="12732" y="6032"/>
                </a:cubicBezTo>
                <a:cubicBezTo>
                  <a:pt x="12721" y="6011"/>
                  <a:pt x="12711" y="5990"/>
                  <a:pt x="12700" y="5969"/>
                </a:cubicBezTo>
                <a:cubicBezTo>
                  <a:pt x="12700" y="6083"/>
                  <a:pt x="12718" y="6180"/>
                  <a:pt x="12732" y="6286"/>
                </a:cubicBezTo>
                <a:cubicBezTo>
                  <a:pt x="12753" y="6445"/>
                  <a:pt x="12739" y="6609"/>
                  <a:pt x="12764" y="6763"/>
                </a:cubicBezTo>
                <a:cubicBezTo>
                  <a:pt x="12779" y="6858"/>
                  <a:pt x="12748" y="6907"/>
                  <a:pt x="12859" y="6953"/>
                </a:cubicBezTo>
                <a:cubicBezTo>
                  <a:pt x="12905" y="6972"/>
                  <a:pt x="12946" y="6908"/>
                  <a:pt x="12954" y="6890"/>
                </a:cubicBezTo>
                <a:cubicBezTo>
                  <a:pt x="12979" y="6835"/>
                  <a:pt x="13008" y="6763"/>
                  <a:pt x="12986" y="6699"/>
                </a:cubicBezTo>
                <a:cubicBezTo>
                  <a:pt x="12962" y="6627"/>
                  <a:pt x="12962" y="6541"/>
                  <a:pt x="12922" y="6477"/>
                </a:cubicBezTo>
                <a:cubicBezTo>
                  <a:pt x="12884" y="6415"/>
                  <a:pt x="12884" y="6375"/>
                  <a:pt x="12827" y="6318"/>
                </a:cubicBezTo>
                <a:cubicBezTo>
                  <a:pt x="12792" y="6283"/>
                  <a:pt x="12772" y="6284"/>
                  <a:pt x="12732" y="6255"/>
                </a:cubicBezTo>
                <a:cubicBezTo>
                  <a:pt x="12800" y="6255"/>
                  <a:pt x="12837" y="6234"/>
                  <a:pt x="12890" y="6223"/>
                </a:cubicBezTo>
                <a:cubicBezTo>
                  <a:pt x="12976" y="6204"/>
                  <a:pt x="13040" y="6245"/>
                  <a:pt x="13113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8"/>
          <p:cNvSpPr/>
          <p:nvPr/>
        </p:nvSpPr>
        <p:spPr>
          <a:xfrm>
            <a:off x="4869000" y="2022480"/>
            <a:ext cx="1155600" cy="263520"/>
          </a:xfrm>
          <a:custGeom>
            <a:avLst/>
            <a:gdLst/>
            <a:ahLst/>
            <a:rect l="l" t="t" r="r" b="b"/>
            <a:pathLst>
              <a:path w="3207" h="731">
                <a:moveTo>
                  <a:pt x="13557" y="5937"/>
                </a:moveTo>
                <a:cubicBezTo>
                  <a:pt x="13631" y="5937"/>
                  <a:pt x="13706" y="5937"/>
                  <a:pt x="13780" y="5937"/>
                </a:cubicBezTo>
              </a:path>
              <a:path w="3207" h="731">
                <a:moveTo>
                  <a:pt x="13526" y="6128"/>
                </a:moveTo>
                <a:cubicBezTo>
                  <a:pt x="13580" y="6169"/>
                  <a:pt x="13612" y="6160"/>
                  <a:pt x="13684" y="6160"/>
                </a:cubicBezTo>
                <a:cubicBezTo>
                  <a:pt x="13695" y="6160"/>
                  <a:pt x="13705" y="6160"/>
                  <a:pt x="13716" y="6160"/>
                </a:cubicBezTo>
              </a:path>
              <a:path w="3207" h="731">
                <a:moveTo>
                  <a:pt x="14065" y="5969"/>
                </a:moveTo>
                <a:cubicBezTo>
                  <a:pt x="14011" y="6042"/>
                  <a:pt x="14044" y="6042"/>
                  <a:pt x="14065" y="6128"/>
                </a:cubicBezTo>
                <a:cubicBezTo>
                  <a:pt x="14081" y="6192"/>
                  <a:pt x="14097" y="6208"/>
                  <a:pt x="14097" y="6286"/>
                </a:cubicBezTo>
                <a:cubicBezTo>
                  <a:pt x="14097" y="6367"/>
                  <a:pt x="14097" y="6217"/>
                  <a:pt x="14097" y="6191"/>
                </a:cubicBezTo>
                <a:cubicBezTo>
                  <a:pt x="14097" y="6106"/>
                  <a:pt x="14146" y="6074"/>
                  <a:pt x="14160" y="6032"/>
                </a:cubicBezTo>
                <a:cubicBezTo>
                  <a:pt x="14190" y="5942"/>
                  <a:pt x="14149" y="5993"/>
                  <a:pt x="14224" y="5937"/>
                </a:cubicBezTo>
                <a:cubicBezTo>
                  <a:pt x="14272" y="6020"/>
                  <a:pt x="14257" y="6050"/>
                  <a:pt x="14288" y="6128"/>
                </a:cubicBezTo>
                <a:cubicBezTo>
                  <a:pt x="14308" y="6176"/>
                  <a:pt x="14345" y="6200"/>
                  <a:pt x="14351" y="6255"/>
                </a:cubicBezTo>
                <a:cubicBezTo>
                  <a:pt x="14351" y="6286"/>
                  <a:pt x="14351" y="6296"/>
                  <a:pt x="14351" y="6255"/>
                </a:cubicBezTo>
                <a:cubicBezTo>
                  <a:pt x="14351" y="6180"/>
                  <a:pt x="14367" y="6134"/>
                  <a:pt x="14383" y="6064"/>
                </a:cubicBezTo>
                <a:cubicBezTo>
                  <a:pt x="14393" y="6023"/>
                  <a:pt x="14432" y="5957"/>
                  <a:pt x="14478" y="5937"/>
                </a:cubicBezTo>
                <a:cubicBezTo>
                  <a:pt x="14521" y="5918"/>
                  <a:pt x="14579" y="6006"/>
                  <a:pt x="14605" y="6032"/>
                </a:cubicBezTo>
                <a:cubicBezTo>
                  <a:pt x="14670" y="6097"/>
                  <a:pt x="14607" y="6150"/>
                  <a:pt x="14637" y="6223"/>
                </a:cubicBezTo>
                <a:cubicBezTo>
                  <a:pt x="14643" y="6238"/>
                  <a:pt x="14698" y="6352"/>
                  <a:pt x="14732" y="6318"/>
                </a:cubicBezTo>
                <a:cubicBezTo>
                  <a:pt x="14732" y="6307"/>
                  <a:pt x="14732" y="6297"/>
                  <a:pt x="14732" y="6286"/>
                </a:cubicBezTo>
              </a:path>
              <a:path w="3207" h="731">
                <a:moveTo>
                  <a:pt x="15145" y="6001"/>
                </a:moveTo>
                <a:cubicBezTo>
                  <a:pt x="15129" y="5938"/>
                  <a:pt x="15115" y="5937"/>
                  <a:pt x="15050" y="5937"/>
                </a:cubicBezTo>
                <a:cubicBezTo>
                  <a:pt x="14955" y="5937"/>
                  <a:pt x="14948" y="5964"/>
                  <a:pt x="14891" y="6032"/>
                </a:cubicBezTo>
                <a:cubicBezTo>
                  <a:pt x="14837" y="6097"/>
                  <a:pt x="14827" y="6101"/>
                  <a:pt x="14827" y="6191"/>
                </a:cubicBezTo>
                <a:cubicBezTo>
                  <a:pt x="14827" y="6286"/>
                  <a:pt x="14830" y="6276"/>
                  <a:pt x="14891" y="6318"/>
                </a:cubicBezTo>
                <a:cubicBezTo>
                  <a:pt x="14950" y="6358"/>
                  <a:pt x="14972" y="6350"/>
                  <a:pt x="15050" y="6350"/>
                </a:cubicBezTo>
                <a:cubicBezTo>
                  <a:pt x="15093" y="6350"/>
                  <a:pt x="15138" y="6308"/>
                  <a:pt x="15176" y="6286"/>
                </a:cubicBezTo>
              </a:path>
              <a:path w="3207" h="731">
                <a:moveTo>
                  <a:pt x="15684" y="5652"/>
                </a:moveTo>
                <a:cubicBezTo>
                  <a:pt x="15648" y="5701"/>
                  <a:pt x="15644" y="5753"/>
                  <a:pt x="15621" y="5810"/>
                </a:cubicBezTo>
                <a:cubicBezTo>
                  <a:pt x="15586" y="5898"/>
                  <a:pt x="15570" y="5976"/>
                  <a:pt x="15526" y="6064"/>
                </a:cubicBezTo>
                <a:cubicBezTo>
                  <a:pt x="15491" y="6134"/>
                  <a:pt x="15455" y="6212"/>
                  <a:pt x="15430" y="6286"/>
                </a:cubicBezTo>
                <a:cubicBezTo>
                  <a:pt x="15419" y="6318"/>
                  <a:pt x="15366" y="6384"/>
                  <a:pt x="15430" y="6318"/>
                </a:cubicBezTo>
              </a:path>
              <a:path w="3207" h="731">
                <a:moveTo>
                  <a:pt x="15653" y="5683"/>
                </a:moveTo>
                <a:cubicBezTo>
                  <a:pt x="15688" y="5731"/>
                  <a:pt x="15716" y="5788"/>
                  <a:pt x="15748" y="5842"/>
                </a:cubicBezTo>
                <a:cubicBezTo>
                  <a:pt x="15784" y="5902"/>
                  <a:pt x="15848" y="5990"/>
                  <a:pt x="15907" y="6032"/>
                </a:cubicBezTo>
                <a:cubicBezTo>
                  <a:pt x="15994" y="6094"/>
                  <a:pt x="15983" y="6107"/>
                  <a:pt x="16034" y="6191"/>
                </a:cubicBezTo>
                <a:cubicBezTo>
                  <a:pt x="16064" y="6241"/>
                  <a:pt x="16088" y="6280"/>
                  <a:pt x="16002" y="6286"/>
                </a:cubicBezTo>
                <a:cubicBezTo>
                  <a:pt x="15930" y="6291"/>
                  <a:pt x="15759" y="6324"/>
                  <a:pt x="15716" y="6318"/>
                </a:cubicBezTo>
                <a:cubicBezTo>
                  <a:pt x="15633" y="6307"/>
                  <a:pt x="15586" y="6318"/>
                  <a:pt x="15494" y="6318"/>
                </a:cubicBezTo>
                <a:cubicBezTo>
                  <a:pt x="15435" y="6318"/>
                  <a:pt x="15425" y="6341"/>
                  <a:pt x="15462" y="6286"/>
                </a:cubicBezTo>
              </a:path>
              <a:path w="3207" h="731">
                <a:moveTo>
                  <a:pt x="16383" y="5620"/>
                </a:moveTo>
                <a:cubicBezTo>
                  <a:pt x="16345" y="5683"/>
                  <a:pt x="16351" y="5731"/>
                  <a:pt x="16351" y="5810"/>
                </a:cubicBezTo>
                <a:cubicBezTo>
                  <a:pt x="16351" y="5966"/>
                  <a:pt x="16346" y="6109"/>
                  <a:pt x="16383" y="6255"/>
                </a:cubicBezTo>
                <a:cubicBezTo>
                  <a:pt x="16398" y="6315"/>
                  <a:pt x="16383" y="6331"/>
                  <a:pt x="16383" y="6255"/>
                </a:cubicBezTo>
              </a:path>
              <a:path w="3207" h="731">
                <a:moveTo>
                  <a:pt x="16066" y="5652"/>
                </a:moveTo>
                <a:cubicBezTo>
                  <a:pt x="16129" y="5636"/>
                  <a:pt x="16170" y="5627"/>
                  <a:pt x="16224" y="5620"/>
                </a:cubicBezTo>
                <a:cubicBezTo>
                  <a:pt x="16316" y="5608"/>
                  <a:pt x="16710" y="5585"/>
                  <a:pt x="16732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Ink 9"/>
          <p:cNvSpPr/>
          <p:nvPr/>
        </p:nvSpPr>
        <p:spPr>
          <a:xfrm>
            <a:off x="1863720" y="3143160"/>
            <a:ext cx="144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175" y="8731"/>
                </a:moveTo>
                <a:lnTo>
                  <a:pt x="5175" y="8731"/>
                </a:lnTo>
              </a:path>
              <a:path w="1" h="65">
                <a:moveTo>
                  <a:pt x="5175" y="8731"/>
                </a:moveTo>
                <a:cubicBezTo>
                  <a:pt x="5175" y="8752"/>
                  <a:pt x="5175" y="8774"/>
                  <a:pt x="517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Ink 10"/>
          <p:cNvSpPr/>
          <p:nvPr/>
        </p:nvSpPr>
        <p:spPr>
          <a:xfrm>
            <a:off x="743040" y="3097080"/>
            <a:ext cx="182520" cy="355680"/>
          </a:xfrm>
          <a:custGeom>
            <a:avLst/>
            <a:gdLst/>
            <a:ahLst/>
            <a:rect l="l" t="t" r="r" b="b"/>
            <a:pathLst>
              <a:path w="509" h="985">
                <a:moveTo>
                  <a:pt x="2064" y="8604"/>
                </a:moveTo>
                <a:cubicBezTo>
                  <a:pt x="2101" y="8653"/>
                  <a:pt x="2096" y="8669"/>
                  <a:pt x="2096" y="8731"/>
                </a:cubicBezTo>
                <a:cubicBezTo>
                  <a:pt x="2096" y="8820"/>
                  <a:pt x="2127" y="8892"/>
                  <a:pt x="2127" y="8985"/>
                </a:cubicBezTo>
                <a:cubicBezTo>
                  <a:pt x="2127" y="9151"/>
                  <a:pt x="2123" y="9306"/>
                  <a:pt x="2159" y="9462"/>
                </a:cubicBezTo>
                <a:cubicBezTo>
                  <a:pt x="2174" y="9528"/>
                  <a:pt x="2129" y="9568"/>
                  <a:pt x="2191" y="9588"/>
                </a:cubicBezTo>
              </a:path>
              <a:path w="509" h="985">
                <a:moveTo>
                  <a:pt x="2572" y="9398"/>
                </a:moveTo>
                <a:cubicBezTo>
                  <a:pt x="2516" y="9412"/>
                  <a:pt x="2491" y="9508"/>
                  <a:pt x="2540" y="9493"/>
                </a:cubicBezTo>
                <a:cubicBezTo>
                  <a:pt x="2580" y="9481"/>
                  <a:pt x="2467" y="9353"/>
                  <a:pt x="2540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11"/>
          <p:cNvSpPr/>
          <p:nvPr/>
        </p:nvSpPr>
        <p:spPr>
          <a:xfrm>
            <a:off x="1782720" y="3086280"/>
            <a:ext cx="1384200" cy="434880"/>
          </a:xfrm>
          <a:custGeom>
            <a:avLst/>
            <a:gdLst/>
            <a:ahLst/>
            <a:rect l="l" t="t" r="r" b="b"/>
            <a:pathLst>
              <a:path w="3843" h="1208">
                <a:moveTo>
                  <a:pt x="5175" y="8795"/>
                </a:moveTo>
                <a:cubicBezTo>
                  <a:pt x="5163" y="8845"/>
                  <a:pt x="5160" y="8901"/>
                  <a:pt x="5144" y="8954"/>
                </a:cubicBezTo>
                <a:cubicBezTo>
                  <a:pt x="5118" y="9040"/>
                  <a:pt x="5066" y="9116"/>
                  <a:pt x="5048" y="9208"/>
                </a:cubicBezTo>
                <a:cubicBezTo>
                  <a:pt x="5029" y="9309"/>
                  <a:pt x="4991" y="9387"/>
                  <a:pt x="4985" y="9493"/>
                </a:cubicBezTo>
                <a:cubicBezTo>
                  <a:pt x="4981" y="9564"/>
                  <a:pt x="4960" y="9618"/>
                  <a:pt x="4953" y="9684"/>
                </a:cubicBezTo>
                <a:cubicBezTo>
                  <a:pt x="4950" y="9715"/>
                  <a:pt x="4953" y="9748"/>
                  <a:pt x="4953" y="9779"/>
                </a:cubicBezTo>
              </a:path>
              <a:path w="3843" h="1208">
                <a:moveTo>
                  <a:pt x="5144" y="8826"/>
                </a:moveTo>
                <a:cubicBezTo>
                  <a:pt x="5159" y="8903"/>
                  <a:pt x="5193" y="8928"/>
                  <a:pt x="5239" y="8985"/>
                </a:cubicBezTo>
                <a:cubicBezTo>
                  <a:pt x="5282" y="9038"/>
                  <a:pt x="5331" y="9086"/>
                  <a:pt x="5366" y="9144"/>
                </a:cubicBezTo>
                <a:cubicBezTo>
                  <a:pt x="5422" y="9236"/>
                  <a:pt x="5497" y="9309"/>
                  <a:pt x="5556" y="9398"/>
                </a:cubicBezTo>
                <a:cubicBezTo>
                  <a:pt x="5599" y="9463"/>
                  <a:pt x="5631" y="9530"/>
                  <a:pt x="5683" y="9588"/>
                </a:cubicBezTo>
                <a:cubicBezTo>
                  <a:pt x="5717" y="9626"/>
                  <a:pt x="5716" y="9643"/>
                  <a:pt x="5747" y="9684"/>
                </a:cubicBezTo>
                <a:cubicBezTo>
                  <a:pt x="5647" y="9684"/>
                  <a:pt x="5585" y="9700"/>
                  <a:pt x="5493" y="9716"/>
                </a:cubicBezTo>
                <a:cubicBezTo>
                  <a:pt x="5421" y="9729"/>
                  <a:pt x="5340" y="9736"/>
                  <a:pt x="5270" y="9747"/>
                </a:cubicBezTo>
                <a:cubicBezTo>
                  <a:pt x="5201" y="9758"/>
                  <a:pt x="5003" y="9769"/>
                  <a:pt x="4985" y="9716"/>
                </a:cubicBezTo>
              </a:path>
              <a:path w="3843" h="1208">
                <a:moveTo>
                  <a:pt x="6096" y="8890"/>
                </a:moveTo>
                <a:cubicBezTo>
                  <a:pt x="6085" y="8879"/>
                  <a:pt x="6075" y="8869"/>
                  <a:pt x="6064" y="8858"/>
                </a:cubicBezTo>
                <a:cubicBezTo>
                  <a:pt x="6064" y="8993"/>
                  <a:pt x="6077" y="9109"/>
                  <a:pt x="6096" y="9239"/>
                </a:cubicBezTo>
                <a:cubicBezTo>
                  <a:pt x="6108" y="9325"/>
                  <a:pt x="6114" y="9411"/>
                  <a:pt x="6128" y="9493"/>
                </a:cubicBezTo>
                <a:cubicBezTo>
                  <a:pt x="6140" y="9567"/>
                  <a:pt x="6086" y="9764"/>
                  <a:pt x="6160" y="9716"/>
                </a:cubicBezTo>
              </a:path>
              <a:path w="3843" h="1208">
                <a:moveTo>
                  <a:pt x="6509" y="8858"/>
                </a:moveTo>
                <a:cubicBezTo>
                  <a:pt x="6509" y="9092"/>
                  <a:pt x="6493" y="9334"/>
                  <a:pt x="6540" y="9557"/>
                </a:cubicBezTo>
                <a:cubicBezTo>
                  <a:pt x="6545" y="9579"/>
                  <a:pt x="6540" y="9795"/>
                  <a:pt x="6540" y="9716"/>
                </a:cubicBezTo>
              </a:path>
              <a:path w="3843" h="1208">
                <a:moveTo>
                  <a:pt x="6128" y="9303"/>
                </a:moveTo>
                <a:cubicBezTo>
                  <a:pt x="6236" y="9303"/>
                  <a:pt x="6312" y="9295"/>
                  <a:pt x="6414" y="9271"/>
                </a:cubicBezTo>
                <a:cubicBezTo>
                  <a:pt x="6462" y="9260"/>
                  <a:pt x="6522" y="9271"/>
                  <a:pt x="6572" y="9271"/>
                </a:cubicBezTo>
              </a:path>
              <a:path w="3843" h="1208">
                <a:moveTo>
                  <a:pt x="7017" y="8922"/>
                </a:moveTo>
                <a:cubicBezTo>
                  <a:pt x="7092" y="8922"/>
                  <a:pt x="7314" y="8893"/>
                  <a:pt x="7334" y="8954"/>
                </a:cubicBezTo>
              </a:path>
              <a:path w="3843" h="1208">
                <a:moveTo>
                  <a:pt x="7176" y="9080"/>
                </a:moveTo>
                <a:cubicBezTo>
                  <a:pt x="7246" y="9134"/>
                  <a:pt x="7234" y="9103"/>
                  <a:pt x="7302" y="9080"/>
                </a:cubicBezTo>
                <a:cubicBezTo>
                  <a:pt x="7326" y="9072"/>
                  <a:pt x="7372" y="9080"/>
                  <a:pt x="7398" y="9080"/>
                </a:cubicBezTo>
              </a:path>
              <a:path w="3843" h="1208">
                <a:moveTo>
                  <a:pt x="8160" y="8700"/>
                </a:moveTo>
                <a:cubicBezTo>
                  <a:pt x="8170" y="8662"/>
                  <a:pt x="8182" y="8642"/>
                  <a:pt x="8192" y="8604"/>
                </a:cubicBezTo>
                <a:cubicBezTo>
                  <a:pt x="8140" y="8565"/>
                  <a:pt x="8116" y="8555"/>
                  <a:pt x="8064" y="8604"/>
                </a:cubicBezTo>
                <a:cubicBezTo>
                  <a:pt x="7991" y="8673"/>
                  <a:pt x="7925" y="8753"/>
                  <a:pt x="7874" y="8826"/>
                </a:cubicBezTo>
                <a:cubicBezTo>
                  <a:pt x="7846" y="8866"/>
                  <a:pt x="7852" y="8918"/>
                  <a:pt x="7906" y="8922"/>
                </a:cubicBezTo>
                <a:cubicBezTo>
                  <a:pt x="7972" y="8927"/>
                  <a:pt x="8017" y="8932"/>
                  <a:pt x="8064" y="8890"/>
                </a:cubicBezTo>
                <a:cubicBezTo>
                  <a:pt x="8105" y="8853"/>
                  <a:pt x="8102" y="8802"/>
                  <a:pt x="8128" y="8763"/>
                </a:cubicBezTo>
                <a:cubicBezTo>
                  <a:pt x="8161" y="8714"/>
                  <a:pt x="8157" y="8683"/>
                  <a:pt x="8192" y="8636"/>
                </a:cubicBezTo>
                <a:cubicBezTo>
                  <a:pt x="8192" y="8850"/>
                  <a:pt x="8185" y="9076"/>
                  <a:pt x="8223" y="9271"/>
                </a:cubicBezTo>
                <a:cubicBezTo>
                  <a:pt x="8237" y="9341"/>
                  <a:pt x="8245" y="9374"/>
                  <a:pt x="8318" y="9398"/>
                </a:cubicBezTo>
                <a:cubicBezTo>
                  <a:pt x="8371" y="9416"/>
                  <a:pt x="8437" y="9309"/>
                  <a:pt x="8446" y="9271"/>
                </a:cubicBezTo>
                <a:cubicBezTo>
                  <a:pt x="8457" y="9227"/>
                  <a:pt x="8500" y="9128"/>
                  <a:pt x="8477" y="9080"/>
                </a:cubicBezTo>
                <a:cubicBezTo>
                  <a:pt x="8463" y="9052"/>
                  <a:pt x="8428" y="8935"/>
                  <a:pt x="8414" y="8922"/>
                </a:cubicBezTo>
                <a:cubicBezTo>
                  <a:pt x="8382" y="8893"/>
                  <a:pt x="8296" y="8831"/>
                  <a:pt x="8255" y="8826"/>
                </a:cubicBezTo>
                <a:cubicBezTo>
                  <a:pt x="8223" y="8826"/>
                  <a:pt x="8213" y="8826"/>
                  <a:pt x="8192" y="8826"/>
                </a:cubicBezTo>
                <a:cubicBezTo>
                  <a:pt x="8268" y="8826"/>
                  <a:pt x="8319" y="8813"/>
                  <a:pt x="8382" y="8795"/>
                </a:cubicBezTo>
                <a:cubicBezTo>
                  <a:pt x="8427" y="8795"/>
                  <a:pt x="8449" y="8801"/>
                  <a:pt x="8477" y="8826"/>
                </a:cubicBezTo>
              </a:path>
              <a:path w="3843" h="1208">
                <a:moveTo>
                  <a:pt x="7747" y="9398"/>
                </a:moveTo>
                <a:cubicBezTo>
                  <a:pt x="7828" y="9433"/>
                  <a:pt x="7879" y="9430"/>
                  <a:pt x="7969" y="9430"/>
                </a:cubicBezTo>
                <a:cubicBezTo>
                  <a:pt x="8086" y="9430"/>
                  <a:pt x="8166" y="9419"/>
                  <a:pt x="8287" y="9430"/>
                </a:cubicBezTo>
                <a:cubicBezTo>
                  <a:pt x="8421" y="9443"/>
                  <a:pt x="8531" y="9424"/>
                  <a:pt x="8668" y="9430"/>
                </a:cubicBezTo>
                <a:cubicBezTo>
                  <a:pt x="8746" y="9434"/>
                  <a:pt x="8775" y="9414"/>
                  <a:pt x="8795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12"/>
          <p:cNvSpPr/>
          <p:nvPr/>
        </p:nvSpPr>
        <p:spPr>
          <a:xfrm>
            <a:off x="2846520" y="3486240"/>
            <a:ext cx="652320" cy="206280"/>
          </a:xfrm>
          <a:custGeom>
            <a:avLst/>
            <a:gdLst/>
            <a:ahLst/>
            <a:rect l="l" t="t" r="r" b="b"/>
            <a:pathLst>
              <a:path w="1811" h="572">
                <a:moveTo>
                  <a:pt x="7906" y="9842"/>
                </a:moveTo>
                <a:cubicBezTo>
                  <a:pt x="7906" y="9832"/>
                  <a:pt x="7906" y="9821"/>
                  <a:pt x="7906" y="9811"/>
                </a:cubicBezTo>
                <a:cubicBezTo>
                  <a:pt x="7942" y="9870"/>
                  <a:pt x="7917" y="9910"/>
                  <a:pt x="7938" y="9970"/>
                </a:cubicBezTo>
                <a:cubicBezTo>
                  <a:pt x="7962" y="10038"/>
                  <a:pt x="7969" y="10059"/>
                  <a:pt x="7969" y="10128"/>
                </a:cubicBezTo>
                <a:cubicBezTo>
                  <a:pt x="7969" y="10139"/>
                  <a:pt x="7969" y="10149"/>
                  <a:pt x="7969" y="10160"/>
                </a:cubicBezTo>
                <a:cubicBezTo>
                  <a:pt x="7969" y="10094"/>
                  <a:pt x="7985" y="10055"/>
                  <a:pt x="8001" y="10001"/>
                </a:cubicBezTo>
                <a:cubicBezTo>
                  <a:pt x="8025" y="9922"/>
                  <a:pt x="8000" y="9907"/>
                  <a:pt x="8064" y="9842"/>
                </a:cubicBezTo>
                <a:cubicBezTo>
                  <a:pt x="8075" y="9922"/>
                  <a:pt x="8108" y="9953"/>
                  <a:pt x="8128" y="10033"/>
                </a:cubicBezTo>
                <a:cubicBezTo>
                  <a:pt x="8136" y="10064"/>
                  <a:pt x="8145" y="10132"/>
                  <a:pt x="8160" y="10160"/>
                </a:cubicBezTo>
                <a:cubicBezTo>
                  <a:pt x="8171" y="10171"/>
                  <a:pt x="8181" y="10181"/>
                  <a:pt x="8192" y="10192"/>
                </a:cubicBezTo>
                <a:cubicBezTo>
                  <a:pt x="8192" y="10114"/>
                  <a:pt x="8175" y="10030"/>
                  <a:pt x="8223" y="9970"/>
                </a:cubicBezTo>
                <a:cubicBezTo>
                  <a:pt x="8255" y="9938"/>
                  <a:pt x="8266" y="9927"/>
                  <a:pt x="8287" y="9906"/>
                </a:cubicBezTo>
                <a:cubicBezTo>
                  <a:pt x="8319" y="9922"/>
                  <a:pt x="8372" y="9988"/>
                  <a:pt x="8382" y="10033"/>
                </a:cubicBezTo>
                <a:cubicBezTo>
                  <a:pt x="8391" y="10076"/>
                  <a:pt x="8347" y="10177"/>
                  <a:pt x="8350" y="10192"/>
                </a:cubicBezTo>
                <a:cubicBezTo>
                  <a:pt x="8370" y="10281"/>
                  <a:pt x="8402" y="10235"/>
                  <a:pt x="8446" y="10192"/>
                </a:cubicBezTo>
              </a:path>
              <a:path w="1811" h="572">
                <a:moveTo>
                  <a:pt x="8572" y="9874"/>
                </a:moveTo>
                <a:cubicBezTo>
                  <a:pt x="8545" y="9893"/>
                  <a:pt x="8515" y="9949"/>
                  <a:pt x="8509" y="10001"/>
                </a:cubicBezTo>
                <a:cubicBezTo>
                  <a:pt x="8502" y="10064"/>
                  <a:pt x="8503" y="10112"/>
                  <a:pt x="8541" y="10160"/>
                </a:cubicBezTo>
                <a:cubicBezTo>
                  <a:pt x="8601" y="10236"/>
                  <a:pt x="8652" y="10177"/>
                  <a:pt x="8700" y="10128"/>
                </a:cubicBezTo>
                <a:cubicBezTo>
                  <a:pt x="8748" y="10079"/>
                  <a:pt x="8739" y="10029"/>
                  <a:pt x="8700" y="9970"/>
                </a:cubicBezTo>
                <a:cubicBezTo>
                  <a:pt x="8668" y="9922"/>
                  <a:pt x="8649" y="9887"/>
                  <a:pt x="8604" y="9842"/>
                </a:cubicBezTo>
                <a:cubicBezTo>
                  <a:pt x="8575" y="9814"/>
                  <a:pt x="8565" y="9799"/>
                  <a:pt x="8572" y="9842"/>
                </a:cubicBezTo>
              </a:path>
              <a:path w="1811" h="572">
                <a:moveTo>
                  <a:pt x="8826" y="9684"/>
                </a:moveTo>
                <a:cubicBezTo>
                  <a:pt x="8812" y="9754"/>
                  <a:pt x="8795" y="9799"/>
                  <a:pt x="8795" y="9874"/>
                </a:cubicBezTo>
                <a:cubicBezTo>
                  <a:pt x="8795" y="9961"/>
                  <a:pt x="8808" y="10014"/>
                  <a:pt x="8826" y="10096"/>
                </a:cubicBezTo>
                <a:cubicBezTo>
                  <a:pt x="8837" y="10143"/>
                  <a:pt x="8801" y="10196"/>
                  <a:pt x="8858" y="10224"/>
                </a:cubicBezTo>
                <a:cubicBezTo>
                  <a:pt x="8869" y="10224"/>
                  <a:pt x="8879" y="10224"/>
                  <a:pt x="8890" y="10224"/>
                </a:cubicBezTo>
              </a:path>
              <a:path w="1811" h="572">
                <a:moveTo>
                  <a:pt x="8985" y="10096"/>
                </a:moveTo>
                <a:cubicBezTo>
                  <a:pt x="9036" y="10086"/>
                  <a:pt x="9105" y="10059"/>
                  <a:pt x="9144" y="10033"/>
                </a:cubicBezTo>
                <a:cubicBezTo>
                  <a:pt x="9175" y="10012"/>
                  <a:pt x="9258" y="9982"/>
                  <a:pt x="9271" y="9938"/>
                </a:cubicBezTo>
                <a:cubicBezTo>
                  <a:pt x="9271" y="9917"/>
                  <a:pt x="9271" y="9895"/>
                  <a:pt x="9271" y="9874"/>
                </a:cubicBezTo>
                <a:cubicBezTo>
                  <a:pt x="9186" y="9874"/>
                  <a:pt x="9171" y="9879"/>
                  <a:pt x="9112" y="9938"/>
                </a:cubicBezTo>
                <a:cubicBezTo>
                  <a:pt x="9079" y="9971"/>
                  <a:pt x="9054" y="10020"/>
                  <a:pt x="9049" y="10065"/>
                </a:cubicBezTo>
                <a:cubicBezTo>
                  <a:pt x="9043" y="10117"/>
                  <a:pt x="9084" y="10147"/>
                  <a:pt x="9112" y="10160"/>
                </a:cubicBezTo>
                <a:cubicBezTo>
                  <a:pt x="9188" y="10195"/>
                  <a:pt x="9220" y="10192"/>
                  <a:pt x="9303" y="10192"/>
                </a:cubicBezTo>
                <a:cubicBezTo>
                  <a:pt x="9348" y="10192"/>
                  <a:pt x="9370" y="10186"/>
                  <a:pt x="9398" y="10160"/>
                </a:cubicBezTo>
              </a:path>
              <a:path w="1811" h="572">
                <a:moveTo>
                  <a:pt x="9684" y="9842"/>
                </a:moveTo>
                <a:cubicBezTo>
                  <a:pt x="9659" y="9824"/>
                  <a:pt x="9595" y="9784"/>
                  <a:pt x="9557" y="9811"/>
                </a:cubicBezTo>
                <a:cubicBezTo>
                  <a:pt x="9507" y="9860"/>
                  <a:pt x="9485" y="9862"/>
                  <a:pt x="9493" y="9906"/>
                </a:cubicBezTo>
                <a:cubicBezTo>
                  <a:pt x="9565" y="9978"/>
                  <a:pt x="9634" y="10053"/>
                  <a:pt x="9684" y="10128"/>
                </a:cubicBezTo>
                <a:cubicBezTo>
                  <a:pt x="9736" y="10205"/>
                  <a:pt x="9725" y="10248"/>
                  <a:pt x="9620" y="10255"/>
                </a:cubicBezTo>
                <a:cubicBezTo>
                  <a:pt x="9567" y="10255"/>
                  <a:pt x="9557" y="10255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3"/>
          <p:cNvSpPr/>
          <p:nvPr/>
        </p:nvSpPr>
        <p:spPr>
          <a:xfrm>
            <a:off x="1577880" y="4218120"/>
            <a:ext cx="217440" cy="34920"/>
          </a:xfrm>
          <a:custGeom>
            <a:avLst/>
            <a:gdLst/>
            <a:ahLst/>
            <a:rect l="l" t="t" r="r" b="b"/>
            <a:pathLst>
              <a:path w="604" h="96">
                <a:moveTo>
                  <a:pt x="4477" y="11716"/>
                </a:moveTo>
                <a:cubicBezTo>
                  <a:pt x="4530" y="11729"/>
                  <a:pt x="4609" y="11710"/>
                  <a:pt x="4636" y="11716"/>
                </a:cubicBezTo>
                <a:cubicBezTo>
                  <a:pt x="4686" y="11726"/>
                  <a:pt x="4716" y="11716"/>
                  <a:pt x="4794" y="11716"/>
                </a:cubicBezTo>
                <a:cubicBezTo>
                  <a:pt x="4858" y="11716"/>
                  <a:pt x="4921" y="11716"/>
                  <a:pt x="4985" y="11716"/>
                </a:cubicBezTo>
                <a:cubicBezTo>
                  <a:pt x="4909" y="11716"/>
                  <a:pt x="4865" y="11741"/>
                  <a:pt x="4794" y="11748"/>
                </a:cubicBezTo>
                <a:cubicBezTo>
                  <a:pt x="4675" y="11760"/>
                  <a:pt x="4509" y="11709"/>
                  <a:pt x="4413" y="11779"/>
                </a:cubicBezTo>
                <a:cubicBezTo>
                  <a:pt x="4329" y="11779"/>
                  <a:pt x="4521" y="11779"/>
                  <a:pt x="4540" y="11779"/>
                </a:cubicBezTo>
                <a:cubicBezTo>
                  <a:pt x="4647" y="11779"/>
                  <a:pt x="4654" y="11794"/>
                  <a:pt x="4762" y="11779"/>
                </a:cubicBezTo>
                <a:cubicBezTo>
                  <a:pt x="4833" y="11769"/>
                  <a:pt x="4863" y="11807"/>
                  <a:pt x="4921" y="11811"/>
                </a:cubicBezTo>
                <a:cubicBezTo>
                  <a:pt x="4942" y="11811"/>
                  <a:pt x="4964" y="11811"/>
                  <a:pt x="4985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978200" y="4114800"/>
            <a:ext cx="1771560" cy="285840"/>
          </a:xfrm>
          <a:custGeom>
            <a:avLst/>
            <a:gdLst/>
            <a:ahLst/>
            <a:rect l="l" t="t" r="r" b="b"/>
            <a:pathLst>
              <a:path w="4922" h="795">
                <a:moveTo>
                  <a:pt x="5747" y="11557"/>
                </a:moveTo>
                <a:cubicBezTo>
                  <a:pt x="5775" y="11528"/>
                  <a:pt x="5785" y="11522"/>
                  <a:pt x="5778" y="11494"/>
                </a:cubicBezTo>
                <a:cubicBezTo>
                  <a:pt x="5679" y="11433"/>
                  <a:pt x="5703" y="11489"/>
                  <a:pt x="5620" y="11525"/>
                </a:cubicBezTo>
                <a:cubicBezTo>
                  <a:pt x="5560" y="11551"/>
                  <a:pt x="5518" y="11576"/>
                  <a:pt x="5493" y="11652"/>
                </a:cubicBezTo>
                <a:cubicBezTo>
                  <a:pt x="5476" y="11705"/>
                  <a:pt x="5550" y="11744"/>
                  <a:pt x="5588" y="11748"/>
                </a:cubicBezTo>
                <a:cubicBezTo>
                  <a:pt x="5677" y="11758"/>
                  <a:pt x="5673" y="11772"/>
                  <a:pt x="5747" y="11748"/>
                </a:cubicBezTo>
                <a:cubicBezTo>
                  <a:pt x="5826" y="11722"/>
                  <a:pt x="5841" y="11750"/>
                  <a:pt x="5906" y="11684"/>
                </a:cubicBezTo>
                <a:cubicBezTo>
                  <a:pt x="5931" y="11659"/>
                  <a:pt x="5958" y="11596"/>
                  <a:pt x="5937" y="11557"/>
                </a:cubicBezTo>
                <a:cubicBezTo>
                  <a:pt x="5914" y="11515"/>
                  <a:pt x="5854" y="11465"/>
                  <a:pt x="5810" y="11462"/>
                </a:cubicBezTo>
                <a:cubicBezTo>
                  <a:pt x="5730" y="11456"/>
                  <a:pt x="5685" y="11459"/>
                  <a:pt x="5652" y="11525"/>
                </a:cubicBezTo>
              </a:path>
              <a:path w="4922" h="795">
                <a:moveTo>
                  <a:pt x="5747" y="11748"/>
                </a:moveTo>
                <a:cubicBezTo>
                  <a:pt x="5694" y="11800"/>
                  <a:pt x="5664" y="11848"/>
                  <a:pt x="5620" y="11906"/>
                </a:cubicBezTo>
                <a:cubicBezTo>
                  <a:pt x="5569" y="11973"/>
                  <a:pt x="5544" y="12010"/>
                  <a:pt x="5524" y="12097"/>
                </a:cubicBezTo>
                <a:cubicBezTo>
                  <a:pt x="5509" y="12162"/>
                  <a:pt x="5566" y="12203"/>
                  <a:pt x="5620" y="12224"/>
                </a:cubicBezTo>
                <a:cubicBezTo>
                  <a:pt x="5691" y="12252"/>
                  <a:pt x="5820" y="12221"/>
                  <a:pt x="5874" y="12192"/>
                </a:cubicBezTo>
                <a:cubicBezTo>
                  <a:pt x="5979" y="12135"/>
                  <a:pt x="5941" y="12123"/>
                  <a:pt x="6001" y="12033"/>
                </a:cubicBezTo>
                <a:cubicBezTo>
                  <a:pt x="6034" y="11984"/>
                  <a:pt x="6042" y="11929"/>
                  <a:pt x="6001" y="11874"/>
                </a:cubicBezTo>
                <a:cubicBezTo>
                  <a:pt x="5967" y="11828"/>
                  <a:pt x="5894" y="11765"/>
                  <a:pt x="5842" y="11748"/>
                </a:cubicBezTo>
                <a:cubicBezTo>
                  <a:pt x="5787" y="11730"/>
                  <a:pt x="5799" y="11756"/>
                  <a:pt x="5747" y="11716"/>
                </a:cubicBezTo>
              </a:path>
              <a:path w="4922" h="795">
                <a:moveTo>
                  <a:pt x="6255" y="11557"/>
                </a:moveTo>
                <a:cubicBezTo>
                  <a:pt x="6229" y="11591"/>
                  <a:pt x="6178" y="11643"/>
                  <a:pt x="6160" y="11684"/>
                </a:cubicBezTo>
                <a:cubicBezTo>
                  <a:pt x="6118" y="11782"/>
                  <a:pt x="6175" y="11950"/>
                  <a:pt x="6191" y="12033"/>
                </a:cubicBezTo>
                <a:cubicBezTo>
                  <a:pt x="6204" y="12100"/>
                  <a:pt x="6204" y="12151"/>
                  <a:pt x="6286" y="12160"/>
                </a:cubicBezTo>
                <a:cubicBezTo>
                  <a:pt x="6355" y="12168"/>
                  <a:pt x="6426" y="12173"/>
                  <a:pt x="6477" y="12128"/>
                </a:cubicBezTo>
                <a:cubicBezTo>
                  <a:pt x="6546" y="12068"/>
                  <a:pt x="6538" y="12038"/>
                  <a:pt x="6572" y="11970"/>
                </a:cubicBezTo>
                <a:cubicBezTo>
                  <a:pt x="6609" y="11897"/>
                  <a:pt x="6608" y="11799"/>
                  <a:pt x="6572" y="11716"/>
                </a:cubicBezTo>
                <a:cubicBezTo>
                  <a:pt x="6539" y="11639"/>
                  <a:pt x="6467" y="11646"/>
                  <a:pt x="6414" y="11620"/>
                </a:cubicBezTo>
                <a:cubicBezTo>
                  <a:pt x="6339" y="11583"/>
                  <a:pt x="6298" y="11576"/>
                  <a:pt x="6223" y="11620"/>
                </a:cubicBezTo>
              </a:path>
              <a:path w="4922" h="795">
                <a:moveTo>
                  <a:pt x="6699" y="11684"/>
                </a:moveTo>
                <a:cubicBezTo>
                  <a:pt x="6730" y="11612"/>
                  <a:pt x="6739" y="11580"/>
                  <a:pt x="6794" y="11525"/>
                </a:cubicBezTo>
                <a:cubicBezTo>
                  <a:pt x="6841" y="11479"/>
                  <a:pt x="6888" y="11494"/>
                  <a:pt x="6953" y="11494"/>
                </a:cubicBezTo>
                <a:cubicBezTo>
                  <a:pt x="7024" y="11494"/>
                  <a:pt x="7017" y="11567"/>
                  <a:pt x="7017" y="11620"/>
                </a:cubicBezTo>
                <a:cubicBezTo>
                  <a:pt x="7017" y="11715"/>
                  <a:pt x="7000" y="11732"/>
                  <a:pt x="6953" y="11811"/>
                </a:cubicBezTo>
                <a:cubicBezTo>
                  <a:pt x="6905" y="11891"/>
                  <a:pt x="6917" y="11955"/>
                  <a:pt x="6858" y="12033"/>
                </a:cubicBezTo>
                <a:cubicBezTo>
                  <a:pt x="6814" y="12092"/>
                  <a:pt x="6814" y="12122"/>
                  <a:pt x="6858" y="12160"/>
                </a:cubicBezTo>
                <a:cubicBezTo>
                  <a:pt x="6909" y="12205"/>
                  <a:pt x="6947" y="12192"/>
                  <a:pt x="7017" y="12192"/>
                </a:cubicBezTo>
                <a:cubicBezTo>
                  <a:pt x="7070" y="12192"/>
                  <a:pt x="7110" y="12160"/>
                  <a:pt x="7176" y="12160"/>
                </a:cubicBezTo>
              </a:path>
              <a:path w="4922" h="795">
                <a:moveTo>
                  <a:pt x="7366" y="12065"/>
                </a:moveTo>
                <a:cubicBezTo>
                  <a:pt x="7337" y="12094"/>
                  <a:pt x="7322" y="12105"/>
                  <a:pt x="7366" y="12097"/>
                </a:cubicBezTo>
                <a:cubicBezTo>
                  <a:pt x="7412" y="12004"/>
                  <a:pt x="7320" y="12037"/>
                  <a:pt x="7334" y="12065"/>
                </a:cubicBezTo>
                <a:cubicBezTo>
                  <a:pt x="7366" y="12128"/>
                  <a:pt x="7397" y="12090"/>
                  <a:pt x="7430" y="12065"/>
                </a:cubicBezTo>
              </a:path>
              <a:path w="4922" h="795">
                <a:moveTo>
                  <a:pt x="7525" y="11652"/>
                </a:moveTo>
                <a:cubicBezTo>
                  <a:pt x="7525" y="11583"/>
                  <a:pt x="7540" y="11547"/>
                  <a:pt x="7588" y="11494"/>
                </a:cubicBezTo>
                <a:cubicBezTo>
                  <a:pt x="7635" y="11442"/>
                  <a:pt x="7713" y="11462"/>
                  <a:pt x="7779" y="11462"/>
                </a:cubicBezTo>
                <a:cubicBezTo>
                  <a:pt x="7815" y="11462"/>
                  <a:pt x="7918" y="11477"/>
                  <a:pt x="7938" y="11494"/>
                </a:cubicBezTo>
                <a:cubicBezTo>
                  <a:pt x="7938" y="11504"/>
                  <a:pt x="7938" y="11515"/>
                  <a:pt x="7938" y="11525"/>
                </a:cubicBezTo>
                <a:cubicBezTo>
                  <a:pt x="7924" y="11582"/>
                  <a:pt x="7885" y="11636"/>
                  <a:pt x="7842" y="11684"/>
                </a:cubicBezTo>
                <a:cubicBezTo>
                  <a:pt x="7798" y="11733"/>
                  <a:pt x="7733" y="11716"/>
                  <a:pt x="7684" y="11748"/>
                </a:cubicBezTo>
                <a:cubicBezTo>
                  <a:pt x="7673" y="11758"/>
                  <a:pt x="7663" y="11769"/>
                  <a:pt x="7652" y="11779"/>
                </a:cubicBezTo>
                <a:cubicBezTo>
                  <a:pt x="7713" y="11734"/>
                  <a:pt x="7770" y="11756"/>
                  <a:pt x="7810" y="11748"/>
                </a:cubicBezTo>
                <a:cubicBezTo>
                  <a:pt x="7942" y="11721"/>
                  <a:pt x="7894" y="11732"/>
                  <a:pt x="8001" y="11779"/>
                </a:cubicBezTo>
                <a:cubicBezTo>
                  <a:pt x="8060" y="11805"/>
                  <a:pt x="8077" y="11841"/>
                  <a:pt x="8096" y="11906"/>
                </a:cubicBezTo>
                <a:cubicBezTo>
                  <a:pt x="8108" y="11946"/>
                  <a:pt x="8082" y="12006"/>
                  <a:pt x="8064" y="12033"/>
                </a:cubicBezTo>
                <a:cubicBezTo>
                  <a:pt x="8024" y="12094"/>
                  <a:pt x="7938" y="12124"/>
                  <a:pt x="7874" y="12128"/>
                </a:cubicBezTo>
                <a:cubicBezTo>
                  <a:pt x="7854" y="12129"/>
                  <a:pt x="7680" y="12147"/>
                  <a:pt x="7684" y="12097"/>
                </a:cubicBezTo>
                <a:cubicBezTo>
                  <a:pt x="7694" y="12076"/>
                  <a:pt x="7705" y="12054"/>
                  <a:pt x="7715" y="12033"/>
                </a:cubicBezTo>
              </a:path>
              <a:path w="4922" h="795">
                <a:moveTo>
                  <a:pt x="8541" y="11430"/>
                </a:moveTo>
                <a:cubicBezTo>
                  <a:pt x="8541" y="11586"/>
                  <a:pt x="8548" y="11727"/>
                  <a:pt x="8572" y="11874"/>
                </a:cubicBezTo>
                <a:cubicBezTo>
                  <a:pt x="8587" y="11966"/>
                  <a:pt x="8533" y="12152"/>
                  <a:pt x="8604" y="12128"/>
                </a:cubicBezTo>
              </a:path>
              <a:path w="4922" h="795">
                <a:moveTo>
                  <a:pt x="9017" y="11589"/>
                </a:moveTo>
                <a:cubicBezTo>
                  <a:pt x="8950" y="11589"/>
                  <a:pt x="8926" y="11614"/>
                  <a:pt x="8858" y="11620"/>
                </a:cubicBezTo>
                <a:cubicBezTo>
                  <a:pt x="8819" y="11623"/>
                  <a:pt x="8732" y="11664"/>
                  <a:pt x="8700" y="11684"/>
                </a:cubicBezTo>
                <a:cubicBezTo>
                  <a:pt x="8658" y="11709"/>
                  <a:pt x="8607" y="11765"/>
                  <a:pt x="8604" y="11811"/>
                </a:cubicBezTo>
                <a:cubicBezTo>
                  <a:pt x="8596" y="11926"/>
                  <a:pt x="8684" y="11915"/>
                  <a:pt x="8763" y="11970"/>
                </a:cubicBezTo>
                <a:cubicBezTo>
                  <a:pt x="8814" y="12005"/>
                  <a:pt x="8837" y="12042"/>
                  <a:pt x="8890" y="12065"/>
                </a:cubicBezTo>
                <a:cubicBezTo>
                  <a:pt x="8956" y="12093"/>
                  <a:pt x="8996" y="12169"/>
                  <a:pt x="9017" y="12128"/>
                </a:cubicBezTo>
              </a:path>
              <a:path w="4922" h="795">
                <a:moveTo>
                  <a:pt x="9430" y="11494"/>
                </a:moveTo>
                <a:cubicBezTo>
                  <a:pt x="9448" y="11581"/>
                  <a:pt x="9509" y="11661"/>
                  <a:pt x="9525" y="11748"/>
                </a:cubicBezTo>
                <a:cubicBezTo>
                  <a:pt x="9538" y="11820"/>
                  <a:pt x="9557" y="11861"/>
                  <a:pt x="9557" y="11938"/>
                </a:cubicBezTo>
                <a:cubicBezTo>
                  <a:pt x="9557" y="11997"/>
                  <a:pt x="9565" y="12020"/>
                  <a:pt x="9525" y="12065"/>
                </a:cubicBezTo>
                <a:cubicBezTo>
                  <a:pt x="9486" y="12109"/>
                  <a:pt x="9453" y="12097"/>
                  <a:pt x="9398" y="12097"/>
                </a:cubicBezTo>
                <a:cubicBezTo>
                  <a:pt x="9343" y="12097"/>
                  <a:pt x="9309" y="12039"/>
                  <a:pt x="9271" y="12002"/>
                </a:cubicBezTo>
              </a:path>
              <a:path w="4922" h="795">
                <a:moveTo>
                  <a:pt x="9112" y="11494"/>
                </a:moveTo>
                <a:cubicBezTo>
                  <a:pt x="9332" y="11494"/>
                  <a:pt x="9582" y="11521"/>
                  <a:pt x="9779" y="11462"/>
                </a:cubicBezTo>
                <a:cubicBezTo>
                  <a:pt x="9811" y="11462"/>
                  <a:pt x="9821" y="11462"/>
                  <a:pt x="9842" y="11462"/>
                </a:cubicBezTo>
              </a:path>
              <a:path w="4922" h="795">
                <a:moveTo>
                  <a:pt x="10160" y="11557"/>
                </a:moveTo>
                <a:cubicBezTo>
                  <a:pt x="10242" y="11592"/>
                  <a:pt x="10291" y="11589"/>
                  <a:pt x="10382" y="11589"/>
                </a:cubicBezTo>
              </a:path>
              <a:path w="4922" h="795">
                <a:moveTo>
                  <a:pt x="10224" y="11779"/>
                </a:moveTo>
                <a:cubicBezTo>
                  <a:pt x="10287" y="11779"/>
                  <a:pt x="10351" y="11779"/>
                  <a:pt x="1041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275000" y="3954600"/>
            <a:ext cx="250920" cy="274680"/>
          </a:xfrm>
          <a:custGeom>
            <a:avLst/>
            <a:gdLst/>
            <a:ahLst/>
            <a:rect l="l" t="t" r="r" b="b"/>
            <a:pathLst>
              <a:path w="700" h="763">
                <a:moveTo>
                  <a:pt x="12224" y="11049"/>
                </a:moveTo>
                <a:cubicBezTo>
                  <a:pt x="12219" y="11034"/>
                  <a:pt x="12156" y="10982"/>
                  <a:pt x="12128" y="10986"/>
                </a:cubicBezTo>
                <a:cubicBezTo>
                  <a:pt x="12071" y="10994"/>
                  <a:pt x="12017" y="11033"/>
                  <a:pt x="11970" y="11049"/>
                </a:cubicBezTo>
                <a:cubicBezTo>
                  <a:pt x="11927" y="11063"/>
                  <a:pt x="11865" y="11131"/>
                  <a:pt x="11874" y="11176"/>
                </a:cubicBezTo>
                <a:cubicBezTo>
                  <a:pt x="11885" y="11233"/>
                  <a:pt x="11959" y="11240"/>
                  <a:pt x="12002" y="11240"/>
                </a:cubicBezTo>
                <a:cubicBezTo>
                  <a:pt x="12075" y="11240"/>
                  <a:pt x="12113" y="11191"/>
                  <a:pt x="12160" y="11144"/>
                </a:cubicBezTo>
                <a:cubicBezTo>
                  <a:pt x="12201" y="11103"/>
                  <a:pt x="12195" y="11065"/>
                  <a:pt x="12224" y="11017"/>
                </a:cubicBezTo>
                <a:cubicBezTo>
                  <a:pt x="12213" y="11074"/>
                  <a:pt x="12192" y="11116"/>
                  <a:pt x="12192" y="11176"/>
                </a:cubicBezTo>
                <a:cubicBezTo>
                  <a:pt x="12192" y="11245"/>
                  <a:pt x="12164" y="11264"/>
                  <a:pt x="12160" y="11335"/>
                </a:cubicBezTo>
                <a:cubicBezTo>
                  <a:pt x="12156" y="11407"/>
                  <a:pt x="12135" y="11433"/>
                  <a:pt x="12128" y="11494"/>
                </a:cubicBezTo>
                <a:cubicBezTo>
                  <a:pt x="12126" y="11509"/>
                  <a:pt x="12151" y="11603"/>
                  <a:pt x="12160" y="11620"/>
                </a:cubicBezTo>
                <a:cubicBezTo>
                  <a:pt x="12185" y="11665"/>
                  <a:pt x="12232" y="11733"/>
                  <a:pt x="12287" y="11748"/>
                </a:cubicBezTo>
                <a:cubicBezTo>
                  <a:pt x="12345" y="11763"/>
                  <a:pt x="12406" y="11752"/>
                  <a:pt x="12446" y="11716"/>
                </a:cubicBezTo>
                <a:cubicBezTo>
                  <a:pt x="12502" y="11666"/>
                  <a:pt x="12478" y="11593"/>
                  <a:pt x="12478" y="11525"/>
                </a:cubicBezTo>
                <a:cubicBezTo>
                  <a:pt x="12478" y="11441"/>
                  <a:pt x="12473" y="11424"/>
                  <a:pt x="12414" y="11366"/>
                </a:cubicBezTo>
                <a:cubicBezTo>
                  <a:pt x="12381" y="11333"/>
                  <a:pt x="12271" y="11263"/>
                  <a:pt x="12256" y="11240"/>
                </a:cubicBezTo>
                <a:cubicBezTo>
                  <a:pt x="12256" y="11208"/>
                  <a:pt x="12256" y="11197"/>
                  <a:pt x="12224" y="11208"/>
                </a:cubicBezTo>
                <a:cubicBezTo>
                  <a:pt x="12274" y="11221"/>
                  <a:pt x="12294" y="11240"/>
                  <a:pt x="12351" y="11240"/>
                </a:cubicBezTo>
                <a:cubicBezTo>
                  <a:pt x="12425" y="11240"/>
                  <a:pt x="12499" y="11240"/>
                  <a:pt x="12573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Ink 16"/>
          <p:cNvSpPr/>
          <p:nvPr/>
        </p:nvSpPr>
        <p:spPr>
          <a:xfrm>
            <a:off x="2971800" y="4435560"/>
            <a:ext cx="5824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8287" y="12351"/>
                </a:moveTo>
                <a:cubicBezTo>
                  <a:pt x="8190" y="12351"/>
                  <a:pt x="8364" y="12351"/>
                  <a:pt x="8382" y="12351"/>
                </a:cubicBezTo>
                <a:cubicBezTo>
                  <a:pt x="8567" y="12351"/>
                  <a:pt x="8743" y="12339"/>
                  <a:pt x="8922" y="12319"/>
                </a:cubicBezTo>
                <a:cubicBezTo>
                  <a:pt x="9022" y="12308"/>
                  <a:pt x="9499" y="12274"/>
                  <a:pt x="9525" y="12351"/>
                </a:cubicBezTo>
              </a:path>
              <a:path w="1620" h="795">
                <a:moveTo>
                  <a:pt x="8414" y="12636"/>
                </a:moveTo>
                <a:cubicBezTo>
                  <a:pt x="8414" y="12706"/>
                  <a:pt x="8429" y="12727"/>
                  <a:pt x="8446" y="12795"/>
                </a:cubicBezTo>
                <a:cubicBezTo>
                  <a:pt x="8457" y="12838"/>
                  <a:pt x="8446" y="13078"/>
                  <a:pt x="8446" y="13018"/>
                </a:cubicBezTo>
                <a:cubicBezTo>
                  <a:pt x="8446" y="12927"/>
                  <a:pt x="8422" y="12802"/>
                  <a:pt x="8477" y="12732"/>
                </a:cubicBezTo>
                <a:cubicBezTo>
                  <a:pt x="8508" y="12693"/>
                  <a:pt x="8529" y="12679"/>
                  <a:pt x="8572" y="12668"/>
                </a:cubicBezTo>
                <a:cubicBezTo>
                  <a:pt x="8607" y="12714"/>
                  <a:pt x="8630" y="12765"/>
                  <a:pt x="8636" y="12827"/>
                </a:cubicBezTo>
                <a:cubicBezTo>
                  <a:pt x="8641" y="12879"/>
                  <a:pt x="8636" y="12934"/>
                  <a:pt x="8636" y="12986"/>
                </a:cubicBezTo>
                <a:cubicBezTo>
                  <a:pt x="8636" y="13077"/>
                  <a:pt x="8631" y="12930"/>
                  <a:pt x="8636" y="12922"/>
                </a:cubicBezTo>
                <a:cubicBezTo>
                  <a:pt x="8671" y="12860"/>
                  <a:pt x="8675" y="12820"/>
                  <a:pt x="8731" y="12764"/>
                </a:cubicBezTo>
                <a:cubicBezTo>
                  <a:pt x="8760" y="12735"/>
                  <a:pt x="8766" y="12724"/>
                  <a:pt x="8795" y="12732"/>
                </a:cubicBezTo>
                <a:cubicBezTo>
                  <a:pt x="8836" y="12788"/>
                  <a:pt x="8826" y="12817"/>
                  <a:pt x="8826" y="12890"/>
                </a:cubicBezTo>
                <a:cubicBezTo>
                  <a:pt x="8826" y="12962"/>
                  <a:pt x="8858" y="12979"/>
                  <a:pt x="8858" y="13049"/>
                </a:cubicBezTo>
                <a:cubicBezTo>
                  <a:pt x="8858" y="13060"/>
                  <a:pt x="8858" y="13070"/>
                  <a:pt x="8858" y="13081"/>
                </a:cubicBezTo>
              </a:path>
              <a:path w="1620" h="795">
                <a:moveTo>
                  <a:pt x="8985" y="12732"/>
                </a:moveTo>
                <a:cubicBezTo>
                  <a:pt x="8985" y="12791"/>
                  <a:pt x="8964" y="12813"/>
                  <a:pt x="8954" y="12859"/>
                </a:cubicBezTo>
                <a:cubicBezTo>
                  <a:pt x="8942" y="12917"/>
                  <a:pt x="8948" y="12977"/>
                  <a:pt x="8985" y="13018"/>
                </a:cubicBezTo>
                <a:cubicBezTo>
                  <a:pt x="9038" y="13077"/>
                  <a:pt x="9086" y="13057"/>
                  <a:pt x="9112" y="12986"/>
                </a:cubicBezTo>
                <a:cubicBezTo>
                  <a:pt x="9131" y="12933"/>
                  <a:pt x="9143" y="12888"/>
                  <a:pt x="9112" y="12827"/>
                </a:cubicBezTo>
                <a:cubicBezTo>
                  <a:pt x="9077" y="12758"/>
                  <a:pt x="9050" y="12749"/>
                  <a:pt x="8985" y="12700"/>
                </a:cubicBezTo>
                <a:cubicBezTo>
                  <a:pt x="8975" y="12689"/>
                  <a:pt x="8964" y="12679"/>
                  <a:pt x="8954" y="12668"/>
                </a:cubicBezTo>
              </a:path>
              <a:path w="1620" h="795">
                <a:moveTo>
                  <a:pt x="9176" y="12541"/>
                </a:moveTo>
                <a:cubicBezTo>
                  <a:pt x="9203" y="12594"/>
                  <a:pt x="9176" y="12618"/>
                  <a:pt x="9176" y="12700"/>
                </a:cubicBezTo>
                <a:cubicBezTo>
                  <a:pt x="9176" y="12783"/>
                  <a:pt x="9189" y="12814"/>
                  <a:pt x="9208" y="12890"/>
                </a:cubicBezTo>
                <a:cubicBezTo>
                  <a:pt x="9224" y="12954"/>
                  <a:pt x="9229" y="13010"/>
                  <a:pt x="9303" y="13018"/>
                </a:cubicBezTo>
                <a:cubicBezTo>
                  <a:pt x="9385" y="13027"/>
                  <a:pt x="9408" y="13009"/>
                  <a:pt x="9462" y="12954"/>
                </a:cubicBezTo>
                <a:cubicBezTo>
                  <a:pt x="9523" y="12892"/>
                  <a:pt x="9525" y="12884"/>
                  <a:pt x="9525" y="12795"/>
                </a:cubicBezTo>
                <a:cubicBezTo>
                  <a:pt x="9525" y="12739"/>
                  <a:pt x="9528" y="12705"/>
                  <a:pt x="9462" y="12700"/>
                </a:cubicBezTo>
                <a:cubicBezTo>
                  <a:pt x="9368" y="12693"/>
                  <a:pt x="9356" y="12755"/>
                  <a:pt x="9334" y="12827"/>
                </a:cubicBezTo>
                <a:cubicBezTo>
                  <a:pt x="9316" y="12888"/>
                  <a:pt x="9299" y="12933"/>
                  <a:pt x="9334" y="12986"/>
                </a:cubicBezTo>
                <a:cubicBezTo>
                  <a:pt x="9362" y="13029"/>
                  <a:pt x="9414" y="13076"/>
                  <a:pt x="9462" y="13081"/>
                </a:cubicBezTo>
                <a:cubicBezTo>
                  <a:pt x="9531" y="13089"/>
                  <a:pt x="9570" y="13087"/>
                  <a:pt x="9620" y="13049"/>
                </a:cubicBezTo>
              </a:path>
              <a:path w="1620" h="795">
                <a:moveTo>
                  <a:pt x="9811" y="12668"/>
                </a:moveTo>
                <a:cubicBezTo>
                  <a:pt x="9800" y="12657"/>
                  <a:pt x="9790" y="12647"/>
                  <a:pt x="9779" y="12636"/>
                </a:cubicBezTo>
                <a:cubicBezTo>
                  <a:pt x="9728" y="12674"/>
                  <a:pt x="9711" y="12664"/>
                  <a:pt x="9684" y="12700"/>
                </a:cubicBezTo>
                <a:cubicBezTo>
                  <a:pt x="9613" y="12794"/>
                  <a:pt x="9641" y="12752"/>
                  <a:pt x="9684" y="12827"/>
                </a:cubicBezTo>
                <a:cubicBezTo>
                  <a:pt x="9715" y="12881"/>
                  <a:pt x="9762" y="12889"/>
                  <a:pt x="9811" y="12922"/>
                </a:cubicBezTo>
                <a:cubicBezTo>
                  <a:pt x="9864" y="12958"/>
                  <a:pt x="9874" y="12990"/>
                  <a:pt x="9874" y="13049"/>
                </a:cubicBezTo>
                <a:cubicBezTo>
                  <a:pt x="9874" y="13130"/>
                  <a:pt x="9809" y="13113"/>
                  <a:pt x="9747" y="13113"/>
                </a:cubicBezTo>
                <a:cubicBezTo>
                  <a:pt x="9737" y="13113"/>
                  <a:pt x="9726" y="13113"/>
                  <a:pt x="9716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Ink 17"/>
          <p:cNvSpPr/>
          <p:nvPr/>
        </p:nvSpPr>
        <p:spPr>
          <a:xfrm>
            <a:off x="4068720" y="4321080"/>
            <a:ext cx="1166760" cy="365400"/>
          </a:xfrm>
          <a:custGeom>
            <a:avLst/>
            <a:gdLst/>
            <a:ahLst/>
            <a:rect l="l" t="t" r="r" b="b"/>
            <a:pathLst>
              <a:path w="3240" h="1017">
                <a:moveTo>
                  <a:pt x="11366" y="12033"/>
                </a:moveTo>
                <a:cubicBezTo>
                  <a:pt x="11335" y="12033"/>
                  <a:pt x="11324" y="12033"/>
                  <a:pt x="11303" y="12033"/>
                </a:cubicBezTo>
                <a:cubicBezTo>
                  <a:pt x="11357" y="11993"/>
                  <a:pt x="11391" y="12002"/>
                  <a:pt x="11462" y="12002"/>
                </a:cubicBezTo>
                <a:cubicBezTo>
                  <a:pt x="11854" y="12002"/>
                  <a:pt x="12251" y="11991"/>
                  <a:pt x="12636" y="12033"/>
                </a:cubicBezTo>
                <a:cubicBezTo>
                  <a:pt x="12729" y="12043"/>
                  <a:pt x="13062" y="12033"/>
                  <a:pt x="13049" y="12033"/>
                </a:cubicBezTo>
              </a:path>
              <a:path w="3240" h="1017">
                <a:moveTo>
                  <a:pt x="11462" y="12224"/>
                </a:moveTo>
                <a:cubicBezTo>
                  <a:pt x="11462" y="12339"/>
                  <a:pt x="11448" y="12434"/>
                  <a:pt x="11430" y="12541"/>
                </a:cubicBezTo>
                <a:cubicBezTo>
                  <a:pt x="11408" y="12670"/>
                  <a:pt x="11439" y="12813"/>
                  <a:pt x="11462" y="12922"/>
                </a:cubicBezTo>
                <a:cubicBezTo>
                  <a:pt x="11462" y="12943"/>
                  <a:pt x="11462" y="12965"/>
                  <a:pt x="11462" y="12986"/>
                </a:cubicBezTo>
              </a:path>
              <a:path w="3240" h="1017">
                <a:moveTo>
                  <a:pt x="11716" y="12890"/>
                </a:moveTo>
                <a:cubicBezTo>
                  <a:pt x="11666" y="12890"/>
                  <a:pt x="11676" y="12820"/>
                  <a:pt x="11652" y="12890"/>
                </a:cubicBezTo>
              </a:path>
              <a:path w="3240" h="1017">
                <a:moveTo>
                  <a:pt x="12256" y="12446"/>
                </a:moveTo>
                <a:cubicBezTo>
                  <a:pt x="12243" y="12393"/>
                  <a:pt x="12220" y="12357"/>
                  <a:pt x="12160" y="12351"/>
                </a:cubicBezTo>
                <a:cubicBezTo>
                  <a:pt x="12112" y="12346"/>
                  <a:pt x="11995" y="12332"/>
                  <a:pt x="11970" y="12382"/>
                </a:cubicBezTo>
                <a:cubicBezTo>
                  <a:pt x="11949" y="12423"/>
                  <a:pt x="11919" y="12491"/>
                  <a:pt x="11906" y="12541"/>
                </a:cubicBezTo>
                <a:cubicBezTo>
                  <a:pt x="11906" y="12552"/>
                  <a:pt x="11906" y="12562"/>
                  <a:pt x="11906" y="12573"/>
                </a:cubicBezTo>
                <a:cubicBezTo>
                  <a:pt x="11975" y="12625"/>
                  <a:pt x="11982" y="12581"/>
                  <a:pt x="12065" y="12573"/>
                </a:cubicBezTo>
                <a:cubicBezTo>
                  <a:pt x="12137" y="12566"/>
                  <a:pt x="12167" y="12586"/>
                  <a:pt x="12224" y="12605"/>
                </a:cubicBezTo>
                <a:cubicBezTo>
                  <a:pt x="12278" y="12623"/>
                  <a:pt x="12327" y="12673"/>
                  <a:pt x="12351" y="12732"/>
                </a:cubicBezTo>
                <a:cubicBezTo>
                  <a:pt x="12372" y="12785"/>
                  <a:pt x="12382" y="12825"/>
                  <a:pt x="12382" y="12890"/>
                </a:cubicBezTo>
                <a:cubicBezTo>
                  <a:pt x="12382" y="12955"/>
                  <a:pt x="12332" y="12966"/>
                  <a:pt x="12287" y="12986"/>
                </a:cubicBezTo>
                <a:cubicBezTo>
                  <a:pt x="12213" y="13018"/>
                  <a:pt x="12179" y="13018"/>
                  <a:pt x="12097" y="13018"/>
                </a:cubicBezTo>
                <a:cubicBezTo>
                  <a:pt x="12037" y="13018"/>
                  <a:pt x="12014" y="12971"/>
                  <a:pt x="12002" y="12922"/>
                </a:cubicBezTo>
              </a:path>
              <a:path w="3240" h="1017">
                <a:moveTo>
                  <a:pt x="12827" y="12414"/>
                </a:moveTo>
                <a:cubicBezTo>
                  <a:pt x="12797" y="12396"/>
                  <a:pt x="12704" y="12352"/>
                  <a:pt x="12700" y="12351"/>
                </a:cubicBezTo>
                <a:cubicBezTo>
                  <a:pt x="12644" y="12336"/>
                  <a:pt x="12580" y="12347"/>
                  <a:pt x="12541" y="12382"/>
                </a:cubicBezTo>
                <a:cubicBezTo>
                  <a:pt x="12504" y="12415"/>
                  <a:pt x="12487" y="12525"/>
                  <a:pt x="12510" y="12573"/>
                </a:cubicBezTo>
                <a:cubicBezTo>
                  <a:pt x="12520" y="12584"/>
                  <a:pt x="12531" y="12594"/>
                  <a:pt x="12541" y="12605"/>
                </a:cubicBezTo>
                <a:cubicBezTo>
                  <a:pt x="12597" y="12591"/>
                  <a:pt x="12635" y="12547"/>
                  <a:pt x="12700" y="12541"/>
                </a:cubicBezTo>
                <a:cubicBezTo>
                  <a:pt x="12742" y="12537"/>
                  <a:pt x="12797" y="12579"/>
                  <a:pt x="12827" y="12605"/>
                </a:cubicBezTo>
                <a:cubicBezTo>
                  <a:pt x="12862" y="12636"/>
                  <a:pt x="12942" y="12745"/>
                  <a:pt x="12922" y="12795"/>
                </a:cubicBezTo>
                <a:cubicBezTo>
                  <a:pt x="12909" y="12828"/>
                  <a:pt x="12865" y="12905"/>
                  <a:pt x="12827" y="12922"/>
                </a:cubicBezTo>
                <a:cubicBezTo>
                  <a:pt x="12774" y="12945"/>
                  <a:pt x="12733" y="12954"/>
                  <a:pt x="12668" y="12954"/>
                </a:cubicBezTo>
                <a:cubicBezTo>
                  <a:pt x="12632" y="12954"/>
                  <a:pt x="12618" y="12951"/>
                  <a:pt x="12605" y="12922"/>
                </a:cubicBezTo>
              </a:path>
              <a:path w="3240" h="1017">
                <a:moveTo>
                  <a:pt x="13113" y="12605"/>
                </a:moveTo>
                <a:cubicBezTo>
                  <a:pt x="13113" y="12670"/>
                  <a:pt x="13128" y="12711"/>
                  <a:pt x="13144" y="12764"/>
                </a:cubicBezTo>
                <a:cubicBezTo>
                  <a:pt x="13158" y="12810"/>
                  <a:pt x="13137" y="12826"/>
                  <a:pt x="13113" y="12859"/>
                </a:cubicBezTo>
                <a:cubicBezTo>
                  <a:pt x="13079" y="12803"/>
                  <a:pt x="13081" y="12768"/>
                  <a:pt x="13081" y="12700"/>
                </a:cubicBezTo>
                <a:cubicBezTo>
                  <a:pt x="13081" y="12642"/>
                  <a:pt x="13076" y="12626"/>
                  <a:pt x="13113" y="12605"/>
                </a:cubicBezTo>
                <a:cubicBezTo>
                  <a:pt x="13158" y="12605"/>
                  <a:pt x="13224" y="12612"/>
                  <a:pt x="13240" y="12668"/>
                </a:cubicBezTo>
                <a:cubicBezTo>
                  <a:pt x="13256" y="12723"/>
                  <a:pt x="13272" y="12768"/>
                  <a:pt x="13272" y="12827"/>
                </a:cubicBezTo>
                <a:cubicBezTo>
                  <a:pt x="13272" y="12838"/>
                  <a:pt x="13272" y="12848"/>
                  <a:pt x="13272" y="12859"/>
                </a:cubicBezTo>
                <a:cubicBezTo>
                  <a:pt x="13272" y="12800"/>
                  <a:pt x="13293" y="12778"/>
                  <a:pt x="13303" y="12732"/>
                </a:cubicBezTo>
                <a:cubicBezTo>
                  <a:pt x="13321" y="12647"/>
                  <a:pt x="13335" y="12637"/>
                  <a:pt x="13398" y="12573"/>
                </a:cubicBezTo>
                <a:cubicBezTo>
                  <a:pt x="13409" y="12580"/>
                  <a:pt x="13479" y="12662"/>
                  <a:pt x="13462" y="12700"/>
                </a:cubicBezTo>
                <a:cubicBezTo>
                  <a:pt x="13448" y="12732"/>
                  <a:pt x="13446" y="12799"/>
                  <a:pt x="13430" y="12827"/>
                </a:cubicBezTo>
                <a:cubicBezTo>
                  <a:pt x="13398" y="12859"/>
                  <a:pt x="13387" y="12869"/>
                  <a:pt x="13430" y="12890"/>
                </a:cubicBezTo>
              </a:path>
              <a:path w="3240" h="1017">
                <a:moveTo>
                  <a:pt x="13621" y="12605"/>
                </a:moveTo>
                <a:cubicBezTo>
                  <a:pt x="13570" y="12655"/>
                  <a:pt x="13543" y="12693"/>
                  <a:pt x="13526" y="12764"/>
                </a:cubicBezTo>
                <a:cubicBezTo>
                  <a:pt x="13516" y="12805"/>
                  <a:pt x="13579" y="12871"/>
                  <a:pt x="13621" y="12859"/>
                </a:cubicBezTo>
                <a:cubicBezTo>
                  <a:pt x="13659" y="12848"/>
                  <a:pt x="13730" y="12773"/>
                  <a:pt x="13748" y="12732"/>
                </a:cubicBezTo>
                <a:cubicBezTo>
                  <a:pt x="13775" y="12670"/>
                  <a:pt x="13699" y="12597"/>
                  <a:pt x="13652" y="12573"/>
                </a:cubicBezTo>
                <a:cubicBezTo>
                  <a:pt x="13616" y="12573"/>
                  <a:pt x="13603" y="12570"/>
                  <a:pt x="13589" y="12541"/>
                </a:cubicBezTo>
              </a:path>
              <a:path w="3240" h="1017">
                <a:moveTo>
                  <a:pt x="13811" y="12256"/>
                </a:moveTo>
                <a:cubicBezTo>
                  <a:pt x="13756" y="12330"/>
                  <a:pt x="13792" y="12360"/>
                  <a:pt x="13811" y="12446"/>
                </a:cubicBezTo>
                <a:cubicBezTo>
                  <a:pt x="13824" y="12504"/>
                  <a:pt x="13839" y="12579"/>
                  <a:pt x="13843" y="12636"/>
                </a:cubicBezTo>
                <a:cubicBezTo>
                  <a:pt x="13847" y="12695"/>
                  <a:pt x="13873" y="12767"/>
                  <a:pt x="13938" y="12795"/>
                </a:cubicBezTo>
                <a:cubicBezTo>
                  <a:pt x="14017" y="12829"/>
                  <a:pt x="14027" y="12775"/>
                  <a:pt x="14065" y="12732"/>
                </a:cubicBezTo>
                <a:cubicBezTo>
                  <a:pt x="14101" y="12691"/>
                  <a:pt x="14115" y="12621"/>
                  <a:pt x="14129" y="12573"/>
                </a:cubicBezTo>
                <a:cubicBezTo>
                  <a:pt x="14145" y="12521"/>
                  <a:pt x="14072" y="12482"/>
                  <a:pt x="14034" y="12478"/>
                </a:cubicBezTo>
                <a:cubicBezTo>
                  <a:pt x="13974" y="12471"/>
                  <a:pt x="13922" y="12557"/>
                  <a:pt x="13906" y="12605"/>
                </a:cubicBezTo>
                <a:cubicBezTo>
                  <a:pt x="13887" y="12662"/>
                  <a:pt x="13902" y="12724"/>
                  <a:pt x="13938" y="12764"/>
                </a:cubicBezTo>
                <a:cubicBezTo>
                  <a:pt x="13983" y="12814"/>
                  <a:pt x="14000" y="12827"/>
                  <a:pt x="14065" y="12827"/>
                </a:cubicBezTo>
                <a:cubicBezTo>
                  <a:pt x="14107" y="12827"/>
                  <a:pt x="14150" y="12827"/>
                  <a:pt x="14192" y="12827"/>
                </a:cubicBezTo>
              </a:path>
              <a:path w="3240" h="1017">
                <a:moveTo>
                  <a:pt x="14478" y="12478"/>
                </a:moveTo>
                <a:cubicBezTo>
                  <a:pt x="14462" y="12415"/>
                  <a:pt x="14448" y="12414"/>
                  <a:pt x="14383" y="12414"/>
                </a:cubicBezTo>
                <a:cubicBezTo>
                  <a:pt x="14357" y="12414"/>
                  <a:pt x="14265" y="12448"/>
                  <a:pt x="14256" y="12478"/>
                </a:cubicBezTo>
                <a:cubicBezTo>
                  <a:pt x="14231" y="12558"/>
                  <a:pt x="14329" y="12564"/>
                  <a:pt x="14383" y="12605"/>
                </a:cubicBezTo>
                <a:cubicBezTo>
                  <a:pt x="14441" y="12648"/>
                  <a:pt x="14491" y="12713"/>
                  <a:pt x="14542" y="12764"/>
                </a:cubicBezTo>
                <a:cubicBezTo>
                  <a:pt x="14520" y="12807"/>
                  <a:pt x="14472" y="12852"/>
                  <a:pt x="14414" y="12859"/>
                </a:cubicBezTo>
                <a:cubicBezTo>
                  <a:pt x="14371" y="12864"/>
                  <a:pt x="14320" y="12820"/>
                  <a:pt x="14288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Ink 18"/>
          <p:cNvSpPr/>
          <p:nvPr/>
        </p:nvSpPr>
        <p:spPr>
          <a:xfrm>
            <a:off x="2903400" y="4595760"/>
            <a:ext cx="606600" cy="68400"/>
          </a:xfrm>
          <a:custGeom>
            <a:avLst/>
            <a:gdLst/>
            <a:ahLst/>
            <a:rect l="l" t="t" r="r" b="b"/>
            <a:pathLst>
              <a:path w="1684" h="191">
                <a:moveTo>
                  <a:pt x="8064" y="12954"/>
                </a:moveTo>
                <a:cubicBezTo>
                  <a:pt x="8124" y="12909"/>
                  <a:pt x="8155" y="12945"/>
                  <a:pt x="8223" y="12922"/>
                </a:cubicBezTo>
                <a:cubicBezTo>
                  <a:pt x="8308" y="12893"/>
                  <a:pt x="8386" y="12864"/>
                  <a:pt x="8477" y="12859"/>
                </a:cubicBezTo>
                <a:cubicBezTo>
                  <a:pt x="8586" y="12853"/>
                  <a:pt x="8683" y="12827"/>
                  <a:pt x="8795" y="12827"/>
                </a:cubicBezTo>
                <a:cubicBezTo>
                  <a:pt x="8906" y="12827"/>
                  <a:pt x="8997" y="12795"/>
                  <a:pt x="9112" y="12795"/>
                </a:cubicBezTo>
                <a:cubicBezTo>
                  <a:pt x="9225" y="12795"/>
                  <a:pt x="9320" y="12768"/>
                  <a:pt x="9430" y="12764"/>
                </a:cubicBezTo>
                <a:cubicBezTo>
                  <a:pt x="9496" y="12761"/>
                  <a:pt x="9728" y="12737"/>
                  <a:pt x="9747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nk 19"/>
          <p:cNvSpPr/>
          <p:nvPr/>
        </p:nvSpPr>
        <p:spPr>
          <a:xfrm>
            <a:off x="4308480" y="5121360"/>
            <a:ext cx="1920960" cy="514440"/>
          </a:xfrm>
          <a:custGeom>
            <a:avLst/>
            <a:gdLst/>
            <a:ahLst/>
            <a:rect l="l" t="t" r="r" b="b"/>
            <a:pathLst>
              <a:path w="5335" h="1430">
                <a:moveTo>
                  <a:pt x="12351" y="14383"/>
                </a:moveTo>
                <a:cubicBezTo>
                  <a:pt x="12403" y="14330"/>
                  <a:pt x="12404" y="14323"/>
                  <a:pt x="12414" y="14256"/>
                </a:cubicBezTo>
                <a:cubicBezTo>
                  <a:pt x="12353" y="14231"/>
                  <a:pt x="12354" y="14220"/>
                  <a:pt x="12287" y="14256"/>
                </a:cubicBezTo>
                <a:cubicBezTo>
                  <a:pt x="12242" y="14280"/>
                  <a:pt x="12130" y="14344"/>
                  <a:pt x="12097" y="14383"/>
                </a:cubicBezTo>
                <a:cubicBezTo>
                  <a:pt x="12079" y="14404"/>
                  <a:pt x="11969" y="14556"/>
                  <a:pt x="11970" y="14573"/>
                </a:cubicBezTo>
                <a:cubicBezTo>
                  <a:pt x="11975" y="14678"/>
                  <a:pt x="12005" y="14727"/>
                  <a:pt x="12097" y="14732"/>
                </a:cubicBezTo>
                <a:cubicBezTo>
                  <a:pt x="12153" y="14735"/>
                  <a:pt x="12207" y="14719"/>
                  <a:pt x="12256" y="14700"/>
                </a:cubicBezTo>
                <a:cubicBezTo>
                  <a:pt x="12366" y="14658"/>
                  <a:pt x="12342" y="14623"/>
                  <a:pt x="12382" y="14542"/>
                </a:cubicBezTo>
                <a:cubicBezTo>
                  <a:pt x="12410" y="14485"/>
                  <a:pt x="12414" y="14451"/>
                  <a:pt x="12414" y="14383"/>
                </a:cubicBezTo>
                <a:cubicBezTo>
                  <a:pt x="12414" y="14341"/>
                  <a:pt x="12414" y="14320"/>
                  <a:pt x="12414" y="14288"/>
                </a:cubicBezTo>
                <a:cubicBezTo>
                  <a:pt x="12362" y="14331"/>
                  <a:pt x="12334" y="14355"/>
                  <a:pt x="12319" y="14446"/>
                </a:cubicBezTo>
                <a:cubicBezTo>
                  <a:pt x="12277" y="14698"/>
                  <a:pt x="12323" y="14994"/>
                  <a:pt x="12351" y="15240"/>
                </a:cubicBezTo>
                <a:cubicBezTo>
                  <a:pt x="12364" y="15357"/>
                  <a:pt x="12388" y="15424"/>
                  <a:pt x="12446" y="15526"/>
                </a:cubicBezTo>
                <a:cubicBezTo>
                  <a:pt x="12491" y="15604"/>
                  <a:pt x="12512" y="15638"/>
                  <a:pt x="12605" y="15653"/>
                </a:cubicBezTo>
                <a:cubicBezTo>
                  <a:pt x="12703" y="15669"/>
                  <a:pt x="12677" y="15638"/>
                  <a:pt x="12732" y="15589"/>
                </a:cubicBezTo>
                <a:cubicBezTo>
                  <a:pt x="12782" y="15545"/>
                  <a:pt x="12791" y="15465"/>
                  <a:pt x="12795" y="15399"/>
                </a:cubicBezTo>
                <a:cubicBezTo>
                  <a:pt x="12800" y="15305"/>
                  <a:pt x="12793" y="15199"/>
                  <a:pt x="12764" y="15113"/>
                </a:cubicBezTo>
                <a:cubicBezTo>
                  <a:pt x="12734" y="15024"/>
                  <a:pt x="12663" y="14928"/>
                  <a:pt x="12605" y="14859"/>
                </a:cubicBezTo>
                <a:cubicBezTo>
                  <a:pt x="12547" y="14790"/>
                  <a:pt x="12460" y="14742"/>
                  <a:pt x="12382" y="14700"/>
                </a:cubicBezTo>
                <a:cubicBezTo>
                  <a:pt x="12315" y="14664"/>
                  <a:pt x="12318" y="14676"/>
                  <a:pt x="12256" y="14668"/>
                </a:cubicBezTo>
                <a:cubicBezTo>
                  <a:pt x="12351" y="14668"/>
                  <a:pt x="12446" y="14668"/>
                  <a:pt x="12541" y="14668"/>
                </a:cubicBezTo>
              </a:path>
              <a:path w="5335" h="1430">
                <a:moveTo>
                  <a:pt x="12986" y="14319"/>
                </a:moveTo>
                <a:cubicBezTo>
                  <a:pt x="13040" y="14279"/>
                  <a:pt x="13073" y="14288"/>
                  <a:pt x="13144" y="14288"/>
                </a:cubicBezTo>
                <a:cubicBezTo>
                  <a:pt x="13219" y="14288"/>
                  <a:pt x="13264" y="14305"/>
                  <a:pt x="13335" y="14319"/>
                </a:cubicBezTo>
              </a:path>
              <a:path w="5335" h="1430">
                <a:moveTo>
                  <a:pt x="13018" y="14573"/>
                </a:moveTo>
                <a:cubicBezTo>
                  <a:pt x="13085" y="14625"/>
                  <a:pt x="13092" y="14580"/>
                  <a:pt x="13176" y="14573"/>
                </a:cubicBezTo>
                <a:cubicBezTo>
                  <a:pt x="13228" y="14569"/>
                  <a:pt x="13282" y="14573"/>
                  <a:pt x="13335" y="14573"/>
                </a:cubicBezTo>
              </a:path>
              <a:path w="5335" h="1430">
                <a:moveTo>
                  <a:pt x="14002" y="14700"/>
                </a:moveTo>
                <a:cubicBezTo>
                  <a:pt x="14062" y="14700"/>
                  <a:pt x="14117" y="14674"/>
                  <a:pt x="14160" y="14668"/>
                </a:cubicBezTo>
                <a:cubicBezTo>
                  <a:pt x="14329" y="14644"/>
                  <a:pt x="14509" y="14680"/>
                  <a:pt x="14668" y="14700"/>
                </a:cubicBezTo>
                <a:cubicBezTo>
                  <a:pt x="14792" y="14716"/>
                  <a:pt x="14929" y="14721"/>
                  <a:pt x="15050" y="14732"/>
                </a:cubicBezTo>
                <a:cubicBezTo>
                  <a:pt x="15189" y="14745"/>
                  <a:pt x="15327" y="14749"/>
                  <a:pt x="15462" y="14764"/>
                </a:cubicBezTo>
                <a:cubicBezTo>
                  <a:pt x="15588" y="14778"/>
                  <a:pt x="15718" y="14791"/>
                  <a:pt x="15843" y="14796"/>
                </a:cubicBezTo>
                <a:cubicBezTo>
                  <a:pt x="15965" y="14801"/>
                  <a:pt x="16079" y="14813"/>
                  <a:pt x="16192" y="14827"/>
                </a:cubicBezTo>
                <a:cubicBezTo>
                  <a:pt x="16412" y="14854"/>
                  <a:pt x="16779" y="14882"/>
                  <a:pt x="16986" y="14859"/>
                </a:cubicBezTo>
                <a:cubicBezTo>
                  <a:pt x="17087" y="14848"/>
                  <a:pt x="17110" y="14854"/>
                  <a:pt x="17208" y="14859"/>
                </a:cubicBezTo>
                <a:cubicBezTo>
                  <a:pt x="17251" y="14861"/>
                  <a:pt x="17229" y="14859"/>
                  <a:pt x="17272" y="14859"/>
                </a:cubicBezTo>
                <a:cubicBezTo>
                  <a:pt x="17283" y="14859"/>
                  <a:pt x="17293" y="14859"/>
                  <a:pt x="17304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Ink 20"/>
          <p:cNvSpPr/>
          <p:nvPr/>
        </p:nvSpPr>
        <p:spPr>
          <a:xfrm>
            <a:off x="5121360" y="5143680"/>
            <a:ext cx="79200" cy="10800"/>
          </a:xfrm>
          <a:custGeom>
            <a:avLst/>
            <a:gdLst/>
            <a:ahLst/>
            <a:rect l="l" t="t" r="r" b="b"/>
            <a:pathLst>
              <a:path w="223" h="32">
                <a:moveTo>
                  <a:pt x="14224" y="14288"/>
                </a:moveTo>
                <a:cubicBezTo>
                  <a:pt x="14266" y="14288"/>
                  <a:pt x="14323" y="14331"/>
                  <a:pt x="14351" y="14319"/>
                </a:cubicBezTo>
                <a:cubicBezTo>
                  <a:pt x="14408" y="14294"/>
                  <a:pt x="14420" y="14314"/>
                  <a:pt x="1444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Ink 21"/>
          <p:cNvSpPr/>
          <p:nvPr/>
        </p:nvSpPr>
        <p:spPr>
          <a:xfrm>
            <a:off x="5337000" y="5005440"/>
            <a:ext cx="549360" cy="241200"/>
          </a:xfrm>
          <a:custGeom>
            <a:avLst/>
            <a:gdLst/>
            <a:ahLst/>
            <a:rect l="l" t="t" r="r" b="b"/>
            <a:pathLst>
              <a:path w="1525" h="668">
                <a:moveTo>
                  <a:pt x="14859" y="13938"/>
                </a:moveTo>
                <a:cubicBezTo>
                  <a:pt x="14818" y="13992"/>
                  <a:pt x="14827" y="14025"/>
                  <a:pt x="14827" y="14097"/>
                </a:cubicBezTo>
                <a:cubicBezTo>
                  <a:pt x="14827" y="14148"/>
                  <a:pt x="14859" y="14166"/>
                  <a:pt x="14859" y="14224"/>
                </a:cubicBezTo>
                <a:cubicBezTo>
                  <a:pt x="14859" y="14330"/>
                  <a:pt x="14859" y="14436"/>
                  <a:pt x="14859" y="14542"/>
                </a:cubicBezTo>
              </a:path>
              <a:path w="1525" h="668">
                <a:moveTo>
                  <a:pt x="15018" y="14129"/>
                </a:moveTo>
                <a:cubicBezTo>
                  <a:pt x="15034" y="14051"/>
                  <a:pt x="15049" y="14030"/>
                  <a:pt x="15113" y="14002"/>
                </a:cubicBezTo>
                <a:cubicBezTo>
                  <a:pt x="15147" y="13987"/>
                  <a:pt x="15228" y="13946"/>
                  <a:pt x="15272" y="13970"/>
                </a:cubicBezTo>
                <a:cubicBezTo>
                  <a:pt x="15316" y="13994"/>
                  <a:pt x="15381" y="14077"/>
                  <a:pt x="15367" y="14129"/>
                </a:cubicBezTo>
                <a:cubicBezTo>
                  <a:pt x="15354" y="14178"/>
                  <a:pt x="15324" y="14280"/>
                  <a:pt x="15304" y="14319"/>
                </a:cubicBezTo>
                <a:cubicBezTo>
                  <a:pt x="15276" y="14375"/>
                  <a:pt x="15189" y="14432"/>
                  <a:pt x="15145" y="14478"/>
                </a:cubicBezTo>
                <a:cubicBezTo>
                  <a:pt x="15211" y="14478"/>
                  <a:pt x="15351" y="14438"/>
                  <a:pt x="15399" y="14446"/>
                </a:cubicBezTo>
                <a:cubicBezTo>
                  <a:pt x="15413" y="14448"/>
                  <a:pt x="15496" y="14515"/>
                  <a:pt x="15526" y="14478"/>
                </a:cubicBezTo>
                <a:cubicBezTo>
                  <a:pt x="15526" y="14467"/>
                  <a:pt x="15526" y="14457"/>
                  <a:pt x="15526" y="14446"/>
                </a:cubicBezTo>
              </a:path>
              <a:path w="1525" h="668">
                <a:moveTo>
                  <a:pt x="15684" y="13970"/>
                </a:moveTo>
                <a:cubicBezTo>
                  <a:pt x="15684" y="14126"/>
                  <a:pt x="15686" y="14263"/>
                  <a:pt x="15716" y="14414"/>
                </a:cubicBezTo>
                <a:cubicBezTo>
                  <a:pt x="15719" y="14431"/>
                  <a:pt x="15746" y="14575"/>
                  <a:pt x="15748" y="14573"/>
                </a:cubicBezTo>
                <a:cubicBezTo>
                  <a:pt x="15748" y="14563"/>
                  <a:pt x="15748" y="14552"/>
                  <a:pt x="15748" y="14542"/>
                </a:cubicBezTo>
              </a:path>
              <a:path w="1525" h="668">
                <a:moveTo>
                  <a:pt x="15970" y="14002"/>
                </a:moveTo>
                <a:cubicBezTo>
                  <a:pt x="15970" y="14067"/>
                  <a:pt x="15956" y="14077"/>
                  <a:pt x="15938" y="14129"/>
                </a:cubicBezTo>
                <a:cubicBezTo>
                  <a:pt x="15927" y="14160"/>
                  <a:pt x="15970" y="14239"/>
                  <a:pt x="15970" y="14288"/>
                </a:cubicBezTo>
                <a:cubicBezTo>
                  <a:pt x="15970" y="14332"/>
                  <a:pt x="16005" y="14382"/>
                  <a:pt x="16034" y="14414"/>
                </a:cubicBezTo>
                <a:cubicBezTo>
                  <a:pt x="16068" y="14451"/>
                  <a:pt x="16104" y="14499"/>
                  <a:pt x="16161" y="14478"/>
                </a:cubicBezTo>
                <a:cubicBezTo>
                  <a:pt x="16209" y="14461"/>
                  <a:pt x="16296" y="14437"/>
                  <a:pt x="16320" y="14383"/>
                </a:cubicBezTo>
                <a:cubicBezTo>
                  <a:pt x="16341" y="14336"/>
                  <a:pt x="16351" y="14278"/>
                  <a:pt x="16351" y="14224"/>
                </a:cubicBezTo>
                <a:cubicBezTo>
                  <a:pt x="16351" y="14160"/>
                  <a:pt x="16337" y="14149"/>
                  <a:pt x="16320" y="14097"/>
                </a:cubicBezTo>
                <a:cubicBezTo>
                  <a:pt x="16306" y="14054"/>
                  <a:pt x="16313" y="14008"/>
                  <a:pt x="16288" y="13970"/>
                </a:cubicBezTo>
                <a:cubicBezTo>
                  <a:pt x="16250" y="13913"/>
                  <a:pt x="16190" y="13906"/>
                  <a:pt x="16129" y="13906"/>
                </a:cubicBezTo>
                <a:cubicBezTo>
                  <a:pt x="16061" y="13906"/>
                  <a:pt x="16050" y="13922"/>
                  <a:pt x="16002" y="13970"/>
                </a:cubicBezTo>
                <a:cubicBezTo>
                  <a:pt x="15991" y="13981"/>
                  <a:pt x="15981" y="13991"/>
                  <a:pt x="15970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Ink 22"/>
          <p:cNvSpPr/>
          <p:nvPr/>
        </p:nvSpPr>
        <p:spPr>
          <a:xfrm>
            <a:off x="217188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32" y="16192"/>
                </a:moveTo>
                <a:lnTo>
                  <a:pt x="6032" y="161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3"/>
          <p:cNvSpPr/>
          <p:nvPr/>
        </p:nvSpPr>
        <p:spPr>
          <a:xfrm>
            <a:off x="6275520" y="3554280"/>
            <a:ext cx="1199880" cy="1795680"/>
          </a:xfrm>
          <a:custGeom>
            <a:avLst/>
            <a:gdLst/>
            <a:ahLst/>
            <a:rect l="l" t="t" r="r" b="b"/>
            <a:pathLst>
              <a:path w="3334" h="4986">
                <a:moveTo>
                  <a:pt x="17462" y="14034"/>
                </a:moveTo>
                <a:cubicBezTo>
                  <a:pt x="17478" y="14098"/>
                  <a:pt x="17494" y="14115"/>
                  <a:pt x="17494" y="14192"/>
                </a:cubicBezTo>
                <a:cubicBezTo>
                  <a:pt x="17494" y="14275"/>
                  <a:pt x="17526" y="14354"/>
                  <a:pt x="17526" y="14446"/>
                </a:cubicBezTo>
                <a:cubicBezTo>
                  <a:pt x="17526" y="14535"/>
                  <a:pt x="17558" y="14606"/>
                  <a:pt x="17558" y="14700"/>
                </a:cubicBezTo>
                <a:cubicBezTo>
                  <a:pt x="17558" y="14716"/>
                  <a:pt x="17569" y="14863"/>
                  <a:pt x="17590" y="14859"/>
                </a:cubicBezTo>
                <a:cubicBezTo>
                  <a:pt x="17600" y="14848"/>
                  <a:pt x="17611" y="14838"/>
                  <a:pt x="17621" y="14827"/>
                </a:cubicBezTo>
              </a:path>
              <a:path w="3334" h="4986">
                <a:moveTo>
                  <a:pt x="17812" y="14129"/>
                </a:moveTo>
                <a:cubicBezTo>
                  <a:pt x="17736" y="14138"/>
                  <a:pt x="17684" y="14165"/>
                  <a:pt x="17621" y="14192"/>
                </a:cubicBezTo>
                <a:cubicBezTo>
                  <a:pt x="17567" y="14216"/>
                  <a:pt x="17495" y="14267"/>
                  <a:pt x="17462" y="14319"/>
                </a:cubicBezTo>
                <a:cubicBezTo>
                  <a:pt x="17417" y="14390"/>
                  <a:pt x="17459" y="14435"/>
                  <a:pt x="17526" y="14478"/>
                </a:cubicBezTo>
                <a:cubicBezTo>
                  <a:pt x="17601" y="14526"/>
                  <a:pt x="17638" y="14590"/>
                  <a:pt x="17716" y="14637"/>
                </a:cubicBezTo>
                <a:cubicBezTo>
                  <a:pt x="17775" y="14672"/>
                  <a:pt x="17858" y="14699"/>
                  <a:pt x="17907" y="14732"/>
                </a:cubicBezTo>
                <a:cubicBezTo>
                  <a:pt x="17936" y="14761"/>
                  <a:pt x="17947" y="14767"/>
                  <a:pt x="17939" y="14796"/>
                </a:cubicBezTo>
              </a:path>
              <a:path w="3334" h="4986">
                <a:moveTo>
                  <a:pt x="18161" y="14002"/>
                </a:moveTo>
                <a:cubicBezTo>
                  <a:pt x="18199" y="14077"/>
                  <a:pt x="18221" y="14150"/>
                  <a:pt x="18256" y="14224"/>
                </a:cubicBezTo>
                <a:cubicBezTo>
                  <a:pt x="18306" y="14330"/>
                  <a:pt x="18322" y="14404"/>
                  <a:pt x="18352" y="14510"/>
                </a:cubicBezTo>
                <a:cubicBezTo>
                  <a:pt x="18377" y="14601"/>
                  <a:pt x="18383" y="14666"/>
                  <a:pt x="18383" y="14764"/>
                </a:cubicBezTo>
                <a:cubicBezTo>
                  <a:pt x="18383" y="14819"/>
                  <a:pt x="18338" y="14853"/>
                  <a:pt x="18288" y="14859"/>
                </a:cubicBezTo>
                <a:cubicBezTo>
                  <a:pt x="18236" y="14865"/>
                  <a:pt x="18195" y="14798"/>
                  <a:pt x="18161" y="14764"/>
                </a:cubicBezTo>
                <a:cubicBezTo>
                  <a:pt x="18150" y="14753"/>
                  <a:pt x="18140" y="14743"/>
                  <a:pt x="18129" y="14732"/>
                </a:cubicBezTo>
              </a:path>
              <a:path w="3334" h="4986">
                <a:moveTo>
                  <a:pt x="17939" y="14002"/>
                </a:moveTo>
                <a:cubicBezTo>
                  <a:pt x="17998" y="13956"/>
                  <a:pt x="18050" y="13970"/>
                  <a:pt x="18129" y="13970"/>
                </a:cubicBezTo>
                <a:cubicBezTo>
                  <a:pt x="18232" y="13970"/>
                  <a:pt x="18367" y="13998"/>
                  <a:pt x="18447" y="13938"/>
                </a:cubicBezTo>
              </a:path>
              <a:path w="3334" h="4986">
                <a:moveTo>
                  <a:pt x="18891" y="11494"/>
                </a:moveTo>
                <a:cubicBezTo>
                  <a:pt x="18868" y="11546"/>
                  <a:pt x="18849" y="11591"/>
                  <a:pt x="18828" y="11652"/>
                </a:cubicBezTo>
                <a:cubicBezTo>
                  <a:pt x="18796" y="11743"/>
                  <a:pt x="18763" y="11843"/>
                  <a:pt x="18732" y="11938"/>
                </a:cubicBezTo>
                <a:cubicBezTo>
                  <a:pt x="18683" y="12086"/>
                  <a:pt x="18633" y="12240"/>
                  <a:pt x="18574" y="12382"/>
                </a:cubicBezTo>
                <a:cubicBezTo>
                  <a:pt x="18510" y="12536"/>
                  <a:pt x="18454" y="12712"/>
                  <a:pt x="18383" y="12859"/>
                </a:cubicBezTo>
                <a:cubicBezTo>
                  <a:pt x="18322" y="12986"/>
                  <a:pt x="18277" y="13108"/>
                  <a:pt x="18224" y="13240"/>
                </a:cubicBezTo>
                <a:cubicBezTo>
                  <a:pt x="18196" y="13309"/>
                  <a:pt x="18168" y="13400"/>
                  <a:pt x="18129" y="13462"/>
                </a:cubicBezTo>
                <a:cubicBezTo>
                  <a:pt x="18101" y="13491"/>
                  <a:pt x="18091" y="13497"/>
                  <a:pt x="18098" y="13526"/>
                </a:cubicBezTo>
                <a:cubicBezTo>
                  <a:pt x="18091" y="13478"/>
                  <a:pt x="18090" y="13437"/>
                  <a:pt x="18066" y="13398"/>
                </a:cubicBezTo>
                <a:cubicBezTo>
                  <a:pt x="18034" y="13346"/>
                  <a:pt x="18012" y="13292"/>
                  <a:pt x="17970" y="13240"/>
                </a:cubicBezTo>
                <a:cubicBezTo>
                  <a:pt x="18005" y="13310"/>
                  <a:pt x="18025" y="13335"/>
                  <a:pt x="18066" y="13398"/>
                </a:cubicBezTo>
                <a:cubicBezTo>
                  <a:pt x="18103" y="13455"/>
                  <a:pt x="18108" y="13477"/>
                  <a:pt x="18193" y="13494"/>
                </a:cubicBezTo>
                <a:cubicBezTo>
                  <a:pt x="18269" y="13509"/>
                  <a:pt x="18302" y="13448"/>
                  <a:pt x="18352" y="13398"/>
                </a:cubicBezTo>
                <a:cubicBezTo>
                  <a:pt x="18383" y="13367"/>
                  <a:pt x="18394" y="13356"/>
                  <a:pt x="18415" y="13335"/>
                </a:cubicBezTo>
              </a:path>
              <a:path w="3334" h="4986">
                <a:moveTo>
                  <a:pt x="20352" y="10160"/>
                </a:moveTo>
                <a:cubicBezTo>
                  <a:pt x="20352" y="10171"/>
                  <a:pt x="20352" y="10181"/>
                  <a:pt x="20352" y="10192"/>
                </a:cubicBezTo>
              </a:path>
              <a:path w="3334" h="4986">
                <a:moveTo>
                  <a:pt x="20352" y="10160"/>
                </a:moveTo>
                <a:cubicBezTo>
                  <a:pt x="20363" y="10192"/>
                  <a:pt x="20373" y="10223"/>
                  <a:pt x="20384" y="10255"/>
                </a:cubicBezTo>
              </a:path>
              <a:path w="3334" h="4986">
                <a:moveTo>
                  <a:pt x="20764" y="9874"/>
                </a:moveTo>
                <a:lnTo>
                  <a:pt x="20764" y="9874"/>
                </a:lnTo>
              </a:path>
              <a:path w="3334" h="4986">
                <a:moveTo>
                  <a:pt x="20764" y="9874"/>
                </a:moveTo>
                <a:cubicBezTo>
                  <a:pt x="20754" y="9895"/>
                  <a:pt x="20743" y="9917"/>
                  <a:pt x="20733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24"/>
          <p:cNvSpPr/>
          <p:nvPr/>
        </p:nvSpPr>
        <p:spPr>
          <a:xfrm>
            <a:off x="6937200" y="3429000"/>
            <a:ext cx="709920" cy="663480"/>
          </a:xfrm>
          <a:custGeom>
            <a:avLst/>
            <a:gdLst/>
            <a:ahLst/>
            <a:rect l="l" t="t" r="r" b="b"/>
            <a:pathLst>
              <a:path w="1970" h="1842">
                <a:moveTo>
                  <a:pt x="19399" y="10986"/>
                </a:moveTo>
                <a:cubicBezTo>
                  <a:pt x="19389" y="10975"/>
                  <a:pt x="19378" y="10965"/>
                  <a:pt x="19368" y="10954"/>
                </a:cubicBezTo>
                <a:cubicBezTo>
                  <a:pt x="19339" y="10993"/>
                  <a:pt x="19308" y="11032"/>
                  <a:pt x="19304" y="11081"/>
                </a:cubicBezTo>
                <a:cubicBezTo>
                  <a:pt x="19296" y="11190"/>
                  <a:pt x="19278" y="11201"/>
                  <a:pt x="19304" y="11303"/>
                </a:cubicBezTo>
                <a:cubicBezTo>
                  <a:pt x="19313" y="11341"/>
                  <a:pt x="19349" y="11361"/>
                  <a:pt x="19399" y="11366"/>
                </a:cubicBezTo>
                <a:cubicBezTo>
                  <a:pt x="19438" y="11370"/>
                  <a:pt x="19481" y="11341"/>
                  <a:pt x="19526" y="11335"/>
                </a:cubicBezTo>
              </a:path>
              <a:path w="1970" h="1842">
                <a:moveTo>
                  <a:pt x="19622" y="10890"/>
                </a:moveTo>
                <a:cubicBezTo>
                  <a:pt x="19585" y="10952"/>
                  <a:pt x="19564" y="11007"/>
                  <a:pt x="19558" y="11081"/>
                </a:cubicBezTo>
                <a:cubicBezTo>
                  <a:pt x="19558" y="11117"/>
                  <a:pt x="19561" y="11130"/>
                  <a:pt x="19590" y="11144"/>
                </a:cubicBezTo>
                <a:cubicBezTo>
                  <a:pt x="19666" y="11125"/>
                  <a:pt x="19678" y="11095"/>
                  <a:pt x="19685" y="11017"/>
                </a:cubicBezTo>
                <a:cubicBezTo>
                  <a:pt x="19690" y="10960"/>
                  <a:pt x="19652" y="10899"/>
                  <a:pt x="19622" y="10858"/>
                </a:cubicBezTo>
                <a:cubicBezTo>
                  <a:pt x="19636" y="10915"/>
                  <a:pt x="19673" y="10942"/>
                  <a:pt x="19717" y="10986"/>
                </a:cubicBezTo>
                <a:cubicBezTo>
                  <a:pt x="19753" y="11022"/>
                  <a:pt x="19770" y="11032"/>
                  <a:pt x="19812" y="11017"/>
                </a:cubicBezTo>
              </a:path>
              <a:path w="1970" h="1842">
                <a:moveTo>
                  <a:pt x="19748" y="10732"/>
                </a:moveTo>
                <a:cubicBezTo>
                  <a:pt x="19793" y="10776"/>
                  <a:pt x="19822" y="10806"/>
                  <a:pt x="19844" y="10858"/>
                </a:cubicBezTo>
                <a:cubicBezTo>
                  <a:pt x="19870" y="10910"/>
                  <a:pt x="19867" y="10931"/>
                  <a:pt x="19907" y="10922"/>
                </a:cubicBezTo>
                <a:cubicBezTo>
                  <a:pt x="19858" y="10872"/>
                  <a:pt x="19830" y="10823"/>
                  <a:pt x="19812" y="10763"/>
                </a:cubicBezTo>
                <a:cubicBezTo>
                  <a:pt x="19793" y="10702"/>
                  <a:pt x="19814" y="10624"/>
                  <a:pt x="19844" y="10604"/>
                </a:cubicBezTo>
                <a:cubicBezTo>
                  <a:pt x="19912" y="10621"/>
                  <a:pt x="19907" y="10652"/>
                  <a:pt x="19939" y="10700"/>
                </a:cubicBezTo>
                <a:cubicBezTo>
                  <a:pt x="19968" y="10743"/>
                  <a:pt x="20026" y="10763"/>
                  <a:pt x="20066" y="10795"/>
                </a:cubicBezTo>
              </a:path>
              <a:path w="1970" h="1842">
                <a:moveTo>
                  <a:pt x="20384" y="10255"/>
                </a:moveTo>
                <a:cubicBezTo>
                  <a:pt x="20388" y="10284"/>
                  <a:pt x="20418" y="10418"/>
                  <a:pt x="20479" y="10414"/>
                </a:cubicBezTo>
                <a:cubicBezTo>
                  <a:pt x="20560" y="10408"/>
                  <a:pt x="20545" y="10330"/>
                  <a:pt x="20574" y="10287"/>
                </a:cubicBezTo>
                <a:cubicBezTo>
                  <a:pt x="20627" y="10208"/>
                  <a:pt x="20590" y="10235"/>
                  <a:pt x="20574" y="10160"/>
                </a:cubicBezTo>
                <a:cubicBezTo>
                  <a:pt x="20556" y="10078"/>
                  <a:pt x="20559" y="10022"/>
                  <a:pt x="20606" y="10128"/>
                </a:cubicBezTo>
                <a:cubicBezTo>
                  <a:pt x="20630" y="10181"/>
                  <a:pt x="20668" y="10232"/>
                  <a:pt x="20701" y="10287"/>
                </a:cubicBezTo>
                <a:cubicBezTo>
                  <a:pt x="20739" y="10349"/>
                  <a:pt x="20784" y="10449"/>
                  <a:pt x="20796" y="10509"/>
                </a:cubicBezTo>
                <a:cubicBezTo>
                  <a:pt x="20802" y="10540"/>
                  <a:pt x="20816" y="10684"/>
                  <a:pt x="20764" y="10668"/>
                </a:cubicBezTo>
                <a:cubicBezTo>
                  <a:pt x="20712" y="10642"/>
                  <a:pt x="20691" y="10644"/>
                  <a:pt x="20701" y="10604"/>
                </a:cubicBezTo>
              </a:path>
              <a:path w="1970" h="1842">
                <a:moveTo>
                  <a:pt x="20733" y="9938"/>
                </a:moveTo>
                <a:cubicBezTo>
                  <a:pt x="20733" y="10016"/>
                  <a:pt x="20719" y="10091"/>
                  <a:pt x="20764" y="10160"/>
                </a:cubicBezTo>
                <a:cubicBezTo>
                  <a:pt x="20775" y="10171"/>
                  <a:pt x="20785" y="10181"/>
                  <a:pt x="20796" y="10192"/>
                </a:cubicBezTo>
                <a:cubicBezTo>
                  <a:pt x="20856" y="10132"/>
                  <a:pt x="20885" y="10118"/>
                  <a:pt x="20892" y="10033"/>
                </a:cubicBezTo>
                <a:cubicBezTo>
                  <a:pt x="20895" y="9999"/>
                  <a:pt x="20859" y="9893"/>
                  <a:pt x="20828" y="9874"/>
                </a:cubicBezTo>
                <a:cubicBezTo>
                  <a:pt x="20792" y="9852"/>
                  <a:pt x="20748" y="9842"/>
                  <a:pt x="20701" y="9842"/>
                </a:cubicBezTo>
              </a:path>
              <a:path w="1970" h="1842">
                <a:moveTo>
                  <a:pt x="20923" y="9747"/>
                </a:moveTo>
                <a:cubicBezTo>
                  <a:pt x="20923" y="9799"/>
                  <a:pt x="20930" y="9849"/>
                  <a:pt x="20987" y="9874"/>
                </a:cubicBezTo>
                <a:cubicBezTo>
                  <a:pt x="21068" y="9911"/>
                  <a:pt x="21055" y="9897"/>
                  <a:pt x="21146" y="9874"/>
                </a:cubicBezTo>
                <a:cubicBezTo>
                  <a:pt x="21187" y="9864"/>
                  <a:pt x="21231" y="9825"/>
                  <a:pt x="21241" y="9779"/>
                </a:cubicBezTo>
                <a:cubicBezTo>
                  <a:pt x="21244" y="9764"/>
                  <a:pt x="21216" y="9595"/>
                  <a:pt x="21209" y="9588"/>
                </a:cubicBezTo>
                <a:cubicBezTo>
                  <a:pt x="21180" y="9559"/>
                  <a:pt x="21118" y="9534"/>
                  <a:pt x="21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Ink 25"/>
          <p:cNvSpPr/>
          <p:nvPr/>
        </p:nvSpPr>
        <p:spPr>
          <a:xfrm>
            <a:off x="7269120" y="4149720"/>
            <a:ext cx="1800" cy="22320"/>
          </a:xfrm>
          <a:custGeom>
            <a:avLst/>
            <a:gdLst/>
            <a:ahLst/>
            <a:rect l="l" t="t" r="r" b="b"/>
            <a:pathLst>
              <a:path w="1" h="65">
                <a:moveTo>
                  <a:pt x="20193" y="11589"/>
                </a:moveTo>
                <a:lnTo>
                  <a:pt x="20193" y="11589"/>
                </a:lnTo>
              </a:path>
              <a:path w="1" h="65">
                <a:moveTo>
                  <a:pt x="20193" y="11589"/>
                </a:moveTo>
                <a:cubicBezTo>
                  <a:pt x="20193" y="11568"/>
                  <a:pt x="20193" y="11546"/>
                  <a:pt x="20193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Ink 26"/>
          <p:cNvSpPr/>
          <p:nvPr/>
        </p:nvSpPr>
        <p:spPr>
          <a:xfrm>
            <a:off x="7040520" y="4057560"/>
            <a:ext cx="320760" cy="285840"/>
          </a:xfrm>
          <a:custGeom>
            <a:avLst/>
            <a:gdLst/>
            <a:ahLst/>
            <a:rect l="l" t="t" r="r" b="b"/>
            <a:pathLst>
              <a:path w="890" h="795">
                <a:moveTo>
                  <a:pt x="19748" y="11589"/>
                </a:moveTo>
                <a:cubicBezTo>
                  <a:pt x="19682" y="11605"/>
                  <a:pt x="19695" y="11636"/>
                  <a:pt x="19653" y="11684"/>
                </a:cubicBezTo>
                <a:cubicBezTo>
                  <a:pt x="19615" y="11728"/>
                  <a:pt x="19562" y="11788"/>
                  <a:pt x="19558" y="11843"/>
                </a:cubicBezTo>
                <a:cubicBezTo>
                  <a:pt x="19558" y="11864"/>
                  <a:pt x="19558" y="11885"/>
                  <a:pt x="19558" y="11906"/>
                </a:cubicBezTo>
                <a:cubicBezTo>
                  <a:pt x="19617" y="11906"/>
                  <a:pt x="19633" y="11880"/>
                  <a:pt x="19685" y="11874"/>
                </a:cubicBezTo>
                <a:cubicBezTo>
                  <a:pt x="19721" y="11870"/>
                  <a:pt x="19798" y="11860"/>
                  <a:pt x="19812" y="11906"/>
                </a:cubicBezTo>
                <a:cubicBezTo>
                  <a:pt x="19829" y="11961"/>
                  <a:pt x="19768" y="12042"/>
                  <a:pt x="19717" y="12065"/>
                </a:cubicBezTo>
                <a:cubicBezTo>
                  <a:pt x="19681" y="12065"/>
                  <a:pt x="19667" y="12062"/>
                  <a:pt x="19653" y="12033"/>
                </a:cubicBezTo>
              </a:path>
              <a:path w="890" h="795">
                <a:moveTo>
                  <a:pt x="19939" y="11716"/>
                </a:moveTo>
                <a:cubicBezTo>
                  <a:pt x="19988" y="11666"/>
                  <a:pt x="20016" y="11617"/>
                  <a:pt x="20034" y="11557"/>
                </a:cubicBezTo>
                <a:cubicBezTo>
                  <a:pt x="20048" y="11511"/>
                  <a:pt x="20027" y="11495"/>
                  <a:pt x="20002" y="11462"/>
                </a:cubicBezTo>
                <a:cubicBezTo>
                  <a:pt x="19947" y="11533"/>
                  <a:pt x="19939" y="11564"/>
                  <a:pt x="19939" y="11652"/>
                </a:cubicBezTo>
                <a:cubicBezTo>
                  <a:pt x="19939" y="11712"/>
                  <a:pt x="19931" y="11734"/>
                  <a:pt x="19971" y="11779"/>
                </a:cubicBezTo>
                <a:cubicBezTo>
                  <a:pt x="20013" y="11827"/>
                  <a:pt x="20054" y="11808"/>
                  <a:pt x="20098" y="11779"/>
                </a:cubicBezTo>
                <a:cubicBezTo>
                  <a:pt x="20133" y="11757"/>
                  <a:pt x="20164" y="11713"/>
                  <a:pt x="20193" y="11684"/>
                </a:cubicBezTo>
              </a:path>
              <a:path w="890" h="795">
                <a:moveTo>
                  <a:pt x="20193" y="11525"/>
                </a:moveTo>
                <a:cubicBezTo>
                  <a:pt x="20225" y="11472"/>
                  <a:pt x="20249" y="11402"/>
                  <a:pt x="20256" y="11335"/>
                </a:cubicBezTo>
                <a:cubicBezTo>
                  <a:pt x="20256" y="11299"/>
                  <a:pt x="20253" y="11285"/>
                  <a:pt x="20225" y="11271"/>
                </a:cubicBezTo>
                <a:cubicBezTo>
                  <a:pt x="20155" y="11363"/>
                  <a:pt x="20150" y="11381"/>
                  <a:pt x="20161" y="11462"/>
                </a:cubicBezTo>
                <a:cubicBezTo>
                  <a:pt x="20170" y="11529"/>
                  <a:pt x="20177" y="11580"/>
                  <a:pt x="20256" y="11589"/>
                </a:cubicBezTo>
                <a:cubicBezTo>
                  <a:pt x="20300" y="11594"/>
                  <a:pt x="20353" y="11578"/>
                  <a:pt x="20384" y="11557"/>
                </a:cubicBezTo>
                <a:cubicBezTo>
                  <a:pt x="20415" y="11525"/>
                  <a:pt x="20425" y="11514"/>
                  <a:pt x="20447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nk 27"/>
          <p:cNvSpPr/>
          <p:nvPr/>
        </p:nvSpPr>
        <p:spPr>
          <a:xfrm>
            <a:off x="7464600" y="3565440"/>
            <a:ext cx="468000" cy="424080"/>
          </a:xfrm>
          <a:custGeom>
            <a:avLst/>
            <a:gdLst/>
            <a:ahLst/>
            <a:rect l="l" t="t" r="r" b="b"/>
            <a:pathLst>
              <a:path w="1302" h="1176">
                <a:moveTo>
                  <a:pt x="20733" y="10858"/>
                </a:moveTo>
                <a:cubicBezTo>
                  <a:pt x="20745" y="10909"/>
                  <a:pt x="20780" y="10939"/>
                  <a:pt x="20796" y="10986"/>
                </a:cubicBezTo>
                <a:cubicBezTo>
                  <a:pt x="20811" y="11030"/>
                  <a:pt x="20823" y="11044"/>
                  <a:pt x="20860" y="11081"/>
                </a:cubicBezTo>
                <a:cubicBezTo>
                  <a:pt x="20831" y="11030"/>
                  <a:pt x="20770" y="10976"/>
                  <a:pt x="20764" y="10922"/>
                </a:cubicBezTo>
                <a:cubicBezTo>
                  <a:pt x="20759" y="10880"/>
                  <a:pt x="20764" y="10837"/>
                  <a:pt x="20764" y="10795"/>
                </a:cubicBezTo>
                <a:cubicBezTo>
                  <a:pt x="20823" y="10795"/>
                  <a:pt x="20878" y="10798"/>
                  <a:pt x="20923" y="10827"/>
                </a:cubicBezTo>
                <a:cubicBezTo>
                  <a:pt x="20969" y="10857"/>
                  <a:pt x="20979" y="10994"/>
                  <a:pt x="21018" y="10954"/>
                </a:cubicBezTo>
                <a:cubicBezTo>
                  <a:pt x="21042" y="10929"/>
                  <a:pt x="20995" y="10845"/>
                  <a:pt x="20987" y="10827"/>
                </a:cubicBezTo>
                <a:cubicBezTo>
                  <a:pt x="20943" y="10724"/>
                  <a:pt x="20959" y="10752"/>
                  <a:pt x="20987" y="10668"/>
                </a:cubicBezTo>
                <a:cubicBezTo>
                  <a:pt x="21005" y="10615"/>
                  <a:pt x="21037" y="10628"/>
                  <a:pt x="21082" y="10668"/>
                </a:cubicBezTo>
                <a:cubicBezTo>
                  <a:pt x="21123" y="10705"/>
                  <a:pt x="21120" y="10755"/>
                  <a:pt x="21146" y="10795"/>
                </a:cubicBezTo>
                <a:cubicBezTo>
                  <a:pt x="21177" y="10827"/>
                  <a:pt x="21188" y="10838"/>
                  <a:pt x="21209" y="10795"/>
                </a:cubicBezTo>
              </a:path>
              <a:path w="1302" h="1176">
                <a:moveTo>
                  <a:pt x="21209" y="10446"/>
                </a:moveTo>
                <a:cubicBezTo>
                  <a:pt x="21209" y="10525"/>
                  <a:pt x="21193" y="10607"/>
                  <a:pt x="21241" y="10668"/>
                </a:cubicBezTo>
                <a:cubicBezTo>
                  <a:pt x="21294" y="10735"/>
                  <a:pt x="21324" y="10680"/>
                  <a:pt x="21368" y="10636"/>
                </a:cubicBezTo>
                <a:cubicBezTo>
                  <a:pt x="21393" y="10611"/>
                  <a:pt x="21422" y="10549"/>
                  <a:pt x="21400" y="10509"/>
                </a:cubicBezTo>
                <a:cubicBezTo>
                  <a:pt x="21378" y="10470"/>
                  <a:pt x="21333" y="10380"/>
                  <a:pt x="21272" y="10414"/>
                </a:cubicBezTo>
                <a:cubicBezTo>
                  <a:pt x="21244" y="10443"/>
                  <a:pt x="21238" y="10454"/>
                  <a:pt x="21209" y="10446"/>
                </a:cubicBezTo>
              </a:path>
              <a:path w="1302" h="1176">
                <a:moveTo>
                  <a:pt x="21304" y="10160"/>
                </a:moveTo>
                <a:cubicBezTo>
                  <a:pt x="21304" y="10225"/>
                  <a:pt x="21327" y="10265"/>
                  <a:pt x="21368" y="10319"/>
                </a:cubicBezTo>
                <a:cubicBezTo>
                  <a:pt x="21414" y="10380"/>
                  <a:pt x="21476" y="10369"/>
                  <a:pt x="21495" y="10446"/>
                </a:cubicBezTo>
                <a:cubicBezTo>
                  <a:pt x="21533" y="10456"/>
                  <a:pt x="21552" y="10469"/>
                  <a:pt x="21590" y="10478"/>
                </a:cubicBezTo>
              </a:path>
              <a:path w="1302" h="1176">
                <a:moveTo>
                  <a:pt x="21590" y="10350"/>
                </a:moveTo>
                <a:cubicBezTo>
                  <a:pt x="21635" y="10294"/>
                  <a:pt x="21627" y="10242"/>
                  <a:pt x="21654" y="10192"/>
                </a:cubicBezTo>
                <a:cubicBezTo>
                  <a:pt x="21685" y="10160"/>
                  <a:pt x="21695" y="10149"/>
                  <a:pt x="21654" y="10128"/>
                </a:cubicBezTo>
                <a:cubicBezTo>
                  <a:pt x="21601" y="10139"/>
                  <a:pt x="21492" y="10171"/>
                  <a:pt x="21526" y="10255"/>
                </a:cubicBezTo>
                <a:cubicBezTo>
                  <a:pt x="21549" y="10311"/>
                  <a:pt x="21589" y="10360"/>
                  <a:pt x="21654" y="10382"/>
                </a:cubicBezTo>
                <a:cubicBezTo>
                  <a:pt x="21687" y="10393"/>
                  <a:pt x="21757" y="10340"/>
                  <a:pt x="21780" y="10319"/>
                </a:cubicBezTo>
                <a:cubicBezTo>
                  <a:pt x="21812" y="10287"/>
                  <a:pt x="21823" y="10276"/>
                  <a:pt x="21844" y="10255"/>
                </a:cubicBezTo>
              </a:path>
              <a:path w="1302" h="1176">
                <a:moveTo>
                  <a:pt x="21876" y="9938"/>
                </a:moveTo>
                <a:cubicBezTo>
                  <a:pt x="21814" y="9913"/>
                  <a:pt x="21774" y="9926"/>
                  <a:pt x="21749" y="10001"/>
                </a:cubicBezTo>
                <a:cubicBezTo>
                  <a:pt x="21726" y="10072"/>
                  <a:pt x="21776" y="10072"/>
                  <a:pt x="21812" y="10096"/>
                </a:cubicBezTo>
                <a:cubicBezTo>
                  <a:pt x="21856" y="10125"/>
                  <a:pt x="21919" y="10154"/>
                  <a:pt x="21971" y="10160"/>
                </a:cubicBezTo>
                <a:cubicBezTo>
                  <a:pt x="21982" y="10160"/>
                  <a:pt x="21992" y="10160"/>
                  <a:pt x="22003" y="10160"/>
                </a:cubicBezTo>
                <a:cubicBezTo>
                  <a:pt x="22021" y="10236"/>
                  <a:pt x="22036" y="10248"/>
                  <a:pt x="21971" y="10319"/>
                </a:cubicBezTo>
                <a:cubicBezTo>
                  <a:pt x="21960" y="10329"/>
                  <a:pt x="21950" y="10340"/>
                  <a:pt x="21939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Ink 28"/>
          <p:cNvSpPr/>
          <p:nvPr/>
        </p:nvSpPr>
        <p:spPr>
          <a:xfrm>
            <a:off x="7326360" y="3908520"/>
            <a:ext cx="628560" cy="630000"/>
          </a:xfrm>
          <a:custGeom>
            <a:avLst/>
            <a:gdLst/>
            <a:ahLst/>
            <a:rect l="l" t="t" r="r" b="b"/>
            <a:pathLst>
              <a:path w="1747" h="1748">
                <a:moveTo>
                  <a:pt x="20510" y="12192"/>
                </a:moveTo>
                <a:cubicBezTo>
                  <a:pt x="20466" y="12192"/>
                  <a:pt x="20408" y="12175"/>
                  <a:pt x="20384" y="12224"/>
                </a:cubicBezTo>
                <a:cubicBezTo>
                  <a:pt x="20367" y="12259"/>
                  <a:pt x="20355" y="12373"/>
                  <a:pt x="20352" y="12414"/>
                </a:cubicBezTo>
                <a:cubicBezTo>
                  <a:pt x="20347" y="12496"/>
                  <a:pt x="20371" y="12577"/>
                  <a:pt x="20447" y="12605"/>
                </a:cubicBezTo>
                <a:cubicBezTo>
                  <a:pt x="20490" y="12621"/>
                  <a:pt x="20541" y="12587"/>
                  <a:pt x="20574" y="12573"/>
                </a:cubicBezTo>
                <a:cubicBezTo>
                  <a:pt x="20645" y="12543"/>
                  <a:pt x="20656" y="12502"/>
                  <a:pt x="20701" y="12446"/>
                </a:cubicBezTo>
              </a:path>
              <a:path w="1747" h="1748">
                <a:moveTo>
                  <a:pt x="20701" y="12065"/>
                </a:moveTo>
                <a:cubicBezTo>
                  <a:pt x="20615" y="12087"/>
                  <a:pt x="20638" y="12141"/>
                  <a:pt x="20638" y="12224"/>
                </a:cubicBezTo>
                <a:cubicBezTo>
                  <a:pt x="20638" y="12269"/>
                  <a:pt x="20644" y="12291"/>
                  <a:pt x="20669" y="12319"/>
                </a:cubicBezTo>
                <a:cubicBezTo>
                  <a:pt x="20700" y="12311"/>
                  <a:pt x="20787" y="12278"/>
                  <a:pt x="20764" y="12224"/>
                </a:cubicBezTo>
                <a:cubicBezTo>
                  <a:pt x="20739" y="12167"/>
                  <a:pt x="20695" y="12111"/>
                  <a:pt x="20638" y="12097"/>
                </a:cubicBezTo>
                <a:cubicBezTo>
                  <a:pt x="20688" y="12147"/>
                  <a:pt x="20744" y="12177"/>
                  <a:pt x="20796" y="12224"/>
                </a:cubicBezTo>
                <a:cubicBezTo>
                  <a:pt x="20849" y="12272"/>
                  <a:pt x="20871" y="12264"/>
                  <a:pt x="20923" y="12224"/>
                </a:cubicBezTo>
              </a:path>
              <a:path w="1747" h="1748">
                <a:moveTo>
                  <a:pt x="20796" y="11874"/>
                </a:moveTo>
                <a:cubicBezTo>
                  <a:pt x="20809" y="11927"/>
                  <a:pt x="20855" y="11991"/>
                  <a:pt x="20892" y="12033"/>
                </a:cubicBezTo>
                <a:cubicBezTo>
                  <a:pt x="20930" y="12076"/>
                  <a:pt x="20977" y="12172"/>
                  <a:pt x="20955" y="12097"/>
                </a:cubicBezTo>
                <a:cubicBezTo>
                  <a:pt x="20941" y="12047"/>
                  <a:pt x="20912" y="11989"/>
                  <a:pt x="20892" y="11938"/>
                </a:cubicBezTo>
                <a:cubicBezTo>
                  <a:pt x="20861" y="11860"/>
                  <a:pt x="20836" y="11819"/>
                  <a:pt x="20892" y="11748"/>
                </a:cubicBezTo>
                <a:cubicBezTo>
                  <a:pt x="20932" y="11698"/>
                  <a:pt x="20976" y="11721"/>
                  <a:pt x="21018" y="11748"/>
                </a:cubicBezTo>
                <a:cubicBezTo>
                  <a:pt x="21075" y="11786"/>
                  <a:pt x="21115" y="11878"/>
                  <a:pt x="21177" y="11906"/>
                </a:cubicBezTo>
                <a:cubicBezTo>
                  <a:pt x="21216" y="11924"/>
                  <a:pt x="21250" y="11865"/>
                  <a:pt x="21272" y="11843"/>
                </a:cubicBezTo>
              </a:path>
              <a:path w="1747" h="1748">
                <a:moveTo>
                  <a:pt x="21336" y="11335"/>
                </a:moveTo>
                <a:cubicBezTo>
                  <a:pt x="21242" y="11358"/>
                  <a:pt x="21276" y="11392"/>
                  <a:pt x="21241" y="11462"/>
                </a:cubicBezTo>
                <a:cubicBezTo>
                  <a:pt x="21207" y="11531"/>
                  <a:pt x="21186" y="11583"/>
                  <a:pt x="21241" y="11652"/>
                </a:cubicBezTo>
                <a:cubicBezTo>
                  <a:pt x="21295" y="11720"/>
                  <a:pt x="21265" y="11716"/>
                  <a:pt x="21368" y="11716"/>
                </a:cubicBezTo>
                <a:cubicBezTo>
                  <a:pt x="21404" y="11716"/>
                  <a:pt x="21493" y="11674"/>
                  <a:pt x="21526" y="11652"/>
                </a:cubicBezTo>
                <a:cubicBezTo>
                  <a:pt x="21537" y="11641"/>
                  <a:pt x="21547" y="11631"/>
                  <a:pt x="21558" y="11620"/>
                </a:cubicBezTo>
              </a:path>
              <a:path w="1747" h="1748">
                <a:moveTo>
                  <a:pt x="21622" y="11398"/>
                </a:moveTo>
                <a:cubicBezTo>
                  <a:pt x="21622" y="11318"/>
                  <a:pt x="21648" y="11283"/>
                  <a:pt x="21654" y="11208"/>
                </a:cubicBezTo>
                <a:cubicBezTo>
                  <a:pt x="21658" y="11166"/>
                  <a:pt x="21654" y="11123"/>
                  <a:pt x="21654" y="11081"/>
                </a:cubicBezTo>
                <a:cubicBezTo>
                  <a:pt x="21590" y="11096"/>
                  <a:pt x="21581" y="11121"/>
                  <a:pt x="21558" y="11176"/>
                </a:cubicBezTo>
                <a:cubicBezTo>
                  <a:pt x="21538" y="11224"/>
                  <a:pt x="21498" y="11310"/>
                  <a:pt x="21526" y="11366"/>
                </a:cubicBezTo>
                <a:cubicBezTo>
                  <a:pt x="21553" y="11419"/>
                  <a:pt x="21656" y="11515"/>
                  <a:pt x="21717" y="11494"/>
                </a:cubicBezTo>
                <a:cubicBezTo>
                  <a:pt x="21762" y="11479"/>
                  <a:pt x="21808" y="11434"/>
                  <a:pt x="21844" y="11398"/>
                </a:cubicBezTo>
              </a:path>
              <a:path w="1747" h="1748">
                <a:moveTo>
                  <a:pt x="21749" y="10858"/>
                </a:moveTo>
                <a:cubicBezTo>
                  <a:pt x="21762" y="10912"/>
                  <a:pt x="21785" y="10939"/>
                  <a:pt x="21812" y="10986"/>
                </a:cubicBezTo>
                <a:cubicBezTo>
                  <a:pt x="21845" y="11044"/>
                  <a:pt x="21885" y="11090"/>
                  <a:pt x="21908" y="11144"/>
                </a:cubicBezTo>
                <a:cubicBezTo>
                  <a:pt x="21943" y="11227"/>
                  <a:pt x="21975" y="11232"/>
                  <a:pt x="22034" y="11271"/>
                </a:cubicBezTo>
                <a:cubicBezTo>
                  <a:pt x="22082" y="11303"/>
                  <a:pt x="22079" y="11327"/>
                  <a:pt x="2209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Ink 29"/>
          <p:cNvSpPr/>
          <p:nvPr/>
        </p:nvSpPr>
        <p:spPr>
          <a:xfrm>
            <a:off x="7921800" y="3749760"/>
            <a:ext cx="261720" cy="274680"/>
          </a:xfrm>
          <a:custGeom>
            <a:avLst/>
            <a:gdLst/>
            <a:ahLst/>
            <a:rect l="l" t="t" r="r" b="b"/>
            <a:pathLst>
              <a:path w="731" h="763">
                <a:moveTo>
                  <a:pt x="22034" y="10636"/>
                </a:moveTo>
                <a:cubicBezTo>
                  <a:pt x="22072" y="10599"/>
                  <a:pt x="22144" y="10533"/>
                  <a:pt x="22162" y="10509"/>
                </a:cubicBezTo>
                <a:cubicBezTo>
                  <a:pt x="22208" y="10447"/>
                  <a:pt x="22187" y="10432"/>
                  <a:pt x="22257" y="10414"/>
                </a:cubicBezTo>
                <a:cubicBezTo>
                  <a:pt x="22257" y="10461"/>
                  <a:pt x="22269" y="10536"/>
                  <a:pt x="22288" y="10573"/>
                </a:cubicBezTo>
                <a:cubicBezTo>
                  <a:pt x="22306" y="10609"/>
                  <a:pt x="22331" y="10669"/>
                  <a:pt x="22352" y="10700"/>
                </a:cubicBezTo>
                <a:cubicBezTo>
                  <a:pt x="22379" y="10740"/>
                  <a:pt x="22387" y="10756"/>
                  <a:pt x="22416" y="10795"/>
                </a:cubicBezTo>
              </a:path>
              <a:path w="731" h="763">
                <a:moveTo>
                  <a:pt x="22003" y="10668"/>
                </a:moveTo>
                <a:cubicBezTo>
                  <a:pt x="22050" y="10704"/>
                  <a:pt x="22114" y="10703"/>
                  <a:pt x="22162" y="10732"/>
                </a:cubicBezTo>
                <a:cubicBezTo>
                  <a:pt x="22222" y="10768"/>
                  <a:pt x="22280" y="10789"/>
                  <a:pt x="22352" y="10795"/>
                </a:cubicBezTo>
                <a:cubicBezTo>
                  <a:pt x="22415" y="10800"/>
                  <a:pt x="22392" y="10843"/>
                  <a:pt x="22416" y="10795"/>
                </a:cubicBezTo>
              </a:path>
              <a:path w="731" h="763">
                <a:moveTo>
                  <a:pt x="22574" y="10986"/>
                </a:moveTo>
                <a:cubicBezTo>
                  <a:pt x="22563" y="11031"/>
                  <a:pt x="22515" y="11089"/>
                  <a:pt x="22542" y="11144"/>
                </a:cubicBezTo>
                <a:cubicBezTo>
                  <a:pt x="22562" y="11184"/>
                  <a:pt x="22665" y="11191"/>
                  <a:pt x="22701" y="11176"/>
                </a:cubicBezTo>
                <a:cubicBezTo>
                  <a:pt x="22734" y="11162"/>
                  <a:pt x="22750" y="11080"/>
                  <a:pt x="22733" y="11049"/>
                </a:cubicBezTo>
                <a:cubicBezTo>
                  <a:pt x="22687" y="10966"/>
                  <a:pt x="22663" y="10999"/>
                  <a:pt x="22606" y="11017"/>
                </a:cubicBezTo>
                <a:cubicBezTo>
                  <a:pt x="22574" y="11017"/>
                  <a:pt x="22563" y="11017"/>
                  <a:pt x="2257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Ink 2"/>
          <p:cNvSpPr/>
          <p:nvPr/>
        </p:nvSpPr>
        <p:spPr>
          <a:xfrm>
            <a:off x="2994120" y="146376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8318" y="4064"/>
                </a:moveTo>
                <a:lnTo>
                  <a:pt x="8318" y="4064"/>
                </a:lnTo>
              </a:path>
              <a:path w="33" h="33">
                <a:moveTo>
                  <a:pt x="8318" y="4064"/>
                </a:moveTo>
                <a:cubicBezTo>
                  <a:pt x="8329" y="4075"/>
                  <a:pt x="8339" y="4085"/>
                  <a:pt x="8350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982800" y="1531800"/>
            <a:ext cx="320400" cy="285840"/>
          </a:xfrm>
          <a:custGeom>
            <a:avLst/>
            <a:gdLst/>
            <a:ahLst/>
            <a:rect l="l" t="t" r="r" b="b"/>
            <a:pathLst>
              <a:path w="891" h="795">
                <a:moveTo>
                  <a:pt x="2730" y="4382"/>
                </a:moveTo>
                <a:cubicBezTo>
                  <a:pt x="2730" y="4305"/>
                  <a:pt x="2742" y="4320"/>
                  <a:pt x="2794" y="4286"/>
                </a:cubicBezTo>
                <a:cubicBezTo>
                  <a:pt x="2851" y="4248"/>
                  <a:pt x="2879" y="4254"/>
                  <a:pt x="2953" y="4254"/>
                </a:cubicBezTo>
                <a:cubicBezTo>
                  <a:pt x="3005" y="4254"/>
                  <a:pt x="3055" y="4262"/>
                  <a:pt x="3080" y="4318"/>
                </a:cubicBezTo>
                <a:cubicBezTo>
                  <a:pt x="3107" y="4378"/>
                  <a:pt x="3088" y="4559"/>
                  <a:pt x="3048" y="4604"/>
                </a:cubicBezTo>
                <a:cubicBezTo>
                  <a:pt x="2990" y="4669"/>
                  <a:pt x="2995" y="4720"/>
                  <a:pt x="2921" y="4794"/>
                </a:cubicBezTo>
                <a:cubicBezTo>
                  <a:pt x="2857" y="4858"/>
                  <a:pt x="2794" y="4921"/>
                  <a:pt x="2730" y="4985"/>
                </a:cubicBezTo>
                <a:cubicBezTo>
                  <a:pt x="2810" y="5031"/>
                  <a:pt x="2813" y="4993"/>
                  <a:pt x="2889" y="4985"/>
                </a:cubicBezTo>
                <a:cubicBezTo>
                  <a:pt x="2956" y="4978"/>
                  <a:pt x="3016" y="4957"/>
                  <a:pt x="3080" y="4953"/>
                </a:cubicBezTo>
                <a:cubicBezTo>
                  <a:pt x="3144" y="4949"/>
                  <a:pt x="3216" y="4983"/>
                  <a:pt x="3238" y="5016"/>
                </a:cubicBezTo>
              </a:path>
              <a:path w="891" h="795">
                <a:moveTo>
                  <a:pt x="3620" y="4985"/>
                </a:moveTo>
                <a:cubicBezTo>
                  <a:pt x="3568" y="4998"/>
                  <a:pt x="3569" y="4996"/>
                  <a:pt x="3556" y="5048"/>
                </a:cubicBezTo>
                <a:cubicBezTo>
                  <a:pt x="3605" y="5036"/>
                  <a:pt x="3656" y="4957"/>
                  <a:pt x="3588" y="5016"/>
                </a:cubicBezTo>
                <a:cubicBezTo>
                  <a:pt x="3519" y="5076"/>
                  <a:pt x="3637" y="5043"/>
                  <a:pt x="3556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Ink 4"/>
          <p:cNvSpPr/>
          <p:nvPr/>
        </p:nvSpPr>
        <p:spPr>
          <a:xfrm>
            <a:off x="1714680" y="1474920"/>
            <a:ext cx="1542960" cy="536400"/>
          </a:xfrm>
          <a:custGeom>
            <a:avLst/>
            <a:gdLst/>
            <a:ahLst/>
            <a:rect l="l" t="t" r="r" b="b"/>
            <a:pathLst>
              <a:path w="4288" h="1493">
                <a:moveTo>
                  <a:pt x="5144" y="4508"/>
                </a:moveTo>
                <a:cubicBezTo>
                  <a:pt x="5131" y="4456"/>
                  <a:pt x="5107" y="4420"/>
                  <a:pt x="5048" y="4413"/>
                </a:cubicBezTo>
                <a:cubicBezTo>
                  <a:pt x="4971" y="4404"/>
                  <a:pt x="4981" y="4450"/>
                  <a:pt x="4921" y="4477"/>
                </a:cubicBezTo>
                <a:cubicBezTo>
                  <a:pt x="4869" y="4500"/>
                  <a:pt x="4819" y="4542"/>
                  <a:pt x="4794" y="4604"/>
                </a:cubicBezTo>
                <a:cubicBezTo>
                  <a:pt x="4774" y="4653"/>
                  <a:pt x="4762" y="4706"/>
                  <a:pt x="4762" y="4762"/>
                </a:cubicBezTo>
                <a:cubicBezTo>
                  <a:pt x="4762" y="4821"/>
                  <a:pt x="4754" y="4845"/>
                  <a:pt x="4794" y="4890"/>
                </a:cubicBezTo>
                <a:cubicBezTo>
                  <a:pt x="4818" y="4916"/>
                  <a:pt x="4883" y="4942"/>
                  <a:pt x="4921" y="4921"/>
                </a:cubicBezTo>
                <a:cubicBezTo>
                  <a:pt x="4989" y="4884"/>
                  <a:pt x="4966" y="4848"/>
                  <a:pt x="4985" y="4794"/>
                </a:cubicBezTo>
                <a:cubicBezTo>
                  <a:pt x="4995" y="4765"/>
                  <a:pt x="5002" y="4661"/>
                  <a:pt x="5016" y="4636"/>
                </a:cubicBezTo>
                <a:cubicBezTo>
                  <a:pt x="5046" y="4583"/>
                  <a:pt x="5048" y="4573"/>
                  <a:pt x="5048" y="4508"/>
                </a:cubicBezTo>
                <a:cubicBezTo>
                  <a:pt x="5048" y="4498"/>
                  <a:pt x="5048" y="4487"/>
                  <a:pt x="5048" y="4477"/>
                </a:cubicBezTo>
                <a:cubicBezTo>
                  <a:pt x="5084" y="4489"/>
                  <a:pt x="5098" y="4550"/>
                  <a:pt x="5112" y="4604"/>
                </a:cubicBezTo>
                <a:cubicBezTo>
                  <a:pt x="5166" y="4819"/>
                  <a:pt x="5106" y="5086"/>
                  <a:pt x="5144" y="5302"/>
                </a:cubicBezTo>
                <a:cubicBezTo>
                  <a:pt x="5156" y="5372"/>
                  <a:pt x="5161" y="5437"/>
                  <a:pt x="5207" y="5493"/>
                </a:cubicBezTo>
                <a:cubicBezTo>
                  <a:pt x="5241" y="5535"/>
                  <a:pt x="5282" y="5582"/>
                  <a:pt x="5334" y="5588"/>
                </a:cubicBezTo>
                <a:cubicBezTo>
                  <a:pt x="5381" y="5593"/>
                  <a:pt x="5431" y="5598"/>
                  <a:pt x="5461" y="5556"/>
                </a:cubicBezTo>
                <a:cubicBezTo>
                  <a:pt x="5500" y="5500"/>
                  <a:pt x="5500" y="5425"/>
                  <a:pt x="5524" y="5366"/>
                </a:cubicBezTo>
                <a:cubicBezTo>
                  <a:pt x="5573" y="5244"/>
                  <a:pt x="5522" y="5283"/>
                  <a:pt x="5493" y="5175"/>
                </a:cubicBezTo>
                <a:cubicBezTo>
                  <a:pt x="5470" y="5090"/>
                  <a:pt x="5454" y="5028"/>
                  <a:pt x="5398" y="4953"/>
                </a:cubicBezTo>
                <a:cubicBezTo>
                  <a:pt x="5356" y="4897"/>
                  <a:pt x="5320" y="4845"/>
                  <a:pt x="5270" y="4794"/>
                </a:cubicBezTo>
                <a:cubicBezTo>
                  <a:pt x="5237" y="4760"/>
                  <a:pt x="5160" y="4715"/>
                  <a:pt x="5112" y="4699"/>
                </a:cubicBezTo>
                <a:cubicBezTo>
                  <a:pt x="5101" y="4699"/>
                  <a:pt x="5091" y="4699"/>
                  <a:pt x="5080" y="4699"/>
                </a:cubicBezTo>
                <a:cubicBezTo>
                  <a:pt x="5205" y="4699"/>
                  <a:pt x="5321" y="4700"/>
                  <a:pt x="5429" y="4667"/>
                </a:cubicBezTo>
                <a:cubicBezTo>
                  <a:pt x="5459" y="4658"/>
                  <a:pt x="5529" y="4667"/>
                  <a:pt x="5556" y="4667"/>
                </a:cubicBezTo>
              </a:path>
              <a:path w="4288" h="1493">
                <a:moveTo>
                  <a:pt x="6001" y="4413"/>
                </a:moveTo>
                <a:cubicBezTo>
                  <a:pt x="6118" y="4413"/>
                  <a:pt x="6218" y="4415"/>
                  <a:pt x="6318" y="4445"/>
                </a:cubicBezTo>
                <a:cubicBezTo>
                  <a:pt x="6329" y="4445"/>
                  <a:pt x="6339" y="4445"/>
                  <a:pt x="6350" y="4445"/>
                </a:cubicBezTo>
              </a:path>
              <a:path w="4288" h="1493">
                <a:moveTo>
                  <a:pt x="6096" y="4636"/>
                </a:moveTo>
                <a:cubicBezTo>
                  <a:pt x="6191" y="4636"/>
                  <a:pt x="6260" y="4625"/>
                  <a:pt x="6350" y="4604"/>
                </a:cubicBezTo>
                <a:cubicBezTo>
                  <a:pt x="6392" y="4604"/>
                  <a:pt x="6413" y="4604"/>
                  <a:pt x="6445" y="4604"/>
                </a:cubicBezTo>
              </a:path>
              <a:path w="4288" h="1493">
                <a:moveTo>
                  <a:pt x="7302" y="4318"/>
                </a:moveTo>
                <a:cubicBezTo>
                  <a:pt x="7302" y="4286"/>
                  <a:pt x="7302" y="4255"/>
                  <a:pt x="7302" y="4223"/>
                </a:cubicBezTo>
                <a:cubicBezTo>
                  <a:pt x="7266" y="4204"/>
                  <a:pt x="7205" y="4203"/>
                  <a:pt x="7144" y="4223"/>
                </a:cubicBezTo>
                <a:cubicBezTo>
                  <a:pt x="7074" y="4245"/>
                  <a:pt x="7034" y="4300"/>
                  <a:pt x="6985" y="4350"/>
                </a:cubicBezTo>
                <a:cubicBezTo>
                  <a:pt x="6928" y="4407"/>
                  <a:pt x="6852" y="4493"/>
                  <a:pt x="6826" y="4572"/>
                </a:cubicBezTo>
                <a:cubicBezTo>
                  <a:pt x="6807" y="4629"/>
                  <a:pt x="6826" y="4715"/>
                  <a:pt x="6858" y="4762"/>
                </a:cubicBezTo>
                <a:cubicBezTo>
                  <a:pt x="6893" y="4814"/>
                  <a:pt x="6991" y="4823"/>
                  <a:pt x="7048" y="4826"/>
                </a:cubicBezTo>
                <a:cubicBezTo>
                  <a:pt x="7128" y="4830"/>
                  <a:pt x="7188" y="4794"/>
                  <a:pt x="7271" y="4794"/>
                </a:cubicBezTo>
                <a:cubicBezTo>
                  <a:pt x="7318" y="4794"/>
                  <a:pt x="7334" y="4763"/>
                  <a:pt x="7366" y="4731"/>
                </a:cubicBezTo>
              </a:path>
              <a:path w="4288" h="1493">
                <a:moveTo>
                  <a:pt x="7842" y="4191"/>
                </a:moveTo>
                <a:cubicBezTo>
                  <a:pt x="7809" y="4248"/>
                  <a:pt x="7770" y="4296"/>
                  <a:pt x="7747" y="4350"/>
                </a:cubicBezTo>
                <a:cubicBezTo>
                  <a:pt x="7713" y="4428"/>
                  <a:pt x="7659" y="4495"/>
                  <a:pt x="7620" y="4572"/>
                </a:cubicBezTo>
                <a:cubicBezTo>
                  <a:pt x="7590" y="4632"/>
                  <a:pt x="7546" y="4699"/>
                  <a:pt x="7525" y="4762"/>
                </a:cubicBezTo>
                <a:cubicBezTo>
                  <a:pt x="7517" y="4787"/>
                  <a:pt x="7493" y="4897"/>
                  <a:pt x="7493" y="4826"/>
                </a:cubicBezTo>
              </a:path>
              <a:path w="4288" h="1493">
                <a:moveTo>
                  <a:pt x="7842" y="4223"/>
                </a:moveTo>
                <a:cubicBezTo>
                  <a:pt x="7884" y="4278"/>
                  <a:pt x="7913" y="4299"/>
                  <a:pt x="7969" y="4350"/>
                </a:cubicBezTo>
                <a:cubicBezTo>
                  <a:pt x="8009" y="4386"/>
                  <a:pt x="8067" y="4432"/>
                  <a:pt x="8096" y="4477"/>
                </a:cubicBezTo>
                <a:cubicBezTo>
                  <a:pt x="8136" y="4539"/>
                  <a:pt x="8170" y="4583"/>
                  <a:pt x="8223" y="4636"/>
                </a:cubicBezTo>
                <a:cubicBezTo>
                  <a:pt x="8263" y="4676"/>
                  <a:pt x="8273" y="4717"/>
                  <a:pt x="8318" y="4762"/>
                </a:cubicBezTo>
                <a:cubicBezTo>
                  <a:pt x="8273" y="4797"/>
                  <a:pt x="8222" y="4820"/>
                  <a:pt x="8160" y="4826"/>
                </a:cubicBezTo>
                <a:cubicBezTo>
                  <a:pt x="7988" y="4843"/>
                  <a:pt x="7808" y="4827"/>
                  <a:pt x="7652" y="4858"/>
                </a:cubicBezTo>
                <a:cubicBezTo>
                  <a:pt x="7573" y="4874"/>
                  <a:pt x="7555" y="4875"/>
                  <a:pt x="7588" y="4826"/>
                </a:cubicBezTo>
              </a:path>
              <a:path w="4288" h="1493">
                <a:moveTo>
                  <a:pt x="8668" y="4128"/>
                </a:moveTo>
                <a:cubicBezTo>
                  <a:pt x="8668" y="4264"/>
                  <a:pt x="8670" y="4381"/>
                  <a:pt x="8700" y="4508"/>
                </a:cubicBezTo>
                <a:cubicBezTo>
                  <a:pt x="8715" y="4574"/>
                  <a:pt x="8747" y="4634"/>
                  <a:pt x="8763" y="4699"/>
                </a:cubicBezTo>
                <a:cubicBezTo>
                  <a:pt x="8777" y="4756"/>
                  <a:pt x="8782" y="4805"/>
                  <a:pt x="8795" y="4858"/>
                </a:cubicBezTo>
              </a:path>
              <a:path w="4288" h="1493">
                <a:moveTo>
                  <a:pt x="8350" y="4096"/>
                </a:moveTo>
                <a:cubicBezTo>
                  <a:pt x="8495" y="4096"/>
                  <a:pt x="8627" y="4105"/>
                  <a:pt x="8763" y="4128"/>
                </a:cubicBezTo>
                <a:cubicBezTo>
                  <a:pt x="8827" y="4139"/>
                  <a:pt x="9041" y="4092"/>
                  <a:pt x="9049" y="4159"/>
                </a:cubicBezTo>
                <a:cubicBezTo>
                  <a:pt x="9049" y="4170"/>
                  <a:pt x="9049" y="4180"/>
                  <a:pt x="9049" y="4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85960" y="2286000"/>
            <a:ext cx="3989520" cy="195120"/>
          </a:xfrm>
          <a:custGeom>
            <a:avLst/>
            <a:gdLst/>
            <a:ahLst/>
            <a:rect l="l" t="t" r="r" b="b"/>
            <a:pathLst>
              <a:path w="11082" h="541">
                <a:moveTo>
                  <a:pt x="7461" y="6890"/>
                </a:moveTo>
                <a:cubicBezTo>
                  <a:pt x="7461" y="6879"/>
                  <a:pt x="7461" y="6869"/>
                  <a:pt x="7461" y="6858"/>
                </a:cubicBezTo>
              </a:path>
              <a:path w="11082" h="541">
                <a:moveTo>
                  <a:pt x="13811" y="6540"/>
                </a:moveTo>
                <a:cubicBezTo>
                  <a:pt x="13811" y="6530"/>
                  <a:pt x="13811" y="6519"/>
                  <a:pt x="13811" y="6509"/>
                </a:cubicBezTo>
              </a:path>
              <a:path w="11082" h="541">
                <a:moveTo>
                  <a:pt x="18542" y="6414"/>
                </a:moveTo>
                <a:cubicBezTo>
                  <a:pt x="18513" y="6385"/>
                  <a:pt x="18502" y="6379"/>
                  <a:pt x="1851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Ink 6"/>
          <p:cNvSpPr/>
          <p:nvPr/>
        </p:nvSpPr>
        <p:spPr>
          <a:xfrm>
            <a:off x="1679400" y="2435400"/>
            <a:ext cx="241560" cy="411120"/>
          </a:xfrm>
          <a:custGeom>
            <a:avLst/>
            <a:gdLst/>
            <a:ahLst/>
            <a:rect l="l" t="t" r="r" b="b"/>
            <a:pathLst>
              <a:path w="668" h="1144">
                <a:moveTo>
                  <a:pt x="5016" y="6858"/>
                </a:moveTo>
                <a:cubicBezTo>
                  <a:pt x="5016" y="6803"/>
                  <a:pt x="5018" y="6807"/>
                  <a:pt x="4985" y="6763"/>
                </a:cubicBezTo>
                <a:cubicBezTo>
                  <a:pt x="4917" y="6763"/>
                  <a:pt x="4907" y="6777"/>
                  <a:pt x="4858" y="6826"/>
                </a:cubicBezTo>
                <a:cubicBezTo>
                  <a:pt x="4782" y="6902"/>
                  <a:pt x="4758" y="6963"/>
                  <a:pt x="4699" y="7048"/>
                </a:cubicBezTo>
                <a:cubicBezTo>
                  <a:pt x="4645" y="7126"/>
                  <a:pt x="4665" y="7175"/>
                  <a:pt x="4762" y="7207"/>
                </a:cubicBezTo>
                <a:cubicBezTo>
                  <a:pt x="4816" y="7225"/>
                  <a:pt x="4882" y="7166"/>
                  <a:pt x="4921" y="7144"/>
                </a:cubicBezTo>
                <a:cubicBezTo>
                  <a:pt x="5003" y="7097"/>
                  <a:pt x="4989" y="7063"/>
                  <a:pt x="5048" y="6985"/>
                </a:cubicBezTo>
                <a:cubicBezTo>
                  <a:pt x="5086" y="6934"/>
                  <a:pt x="5145" y="6906"/>
                  <a:pt x="5112" y="6826"/>
                </a:cubicBezTo>
                <a:cubicBezTo>
                  <a:pt x="5101" y="6815"/>
                  <a:pt x="5091" y="6805"/>
                  <a:pt x="5080" y="6794"/>
                </a:cubicBezTo>
                <a:cubicBezTo>
                  <a:pt x="5080" y="6899"/>
                  <a:pt x="5096" y="6983"/>
                  <a:pt x="5112" y="7080"/>
                </a:cubicBezTo>
                <a:cubicBezTo>
                  <a:pt x="5129" y="7180"/>
                  <a:pt x="5084" y="7268"/>
                  <a:pt x="5080" y="7366"/>
                </a:cubicBezTo>
                <a:cubicBezTo>
                  <a:pt x="5075" y="7490"/>
                  <a:pt x="5054" y="7595"/>
                  <a:pt x="5048" y="7715"/>
                </a:cubicBezTo>
                <a:cubicBezTo>
                  <a:pt x="5045" y="7779"/>
                  <a:pt x="5072" y="7829"/>
                  <a:pt x="5112" y="7874"/>
                </a:cubicBezTo>
                <a:cubicBezTo>
                  <a:pt x="5154" y="7921"/>
                  <a:pt x="5196" y="7903"/>
                  <a:pt x="5239" y="7874"/>
                </a:cubicBezTo>
                <a:cubicBezTo>
                  <a:pt x="5273" y="7851"/>
                  <a:pt x="5326" y="7751"/>
                  <a:pt x="5334" y="7715"/>
                </a:cubicBezTo>
                <a:cubicBezTo>
                  <a:pt x="5358" y="7606"/>
                  <a:pt x="5320" y="7497"/>
                  <a:pt x="5302" y="7398"/>
                </a:cubicBezTo>
                <a:cubicBezTo>
                  <a:pt x="5286" y="7309"/>
                  <a:pt x="5310" y="7253"/>
                  <a:pt x="5270" y="7176"/>
                </a:cubicBezTo>
                <a:cubicBezTo>
                  <a:pt x="5233" y="7105"/>
                  <a:pt x="5230" y="7047"/>
                  <a:pt x="5175" y="6985"/>
                </a:cubicBezTo>
                <a:cubicBezTo>
                  <a:pt x="5138" y="6944"/>
                  <a:pt x="5088" y="6948"/>
                  <a:pt x="5048" y="6922"/>
                </a:cubicBezTo>
                <a:cubicBezTo>
                  <a:pt x="5037" y="6911"/>
                  <a:pt x="5027" y="6901"/>
                  <a:pt x="5016" y="6890"/>
                </a:cubicBezTo>
                <a:cubicBezTo>
                  <a:pt x="5082" y="6890"/>
                  <a:pt x="5122" y="6874"/>
                  <a:pt x="5175" y="6858"/>
                </a:cubicBezTo>
                <a:cubicBezTo>
                  <a:pt x="5220" y="6844"/>
                  <a:pt x="5262" y="6840"/>
                  <a:pt x="5302" y="6826"/>
                </a:cubicBezTo>
                <a:cubicBezTo>
                  <a:pt x="5313" y="6826"/>
                  <a:pt x="5323" y="6826"/>
                  <a:pt x="533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Ink 7"/>
          <p:cNvSpPr/>
          <p:nvPr/>
        </p:nvSpPr>
        <p:spPr>
          <a:xfrm>
            <a:off x="2149560" y="2343240"/>
            <a:ext cx="90360" cy="57240"/>
          </a:xfrm>
          <a:custGeom>
            <a:avLst/>
            <a:gdLst/>
            <a:ahLst/>
            <a:rect l="l" t="t" r="r" b="b"/>
            <a:pathLst>
              <a:path w="255" h="160">
                <a:moveTo>
                  <a:pt x="5969" y="6509"/>
                </a:moveTo>
                <a:cubicBezTo>
                  <a:pt x="6033" y="6509"/>
                  <a:pt x="6096" y="6509"/>
                  <a:pt x="6160" y="6509"/>
                </a:cubicBezTo>
              </a:path>
              <a:path w="255" h="160">
                <a:moveTo>
                  <a:pt x="6032" y="6668"/>
                </a:moveTo>
                <a:cubicBezTo>
                  <a:pt x="6091" y="6668"/>
                  <a:pt x="6108" y="6642"/>
                  <a:pt x="6160" y="6636"/>
                </a:cubicBezTo>
                <a:cubicBezTo>
                  <a:pt x="6191" y="6636"/>
                  <a:pt x="6202" y="6636"/>
                  <a:pt x="622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Ink 8"/>
          <p:cNvSpPr/>
          <p:nvPr/>
        </p:nvSpPr>
        <p:spPr>
          <a:xfrm>
            <a:off x="2435400" y="2228760"/>
            <a:ext cx="160200" cy="309600"/>
          </a:xfrm>
          <a:custGeom>
            <a:avLst/>
            <a:gdLst/>
            <a:ahLst/>
            <a:rect l="l" t="t" r="r" b="b"/>
            <a:pathLst>
              <a:path w="445" h="858">
                <a:moveTo>
                  <a:pt x="7048" y="6286"/>
                </a:moveTo>
                <a:cubicBezTo>
                  <a:pt x="7059" y="6265"/>
                  <a:pt x="7069" y="6244"/>
                  <a:pt x="7080" y="6223"/>
                </a:cubicBezTo>
                <a:cubicBezTo>
                  <a:pt x="7042" y="6194"/>
                  <a:pt x="6977" y="6168"/>
                  <a:pt x="6922" y="6191"/>
                </a:cubicBezTo>
                <a:cubicBezTo>
                  <a:pt x="6863" y="6216"/>
                  <a:pt x="6827" y="6305"/>
                  <a:pt x="6794" y="6350"/>
                </a:cubicBezTo>
                <a:cubicBezTo>
                  <a:pt x="6750" y="6409"/>
                  <a:pt x="6739" y="6445"/>
                  <a:pt x="6826" y="6477"/>
                </a:cubicBezTo>
                <a:cubicBezTo>
                  <a:pt x="6858" y="6489"/>
                  <a:pt x="6960" y="6434"/>
                  <a:pt x="6985" y="6414"/>
                </a:cubicBezTo>
                <a:cubicBezTo>
                  <a:pt x="7030" y="6378"/>
                  <a:pt x="7118" y="6343"/>
                  <a:pt x="7144" y="6286"/>
                </a:cubicBezTo>
                <a:cubicBezTo>
                  <a:pt x="7158" y="6255"/>
                  <a:pt x="7167" y="6225"/>
                  <a:pt x="7176" y="6191"/>
                </a:cubicBezTo>
                <a:cubicBezTo>
                  <a:pt x="7137" y="6255"/>
                  <a:pt x="7144" y="6303"/>
                  <a:pt x="7144" y="6382"/>
                </a:cubicBezTo>
                <a:cubicBezTo>
                  <a:pt x="7144" y="6478"/>
                  <a:pt x="7161" y="6548"/>
                  <a:pt x="7176" y="6636"/>
                </a:cubicBezTo>
                <a:cubicBezTo>
                  <a:pt x="7195" y="6746"/>
                  <a:pt x="7129" y="6995"/>
                  <a:pt x="7207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9"/>
          <p:cNvSpPr/>
          <p:nvPr/>
        </p:nvSpPr>
        <p:spPr>
          <a:xfrm>
            <a:off x="2789280" y="2092320"/>
            <a:ext cx="1349280" cy="503280"/>
          </a:xfrm>
          <a:custGeom>
            <a:avLst/>
            <a:gdLst/>
            <a:ahLst/>
            <a:rect l="l" t="t" r="r" b="b"/>
            <a:pathLst>
              <a:path w="3748" h="1398">
                <a:moveTo>
                  <a:pt x="8160" y="6255"/>
                </a:moveTo>
                <a:cubicBezTo>
                  <a:pt x="8171" y="6244"/>
                  <a:pt x="8181" y="6234"/>
                  <a:pt x="8192" y="6223"/>
                </a:cubicBezTo>
                <a:cubicBezTo>
                  <a:pt x="8128" y="6184"/>
                  <a:pt x="8080" y="6191"/>
                  <a:pt x="8001" y="6191"/>
                </a:cubicBezTo>
                <a:cubicBezTo>
                  <a:pt x="7936" y="6191"/>
                  <a:pt x="7881" y="6223"/>
                  <a:pt x="7810" y="6223"/>
                </a:cubicBezTo>
                <a:cubicBezTo>
                  <a:pt x="7800" y="6223"/>
                  <a:pt x="7789" y="6223"/>
                  <a:pt x="7779" y="6223"/>
                </a:cubicBezTo>
                <a:cubicBezTo>
                  <a:pt x="7755" y="6283"/>
                  <a:pt x="7779" y="6332"/>
                  <a:pt x="7779" y="6414"/>
                </a:cubicBezTo>
                <a:cubicBezTo>
                  <a:pt x="7779" y="6470"/>
                  <a:pt x="7798" y="6491"/>
                  <a:pt x="7810" y="6540"/>
                </a:cubicBezTo>
                <a:cubicBezTo>
                  <a:pt x="7872" y="6525"/>
                  <a:pt x="7883" y="6470"/>
                  <a:pt x="7938" y="6445"/>
                </a:cubicBezTo>
                <a:cubicBezTo>
                  <a:pt x="7976" y="6428"/>
                  <a:pt x="8075" y="6434"/>
                  <a:pt x="8096" y="6477"/>
                </a:cubicBezTo>
                <a:cubicBezTo>
                  <a:pt x="8123" y="6531"/>
                  <a:pt x="8139" y="6578"/>
                  <a:pt x="8160" y="6636"/>
                </a:cubicBezTo>
                <a:cubicBezTo>
                  <a:pt x="8186" y="6709"/>
                  <a:pt x="8203" y="6731"/>
                  <a:pt x="8160" y="6794"/>
                </a:cubicBezTo>
                <a:cubicBezTo>
                  <a:pt x="8122" y="6850"/>
                  <a:pt x="8058" y="6892"/>
                  <a:pt x="8001" y="6922"/>
                </a:cubicBezTo>
                <a:cubicBezTo>
                  <a:pt x="7908" y="6971"/>
                  <a:pt x="7887" y="6947"/>
                  <a:pt x="7810" y="6922"/>
                </a:cubicBezTo>
                <a:cubicBezTo>
                  <a:pt x="7768" y="6922"/>
                  <a:pt x="7758" y="6911"/>
                  <a:pt x="7779" y="6858"/>
                </a:cubicBezTo>
              </a:path>
              <a:path w="3748" h="1398">
                <a:moveTo>
                  <a:pt x="8572" y="6223"/>
                </a:moveTo>
                <a:cubicBezTo>
                  <a:pt x="8517" y="6237"/>
                  <a:pt x="8505" y="6269"/>
                  <a:pt x="8477" y="6318"/>
                </a:cubicBezTo>
                <a:cubicBezTo>
                  <a:pt x="8454" y="6358"/>
                  <a:pt x="8377" y="6474"/>
                  <a:pt x="8382" y="6509"/>
                </a:cubicBezTo>
                <a:cubicBezTo>
                  <a:pt x="8392" y="6581"/>
                  <a:pt x="8471" y="6634"/>
                  <a:pt x="8541" y="6604"/>
                </a:cubicBezTo>
                <a:cubicBezTo>
                  <a:pt x="8575" y="6590"/>
                  <a:pt x="8640" y="6533"/>
                  <a:pt x="8668" y="6509"/>
                </a:cubicBezTo>
                <a:cubicBezTo>
                  <a:pt x="8699" y="6481"/>
                  <a:pt x="8758" y="6433"/>
                  <a:pt x="8731" y="6382"/>
                </a:cubicBezTo>
                <a:cubicBezTo>
                  <a:pt x="8711" y="6344"/>
                  <a:pt x="8639" y="6298"/>
                  <a:pt x="8604" y="6286"/>
                </a:cubicBezTo>
                <a:cubicBezTo>
                  <a:pt x="8551" y="6268"/>
                  <a:pt x="8549" y="6318"/>
                  <a:pt x="8541" y="6350"/>
                </a:cubicBezTo>
              </a:path>
              <a:path w="3748" h="1398">
                <a:moveTo>
                  <a:pt x="8636" y="6572"/>
                </a:moveTo>
                <a:cubicBezTo>
                  <a:pt x="8590" y="6618"/>
                  <a:pt x="8580" y="6656"/>
                  <a:pt x="8541" y="6699"/>
                </a:cubicBezTo>
                <a:cubicBezTo>
                  <a:pt x="8497" y="6749"/>
                  <a:pt x="8509" y="6794"/>
                  <a:pt x="8509" y="6858"/>
                </a:cubicBezTo>
                <a:cubicBezTo>
                  <a:pt x="8509" y="6941"/>
                  <a:pt x="8489" y="6995"/>
                  <a:pt x="8572" y="7048"/>
                </a:cubicBezTo>
                <a:cubicBezTo>
                  <a:pt x="8617" y="7076"/>
                  <a:pt x="8696" y="7023"/>
                  <a:pt x="8731" y="7017"/>
                </a:cubicBezTo>
                <a:cubicBezTo>
                  <a:pt x="8818" y="7002"/>
                  <a:pt x="8825" y="6999"/>
                  <a:pt x="8858" y="6922"/>
                </a:cubicBezTo>
                <a:cubicBezTo>
                  <a:pt x="8900" y="6825"/>
                  <a:pt x="8922" y="6811"/>
                  <a:pt x="8922" y="6699"/>
                </a:cubicBezTo>
                <a:cubicBezTo>
                  <a:pt x="8922" y="6615"/>
                  <a:pt x="8917" y="6598"/>
                  <a:pt x="8858" y="6540"/>
                </a:cubicBezTo>
                <a:cubicBezTo>
                  <a:pt x="8823" y="6505"/>
                  <a:pt x="8802" y="6507"/>
                  <a:pt x="8763" y="6477"/>
                </a:cubicBezTo>
              </a:path>
              <a:path w="3748" h="1398">
                <a:moveTo>
                  <a:pt x="9271" y="6286"/>
                </a:moveTo>
                <a:cubicBezTo>
                  <a:pt x="9213" y="6301"/>
                  <a:pt x="9188" y="6348"/>
                  <a:pt x="9176" y="6414"/>
                </a:cubicBezTo>
                <a:cubicBezTo>
                  <a:pt x="9162" y="6492"/>
                  <a:pt x="9126" y="6555"/>
                  <a:pt x="9112" y="6636"/>
                </a:cubicBezTo>
                <a:cubicBezTo>
                  <a:pt x="9096" y="6730"/>
                  <a:pt x="9123" y="6805"/>
                  <a:pt x="9144" y="6890"/>
                </a:cubicBezTo>
                <a:cubicBezTo>
                  <a:pt x="9154" y="6930"/>
                  <a:pt x="9194" y="6997"/>
                  <a:pt x="9239" y="7017"/>
                </a:cubicBezTo>
                <a:cubicBezTo>
                  <a:pt x="9283" y="7037"/>
                  <a:pt x="9366" y="7007"/>
                  <a:pt x="9398" y="6985"/>
                </a:cubicBezTo>
                <a:cubicBezTo>
                  <a:pt x="9466" y="6939"/>
                  <a:pt x="9501" y="6926"/>
                  <a:pt x="9557" y="6858"/>
                </a:cubicBezTo>
                <a:cubicBezTo>
                  <a:pt x="9592" y="6815"/>
                  <a:pt x="9616" y="6757"/>
                  <a:pt x="9620" y="6699"/>
                </a:cubicBezTo>
                <a:cubicBezTo>
                  <a:pt x="9626" y="6610"/>
                  <a:pt x="9639" y="6491"/>
                  <a:pt x="9588" y="6414"/>
                </a:cubicBezTo>
                <a:cubicBezTo>
                  <a:pt x="9541" y="6342"/>
                  <a:pt x="9478" y="6324"/>
                  <a:pt x="9398" y="6318"/>
                </a:cubicBezTo>
                <a:cubicBezTo>
                  <a:pt x="9367" y="6316"/>
                  <a:pt x="9334" y="6318"/>
                  <a:pt x="9303" y="6318"/>
                </a:cubicBezTo>
              </a:path>
              <a:path w="3748" h="1398">
                <a:moveTo>
                  <a:pt x="9874" y="5842"/>
                </a:moveTo>
                <a:cubicBezTo>
                  <a:pt x="9916" y="5898"/>
                  <a:pt x="9906" y="5926"/>
                  <a:pt x="9906" y="6001"/>
                </a:cubicBezTo>
                <a:cubicBezTo>
                  <a:pt x="9906" y="6082"/>
                  <a:pt x="9906" y="6347"/>
                  <a:pt x="9906" y="6318"/>
                </a:cubicBezTo>
              </a:path>
              <a:path w="3748" h="1398">
                <a:moveTo>
                  <a:pt x="10224" y="5874"/>
                </a:moveTo>
                <a:cubicBezTo>
                  <a:pt x="10180" y="5917"/>
                  <a:pt x="10145" y="5941"/>
                  <a:pt x="10096" y="5969"/>
                </a:cubicBezTo>
                <a:cubicBezTo>
                  <a:pt x="10043" y="5999"/>
                  <a:pt x="9990" y="6073"/>
                  <a:pt x="9938" y="6096"/>
                </a:cubicBezTo>
                <a:cubicBezTo>
                  <a:pt x="9905" y="6111"/>
                  <a:pt x="9819" y="6149"/>
                  <a:pt x="9906" y="6191"/>
                </a:cubicBezTo>
                <a:cubicBezTo>
                  <a:pt x="9957" y="6216"/>
                  <a:pt x="10001" y="6223"/>
                  <a:pt x="10065" y="6223"/>
                </a:cubicBezTo>
                <a:cubicBezTo>
                  <a:pt x="10142" y="6223"/>
                  <a:pt x="10197" y="6210"/>
                  <a:pt x="10255" y="6255"/>
                </a:cubicBezTo>
              </a:path>
              <a:path w="3748" h="1398">
                <a:moveTo>
                  <a:pt x="10573" y="5810"/>
                </a:moveTo>
                <a:cubicBezTo>
                  <a:pt x="10562" y="5821"/>
                  <a:pt x="10552" y="5831"/>
                  <a:pt x="10541" y="5842"/>
                </a:cubicBezTo>
                <a:cubicBezTo>
                  <a:pt x="10572" y="5893"/>
                  <a:pt x="10589" y="5969"/>
                  <a:pt x="10604" y="6032"/>
                </a:cubicBezTo>
                <a:cubicBezTo>
                  <a:pt x="10616" y="6082"/>
                  <a:pt x="10636" y="6103"/>
                  <a:pt x="10636" y="6160"/>
                </a:cubicBezTo>
                <a:cubicBezTo>
                  <a:pt x="10636" y="6209"/>
                  <a:pt x="10555" y="6249"/>
                  <a:pt x="10509" y="6223"/>
                </a:cubicBezTo>
                <a:cubicBezTo>
                  <a:pt x="10450" y="6190"/>
                  <a:pt x="10455" y="6189"/>
                  <a:pt x="10414" y="6128"/>
                </a:cubicBezTo>
              </a:path>
              <a:path w="3748" h="1398">
                <a:moveTo>
                  <a:pt x="10350" y="5842"/>
                </a:moveTo>
                <a:cubicBezTo>
                  <a:pt x="10484" y="5842"/>
                  <a:pt x="10607" y="5831"/>
                  <a:pt x="10732" y="5810"/>
                </a:cubicBezTo>
                <a:cubicBezTo>
                  <a:pt x="10806" y="5798"/>
                  <a:pt x="10875" y="5842"/>
                  <a:pt x="10954" y="5842"/>
                </a:cubicBezTo>
                <a:cubicBezTo>
                  <a:pt x="10965" y="5842"/>
                  <a:pt x="10975" y="5842"/>
                  <a:pt x="10986" y="5842"/>
                </a:cubicBezTo>
              </a:path>
              <a:path w="3748" h="1398">
                <a:moveTo>
                  <a:pt x="9842" y="6477"/>
                </a:moveTo>
                <a:cubicBezTo>
                  <a:pt x="9898" y="6519"/>
                  <a:pt x="9991" y="6527"/>
                  <a:pt x="10065" y="6509"/>
                </a:cubicBezTo>
                <a:cubicBezTo>
                  <a:pt x="10182" y="6481"/>
                  <a:pt x="10287" y="6477"/>
                  <a:pt x="10414" y="6477"/>
                </a:cubicBezTo>
                <a:cubicBezTo>
                  <a:pt x="10501" y="6477"/>
                  <a:pt x="10834" y="6435"/>
                  <a:pt x="10858" y="6509"/>
                </a:cubicBezTo>
              </a:path>
              <a:path w="3748" h="1398">
                <a:moveTo>
                  <a:pt x="10128" y="6731"/>
                </a:moveTo>
                <a:cubicBezTo>
                  <a:pt x="10061" y="6748"/>
                  <a:pt x="10065" y="6779"/>
                  <a:pt x="10033" y="6826"/>
                </a:cubicBezTo>
                <a:cubicBezTo>
                  <a:pt x="10004" y="6855"/>
                  <a:pt x="9993" y="6861"/>
                  <a:pt x="10001" y="6890"/>
                </a:cubicBezTo>
                <a:cubicBezTo>
                  <a:pt x="10066" y="6890"/>
                  <a:pt x="10076" y="6876"/>
                  <a:pt x="10128" y="6858"/>
                </a:cubicBezTo>
                <a:cubicBezTo>
                  <a:pt x="10190" y="6837"/>
                  <a:pt x="10185" y="6814"/>
                  <a:pt x="10224" y="6763"/>
                </a:cubicBezTo>
                <a:cubicBezTo>
                  <a:pt x="10203" y="6746"/>
                  <a:pt x="10098" y="6656"/>
                  <a:pt x="10065" y="6699"/>
                </a:cubicBezTo>
                <a:cubicBezTo>
                  <a:pt x="10065" y="6710"/>
                  <a:pt x="10065" y="6720"/>
                  <a:pt x="10065" y="6731"/>
                </a:cubicBezTo>
              </a:path>
              <a:path w="3748" h="1398">
                <a:moveTo>
                  <a:pt x="10541" y="6763"/>
                </a:moveTo>
                <a:cubicBezTo>
                  <a:pt x="10476" y="6714"/>
                  <a:pt x="10471" y="6738"/>
                  <a:pt x="10414" y="6794"/>
                </a:cubicBezTo>
                <a:cubicBezTo>
                  <a:pt x="10364" y="6844"/>
                  <a:pt x="10337" y="6892"/>
                  <a:pt x="10319" y="6953"/>
                </a:cubicBezTo>
                <a:cubicBezTo>
                  <a:pt x="10293" y="7041"/>
                  <a:pt x="10295" y="7041"/>
                  <a:pt x="10319" y="7112"/>
                </a:cubicBezTo>
                <a:cubicBezTo>
                  <a:pt x="10344" y="7186"/>
                  <a:pt x="10362" y="7202"/>
                  <a:pt x="10446" y="7207"/>
                </a:cubicBezTo>
                <a:cubicBezTo>
                  <a:pt x="10545" y="7213"/>
                  <a:pt x="10618" y="7200"/>
                  <a:pt x="10700" y="7176"/>
                </a:cubicBezTo>
                <a:cubicBezTo>
                  <a:pt x="10736" y="7176"/>
                  <a:pt x="10750" y="7173"/>
                  <a:pt x="10763" y="7144"/>
                </a:cubicBezTo>
              </a:path>
              <a:path w="3748" h="1398">
                <a:moveTo>
                  <a:pt x="11430" y="6477"/>
                </a:moveTo>
                <a:cubicBezTo>
                  <a:pt x="11421" y="6511"/>
                  <a:pt x="11383" y="6582"/>
                  <a:pt x="11462" y="6540"/>
                </a:cubicBezTo>
                <a:cubicBezTo>
                  <a:pt x="11494" y="6509"/>
                  <a:pt x="11505" y="6498"/>
                  <a:pt x="11462" y="6477"/>
                </a:cubicBezTo>
                <a:cubicBezTo>
                  <a:pt x="11410" y="6581"/>
                  <a:pt x="11505" y="6517"/>
                  <a:pt x="11494" y="6509"/>
                </a:cubicBezTo>
                <a:cubicBezTo>
                  <a:pt x="11483" y="6509"/>
                  <a:pt x="11473" y="6509"/>
                  <a:pt x="11462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10"/>
          <p:cNvSpPr/>
          <p:nvPr/>
        </p:nvSpPr>
        <p:spPr>
          <a:xfrm>
            <a:off x="4354560" y="2011320"/>
            <a:ext cx="1463760" cy="573120"/>
          </a:xfrm>
          <a:custGeom>
            <a:avLst/>
            <a:gdLst/>
            <a:ahLst/>
            <a:rect l="l" t="t" r="r" b="b"/>
            <a:pathLst>
              <a:path w="4065" h="1589">
                <a:moveTo>
                  <a:pt x="12446" y="5588"/>
                </a:moveTo>
                <a:cubicBezTo>
                  <a:pt x="12413" y="5632"/>
                  <a:pt x="12402" y="5667"/>
                  <a:pt x="12382" y="5715"/>
                </a:cubicBezTo>
                <a:cubicBezTo>
                  <a:pt x="12347" y="5799"/>
                  <a:pt x="12305" y="5910"/>
                  <a:pt x="12287" y="6001"/>
                </a:cubicBezTo>
                <a:cubicBezTo>
                  <a:pt x="12264" y="6120"/>
                  <a:pt x="12232" y="6232"/>
                  <a:pt x="12192" y="6350"/>
                </a:cubicBezTo>
                <a:cubicBezTo>
                  <a:pt x="12150" y="6476"/>
                  <a:pt x="12156" y="6604"/>
                  <a:pt x="12128" y="6731"/>
                </a:cubicBezTo>
                <a:cubicBezTo>
                  <a:pt x="12105" y="6837"/>
                  <a:pt x="12083" y="6943"/>
                  <a:pt x="12128" y="7048"/>
                </a:cubicBezTo>
                <a:cubicBezTo>
                  <a:pt x="12148" y="7095"/>
                  <a:pt x="12242" y="7161"/>
                  <a:pt x="12287" y="7176"/>
                </a:cubicBezTo>
                <a:cubicBezTo>
                  <a:pt x="12325" y="7189"/>
                  <a:pt x="12408" y="7176"/>
                  <a:pt x="12446" y="7176"/>
                </a:cubicBezTo>
              </a:path>
              <a:path w="4065" h="1589">
                <a:moveTo>
                  <a:pt x="12732" y="6191"/>
                </a:moveTo>
                <a:cubicBezTo>
                  <a:pt x="12769" y="6155"/>
                  <a:pt x="12813" y="6111"/>
                  <a:pt x="12859" y="6096"/>
                </a:cubicBezTo>
                <a:cubicBezTo>
                  <a:pt x="12889" y="6086"/>
                  <a:pt x="12947" y="6042"/>
                  <a:pt x="12986" y="6064"/>
                </a:cubicBezTo>
                <a:cubicBezTo>
                  <a:pt x="13069" y="6110"/>
                  <a:pt x="13036" y="6135"/>
                  <a:pt x="13018" y="6191"/>
                </a:cubicBezTo>
                <a:cubicBezTo>
                  <a:pt x="12994" y="6263"/>
                  <a:pt x="12961" y="6289"/>
                  <a:pt x="12922" y="6350"/>
                </a:cubicBezTo>
                <a:cubicBezTo>
                  <a:pt x="12887" y="6405"/>
                  <a:pt x="12818" y="6483"/>
                  <a:pt x="12795" y="6540"/>
                </a:cubicBezTo>
                <a:cubicBezTo>
                  <a:pt x="12771" y="6599"/>
                  <a:pt x="12732" y="6628"/>
                  <a:pt x="12732" y="6699"/>
                </a:cubicBezTo>
                <a:cubicBezTo>
                  <a:pt x="12799" y="6699"/>
                  <a:pt x="12834" y="6674"/>
                  <a:pt x="12890" y="6668"/>
                </a:cubicBezTo>
                <a:cubicBezTo>
                  <a:pt x="12957" y="6661"/>
                  <a:pt x="13020" y="6729"/>
                  <a:pt x="13081" y="6699"/>
                </a:cubicBezTo>
                <a:cubicBezTo>
                  <a:pt x="13081" y="6689"/>
                  <a:pt x="13081" y="6678"/>
                  <a:pt x="13081" y="6668"/>
                </a:cubicBezTo>
              </a:path>
              <a:path w="4065" h="1589">
                <a:moveTo>
                  <a:pt x="13176" y="6160"/>
                </a:moveTo>
                <a:cubicBezTo>
                  <a:pt x="13195" y="6048"/>
                  <a:pt x="13212" y="6110"/>
                  <a:pt x="13303" y="6064"/>
                </a:cubicBezTo>
                <a:cubicBezTo>
                  <a:pt x="13360" y="6035"/>
                  <a:pt x="13357" y="6064"/>
                  <a:pt x="13430" y="6064"/>
                </a:cubicBezTo>
                <a:cubicBezTo>
                  <a:pt x="13476" y="6064"/>
                  <a:pt x="13522" y="6111"/>
                  <a:pt x="13494" y="6160"/>
                </a:cubicBezTo>
                <a:cubicBezTo>
                  <a:pt x="13445" y="6247"/>
                  <a:pt x="13204" y="6277"/>
                  <a:pt x="13272" y="6350"/>
                </a:cubicBezTo>
                <a:cubicBezTo>
                  <a:pt x="13281" y="6359"/>
                  <a:pt x="13398" y="6350"/>
                  <a:pt x="13398" y="6350"/>
                </a:cubicBezTo>
                <a:cubicBezTo>
                  <a:pt x="13461" y="6359"/>
                  <a:pt x="13507" y="6348"/>
                  <a:pt x="13557" y="6382"/>
                </a:cubicBezTo>
                <a:cubicBezTo>
                  <a:pt x="13593" y="6406"/>
                  <a:pt x="13635" y="6497"/>
                  <a:pt x="13621" y="6540"/>
                </a:cubicBezTo>
                <a:cubicBezTo>
                  <a:pt x="13593" y="6624"/>
                  <a:pt x="13558" y="6604"/>
                  <a:pt x="13494" y="6636"/>
                </a:cubicBezTo>
                <a:cubicBezTo>
                  <a:pt x="13456" y="6655"/>
                  <a:pt x="13402" y="6707"/>
                  <a:pt x="13367" y="6636"/>
                </a:cubicBezTo>
                <a:cubicBezTo>
                  <a:pt x="13367" y="6625"/>
                  <a:pt x="13367" y="6615"/>
                  <a:pt x="13367" y="6604"/>
                </a:cubicBezTo>
              </a:path>
              <a:path w="4065" h="1589">
                <a:moveTo>
                  <a:pt x="13906" y="6032"/>
                </a:moveTo>
                <a:cubicBezTo>
                  <a:pt x="13921" y="6010"/>
                  <a:pt x="13990" y="5984"/>
                  <a:pt x="14034" y="5969"/>
                </a:cubicBezTo>
                <a:cubicBezTo>
                  <a:pt x="14087" y="5951"/>
                  <a:pt x="14168" y="5969"/>
                  <a:pt x="14224" y="5969"/>
                </a:cubicBezTo>
                <a:cubicBezTo>
                  <a:pt x="14224" y="6039"/>
                  <a:pt x="14209" y="6060"/>
                  <a:pt x="14192" y="6128"/>
                </a:cubicBezTo>
                <a:cubicBezTo>
                  <a:pt x="14175" y="6197"/>
                  <a:pt x="14165" y="6279"/>
                  <a:pt x="14160" y="6350"/>
                </a:cubicBezTo>
                <a:cubicBezTo>
                  <a:pt x="14155" y="6417"/>
                  <a:pt x="14129" y="6468"/>
                  <a:pt x="14129" y="6540"/>
                </a:cubicBezTo>
                <a:cubicBezTo>
                  <a:pt x="14129" y="6561"/>
                  <a:pt x="14129" y="6696"/>
                  <a:pt x="14129" y="6604"/>
                </a:cubicBezTo>
              </a:path>
              <a:path w="4065" h="1589">
                <a:moveTo>
                  <a:pt x="13875" y="6382"/>
                </a:moveTo>
                <a:cubicBezTo>
                  <a:pt x="13935" y="6357"/>
                  <a:pt x="13968" y="6406"/>
                  <a:pt x="14034" y="6382"/>
                </a:cubicBezTo>
                <a:cubicBezTo>
                  <a:pt x="14114" y="6353"/>
                  <a:pt x="14137" y="6350"/>
                  <a:pt x="14224" y="6350"/>
                </a:cubicBezTo>
                <a:cubicBezTo>
                  <a:pt x="14256" y="6350"/>
                  <a:pt x="14267" y="6350"/>
                  <a:pt x="14288" y="6350"/>
                </a:cubicBezTo>
              </a:path>
              <a:path w="4065" h="1589">
                <a:moveTo>
                  <a:pt x="14351" y="6128"/>
                </a:moveTo>
                <a:cubicBezTo>
                  <a:pt x="14408" y="6085"/>
                  <a:pt x="14451" y="6094"/>
                  <a:pt x="14510" y="6064"/>
                </a:cubicBezTo>
                <a:cubicBezTo>
                  <a:pt x="14559" y="6039"/>
                  <a:pt x="14610" y="5997"/>
                  <a:pt x="14668" y="6064"/>
                </a:cubicBezTo>
                <a:cubicBezTo>
                  <a:pt x="14698" y="6099"/>
                  <a:pt x="14657" y="6198"/>
                  <a:pt x="14637" y="6223"/>
                </a:cubicBezTo>
                <a:cubicBezTo>
                  <a:pt x="14568" y="6311"/>
                  <a:pt x="14528" y="6396"/>
                  <a:pt x="14446" y="6477"/>
                </a:cubicBezTo>
                <a:cubicBezTo>
                  <a:pt x="14386" y="6536"/>
                  <a:pt x="14362" y="6592"/>
                  <a:pt x="14351" y="6668"/>
                </a:cubicBezTo>
                <a:cubicBezTo>
                  <a:pt x="14412" y="6668"/>
                  <a:pt x="14451" y="6718"/>
                  <a:pt x="14510" y="6699"/>
                </a:cubicBezTo>
                <a:cubicBezTo>
                  <a:pt x="14577" y="6677"/>
                  <a:pt x="14620" y="6668"/>
                  <a:pt x="14700" y="6668"/>
                </a:cubicBezTo>
                <a:cubicBezTo>
                  <a:pt x="14756" y="6668"/>
                  <a:pt x="14751" y="6670"/>
                  <a:pt x="14796" y="6636"/>
                </a:cubicBezTo>
              </a:path>
              <a:path w="4065" h="1589">
                <a:moveTo>
                  <a:pt x="15240" y="6032"/>
                </a:moveTo>
                <a:cubicBezTo>
                  <a:pt x="15176" y="5995"/>
                  <a:pt x="15128" y="6001"/>
                  <a:pt x="15050" y="6001"/>
                </a:cubicBezTo>
                <a:cubicBezTo>
                  <a:pt x="15004" y="6001"/>
                  <a:pt x="14877" y="5973"/>
                  <a:pt x="14859" y="6032"/>
                </a:cubicBezTo>
                <a:cubicBezTo>
                  <a:pt x="14840" y="6094"/>
                  <a:pt x="14851" y="6178"/>
                  <a:pt x="14891" y="6223"/>
                </a:cubicBezTo>
                <a:cubicBezTo>
                  <a:pt x="14930" y="6267"/>
                  <a:pt x="14963" y="6255"/>
                  <a:pt x="15018" y="6255"/>
                </a:cubicBezTo>
                <a:cubicBezTo>
                  <a:pt x="15090" y="6255"/>
                  <a:pt x="15154" y="6239"/>
                  <a:pt x="15208" y="6286"/>
                </a:cubicBezTo>
                <a:cubicBezTo>
                  <a:pt x="15266" y="6337"/>
                  <a:pt x="15280" y="6321"/>
                  <a:pt x="15304" y="6414"/>
                </a:cubicBezTo>
                <a:cubicBezTo>
                  <a:pt x="15313" y="6450"/>
                  <a:pt x="15263" y="6515"/>
                  <a:pt x="15240" y="6540"/>
                </a:cubicBezTo>
                <a:cubicBezTo>
                  <a:pt x="15190" y="6596"/>
                  <a:pt x="15136" y="6602"/>
                  <a:pt x="15081" y="6636"/>
                </a:cubicBezTo>
                <a:cubicBezTo>
                  <a:pt x="15022" y="6672"/>
                  <a:pt x="15006" y="6683"/>
                  <a:pt x="14986" y="6604"/>
                </a:cubicBezTo>
              </a:path>
              <a:path w="4065" h="1589">
                <a:moveTo>
                  <a:pt x="15589" y="5969"/>
                </a:moveTo>
                <a:cubicBezTo>
                  <a:pt x="15555" y="5978"/>
                  <a:pt x="15475" y="6020"/>
                  <a:pt x="15462" y="6064"/>
                </a:cubicBezTo>
                <a:cubicBezTo>
                  <a:pt x="15462" y="6117"/>
                  <a:pt x="15462" y="6128"/>
                  <a:pt x="15462" y="6160"/>
                </a:cubicBezTo>
                <a:cubicBezTo>
                  <a:pt x="15531" y="6160"/>
                  <a:pt x="15564" y="6134"/>
                  <a:pt x="15621" y="6128"/>
                </a:cubicBezTo>
                <a:cubicBezTo>
                  <a:pt x="15676" y="6122"/>
                  <a:pt x="15686" y="6047"/>
                  <a:pt x="15653" y="6001"/>
                </a:cubicBezTo>
                <a:cubicBezTo>
                  <a:pt x="15607" y="5936"/>
                  <a:pt x="15584" y="5925"/>
                  <a:pt x="15526" y="5969"/>
                </a:cubicBezTo>
              </a:path>
              <a:path w="4065" h="1589">
                <a:moveTo>
                  <a:pt x="16129" y="6096"/>
                </a:moveTo>
                <a:cubicBezTo>
                  <a:pt x="16100" y="6057"/>
                  <a:pt x="16095" y="6010"/>
                  <a:pt x="16034" y="6032"/>
                </a:cubicBezTo>
                <a:cubicBezTo>
                  <a:pt x="15964" y="6057"/>
                  <a:pt x="15926" y="6110"/>
                  <a:pt x="15875" y="6160"/>
                </a:cubicBezTo>
                <a:cubicBezTo>
                  <a:pt x="15847" y="6187"/>
                  <a:pt x="15791" y="6310"/>
                  <a:pt x="15780" y="6350"/>
                </a:cubicBezTo>
                <a:cubicBezTo>
                  <a:pt x="15769" y="6392"/>
                  <a:pt x="15753" y="6618"/>
                  <a:pt x="15812" y="6636"/>
                </a:cubicBezTo>
                <a:cubicBezTo>
                  <a:pt x="15911" y="6667"/>
                  <a:pt x="16039" y="6627"/>
                  <a:pt x="16129" y="6604"/>
                </a:cubicBezTo>
                <a:cubicBezTo>
                  <a:pt x="16140" y="6604"/>
                  <a:pt x="16150" y="6604"/>
                  <a:pt x="1616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nk 11"/>
          <p:cNvSpPr/>
          <p:nvPr/>
        </p:nvSpPr>
        <p:spPr>
          <a:xfrm>
            <a:off x="5978520" y="1954080"/>
            <a:ext cx="1668600" cy="514440"/>
          </a:xfrm>
          <a:custGeom>
            <a:avLst/>
            <a:gdLst/>
            <a:ahLst/>
            <a:rect l="l" t="t" r="r" b="b"/>
            <a:pathLst>
              <a:path w="4637" h="1430">
                <a:moveTo>
                  <a:pt x="16605" y="6255"/>
                </a:moveTo>
                <a:cubicBezTo>
                  <a:pt x="16654" y="6290"/>
                  <a:pt x="16671" y="6286"/>
                  <a:pt x="16732" y="6286"/>
                </a:cubicBezTo>
                <a:cubicBezTo>
                  <a:pt x="16780" y="6286"/>
                  <a:pt x="16978" y="6286"/>
                  <a:pt x="16923" y="6286"/>
                </a:cubicBezTo>
              </a:path>
              <a:path w="4637" h="1430">
                <a:moveTo>
                  <a:pt x="17399" y="6001"/>
                </a:moveTo>
                <a:cubicBezTo>
                  <a:pt x="17453" y="5947"/>
                  <a:pt x="17474" y="5965"/>
                  <a:pt x="17526" y="5937"/>
                </a:cubicBezTo>
                <a:cubicBezTo>
                  <a:pt x="17597" y="5899"/>
                  <a:pt x="17590" y="5906"/>
                  <a:pt x="17653" y="5969"/>
                </a:cubicBezTo>
                <a:cubicBezTo>
                  <a:pt x="17683" y="5999"/>
                  <a:pt x="17744" y="6043"/>
                  <a:pt x="17716" y="6096"/>
                </a:cubicBezTo>
                <a:cubicBezTo>
                  <a:pt x="17679" y="6166"/>
                  <a:pt x="17630" y="6201"/>
                  <a:pt x="17590" y="6255"/>
                </a:cubicBezTo>
                <a:cubicBezTo>
                  <a:pt x="17539" y="6325"/>
                  <a:pt x="17494" y="6382"/>
                  <a:pt x="17431" y="6445"/>
                </a:cubicBezTo>
                <a:cubicBezTo>
                  <a:pt x="17395" y="6481"/>
                  <a:pt x="17397" y="6500"/>
                  <a:pt x="17367" y="6540"/>
                </a:cubicBezTo>
                <a:cubicBezTo>
                  <a:pt x="17405" y="6569"/>
                  <a:pt x="17471" y="6595"/>
                  <a:pt x="17526" y="6572"/>
                </a:cubicBezTo>
                <a:cubicBezTo>
                  <a:pt x="17594" y="6544"/>
                  <a:pt x="17635" y="6540"/>
                  <a:pt x="17716" y="6540"/>
                </a:cubicBezTo>
                <a:cubicBezTo>
                  <a:pt x="17752" y="6540"/>
                  <a:pt x="17766" y="6537"/>
                  <a:pt x="17780" y="6509"/>
                </a:cubicBezTo>
              </a:path>
              <a:path w="4637" h="1430">
                <a:moveTo>
                  <a:pt x="18002" y="6032"/>
                </a:moveTo>
                <a:cubicBezTo>
                  <a:pt x="18002" y="5975"/>
                  <a:pt x="17999" y="5942"/>
                  <a:pt x="18066" y="5937"/>
                </a:cubicBezTo>
                <a:cubicBezTo>
                  <a:pt x="18146" y="5931"/>
                  <a:pt x="18191" y="5950"/>
                  <a:pt x="18256" y="5969"/>
                </a:cubicBezTo>
                <a:cubicBezTo>
                  <a:pt x="18292" y="5969"/>
                  <a:pt x="18306" y="5972"/>
                  <a:pt x="18320" y="6001"/>
                </a:cubicBezTo>
                <a:cubicBezTo>
                  <a:pt x="18306" y="6057"/>
                  <a:pt x="18267" y="6084"/>
                  <a:pt x="18224" y="6128"/>
                </a:cubicBezTo>
                <a:cubicBezTo>
                  <a:pt x="18171" y="6181"/>
                  <a:pt x="18131" y="6217"/>
                  <a:pt x="18066" y="6255"/>
                </a:cubicBezTo>
                <a:cubicBezTo>
                  <a:pt x="18115" y="6206"/>
                  <a:pt x="18125" y="6191"/>
                  <a:pt x="18193" y="6191"/>
                </a:cubicBezTo>
                <a:cubicBezTo>
                  <a:pt x="18237" y="6191"/>
                  <a:pt x="18287" y="6227"/>
                  <a:pt x="18320" y="6255"/>
                </a:cubicBezTo>
                <a:cubicBezTo>
                  <a:pt x="18363" y="6293"/>
                  <a:pt x="18379" y="6377"/>
                  <a:pt x="18320" y="6414"/>
                </a:cubicBezTo>
                <a:cubicBezTo>
                  <a:pt x="18281" y="6438"/>
                  <a:pt x="18212" y="6472"/>
                  <a:pt x="18161" y="6477"/>
                </a:cubicBezTo>
                <a:cubicBezTo>
                  <a:pt x="18102" y="6483"/>
                  <a:pt x="18049" y="6491"/>
                  <a:pt x="18034" y="6445"/>
                </a:cubicBezTo>
              </a:path>
              <a:path w="4637" h="1430">
                <a:moveTo>
                  <a:pt x="18701" y="5969"/>
                </a:moveTo>
                <a:cubicBezTo>
                  <a:pt x="18729" y="5947"/>
                  <a:pt x="18785" y="5913"/>
                  <a:pt x="18828" y="5937"/>
                </a:cubicBezTo>
                <a:cubicBezTo>
                  <a:pt x="18846" y="5947"/>
                  <a:pt x="18950" y="6026"/>
                  <a:pt x="18955" y="6032"/>
                </a:cubicBezTo>
                <a:cubicBezTo>
                  <a:pt x="18976" y="6058"/>
                  <a:pt x="19016" y="6193"/>
                  <a:pt x="18986" y="6223"/>
                </a:cubicBezTo>
                <a:cubicBezTo>
                  <a:pt x="18954" y="6256"/>
                  <a:pt x="18901" y="6304"/>
                  <a:pt x="18860" y="6350"/>
                </a:cubicBezTo>
                <a:cubicBezTo>
                  <a:pt x="18828" y="6386"/>
                  <a:pt x="18802" y="6385"/>
                  <a:pt x="18764" y="6414"/>
                </a:cubicBezTo>
                <a:cubicBezTo>
                  <a:pt x="18820" y="6455"/>
                  <a:pt x="18850" y="6445"/>
                  <a:pt x="18923" y="6445"/>
                </a:cubicBezTo>
                <a:cubicBezTo>
                  <a:pt x="18973" y="6445"/>
                  <a:pt x="19097" y="6432"/>
                  <a:pt x="19145" y="6414"/>
                </a:cubicBezTo>
                <a:cubicBezTo>
                  <a:pt x="19174" y="6385"/>
                  <a:pt x="19180" y="6374"/>
                  <a:pt x="19209" y="6382"/>
                </a:cubicBezTo>
              </a:path>
              <a:path w="4637" h="1430">
                <a:moveTo>
                  <a:pt x="19431" y="5937"/>
                </a:moveTo>
                <a:cubicBezTo>
                  <a:pt x="19399" y="5969"/>
                  <a:pt x="19345" y="6023"/>
                  <a:pt x="19336" y="6064"/>
                </a:cubicBezTo>
                <a:cubicBezTo>
                  <a:pt x="19321" y="6134"/>
                  <a:pt x="19304" y="6179"/>
                  <a:pt x="19304" y="6255"/>
                </a:cubicBezTo>
                <a:cubicBezTo>
                  <a:pt x="19304" y="6307"/>
                  <a:pt x="19324" y="6380"/>
                  <a:pt x="19399" y="6350"/>
                </a:cubicBezTo>
                <a:cubicBezTo>
                  <a:pt x="19432" y="6337"/>
                  <a:pt x="19546" y="6264"/>
                  <a:pt x="19558" y="6223"/>
                </a:cubicBezTo>
                <a:cubicBezTo>
                  <a:pt x="19574" y="6168"/>
                  <a:pt x="19616" y="6117"/>
                  <a:pt x="19622" y="6064"/>
                </a:cubicBezTo>
                <a:cubicBezTo>
                  <a:pt x="19629" y="5998"/>
                  <a:pt x="19634" y="5942"/>
                  <a:pt x="19558" y="5937"/>
                </a:cubicBezTo>
                <a:cubicBezTo>
                  <a:pt x="19506" y="5933"/>
                  <a:pt x="19451" y="5937"/>
                  <a:pt x="19399" y="5937"/>
                </a:cubicBezTo>
              </a:path>
              <a:path w="4637" h="1430">
                <a:moveTo>
                  <a:pt x="19780" y="5810"/>
                </a:moveTo>
                <a:cubicBezTo>
                  <a:pt x="19735" y="5870"/>
                  <a:pt x="19746" y="5938"/>
                  <a:pt x="19717" y="6001"/>
                </a:cubicBezTo>
                <a:cubicBezTo>
                  <a:pt x="19683" y="6074"/>
                  <a:pt x="19685" y="6133"/>
                  <a:pt x="19685" y="6223"/>
                </a:cubicBezTo>
                <a:cubicBezTo>
                  <a:pt x="19685" y="6313"/>
                  <a:pt x="19682" y="6363"/>
                  <a:pt x="19717" y="6445"/>
                </a:cubicBezTo>
              </a:path>
              <a:path w="4637" h="1430">
                <a:moveTo>
                  <a:pt x="20193" y="5842"/>
                </a:moveTo>
                <a:cubicBezTo>
                  <a:pt x="20147" y="5854"/>
                  <a:pt x="20114" y="5889"/>
                  <a:pt x="20098" y="5937"/>
                </a:cubicBezTo>
                <a:cubicBezTo>
                  <a:pt x="20098" y="5979"/>
                  <a:pt x="20098" y="6000"/>
                  <a:pt x="20098" y="6032"/>
                </a:cubicBezTo>
                <a:cubicBezTo>
                  <a:pt x="20156" y="6032"/>
                  <a:pt x="20181" y="6040"/>
                  <a:pt x="20225" y="6001"/>
                </a:cubicBezTo>
                <a:cubicBezTo>
                  <a:pt x="20274" y="5957"/>
                  <a:pt x="20264" y="5918"/>
                  <a:pt x="20225" y="5874"/>
                </a:cubicBezTo>
                <a:cubicBezTo>
                  <a:pt x="20172" y="5814"/>
                  <a:pt x="20145" y="5846"/>
                  <a:pt x="20130" y="5906"/>
                </a:cubicBezTo>
              </a:path>
              <a:path w="4637" h="1430">
                <a:moveTo>
                  <a:pt x="20701" y="5937"/>
                </a:moveTo>
                <a:cubicBezTo>
                  <a:pt x="20615" y="5937"/>
                  <a:pt x="20577" y="5941"/>
                  <a:pt x="20510" y="6001"/>
                </a:cubicBezTo>
                <a:cubicBezTo>
                  <a:pt x="20444" y="6061"/>
                  <a:pt x="20439" y="6120"/>
                  <a:pt x="20415" y="6191"/>
                </a:cubicBezTo>
                <a:cubicBezTo>
                  <a:pt x="20389" y="6265"/>
                  <a:pt x="20360" y="6288"/>
                  <a:pt x="20415" y="6350"/>
                </a:cubicBezTo>
                <a:cubicBezTo>
                  <a:pt x="20470" y="6412"/>
                  <a:pt x="20493" y="6438"/>
                  <a:pt x="20574" y="6445"/>
                </a:cubicBezTo>
                <a:cubicBezTo>
                  <a:pt x="20652" y="6451"/>
                  <a:pt x="20694" y="6443"/>
                  <a:pt x="20764" y="6414"/>
                </a:cubicBezTo>
              </a:path>
              <a:path w="4637" h="1430">
                <a:moveTo>
                  <a:pt x="20892" y="5429"/>
                </a:moveTo>
                <a:cubicBezTo>
                  <a:pt x="20892" y="5501"/>
                  <a:pt x="20920" y="5522"/>
                  <a:pt x="20955" y="5588"/>
                </a:cubicBezTo>
                <a:cubicBezTo>
                  <a:pt x="21002" y="5678"/>
                  <a:pt x="21073" y="5706"/>
                  <a:pt x="21114" y="5810"/>
                </a:cubicBezTo>
                <a:cubicBezTo>
                  <a:pt x="21151" y="5904"/>
                  <a:pt x="21225" y="6030"/>
                  <a:pt x="21241" y="6128"/>
                </a:cubicBezTo>
                <a:cubicBezTo>
                  <a:pt x="21259" y="6238"/>
                  <a:pt x="21251" y="6378"/>
                  <a:pt x="21209" y="6477"/>
                </a:cubicBezTo>
                <a:cubicBezTo>
                  <a:pt x="21174" y="6560"/>
                  <a:pt x="21178" y="6630"/>
                  <a:pt x="21114" y="6699"/>
                </a:cubicBezTo>
                <a:cubicBezTo>
                  <a:pt x="21061" y="6755"/>
                  <a:pt x="20998" y="6832"/>
                  <a:pt x="20923" y="6858"/>
                </a:cubicBezTo>
                <a:cubicBezTo>
                  <a:pt x="20913" y="6858"/>
                  <a:pt x="20902" y="6858"/>
                  <a:pt x="20892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668760" y="3268800"/>
            <a:ext cx="57240" cy="5688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10192" y="9080"/>
                </a:moveTo>
                <a:cubicBezTo>
                  <a:pt x="10245" y="9080"/>
                  <a:pt x="10297" y="9080"/>
                  <a:pt x="10350" y="9080"/>
                </a:cubicBezTo>
              </a:path>
              <a:path w="159" h="160">
                <a:moveTo>
                  <a:pt x="10192" y="9239"/>
                </a:moveTo>
                <a:cubicBezTo>
                  <a:pt x="10245" y="9239"/>
                  <a:pt x="10297" y="9239"/>
                  <a:pt x="1035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657600" y="3176640"/>
            <a:ext cx="1463760" cy="104760"/>
          </a:xfrm>
          <a:custGeom>
            <a:avLst/>
            <a:gdLst/>
            <a:ahLst/>
            <a:rect l="l" t="t" r="r" b="b"/>
            <a:pathLst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4224" y="8858"/>
                </a:moveTo>
                <a:lnTo>
                  <a:pt x="14224" y="8858"/>
                </a:lnTo>
              </a:path>
              <a:path w="4065" h="287">
                <a:moveTo>
                  <a:pt x="14224" y="8858"/>
                </a:moveTo>
                <a:cubicBezTo>
                  <a:pt x="14224" y="8847"/>
                  <a:pt x="14224" y="8837"/>
                  <a:pt x="14224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246480" y="3303720"/>
            <a:ext cx="263520" cy="422280"/>
          </a:xfrm>
          <a:custGeom>
            <a:avLst/>
            <a:gdLst/>
            <a:ahLst/>
            <a:rect l="l" t="t" r="r" b="b"/>
            <a:pathLst>
              <a:path w="731" h="1175">
                <a:moveTo>
                  <a:pt x="9366" y="9271"/>
                </a:moveTo>
                <a:cubicBezTo>
                  <a:pt x="9345" y="9189"/>
                  <a:pt x="9328" y="9195"/>
                  <a:pt x="9271" y="9208"/>
                </a:cubicBezTo>
                <a:cubicBezTo>
                  <a:pt x="9179" y="9228"/>
                  <a:pt x="9208" y="9219"/>
                  <a:pt x="9144" y="9303"/>
                </a:cubicBezTo>
                <a:cubicBezTo>
                  <a:pt x="9105" y="9355"/>
                  <a:pt x="9041" y="9402"/>
                  <a:pt x="9017" y="9462"/>
                </a:cubicBezTo>
                <a:cubicBezTo>
                  <a:pt x="9017" y="9493"/>
                  <a:pt x="9017" y="9504"/>
                  <a:pt x="9017" y="9525"/>
                </a:cubicBezTo>
                <a:cubicBezTo>
                  <a:pt x="9088" y="9554"/>
                  <a:pt x="9109" y="9531"/>
                  <a:pt x="9176" y="9493"/>
                </a:cubicBezTo>
                <a:cubicBezTo>
                  <a:pt x="9223" y="9466"/>
                  <a:pt x="9310" y="9422"/>
                  <a:pt x="9334" y="9366"/>
                </a:cubicBezTo>
                <a:cubicBezTo>
                  <a:pt x="9345" y="9341"/>
                  <a:pt x="9401" y="9222"/>
                  <a:pt x="9398" y="9208"/>
                </a:cubicBezTo>
                <a:cubicBezTo>
                  <a:pt x="9387" y="9197"/>
                  <a:pt x="9377" y="9187"/>
                  <a:pt x="9366" y="9176"/>
                </a:cubicBezTo>
                <a:cubicBezTo>
                  <a:pt x="9366" y="9350"/>
                  <a:pt x="9355" y="9519"/>
                  <a:pt x="9334" y="9684"/>
                </a:cubicBezTo>
                <a:cubicBezTo>
                  <a:pt x="9319" y="9802"/>
                  <a:pt x="9303" y="9912"/>
                  <a:pt x="9303" y="10033"/>
                </a:cubicBezTo>
                <a:cubicBezTo>
                  <a:pt x="9303" y="10118"/>
                  <a:pt x="9281" y="10220"/>
                  <a:pt x="9334" y="10287"/>
                </a:cubicBezTo>
                <a:cubicBezTo>
                  <a:pt x="9365" y="10326"/>
                  <a:pt x="9407" y="10369"/>
                  <a:pt x="9462" y="10350"/>
                </a:cubicBezTo>
                <a:cubicBezTo>
                  <a:pt x="9504" y="10335"/>
                  <a:pt x="9605" y="10308"/>
                  <a:pt x="9620" y="10255"/>
                </a:cubicBezTo>
                <a:cubicBezTo>
                  <a:pt x="9642" y="10179"/>
                  <a:pt x="9652" y="10119"/>
                  <a:pt x="9652" y="10033"/>
                </a:cubicBezTo>
                <a:cubicBezTo>
                  <a:pt x="9652" y="9946"/>
                  <a:pt x="9639" y="9891"/>
                  <a:pt x="9620" y="9811"/>
                </a:cubicBezTo>
                <a:cubicBezTo>
                  <a:pt x="9599" y="9722"/>
                  <a:pt x="9587" y="9688"/>
                  <a:pt x="9525" y="9620"/>
                </a:cubicBezTo>
                <a:cubicBezTo>
                  <a:pt x="9483" y="9574"/>
                  <a:pt x="9417" y="9571"/>
                  <a:pt x="9366" y="9525"/>
                </a:cubicBezTo>
                <a:cubicBezTo>
                  <a:pt x="9355" y="9514"/>
                  <a:pt x="9345" y="9504"/>
                  <a:pt x="9334" y="9493"/>
                </a:cubicBezTo>
                <a:cubicBezTo>
                  <a:pt x="9442" y="9493"/>
                  <a:pt x="9556" y="9489"/>
                  <a:pt x="9620" y="9462"/>
                </a:cubicBezTo>
                <a:cubicBezTo>
                  <a:pt x="9657" y="9447"/>
                  <a:pt x="9710" y="9440"/>
                  <a:pt x="9747" y="9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15"/>
          <p:cNvSpPr/>
          <p:nvPr/>
        </p:nvSpPr>
        <p:spPr>
          <a:xfrm>
            <a:off x="3954600" y="3176640"/>
            <a:ext cx="823680" cy="287280"/>
          </a:xfrm>
          <a:custGeom>
            <a:avLst/>
            <a:gdLst/>
            <a:ahLst/>
            <a:rect l="l" t="t" r="r" b="b"/>
            <a:pathLst>
              <a:path w="2287" h="795">
                <a:moveTo>
                  <a:pt x="11366" y="8826"/>
                </a:moveTo>
                <a:cubicBezTo>
                  <a:pt x="11306" y="8826"/>
                  <a:pt x="11285" y="8848"/>
                  <a:pt x="11240" y="8858"/>
                </a:cubicBezTo>
                <a:cubicBezTo>
                  <a:pt x="11165" y="8874"/>
                  <a:pt x="11062" y="8858"/>
                  <a:pt x="10986" y="8858"/>
                </a:cubicBezTo>
                <a:cubicBezTo>
                  <a:pt x="10996" y="8899"/>
                  <a:pt x="11034" y="8936"/>
                  <a:pt x="11017" y="8985"/>
                </a:cubicBezTo>
                <a:cubicBezTo>
                  <a:pt x="10993" y="9053"/>
                  <a:pt x="10986" y="9074"/>
                  <a:pt x="10986" y="9144"/>
                </a:cubicBezTo>
                <a:cubicBezTo>
                  <a:pt x="11029" y="9133"/>
                  <a:pt x="11118" y="9122"/>
                  <a:pt x="11144" y="9080"/>
                </a:cubicBezTo>
                <a:cubicBezTo>
                  <a:pt x="11158" y="9058"/>
                  <a:pt x="11223" y="9023"/>
                  <a:pt x="11271" y="9049"/>
                </a:cubicBezTo>
                <a:cubicBezTo>
                  <a:pt x="11329" y="9081"/>
                  <a:pt x="11373" y="9102"/>
                  <a:pt x="11398" y="9176"/>
                </a:cubicBezTo>
                <a:cubicBezTo>
                  <a:pt x="11415" y="9229"/>
                  <a:pt x="11456" y="9300"/>
                  <a:pt x="11430" y="9366"/>
                </a:cubicBezTo>
                <a:cubicBezTo>
                  <a:pt x="11403" y="9437"/>
                  <a:pt x="11362" y="9476"/>
                  <a:pt x="11303" y="9525"/>
                </a:cubicBezTo>
                <a:cubicBezTo>
                  <a:pt x="11248" y="9571"/>
                  <a:pt x="11214" y="9588"/>
                  <a:pt x="11144" y="9588"/>
                </a:cubicBezTo>
                <a:cubicBezTo>
                  <a:pt x="11112" y="9588"/>
                  <a:pt x="11102" y="9588"/>
                  <a:pt x="11112" y="9557"/>
                </a:cubicBezTo>
              </a:path>
              <a:path w="2287" h="795">
                <a:moveTo>
                  <a:pt x="11716" y="9462"/>
                </a:moveTo>
                <a:cubicBezTo>
                  <a:pt x="11680" y="9462"/>
                  <a:pt x="11666" y="9465"/>
                  <a:pt x="11652" y="9493"/>
                </a:cubicBezTo>
                <a:cubicBezTo>
                  <a:pt x="11755" y="9460"/>
                  <a:pt x="11631" y="9483"/>
                  <a:pt x="11652" y="9525"/>
                </a:cubicBezTo>
                <a:cubicBezTo>
                  <a:pt x="11663" y="9525"/>
                  <a:pt x="11673" y="9525"/>
                  <a:pt x="11684" y="9525"/>
                </a:cubicBezTo>
              </a:path>
              <a:path w="2287" h="795">
                <a:moveTo>
                  <a:pt x="11970" y="8954"/>
                </a:moveTo>
                <a:cubicBezTo>
                  <a:pt x="11957" y="9003"/>
                  <a:pt x="11938" y="9023"/>
                  <a:pt x="11938" y="9080"/>
                </a:cubicBezTo>
                <a:cubicBezTo>
                  <a:pt x="11938" y="9155"/>
                  <a:pt x="11906" y="9191"/>
                  <a:pt x="11906" y="9271"/>
                </a:cubicBezTo>
                <a:cubicBezTo>
                  <a:pt x="11906" y="9364"/>
                  <a:pt x="11917" y="9409"/>
                  <a:pt x="11938" y="9493"/>
                </a:cubicBezTo>
                <a:cubicBezTo>
                  <a:pt x="11951" y="9545"/>
                  <a:pt x="11974" y="9582"/>
                  <a:pt x="12033" y="9588"/>
                </a:cubicBezTo>
                <a:cubicBezTo>
                  <a:pt x="12100" y="9595"/>
                  <a:pt x="12115" y="9618"/>
                  <a:pt x="12192" y="9588"/>
                </a:cubicBezTo>
                <a:cubicBezTo>
                  <a:pt x="12275" y="9556"/>
                  <a:pt x="12280" y="9520"/>
                  <a:pt x="12319" y="9462"/>
                </a:cubicBezTo>
                <a:cubicBezTo>
                  <a:pt x="12374" y="9381"/>
                  <a:pt x="12361" y="9354"/>
                  <a:pt x="12351" y="9271"/>
                </a:cubicBezTo>
                <a:cubicBezTo>
                  <a:pt x="12340" y="9172"/>
                  <a:pt x="12359" y="9152"/>
                  <a:pt x="12287" y="9080"/>
                </a:cubicBezTo>
                <a:cubicBezTo>
                  <a:pt x="12230" y="9023"/>
                  <a:pt x="12172" y="8991"/>
                  <a:pt x="12097" y="8985"/>
                </a:cubicBezTo>
                <a:cubicBezTo>
                  <a:pt x="12055" y="8982"/>
                  <a:pt x="12012" y="8985"/>
                  <a:pt x="11970" y="8985"/>
                </a:cubicBezTo>
              </a:path>
              <a:path w="2287" h="795">
                <a:moveTo>
                  <a:pt x="12446" y="8985"/>
                </a:moveTo>
                <a:cubicBezTo>
                  <a:pt x="12465" y="8910"/>
                  <a:pt x="12496" y="8896"/>
                  <a:pt x="12573" y="8890"/>
                </a:cubicBezTo>
                <a:cubicBezTo>
                  <a:pt x="12620" y="8886"/>
                  <a:pt x="12655" y="8948"/>
                  <a:pt x="12668" y="8985"/>
                </a:cubicBezTo>
                <a:cubicBezTo>
                  <a:pt x="12685" y="9036"/>
                  <a:pt x="12651" y="9131"/>
                  <a:pt x="12636" y="9176"/>
                </a:cubicBezTo>
                <a:cubicBezTo>
                  <a:pt x="12613" y="9243"/>
                  <a:pt x="12550" y="9340"/>
                  <a:pt x="12510" y="9398"/>
                </a:cubicBezTo>
                <a:cubicBezTo>
                  <a:pt x="12475" y="9448"/>
                  <a:pt x="12478" y="9462"/>
                  <a:pt x="12478" y="9525"/>
                </a:cubicBezTo>
                <a:cubicBezTo>
                  <a:pt x="12548" y="9525"/>
                  <a:pt x="12568" y="9510"/>
                  <a:pt x="12636" y="9493"/>
                </a:cubicBezTo>
                <a:cubicBezTo>
                  <a:pt x="12693" y="9479"/>
                  <a:pt x="12699" y="9489"/>
                  <a:pt x="12764" y="9462"/>
                </a:cubicBezTo>
              </a:path>
              <a:path w="2287" h="795">
                <a:moveTo>
                  <a:pt x="12890" y="8858"/>
                </a:moveTo>
                <a:cubicBezTo>
                  <a:pt x="12879" y="8917"/>
                  <a:pt x="12848" y="8968"/>
                  <a:pt x="12827" y="9017"/>
                </a:cubicBezTo>
                <a:cubicBezTo>
                  <a:pt x="12792" y="9098"/>
                  <a:pt x="12795" y="9149"/>
                  <a:pt x="12795" y="9239"/>
                </a:cubicBezTo>
                <a:cubicBezTo>
                  <a:pt x="12795" y="9324"/>
                  <a:pt x="12801" y="9339"/>
                  <a:pt x="12859" y="9398"/>
                </a:cubicBezTo>
                <a:cubicBezTo>
                  <a:pt x="12891" y="9431"/>
                  <a:pt x="12969" y="9451"/>
                  <a:pt x="13018" y="9430"/>
                </a:cubicBezTo>
                <a:cubicBezTo>
                  <a:pt x="13081" y="9404"/>
                  <a:pt x="13122" y="9387"/>
                  <a:pt x="13176" y="9334"/>
                </a:cubicBezTo>
                <a:cubicBezTo>
                  <a:pt x="13216" y="9295"/>
                  <a:pt x="13289" y="9241"/>
                  <a:pt x="13272" y="9176"/>
                </a:cubicBezTo>
                <a:cubicBezTo>
                  <a:pt x="13254" y="9109"/>
                  <a:pt x="13248" y="9014"/>
                  <a:pt x="13208" y="8954"/>
                </a:cubicBezTo>
                <a:cubicBezTo>
                  <a:pt x="13179" y="8911"/>
                  <a:pt x="13096" y="8861"/>
                  <a:pt x="13049" y="8858"/>
                </a:cubicBezTo>
                <a:cubicBezTo>
                  <a:pt x="12986" y="8853"/>
                  <a:pt x="12938" y="8841"/>
                  <a:pt x="1292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950000" y="2800440"/>
            <a:ext cx="1804680" cy="639720"/>
          </a:xfrm>
          <a:custGeom>
            <a:avLst/>
            <a:gdLst/>
            <a:ahLst/>
            <a:rect l="l" t="t" r="r" b="b"/>
            <a:pathLst>
              <a:path w="5017" h="1779">
                <a:moveTo>
                  <a:pt x="13811" y="8700"/>
                </a:moveTo>
                <a:cubicBezTo>
                  <a:pt x="13781" y="8772"/>
                  <a:pt x="13752" y="8814"/>
                  <a:pt x="13748" y="8890"/>
                </a:cubicBezTo>
                <a:cubicBezTo>
                  <a:pt x="13738" y="9061"/>
                  <a:pt x="13740" y="9238"/>
                  <a:pt x="13780" y="9398"/>
                </a:cubicBezTo>
                <a:cubicBezTo>
                  <a:pt x="13787" y="9425"/>
                  <a:pt x="13780" y="9465"/>
                  <a:pt x="13780" y="9493"/>
                </a:cubicBezTo>
              </a:path>
              <a:path w="5017" h="1779">
                <a:moveTo>
                  <a:pt x="14224" y="8826"/>
                </a:moveTo>
                <a:cubicBezTo>
                  <a:pt x="14164" y="8875"/>
                  <a:pt x="14096" y="8908"/>
                  <a:pt x="14034" y="8954"/>
                </a:cubicBezTo>
                <a:cubicBezTo>
                  <a:pt x="13979" y="8995"/>
                  <a:pt x="13881" y="9058"/>
                  <a:pt x="13843" y="9112"/>
                </a:cubicBezTo>
                <a:cubicBezTo>
                  <a:pt x="13832" y="9128"/>
                  <a:pt x="13747" y="9241"/>
                  <a:pt x="13780" y="9271"/>
                </a:cubicBezTo>
                <a:cubicBezTo>
                  <a:pt x="13806" y="9295"/>
                  <a:pt x="13905" y="9332"/>
                  <a:pt x="13938" y="9334"/>
                </a:cubicBezTo>
                <a:cubicBezTo>
                  <a:pt x="14008" y="9339"/>
                  <a:pt x="14029" y="9366"/>
                  <a:pt x="14097" y="9366"/>
                </a:cubicBezTo>
                <a:cubicBezTo>
                  <a:pt x="14129" y="9366"/>
                  <a:pt x="14160" y="9366"/>
                  <a:pt x="14192" y="9366"/>
                </a:cubicBezTo>
              </a:path>
              <a:path w="5017" h="1779">
                <a:moveTo>
                  <a:pt x="14637" y="8826"/>
                </a:moveTo>
                <a:cubicBezTo>
                  <a:pt x="14637" y="8931"/>
                  <a:pt x="14651" y="9015"/>
                  <a:pt x="14668" y="9112"/>
                </a:cubicBezTo>
                <a:cubicBezTo>
                  <a:pt x="14682" y="9196"/>
                  <a:pt x="14694" y="9283"/>
                  <a:pt x="14700" y="9366"/>
                </a:cubicBezTo>
                <a:cubicBezTo>
                  <a:pt x="14704" y="9412"/>
                  <a:pt x="14690" y="9460"/>
                  <a:pt x="14668" y="9493"/>
                </a:cubicBezTo>
                <a:cubicBezTo>
                  <a:pt x="14644" y="9529"/>
                  <a:pt x="14553" y="9571"/>
                  <a:pt x="14510" y="9557"/>
                </a:cubicBezTo>
                <a:cubicBezTo>
                  <a:pt x="14482" y="9548"/>
                  <a:pt x="14436" y="9483"/>
                  <a:pt x="14414" y="9462"/>
                </a:cubicBezTo>
              </a:path>
              <a:path w="5017" h="1779">
                <a:moveTo>
                  <a:pt x="14319" y="8922"/>
                </a:moveTo>
                <a:cubicBezTo>
                  <a:pt x="14414" y="8922"/>
                  <a:pt x="14485" y="8921"/>
                  <a:pt x="14573" y="8890"/>
                </a:cubicBezTo>
                <a:cubicBezTo>
                  <a:pt x="14673" y="8855"/>
                  <a:pt x="14786" y="8832"/>
                  <a:pt x="14891" y="8826"/>
                </a:cubicBezTo>
                <a:cubicBezTo>
                  <a:pt x="14962" y="8822"/>
                  <a:pt x="14979" y="8805"/>
                  <a:pt x="15050" y="8795"/>
                </a:cubicBezTo>
              </a:path>
              <a:path w="5017" h="1779">
                <a:moveTo>
                  <a:pt x="16002" y="7969"/>
                </a:moveTo>
                <a:cubicBezTo>
                  <a:pt x="15967" y="8016"/>
                  <a:pt x="15952" y="8050"/>
                  <a:pt x="15907" y="8096"/>
                </a:cubicBezTo>
                <a:cubicBezTo>
                  <a:pt x="15846" y="8158"/>
                  <a:pt x="15769" y="8218"/>
                  <a:pt x="15716" y="8287"/>
                </a:cubicBezTo>
                <a:cubicBezTo>
                  <a:pt x="15646" y="8377"/>
                  <a:pt x="15577" y="8459"/>
                  <a:pt x="15494" y="8541"/>
                </a:cubicBezTo>
                <a:cubicBezTo>
                  <a:pt x="15454" y="8581"/>
                  <a:pt x="15441" y="8614"/>
                  <a:pt x="15399" y="8636"/>
                </a:cubicBezTo>
                <a:cubicBezTo>
                  <a:pt x="15361" y="8585"/>
                  <a:pt x="15393" y="8556"/>
                  <a:pt x="15367" y="8509"/>
                </a:cubicBezTo>
                <a:cubicBezTo>
                  <a:pt x="15344" y="8468"/>
                  <a:pt x="15304" y="8395"/>
                  <a:pt x="15304" y="8446"/>
                </a:cubicBezTo>
                <a:cubicBezTo>
                  <a:pt x="15304" y="8519"/>
                  <a:pt x="15324" y="8577"/>
                  <a:pt x="15335" y="8636"/>
                </a:cubicBezTo>
                <a:cubicBezTo>
                  <a:pt x="15348" y="8701"/>
                  <a:pt x="15320" y="8759"/>
                  <a:pt x="15399" y="8795"/>
                </a:cubicBezTo>
                <a:cubicBezTo>
                  <a:pt x="15418" y="8804"/>
                  <a:pt x="15541" y="8742"/>
                  <a:pt x="15558" y="8731"/>
                </a:cubicBezTo>
                <a:cubicBezTo>
                  <a:pt x="15598" y="8704"/>
                  <a:pt x="15614" y="8697"/>
                  <a:pt x="15653" y="8668"/>
                </a:cubicBezTo>
              </a:path>
              <a:path w="5017" h="1779">
                <a:moveTo>
                  <a:pt x="16574" y="8001"/>
                </a:moveTo>
                <a:cubicBezTo>
                  <a:pt x="16574" y="7933"/>
                  <a:pt x="16558" y="7922"/>
                  <a:pt x="16510" y="7874"/>
                </a:cubicBezTo>
                <a:cubicBezTo>
                  <a:pt x="16470" y="7914"/>
                  <a:pt x="16397" y="7981"/>
                  <a:pt x="16383" y="8033"/>
                </a:cubicBezTo>
                <a:cubicBezTo>
                  <a:pt x="16370" y="8082"/>
                  <a:pt x="16328" y="8200"/>
                  <a:pt x="16351" y="8255"/>
                </a:cubicBezTo>
                <a:cubicBezTo>
                  <a:pt x="16375" y="8311"/>
                  <a:pt x="16428" y="8318"/>
                  <a:pt x="16478" y="8318"/>
                </a:cubicBezTo>
                <a:cubicBezTo>
                  <a:pt x="16539" y="8318"/>
                  <a:pt x="16557" y="8316"/>
                  <a:pt x="16605" y="8287"/>
                </a:cubicBezTo>
              </a:path>
              <a:path w="5017" h="1779">
                <a:moveTo>
                  <a:pt x="16828" y="7969"/>
                </a:moveTo>
                <a:cubicBezTo>
                  <a:pt x="16778" y="7969"/>
                  <a:pt x="16744" y="7976"/>
                  <a:pt x="16732" y="8033"/>
                </a:cubicBezTo>
                <a:cubicBezTo>
                  <a:pt x="16719" y="8094"/>
                  <a:pt x="16700" y="8129"/>
                  <a:pt x="16700" y="8192"/>
                </a:cubicBezTo>
                <a:cubicBezTo>
                  <a:pt x="16700" y="8202"/>
                  <a:pt x="16700" y="8213"/>
                  <a:pt x="16700" y="8223"/>
                </a:cubicBezTo>
                <a:cubicBezTo>
                  <a:pt x="16754" y="8250"/>
                  <a:pt x="16799" y="8239"/>
                  <a:pt x="16828" y="8160"/>
                </a:cubicBezTo>
                <a:cubicBezTo>
                  <a:pt x="16848" y="8106"/>
                  <a:pt x="16871" y="8057"/>
                  <a:pt x="16859" y="8001"/>
                </a:cubicBezTo>
                <a:cubicBezTo>
                  <a:pt x="16849" y="7990"/>
                  <a:pt x="16838" y="7980"/>
                  <a:pt x="16828" y="7969"/>
                </a:cubicBezTo>
                <a:cubicBezTo>
                  <a:pt x="16828" y="8033"/>
                  <a:pt x="16842" y="8044"/>
                  <a:pt x="16859" y="8096"/>
                </a:cubicBezTo>
                <a:cubicBezTo>
                  <a:pt x="16874" y="8143"/>
                  <a:pt x="16865" y="8211"/>
                  <a:pt x="16891" y="8255"/>
                </a:cubicBezTo>
                <a:cubicBezTo>
                  <a:pt x="16920" y="8284"/>
                  <a:pt x="16926" y="8294"/>
                  <a:pt x="16954" y="8287"/>
                </a:cubicBezTo>
              </a:path>
              <a:path w="5017" h="1779">
                <a:moveTo>
                  <a:pt x="17018" y="7906"/>
                </a:moveTo>
                <a:cubicBezTo>
                  <a:pt x="17051" y="7983"/>
                  <a:pt x="17050" y="8012"/>
                  <a:pt x="17050" y="8096"/>
                </a:cubicBezTo>
                <a:cubicBezTo>
                  <a:pt x="17050" y="8138"/>
                  <a:pt x="17050" y="8181"/>
                  <a:pt x="17050" y="8223"/>
                </a:cubicBezTo>
                <a:cubicBezTo>
                  <a:pt x="17059" y="8177"/>
                  <a:pt x="17065" y="8076"/>
                  <a:pt x="17082" y="8033"/>
                </a:cubicBezTo>
                <a:cubicBezTo>
                  <a:pt x="17105" y="7976"/>
                  <a:pt x="17124" y="7972"/>
                  <a:pt x="17177" y="7938"/>
                </a:cubicBezTo>
                <a:cubicBezTo>
                  <a:pt x="17199" y="7991"/>
                  <a:pt x="17234" y="8045"/>
                  <a:pt x="17240" y="8096"/>
                </a:cubicBezTo>
                <a:cubicBezTo>
                  <a:pt x="17243" y="8122"/>
                  <a:pt x="17259" y="8200"/>
                  <a:pt x="17272" y="8223"/>
                </a:cubicBezTo>
                <a:cubicBezTo>
                  <a:pt x="17301" y="8274"/>
                  <a:pt x="17351" y="8255"/>
                  <a:pt x="17399" y="8255"/>
                </a:cubicBezTo>
              </a:path>
              <a:path w="5017" h="1779">
                <a:moveTo>
                  <a:pt x="17812" y="7874"/>
                </a:moveTo>
                <a:cubicBezTo>
                  <a:pt x="17812" y="7939"/>
                  <a:pt x="17798" y="7949"/>
                  <a:pt x="17780" y="8001"/>
                </a:cubicBezTo>
                <a:cubicBezTo>
                  <a:pt x="17768" y="8037"/>
                  <a:pt x="17824" y="8101"/>
                  <a:pt x="17844" y="8128"/>
                </a:cubicBezTo>
                <a:cubicBezTo>
                  <a:pt x="17908" y="8115"/>
                  <a:pt x="17962" y="8104"/>
                  <a:pt x="17970" y="8033"/>
                </a:cubicBezTo>
                <a:cubicBezTo>
                  <a:pt x="17976" y="7981"/>
                  <a:pt x="17993" y="7965"/>
                  <a:pt x="18002" y="7906"/>
                </a:cubicBezTo>
                <a:cubicBezTo>
                  <a:pt x="18002" y="7819"/>
                  <a:pt x="18026" y="8018"/>
                  <a:pt x="18034" y="8033"/>
                </a:cubicBezTo>
                <a:cubicBezTo>
                  <a:pt x="18064" y="8092"/>
                  <a:pt x="18086" y="8183"/>
                  <a:pt x="18098" y="8255"/>
                </a:cubicBezTo>
                <a:cubicBezTo>
                  <a:pt x="18111" y="8333"/>
                  <a:pt x="18105" y="8424"/>
                  <a:pt x="18098" y="8477"/>
                </a:cubicBezTo>
                <a:cubicBezTo>
                  <a:pt x="18093" y="8513"/>
                  <a:pt x="18063" y="8618"/>
                  <a:pt x="18002" y="8604"/>
                </a:cubicBezTo>
                <a:cubicBezTo>
                  <a:pt x="17957" y="8594"/>
                  <a:pt x="17970" y="8539"/>
                  <a:pt x="17970" y="8509"/>
                </a:cubicBezTo>
              </a:path>
              <a:path w="5017" h="1779">
                <a:moveTo>
                  <a:pt x="18256" y="7874"/>
                </a:moveTo>
                <a:cubicBezTo>
                  <a:pt x="18214" y="7929"/>
                  <a:pt x="18199" y="7960"/>
                  <a:pt x="18193" y="8033"/>
                </a:cubicBezTo>
                <a:cubicBezTo>
                  <a:pt x="18189" y="8080"/>
                  <a:pt x="18181" y="8130"/>
                  <a:pt x="18224" y="8160"/>
                </a:cubicBezTo>
                <a:cubicBezTo>
                  <a:pt x="18293" y="8208"/>
                  <a:pt x="18331" y="8176"/>
                  <a:pt x="18352" y="8128"/>
                </a:cubicBezTo>
                <a:cubicBezTo>
                  <a:pt x="18382" y="8061"/>
                  <a:pt x="18391" y="8027"/>
                  <a:pt x="18352" y="7969"/>
                </a:cubicBezTo>
                <a:cubicBezTo>
                  <a:pt x="18318" y="7918"/>
                  <a:pt x="18268" y="7907"/>
                  <a:pt x="18224" y="7874"/>
                </a:cubicBezTo>
              </a:path>
              <a:path w="5017" h="1779">
                <a:moveTo>
                  <a:pt x="18478" y="7906"/>
                </a:moveTo>
                <a:cubicBezTo>
                  <a:pt x="18478" y="7969"/>
                  <a:pt x="18472" y="8007"/>
                  <a:pt x="18510" y="8064"/>
                </a:cubicBezTo>
                <a:cubicBezTo>
                  <a:pt x="18555" y="8130"/>
                  <a:pt x="18596" y="8128"/>
                  <a:pt x="18669" y="8128"/>
                </a:cubicBezTo>
                <a:cubicBezTo>
                  <a:pt x="18723" y="8128"/>
                  <a:pt x="18758" y="8082"/>
                  <a:pt x="18764" y="8033"/>
                </a:cubicBezTo>
                <a:cubicBezTo>
                  <a:pt x="18772" y="7959"/>
                  <a:pt x="18763" y="7929"/>
                  <a:pt x="18732" y="7874"/>
                </a:cubicBezTo>
                <a:cubicBezTo>
                  <a:pt x="18705" y="7818"/>
                  <a:pt x="18701" y="7803"/>
                  <a:pt x="18669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17"/>
          <p:cNvSpPr/>
          <p:nvPr/>
        </p:nvSpPr>
        <p:spPr>
          <a:xfrm>
            <a:off x="6994440" y="2766960"/>
            <a:ext cx="389160" cy="171360"/>
          </a:xfrm>
          <a:custGeom>
            <a:avLst/>
            <a:gdLst/>
            <a:ahLst/>
            <a:rect l="l" t="t" r="r" b="b"/>
            <a:pathLst>
              <a:path w="1080" h="477">
                <a:moveTo>
                  <a:pt x="19685" y="7747"/>
                </a:moveTo>
                <a:cubicBezTo>
                  <a:pt x="19673" y="7712"/>
                  <a:pt x="19613" y="7692"/>
                  <a:pt x="19558" y="7715"/>
                </a:cubicBezTo>
                <a:cubicBezTo>
                  <a:pt x="19541" y="7722"/>
                  <a:pt x="19438" y="7795"/>
                  <a:pt x="19431" y="7810"/>
                </a:cubicBezTo>
                <a:cubicBezTo>
                  <a:pt x="19394" y="7883"/>
                  <a:pt x="19487" y="7909"/>
                  <a:pt x="19526" y="7938"/>
                </a:cubicBezTo>
                <a:cubicBezTo>
                  <a:pt x="19572" y="7972"/>
                  <a:pt x="19660" y="7994"/>
                  <a:pt x="19685" y="8033"/>
                </a:cubicBezTo>
                <a:cubicBezTo>
                  <a:pt x="19714" y="8079"/>
                  <a:pt x="19720" y="8130"/>
                  <a:pt x="19653" y="8160"/>
                </a:cubicBezTo>
                <a:cubicBezTo>
                  <a:pt x="19594" y="8187"/>
                  <a:pt x="19444" y="8168"/>
                  <a:pt x="19431" y="8128"/>
                </a:cubicBezTo>
              </a:path>
              <a:path w="1080" h="477">
                <a:moveTo>
                  <a:pt x="19780" y="8001"/>
                </a:moveTo>
                <a:cubicBezTo>
                  <a:pt x="19821" y="7970"/>
                  <a:pt x="19869" y="7963"/>
                  <a:pt x="19907" y="7938"/>
                </a:cubicBezTo>
                <a:cubicBezTo>
                  <a:pt x="19933" y="7920"/>
                  <a:pt x="20022" y="7866"/>
                  <a:pt x="20034" y="7842"/>
                </a:cubicBezTo>
                <a:cubicBezTo>
                  <a:pt x="20060" y="7789"/>
                  <a:pt x="20058" y="7795"/>
                  <a:pt x="20034" y="7747"/>
                </a:cubicBezTo>
                <a:cubicBezTo>
                  <a:pt x="19985" y="7722"/>
                  <a:pt x="19934" y="7733"/>
                  <a:pt x="19876" y="7779"/>
                </a:cubicBezTo>
                <a:cubicBezTo>
                  <a:pt x="19812" y="7830"/>
                  <a:pt x="19812" y="7859"/>
                  <a:pt x="19812" y="7938"/>
                </a:cubicBezTo>
                <a:cubicBezTo>
                  <a:pt x="19812" y="7984"/>
                  <a:pt x="19819" y="8048"/>
                  <a:pt x="19876" y="8064"/>
                </a:cubicBezTo>
                <a:cubicBezTo>
                  <a:pt x="19917" y="8076"/>
                  <a:pt x="20021" y="8119"/>
                  <a:pt x="20066" y="8096"/>
                </a:cubicBezTo>
                <a:cubicBezTo>
                  <a:pt x="20095" y="8067"/>
                  <a:pt x="20101" y="8056"/>
                  <a:pt x="20130" y="8064"/>
                </a:cubicBezTo>
              </a:path>
              <a:path w="1080" h="477">
                <a:moveTo>
                  <a:pt x="20288" y="7906"/>
                </a:moveTo>
                <a:cubicBezTo>
                  <a:pt x="20349" y="7881"/>
                  <a:pt x="20389" y="7845"/>
                  <a:pt x="20415" y="7810"/>
                </a:cubicBezTo>
                <a:cubicBezTo>
                  <a:pt x="20451" y="7762"/>
                  <a:pt x="20477" y="7729"/>
                  <a:pt x="20510" y="7684"/>
                </a:cubicBezTo>
                <a:cubicBezTo>
                  <a:pt x="20446" y="7684"/>
                  <a:pt x="20403" y="7674"/>
                  <a:pt x="20352" y="7715"/>
                </a:cubicBezTo>
                <a:cubicBezTo>
                  <a:pt x="20289" y="7765"/>
                  <a:pt x="20262" y="7797"/>
                  <a:pt x="20256" y="7874"/>
                </a:cubicBezTo>
                <a:cubicBezTo>
                  <a:pt x="20251" y="7931"/>
                  <a:pt x="20251" y="7959"/>
                  <a:pt x="20288" y="8001"/>
                </a:cubicBezTo>
                <a:cubicBezTo>
                  <a:pt x="20333" y="8051"/>
                  <a:pt x="20402" y="8066"/>
                  <a:pt x="20447" y="8096"/>
                </a:cubicBezTo>
                <a:cubicBezTo>
                  <a:pt x="20458" y="8107"/>
                  <a:pt x="20468" y="8117"/>
                  <a:pt x="20479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18"/>
          <p:cNvSpPr/>
          <p:nvPr/>
        </p:nvSpPr>
        <p:spPr>
          <a:xfrm>
            <a:off x="6035760" y="3165480"/>
            <a:ext cx="274680" cy="195120"/>
          </a:xfrm>
          <a:custGeom>
            <a:avLst/>
            <a:gdLst/>
            <a:ahLst/>
            <a:rect l="l" t="t" r="r" b="b"/>
            <a:pathLst>
              <a:path w="763" h="540">
                <a:moveTo>
                  <a:pt x="16828" y="8826"/>
                </a:moveTo>
                <a:cubicBezTo>
                  <a:pt x="16787" y="8867"/>
                  <a:pt x="16730" y="8917"/>
                  <a:pt x="16764" y="8985"/>
                </a:cubicBezTo>
                <a:cubicBezTo>
                  <a:pt x="16775" y="8996"/>
                  <a:pt x="16785" y="9006"/>
                  <a:pt x="16796" y="9017"/>
                </a:cubicBezTo>
                <a:cubicBezTo>
                  <a:pt x="16846" y="9004"/>
                  <a:pt x="16876" y="8969"/>
                  <a:pt x="16923" y="8954"/>
                </a:cubicBezTo>
                <a:cubicBezTo>
                  <a:pt x="16962" y="8941"/>
                  <a:pt x="17039" y="8879"/>
                  <a:pt x="16986" y="8826"/>
                </a:cubicBezTo>
                <a:cubicBezTo>
                  <a:pt x="16950" y="8790"/>
                  <a:pt x="16854" y="8787"/>
                  <a:pt x="16828" y="8826"/>
                </a:cubicBezTo>
                <a:cubicBezTo>
                  <a:pt x="16828" y="8837"/>
                  <a:pt x="16828" y="8847"/>
                  <a:pt x="16828" y="8858"/>
                </a:cubicBezTo>
              </a:path>
              <a:path w="763" h="540">
                <a:moveTo>
                  <a:pt x="17431" y="8858"/>
                </a:moveTo>
                <a:cubicBezTo>
                  <a:pt x="17379" y="8806"/>
                  <a:pt x="17366" y="8772"/>
                  <a:pt x="17304" y="8826"/>
                </a:cubicBezTo>
                <a:cubicBezTo>
                  <a:pt x="17258" y="8866"/>
                  <a:pt x="17262" y="8934"/>
                  <a:pt x="17240" y="8985"/>
                </a:cubicBezTo>
                <a:cubicBezTo>
                  <a:pt x="17219" y="9033"/>
                  <a:pt x="17164" y="9157"/>
                  <a:pt x="17177" y="9208"/>
                </a:cubicBezTo>
                <a:cubicBezTo>
                  <a:pt x="17192" y="9267"/>
                  <a:pt x="17209" y="9330"/>
                  <a:pt x="17272" y="9334"/>
                </a:cubicBezTo>
                <a:cubicBezTo>
                  <a:pt x="17356" y="9340"/>
                  <a:pt x="17397" y="9324"/>
                  <a:pt x="17462" y="9303"/>
                </a:cubicBezTo>
                <a:cubicBezTo>
                  <a:pt x="17494" y="9303"/>
                  <a:pt x="17505" y="9303"/>
                  <a:pt x="1752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594480" y="3075120"/>
            <a:ext cx="1177920" cy="285480"/>
          </a:xfrm>
          <a:custGeom>
            <a:avLst/>
            <a:gdLst/>
            <a:ahLst/>
            <a:rect l="l" t="t" r="r" b="b"/>
            <a:pathLst>
              <a:path w="3271" h="794">
                <a:moveTo>
                  <a:pt x="18478" y="8954"/>
                </a:moveTo>
                <a:cubicBezTo>
                  <a:pt x="18423" y="8968"/>
                  <a:pt x="18401" y="8978"/>
                  <a:pt x="18383" y="9017"/>
                </a:cubicBezTo>
                <a:cubicBezTo>
                  <a:pt x="18351" y="9088"/>
                  <a:pt x="18326" y="9133"/>
                  <a:pt x="18320" y="9208"/>
                </a:cubicBezTo>
                <a:cubicBezTo>
                  <a:pt x="18314" y="9282"/>
                  <a:pt x="18342" y="9296"/>
                  <a:pt x="18415" y="9303"/>
                </a:cubicBezTo>
                <a:cubicBezTo>
                  <a:pt x="18457" y="9303"/>
                  <a:pt x="18478" y="9303"/>
                  <a:pt x="18510" y="9303"/>
                </a:cubicBezTo>
              </a:path>
              <a:path w="3271" h="794">
                <a:moveTo>
                  <a:pt x="18860" y="8985"/>
                </a:moveTo>
                <a:cubicBezTo>
                  <a:pt x="18776" y="9002"/>
                  <a:pt x="18769" y="9023"/>
                  <a:pt x="18732" y="9080"/>
                </a:cubicBezTo>
                <a:cubicBezTo>
                  <a:pt x="18697" y="9134"/>
                  <a:pt x="18652" y="9180"/>
                  <a:pt x="18637" y="9239"/>
                </a:cubicBezTo>
                <a:cubicBezTo>
                  <a:pt x="18691" y="9279"/>
                  <a:pt x="18710" y="9286"/>
                  <a:pt x="18764" y="9239"/>
                </a:cubicBezTo>
                <a:cubicBezTo>
                  <a:pt x="18824" y="9187"/>
                  <a:pt x="18806" y="9173"/>
                  <a:pt x="18828" y="9112"/>
                </a:cubicBezTo>
                <a:cubicBezTo>
                  <a:pt x="18854" y="9060"/>
                  <a:pt x="18865" y="9052"/>
                  <a:pt x="18860" y="9017"/>
                </a:cubicBezTo>
                <a:cubicBezTo>
                  <a:pt x="18860" y="9111"/>
                  <a:pt x="18866" y="9164"/>
                  <a:pt x="18891" y="9239"/>
                </a:cubicBezTo>
                <a:cubicBezTo>
                  <a:pt x="18911" y="9301"/>
                  <a:pt x="18919" y="9303"/>
                  <a:pt x="18986" y="9303"/>
                </a:cubicBezTo>
              </a:path>
              <a:path w="3271" h="794">
                <a:moveTo>
                  <a:pt x="19018" y="8985"/>
                </a:moveTo>
                <a:cubicBezTo>
                  <a:pt x="19018" y="9044"/>
                  <a:pt x="19044" y="9060"/>
                  <a:pt x="19050" y="9112"/>
                </a:cubicBezTo>
                <a:cubicBezTo>
                  <a:pt x="19057" y="9171"/>
                  <a:pt x="19051" y="9225"/>
                  <a:pt x="19082" y="9271"/>
                </a:cubicBezTo>
                <a:cubicBezTo>
                  <a:pt x="19093" y="9282"/>
                  <a:pt x="19103" y="9292"/>
                  <a:pt x="19114" y="9303"/>
                </a:cubicBezTo>
                <a:cubicBezTo>
                  <a:pt x="19081" y="9225"/>
                  <a:pt x="19082" y="9197"/>
                  <a:pt x="19082" y="9112"/>
                </a:cubicBezTo>
                <a:cubicBezTo>
                  <a:pt x="19082" y="9040"/>
                  <a:pt x="19112" y="8977"/>
                  <a:pt x="19177" y="8954"/>
                </a:cubicBezTo>
                <a:cubicBezTo>
                  <a:pt x="19188" y="8954"/>
                  <a:pt x="19198" y="8954"/>
                  <a:pt x="19209" y="8954"/>
                </a:cubicBezTo>
                <a:cubicBezTo>
                  <a:pt x="19235" y="8989"/>
                  <a:pt x="19286" y="9040"/>
                  <a:pt x="19304" y="9080"/>
                </a:cubicBezTo>
                <a:cubicBezTo>
                  <a:pt x="19318" y="9111"/>
                  <a:pt x="19332" y="9177"/>
                  <a:pt x="19336" y="9208"/>
                </a:cubicBezTo>
                <a:cubicBezTo>
                  <a:pt x="19336" y="9244"/>
                  <a:pt x="19339" y="9257"/>
                  <a:pt x="19368" y="9271"/>
                </a:cubicBezTo>
              </a:path>
              <a:path w="3271" h="794">
                <a:moveTo>
                  <a:pt x="19653" y="8890"/>
                </a:moveTo>
                <a:cubicBezTo>
                  <a:pt x="19643" y="8879"/>
                  <a:pt x="19632" y="8869"/>
                  <a:pt x="19622" y="8858"/>
                </a:cubicBezTo>
                <a:cubicBezTo>
                  <a:pt x="19571" y="8909"/>
                  <a:pt x="19519" y="8918"/>
                  <a:pt x="19494" y="8985"/>
                </a:cubicBezTo>
                <a:cubicBezTo>
                  <a:pt x="19474" y="9040"/>
                  <a:pt x="19463" y="9078"/>
                  <a:pt x="19463" y="9144"/>
                </a:cubicBezTo>
                <a:cubicBezTo>
                  <a:pt x="19463" y="9193"/>
                  <a:pt x="19516" y="9226"/>
                  <a:pt x="19558" y="9239"/>
                </a:cubicBezTo>
                <a:cubicBezTo>
                  <a:pt x="19592" y="9250"/>
                  <a:pt x="19649" y="9239"/>
                  <a:pt x="19685" y="9239"/>
                </a:cubicBezTo>
              </a:path>
              <a:path w="3271" h="794">
                <a:moveTo>
                  <a:pt x="19812" y="9144"/>
                </a:moveTo>
                <a:cubicBezTo>
                  <a:pt x="19866" y="9100"/>
                  <a:pt x="19921" y="9068"/>
                  <a:pt x="19971" y="9017"/>
                </a:cubicBezTo>
                <a:cubicBezTo>
                  <a:pt x="20019" y="8968"/>
                  <a:pt x="20034" y="8958"/>
                  <a:pt x="20034" y="8890"/>
                </a:cubicBezTo>
                <a:cubicBezTo>
                  <a:pt x="19966" y="8890"/>
                  <a:pt x="19955" y="8906"/>
                  <a:pt x="19907" y="8954"/>
                </a:cubicBezTo>
                <a:cubicBezTo>
                  <a:pt x="19869" y="8992"/>
                  <a:pt x="19850" y="9057"/>
                  <a:pt x="19844" y="9112"/>
                </a:cubicBezTo>
                <a:cubicBezTo>
                  <a:pt x="19835" y="9200"/>
                  <a:pt x="19843" y="9187"/>
                  <a:pt x="19907" y="9239"/>
                </a:cubicBezTo>
                <a:cubicBezTo>
                  <a:pt x="19969" y="9290"/>
                  <a:pt x="19971" y="9229"/>
                  <a:pt x="20034" y="9208"/>
                </a:cubicBezTo>
                <a:cubicBezTo>
                  <a:pt x="20045" y="9208"/>
                  <a:pt x="20055" y="9208"/>
                  <a:pt x="20066" y="9208"/>
                </a:cubicBezTo>
              </a:path>
              <a:path w="3271" h="794">
                <a:moveTo>
                  <a:pt x="20256" y="8668"/>
                </a:moveTo>
                <a:cubicBezTo>
                  <a:pt x="20244" y="8717"/>
                  <a:pt x="20242" y="8776"/>
                  <a:pt x="20225" y="8826"/>
                </a:cubicBezTo>
                <a:cubicBezTo>
                  <a:pt x="20189" y="8933"/>
                  <a:pt x="20218" y="8945"/>
                  <a:pt x="20225" y="9049"/>
                </a:cubicBezTo>
                <a:cubicBezTo>
                  <a:pt x="20229" y="9111"/>
                  <a:pt x="20224" y="9185"/>
                  <a:pt x="20256" y="9239"/>
                </a:cubicBezTo>
                <a:cubicBezTo>
                  <a:pt x="20285" y="9268"/>
                  <a:pt x="20291" y="9279"/>
                  <a:pt x="20320" y="9271"/>
                </a:cubicBezTo>
              </a:path>
              <a:path w="3271" h="794">
                <a:moveTo>
                  <a:pt x="20415" y="9144"/>
                </a:moveTo>
                <a:cubicBezTo>
                  <a:pt x="20457" y="9113"/>
                  <a:pt x="20503" y="9105"/>
                  <a:pt x="20542" y="9080"/>
                </a:cubicBezTo>
                <a:cubicBezTo>
                  <a:pt x="20587" y="9050"/>
                  <a:pt x="20631" y="9018"/>
                  <a:pt x="20669" y="8985"/>
                </a:cubicBezTo>
                <a:cubicBezTo>
                  <a:pt x="20721" y="8939"/>
                  <a:pt x="20704" y="8936"/>
                  <a:pt x="20669" y="8890"/>
                </a:cubicBezTo>
                <a:cubicBezTo>
                  <a:pt x="20613" y="8904"/>
                  <a:pt x="20557" y="8943"/>
                  <a:pt x="20510" y="8985"/>
                </a:cubicBezTo>
                <a:cubicBezTo>
                  <a:pt x="20464" y="9026"/>
                  <a:pt x="20452" y="9085"/>
                  <a:pt x="20447" y="9144"/>
                </a:cubicBezTo>
                <a:cubicBezTo>
                  <a:pt x="20445" y="9172"/>
                  <a:pt x="20482" y="9257"/>
                  <a:pt x="20510" y="9271"/>
                </a:cubicBezTo>
                <a:cubicBezTo>
                  <a:pt x="20548" y="9290"/>
                  <a:pt x="20653" y="9323"/>
                  <a:pt x="20701" y="9303"/>
                </a:cubicBezTo>
                <a:cubicBezTo>
                  <a:pt x="20712" y="9292"/>
                  <a:pt x="20722" y="9282"/>
                  <a:pt x="20733" y="9271"/>
                </a:cubicBezTo>
              </a:path>
              <a:path w="3271" h="794">
                <a:moveTo>
                  <a:pt x="21018" y="8985"/>
                </a:moveTo>
                <a:cubicBezTo>
                  <a:pt x="21018" y="8949"/>
                  <a:pt x="21015" y="8936"/>
                  <a:pt x="20987" y="8922"/>
                </a:cubicBezTo>
                <a:cubicBezTo>
                  <a:pt x="20940" y="8957"/>
                  <a:pt x="20906" y="8971"/>
                  <a:pt x="20860" y="9017"/>
                </a:cubicBezTo>
                <a:cubicBezTo>
                  <a:pt x="20819" y="9058"/>
                  <a:pt x="20770" y="9121"/>
                  <a:pt x="20764" y="9176"/>
                </a:cubicBezTo>
                <a:cubicBezTo>
                  <a:pt x="20757" y="9235"/>
                  <a:pt x="20767" y="9264"/>
                  <a:pt x="20828" y="9271"/>
                </a:cubicBezTo>
                <a:cubicBezTo>
                  <a:pt x="20885" y="9277"/>
                  <a:pt x="20906" y="9251"/>
                  <a:pt x="20955" y="9239"/>
                </a:cubicBezTo>
              </a:path>
              <a:path w="3271" h="794">
                <a:moveTo>
                  <a:pt x="20987" y="8668"/>
                </a:moveTo>
                <a:cubicBezTo>
                  <a:pt x="20987" y="8858"/>
                  <a:pt x="20968" y="9069"/>
                  <a:pt x="21018" y="9239"/>
                </a:cubicBezTo>
                <a:cubicBezTo>
                  <a:pt x="21033" y="9290"/>
                  <a:pt x="21029" y="9290"/>
                  <a:pt x="21082" y="9303"/>
                </a:cubicBezTo>
              </a:path>
              <a:path w="3271" h="794">
                <a:moveTo>
                  <a:pt x="21272" y="8700"/>
                </a:moveTo>
                <a:cubicBezTo>
                  <a:pt x="21281" y="8665"/>
                  <a:pt x="21323" y="8585"/>
                  <a:pt x="21368" y="8572"/>
                </a:cubicBezTo>
                <a:cubicBezTo>
                  <a:pt x="21422" y="8556"/>
                  <a:pt x="21468" y="8541"/>
                  <a:pt x="21526" y="8541"/>
                </a:cubicBezTo>
                <a:cubicBezTo>
                  <a:pt x="21594" y="8541"/>
                  <a:pt x="21590" y="8582"/>
                  <a:pt x="21590" y="8636"/>
                </a:cubicBezTo>
                <a:cubicBezTo>
                  <a:pt x="21590" y="8699"/>
                  <a:pt x="21596" y="8738"/>
                  <a:pt x="21558" y="8795"/>
                </a:cubicBezTo>
                <a:cubicBezTo>
                  <a:pt x="21527" y="8841"/>
                  <a:pt x="21470" y="8882"/>
                  <a:pt x="21431" y="8922"/>
                </a:cubicBezTo>
                <a:cubicBezTo>
                  <a:pt x="21394" y="8960"/>
                  <a:pt x="21380" y="8979"/>
                  <a:pt x="21368" y="9017"/>
                </a:cubicBezTo>
              </a:path>
              <a:path w="3271" h="794">
                <a:moveTo>
                  <a:pt x="21368" y="9271"/>
                </a:moveTo>
                <a:cubicBezTo>
                  <a:pt x="21357" y="9271"/>
                  <a:pt x="21347" y="9271"/>
                  <a:pt x="21336" y="9271"/>
                </a:cubicBezTo>
                <a:cubicBezTo>
                  <a:pt x="21346" y="9312"/>
                  <a:pt x="21392" y="9382"/>
                  <a:pt x="21431" y="9303"/>
                </a:cubicBezTo>
                <a:cubicBezTo>
                  <a:pt x="21457" y="9251"/>
                  <a:pt x="21344" y="9261"/>
                  <a:pt x="21336" y="9271"/>
                </a:cubicBezTo>
                <a:cubicBezTo>
                  <a:pt x="21336" y="9282"/>
                  <a:pt x="21336" y="9292"/>
                  <a:pt x="2133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Ink 2"/>
          <p:cNvSpPr/>
          <p:nvPr/>
        </p:nvSpPr>
        <p:spPr>
          <a:xfrm>
            <a:off x="1622520" y="1805040"/>
            <a:ext cx="195120" cy="434880"/>
          </a:xfrm>
          <a:custGeom>
            <a:avLst/>
            <a:gdLst/>
            <a:ahLst/>
            <a:rect l="l" t="t" r="r" b="b"/>
            <a:pathLst>
              <a:path w="541" h="1208">
                <a:moveTo>
                  <a:pt x="4508" y="5016"/>
                </a:moveTo>
                <a:cubicBezTo>
                  <a:pt x="4554" y="5093"/>
                  <a:pt x="4540" y="5175"/>
                  <a:pt x="4540" y="5270"/>
                </a:cubicBezTo>
                <a:cubicBezTo>
                  <a:pt x="4540" y="5344"/>
                  <a:pt x="4556" y="5449"/>
                  <a:pt x="4572" y="5524"/>
                </a:cubicBezTo>
                <a:cubicBezTo>
                  <a:pt x="4595" y="5631"/>
                  <a:pt x="4631" y="5732"/>
                  <a:pt x="4636" y="5842"/>
                </a:cubicBezTo>
                <a:cubicBezTo>
                  <a:pt x="4641" y="5958"/>
                  <a:pt x="4636" y="6075"/>
                  <a:pt x="4636" y="6191"/>
                </a:cubicBezTo>
              </a:path>
              <a:path w="541" h="1208">
                <a:moveTo>
                  <a:pt x="4604" y="5874"/>
                </a:moveTo>
                <a:cubicBezTo>
                  <a:pt x="4604" y="5822"/>
                  <a:pt x="4623" y="5749"/>
                  <a:pt x="4667" y="5715"/>
                </a:cubicBezTo>
                <a:cubicBezTo>
                  <a:pt x="4694" y="5694"/>
                  <a:pt x="4758" y="5681"/>
                  <a:pt x="4794" y="5652"/>
                </a:cubicBezTo>
                <a:cubicBezTo>
                  <a:pt x="4844" y="5688"/>
                  <a:pt x="4905" y="5683"/>
                  <a:pt x="4953" y="5715"/>
                </a:cubicBezTo>
                <a:cubicBezTo>
                  <a:pt x="4986" y="5737"/>
                  <a:pt x="5041" y="5808"/>
                  <a:pt x="5048" y="5842"/>
                </a:cubicBezTo>
                <a:cubicBezTo>
                  <a:pt x="5063" y="5913"/>
                  <a:pt x="5046" y="5949"/>
                  <a:pt x="5016" y="6001"/>
                </a:cubicBezTo>
                <a:cubicBezTo>
                  <a:pt x="4960" y="6100"/>
                  <a:pt x="4985" y="6090"/>
                  <a:pt x="4890" y="6160"/>
                </a:cubicBezTo>
                <a:cubicBezTo>
                  <a:pt x="4832" y="6203"/>
                  <a:pt x="4774" y="6217"/>
                  <a:pt x="4699" y="6223"/>
                </a:cubicBezTo>
                <a:cubicBezTo>
                  <a:pt x="4634" y="6228"/>
                  <a:pt x="4630" y="6225"/>
                  <a:pt x="4604" y="6191"/>
                </a:cubicBezTo>
                <a:cubicBezTo>
                  <a:pt x="4593" y="6181"/>
                  <a:pt x="4583" y="6170"/>
                  <a:pt x="4572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3"/>
          <p:cNvSpPr/>
          <p:nvPr/>
        </p:nvSpPr>
        <p:spPr>
          <a:xfrm>
            <a:off x="2343240" y="1817640"/>
            <a:ext cx="1646280" cy="492120"/>
          </a:xfrm>
          <a:custGeom>
            <a:avLst/>
            <a:gdLst/>
            <a:ahLst/>
            <a:rect l="l" t="t" r="r" b="b"/>
            <a:pathLst>
              <a:path w="4573" h="1367">
                <a:moveTo>
                  <a:pt x="6826" y="5239"/>
                </a:moveTo>
                <a:cubicBezTo>
                  <a:pt x="6811" y="5312"/>
                  <a:pt x="6810" y="5388"/>
                  <a:pt x="6794" y="5461"/>
                </a:cubicBezTo>
                <a:cubicBezTo>
                  <a:pt x="6767" y="5588"/>
                  <a:pt x="6735" y="5719"/>
                  <a:pt x="6699" y="5842"/>
                </a:cubicBezTo>
                <a:cubicBezTo>
                  <a:pt x="6664" y="5960"/>
                  <a:pt x="6620" y="6078"/>
                  <a:pt x="6572" y="6191"/>
                </a:cubicBezTo>
                <a:cubicBezTo>
                  <a:pt x="6559" y="6221"/>
                  <a:pt x="6469" y="6359"/>
                  <a:pt x="6540" y="6286"/>
                </a:cubicBezTo>
              </a:path>
              <a:path w="4573" h="1367">
                <a:moveTo>
                  <a:pt x="6826" y="5239"/>
                </a:moveTo>
                <a:cubicBezTo>
                  <a:pt x="6870" y="5282"/>
                  <a:pt x="6912" y="5363"/>
                  <a:pt x="6953" y="5398"/>
                </a:cubicBezTo>
                <a:cubicBezTo>
                  <a:pt x="7031" y="5465"/>
                  <a:pt x="7097" y="5541"/>
                  <a:pt x="7176" y="5620"/>
                </a:cubicBezTo>
                <a:cubicBezTo>
                  <a:pt x="7247" y="5691"/>
                  <a:pt x="7342" y="5772"/>
                  <a:pt x="7398" y="5842"/>
                </a:cubicBezTo>
                <a:cubicBezTo>
                  <a:pt x="7439" y="5894"/>
                  <a:pt x="7539" y="6000"/>
                  <a:pt x="7556" y="6064"/>
                </a:cubicBezTo>
                <a:cubicBezTo>
                  <a:pt x="7568" y="6111"/>
                  <a:pt x="7604" y="6203"/>
                  <a:pt x="7588" y="6255"/>
                </a:cubicBezTo>
                <a:cubicBezTo>
                  <a:pt x="7566" y="6327"/>
                  <a:pt x="7484" y="6316"/>
                  <a:pt x="7430" y="6318"/>
                </a:cubicBezTo>
                <a:cubicBezTo>
                  <a:pt x="7360" y="6321"/>
                  <a:pt x="7262" y="6281"/>
                  <a:pt x="7207" y="6286"/>
                </a:cubicBezTo>
                <a:cubicBezTo>
                  <a:pt x="7079" y="6297"/>
                  <a:pt x="6964" y="6286"/>
                  <a:pt x="6826" y="6286"/>
                </a:cubicBezTo>
                <a:cubicBezTo>
                  <a:pt x="6731" y="6286"/>
                  <a:pt x="6649" y="6270"/>
                  <a:pt x="6572" y="6255"/>
                </a:cubicBezTo>
                <a:cubicBezTo>
                  <a:pt x="6502" y="6241"/>
                  <a:pt x="6520" y="6287"/>
                  <a:pt x="6540" y="6223"/>
                </a:cubicBezTo>
              </a:path>
              <a:path w="4573" h="1367">
                <a:moveTo>
                  <a:pt x="7874" y="5334"/>
                </a:moveTo>
                <a:cubicBezTo>
                  <a:pt x="7889" y="5406"/>
                  <a:pt x="7929" y="5484"/>
                  <a:pt x="7938" y="5556"/>
                </a:cubicBezTo>
                <a:cubicBezTo>
                  <a:pt x="7954" y="5680"/>
                  <a:pt x="7956" y="5815"/>
                  <a:pt x="7969" y="5937"/>
                </a:cubicBezTo>
                <a:cubicBezTo>
                  <a:pt x="7982" y="6060"/>
                  <a:pt x="7976" y="6169"/>
                  <a:pt x="8001" y="6286"/>
                </a:cubicBezTo>
                <a:cubicBezTo>
                  <a:pt x="8014" y="6344"/>
                  <a:pt x="8002" y="6363"/>
                  <a:pt x="8033" y="6414"/>
                </a:cubicBezTo>
              </a:path>
              <a:path w="4573" h="1367">
                <a:moveTo>
                  <a:pt x="8287" y="5302"/>
                </a:moveTo>
                <a:cubicBezTo>
                  <a:pt x="8332" y="5379"/>
                  <a:pt x="8318" y="5461"/>
                  <a:pt x="8318" y="5556"/>
                </a:cubicBezTo>
                <a:cubicBezTo>
                  <a:pt x="8318" y="5688"/>
                  <a:pt x="8345" y="5808"/>
                  <a:pt x="8350" y="5937"/>
                </a:cubicBezTo>
                <a:cubicBezTo>
                  <a:pt x="8355" y="6054"/>
                  <a:pt x="8361" y="6156"/>
                  <a:pt x="8350" y="6255"/>
                </a:cubicBezTo>
                <a:cubicBezTo>
                  <a:pt x="8348" y="6272"/>
                  <a:pt x="8350" y="6485"/>
                  <a:pt x="8350" y="6318"/>
                </a:cubicBezTo>
              </a:path>
              <a:path w="4573" h="1367">
                <a:moveTo>
                  <a:pt x="7906" y="5937"/>
                </a:moveTo>
                <a:cubicBezTo>
                  <a:pt x="7895" y="5927"/>
                  <a:pt x="7885" y="5916"/>
                  <a:pt x="7874" y="5906"/>
                </a:cubicBezTo>
                <a:cubicBezTo>
                  <a:pt x="7948" y="5874"/>
                  <a:pt x="7982" y="5874"/>
                  <a:pt x="8064" y="5874"/>
                </a:cubicBezTo>
                <a:cubicBezTo>
                  <a:pt x="8154" y="5874"/>
                  <a:pt x="8213" y="5864"/>
                  <a:pt x="8287" y="5842"/>
                </a:cubicBezTo>
                <a:cubicBezTo>
                  <a:pt x="8332" y="5828"/>
                  <a:pt x="8398" y="5842"/>
                  <a:pt x="8446" y="5842"/>
                </a:cubicBezTo>
              </a:path>
              <a:path w="4573" h="1367">
                <a:moveTo>
                  <a:pt x="8890" y="5683"/>
                </a:moveTo>
                <a:cubicBezTo>
                  <a:pt x="8985" y="5683"/>
                  <a:pt x="9103" y="5660"/>
                  <a:pt x="9176" y="5715"/>
                </a:cubicBezTo>
              </a:path>
              <a:path w="4573" h="1367">
                <a:moveTo>
                  <a:pt x="8985" y="5906"/>
                </a:moveTo>
                <a:cubicBezTo>
                  <a:pt x="8975" y="5916"/>
                  <a:pt x="8964" y="5927"/>
                  <a:pt x="8954" y="5937"/>
                </a:cubicBezTo>
                <a:cubicBezTo>
                  <a:pt x="8993" y="5927"/>
                  <a:pt x="9075" y="5922"/>
                  <a:pt x="9112" y="5906"/>
                </a:cubicBezTo>
                <a:cubicBezTo>
                  <a:pt x="9148" y="5870"/>
                  <a:pt x="9165" y="5859"/>
                  <a:pt x="9208" y="5874"/>
                </a:cubicBezTo>
              </a:path>
              <a:path w="4573" h="1367">
                <a:moveTo>
                  <a:pt x="10414" y="5144"/>
                </a:moveTo>
                <a:cubicBezTo>
                  <a:pt x="10404" y="5106"/>
                  <a:pt x="10392" y="5086"/>
                  <a:pt x="10382" y="5048"/>
                </a:cubicBezTo>
                <a:cubicBezTo>
                  <a:pt x="10328" y="5048"/>
                  <a:pt x="10219" y="5087"/>
                  <a:pt x="10192" y="5112"/>
                </a:cubicBezTo>
                <a:cubicBezTo>
                  <a:pt x="10128" y="5172"/>
                  <a:pt x="10043" y="5290"/>
                  <a:pt x="10001" y="5366"/>
                </a:cubicBezTo>
                <a:cubicBezTo>
                  <a:pt x="9973" y="5417"/>
                  <a:pt x="9935" y="5514"/>
                  <a:pt x="10001" y="5556"/>
                </a:cubicBezTo>
                <a:cubicBezTo>
                  <a:pt x="10060" y="5593"/>
                  <a:pt x="10145" y="5518"/>
                  <a:pt x="10192" y="5493"/>
                </a:cubicBezTo>
                <a:cubicBezTo>
                  <a:pt x="10234" y="5471"/>
                  <a:pt x="10366" y="5411"/>
                  <a:pt x="10382" y="5366"/>
                </a:cubicBezTo>
                <a:cubicBezTo>
                  <a:pt x="10404" y="5304"/>
                  <a:pt x="10393" y="5238"/>
                  <a:pt x="10414" y="5175"/>
                </a:cubicBezTo>
                <a:cubicBezTo>
                  <a:pt x="10440" y="5123"/>
                  <a:pt x="10464" y="5102"/>
                  <a:pt x="10414" y="5112"/>
                </a:cubicBezTo>
                <a:cubicBezTo>
                  <a:pt x="10414" y="5237"/>
                  <a:pt x="10428" y="5340"/>
                  <a:pt x="10446" y="5461"/>
                </a:cubicBezTo>
                <a:cubicBezTo>
                  <a:pt x="10467" y="5609"/>
                  <a:pt x="10454" y="5763"/>
                  <a:pt x="10478" y="5906"/>
                </a:cubicBezTo>
                <a:cubicBezTo>
                  <a:pt x="10488" y="5966"/>
                  <a:pt x="10504" y="6033"/>
                  <a:pt x="10573" y="6064"/>
                </a:cubicBezTo>
                <a:cubicBezTo>
                  <a:pt x="10611" y="6081"/>
                  <a:pt x="10713" y="6070"/>
                  <a:pt x="10732" y="6032"/>
                </a:cubicBezTo>
                <a:cubicBezTo>
                  <a:pt x="10757" y="5982"/>
                  <a:pt x="10763" y="5936"/>
                  <a:pt x="10763" y="5874"/>
                </a:cubicBezTo>
                <a:cubicBezTo>
                  <a:pt x="10763" y="5823"/>
                  <a:pt x="10729" y="5727"/>
                  <a:pt x="10700" y="5683"/>
                </a:cubicBezTo>
                <a:cubicBezTo>
                  <a:pt x="10661" y="5625"/>
                  <a:pt x="10591" y="5601"/>
                  <a:pt x="10541" y="5556"/>
                </a:cubicBezTo>
                <a:cubicBezTo>
                  <a:pt x="10509" y="5524"/>
                  <a:pt x="10499" y="5514"/>
                  <a:pt x="10478" y="5493"/>
                </a:cubicBezTo>
                <a:cubicBezTo>
                  <a:pt x="10593" y="5493"/>
                  <a:pt x="10697" y="5494"/>
                  <a:pt x="10795" y="5461"/>
                </a:cubicBezTo>
                <a:cubicBezTo>
                  <a:pt x="10828" y="5450"/>
                  <a:pt x="10887" y="5461"/>
                  <a:pt x="10922" y="5461"/>
                </a:cubicBezTo>
              </a:path>
              <a:path w="4573" h="1367">
                <a:moveTo>
                  <a:pt x="9525" y="6350"/>
                </a:moveTo>
                <a:cubicBezTo>
                  <a:pt x="9581" y="6308"/>
                  <a:pt x="9609" y="6318"/>
                  <a:pt x="9684" y="6318"/>
                </a:cubicBezTo>
                <a:cubicBezTo>
                  <a:pt x="9837" y="6318"/>
                  <a:pt x="10015" y="6357"/>
                  <a:pt x="10160" y="6350"/>
                </a:cubicBezTo>
                <a:cubicBezTo>
                  <a:pt x="10326" y="6342"/>
                  <a:pt x="10507" y="6302"/>
                  <a:pt x="10668" y="6318"/>
                </a:cubicBezTo>
                <a:cubicBezTo>
                  <a:pt x="10785" y="6329"/>
                  <a:pt x="10894" y="6350"/>
                  <a:pt x="11017" y="6350"/>
                </a:cubicBezTo>
                <a:cubicBezTo>
                  <a:pt x="11076" y="6350"/>
                  <a:pt x="11086" y="6327"/>
                  <a:pt x="11049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4"/>
          <p:cNvSpPr/>
          <p:nvPr/>
        </p:nvSpPr>
        <p:spPr>
          <a:xfrm>
            <a:off x="3578400" y="24112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9938" y="6731"/>
                </a:moveTo>
                <a:cubicBezTo>
                  <a:pt x="9938" y="6720"/>
                  <a:pt x="9938" y="6710"/>
                  <a:pt x="9938" y="6699"/>
                </a:cubicBezTo>
              </a:path>
              <a:path w="1" h="33">
                <a:moveTo>
                  <a:pt x="9938" y="6731"/>
                </a:moveTo>
                <a:lnTo>
                  <a:pt x="9938" y="67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5"/>
          <p:cNvSpPr/>
          <p:nvPr/>
        </p:nvSpPr>
        <p:spPr>
          <a:xfrm>
            <a:off x="3589200" y="2389320"/>
            <a:ext cx="800280" cy="250560"/>
          </a:xfrm>
          <a:custGeom>
            <a:avLst/>
            <a:gdLst/>
            <a:ahLst/>
            <a:rect l="l" t="t" r="r" b="b"/>
            <a:pathLst>
              <a:path w="2223" h="699">
                <a:moveTo>
                  <a:pt x="9970" y="6763"/>
                </a:moveTo>
                <a:cubicBezTo>
                  <a:pt x="9970" y="6848"/>
                  <a:pt x="9988" y="6906"/>
                  <a:pt x="10001" y="6985"/>
                </a:cubicBezTo>
                <a:cubicBezTo>
                  <a:pt x="10012" y="7055"/>
                  <a:pt x="10001" y="7136"/>
                  <a:pt x="10001" y="7207"/>
                </a:cubicBezTo>
                <a:cubicBezTo>
                  <a:pt x="10001" y="7288"/>
                  <a:pt x="10001" y="7138"/>
                  <a:pt x="10001" y="7112"/>
                </a:cubicBezTo>
                <a:cubicBezTo>
                  <a:pt x="10001" y="7031"/>
                  <a:pt x="9983" y="6952"/>
                  <a:pt x="10033" y="6890"/>
                </a:cubicBezTo>
                <a:cubicBezTo>
                  <a:pt x="10060" y="6856"/>
                  <a:pt x="10097" y="6825"/>
                  <a:pt x="10128" y="6794"/>
                </a:cubicBezTo>
                <a:cubicBezTo>
                  <a:pt x="10175" y="6829"/>
                  <a:pt x="10209" y="6844"/>
                  <a:pt x="10255" y="6890"/>
                </a:cubicBezTo>
                <a:cubicBezTo>
                  <a:pt x="10317" y="6953"/>
                  <a:pt x="10319" y="6997"/>
                  <a:pt x="10319" y="7080"/>
                </a:cubicBezTo>
                <a:cubicBezTo>
                  <a:pt x="10319" y="7127"/>
                  <a:pt x="10350" y="7254"/>
                  <a:pt x="10350" y="7207"/>
                </a:cubicBezTo>
                <a:cubicBezTo>
                  <a:pt x="10350" y="7197"/>
                  <a:pt x="10350" y="7186"/>
                  <a:pt x="10350" y="7176"/>
                </a:cubicBezTo>
                <a:cubicBezTo>
                  <a:pt x="10350" y="7088"/>
                  <a:pt x="10363" y="7034"/>
                  <a:pt x="10382" y="6953"/>
                </a:cubicBezTo>
                <a:cubicBezTo>
                  <a:pt x="10397" y="6891"/>
                  <a:pt x="10368" y="6829"/>
                  <a:pt x="10446" y="6794"/>
                </a:cubicBezTo>
                <a:cubicBezTo>
                  <a:pt x="10457" y="6794"/>
                  <a:pt x="10467" y="6794"/>
                  <a:pt x="10478" y="6794"/>
                </a:cubicBezTo>
                <a:cubicBezTo>
                  <a:pt x="10520" y="6879"/>
                  <a:pt x="10541" y="6924"/>
                  <a:pt x="10541" y="7017"/>
                </a:cubicBezTo>
                <a:cubicBezTo>
                  <a:pt x="10541" y="7074"/>
                  <a:pt x="10511" y="7208"/>
                  <a:pt x="10573" y="7239"/>
                </a:cubicBezTo>
                <a:cubicBezTo>
                  <a:pt x="10583" y="7239"/>
                  <a:pt x="10594" y="7239"/>
                  <a:pt x="10604" y="7239"/>
                </a:cubicBezTo>
              </a:path>
              <a:path w="2223" h="699">
                <a:moveTo>
                  <a:pt x="10795" y="6826"/>
                </a:moveTo>
                <a:cubicBezTo>
                  <a:pt x="10766" y="6864"/>
                  <a:pt x="10741" y="6935"/>
                  <a:pt x="10732" y="6985"/>
                </a:cubicBezTo>
                <a:cubicBezTo>
                  <a:pt x="10720" y="7056"/>
                  <a:pt x="10730" y="7147"/>
                  <a:pt x="10763" y="7176"/>
                </a:cubicBezTo>
                <a:cubicBezTo>
                  <a:pt x="10785" y="7195"/>
                  <a:pt x="10860" y="7252"/>
                  <a:pt x="10890" y="7239"/>
                </a:cubicBezTo>
                <a:cubicBezTo>
                  <a:pt x="10938" y="7217"/>
                  <a:pt x="11012" y="7127"/>
                  <a:pt x="11017" y="7080"/>
                </a:cubicBezTo>
                <a:cubicBezTo>
                  <a:pt x="11025" y="7007"/>
                  <a:pt x="11030" y="6913"/>
                  <a:pt x="10986" y="6858"/>
                </a:cubicBezTo>
                <a:cubicBezTo>
                  <a:pt x="10969" y="6837"/>
                  <a:pt x="10885" y="6782"/>
                  <a:pt x="10858" y="6794"/>
                </a:cubicBezTo>
                <a:cubicBezTo>
                  <a:pt x="10848" y="6805"/>
                  <a:pt x="10837" y="6815"/>
                  <a:pt x="10827" y="6826"/>
                </a:cubicBezTo>
              </a:path>
              <a:path w="2223" h="699">
                <a:moveTo>
                  <a:pt x="11240" y="6636"/>
                </a:moveTo>
                <a:cubicBezTo>
                  <a:pt x="11195" y="6696"/>
                  <a:pt x="11208" y="6747"/>
                  <a:pt x="11208" y="6826"/>
                </a:cubicBezTo>
                <a:cubicBezTo>
                  <a:pt x="11208" y="6944"/>
                  <a:pt x="11177" y="7104"/>
                  <a:pt x="11240" y="7207"/>
                </a:cubicBezTo>
                <a:cubicBezTo>
                  <a:pt x="11276" y="7267"/>
                  <a:pt x="11308" y="7287"/>
                  <a:pt x="11366" y="7334"/>
                </a:cubicBezTo>
              </a:path>
              <a:path w="2223" h="699">
                <a:moveTo>
                  <a:pt x="11462" y="7176"/>
                </a:moveTo>
                <a:cubicBezTo>
                  <a:pt x="11515" y="7096"/>
                  <a:pt x="11522" y="7125"/>
                  <a:pt x="11589" y="7080"/>
                </a:cubicBezTo>
                <a:cubicBezTo>
                  <a:pt x="11635" y="7049"/>
                  <a:pt x="11676" y="6992"/>
                  <a:pt x="11716" y="6953"/>
                </a:cubicBezTo>
                <a:cubicBezTo>
                  <a:pt x="11761" y="6909"/>
                  <a:pt x="11748" y="6892"/>
                  <a:pt x="11748" y="6826"/>
                </a:cubicBezTo>
                <a:cubicBezTo>
                  <a:pt x="11674" y="6841"/>
                  <a:pt x="11642" y="6870"/>
                  <a:pt x="11589" y="6922"/>
                </a:cubicBezTo>
                <a:cubicBezTo>
                  <a:pt x="11532" y="6979"/>
                  <a:pt x="11498" y="7036"/>
                  <a:pt x="11494" y="7112"/>
                </a:cubicBezTo>
                <a:cubicBezTo>
                  <a:pt x="11491" y="7171"/>
                  <a:pt x="11529" y="7244"/>
                  <a:pt x="11589" y="7271"/>
                </a:cubicBezTo>
                <a:cubicBezTo>
                  <a:pt x="11657" y="7302"/>
                  <a:pt x="11784" y="7261"/>
                  <a:pt x="11843" y="7239"/>
                </a:cubicBezTo>
              </a:path>
              <a:path w="2223" h="699">
                <a:moveTo>
                  <a:pt x="12192" y="6826"/>
                </a:moveTo>
                <a:cubicBezTo>
                  <a:pt x="12164" y="6805"/>
                  <a:pt x="12108" y="6770"/>
                  <a:pt x="12065" y="6794"/>
                </a:cubicBezTo>
                <a:cubicBezTo>
                  <a:pt x="12016" y="6821"/>
                  <a:pt x="11981" y="6847"/>
                  <a:pt x="11938" y="6890"/>
                </a:cubicBezTo>
                <a:cubicBezTo>
                  <a:pt x="11891" y="6937"/>
                  <a:pt x="11895" y="6970"/>
                  <a:pt x="11938" y="7017"/>
                </a:cubicBezTo>
                <a:cubicBezTo>
                  <a:pt x="11984" y="7068"/>
                  <a:pt x="12041" y="7055"/>
                  <a:pt x="12097" y="7112"/>
                </a:cubicBezTo>
                <a:cubicBezTo>
                  <a:pt x="12130" y="7146"/>
                  <a:pt x="12204" y="7166"/>
                  <a:pt x="12192" y="7239"/>
                </a:cubicBezTo>
                <a:cubicBezTo>
                  <a:pt x="12185" y="7280"/>
                  <a:pt x="12061" y="7297"/>
                  <a:pt x="12033" y="7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6"/>
          <p:cNvSpPr/>
          <p:nvPr/>
        </p:nvSpPr>
        <p:spPr>
          <a:xfrm>
            <a:off x="3360600" y="3040200"/>
            <a:ext cx="663840" cy="102960"/>
          </a:xfrm>
          <a:custGeom>
            <a:avLst/>
            <a:gdLst/>
            <a:ahLst/>
            <a:rect l="l" t="t" r="r" b="b"/>
            <a:pathLst>
              <a:path w="1843" h="286">
                <a:moveTo>
                  <a:pt x="9334" y="8668"/>
                </a:moveTo>
                <a:lnTo>
                  <a:pt x="9334" y="8668"/>
                </a:lnTo>
              </a:path>
              <a:path w="1843" h="286">
                <a:moveTo>
                  <a:pt x="9334" y="8668"/>
                </a:moveTo>
                <a:cubicBezTo>
                  <a:pt x="9334" y="8689"/>
                  <a:pt x="9334" y="8710"/>
                  <a:pt x="9334" y="8731"/>
                </a:cubicBezTo>
              </a:path>
              <a:path w="1843" h="286">
                <a:moveTo>
                  <a:pt x="9684" y="8509"/>
                </a:moveTo>
                <a:cubicBezTo>
                  <a:pt x="9655" y="8480"/>
                  <a:pt x="9645" y="8474"/>
                  <a:pt x="9652" y="8446"/>
                </a:cubicBezTo>
              </a:path>
              <a:path w="1843" h="286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</a:path>
              <a:path w="1843" h="286">
                <a:moveTo>
                  <a:pt x="11144" y="8604"/>
                </a:moveTo>
                <a:lnTo>
                  <a:pt x="11144" y="8604"/>
                </a:lnTo>
              </a:path>
              <a:path w="1843" h="286">
                <a:moveTo>
                  <a:pt x="11176" y="8509"/>
                </a:moveTo>
                <a:lnTo>
                  <a:pt x="11176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7"/>
          <p:cNvSpPr/>
          <p:nvPr/>
        </p:nvSpPr>
        <p:spPr>
          <a:xfrm>
            <a:off x="3349800" y="3097080"/>
            <a:ext cx="171360" cy="92160"/>
          </a:xfrm>
          <a:custGeom>
            <a:avLst/>
            <a:gdLst/>
            <a:ahLst/>
            <a:rect l="l" t="t" r="r" b="b"/>
            <a:pathLst>
              <a:path w="477" h="255">
                <a:moveTo>
                  <a:pt x="9334" y="8731"/>
                </a:moveTo>
                <a:cubicBezTo>
                  <a:pt x="9312" y="8786"/>
                  <a:pt x="9321" y="8791"/>
                  <a:pt x="9334" y="8858"/>
                </a:cubicBezTo>
                <a:cubicBezTo>
                  <a:pt x="9383" y="8809"/>
                  <a:pt x="9398" y="8799"/>
                  <a:pt x="9398" y="8731"/>
                </a:cubicBezTo>
                <a:cubicBezTo>
                  <a:pt x="9398" y="8661"/>
                  <a:pt x="9385" y="8781"/>
                  <a:pt x="9430" y="8795"/>
                </a:cubicBezTo>
                <a:cubicBezTo>
                  <a:pt x="9489" y="8814"/>
                  <a:pt x="9546" y="8795"/>
                  <a:pt x="9588" y="8763"/>
                </a:cubicBezTo>
                <a:cubicBezTo>
                  <a:pt x="9553" y="8715"/>
                  <a:pt x="9557" y="8697"/>
                  <a:pt x="9557" y="8636"/>
                </a:cubicBezTo>
                <a:cubicBezTo>
                  <a:pt x="9557" y="8625"/>
                  <a:pt x="9557" y="8615"/>
                  <a:pt x="9557" y="8604"/>
                </a:cubicBezTo>
              </a:path>
              <a:path w="477" h="255">
                <a:moveTo>
                  <a:pt x="9652" y="8700"/>
                </a:moveTo>
                <a:cubicBezTo>
                  <a:pt x="9695" y="8742"/>
                  <a:pt x="9736" y="8784"/>
                  <a:pt x="9779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149720" y="2674800"/>
            <a:ext cx="1347840" cy="331920"/>
          </a:xfrm>
          <a:custGeom>
            <a:avLst/>
            <a:gdLst/>
            <a:ahLst/>
            <a:rect l="l" t="t" r="r" b="b"/>
            <a:pathLst>
              <a:path w="3748" h="921">
                <a:moveTo>
                  <a:pt x="11620" y="7556"/>
                </a:moveTo>
                <a:cubicBezTo>
                  <a:pt x="11580" y="7625"/>
                  <a:pt x="11583" y="7702"/>
                  <a:pt x="11557" y="7779"/>
                </a:cubicBezTo>
                <a:cubicBezTo>
                  <a:pt x="11540" y="7830"/>
                  <a:pt x="11495" y="7910"/>
                  <a:pt x="11525" y="7969"/>
                </a:cubicBezTo>
                <a:cubicBezTo>
                  <a:pt x="11545" y="8009"/>
                  <a:pt x="11592" y="8096"/>
                  <a:pt x="11652" y="8064"/>
                </a:cubicBezTo>
                <a:cubicBezTo>
                  <a:pt x="11663" y="8054"/>
                  <a:pt x="11673" y="8043"/>
                  <a:pt x="11684" y="8033"/>
                </a:cubicBezTo>
              </a:path>
              <a:path w="3748" h="921">
                <a:moveTo>
                  <a:pt x="11906" y="7684"/>
                </a:moveTo>
                <a:cubicBezTo>
                  <a:pt x="11861" y="7728"/>
                  <a:pt x="11833" y="7759"/>
                  <a:pt x="11811" y="7810"/>
                </a:cubicBezTo>
                <a:cubicBezTo>
                  <a:pt x="11797" y="7843"/>
                  <a:pt x="11755" y="7925"/>
                  <a:pt x="11779" y="7969"/>
                </a:cubicBezTo>
                <a:cubicBezTo>
                  <a:pt x="11816" y="8036"/>
                  <a:pt x="11898" y="8004"/>
                  <a:pt x="11938" y="7969"/>
                </a:cubicBezTo>
                <a:cubicBezTo>
                  <a:pt x="11982" y="7931"/>
                  <a:pt x="11970" y="7897"/>
                  <a:pt x="11970" y="7842"/>
                </a:cubicBezTo>
                <a:cubicBezTo>
                  <a:pt x="11970" y="7817"/>
                  <a:pt x="11906" y="7711"/>
                  <a:pt x="11874" y="7715"/>
                </a:cubicBezTo>
                <a:cubicBezTo>
                  <a:pt x="11864" y="7726"/>
                  <a:pt x="11853" y="7736"/>
                  <a:pt x="11843" y="7747"/>
                </a:cubicBezTo>
              </a:path>
              <a:path w="3748" h="921">
                <a:moveTo>
                  <a:pt x="12160" y="8033"/>
                </a:moveTo>
                <a:cubicBezTo>
                  <a:pt x="12160" y="7965"/>
                  <a:pt x="12132" y="7931"/>
                  <a:pt x="12128" y="7874"/>
                </a:cubicBezTo>
                <a:cubicBezTo>
                  <a:pt x="12122" y="7783"/>
                  <a:pt x="12100" y="7622"/>
                  <a:pt x="12160" y="7556"/>
                </a:cubicBezTo>
                <a:cubicBezTo>
                  <a:pt x="12171" y="7546"/>
                  <a:pt x="12181" y="7535"/>
                  <a:pt x="12192" y="7525"/>
                </a:cubicBezTo>
                <a:cubicBezTo>
                  <a:pt x="12233" y="7555"/>
                  <a:pt x="12282" y="7563"/>
                  <a:pt x="12319" y="7588"/>
                </a:cubicBezTo>
                <a:cubicBezTo>
                  <a:pt x="12351" y="7620"/>
                  <a:pt x="12361" y="7630"/>
                  <a:pt x="12382" y="7652"/>
                </a:cubicBezTo>
              </a:path>
              <a:path w="3748" h="921">
                <a:moveTo>
                  <a:pt x="12065" y="7810"/>
                </a:moveTo>
                <a:cubicBezTo>
                  <a:pt x="12104" y="7800"/>
                  <a:pt x="12186" y="7795"/>
                  <a:pt x="12224" y="7779"/>
                </a:cubicBezTo>
                <a:cubicBezTo>
                  <a:pt x="12262" y="7741"/>
                  <a:pt x="12280" y="7734"/>
                  <a:pt x="12319" y="7779"/>
                </a:cubicBezTo>
              </a:path>
              <a:path w="3748" h="921">
                <a:moveTo>
                  <a:pt x="12668" y="7715"/>
                </a:moveTo>
                <a:cubicBezTo>
                  <a:pt x="12647" y="7743"/>
                  <a:pt x="12612" y="7799"/>
                  <a:pt x="12636" y="7842"/>
                </a:cubicBezTo>
                <a:cubicBezTo>
                  <a:pt x="12665" y="7894"/>
                  <a:pt x="12687" y="7936"/>
                  <a:pt x="12700" y="8001"/>
                </a:cubicBezTo>
                <a:cubicBezTo>
                  <a:pt x="12700" y="7967"/>
                  <a:pt x="12665" y="7827"/>
                  <a:pt x="12668" y="7810"/>
                </a:cubicBezTo>
                <a:cubicBezTo>
                  <a:pt x="12676" y="7765"/>
                  <a:pt x="12700" y="7713"/>
                  <a:pt x="12700" y="7652"/>
                </a:cubicBezTo>
                <a:cubicBezTo>
                  <a:pt x="12700" y="7580"/>
                  <a:pt x="12781" y="7607"/>
                  <a:pt x="12827" y="7620"/>
                </a:cubicBezTo>
              </a:path>
              <a:path w="3748" h="921">
                <a:moveTo>
                  <a:pt x="12922" y="7874"/>
                </a:moveTo>
                <a:cubicBezTo>
                  <a:pt x="12974" y="7861"/>
                  <a:pt x="13011" y="7838"/>
                  <a:pt x="13018" y="7779"/>
                </a:cubicBezTo>
                <a:cubicBezTo>
                  <a:pt x="13023" y="7739"/>
                  <a:pt x="13039" y="7722"/>
                  <a:pt x="13049" y="7684"/>
                </a:cubicBezTo>
                <a:cubicBezTo>
                  <a:pt x="12977" y="7647"/>
                  <a:pt x="12975" y="7683"/>
                  <a:pt x="12922" y="7747"/>
                </a:cubicBezTo>
                <a:cubicBezTo>
                  <a:pt x="12894" y="7780"/>
                  <a:pt x="12829" y="7819"/>
                  <a:pt x="12859" y="7874"/>
                </a:cubicBezTo>
                <a:cubicBezTo>
                  <a:pt x="12885" y="7923"/>
                  <a:pt x="12965" y="8012"/>
                  <a:pt x="13018" y="8001"/>
                </a:cubicBezTo>
                <a:cubicBezTo>
                  <a:pt x="13057" y="7993"/>
                  <a:pt x="13089" y="7969"/>
                  <a:pt x="13144" y="7969"/>
                </a:cubicBezTo>
              </a:path>
              <a:path w="3748" h="921">
                <a:moveTo>
                  <a:pt x="13367" y="7715"/>
                </a:moveTo>
                <a:cubicBezTo>
                  <a:pt x="13304" y="7690"/>
                  <a:pt x="13255" y="7707"/>
                  <a:pt x="13208" y="7779"/>
                </a:cubicBezTo>
                <a:cubicBezTo>
                  <a:pt x="13189" y="7808"/>
                  <a:pt x="13153" y="7898"/>
                  <a:pt x="13176" y="7938"/>
                </a:cubicBezTo>
                <a:cubicBezTo>
                  <a:pt x="13205" y="7989"/>
                  <a:pt x="13300" y="7978"/>
                  <a:pt x="13335" y="7938"/>
                </a:cubicBezTo>
                <a:cubicBezTo>
                  <a:pt x="13378" y="7889"/>
                  <a:pt x="13340" y="7842"/>
                  <a:pt x="13335" y="7779"/>
                </a:cubicBezTo>
                <a:cubicBezTo>
                  <a:pt x="13327" y="7689"/>
                  <a:pt x="13332" y="7834"/>
                  <a:pt x="13335" y="7842"/>
                </a:cubicBezTo>
                <a:cubicBezTo>
                  <a:pt x="13352" y="7888"/>
                  <a:pt x="13413" y="7979"/>
                  <a:pt x="13462" y="8001"/>
                </a:cubicBezTo>
                <a:cubicBezTo>
                  <a:pt x="13473" y="8001"/>
                  <a:pt x="13483" y="8001"/>
                  <a:pt x="13494" y="8001"/>
                </a:cubicBezTo>
              </a:path>
              <a:path w="3748" h="921">
                <a:moveTo>
                  <a:pt x="13748" y="7715"/>
                </a:moveTo>
                <a:cubicBezTo>
                  <a:pt x="13737" y="7705"/>
                  <a:pt x="13727" y="7694"/>
                  <a:pt x="13716" y="7684"/>
                </a:cubicBezTo>
                <a:cubicBezTo>
                  <a:pt x="13649" y="7723"/>
                  <a:pt x="13629" y="7710"/>
                  <a:pt x="13589" y="7779"/>
                </a:cubicBezTo>
                <a:cubicBezTo>
                  <a:pt x="13580" y="7794"/>
                  <a:pt x="13527" y="7912"/>
                  <a:pt x="13557" y="7938"/>
                </a:cubicBezTo>
                <a:cubicBezTo>
                  <a:pt x="13605" y="7980"/>
                  <a:pt x="13656" y="8001"/>
                  <a:pt x="13716" y="8001"/>
                </a:cubicBezTo>
                <a:cubicBezTo>
                  <a:pt x="13784" y="8001"/>
                  <a:pt x="13787" y="7983"/>
                  <a:pt x="13843" y="7969"/>
                </a:cubicBezTo>
              </a:path>
              <a:path w="3748" h="921">
                <a:moveTo>
                  <a:pt x="13938" y="7556"/>
                </a:moveTo>
                <a:cubicBezTo>
                  <a:pt x="13938" y="7626"/>
                  <a:pt x="13953" y="7647"/>
                  <a:pt x="13970" y="7715"/>
                </a:cubicBezTo>
                <a:cubicBezTo>
                  <a:pt x="13988" y="7788"/>
                  <a:pt x="13983" y="7865"/>
                  <a:pt x="14002" y="7938"/>
                </a:cubicBezTo>
                <a:cubicBezTo>
                  <a:pt x="14002" y="7969"/>
                  <a:pt x="14002" y="7980"/>
                  <a:pt x="14034" y="7969"/>
                </a:cubicBezTo>
              </a:path>
              <a:path w="3748" h="921">
                <a:moveTo>
                  <a:pt x="13811" y="7810"/>
                </a:moveTo>
                <a:cubicBezTo>
                  <a:pt x="13926" y="7810"/>
                  <a:pt x="14030" y="7808"/>
                  <a:pt x="14129" y="7779"/>
                </a:cubicBezTo>
                <a:cubicBezTo>
                  <a:pt x="14139" y="7779"/>
                  <a:pt x="14150" y="7779"/>
                  <a:pt x="14160" y="7779"/>
                </a:cubicBezTo>
              </a:path>
              <a:path w="3748" h="921">
                <a:moveTo>
                  <a:pt x="14224" y="7747"/>
                </a:moveTo>
                <a:cubicBezTo>
                  <a:pt x="14194" y="7787"/>
                  <a:pt x="14166" y="7824"/>
                  <a:pt x="14160" y="7874"/>
                </a:cubicBezTo>
                <a:cubicBezTo>
                  <a:pt x="14157" y="7903"/>
                  <a:pt x="14196" y="7987"/>
                  <a:pt x="14224" y="8001"/>
                </a:cubicBezTo>
                <a:cubicBezTo>
                  <a:pt x="14235" y="8001"/>
                  <a:pt x="14245" y="8001"/>
                  <a:pt x="14256" y="8001"/>
                </a:cubicBezTo>
              </a:path>
              <a:path w="3748" h="921">
                <a:moveTo>
                  <a:pt x="14351" y="7747"/>
                </a:moveTo>
                <a:cubicBezTo>
                  <a:pt x="14351" y="7845"/>
                  <a:pt x="14310" y="7995"/>
                  <a:pt x="14414" y="8033"/>
                </a:cubicBezTo>
                <a:cubicBezTo>
                  <a:pt x="14461" y="8050"/>
                  <a:pt x="14510" y="8030"/>
                  <a:pt x="14542" y="8001"/>
                </a:cubicBezTo>
                <a:cubicBezTo>
                  <a:pt x="14591" y="7957"/>
                  <a:pt x="14629" y="7914"/>
                  <a:pt x="14605" y="7842"/>
                </a:cubicBezTo>
                <a:cubicBezTo>
                  <a:pt x="14583" y="7778"/>
                  <a:pt x="14550" y="7703"/>
                  <a:pt x="14478" y="7684"/>
                </a:cubicBezTo>
                <a:cubicBezTo>
                  <a:pt x="14425" y="7684"/>
                  <a:pt x="14415" y="7684"/>
                  <a:pt x="14383" y="7684"/>
                </a:cubicBezTo>
              </a:path>
              <a:path w="3748" h="921">
                <a:moveTo>
                  <a:pt x="14637" y="7779"/>
                </a:moveTo>
                <a:cubicBezTo>
                  <a:pt x="14674" y="7841"/>
                  <a:pt x="14638" y="7910"/>
                  <a:pt x="14668" y="7969"/>
                </a:cubicBezTo>
                <a:cubicBezTo>
                  <a:pt x="14696" y="8024"/>
                  <a:pt x="14715" y="8048"/>
                  <a:pt x="14732" y="7969"/>
                </a:cubicBezTo>
                <a:cubicBezTo>
                  <a:pt x="14749" y="7891"/>
                  <a:pt x="14710" y="7845"/>
                  <a:pt x="14764" y="7779"/>
                </a:cubicBezTo>
                <a:cubicBezTo>
                  <a:pt x="14775" y="7768"/>
                  <a:pt x="14785" y="7758"/>
                  <a:pt x="14796" y="7747"/>
                </a:cubicBezTo>
                <a:cubicBezTo>
                  <a:pt x="14818" y="7755"/>
                  <a:pt x="14874" y="7804"/>
                  <a:pt x="14891" y="7842"/>
                </a:cubicBezTo>
                <a:cubicBezTo>
                  <a:pt x="14903" y="7869"/>
                  <a:pt x="14915" y="7974"/>
                  <a:pt x="14922" y="8001"/>
                </a:cubicBezTo>
                <a:cubicBezTo>
                  <a:pt x="14936" y="8057"/>
                  <a:pt x="14899" y="8046"/>
                  <a:pt x="14954" y="8064"/>
                </a:cubicBezTo>
              </a:path>
              <a:path w="3748" h="921">
                <a:moveTo>
                  <a:pt x="15018" y="7430"/>
                </a:moveTo>
                <a:cubicBezTo>
                  <a:pt x="15018" y="7501"/>
                  <a:pt x="15047" y="7523"/>
                  <a:pt x="15081" y="7588"/>
                </a:cubicBezTo>
                <a:cubicBezTo>
                  <a:pt x="15131" y="7682"/>
                  <a:pt x="15145" y="7780"/>
                  <a:pt x="15176" y="7874"/>
                </a:cubicBezTo>
                <a:cubicBezTo>
                  <a:pt x="15199" y="7944"/>
                  <a:pt x="15280" y="8054"/>
                  <a:pt x="15272" y="8128"/>
                </a:cubicBezTo>
                <a:cubicBezTo>
                  <a:pt x="15264" y="8204"/>
                  <a:pt x="15220" y="8283"/>
                  <a:pt x="15176" y="8318"/>
                </a:cubicBezTo>
                <a:cubicBezTo>
                  <a:pt x="15166" y="8329"/>
                  <a:pt x="15155" y="8339"/>
                  <a:pt x="15145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9"/>
          <p:cNvSpPr/>
          <p:nvPr/>
        </p:nvSpPr>
        <p:spPr>
          <a:xfrm>
            <a:off x="3543480" y="3051000"/>
            <a:ext cx="846000" cy="252720"/>
          </a:xfrm>
          <a:custGeom>
            <a:avLst/>
            <a:gdLst/>
            <a:ahLst/>
            <a:rect l="l" t="t" r="r" b="b"/>
            <a:pathLst>
              <a:path w="2351" h="700">
                <a:moveTo>
                  <a:pt x="9938" y="8477"/>
                </a:moveTo>
                <a:cubicBezTo>
                  <a:pt x="9938" y="8577"/>
                  <a:pt x="9942" y="8649"/>
                  <a:pt x="9970" y="8731"/>
                </a:cubicBezTo>
                <a:cubicBezTo>
                  <a:pt x="9984" y="8773"/>
                  <a:pt x="9991" y="8817"/>
                  <a:pt x="10001" y="8858"/>
                </a:cubicBezTo>
              </a:path>
              <a:path w="2351" h="700">
                <a:moveTo>
                  <a:pt x="9842" y="8700"/>
                </a:moveTo>
                <a:cubicBezTo>
                  <a:pt x="9910" y="8649"/>
                  <a:pt x="9916" y="8693"/>
                  <a:pt x="10001" y="8700"/>
                </a:cubicBezTo>
                <a:cubicBezTo>
                  <a:pt x="10042" y="8703"/>
                  <a:pt x="10087" y="8700"/>
                  <a:pt x="10128" y="8700"/>
                </a:cubicBezTo>
              </a:path>
              <a:path w="2351" h="700">
                <a:moveTo>
                  <a:pt x="10350" y="8636"/>
                </a:moveTo>
                <a:cubicBezTo>
                  <a:pt x="10294" y="8636"/>
                  <a:pt x="10203" y="8618"/>
                  <a:pt x="10160" y="8668"/>
                </a:cubicBezTo>
                <a:cubicBezTo>
                  <a:pt x="10147" y="8683"/>
                  <a:pt x="10111" y="8765"/>
                  <a:pt x="10128" y="8795"/>
                </a:cubicBezTo>
                <a:cubicBezTo>
                  <a:pt x="10155" y="8842"/>
                  <a:pt x="10210" y="8826"/>
                  <a:pt x="10255" y="8826"/>
                </a:cubicBezTo>
                <a:cubicBezTo>
                  <a:pt x="10312" y="8826"/>
                  <a:pt x="10329" y="8831"/>
                  <a:pt x="10350" y="8795"/>
                </a:cubicBezTo>
              </a:path>
              <a:path w="2351" h="700">
                <a:moveTo>
                  <a:pt x="10414" y="8477"/>
                </a:moveTo>
                <a:cubicBezTo>
                  <a:pt x="10414" y="8592"/>
                  <a:pt x="10413" y="8697"/>
                  <a:pt x="10446" y="8795"/>
                </a:cubicBezTo>
                <a:cubicBezTo>
                  <a:pt x="10470" y="8865"/>
                  <a:pt x="10431" y="8758"/>
                  <a:pt x="10446" y="8731"/>
                </a:cubicBezTo>
                <a:cubicBezTo>
                  <a:pt x="10459" y="8708"/>
                  <a:pt x="10540" y="8631"/>
                  <a:pt x="10573" y="8668"/>
                </a:cubicBezTo>
                <a:cubicBezTo>
                  <a:pt x="10621" y="8722"/>
                  <a:pt x="10613" y="8771"/>
                  <a:pt x="10668" y="8826"/>
                </a:cubicBezTo>
                <a:cubicBezTo>
                  <a:pt x="10679" y="8837"/>
                  <a:pt x="10689" y="8847"/>
                  <a:pt x="10700" y="8858"/>
                </a:cubicBezTo>
              </a:path>
              <a:path w="2351" h="700">
                <a:moveTo>
                  <a:pt x="11112" y="8572"/>
                </a:moveTo>
                <a:cubicBezTo>
                  <a:pt x="11059" y="8572"/>
                  <a:pt x="11029" y="8585"/>
                  <a:pt x="10986" y="8604"/>
                </a:cubicBezTo>
                <a:cubicBezTo>
                  <a:pt x="10926" y="8630"/>
                  <a:pt x="10850" y="8715"/>
                  <a:pt x="10922" y="8763"/>
                </a:cubicBezTo>
                <a:cubicBezTo>
                  <a:pt x="10949" y="8781"/>
                  <a:pt x="11047" y="8815"/>
                  <a:pt x="11081" y="8826"/>
                </a:cubicBezTo>
                <a:cubicBezTo>
                  <a:pt x="11112" y="8826"/>
                  <a:pt x="11123" y="8826"/>
                  <a:pt x="11144" y="8826"/>
                </a:cubicBezTo>
                <a:cubicBezTo>
                  <a:pt x="11130" y="8881"/>
                  <a:pt x="11084" y="8924"/>
                  <a:pt x="11017" y="8890"/>
                </a:cubicBezTo>
                <a:cubicBezTo>
                  <a:pt x="11007" y="8879"/>
                  <a:pt x="10996" y="8869"/>
                  <a:pt x="10986" y="8858"/>
                </a:cubicBezTo>
              </a:path>
              <a:path w="2351" h="700">
                <a:moveTo>
                  <a:pt x="11208" y="8668"/>
                </a:moveTo>
                <a:cubicBezTo>
                  <a:pt x="11242" y="8724"/>
                  <a:pt x="11240" y="8759"/>
                  <a:pt x="11240" y="8826"/>
                </a:cubicBezTo>
                <a:cubicBezTo>
                  <a:pt x="11240" y="8872"/>
                  <a:pt x="11248" y="8906"/>
                  <a:pt x="11271" y="8858"/>
                </a:cubicBezTo>
              </a:path>
              <a:path w="2351" h="700">
                <a:moveTo>
                  <a:pt x="11557" y="8636"/>
                </a:moveTo>
                <a:cubicBezTo>
                  <a:pt x="11493" y="8604"/>
                  <a:pt x="11488" y="8643"/>
                  <a:pt x="11430" y="8700"/>
                </a:cubicBezTo>
                <a:cubicBezTo>
                  <a:pt x="11381" y="8748"/>
                  <a:pt x="11366" y="8758"/>
                  <a:pt x="11366" y="8826"/>
                </a:cubicBezTo>
                <a:cubicBezTo>
                  <a:pt x="11410" y="8826"/>
                  <a:pt x="11500" y="8846"/>
                  <a:pt x="11525" y="8795"/>
                </a:cubicBezTo>
                <a:cubicBezTo>
                  <a:pt x="11525" y="8759"/>
                  <a:pt x="11528" y="8745"/>
                  <a:pt x="11557" y="8731"/>
                </a:cubicBezTo>
                <a:cubicBezTo>
                  <a:pt x="11557" y="8648"/>
                  <a:pt x="11557" y="8781"/>
                  <a:pt x="11557" y="8795"/>
                </a:cubicBezTo>
                <a:cubicBezTo>
                  <a:pt x="11557" y="8874"/>
                  <a:pt x="11589" y="8901"/>
                  <a:pt x="11589" y="8985"/>
                </a:cubicBezTo>
                <a:cubicBezTo>
                  <a:pt x="11589" y="9032"/>
                  <a:pt x="11580" y="9078"/>
                  <a:pt x="11557" y="9112"/>
                </a:cubicBezTo>
                <a:cubicBezTo>
                  <a:pt x="11530" y="9153"/>
                  <a:pt x="11503" y="9166"/>
                  <a:pt x="11462" y="9176"/>
                </a:cubicBezTo>
                <a:cubicBezTo>
                  <a:pt x="11462" y="9093"/>
                  <a:pt x="11481" y="9021"/>
                  <a:pt x="11494" y="8954"/>
                </a:cubicBezTo>
                <a:cubicBezTo>
                  <a:pt x="11516" y="8844"/>
                  <a:pt x="11550" y="8815"/>
                  <a:pt x="11620" y="8731"/>
                </a:cubicBezTo>
                <a:cubicBezTo>
                  <a:pt x="11664" y="8678"/>
                  <a:pt x="11730" y="8674"/>
                  <a:pt x="11779" y="8636"/>
                </a:cubicBezTo>
                <a:cubicBezTo>
                  <a:pt x="11813" y="8692"/>
                  <a:pt x="11811" y="8727"/>
                  <a:pt x="11811" y="8795"/>
                </a:cubicBezTo>
                <a:cubicBezTo>
                  <a:pt x="11811" y="8827"/>
                  <a:pt x="11811" y="8858"/>
                  <a:pt x="11811" y="8890"/>
                </a:cubicBezTo>
                <a:cubicBezTo>
                  <a:pt x="11831" y="8863"/>
                  <a:pt x="11897" y="8794"/>
                  <a:pt x="11906" y="8763"/>
                </a:cubicBezTo>
                <a:cubicBezTo>
                  <a:pt x="11930" y="8679"/>
                  <a:pt x="11888" y="8703"/>
                  <a:pt x="11938" y="8636"/>
                </a:cubicBezTo>
                <a:cubicBezTo>
                  <a:pt x="11984" y="8651"/>
                  <a:pt x="11989" y="8713"/>
                  <a:pt x="12033" y="8763"/>
                </a:cubicBezTo>
                <a:cubicBezTo>
                  <a:pt x="12063" y="8796"/>
                  <a:pt x="12118" y="8821"/>
                  <a:pt x="12160" y="8826"/>
                </a:cubicBezTo>
                <a:cubicBezTo>
                  <a:pt x="12171" y="8826"/>
                  <a:pt x="12181" y="8826"/>
                  <a:pt x="12192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3325680" y="3475080"/>
            <a:ext cx="114480" cy="68400"/>
          </a:xfrm>
          <a:custGeom>
            <a:avLst/>
            <a:gdLst/>
            <a:ahLst/>
            <a:rect l="l" t="t" r="r" b="b"/>
            <a:pathLst>
              <a:path w="319" h="191">
                <a:moveTo>
                  <a:pt x="9239" y="9716"/>
                </a:moveTo>
                <a:cubicBezTo>
                  <a:pt x="9265" y="9741"/>
                  <a:pt x="9308" y="9834"/>
                  <a:pt x="9334" y="9842"/>
                </a:cubicBezTo>
                <a:cubicBezTo>
                  <a:pt x="9382" y="9856"/>
                  <a:pt x="9497" y="9783"/>
                  <a:pt x="9525" y="9747"/>
                </a:cubicBezTo>
                <a:cubicBezTo>
                  <a:pt x="9542" y="9725"/>
                  <a:pt x="9533" y="9684"/>
                  <a:pt x="9557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268800" y="3121200"/>
            <a:ext cx="56880" cy="79200"/>
          </a:xfrm>
          <a:custGeom>
            <a:avLst/>
            <a:gdLst/>
            <a:ahLst/>
            <a:rect l="l" t="t" r="r" b="b"/>
            <a:pathLst>
              <a:path w="160" h="223">
                <a:moveTo>
                  <a:pt x="9208" y="8668"/>
                </a:moveTo>
                <a:cubicBezTo>
                  <a:pt x="9164" y="8668"/>
                  <a:pt x="9105" y="8651"/>
                  <a:pt x="9080" y="8700"/>
                </a:cubicBezTo>
                <a:cubicBezTo>
                  <a:pt x="9080" y="8710"/>
                  <a:pt x="9080" y="8721"/>
                  <a:pt x="9080" y="8731"/>
                </a:cubicBezTo>
                <a:cubicBezTo>
                  <a:pt x="9148" y="8731"/>
                  <a:pt x="9159" y="8746"/>
                  <a:pt x="9208" y="8795"/>
                </a:cubicBezTo>
                <a:cubicBezTo>
                  <a:pt x="9257" y="8844"/>
                  <a:pt x="9245" y="8882"/>
                  <a:pt x="9176" y="8890"/>
                </a:cubicBezTo>
                <a:cubicBezTo>
                  <a:pt x="9137" y="8894"/>
                  <a:pt x="9117" y="8867"/>
                  <a:pt x="9080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2411280" y="3475080"/>
            <a:ext cx="4857840" cy="639720"/>
          </a:xfrm>
          <a:custGeom>
            <a:avLst/>
            <a:gdLst/>
            <a:ahLst/>
            <a:rect l="l" t="t" r="r" b="b"/>
            <a:pathLst>
              <a:path w="13495" h="1779">
                <a:moveTo>
                  <a:pt x="6699" y="10065"/>
                </a:moveTo>
                <a:lnTo>
                  <a:pt x="6699" y="10065"/>
                </a:lnTo>
              </a:path>
              <a:path w="13495" h="1779">
                <a:moveTo>
                  <a:pt x="6699" y="10065"/>
                </a:moveTo>
                <a:cubicBezTo>
                  <a:pt x="6699" y="10086"/>
                  <a:pt x="6699" y="10107"/>
                  <a:pt x="6699" y="10128"/>
                </a:cubicBezTo>
              </a:path>
              <a:path w="13495" h="1779">
                <a:moveTo>
                  <a:pt x="8541" y="10414"/>
                </a:moveTo>
                <a:cubicBezTo>
                  <a:pt x="8603" y="10462"/>
                  <a:pt x="8586" y="10449"/>
                  <a:pt x="8668" y="10414"/>
                </a:cubicBezTo>
              </a:path>
              <a:path w="13495" h="1779">
                <a:moveTo>
                  <a:pt x="12668" y="9684"/>
                </a:moveTo>
                <a:cubicBezTo>
                  <a:pt x="12657" y="9684"/>
                  <a:pt x="12647" y="9684"/>
                  <a:pt x="12636" y="9684"/>
                </a:cubicBezTo>
              </a:path>
              <a:path w="13495" h="1779">
                <a:moveTo>
                  <a:pt x="12668" y="9684"/>
                </a:moveTo>
                <a:lnTo>
                  <a:pt x="12668" y="9684"/>
                </a:lnTo>
              </a:path>
              <a:path w="13495" h="1779">
                <a:moveTo>
                  <a:pt x="9430" y="10478"/>
                </a:moveTo>
                <a:cubicBezTo>
                  <a:pt x="9419" y="10478"/>
                  <a:pt x="9409" y="10478"/>
                  <a:pt x="9398" y="10478"/>
                </a:cubicBezTo>
              </a:path>
              <a:path w="13495" h="1779">
                <a:moveTo>
                  <a:pt x="9430" y="10478"/>
                </a:moveTo>
                <a:cubicBezTo>
                  <a:pt x="9441" y="10488"/>
                  <a:pt x="9451" y="10499"/>
                  <a:pt x="9462" y="10509"/>
                </a:cubicBezTo>
              </a:path>
              <a:path w="13495" h="1779">
                <a:moveTo>
                  <a:pt x="9239" y="9652"/>
                </a:moveTo>
                <a:cubicBezTo>
                  <a:pt x="9239" y="9663"/>
                  <a:pt x="9239" y="9673"/>
                  <a:pt x="9239" y="9684"/>
                </a:cubicBezTo>
              </a:path>
              <a:path w="13495" h="1779">
                <a:moveTo>
                  <a:pt x="9239" y="9652"/>
                </a:moveTo>
                <a:lnTo>
                  <a:pt x="9239" y="9652"/>
                </a:lnTo>
              </a:path>
              <a:path w="13495" h="1779">
                <a:moveTo>
                  <a:pt x="20193" y="11335"/>
                </a:moveTo>
                <a:cubicBezTo>
                  <a:pt x="20193" y="11345"/>
                  <a:pt x="20193" y="11356"/>
                  <a:pt x="20193" y="11366"/>
                </a:cubicBezTo>
              </a:path>
              <a:path w="13495" h="1779">
                <a:moveTo>
                  <a:pt x="20193" y="11335"/>
                </a:moveTo>
                <a:cubicBezTo>
                  <a:pt x="20193" y="11367"/>
                  <a:pt x="20193" y="11398"/>
                  <a:pt x="20193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279600" y="3257640"/>
            <a:ext cx="1532160" cy="525240"/>
          </a:xfrm>
          <a:custGeom>
            <a:avLst/>
            <a:gdLst/>
            <a:ahLst/>
            <a:rect l="l" t="t" r="r" b="b"/>
            <a:pathLst>
              <a:path w="4256" h="1461">
                <a:moveTo>
                  <a:pt x="10096" y="9811"/>
                </a:moveTo>
                <a:cubicBezTo>
                  <a:pt x="9988" y="9811"/>
                  <a:pt x="9902" y="9812"/>
                  <a:pt x="9811" y="9842"/>
                </a:cubicBezTo>
                <a:cubicBezTo>
                  <a:pt x="9781" y="9852"/>
                  <a:pt x="9760" y="9950"/>
                  <a:pt x="9747" y="10001"/>
                </a:cubicBezTo>
                <a:cubicBezTo>
                  <a:pt x="9747" y="10033"/>
                  <a:pt x="9747" y="10044"/>
                  <a:pt x="9747" y="10065"/>
                </a:cubicBezTo>
                <a:cubicBezTo>
                  <a:pt x="9805" y="10050"/>
                  <a:pt x="9834" y="9977"/>
                  <a:pt x="9906" y="10001"/>
                </a:cubicBezTo>
                <a:cubicBezTo>
                  <a:pt x="9959" y="10019"/>
                  <a:pt x="10061" y="10043"/>
                  <a:pt x="10033" y="10128"/>
                </a:cubicBezTo>
                <a:cubicBezTo>
                  <a:pt x="10008" y="10201"/>
                  <a:pt x="9948" y="10169"/>
                  <a:pt x="9906" y="10192"/>
                </a:cubicBezTo>
                <a:cubicBezTo>
                  <a:pt x="9874" y="10224"/>
                  <a:pt x="9863" y="10235"/>
                  <a:pt x="9842" y="10192"/>
                </a:cubicBezTo>
              </a:path>
              <a:path w="4256" h="1461">
                <a:moveTo>
                  <a:pt x="10255" y="10128"/>
                </a:moveTo>
                <a:cubicBezTo>
                  <a:pt x="10183" y="10183"/>
                  <a:pt x="10186" y="10146"/>
                  <a:pt x="10255" y="10128"/>
                </a:cubicBezTo>
              </a:path>
              <a:path w="4256" h="1461">
                <a:moveTo>
                  <a:pt x="10541" y="9747"/>
                </a:moveTo>
                <a:cubicBezTo>
                  <a:pt x="10497" y="9802"/>
                  <a:pt x="10505" y="9857"/>
                  <a:pt x="10478" y="9906"/>
                </a:cubicBezTo>
                <a:cubicBezTo>
                  <a:pt x="10440" y="9974"/>
                  <a:pt x="10429" y="10021"/>
                  <a:pt x="10478" y="10096"/>
                </a:cubicBezTo>
                <a:cubicBezTo>
                  <a:pt x="10514" y="10150"/>
                  <a:pt x="10545" y="10160"/>
                  <a:pt x="10604" y="10160"/>
                </a:cubicBezTo>
                <a:cubicBezTo>
                  <a:pt x="10672" y="10160"/>
                  <a:pt x="10683" y="10145"/>
                  <a:pt x="10732" y="10096"/>
                </a:cubicBezTo>
                <a:cubicBezTo>
                  <a:pt x="10790" y="10038"/>
                  <a:pt x="10795" y="10022"/>
                  <a:pt x="10795" y="9938"/>
                </a:cubicBezTo>
                <a:cubicBezTo>
                  <a:pt x="10795" y="9883"/>
                  <a:pt x="10738" y="9849"/>
                  <a:pt x="10700" y="9811"/>
                </a:cubicBezTo>
                <a:cubicBezTo>
                  <a:pt x="10674" y="9785"/>
                  <a:pt x="10574" y="9745"/>
                  <a:pt x="10541" y="9779"/>
                </a:cubicBezTo>
                <a:cubicBezTo>
                  <a:pt x="10541" y="9790"/>
                  <a:pt x="10541" y="9800"/>
                  <a:pt x="10541" y="9811"/>
                </a:cubicBezTo>
              </a:path>
              <a:path w="4256" h="1461">
                <a:moveTo>
                  <a:pt x="10954" y="9779"/>
                </a:moveTo>
                <a:cubicBezTo>
                  <a:pt x="10981" y="9763"/>
                  <a:pt x="11080" y="9702"/>
                  <a:pt x="11112" y="9716"/>
                </a:cubicBezTo>
                <a:cubicBezTo>
                  <a:pt x="11162" y="9738"/>
                  <a:pt x="11187" y="9751"/>
                  <a:pt x="11208" y="9779"/>
                </a:cubicBezTo>
                <a:cubicBezTo>
                  <a:pt x="11272" y="9865"/>
                  <a:pt x="11258" y="9819"/>
                  <a:pt x="11240" y="9906"/>
                </a:cubicBezTo>
                <a:cubicBezTo>
                  <a:pt x="11224" y="9983"/>
                  <a:pt x="11196" y="10027"/>
                  <a:pt x="11144" y="10096"/>
                </a:cubicBezTo>
                <a:cubicBezTo>
                  <a:pt x="11101" y="10152"/>
                  <a:pt x="11039" y="10181"/>
                  <a:pt x="10986" y="10224"/>
                </a:cubicBezTo>
                <a:cubicBezTo>
                  <a:pt x="10992" y="10230"/>
                  <a:pt x="11094" y="10249"/>
                  <a:pt x="11144" y="10224"/>
                </a:cubicBezTo>
                <a:cubicBezTo>
                  <a:pt x="11201" y="10196"/>
                  <a:pt x="11235" y="10192"/>
                  <a:pt x="11303" y="10192"/>
                </a:cubicBezTo>
                <a:cubicBezTo>
                  <a:pt x="11335" y="10192"/>
                  <a:pt x="11345" y="10192"/>
                  <a:pt x="11366" y="10192"/>
                </a:cubicBezTo>
              </a:path>
              <a:path w="4256" h="1461">
                <a:moveTo>
                  <a:pt x="11589" y="9716"/>
                </a:moveTo>
                <a:cubicBezTo>
                  <a:pt x="11579" y="9767"/>
                  <a:pt x="11551" y="9835"/>
                  <a:pt x="11525" y="9874"/>
                </a:cubicBezTo>
                <a:cubicBezTo>
                  <a:pt x="11496" y="9919"/>
                  <a:pt x="11474" y="9971"/>
                  <a:pt x="11494" y="10033"/>
                </a:cubicBezTo>
                <a:cubicBezTo>
                  <a:pt x="11520" y="10112"/>
                  <a:pt x="11547" y="10128"/>
                  <a:pt x="11620" y="10128"/>
                </a:cubicBezTo>
                <a:cubicBezTo>
                  <a:pt x="11688" y="10128"/>
                  <a:pt x="11725" y="10096"/>
                  <a:pt x="11748" y="10065"/>
                </a:cubicBezTo>
                <a:cubicBezTo>
                  <a:pt x="11784" y="10017"/>
                  <a:pt x="11779" y="9999"/>
                  <a:pt x="11779" y="9938"/>
                </a:cubicBezTo>
                <a:cubicBezTo>
                  <a:pt x="11779" y="9887"/>
                  <a:pt x="11762" y="9810"/>
                  <a:pt x="11716" y="9779"/>
                </a:cubicBezTo>
                <a:cubicBezTo>
                  <a:pt x="11672" y="9749"/>
                  <a:pt x="11603" y="9727"/>
                  <a:pt x="11557" y="9716"/>
                </a:cubicBezTo>
              </a:path>
              <a:path w="4256" h="1461">
                <a:moveTo>
                  <a:pt x="12256" y="9620"/>
                </a:moveTo>
                <a:cubicBezTo>
                  <a:pt x="12256" y="9678"/>
                  <a:pt x="12228" y="9696"/>
                  <a:pt x="12224" y="9747"/>
                </a:cubicBezTo>
                <a:cubicBezTo>
                  <a:pt x="12215" y="9878"/>
                  <a:pt x="12222" y="10015"/>
                  <a:pt x="12256" y="10128"/>
                </a:cubicBezTo>
                <a:cubicBezTo>
                  <a:pt x="12264" y="10154"/>
                  <a:pt x="12256" y="10197"/>
                  <a:pt x="12256" y="10224"/>
                </a:cubicBezTo>
              </a:path>
              <a:path w="4256" h="1461">
                <a:moveTo>
                  <a:pt x="12636" y="9747"/>
                </a:moveTo>
                <a:cubicBezTo>
                  <a:pt x="12567" y="9777"/>
                  <a:pt x="12508" y="9796"/>
                  <a:pt x="12446" y="9842"/>
                </a:cubicBezTo>
                <a:cubicBezTo>
                  <a:pt x="12397" y="9879"/>
                  <a:pt x="12346" y="9936"/>
                  <a:pt x="12319" y="9970"/>
                </a:cubicBezTo>
                <a:cubicBezTo>
                  <a:pt x="12308" y="9980"/>
                  <a:pt x="12298" y="9991"/>
                  <a:pt x="12287" y="10001"/>
                </a:cubicBezTo>
                <a:cubicBezTo>
                  <a:pt x="12304" y="10035"/>
                  <a:pt x="12367" y="10086"/>
                  <a:pt x="12414" y="10096"/>
                </a:cubicBezTo>
                <a:cubicBezTo>
                  <a:pt x="12484" y="10110"/>
                  <a:pt x="12514" y="10108"/>
                  <a:pt x="12573" y="10128"/>
                </a:cubicBezTo>
                <a:cubicBezTo>
                  <a:pt x="12605" y="10128"/>
                  <a:pt x="12615" y="10128"/>
                  <a:pt x="12636" y="10128"/>
                </a:cubicBezTo>
              </a:path>
              <a:path w="4256" h="1461">
                <a:moveTo>
                  <a:pt x="12954" y="9620"/>
                </a:moveTo>
                <a:cubicBezTo>
                  <a:pt x="12954" y="9678"/>
                  <a:pt x="12982" y="9696"/>
                  <a:pt x="12986" y="9747"/>
                </a:cubicBezTo>
                <a:cubicBezTo>
                  <a:pt x="12991" y="9823"/>
                  <a:pt x="13036" y="9872"/>
                  <a:pt x="13049" y="9938"/>
                </a:cubicBezTo>
                <a:cubicBezTo>
                  <a:pt x="13065" y="10020"/>
                  <a:pt x="13067" y="10130"/>
                  <a:pt x="12986" y="10160"/>
                </a:cubicBezTo>
                <a:cubicBezTo>
                  <a:pt x="12927" y="10182"/>
                  <a:pt x="12895" y="10132"/>
                  <a:pt x="12859" y="10096"/>
                </a:cubicBezTo>
                <a:cubicBezTo>
                  <a:pt x="12848" y="10086"/>
                  <a:pt x="12838" y="10075"/>
                  <a:pt x="12827" y="10065"/>
                </a:cubicBezTo>
              </a:path>
              <a:path w="4256" h="1461">
                <a:moveTo>
                  <a:pt x="12700" y="9684"/>
                </a:moveTo>
                <a:cubicBezTo>
                  <a:pt x="12827" y="9684"/>
                  <a:pt x="12954" y="9684"/>
                  <a:pt x="13081" y="9684"/>
                </a:cubicBezTo>
              </a:path>
              <a:path w="4256" h="1461">
                <a:moveTo>
                  <a:pt x="9462" y="10509"/>
                </a:moveTo>
                <a:cubicBezTo>
                  <a:pt x="9616" y="10509"/>
                  <a:pt x="9760" y="10502"/>
                  <a:pt x="9906" y="10478"/>
                </a:cubicBezTo>
                <a:cubicBezTo>
                  <a:pt x="10429" y="10393"/>
                  <a:pt x="11000" y="10507"/>
                  <a:pt x="11525" y="10446"/>
                </a:cubicBezTo>
                <a:cubicBezTo>
                  <a:pt x="11775" y="10417"/>
                  <a:pt x="12044" y="10451"/>
                  <a:pt x="12287" y="10478"/>
                </a:cubicBezTo>
                <a:cubicBezTo>
                  <a:pt x="12603" y="10513"/>
                  <a:pt x="12931" y="10461"/>
                  <a:pt x="13240" y="10509"/>
                </a:cubicBezTo>
                <a:cubicBezTo>
                  <a:pt x="13280" y="10515"/>
                  <a:pt x="13326" y="10509"/>
                  <a:pt x="13367" y="10509"/>
                </a:cubicBezTo>
              </a:path>
              <a:path w="4256" h="1461">
                <a:moveTo>
                  <a:pt x="9112" y="10096"/>
                </a:moveTo>
                <a:cubicBezTo>
                  <a:pt x="9176" y="10081"/>
                  <a:pt x="9195" y="10065"/>
                  <a:pt x="9271" y="10065"/>
                </a:cubicBezTo>
                <a:cubicBezTo>
                  <a:pt x="9356" y="10065"/>
                  <a:pt x="9440" y="10065"/>
                  <a:pt x="9525" y="10065"/>
                </a:cubicBezTo>
                <a:cubicBezTo>
                  <a:pt x="9448" y="10065"/>
                  <a:pt x="9426" y="10084"/>
                  <a:pt x="9366" y="10096"/>
                </a:cubicBezTo>
                <a:cubicBezTo>
                  <a:pt x="9354" y="10098"/>
                  <a:pt x="9156" y="10096"/>
                  <a:pt x="9239" y="10096"/>
                </a:cubicBezTo>
                <a:cubicBezTo>
                  <a:pt x="9250" y="10096"/>
                  <a:pt x="9260" y="10096"/>
                  <a:pt x="9271" y="10096"/>
                </a:cubicBezTo>
              </a:path>
              <a:path w="4256" h="1461">
                <a:moveTo>
                  <a:pt x="9366" y="9049"/>
                </a:moveTo>
                <a:cubicBezTo>
                  <a:pt x="9366" y="9165"/>
                  <a:pt x="9378" y="9267"/>
                  <a:pt x="9398" y="9366"/>
                </a:cubicBezTo>
                <a:cubicBezTo>
                  <a:pt x="9421" y="9481"/>
                  <a:pt x="9395" y="9620"/>
                  <a:pt x="9366" y="9716"/>
                </a:cubicBezTo>
                <a:cubicBezTo>
                  <a:pt x="9355" y="9753"/>
                  <a:pt x="9366" y="9803"/>
                  <a:pt x="9366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68920" y="3681360"/>
            <a:ext cx="138240" cy="79560"/>
          </a:xfrm>
          <a:custGeom>
            <a:avLst/>
            <a:gdLst/>
            <a:ahLst/>
            <a:rect l="l" t="t" r="r" b="b"/>
            <a:pathLst>
              <a:path w="382" h="223">
                <a:moveTo>
                  <a:pt x="15748" y="10255"/>
                </a:moveTo>
                <a:cubicBezTo>
                  <a:pt x="15798" y="10243"/>
                  <a:pt x="15819" y="10224"/>
                  <a:pt x="15875" y="10224"/>
                </a:cubicBezTo>
                <a:cubicBezTo>
                  <a:pt x="15938" y="10224"/>
                  <a:pt x="16093" y="10198"/>
                  <a:pt x="16129" y="10255"/>
                </a:cubicBezTo>
                <a:cubicBezTo>
                  <a:pt x="16129" y="10266"/>
                  <a:pt x="16129" y="10276"/>
                  <a:pt x="16129" y="10287"/>
                </a:cubicBezTo>
              </a:path>
              <a:path w="382" h="223">
                <a:moveTo>
                  <a:pt x="15875" y="10446"/>
                </a:moveTo>
                <a:cubicBezTo>
                  <a:pt x="15953" y="10446"/>
                  <a:pt x="16006" y="10459"/>
                  <a:pt x="16066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240600" y="3429000"/>
            <a:ext cx="1373040" cy="446040"/>
          </a:xfrm>
          <a:custGeom>
            <a:avLst/>
            <a:gdLst/>
            <a:ahLst/>
            <a:rect l="l" t="t" r="r" b="b"/>
            <a:pathLst>
              <a:path w="3811" h="1239">
                <a:moveTo>
                  <a:pt x="17399" y="9747"/>
                </a:moveTo>
                <a:cubicBezTo>
                  <a:pt x="17399" y="9842"/>
                  <a:pt x="17393" y="9893"/>
                  <a:pt x="17367" y="9970"/>
                </a:cubicBezTo>
                <a:cubicBezTo>
                  <a:pt x="17327" y="10087"/>
                  <a:pt x="17364" y="10259"/>
                  <a:pt x="17336" y="10382"/>
                </a:cubicBezTo>
                <a:cubicBezTo>
                  <a:pt x="17328" y="10420"/>
                  <a:pt x="17336" y="10470"/>
                  <a:pt x="17336" y="10509"/>
                </a:cubicBezTo>
              </a:path>
              <a:path w="3811" h="1239">
                <a:moveTo>
                  <a:pt x="17653" y="10414"/>
                </a:moveTo>
                <a:cubicBezTo>
                  <a:pt x="17695" y="10470"/>
                  <a:pt x="17685" y="10498"/>
                  <a:pt x="17685" y="10573"/>
                </a:cubicBezTo>
                <a:cubicBezTo>
                  <a:pt x="17685" y="10641"/>
                  <a:pt x="17669" y="10651"/>
                  <a:pt x="17621" y="10700"/>
                </a:cubicBezTo>
                <a:cubicBezTo>
                  <a:pt x="17566" y="10756"/>
                  <a:pt x="17573" y="10752"/>
                  <a:pt x="17494" y="10763"/>
                </a:cubicBezTo>
              </a:path>
              <a:path w="3811" h="1239">
                <a:moveTo>
                  <a:pt x="18288" y="9874"/>
                </a:moveTo>
                <a:cubicBezTo>
                  <a:pt x="18288" y="9791"/>
                  <a:pt x="18278" y="9786"/>
                  <a:pt x="18193" y="9779"/>
                </a:cubicBezTo>
                <a:cubicBezTo>
                  <a:pt x="18127" y="9773"/>
                  <a:pt x="18112" y="9797"/>
                  <a:pt x="18066" y="9842"/>
                </a:cubicBezTo>
                <a:cubicBezTo>
                  <a:pt x="18013" y="9894"/>
                  <a:pt x="18003" y="9945"/>
                  <a:pt x="17970" y="10001"/>
                </a:cubicBezTo>
                <a:cubicBezTo>
                  <a:pt x="17929" y="10071"/>
                  <a:pt x="17941" y="10067"/>
                  <a:pt x="18002" y="10128"/>
                </a:cubicBezTo>
                <a:cubicBezTo>
                  <a:pt x="18050" y="10176"/>
                  <a:pt x="18082" y="10170"/>
                  <a:pt x="18129" y="10128"/>
                </a:cubicBezTo>
                <a:cubicBezTo>
                  <a:pt x="18180" y="10082"/>
                  <a:pt x="18189" y="10094"/>
                  <a:pt x="18224" y="10033"/>
                </a:cubicBezTo>
                <a:cubicBezTo>
                  <a:pt x="18252" y="9985"/>
                  <a:pt x="18256" y="9818"/>
                  <a:pt x="18256" y="9874"/>
                </a:cubicBezTo>
                <a:cubicBezTo>
                  <a:pt x="18256" y="9969"/>
                  <a:pt x="18267" y="10038"/>
                  <a:pt x="18288" y="10128"/>
                </a:cubicBezTo>
                <a:cubicBezTo>
                  <a:pt x="18308" y="10214"/>
                  <a:pt x="18252" y="10587"/>
                  <a:pt x="18320" y="10541"/>
                </a:cubicBezTo>
              </a:path>
              <a:path w="3811" h="1239">
                <a:moveTo>
                  <a:pt x="18574" y="9842"/>
                </a:moveTo>
                <a:cubicBezTo>
                  <a:pt x="18540" y="9887"/>
                  <a:pt x="18525" y="9951"/>
                  <a:pt x="18510" y="10001"/>
                </a:cubicBezTo>
                <a:cubicBezTo>
                  <a:pt x="18496" y="10047"/>
                  <a:pt x="18524" y="10155"/>
                  <a:pt x="18542" y="10192"/>
                </a:cubicBezTo>
                <a:cubicBezTo>
                  <a:pt x="18559" y="10225"/>
                  <a:pt x="18637" y="10252"/>
                  <a:pt x="18669" y="10255"/>
                </a:cubicBezTo>
                <a:cubicBezTo>
                  <a:pt x="18708" y="10259"/>
                  <a:pt x="18808" y="10254"/>
                  <a:pt x="18828" y="10224"/>
                </a:cubicBezTo>
                <a:cubicBezTo>
                  <a:pt x="18847" y="10196"/>
                  <a:pt x="18907" y="10131"/>
                  <a:pt x="18923" y="10096"/>
                </a:cubicBezTo>
                <a:cubicBezTo>
                  <a:pt x="18923" y="10065"/>
                  <a:pt x="18923" y="10054"/>
                  <a:pt x="18923" y="10033"/>
                </a:cubicBezTo>
              </a:path>
              <a:path w="3811" h="1239">
                <a:moveTo>
                  <a:pt x="18923" y="9779"/>
                </a:moveTo>
                <a:cubicBezTo>
                  <a:pt x="18923" y="9840"/>
                  <a:pt x="18895" y="9880"/>
                  <a:pt x="18891" y="9938"/>
                </a:cubicBezTo>
                <a:cubicBezTo>
                  <a:pt x="18885" y="10028"/>
                  <a:pt x="18860" y="10098"/>
                  <a:pt x="18860" y="10192"/>
                </a:cubicBezTo>
                <a:cubicBezTo>
                  <a:pt x="18860" y="10303"/>
                  <a:pt x="18852" y="10376"/>
                  <a:pt x="18828" y="10478"/>
                </a:cubicBezTo>
                <a:cubicBezTo>
                  <a:pt x="18814" y="10540"/>
                  <a:pt x="18815" y="10621"/>
                  <a:pt x="18860" y="10636"/>
                </a:cubicBezTo>
              </a:path>
              <a:path w="3811" h="1239">
                <a:moveTo>
                  <a:pt x="19209" y="9874"/>
                </a:moveTo>
                <a:cubicBezTo>
                  <a:pt x="19198" y="9931"/>
                  <a:pt x="19177" y="9973"/>
                  <a:pt x="19177" y="10033"/>
                </a:cubicBezTo>
                <a:cubicBezTo>
                  <a:pt x="19177" y="10100"/>
                  <a:pt x="19145" y="10151"/>
                  <a:pt x="19145" y="10224"/>
                </a:cubicBezTo>
                <a:cubicBezTo>
                  <a:pt x="19145" y="10304"/>
                  <a:pt x="19128" y="10385"/>
                  <a:pt x="19177" y="10446"/>
                </a:cubicBezTo>
                <a:cubicBezTo>
                  <a:pt x="19211" y="10488"/>
                  <a:pt x="19252" y="10535"/>
                  <a:pt x="19304" y="10541"/>
                </a:cubicBezTo>
                <a:cubicBezTo>
                  <a:pt x="19367" y="10548"/>
                  <a:pt x="19383" y="10519"/>
                  <a:pt x="19431" y="10509"/>
                </a:cubicBezTo>
                <a:cubicBezTo>
                  <a:pt x="19539" y="10486"/>
                  <a:pt x="19509" y="10474"/>
                  <a:pt x="19558" y="10382"/>
                </a:cubicBezTo>
                <a:cubicBezTo>
                  <a:pt x="19598" y="10308"/>
                  <a:pt x="19617" y="10211"/>
                  <a:pt x="19622" y="10128"/>
                </a:cubicBezTo>
                <a:cubicBezTo>
                  <a:pt x="19626" y="10053"/>
                  <a:pt x="19576" y="9994"/>
                  <a:pt x="19526" y="9938"/>
                </a:cubicBezTo>
                <a:cubicBezTo>
                  <a:pt x="19473" y="9879"/>
                  <a:pt x="19409" y="9848"/>
                  <a:pt x="19336" y="9842"/>
                </a:cubicBezTo>
                <a:cubicBezTo>
                  <a:pt x="19269" y="9836"/>
                  <a:pt x="19254" y="9860"/>
                  <a:pt x="19209" y="9906"/>
                </a:cubicBezTo>
              </a:path>
              <a:path w="3811" h="1239">
                <a:moveTo>
                  <a:pt x="20225" y="9620"/>
                </a:moveTo>
                <a:cubicBezTo>
                  <a:pt x="20225" y="9704"/>
                  <a:pt x="20194" y="9949"/>
                  <a:pt x="20256" y="9970"/>
                </a:cubicBezTo>
              </a:path>
              <a:path w="3811" h="1239">
                <a:moveTo>
                  <a:pt x="20479" y="9620"/>
                </a:moveTo>
                <a:cubicBezTo>
                  <a:pt x="20455" y="9652"/>
                  <a:pt x="20430" y="9734"/>
                  <a:pt x="20384" y="9747"/>
                </a:cubicBezTo>
                <a:cubicBezTo>
                  <a:pt x="20363" y="9747"/>
                  <a:pt x="20341" y="9747"/>
                  <a:pt x="20320" y="9747"/>
                </a:cubicBezTo>
                <a:cubicBezTo>
                  <a:pt x="20308" y="9794"/>
                  <a:pt x="20294" y="9805"/>
                  <a:pt x="20256" y="9842"/>
                </a:cubicBezTo>
                <a:cubicBezTo>
                  <a:pt x="20297" y="9873"/>
                  <a:pt x="20346" y="9881"/>
                  <a:pt x="20384" y="9906"/>
                </a:cubicBezTo>
                <a:cubicBezTo>
                  <a:pt x="20432" y="9939"/>
                  <a:pt x="20463" y="9934"/>
                  <a:pt x="20510" y="9970"/>
                </a:cubicBezTo>
              </a:path>
              <a:path w="3811" h="1239">
                <a:moveTo>
                  <a:pt x="20733" y="9525"/>
                </a:moveTo>
                <a:cubicBezTo>
                  <a:pt x="20764" y="9599"/>
                  <a:pt x="20764" y="9635"/>
                  <a:pt x="20764" y="9716"/>
                </a:cubicBezTo>
                <a:cubicBezTo>
                  <a:pt x="20764" y="9766"/>
                  <a:pt x="20777" y="9836"/>
                  <a:pt x="20733" y="9874"/>
                </a:cubicBezTo>
                <a:cubicBezTo>
                  <a:pt x="20688" y="9913"/>
                  <a:pt x="20642" y="9845"/>
                  <a:pt x="20638" y="9811"/>
                </a:cubicBezTo>
                <a:cubicBezTo>
                  <a:pt x="20638" y="9800"/>
                  <a:pt x="20638" y="9790"/>
                  <a:pt x="20638" y="9779"/>
                </a:cubicBezTo>
              </a:path>
              <a:path w="3811" h="1239">
                <a:moveTo>
                  <a:pt x="20510" y="9557"/>
                </a:moveTo>
                <a:cubicBezTo>
                  <a:pt x="20605" y="9557"/>
                  <a:pt x="20672" y="9539"/>
                  <a:pt x="20764" y="9525"/>
                </a:cubicBezTo>
                <a:cubicBezTo>
                  <a:pt x="20844" y="9513"/>
                  <a:pt x="21125" y="9495"/>
                  <a:pt x="21146" y="9557"/>
                </a:cubicBezTo>
              </a:path>
              <a:path w="3811" h="1239">
                <a:moveTo>
                  <a:pt x="20098" y="10160"/>
                </a:moveTo>
                <a:cubicBezTo>
                  <a:pt x="20121" y="10066"/>
                  <a:pt x="20147" y="10119"/>
                  <a:pt x="20225" y="10096"/>
                </a:cubicBezTo>
                <a:cubicBezTo>
                  <a:pt x="20333" y="10065"/>
                  <a:pt x="20431" y="10086"/>
                  <a:pt x="20542" y="10065"/>
                </a:cubicBezTo>
                <a:cubicBezTo>
                  <a:pt x="20663" y="10042"/>
                  <a:pt x="20766" y="10033"/>
                  <a:pt x="20892" y="10033"/>
                </a:cubicBezTo>
                <a:cubicBezTo>
                  <a:pt x="20960" y="10033"/>
                  <a:pt x="21031" y="10008"/>
                  <a:pt x="21050" y="10065"/>
                </a:cubicBezTo>
              </a:path>
              <a:path w="3811" h="1239">
                <a:moveTo>
                  <a:pt x="20225" y="10414"/>
                </a:moveTo>
                <a:cubicBezTo>
                  <a:pt x="20233" y="10482"/>
                  <a:pt x="20256" y="10535"/>
                  <a:pt x="20256" y="10604"/>
                </a:cubicBezTo>
                <a:cubicBezTo>
                  <a:pt x="20256" y="10657"/>
                  <a:pt x="20256" y="10710"/>
                  <a:pt x="20256" y="10763"/>
                </a:cubicBezTo>
                <a:cubicBezTo>
                  <a:pt x="20216" y="10655"/>
                  <a:pt x="20231" y="10644"/>
                  <a:pt x="20256" y="10541"/>
                </a:cubicBezTo>
                <a:cubicBezTo>
                  <a:pt x="20271" y="10480"/>
                  <a:pt x="20299" y="10467"/>
                  <a:pt x="20352" y="10446"/>
                </a:cubicBezTo>
                <a:cubicBezTo>
                  <a:pt x="20408" y="10516"/>
                  <a:pt x="20415" y="10548"/>
                  <a:pt x="20415" y="10636"/>
                </a:cubicBezTo>
                <a:cubicBezTo>
                  <a:pt x="20415" y="10666"/>
                  <a:pt x="20415" y="10818"/>
                  <a:pt x="20415" y="10668"/>
                </a:cubicBezTo>
                <a:cubicBezTo>
                  <a:pt x="20415" y="10582"/>
                  <a:pt x="20429" y="10519"/>
                  <a:pt x="20479" y="10446"/>
                </a:cubicBezTo>
                <a:cubicBezTo>
                  <a:pt x="20507" y="10417"/>
                  <a:pt x="20513" y="10406"/>
                  <a:pt x="20542" y="10414"/>
                </a:cubicBezTo>
                <a:cubicBezTo>
                  <a:pt x="20595" y="10432"/>
                  <a:pt x="20574" y="10475"/>
                  <a:pt x="20574" y="10541"/>
                </a:cubicBezTo>
                <a:cubicBezTo>
                  <a:pt x="20574" y="10571"/>
                  <a:pt x="20560" y="10823"/>
                  <a:pt x="20606" y="10732"/>
                </a:cubicBezTo>
                <a:cubicBezTo>
                  <a:pt x="20606" y="10721"/>
                  <a:pt x="20606" y="10711"/>
                  <a:pt x="20606" y="10700"/>
                </a:cubicBezTo>
              </a:path>
              <a:path w="3811" h="1239">
                <a:moveTo>
                  <a:pt x="20733" y="10414"/>
                </a:moveTo>
                <a:cubicBezTo>
                  <a:pt x="20676" y="10484"/>
                  <a:pt x="20669" y="10515"/>
                  <a:pt x="20669" y="10604"/>
                </a:cubicBezTo>
                <a:cubicBezTo>
                  <a:pt x="20669" y="10671"/>
                  <a:pt x="20710" y="10668"/>
                  <a:pt x="20764" y="10668"/>
                </a:cubicBezTo>
                <a:cubicBezTo>
                  <a:pt x="20830" y="10668"/>
                  <a:pt x="20886" y="10684"/>
                  <a:pt x="20892" y="10604"/>
                </a:cubicBezTo>
                <a:cubicBezTo>
                  <a:pt x="20897" y="10541"/>
                  <a:pt x="20867" y="10490"/>
                  <a:pt x="20828" y="10446"/>
                </a:cubicBezTo>
                <a:cubicBezTo>
                  <a:pt x="20791" y="10404"/>
                  <a:pt x="20671" y="10382"/>
                  <a:pt x="20733" y="10382"/>
                </a:cubicBezTo>
              </a:path>
              <a:path w="3811" h="1239">
                <a:moveTo>
                  <a:pt x="21082" y="10192"/>
                </a:moveTo>
                <a:cubicBezTo>
                  <a:pt x="21082" y="10262"/>
                  <a:pt x="21055" y="10312"/>
                  <a:pt x="21050" y="10382"/>
                </a:cubicBezTo>
                <a:cubicBezTo>
                  <a:pt x="21042" y="10489"/>
                  <a:pt x="21055" y="10579"/>
                  <a:pt x="21082" y="10668"/>
                </a:cubicBezTo>
                <a:cubicBezTo>
                  <a:pt x="21082" y="10679"/>
                  <a:pt x="21082" y="10689"/>
                  <a:pt x="21082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3486240" y="3921120"/>
            <a:ext cx="1235160" cy="262080"/>
          </a:xfrm>
          <a:custGeom>
            <a:avLst/>
            <a:gdLst/>
            <a:ahLst/>
            <a:rect l="l" t="t" r="r" b="b"/>
            <a:pathLst>
              <a:path w="3430" h="731">
                <a:moveTo>
                  <a:pt x="9747" y="11112"/>
                </a:moveTo>
                <a:cubicBezTo>
                  <a:pt x="9733" y="11169"/>
                  <a:pt x="9700" y="11209"/>
                  <a:pt x="9684" y="11271"/>
                </a:cubicBezTo>
                <a:cubicBezTo>
                  <a:pt x="9660" y="11366"/>
                  <a:pt x="9693" y="11480"/>
                  <a:pt x="9716" y="11557"/>
                </a:cubicBezTo>
                <a:cubicBezTo>
                  <a:pt x="9738" y="11632"/>
                  <a:pt x="9762" y="11620"/>
                  <a:pt x="9842" y="11620"/>
                </a:cubicBezTo>
                <a:cubicBezTo>
                  <a:pt x="9902" y="11620"/>
                  <a:pt x="9950" y="11551"/>
                  <a:pt x="9970" y="11525"/>
                </a:cubicBezTo>
                <a:cubicBezTo>
                  <a:pt x="10001" y="11484"/>
                  <a:pt x="10055" y="11412"/>
                  <a:pt x="10065" y="11366"/>
                </a:cubicBezTo>
                <a:cubicBezTo>
                  <a:pt x="10077" y="11312"/>
                  <a:pt x="10058" y="11218"/>
                  <a:pt x="10033" y="11176"/>
                </a:cubicBezTo>
                <a:cubicBezTo>
                  <a:pt x="10001" y="11123"/>
                  <a:pt x="9930" y="11095"/>
                  <a:pt x="9874" y="11081"/>
                </a:cubicBezTo>
                <a:cubicBezTo>
                  <a:pt x="9824" y="11069"/>
                  <a:pt x="9782" y="11080"/>
                  <a:pt x="9747" y="11112"/>
                </a:cubicBezTo>
                <a:cubicBezTo>
                  <a:pt x="9737" y="11123"/>
                  <a:pt x="9726" y="11133"/>
                  <a:pt x="9716" y="11144"/>
                </a:cubicBezTo>
              </a:path>
              <a:path w="3430" h="731">
                <a:moveTo>
                  <a:pt x="10350" y="11462"/>
                </a:moveTo>
                <a:cubicBezTo>
                  <a:pt x="10345" y="11469"/>
                  <a:pt x="10276" y="11594"/>
                  <a:pt x="10350" y="11557"/>
                </a:cubicBezTo>
                <a:cubicBezTo>
                  <a:pt x="10361" y="11546"/>
                  <a:pt x="10371" y="11536"/>
                  <a:pt x="10382" y="11525"/>
                </a:cubicBezTo>
                <a:cubicBezTo>
                  <a:pt x="10367" y="11481"/>
                  <a:pt x="10274" y="11569"/>
                  <a:pt x="10319" y="11557"/>
                </a:cubicBezTo>
                <a:cubicBezTo>
                  <a:pt x="10460" y="11520"/>
                  <a:pt x="10298" y="11461"/>
                  <a:pt x="10319" y="11525"/>
                </a:cubicBezTo>
                <a:cubicBezTo>
                  <a:pt x="10329" y="11525"/>
                  <a:pt x="10340" y="11525"/>
                  <a:pt x="10350" y="11525"/>
                </a:cubicBezTo>
              </a:path>
              <a:path w="3430" h="731">
                <a:moveTo>
                  <a:pt x="10668" y="10954"/>
                </a:moveTo>
                <a:cubicBezTo>
                  <a:pt x="10668" y="11034"/>
                  <a:pt x="10642" y="11069"/>
                  <a:pt x="10636" y="11144"/>
                </a:cubicBezTo>
                <a:cubicBezTo>
                  <a:pt x="10627" y="11249"/>
                  <a:pt x="10619" y="11378"/>
                  <a:pt x="10668" y="11462"/>
                </a:cubicBezTo>
                <a:cubicBezTo>
                  <a:pt x="10728" y="11566"/>
                  <a:pt x="10742" y="11554"/>
                  <a:pt x="10827" y="11525"/>
                </a:cubicBezTo>
                <a:cubicBezTo>
                  <a:pt x="10862" y="11513"/>
                  <a:pt x="10968" y="11466"/>
                  <a:pt x="10986" y="11430"/>
                </a:cubicBezTo>
                <a:cubicBezTo>
                  <a:pt x="11015" y="11372"/>
                  <a:pt x="10986" y="11184"/>
                  <a:pt x="10954" y="11144"/>
                </a:cubicBezTo>
                <a:cubicBezTo>
                  <a:pt x="10916" y="11096"/>
                  <a:pt x="10867" y="11076"/>
                  <a:pt x="10827" y="11049"/>
                </a:cubicBezTo>
                <a:cubicBezTo>
                  <a:pt x="10771" y="11011"/>
                  <a:pt x="10742" y="11017"/>
                  <a:pt x="10668" y="11017"/>
                </a:cubicBezTo>
              </a:path>
              <a:path w="3430" h="731">
                <a:moveTo>
                  <a:pt x="11240" y="10986"/>
                </a:moveTo>
                <a:cubicBezTo>
                  <a:pt x="11214" y="11047"/>
                  <a:pt x="11183" y="11110"/>
                  <a:pt x="11176" y="11176"/>
                </a:cubicBezTo>
                <a:cubicBezTo>
                  <a:pt x="11167" y="11268"/>
                  <a:pt x="11187" y="11315"/>
                  <a:pt x="11208" y="11398"/>
                </a:cubicBezTo>
                <a:cubicBezTo>
                  <a:pt x="11222" y="11454"/>
                  <a:pt x="11259" y="11482"/>
                  <a:pt x="11303" y="11525"/>
                </a:cubicBezTo>
                <a:cubicBezTo>
                  <a:pt x="11365" y="11586"/>
                  <a:pt x="11370" y="11545"/>
                  <a:pt x="11430" y="11525"/>
                </a:cubicBezTo>
                <a:cubicBezTo>
                  <a:pt x="11493" y="11504"/>
                  <a:pt x="11520" y="11475"/>
                  <a:pt x="11525" y="11398"/>
                </a:cubicBezTo>
                <a:cubicBezTo>
                  <a:pt x="11530" y="11316"/>
                  <a:pt x="11543" y="11206"/>
                  <a:pt x="11494" y="11144"/>
                </a:cubicBezTo>
                <a:cubicBezTo>
                  <a:pt x="11447" y="11085"/>
                  <a:pt x="11430" y="11044"/>
                  <a:pt x="11366" y="11017"/>
                </a:cubicBezTo>
                <a:cubicBezTo>
                  <a:pt x="11332" y="11003"/>
                  <a:pt x="11252" y="10962"/>
                  <a:pt x="11208" y="10986"/>
                </a:cubicBezTo>
                <a:cubicBezTo>
                  <a:pt x="11197" y="10996"/>
                  <a:pt x="11187" y="11007"/>
                  <a:pt x="11176" y="11017"/>
                </a:cubicBezTo>
              </a:path>
              <a:path w="3430" h="731">
                <a:moveTo>
                  <a:pt x="11716" y="11049"/>
                </a:moveTo>
                <a:cubicBezTo>
                  <a:pt x="11725" y="11014"/>
                  <a:pt x="11767" y="10935"/>
                  <a:pt x="11811" y="10922"/>
                </a:cubicBezTo>
                <a:cubicBezTo>
                  <a:pt x="11869" y="10905"/>
                  <a:pt x="11944" y="10928"/>
                  <a:pt x="11970" y="10986"/>
                </a:cubicBezTo>
                <a:cubicBezTo>
                  <a:pt x="11987" y="11023"/>
                  <a:pt x="11951" y="11149"/>
                  <a:pt x="11938" y="11176"/>
                </a:cubicBezTo>
                <a:cubicBezTo>
                  <a:pt x="11909" y="11238"/>
                  <a:pt x="11897" y="11281"/>
                  <a:pt x="11843" y="11335"/>
                </a:cubicBezTo>
                <a:cubicBezTo>
                  <a:pt x="11807" y="11370"/>
                  <a:pt x="11809" y="11390"/>
                  <a:pt x="11779" y="11430"/>
                </a:cubicBezTo>
                <a:cubicBezTo>
                  <a:pt x="11817" y="11422"/>
                  <a:pt x="11905" y="11416"/>
                  <a:pt x="11938" y="11398"/>
                </a:cubicBezTo>
                <a:cubicBezTo>
                  <a:pt x="11994" y="11367"/>
                  <a:pt x="12029" y="11366"/>
                  <a:pt x="12097" y="11366"/>
                </a:cubicBezTo>
                <a:cubicBezTo>
                  <a:pt x="12107" y="11366"/>
                  <a:pt x="12118" y="11366"/>
                  <a:pt x="12128" y="11366"/>
                </a:cubicBezTo>
              </a:path>
              <a:path w="3430" h="731">
                <a:moveTo>
                  <a:pt x="12478" y="10922"/>
                </a:moveTo>
                <a:cubicBezTo>
                  <a:pt x="12421" y="10893"/>
                  <a:pt x="12425" y="10922"/>
                  <a:pt x="12351" y="10922"/>
                </a:cubicBezTo>
                <a:cubicBezTo>
                  <a:pt x="12282" y="10922"/>
                  <a:pt x="12249" y="10948"/>
                  <a:pt x="12192" y="10954"/>
                </a:cubicBezTo>
                <a:cubicBezTo>
                  <a:pt x="12181" y="10954"/>
                  <a:pt x="12171" y="10954"/>
                  <a:pt x="12160" y="10954"/>
                </a:cubicBezTo>
                <a:cubicBezTo>
                  <a:pt x="12160" y="11017"/>
                  <a:pt x="12160" y="11081"/>
                  <a:pt x="12160" y="11144"/>
                </a:cubicBezTo>
                <a:cubicBezTo>
                  <a:pt x="12240" y="11176"/>
                  <a:pt x="12240" y="11121"/>
                  <a:pt x="12319" y="11112"/>
                </a:cubicBezTo>
                <a:cubicBezTo>
                  <a:pt x="12372" y="11106"/>
                  <a:pt x="12441" y="11143"/>
                  <a:pt x="12478" y="11176"/>
                </a:cubicBezTo>
                <a:cubicBezTo>
                  <a:pt x="12513" y="11207"/>
                  <a:pt x="12533" y="11289"/>
                  <a:pt x="12510" y="11335"/>
                </a:cubicBezTo>
                <a:cubicBezTo>
                  <a:pt x="12477" y="11400"/>
                  <a:pt x="12386" y="11445"/>
                  <a:pt x="12319" y="11462"/>
                </a:cubicBezTo>
                <a:cubicBezTo>
                  <a:pt x="12271" y="11474"/>
                  <a:pt x="12259" y="11456"/>
                  <a:pt x="12224" y="11430"/>
                </a:cubicBezTo>
              </a:path>
              <a:path w="3430" h="731">
                <a:moveTo>
                  <a:pt x="12986" y="10922"/>
                </a:moveTo>
                <a:cubicBezTo>
                  <a:pt x="12912" y="10922"/>
                  <a:pt x="12887" y="10950"/>
                  <a:pt x="12827" y="10986"/>
                </a:cubicBezTo>
                <a:cubicBezTo>
                  <a:pt x="12751" y="11032"/>
                  <a:pt x="12676" y="11097"/>
                  <a:pt x="12636" y="11176"/>
                </a:cubicBezTo>
                <a:cubicBezTo>
                  <a:pt x="12636" y="11187"/>
                  <a:pt x="12636" y="11197"/>
                  <a:pt x="12636" y="11208"/>
                </a:cubicBezTo>
                <a:cubicBezTo>
                  <a:pt x="12733" y="11208"/>
                  <a:pt x="12780" y="11204"/>
                  <a:pt x="12859" y="11144"/>
                </a:cubicBezTo>
                <a:cubicBezTo>
                  <a:pt x="12916" y="11101"/>
                  <a:pt x="12940" y="11037"/>
                  <a:pt x="12986" y="10986"/>
                </a:cubicBezTo>
                <a:cubicBezTo>
                  <a:pt x="12997" y="10975"/>
                  <a:pt x="13007" y="10965"/>
                  <a:pt x="13018" y="10954"/>
                </a:cubicBezTo>
                <a:cubicBezTo>
                  <a:pt x="13018" y="11053"/>
                  <a:pt x="13008" y="11095"/>
                  <a:pt x="13018" y="11176"/>
                </a:cubicBezTo>
                <a:cubicBezTo>
                  <a:pt x="13026" y="11246"/>
                  <a:pt x="13020" y="11336"/>
                  <a:pt x="13049" y="11398"/>
                </a:cubicBezTo>
                <a:cubicBezTo>
                  <a:pt x="13065" y="11433"/>
                  <a:pt x="13089" y="11462"/>
                  <a:pt x="13113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4869000" y="3908520"/>
            <a:ext cx="663480" cy="252360"/>
          </a:xfrm>
          <a:custGeom>
            <a:avLst/>
            <a:gdLst/>
            <a:ahLst/>
            <a:rect l="l" t="t" r="r" b="b"/>
            <a:pathLst>
              <a:path w="1842" h="700">
                <a:moveTo>
                  <a:pt x="13526" y="11112"/>
                </a:moveTo>
                <a:cubicBezTo>
                  <a:pt x="13539" y="11179"/>
                  <a:pt x="13557" y="11231"/>
                  <a:pt x="13557" y="11303"/>
                </a:cubicBezTo>
                <a:cubicBezTo>
                  <a:pt x="13557" y="11356"/>
                  <a:pt x="13557" y="11409"/>
                  <a:pt x="13557" y="11462"/>
                </a:cubicBezTo>
                <a:cubicBezTo>
                  <a:pt x="13557" y="11548"/>
                  <a:pt x="13557" y="11354"/>
                  <a:pt x="13557" y="11335"/>
                </a:cubicBezTo>
                <a:cubicBezTo>
                  <a:pt x="13557" y="11304"/>
                  <a:pt x="13568" y="11202"/>
                  <a:pt x="13621" y="11208"/>
                </a:cubicBezTo>
                <a:cubicBezTo>
                  <a:pt x="13681" y="11215"/>
                  <a:pt x="13724" y="11299"/>
                  <a:pt x="13748" y="11335"/>
                </a:cubicBezTo>
                <a:cubicBezTo>
                  <a:pt x="13781" y="11383"/>
                  <a:pt x="13780" y="11401"/>
                  <a:pt x="13780" y="11462"/>
                </a:cubicBezTo>
                <a:cubicBezTo>
                  <a:pt x="13858" y="11502"/>
                  <a:pt x="13748" y="11413"/>
                  <a:pt x="13780" y="11335"/>
                </a:cubicBezTo>
                <a:cubicBezTo>
                  <a:pt x="13802" y="11282"/>
                  <a:pt x="13839" y="11236"/>
                  <a:pt x="13875" y="11208"/>
                </a:cubicBezTo>
                <a:cubicBezTo>
                  <a:pt x="13917" y="11175"/>
                  <a:pt x="14000" y="11173"/>
                  <a:pt x="14034" y="11240"/>
                </a:cubicBezTo>
                <a:cubicBezTo>
                  <a:pt x="14059" y="11289"/>
                  <a:pt x="14065" y="11371"/>
                  <a:pt x="14065" y="11430"/>
                </a:cubicBezTo>
                <a:cubicBezTo>
                  <a:pt x="14065" y="11484"/>
                  <a:pt x="14043" y="11550"/>
                  <a:pt x="14097" y="11557"/>
                </a:cubicBezTo>
                <a:cubicBezTo>
                  <a:pt x="14108" y="11557"/>
                  <a:pt x="14118" y="11557"/>
                  <a:pt x="14129" y="11557"/>
                </a:cubicBezTo>
              </a:path>
              <a:path w="1842" h="700">
                <a:moveTo>
                  <a:pt x="14288" y="11176"/>
                </a:moveTo>
                <a:cubicBezTo>
                  <a:pt x="14257" y="11218"/>
                  <a:pt x="14212" y="11286"/>
                  <a:pt x="14192" y="11335"/>
                </a:cubicBezTo>
                <a:cubicBezTo>
                  <a:pt x="14175" y="11377"/>
                  <a:pt x="14188" y="11494"/>
                  <a:pt x="14224" y="11525"/>
                </a:cubicBezTo>
                <a:cubicBezTo>
                  <a:pt x="14261" y="11557"/>
                  <a:pt x="14338" y="11491"/>
                  <a:pt x="14351" y="11462"/>
                </a:cubicBezTo>
                <a:cubicBezTo>
                  <a:pt x="14362" y="11437"/>
                  <a:pt x="14391" y="11296"/>
                  <a:pt x="14383" y="11271"/>
                </a:cubicBezTo>
                <a:cubicBezTo>
                  <a:pt x="14368" y="11226"/>
                  <a:pt x="14324" y="11181"/>
                  <a:pt x="14288" y="11144"/>
                </a:cubicBezTo>
              </a:path>
              <a:path w="1842" h="700">
                <a:moveTo>
                  <a:pt x="14542" y="10858"/>
                </a:moveTo>
                <a:cubicBezTo>
                  <a:pt x="14507" y="10940"/>
                  <a:pt x="14510" y="10990"/>
                  <a:pt x="14510" y="11081"/>
                </a:cubicBezTo>
                <a:cubicBezTo>
                  <a:pt x="14510" y="11174"/>
                  <a:pt x="14521" y="11219"/>
                  <a:pt x="14542" y="11303"/>
                </a:cubicBezTo>
                <a:cubicBezTo>
                  <a:pt x="14558" y="11368"/>
                  <a:pt x="14595" y="11391"/>
                  <a:pt x="14668" y="11398"/>
                </a:cubicBezTo>
                <a:cubicBezTo>
                  <a:pt x="14733" y="11405"/>
                  <a:pt x="14751" y="11380"/>
                  <a:pt x="14796" y="11335"/>
                </a:cubicBezTo>
                <a:cubicBezTo>
                  <a:pt x="14834" y="11297"/>
                  <a:pt x="14854" y="11231"/>
                  <a:pt x="14859" y="11176"/>
                </a:cubicBezTo>
                <a:cubicBezTo>
                  <a:pt x="14859" y="11140"/>
                  <a:pt x="14856" y="11126"/>
                  <a:pt x="14827" y="11112"/>
                </a:cubicBezTo>
                <a:cubicBezTo>
                  <a:pt x="14751" y="11131"/>
                  <a:pt x="14739" y="11162"/>
                  <a:pt x="14732" y="11240"/>
                </a:cubicBezTo>
                <a:cubicBezTo>
                  <a:pt x="14727" y="11297"/>
                  <a:pt x="14727" y="11325"/>
                  <a:pt x="14764" y="11366"/>
                </a:cubicBezTo>
                <a:cubicBezTo>
                  <a:pt x="14810" y="11417"/>
                  <a:pt x="14825" y="11430"/>
                  <a:pt x="14891" y="11430"/>
                </a:cubicBezTo>
                <a:cubicBezTo>
                  <a:pt x="14944" y="11430"/>
                  <a:pt x="14954" y="11430"/>
                  <a:pt x="14986" y="11430"/>
                </a:cubicBezTo>
              </a:path>
              <a:path w="1842" h="700">
                <a:moveTo>
                  <a:pt x="15240" y="11049"/>
                </a:moveTo>
                <a:cubicBezTo>
                  <a:pt x="15147" y="11049"/>
                  <a:pt x="15151" y="11067"/>
                  <a:pt x="15081" y="11112"/>
                </a:cubicBezTo>
                <a:cubicBezTo>
                  <a:pt x="15060" y="11123"/>
                  <a:pt x="15039" y="11133"/>
                  <a:pt x="15018" y="11144"/>
                </a:cubicBezTo>
                <a:cubicBezTo>
                  <a:pt x="15031" y="11195"/>
                  <a:pt x="15054" y="11236"/>
                  <a:pt x="15113" y="11240"/>
                </a:cubicBezTo>
                <a:cubicBezTo>
                  <a:pt x="15180" y="11245"/>
                  <a:pt x="15252" y="11261"/>
                  <a:pt x="15304" y="11303"/>
                </a:cubicBezTo>
                <a:cubicBezTo>
                  <a:pt x="15339" y="11331"/>
                  <a:pt x="15340" y="11363"/>
                  <a:pt x="15367" y="11398"/>
                </a:cubicBezTo>
                <a:cubicBezTo>
                  <a:pt x="15313" y="11467"/>
                  <a:pt x="15288" y="11502"/>
                  <a:pt x="15208" y="11525"/>
                </a:cubicBezTo>
                <a:cubicBezTo>
                  <a:pt x="15172" y="11525"/>
                  <a:pt x="15159" y="11522"/>
                  <a:pt x="15145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7178760" y="4046400"/>
            <a:ext cx="217440" cy="378000"/>
          </a:xfrm>
          <a:custGeom>
            <a:avLst/>
            <a:gdLst/>
            <a:ahLst/>
            <a:rect l="l" t="t" r="r" b="b"/>
            <a:pathLst>
              <a:path w="604" h="1048">
                <a:moveTo>
                  <a:pt x="20193" y="11430"/>
                </a:moveTo>
                <a:cubicBezTo>
                  <a:pt x="20193" y="11716"/>
                  <a:pt x="20193" y="12001"/>
                  <a:pt x="20193" y="12287"/>
                </a:cubicBezTo>
              </a:path>
              <a:path w="604" h="1048">
                <a:moveTo>
                  <a:pt x="20193" y="11240"/>
                </a:moveTo>
                <a:cubicBezTo>
                  <a:pt x="20147" y="11255"/>
                  <a:pt x="20143" y="11317"/>
                  <a:pt x="20098" y="11366"/>
                </a:cubicBezTo>
                <a:cubicBezTo>
                  <a:pt x="20051" y="11418"/>
                  <a:pt x="20004" y="11482"/>
                  <a:pt x="19971" y="11525"/>
                </a:cubicBezTo>
                <a:cubicBezTo>
                  <a:pt x="19960" y="11536"/>
                  <a:pt x="19950" y="11546"/>
                  <a:pt x="19939" y="11557"/>
                </a:cubicBezTo>
                <a:cubicBezTo>
                  <a:pt x="19952" y="11507"/>
                  <a:pt x="19980" y="11413"/>
                  <a:pt x="20002" y="11366"/>
                </a:cubicBezTo>
                <a:cubicBezTo>
                  <a:pt x="20027" y="11312"/>
                  <a:pt x="20133" y="11221"/>
                  <a:pt x="20193" y="11240"/>
                </a:cubicBezTo>
                <a:cubicBezTo>
                  <a:pt x="20241" y="11256"/>
                  <a:pt x="20342" y="11314"/>
                  <a:pt x="20384" y="11335"/>
                </a:cubicBezTo>
                <a:cubicBezTo>
                  <a:pt x="20437" y="11361"/>
                  <a:pt x="20489" y="11401"/>
                  <a:pt x="20510" y="11430"/>
                </a:cubicBezTo>
                <a:cubicBezTo>
                  <a:pt x="20521" y="11441"/>
                  <a:pt x="20531" y="11451"/>
                  <a:pt x="20542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950160" y="4618080"/>
            <a:ext cx="422280" cy="193680"/>
          </a:xfrm>
          <a:custGeom>
            <a:avLst/>
            <a:gdLst/>
            <a:ahLst/>
            <a:rect l="l" t="t" r="r" b="b"/>
            <a:pathLst>
              <a:path w="1176" h="541">
                <a:moveTo>
                  <a:pt x="19685" y="12922"/>
                </a:moveTo>
                <a:cubicBezTo>
                  <a:pt x="19685" y="12864"/>
                  <a:pt x="19687" y="12834"/>
                  <a:pt x="19622" y="12827"/>
                </a:cubicBezTo>
                <a:cubicBezTo>
                  <a:pt x="19557" y="12820"/>
                  <a:pt x="19538" y="12845"/>
                  <a:pt x="19494" y="12890"/>
                </a:cubicBezTo>
                <a:cubicBezTo>
                  <a:pt x="19443" y="12941"/>
                  <a:pt x="19354" y="13038"/>
                  <a:pt x="19336" y="13113"/>
                </a:cubicBezTo>
                <a:cubicBezTo>
                  <a:pt x="19317" y="13193"/>
                  <a:pt x="19282" y="13268"/>
                  <a:pt x="19336" y="13335"/>
                </a:cubicBezTo>
                <a:cubicBezTo>
                  <a:pt x="19376" y="13384"/>
                  <a:pt x="19435" y="13367"/>
                  <a:pt x="19494" y="13367"/>
                </a:cubicBezTo>
                <a:cubicBezTo>
                  <a:pt x="19573" y="13367"/>
                  <a:pt x="19615" y="13338"/>
                  <a:pt x="19685" y="13303"/>
                </a:cubicBezTo>
              </a:path>
              <a:path w="1176" h="541">
                <a:moveTo>
                  <a:pt x="20002" y="12986"/>
                </a:moveTo>
                <a:cubicBezTo>
                  <a:pt x="20002" y="12975"/>
                  <a:pt x="20002" y="12965"/>
                  <a:pt x="20002" y="12954"/>
                </a:cubicBezTo>
                <a:cubicBezTo>
                  <a:pt x="19955" y="12966"/>
                  <a:pt x="19905" y="13003"/>
                  <a:pt x="19876" y="13049"/>
                </a:cubicBezTo>
                <a:cubicBezTo>
                  <a:pt x="19846" y="13095"/>
                  <a:pt x="19824" y="13160"/>
                  <a:pt x="19812" y="13208"/>
                </a:cubicBezTo>
                <a:cubicBezTo>
                  <a:pt x="19898" y="13260"/>
                  <a:pt x="19895" y="13241"/>
                  <a:pt x="19939" y="13176"/>
                </a:cubicBezTo>
                <a:cubicBezTo>
                  <a:pt x="19977" y="13120"/>
                  <a:pt x="19971" y="13092"/>
                  <a:pt x="19971" y="13018"/>
                </a:cubicBezTo>
                <a:cubicBezTo>
                  <a:pt x="19971" y="13007"/>
                  <a:pt x="19971" y="12997"/>
                  <a:pt x="19971" y="12986"/>
                </a:cubicBezTo>
                <a:cubicBezTo>
                  <a:pt x="19971" y="13071"/>
                  <a:pt x="19980" y="13108"/>
                  <a:pt x="20002" y="13176"/>
                </a:cubicBezTo>
                <a:cubicBezTo>
                  <a:pt x="20032" y="13268"/>
                  <a:pt x="19969" y="13293"/>
                  <a:pt x="20066" y="13272"/>
                </a:cubicBezTo>
                <a:cubicBezTo>
                  <a:pt x="20077" y="13272"/>
                  <a:pt x="20087" y="13272"/>
                  <a:pt x="20098" y="13272"/>
                </a:cubicBezTo>
              </a:path>
              <a:path w="1176" h="541">
                <a:moveTo>
                  <a:pt x="20130" y="12922"/>
                </a:moveTo>
                <a:cubicBezTo>
                  <a:pt x="20130" y="13023"/>
                  <a:pt x="20103" y="13160"/>
                  <a:pt x="20161" y="13240"/>
                </a:cubicBezTo>
                <a:cubicBezTo>
                  <a:pt x="20161" y="13154"/>
                  <a:pt x="20140" y="13052"/>
                  <a:pt x="20193" y="12986"/>
                </a:cubicBezTo>
                <a:cubicBezTo>
                  <a:pt x="20222" y="12957"/>
                  <a:pt x="20228" y="12947"/>
                  <a:pt x="20256" y="12954"/>
                </a:cubicBezTo>
                <a:cubicBezTo>
                  <a:pt x="20263" y="12959"/>
                  <a:pt x="20342" y="13046"/>
                  <a:pt x="20352" y="13081"/>
                </a:cubicBezTo>
                <a:cubicBezTo>
                  <a:pt x="20372" y="13149"/>
                  <a:pt x="20359" y="13236"/>
                  <a:pt x="20384" y="13303"/>
                </a:cubicBezTo>
                <a:cubicBezTo>
                  <a:pt x="20406" y="13361"/>
                  <a:pt x="20421" y="13367"/>
                  <a:pt x="20479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7521480" y="4583160"/>
            <a:ext cx="365400" cy="355680"/>
          </a:xfrm>
          <a:custGeom>
            <a:avLst/>
            <a:gdLst/>
            <a:ahLst/>
            <a:rect l="l" t="t" r="r" b="b"/>
            <a:pathLst>
              <a:path w="1017" h="985">
                <a:moveTo>
                  <a:pt x="20892" y="12954"/>
                </a:moveTo>
                <a:cubicBezTo>
                  <a:pt x="20955" y="12970"/>
                  <a:pt x="20955" y="12985"/>
                  <a:pt x="20955" y="13049"/>
                </a:cubicBezTo>
                <a:cubicBezTo>
                  <a:pt x="20955" y="13107"/>
                  <a:pt x="20988" y="13180"/>
                  <a:pt x="21050" y="13208"/>
                </a:cubicBezTo>
                <a:cubicBezTo>
                  <a:pt x="21098" y="13230"/>
                  <a:pt x="21136" y="13158"/>
                  <a:pt x="21146" y="13144"/>
                </a:cubicBezTo>
                <a:cubicBezTo>
                  <a:pt x="21186" y="13090"/>
                  <a:pt x="21205" y="13057"/>
                  <a:pt x="21209" y="12986"/>
                </a:cubicBezTo>
                <a:cubicBezTo>
                  <a:pt x="21215" y="12879"/>
                  <a:pt x="21209" y="12876"/>
                  <a:pt x="21209" y="12986"/>
                </a:cubicBezTo>
                <a:cubicBezTo>
                  <a:pt x="21209" y="13061"/>
                  <a:pt x="21260" y="13135"/>
                  <a:pt x="21272" y="13208"/>
                </a:cubicBezTo>
                <a:cubicBezTo>
                  <a:pt x="21290" y="13320"/>
                  <a:pt x="21258" y="13423"/>
                  <a:pt x="21241" y="13526"/>
                </a:cubicBezTo>
                <a:cubicBezTo>
                  <a:pt x="21227" y="13610"/>
                  <a:pt x="21172" y="13639"/>
                  <a:pt x="21114" y="13684"/>
                </a:cubicBezTo>
                <a:cubicBezTo>
                  <a:pt x="21015" y="13761"/>
                  <a:pt x="20996" y="13634"/>
                  <a:pt x="20987" y="13557"/>
                </a:cubicBezTo>
              </a:path>
              <a:path w="1017" h="985">
                <a:moveTo>
                  <a:pt x="21304" y="12954"/>
                </a:moveTo>
                <a:cubicBezTo>
                  <a:pt x="21392" y="12925"/>
                  <a:pt x="21311" y="13006"/>
                  <a:pt x="21304" y="13081"/>
                </a:cubicBezTo>
                <a:cubicBezTo>
                  <a:pt x="21299" y="13128"/>
                  <a:pt x="21284" y="13214"/>
                  <a:pt x="21336" y="13240"/>
                </a:cubicBezTo>
                <a:cubicBezTo>
                  <a:pt x="21401" y="13273"/>
                  <a:pt x="21447" y="13191"/>
                  <a:pt x="21463" y="13144"/>
                </a:cubicBezTo>
                <a:cubicBezTo>
                  <a:pt x="21490" y="13065"/>
                  <a:pt x="21477" y="12950"/>
                  <a:pt x="21400" y="12922"/>
                </a:cubicBezTo>
                <a:cubicBezTo>
                  <a:pt x="21389" y="12922"/>
                  <a:pt x="21379" y="12922"/>
                  <a:pt x="21368" y="12922"/>
                </a:cubicBezTo>
              </a:path>
              <a:path w="1017" h="985">
                <a:moveTo>
                  <a:pt x="21590" y="12954"/>
                </a:moveTo>
                <a:cubicBezTo>
                  <a:pt x="21602" y="13004"/>
                  <a:pt x="21622" y="13024"/>
                  <a:pt x="21622" y="13081"/>
                </a:cubicBezTo>
                <a:cubicBezTo>
                  <a:pt x="21622" y="13138"/>
                  <a:pt x="21665" y="13189"/>
                  <a:pt x="21717" y="13208"/>
                </a:cubicBezTo>
                <a:cubicBezTo>
                  <a:pt x="21790" y="13235"/>
                  <a:pt x="21805" y="13156"/>
                  <a:pt x="21844" y="13113"/>
                </a:cubicBezTo>
                <a:cubicBezTo>
                  <a:pt x="21887" y="13066"/>
                  <a:pt x="21893" y="12955"/>
                  <a:pt x="21908" y="12890"/>
                </a:cubicBezTo>
                <a:cubicBezTo>
                  <a:pt x="21923" y="12824"/>
                  <a:pt x="21889" y="12785"/>
                  <a:pt x="21876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8047080" y="4572000"/>
            <a:ext cx="307800" cy="171360"/>
          </a:xfrm>
          <a:custGeom>
            <a:avLst/>
            <a:gdLst/>
            <a:ahLst/>
            <a:rect l="l" t="t" r="r" b="b"/>
            <a:pathLst>
              <a:path w="858" h="477">
                <a:moveTo>
                  <a:pt x="22542" y="12764"/>
                </a:moveTo>
                <a:cubicBezTo>
                  <a:pt x="22553" y="12753"/>
                  <a:pt x="22563" y="12743"/>
                  <a:pt x="22574" y="12732"/>
                </a:cubicBezTo>
                <a:cubicBezTo>
                  <a:pt x="22497" y="12693"/>
                  <a:pt x="22524" y="12747"/>
                  <a:pt x="22447" y="12764"/>
                </a:cubicBezTo>
                <a:cubicBezTo>
                  <a:pt x="22398" y="12775"/>
                  <a:pt x="22308" y="12811"/>
                  <a:pt x="22352" y="12890"/>
                </a:cubicBezTo>
                <a:cubicBezTo>
                  <a:pt x="22381" y="12943"/>
                  <a:pt x="22441" y="12961"/>
                  <a:pt x="22479" y="12986"/>
                </a:cubicBezTo>
                <a:cubicBezTo>
                  <a:pt x="22525" y="13017"/>
                  <a:pt x="22567" y="13074"/>
                  <a:pt x="22606" y="13113"/>
                </a:cubicBezTo>
                <a:cubicBezTo>
                  <a:pt x="22508" y="13168"/>
                  <a:pt x="22532" y="13173"/>
                  <a:pt x="22447" y="13144"/>
                </a:cubicBezTo>
                <a:cubicBezTo>
                  <a:pt x="22411" y="13144"/>
                  <a:pt x="22398" y="13141"/>
                  <a:pt x="22384" y="13113"/>
                </a:cubicBezTo>
              </a:path>
              <a:path w="858" h="477">
                <a:moveTo>
                  <a:pt x="22606" y="13018"/>
                </a:moveTo>
                <a:cubicBezTo>
                  <a:pt x="22683" y="13039"/>
                  <a:pt x="22702" y="13043"/>
                  <a:pt x="22765" y="12986"/>
                </a:cubicBezTo>
                <a:cubicBezTo>
                  <a:pt x="22802" y="12953"/>
                  <a:pt x="22846" y="12901"/>
                  <a:pt x="22860" y="12859"/>
                </a:cubicBezTo>
                <a:cubicBezTo>
                  <a:pt x="22860" y="12827"/>
                  <a:pt x="22860" y="12816"/>
                  <a:pt x="22860" y="12795"/>
                </a:cubicBezTo>
                <a:cubicBezTo>
                  <a:pt x="22801" y="12795"/>
                  <a:pt x="22778" y="12787"/>
                  <a:pt x="22733" y="12827"/>
                </a:cubicBezTo>
                <a:cubicBezTo>
                  <a:pt x="22688" y="12867"/>
                  <a:pt x="22615" y="12916"/>
                  <a:pt x="22638" y="12986"/>
                </a:cubicBezTo>
                <a:cubicBezTo>
                  <a:pt x="22657" y="13044"/>
                  <a:pt x="22703" y="13075"/>
                  <a:pt x="22765" y="13081"/>
                </a:cubicBezTo>
                <a:cubicBezTo>
                  <a:pt x="22831" y="13088"/>
                  <a:pt x="22877" y="13091"/>
                  <a:pt x="22924" y="13049"/>
                </a:cubicBezTo>
                <a:cubicBezTo>
                  <a:pt x="22934" y="13039"/>
                  <a:pt x="22945" y="13028"/>
                  <a:pt x="22955" y="13018"/>
                </a:cubicBezTo>
              </a:path>
              <a:path w="858" h="477">
                <a:moveTo>
                  <a:pt x="23019" y="12954"/>
                </a:moveTo>
                <a:cubicBezTo>
                  <a:pt x="23062" y="12895"/>
                  <a:pt x="23060" y="12907"/>
                  <a:pt x="23114" y="12859"/>
                </a:cubicBezTo>
                <a:cubicBezTo>
                  <a:pt x="23179" y="12802"/>
                  <a:pt x="23178" y="12785"/>
                  <a:pt x="23178" y="12700"/>
                </a:cubicBezTo>
                <a:cubicBezTo>
                  <a:pt x="23101" y="12719"/>
                  <a:pt x="23097" y="12764"/>
                  <a:pt x="23050" y="12827"/>
                </a:cubicBezTo>
                <a:cubicBezTo>
                  <a:pt x="23026" y="12860"/>
                  <a:pt x="22994" y="12940"/>
                  <a:pt x="23019" y="12986"/>
                </a:cubicBezTo>
                <a:cubicBezTo>
                  <a:pt x="23035" y="13016"/>
                  <a:pt x="23115" y="13099"/>
                  <a:pt x="23146" y="13113"/>
                </a:cubicBezTo>
                <a:cubicBezTo>
                  <a:pt x="23182" y="13113"/>
                  <a:pt x="23195" y="13116"/>
                  <a:pt x="23209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7875720" y="4937040"/>
            <a:ext cx="11160" cy="23760"/>
          </a:xfrm>
          <a:custGeom>
            <a:avLst/>
            <a:gdLst/>
            <a:ahLst/>
            <a:rect l="l" t="t" r="r" b="b"/>
            <a:pathLst>
              <a:path w="33" h="65">
                <a:moveTo>
                  <a:pt x="21908" y="13780"/>
                </a:moveTo>
                <a:cubicBezTo>
                  <a:pt x="21876" y="13748"/>
                  <a:pt x="21865" y="13737"/>
                  <a:pt x="21908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6823080" y="4950000"/>
            <a:ext cx="663480" cy="250560"/>
          </a:xfrm>
          <a:custGeom>
            <a:avLst/>
            <a:gdLst/>
            <a:ahLst/>
            <a:rect l="l" t="t" r="r" b="b"/>
            <a:pathLst>
              <a:path w="1842" h="699">
                <a:moveTo>
                  <a:pt x="18986" y="14065"/>
                </a:moveTo>
                <a:cubicBezTo>
                  <a:pt x="18942" y="14125"/>
                  <a:pt x="18955" y="14178"/>
                  <a:pt x="18955" y="14256"/>
                </a:cubicBezTo>
                <a:cubicBezTo>
                  <a:pt x="18955" y="14322"/>
                  <a:pt x="18993" y="14411"/>
                  <a:pt x="19050" y="14446"/>
                </a:cubicBezTo>
                <a:cubicBezTo>
                  <a:pt x="19120" y="14490"/>
                  <a:pt x="19167" y="14358"/>
                  <a:pt x="19177" y="14319"/>
                </a:cubicBezTo>
                <a:cubicBezTo>
                  <a:pt x="19189" y="14272"/>
                  <a:pt x="19177" y="14210"/>
                  <a:pt x="19177" y="14160"/>
                </a:cubicBezTo>
                <a:cubicBezTo>
                  <a:pt x="19163" y="14189"/>
                  <a:pt x="19152" y="14244"/>
                  <a:pt x="19177" y="14288"/>
                </a:cubicBezTo>
                <a:cubicBezTo>
                  <a:pt x="19205" y="14338"/>
                  <a:pt x="19280" y="14379"/>
                  <a:pt x="19336" y="14351"/>
                </a:cubicBezTo>
                <a:cubicBezTo>
                  <a:pt x="19370" y="14334"/>
                  <a:pt x="19396" y="14256"/>
                  <a:pt x="19399" y="14224"/>
                </a:cubicBezTo>
                <a:cubicBezTo>
                  <a:pt x="19402" y="14196"/>
                  <a:pt x="19433" y="14048"/>
                  <a:pt x="19431" y="14034"/>
                </a:cubicBezTo>
                <a:cubicBezTo>
                  <a:pt x="19399" y="14002"/>
                  <a:pt x="19389" y="13992"/>
                  <a:pt x="19368" y="13970"/>
                </a:cubicBezTo>
              </a:path>
              <a:path w="1842" h="699">
                <a:moveTo>
                  <a:pt x="19558" y="13748"/>
                </a:moveTo>
                <a:cubicBezTo>
                  <a:pt x="19572" y="13819"/>
                  <a:pt x="19590" y="13862"/>
                  <a:pt x="19590" y="13938"/>
                </a:cubicBezTo>
                <a:cubicBezTo>
                  <a:pt x="19590" y="14026"/>
                  <a:pt x="19603" y="14079"/>
                  <a:pt x="19622" y="14160"/>
                </a:cubicBezTo>
                <a:cubicBezTo>
                  <a:pt x="19637" y="14224"/>
                  <a:pt x="19618" y="14260"/>
                  <a:pt x="19653" y="14319"/>
                </a:cubicBezTo>
                <a:cubicBezTo>
                  <a:pt x="19653" y="14221"/>
                  <a:pt x="19640" y="14178"/>
                  <a:pt x="19653" y="14097"/>
                </a:cubicBezTo>
                <a:cubicBezTo>
                  <a:pt x="19661" y="14045"/>
                  <a:pt x="19655" y="13998"/>
                  <a:pt x="19717" y="13970"/>
                </a:cubicBezTo>
                <a:cubicBezTo>
                  <a:pt x="19784" y="13940"/>
                  <a:pt x="19791" y="14003"/>
                  <a:pt x="19812" y="14034"/>
                </a:cubicBezTo>
                <a:cubicBezTo>
                  <a:pt x="19867" y="14115"/>
                  <a:pt x="19852" y="14139"/>
                  <a:pt x="19876" y="14224"/>
                </a:cubicBezTo>
                <a:cubicBezTo>
                  <a:pt x="19895" y="14290"/>
                  <a:pt x="19907" y="14289"/>
                  <a:pt x="19907" y="14351"/>
                </a:cubicBezTo>
              </a:path>
              <a:path w="1842" h="699">
                <a:moveTo>
                  <a:pt x="19971" y="14192"/>
                </a:moveTo>
                <a:cubicBezTo>
                  <a:pt x="20047" y="14192"/>
                  <a:pt x="20036" y="14156"/>
                  <a:pt x="20098" y="14129"/>
                </a:cubicBezTo>
                <a:cubicBezTo>
                  <a:pt x="20165" y="14100"/>
                  <a:pt x="20174" y="14052"/>
                  <a:pt x="20193" y="13970"/>
                </a:cubicBezTo>
                <a:cubicBezTo>
                  <a:pt x="20193" y="13959"/>
                  <a:pt x="20193" y="13949"/>
                  <a:pt x="20193" y="13938"/>
                </a:cubicBezTo>
                <a:cubicBezTo>
                  <a:pt x="20095" y="13958"/>
                  <a:pt x="20090" y="13966"/>
                  <a:pt x="20034" y="14034"/>
                </a:cubicBezTo>
                <a:cubicBezTo>
                  <a:pt x="20007" y="14066"/>
                  <a:pt x="19931" y="14177"/>
                  <a:pt x="19939" y="14224"/>
                </a:cubicBezTo>
                <a:cubicBezTo>
                  <a:pt x="19944" y="14251"/>
                  <a:pt x="20003" y="14337"/>
                  <a:pt x="20034" y="14351"/>
                </a:cubicBezTo>
                <a:cubicBezTo>
                  <a:pt x="20083" y="14373"/>
                  <a:pt x="20160" y="14348"/>
                  <a:pt x="20193" y="14319"/>
                </a:cubicBezTo>
                <a:cubicBezTo>
                  <a:pt x="20204" y="14309"/>
                  <a:pt x="20214" y="14298"/>
                  <a:pt x="20225" y="14288"/>
                </a:cubicBezTo>
              </a:path>
              <a:path w="1842" h="699">
                <a:moveTo>
                  <a:pt x="20225" y="14034"/>
                </a:moveTo>
                <a:cubicBezTo>
                  <a:pt x="20265" y="14087"/>
                  <a:pt x="20256" y="14121"/>
                  <a:pt x="20256" y="14192"/>
                </a:cubicBezTo>
                <a:cubicBezTo>
                  <a:pt x="20256" y="14221"/>
                  <a:pt x="20272" y="14354"/>
                  <a:pt x="20256" y="14256"/>
                </a:cubicBezTo>
                <a:cubicBezTo>
                  <a:pt x="20242" y="14173"/>
                  <a:pt x="20241" y="14001"/>
                  <a:pt x="20288" y="13970"/>
                </a:cubicBezTo>
              </a:path>
              <a:path w="1842" h="699">
                <a:moveTo>
                  <a:pt x="20542" y="14129"/>
                </a:moveTo>
                <a:cubicBezTo>
                  <a:pt x="20644" y="14129"/>
                  <a:pt x="20602" y="14108"/>
                  <a:pt x="20638" y="14034"/>
                </a:cubicBezTo>
                <a:cubicBezTo>
                  <a:pt x="20662" y="13985"/>
                  <a:pt x="20669" y="13996"/>
                  <a:pt x="20669" y="13938"/>
                </a:cubicBezTo>
                <a:cubicBezTo>
                  <a:pt x="20587" y="13950"/>
                  <a:pt x="20541" y="13974"/>
                  <a:pt x="20510" y="14065"/>
                </a:cubicBezTo>
                <a:cubicBezTo>
                  <a:pt x="20489" y="14127"/>
                  <a:pt x="20483" y="14156"/>
                  <a:pt x="20510" y="14224"/>
                </a:cubicBezTo>
                <a:cubicBezTo>
                  <a:pt x="20541" y="14301"/>
                  <a:pt x="20591" y="14313"/>
                  <a:pt x="20669" y="14319"/>
                </a:cubicBezTo>
                <a:cubicBezTo>
                  <a:pt x="20714" y="14323"/>
                  <a:pt x="20753" y="14296"/>
                  <a:pt x="2079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7623000" y="4903920"/>
            <a:ext cx="527400" cy="250560"/>
          </a:xfrm>
          <a:custGeom>
            <a:avLst/>
            <a:gdLst/>
            <a:ahLst/>
            <a:rect l="l" t="t" r="r" b="b"/>
            <a:pathLst>
              <a:path w="1462" h="699">
                <a:moveTo>
                  <a:pt x="21177" y="13970"/>
                </a:moveTo>
                <a:cubicBezTo>
                  <a:pt x="21177" y="14049"/>
                  <a:pt x="21190" y="14097"/>
                  <a:pt x="21209" y="14160"/>
                </a:cubicBezTo>
                <a:cubicBezTo>
                  <a:pt x="21229" y="14226"/>
                  <a:pt x="21255" y="14224"/>
                  <a:pt x="21304" y="14256"/>
                </a:cubicBezTo>
                <a:cubicBezTo>
                  <a:pt x="21315" y="14267"/>
                  <a:pt x="21325" y="14277"/>
                  <a:pt x="21336" y="14288"/>
                </a:cubicBezTo>
                <a:cubicBezTo>
                  <a:pt x="21368" y="14264"/>
                  <a:pt x="21450" y="14239"/>
                  <a:pt x="21463" y="14192"/>
                </a:cubicBezTo>
                <a:cubicBezTo>
                  <a:pt x="21485" y="14116"/>
                  <a:pt x="21495" y="14056"/>
                  <a:pt x="21495" y="13970"/>
                </a:cubicBezTo>
                <a:cubicBezTo>
                  <a:pt x="21495" y="13938"/>
                  <a:pt x="21495" y="13907"/>
                  <a:pt x="21495" y="13875"/>
                </a:cubicBezTo>
              </a:path>
              <a:path w="1462" h="699">
                <a:moveTo>
                  <a:pt x="21590" y="13938"/>
                </a:moveTo>
                <a:cubicBezTo>
                  <a:pt x="21630" y="14005"/>
                  <a:pt x="21629" y="14057"/>
                  <a:pt x="21654" y="14129"/>
                </a:cubicBezTo>
                <a:cubicBezTo>
                  <a:pt x="21679" y="14181"/>
                  <a:pt x="21690" y="14189"/>
                  <a:pt x="21685" y="14224"/>
                </a:cubicBezTo>
                <a:cubicBezTo>
                  <a:pt x="21641" y="14164"/>
                  <a:pt x="21654" y="14112"/>
                  <a:pt x="21654" y="14034"/>
                </a:cubicBezTo>
                <a:cubicBezTo>
                  <a:pt x="21654" y="13982"/>
                  <a:pt x="21661" y="13931"/>
                  <a:pt x="21717" y="13906"/>
                </a:cubicBezTo>
                <a:cubicBezTo>
                  <a:pt x="21784" y="13876"/>
                  <a:pt x="21791" y="13939"/>
                  <a:pt x="21812" y="13970"/>
                </a:cubicBezTo>
                <a:cubicBezTo>
                  <a:pt x="21853" y="14031"/>
                  <a:pt x="21844" y="14086"/>
                  <a:pt x="21844" y="14160"/>
                </a:cubicBezTo>
                <a:cubicBezTo>
                  <a:pt x="21844" y="14222"/>
                  <a:pt x="21815" y="14265"/>
                  <a:pt x="21876" y="14224"/>
                </a:cubicBezTo>
              </a:path>
              <a:path w="1462" h="699">
                <a:moveTo>
                  <a:pt x="21939" y="13970"/>
                </a:moveTo>
                <a:cubicBezTo>
                  <a:pt x="21939" y="14039"/>
                  <a:pt x="21965" y="14072"/>
                  <a:pt x="21971" y="14129"/>
                </a:cubicBezTo>
                <a:cubicBezTo>
                  <a:pt x="21978" y="14187"/>
                  <a:pt x="21950" y="14206"/>
                  <a:pt x="22003" y="14224"/>
                </a:cubicBezTo>
              </a:path>
              <a:path w="1462" h="699">
                <a:moveTo>
                  <a:pt x="22162" y="13621"/>
                </a:moveTo>
                <a:cubicBezTo>
                  <a:pt x="22162" y="13724"/>
                  <a:pt x="22176" y="13819"/>
                  <a:pt x="22193" y="13906"/>
                </a:cubicBezTo>
                <a:cubicBezTo>
                  <a:pt x="22205" y="13968"/>
                  <a:pt x="22215" y="14046"/>
                  <a:pt x="22225" y="14097"/>
                </a:cubicBezTo>
                <a:cubicBezTo>
                  <a:pt x="22234" y="14144"/>
                  <a:pt x="22225" y="14207"/>
                  <a:pt x="22225" y="14256"/>
                </a:cubicBezTo>
              </a:path>
              <a:path w="1462" h="699">
                <a:moveTo>
                  <a:pt x="22066" y="14034"/>
                </a:moveTo>
                <a:cubicBezTo>
                  <a:pt x="22130" y="14034"/>
                  <a:pt x="22193" y="14034"/>
                  <a:pt x="22257" y="14034"/>
                </a:cubicBezTo>
              </a:path>
              <a:path w="1462" h="699">
                <a:moveTo>
                  <a:pt x="22606" y="13938"/>
                </a:moveTo>
                <a:cubicBezTo>
                  <a:pt x="22594" y="13903"/>
                  <a:pt x="22534" y="13883"/>
                  <a:pt x="22479" y="13906"/>
                </a:cubicBezTo>
                <a:cubicBezTo>
                  <a:pt x="22440" y="13922"/>
                  <a:pt x="22391" y="13980"/>
                  <a:pt x="22384" y="14002"/>
                </a:cubicBezTo>
                <a:cubicBezTo>
                  <a:pt x="22434" y="14032"/>
                  <a:pt x="22496" y="14034"/>
                  <a:pt x="22542" y="14065"/>
                </a:cubicBezTo>
                <a:cubicBezTo>
                  <a:pt x="22585" y="14094"/>
                  <a:pt x="22633" y="14144"/>
                  <a:pt x="22638" y="14192"/>
                </a:cubicBezTo>
                <a:cubicBezTo>
                  <a:pt x="22646" y="14268"/>
                  <a:pt x="22538" y="14305"/>
                  <a:pt x="22479" y="14319"/>
                </a:cubicBezTo>
                <a:cubicBezTo>
                  <a:pt x="22468" y="14319"/>
                  <a:pt x="22458" y="14319"/>
                  <a:pt x="22447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6950160" y="5337000"/>
            <a:ext cx="593640" cy="195480"/>
          </a:xfrm>
          <a:custGeom>
            <a:avLst/>
            <a:gdLst/>
            <a:ahLst/>
            <a:rect l="l" t="t" r="r" b="b"/>
            <a:pathLst>
              <a:path w="1652" h="541">
                <a:moveTo>
                  <a:pt x="19653" y="14859"/>
                </a:moveTo>
                <a:cubicBezTo>
                  <a:pt x="19625" y="14837"/>
                  <a:pt x="19569" y="14803"/>
                  <a:pt x="19526" y="14827"/>
                </a:cubicBezTo>
                <a:cubicBezTo>
                  <a:pt x="19471" y="14857"/>
                  <a:pt x="19433" y="14896"/>
                  <a:pt x="19399" y="14954"/>
                </a:cubicBezTo>
                <a:cubicBezTo>
                  <a:pt x="19352" y="15034"/>
                  <a:pt x="19309" y="15116"/>
                  <a:pt x="19304" y="15208"/>
                </a:cubicBezTo>
                <a:cubicBezTo>
                  <a:pt x="19300" y="15271"/>
                  <a:pt x="19300" y="15336"/>
                  <a:pt x="19368" y="15367"/>
                </a:cubicBezTo>
                <a:cubicBezTo>
                  <a:pt x="19436" y="15397"/>
                  <a:pt x="19563" y="15357"/>
                  <a:pt x="19622" y="15335"/>
                </a:cubicBezTo>
              </a:path>
              <a:path w="1652" h="541">
                <a:moveTo>
                  <a:pt x="19907" y="14891"/>
                </a:moveTo>
                <a:cubicBezTo>
                  <a:pt x="19826" y="14891"/>
                  <a:pt x="19844" y="14916"/>
                  <a:pt x="19780" y="14986"/>
                </a:cubicBezTo>
                <a:cubicBezTo>
                  <a:pt x="19745" y="15024"/>
                  <a:pt x="19698" y="15151"/>
                  <a:pt x="19685" y="15208"/>
                </a:cubicBezTo>
                <a:cubicBezTo>
                  <a:pt x="19671" y="15273"/>
                  <a:pt x="19684" y="15291"/>
                  <a:pt x="19717" y="15335"/>
                </a:cubicBezTo>
                <a:cubicBezTo>
                  <a:pt x="19764" y="15323"/>
                  <a:pt x="19814" y="15286"/>
                  <a:pt x="19844" y="15240"/>
                </a:cubicBezTo>
                <a:cubicBezTo>
                  <a:pt x="19884" y="15177"/>
                  <a:pt x="19903" y="15090"/>
                  <a:pt x="19907" y="15018"/>
                </a:cubicBezTo>
                <a:cubicBezTo>
                  <a:pt x="19907" y="14965"/>
                  <a:pt x="19907" y="14933"/>
                  <a:pt x="19907" y="14986"/>
                </a:cubicBezTo>
                <a:cubicBezTo>
                  <a:pt x="19907" y="15062"/>
                  <a:pt x="19875" y="15346"/>
                  <a:pt x="19939" y="15367"/>
                </a:cubicBezTo>
              </a:path>
              <a:path w="1652" h="541">
                <a:moveTo>
                  <a:pt x="20066" y="14954"/>
                </a:moveTo>
                <a:cubicBezTo>
                  <a:pt x="20066" y="15067"/>
                  <a:pt x="20031" y="15248"/>
                  <a:pt x="20098" y="15335"/>
                </a:cubicBezTo>
                <a:cubicBezTo>
                  <a:pt x="20098" y="15273"/>
                  <a:pt x="20112" y="15201"/>
                  <a:pt x="20130" y="15145"/>
                </a:cubicBezTo>
                <a:cubicBezTo>
                  <a:pt x="20158" y="15061"/>
                  <a:pt x="20163" y="15017"/>
                  <a:pt x="20225" y="14954"/>
                </a:cubicBezTo>
                <a:cubicBezTo>
                  <a:pt x="20253" y="14925"/>
                  <a:pt x="20259" y="14914"/>
                  <a:pt x="20288" y="14922"/>
                </a:cubicBezTo>
                <a:cubicBezTo>
                  <a:pt x="20306" y="14996"/>
                  <a:pt x="20346" y="15058"/>
                  <a:pt x="20352" y="15145"/>
                </a:cubicBezTo>
                <a:cubicBezTo>
                  <a:pt x="20356" y="15197"/>
                  <a:pt x="20352" y="15251"/>
                  <a:pt x="20352" y="15304"/>
                </a:cubicBezTo>
                <a:cubicBezTo>
                  <a:pt x="20383" y="15220"/>
                  <a:pt x="20355" y="15128"/>
                  <a:pt x="20384" y="15050"/>
                </a:cubicBezTo>
                <a:cubicBezTo>
                  <a:pt x="20395" y="15020"/>
                  <a:pt x="20456" y="14977"/>
                  <a:pt x="20479" y="14954"/>
                </a:cubicBezTo>
                <a:cubicBezTo>
                  <a:pt x="20514" y="15008"/>
                  <a:pt x="20569" y="15083"/>
                  <a:pt x="20574" y="15145"/>
                </a:cubicBezTo>
                <a:cubicBezTo>
                  <a:pt x="20581" y="15245"/>
                  <a:pt x="20602" y="15259"/>
                  <a:pt x="20669" y="15335"/>
                </a:cubicBezTo>
              </a:path>
              <a:path w="1652" h="541">
                <a:moveTo>
                  <a:pt x="20733" y="15176"/>
                </a:moveTo>
                <a:cubicBezTo>
                  <a:pt x="20774" y="15145"/>
                  <a:pt x="20859" y="15123"/>
                  <a:pt x="20892" y="15081"/>
                </a:cubicBezTo>
                <a:cubicBezTo>
                  <a:pt x="20923" y="15042"/>
                  <a:pt x="20923" y="14976"/>
                  <a:pt x="20923" y="14922"/>
                </a:cubicBezTo>
                <a:cubicBezTo>
                  <a:pt x="20923" y="14886"/>
                  <a:pt x="20920" y="14873"/>
                  <a:pt x="20892" y="14859"/>
                </a:cubicBezTo>
                <a:cubicBezTo>
                  <a:pt x="20810" y="14913"/>
                  <a:pt x="20833" y="14927"/>
                  <a:pt x="20796" y="15018"/>
                </a:cubicBezTo>
                <a:cubicBezTo>
                  <a:pt x="20777" y="15064"/>
                  <a:pt x="20768" y="15126"/>
                  <a:pt x="20796" y="15176"/>
                </a:cubicBezTo>
                <a:cubicBezTo>
                  <a:pt x="20827" y="15231"/>
                  <a:pt x="20867" y="15240"/>
                  <a:pt x="20923" y="15240"/>
                </a:cubicBezTo>
                <a:cubicBezTo>
                  <a:pt x="20934" y="15240"/>
                  <a:pt x="20944" y="15240"/>
                  <a:pt x="2095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715160" y="5132520"/>
            <a:ext cx="743040" cy="342720"/>
          </a:xfrm>
          <a:custGeom>
            <a:avLst/>
            <a:gdLst/>
            <a:ahLst/>
            <a:rect l="l" t="t" r="r" b="b"/>
            <a:pathLst>
              <a:path w="2065" h="953">
                <a:moveTo>
                  <a:pt x="21717" y="15208"/>
                </a:moveTo>
                <a:cubicBezTo>
                  <a:pt x="21717" y="15139"/>
                  <a:pt x="21706" y="15079"/>
                  <a:pt x="21685" y="15018"/>
                </a:cubicBezTo>
                <a:cubicBezTo>
                  <a:pt x="21662" y="14950"/>
                  <a:pt x="21626" y="14839"/>
                  <a:pt x="21654" y="14764"/>
                </a:cubicBezTo>
                <a:cubicBezTo>
                  <a:pt x="21679" y="14697"/>
                  <a:pt x="21704" y="14618"/>
                  <a:pt x="21780" y="14573"/>
                </a:cubicBezTo>
                <a:cubicBezTo>
                  <a:pt x="21843" y="14536"/>
                  <a:pt x="21920" y="14585"/>
                  <a:pt x="21939" y="14637"/>
                </a:cubicBezTo>
                <a:cubicBezTo>
                  <a:pt x="21939" y="14647"/>
                  <a:pt x="21939" y="14658"/>
                  <a:pt x="21939" y="14668"/>
                </a:cubicBezTo>
              </a:path>
              <a:path w="2065" h="953">
                <a:moveTo>
                  <a:pt x="21431" y="15018"/>
                </a:moveTo>
                <a:cubicBezTo>
                  <a:pt x="21480" y="15006"/>
                  <a:pt x="21539" y="15003"/>
                  <a:pt x="21590" y="14986"/>
                </a:cubicBezTo>
                <a:cubicBezTo>
                  <a:pt x="21659" y="14963"/>
                  <a:pt x="21715" y="14904"/>
                  <a:pt x="21780" y="14891"/>
                </a:cubicBezTo>
                <a:cubicBezTo>
                  <a:pt x="21816" y="14884"/>
                  <a:pt x="21869" y="14891"/>
                  <a:pt x="21908" y="14891"/>
                </a:cubicBezTo>
                <a:cubicBezTo>
                  <a:pt x="21908" y="14965"/>
                  <a:pt x="21920" y="14992"/>
                  <a:pt x="21939" y="15050"/>
                </a:cubicBezTo>
                <a:cubicBezTo>
                  <a:pt x="21954" y="15097"/>
                  <a:pt x="21961" y="15159"/>
                  <a:pt x="21971" y="15208"/>
                </a:cubicBezTo>
                <a:cubicBezTo>
                  <a:pt x="21960" y="15130"/>
                  <a:pt x="21939" y="15102"/>
                  <a:pt x="21939" y="15018"/>
                </a:cubicBezTo>
                <a:cubicBezTo>
                  <a:pt x="21939" y="14906"/>
                  <a:pt x="21930" y="14900"/>
                  <a:pt x="22003" y="14827"/>
                </a:cubicBezTo>
                <a:cubicBezTo>
                  <a:pt x="22041" y="14789"/>
                  <a:pt x="22048" y="14796"/>
                  <a:pt x="22098" y="14796"/>
                </a:cubicBezTo>
              </a:path>
              <a:path w="2065" h="953">
                <a:moveTo>
                  <a:pt x="22162" y="14891"/>
                </a:moveTo>
                <a:cubicBezTo>
                  <a:pt x="22150" y="14948"/>
                  <a:pt x="22130" y="14990"/>
                  <a:pt x="22130" y="15050"/>
                </a:cubicBezTo>
                <a:cubicBezTo>
                  <a:pt x="22130" y="15121"/>
                  <a:pt x="22160" y="15155"/>
                  <a:pt x="22225" y="15176"/>
                </a:cubicBezTo>
                <a:cubicBezTo>
                  <a:pt x="22260" y="15187"/>
                  <a:pt x="22328" y="15134"/>
                  <a:pt x="22352" y="15113"/>
                </a:cubicBezTo>
                <a:cubicBezTo>
                  <a:pt x="22417" y="15055"/>
                  <a:pt x="22370" y="15014"/>
                  <a:pt x="22352" y="14954"/>
                </a:cubicBezTo>
                <a:cubicBezTo>
                  <a:pt x="22335" y="14898"/>
                  <a:pt x="22308" y="14888"/>
                  <a:pt x="22257" y="14859"/>
                </a:cubicBezTo>
                <a:cubicBezTo>
                  <a:pt x="22236" y="14848"/>
                  <a:pt x="22214" y="14838"/>
                  <a:pt x="22193" y="14827"/>
                </a:cubicBezTo>
              </a:path>
              <a:path w="2065" h="953">
                <a:moveTo>
                  <a:pt x="22384" y="14827"/>
                </a:moveTo>
                <a:cubicBezTo>
                  <a:pt x="22438" y="14895"/>
                  <a:pt x="22447" y="14931"/>
                  <a:pt x="22447" y="15018"/>
                </a:cubicBezTo>
                <a:cubicBezTo>
                  <a:pt x="22447" y="15087"/>
                  <a:pt x="22464" y="15119"/>
                  <a:pt x="22479" y="15176"/>
                </a:cubicBezTo>
                <a:cubicBezTo>
                  <a:pt x="22448" y="15126"/>
                  <a:pt x="22421" y="15021"/>
                  <a:pt x="22447" y="14954"/>
                </a:cubicBezTo>
                <a:cubicBezTo>
                  <a:pt x="22472" y="14890"/>
                  <a:pt x="22509" y="14859"/>
                  <a:pt x="22574" y="14859"/>
                </a:cubicBezTo>
                <a:cubicBezTo>
                  <a:pt x="22628" y="14925"/>
                  <a:pt x="22663" y="14968"/>
                  <a:pt x="22670" y="15050"/>
                </a:cubicBezTo>
                <a:cubicBezTo>
                  <a:pt x="22673" y="15091"/>
                  <a:pt x="22670" y="15135"/>
                  <a:pt x="22670" y="15176"/>
                </a:cubicBezTo>
                <a:cubicBezTo>
                  <a:pt x="22670" y="15090"/>
                  <a:pt x="22687" y="15025"/>
                  <a:pt x="22701" y="14954"/>
                </a:cubicBezTo>
                <a:cubicBezTo>
                  <a:pt x="22701" y="14897"/>
                  <a:pt x="22697" y="14880"/>
                  <a:pt x="22733" y="14859"/>
                </a:cubicBezTo>
                <a:cubicBezTo>
                  <a:pt x="22806" y="14859"/>
                  <a:pt x="22822" y="14891"/>
                  <a:pt x="22860" y="14954"/>
                </a:cubicBezTo>
                <a:cubicBezTo>
                  <a:pt x="22893" y="15009"/>
                  <a:pt x="22908" y="15092"/>
                  <a:pt x="22924" y="15145"/>
                </a:cubicBezTo>
                <a:cubicBezTo>
                  <a:pt x="22939" y="15193"/>
                  <a:pt x="22964" y="15244"/>
                  <a:pt x="22987" y="15176"/>
                </a:cubicBezTo>
              </a:path>
              <a:path w="2065" h="953">
                <a:moveTo>
                  <a:pt x="23114" y="14446"/>
                </a:moveTo>
                <a:cubicBezTo>
                  <a:pt x="23141" y="14383"/>
                  <a:pt x="23146" y="14340"/>
                  <a:pt x="23209" y="14319"/>
                </a:cubicBezTo>
                <a:cubicBezTo>
                  <a:pt x="23266" y="14300"/>
                  <a:pt x="23315" y="14288"/>
                  <a:pt x="23368" y="14256"/>
                </a:cubicBezTo>
                <a:cubicBezTo>
                  <a:pt x="23444" y="14313"/>
                  <a:pt x="23485" y="14265"/>
                  <a:pt x="23495" y="14383"/>
                </a:cubicBezTo>
                <a:cubicBezTo>
                  <a:pt x="23499" y="14433"/>
                  <a:pt x="23503" y="14505"/>
                  <a:pt x="23463" y="14542"/>
                </a:cubicBezTo>
                <a:cubicBezTo>
                  <a:pt x="23415" y="14587"/>
                  <a:pt x="23353" y="14618"/>
                  <a:pt x="23304" y="14668"/>
                </a:cubicBezTo>
                <a:cubicBezTo>
                  <a:pt x="23261" y="14711"/>
                  <a:pt x="23223" y="14740"/>
                  <a:pt x="23209" y="14796"/>
                </a:cubicBezTo>
              </a:path>
              <a:path w="2065" h="953">
                <a:moveTo>
                  <a:pt x="23273" y="15081"/>
                </a:moveTo>
                <a:cubicBezTo>
                  <a:pt x="23210" y="15097"/>
                  <a:pt x="23215" y="15126"/>
                  <a:pt x="23178" y="15176"/>
                </a:cubicBezTo>
                <a:cubicBezTo>
                  <a:pt x="23236" y="15176"/>
                  <a:pt x="23304" y="15172"/>
                  <a:pt x="23336" y="15113"/>
                </a:cubicBezTo>
                <a:cubicBezTo>
                  <a:pt x="23366" y="15060"/>
                  <a:pt x="23217" y="15075"/>
                  <a:pt x="23209" y="15081"/>
                </a:cubicBezTo>
                <a:cubicBezTo>
                  <a:pt x="23209" y="15117"/>
                  <a:pt x="23212" y="15131"/>
                  <a:pt x="23241" y="15145"/>
                </a:cubicBezTo>
                <a:cubicBezTo>
                  <a:pt x="23293" y="15119"/>
                  <a:pt x="23253" y="15124"/>
                  <a:pt x="23209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2251080" y="3589200"/>
            <a:ext cx="870120" cy="400320"/>
          </a:xfrm>
          <a:custGeom>
            <a:avLst/>
            <a:gdLst/>
            <a:ahLst/>
            <a:rect l="l" t="t" r="r" b="b"/>
            <a:pathLst>
              <a:path w="2414" h="1112">
                <a:moveTo>
                  <a:pt x="6699" y="10128"/>
                </a:moveTo>
                <a:cubicBezTo>
                  <a:pt x="6684" y="10204"/>
                  <a:pt x="6637" y="10278"/>
                  <a:pt x="6604" y="10350"/>
                </a:cubicBezTo>
                <a:cubicBezTo>
                  <a:pt x="6561" y="10444"/>
                  <a:pt x="6515" y="10540"/>
                  <a:pt x="6477" y="10636"/>
                </a:cubicBezTo>
                <a:cubicBezTo>
                  <a:pt x="6438" y="10735"/>
                  <a:pt x="6398" y="10827"/>
                  <a:pt x="6350" y="10922"/>
                </a:cubicBezTo>
                <a:cubicBezTo>
                  <a:pt x="6325" y="10973"/>
                  <a:pt x="6281" y="11071"/>
                  <a:pt x="6255" y="11017"/>
                </a:cubicBezTo>
              </a:path>
              <a:path w="2414" h="1112">
                <a:moveTo>
                  <a:pt x="6731" y="10001"/>
                </a:moveTo>
                <a:cubicBezTo>
                  <a:pt x="6770" y="10050"/>
                  <a:pt x="6798" y="10162"/>
                  <a:pt x="6826" y="10192"/>
                </a:cubicBezTo>
                <a:cubicBezTo>
                  <a:pt x="6890" y="10262"/>
                  <a:pt x="6924" y="10334"/>
                  <a:pt x="6985" y="10414"/>
                </a:cubicBezTo>
                <a:cubicBezTo>
                  <a:pt x="7054" y="10504"/>
                  <a:pt x="7126" y="10586"/>
                  <a:pt x="7207" y="10668"/>
                </a:cubicBezTo>
                <a:cubicBezTo>
                  <a:pt x="7263" y="10724"/>
                  <a:pt x="7275" y="10790"/>
                  <a:pt x="7302" y="10858"/>
                </a:cubicBezTo>
                <a:cubicBezTo>
                  <a:pt x="7329" y="10926"/>
                  <a:pt x="7334" y="10947"/>
                  <a:pt x="7334" y="11017"/>
                </a:cubicBezTo>
                <a:cubicBezTo>
                  <a:pt x="7270" y="11001"/>
                  <a:pt x="7252" y="10986"/>
                  <a:pt x="7176" y="10986"/>
                </a:cubicBezTo>
                <a:cubicBezTo>
                  <a:pt x="7090" y="10986"/>
                  <a:pt x="7031" y="10967"/>
                  <a:pt x="6953" y="10954"/>
                </a:cubicBezTo>
                <a:cubicBezTo>
                  <a:pt x="6842" y="10935"/>
                  <a:pt x="6737" y="10963"/>
                  <a:pt x="6636" y="10986"/>
                </a:cubicBezTo>
                <a:cubicBezTo>
                  <a:pt x="6574" y="11000"/>
                  <a:pt x="6460" y="11000"/>
                  <a:pt x="6445" y="10954"/>
                </a:cubicBezTo>
              </a:path>
              <a:path w="2414" h="1112">
                <a:moveTo>
                  <a:pt x="7620" y="10001"/>
                </a:moveTo>
                <a:cubicBezTo>
                  <a:pt x="7620" y="10074"/>
                  <a:pt x="7641" y="10125"/>
                  <a:pt x="7652" y="10192"/>
                </a:cubicBezTo>
                <a:cubicBezTo>
                  <a:pt x="7669" y="10292"/>
                  <a:pt x="7673" y="10410"/>
                  <a:pt x="7684" y="10509"/>
                </a:cubicBezTo>
                <a:cubicBezTo>
                  <a:pt x="7702" y="10670"/>
                  <a:pt x="7690" y="10831"/>
                  <a:pt x="7715" y="10986"/>
                </a:cubicBezTo>
                <a:cubicBezTo>
                  <a:pt x="7727" y="11058"/>
                  <a:pt x="7682" y="11092"/>
                  <a:pt x="7747" y="11049"/>
                </a:cubicBezTo>
              </a:path>
              <a:path w="2414" h="1112">
                <a:moveTo>
                  <a:pt x="8033" y="10001"/>
                </a:moveTo>
                <a:cubicBezTo>
                  <a:pt x="8033" y="9949"/>
                  <a:pt x="8033" y="10044"/>
                  <a:pt x="8033" y="10096"/>
                </a:cubicBezTo>
                <a:cubicBezTo>
                  <a:pt x="8033" y="10251"/>
                  <a:pt x="8041" y="10395"/>
                  <a:pt x="8064" y="10541"/>
                </a:cubicBezTo>
                <a:cubicBezTo>
                  <a:pt x="8077" y="10626"/>
                  <a:pt x="8090" y="10711"/>
                  <a:pt x="8096" y="10795"/>
                </a:cubicBezTo>
                <a:cubicBezTo>
                  <a:pt x="8098" y="10826"/>
                  <a:pt x="8096" y="10859"/>
                  <a:pt x="8096" y="10890"/>
                </a:cubicBezTo>
              </a:path>
              <a:path w="2414" h="1112">
                <a:moveTo>
                  <a:pt x="7588" y="10509"/>
                </a:moveTo>
                <a:cubicBezTo>
                  <a:pt x="7651" y="10509"/>
                  <a:pt x="7698" y="10488"/>
                  <a:pt x="7747" y="10478"/>
                </a:cubicBezTo>
                <a:cubicBezTo>
                  <a:pt x="7827" y="10462"/>
                  <a:pt x="7899" y="10467"/>
                  <a:pt x="7969" y="10446"/>
                </a:cubicBezTo>
                <a:cubicBezTo>
                  <a:pt x="8014" y="10432"/>
                  <a:pt x="8080" y="10446"/>
                  <a:pt x="8128" y="10446"/>
                </a:cubicBezTo>
              </a:path>
              <a:path w="2414" h="1112">
                <a:moveTo>
                  <a:pt x="8477" y="10287"/>
                </a:moveTo>
                <a:cubicBezTo>
                  <a:pt x="8542" y="10271"/>
                  <a:pt x="8558" y="10255"/>
                  <a:pt x="8636" y="10255"/>
                </a:cubicBezTo>
                <a:cubicBezTo>
                  <a:pt x="8647" y="10255"/>
                  <a:pt x="8657" y="10255"/>
                  <a:pt x="8668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Ink 2"/>
          <p:cNvSpPr/>
          <p:nvPr/>
        </p:nvSpPr>
        <p:spPr>
          <a:xfrm>
            <a:off x="3921120" y="2274840"/>
            <a:ext cx="2594160" cy="136440"/>
          </a:xfrm>
          <a:custGeom>
            <a:avLst/>
            <a:gdLst/>
            <a:ahLst/>
            <a:rect l="l" t="t" r="r" b="b"/>
            <a:pathLst>
              <a:path w="7209" h="382">
                <a:moveTo>
                  <a:pt x="10890" y="6699"/>
                </a:moveTo>
                <a:cubicBezTo>
                  <a:pt x="10890" y="6689"/>
                  <a:pt x="10890" y="6678"/>
                  <a:pt x="10890" y="6668"/>
                </a:cubicBezTo>
              </a:path>
              <a:path w="7209" h="382">
                <a:moveTo>
                  <a:pt x="15050" y="6540"/>
                </a:moveTo>
                <a:cubicBezTo>
                  <a:pt x="15060" y="6551"/>
                  <a:pt x="15071" y="6561"/>
                  <a:pt x="15081" y="6572"/>
                </a:cubicBezTo>
              </a:path>
              <a:path w="7209" h="382">
                <a:moveTo>
                  <a:pt x="18066" y="6318"/>
                </a:moveTo>
                <a:cubicBezTo>
                  <a:pt x="18077" y="6318"/>
                  <a:pt x="18087" y="6318"/>
                  <a:pt x="18098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3"/>
          <p:cNvSpPr/>
          <p:nvPr/>
        </p:nvSpPr>
        <p:spPr>
          <a:xfrm>
            <a:off x="2171880" y="2320920"/>
            <a:ext cx="217440" cy="376200"/>
          </a:xfrm>
          <a:custGeom>
            <a:avLst/>
            <a:gdLst/>
            <a:ahLst/>
            <a:rect l="l" t="t" r="r" b="b"/>
            <a:pathLst>
              <a:path w="605" h="1049">
                <a:moveTo>
                  <a:pt x="6382" y="6540"/>
                </a:moveTo>
                <a:cubicBezTo>
                  <a:pt x="6382" y="6485"/>
                  <a:pt x="6384" y="6490"/>
                  <a:pt x="6350" y="6445"/>
                </a:cubicBezTo>
                <a:cubicBezTo>
                  <a:pt x="6289" y="6457"/>
                  <a:pt x="6228" y="6483"/>
                  <a:pt x="6191" y="6540"/>
                </a:cubicBezTo>
                <a:cubicBezTo>
                  <a:pt x="6151" y="6603"/>
                  <a:pt x="6081" y="6688"/>
                  <a:pt x="6064" y="6763"/>
                </a:cubicBezTo>
                <a:cubicBezTo>
                  <a:pt x="6054" y="6805"/>
                  <a:pt x="6023" y="6895"/>
                  <a:pt x="6064" y="6922"/>
                </a:cubicBezTo>
                <a:cubicBezTo>
                  <a:pt x="6101" y="6946"/>
                  <a:pt x="6198" y="6907"/>
                  <a:pt x="6223" y="6890"/>
                </a:cubicBezTo>
                <a:cubicBezTo>
                  <a:pt x="6269" y="6859"/>
                  <a:pt x="6331" y="6778"/>
                  <a:pt x="6350" y="6731"/>
                </a:cubicBezTo>
                <a:cubicBezTo>
                  <a:pt x="6372" y="6677"/>
                  <a:pt x="6382" y="6638"/>
                  <a:pt x="6382" y="6572"/>
                </a:cubicBezTo>
                <a:cubicBezTo>
                  <a:pt x="6382" y="6486"/>
                  <a:pt x="6382" y="6621"/>
                  <a:pt x="6382" y="6636"/>
                </a:cubicBezTo>
                <a:cubicBezTo>
                  <a:pt x="6382" y="6741"/>
                  <a:pt x="6355" y="6819"/>
                  <a:pt x="6350" y="6922"/>
                </a:cubicBezTo>
                <a:cubicBezTo>
                  <a:pt x="6345" y="7032"/>
                  <a:pt x="6324" y="7132"/>
                  <a:pt x="6318" y="7239"/>
                </a:cubicBezTo>
                <a:cubicBezTo>
                  <a:pt x="6313" y="7334"/>
                  <a:pt x="6317" y="7390"/>
                  <a:pt x="6382" y="7461"/>
                </a:cubicBezTo>
                <a:cubicBezTo>
                  <a:pt x="6406" y="7487"/>
                  <a:pt x="6470" y="7515"/>
                  <a:pt x="6509" y="7493"/>
                </a:cubicBezTo>
                <a:cubicBezTo>
                  <a:pt x="6554" y="7468"/>
                  <a:pt x="6598" y="7454"/>
                  <a:pt x="6604" y="7398"/>
                </a:cubicBezTo>
                <a:cubicBezTo>
                  <a:pt x="6614" y="7305"/>
                  <a:pt x="6609" y="7298"/>
                  <a:pt x="6604" y="7207"/>
                </a:cubicBezTo>
                <a:cubicBezTo>
                  <a:pt x="6600" y="7140"/>
                  <a:pt x="6549" y="7036"/>
                  <a:pt x="6509" y="6985"/>
                </a:cubicBezTo>
                <a:cubicBezTo>
                  <a:pt x="6470" y="6935"/>
                  <a:pt x="6427" y="6924"/>
                  <a:pt x="6382" y="6890"/>
                </a:cubicBezTo>
                <a:cubicBezTo>
                  <a:pt x="6438" y="6856"/>
                  <a:pt x="6473" y="6858"/>
                  <a:pt x="6540" y="6858"/>
                </a:cubicBezTo>
                <a:cubicBezTo>
                  <a:pt x="6581" y="6858"/>
                  <a:pt x="6597" y="6836"/>
                  <a:pt x="6636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4"/>
          <p:cNvSpPr/>
          <p:nvPr/>
        </p:nvSpPr>
        <p:spPr>
          <a:xfrm>
            <a:off x="2536920" y="2320920"/>
            <a:ext cx="81000" cy="68400"/>
          </a:xfrm>
          <a:custGeom>
            <a:avLst/>
            <a:gdLst/>
            <a:ahLst/>
            <a:rect l="l" t="t" r="r" b="b"/>
            <a:pathLst>
              <a:path w="224" h="192">
                <a:moveTo>
                  <a:pt x="7048" y="6477"/>
                </a:moveTo>
                <a:cubicBezTo>
                  <a:pt x="7073" y="6467"/>
                  <a:pt x="7179" y="6432"/>
                  <a:pt x="7207" y="6445"/>
                </a:cubicBezTo>
                <a:cubicBezTo>
                  <a:pt x="7218" y="6456"/>
                  <a:pt x="7228" y="6466"/>
                  <a:pt x="7239" y="6477"/>
                </a:cubicBezTo>
              </a:path>
              <a:path w="224" h="192">
                <a:moveTo>
                  <a:pt x="7080" y="6636"/>
                </a:moveTo>
                <a:cubicBezTo>
                  <a:pt x="7129" y="6599"/>
                  <a:pt x="7145" y="6604"/>
                  <a:pt x="7207" y="6604"/>
                </a:cubicBezTo>
                <a:cubicBezTo>
                  <a:pt x="7239" y="6604"/>
                  <a:pt x="7250" y="6604"/>
                  <a:pt x="727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5"/>
          <p:cNvSpPr/>
          <p:nvPr/>
        </p:nvSpPr>
        <p:spPr>
          <a:xfrm>
            <a:off x="2778120" y="2239920"/>
            <a:ext cx="754200" cy="663480"/>
          </a:xfrm>
          <a:custGeom>
            <a:avLst/>
            <a:gdLst/>
            <a:ahLst/>
            <a:rect l="l" t="t" r="r" b="b"/>
            <a:pathLst>
              <a:path w="2097" h="1842">
                <a:moveTo>
                  <a:pt x="7747" y="6223"/>
                </a:moveTo>
                <a:cubicBezTo>
                  <a:pt x="7747" y="6430"/>
                  <a:pt x="7776" y="6674"/>
                  <a:pt x="7715" y="6858"/>
                </a:cubicBezTo>
                <a:cubicBezTo>
                  <a:pt x="7707" y="6882"/>
                  <a:pt x="7715" y="6927"/>
                  <a:pt x="7715" y="6953"/>
                </a:cubicBezTo>
              </a:path>
              <a:path w="2097" h="1842">
                <a:moveTo>
                  <a:pt x="8287" y="6350"/>
                </a:moveTo>
                <a:cubicBezTo>
                  <a:pt x="8280" y="6320"/>
                  <a:pt x="8231" y="6250"/>
                  <a:pt x="8192" y="6255"/>
                </a:cubicBezTo>
                <a:cubicBezTo>
                  <a:pt x="8171" y="6258"/>
                  <a:pt x="8060" y="6276"/>
                  <a:pt x="8033" y="6286"/>
                </a:cubicBezTo>
                <a:cubicBezTo>
                  <a:pt x="7942" y="6319"/>
                  <a:pt x="7914" y="6316"/>
                  <a:pt x="7906" y="6414"/>
                </a:cubicBezTo>
                <a:cubicBezTo>
                  <a:pt x="7901" y="6468"/>
                  <a:pt x="7955" y="6504"/>
                  <a:pt x="8001" y="6509"/>
                </a:cubicBezTo>
                <a:cubicBezTo>
                  <a:pt x="8056" y="6515"/>
                  <a:pt x="8085" y="6465"/>
                  <a:pt x="8128" y="6477"/>
                </a:cubicBezTo>
                <a:cubicBezTo>
                  <a:pt x="8182" y="6492"/>
                  <a:pt x="8215" y="6537"/>
                  <a:pt x="8255" y="6572"/>
                </a:cubicBezTo>
                <a:cubicBezTo>
                  <a:pt x="8304" y="6616"/>
                  <a:pt x="8287" y="6671"/>
                  <a:pt x="8287" y="6731"/>
                </a:cubicBezTo>
                <a:cubicBezTo>
                  <a:pt x="8287" y="6770"/>
                  <a:pt x="8231" y="6841"/>
                  <a:pt x="8192" y="6858"/>
                </a:cubicBezTo>
                <a:cubicBezTo>
                  <a:pt x="8178" y="6864"/>
                  <a:pt x="8084" y="6915"/>
                  <a:pt x="8064" y="6890"/>
                </a:cubicBezTo>
                <a:cubicBezTo>
                  <a:pt x="8050" y="6872"/>
                  <a:pt x="8039" y="6819"/>
                  <a:pt x="8033" y="6794"/>
                </a:cubicBezTo>
              </a:path>
              <a:path w="2097" h="1842">
                <a:moveTo>
                  <a:pt x="8541" y="6318"/>
                </a:moveTo>
                <a:cubicBezTo>
                  <a:pt x="8526" y="6392"/>
                  <a:pt x="8489" y="6467"/>
                  <a:pt x="8477" y="6540"/>
                </a:cubicBezTo>
                <a:cubicBezTo>
                  <a:pt x="8464" y="6619"/>
                  <a:pt x="8446" y="6681"/>
                  <a:pt x="8446" y="6763"/>
                </a:cubicBezTo>
                <a:cubicBezTo>
                  <a:pt x="8446" y="6843"/>
                  <a:pt x="8472" y="6858"/>
                  <a:pt x="8541" y="6858"/>
                </a:cubicBezTo>
                <a:cubicBezTo>
                  <a:pt x="8627" y="6858"/>
                  <a:pt x="8660" y="6847"/>
                  <a:pt x="8731" y="6794"/>
                </a:cubicBezTo>
                <a:cubicBezTo>
                  <a:pt x="8784" y="6755"/>
                  <a:pt x="8822" y="6667"/>
                  <a:pt x="8826" y="6604"/>
                </a:cubicBezTo>
                <a:cubicBezTo>
                  <a:pt x="8831" y="6533"/>
                  <a:pt x="8841" y="6466"/>
                  <a:pt x="8795" y="6414"/>
                </a:cubicBezTo>
                <a:cubicBezTo>
                  <a:pt x="8749" y="6362"/>
                  <a:pt x="8707" y="6325"/>
                  <a:pt x="8636" y="6318"/>
                </a:cubicBezTo>
                <a:cubicBezTo>
                  <a:pt x="8600" y="6318"/>
                  <a:pt x="8592" y="6321"/>
                  <a:pt x="8636" y="6350"/>
                </a:cubicBezTo>
              </a:path>
              <a:path w="2097" h="1842">
                <a:moveTo>
                  <a:pt x="9303" y="6540"/>
                </a:moveTo>
                <a:cubicBezTo>
                  <a:pt x="9229" y="6540"/>
                  <a:pt x="9204" y="6568"/>
                  <a:pt x="9144" y="6604"/>
                </a:cubicBezTo>
                <a:cubicBezTo>
                  <a:pt x="9087" y="6639"/>
                  <a:pt x="9056" y="6662"/>
                  <a:pt x="9049" y="6731"/>
                </a:cubicBezTo>
                <a:cubicBezTo>
                  <a:pt x="9039" y="6819"/>
                  <a:pt x="9110" y="6802"/>
                  <a:pt x="9144" y="6794"/>
                </a:cubicBezTo>
                <a:cubicBezTo>
                  <a:pt x="9195" y="6783"/>
                  <a:pt x="9243" y="6795"/>
                  <a:pt x="9271" y="6731"/>
                </a:cubicBezTo>
                <a:cubicBezTo>
                  <a:pt x="9290" y="6688"/>
                  <a:pt x="9303" y="6657"/>
                  <a:pt x="9303" y="6604"/>
                </a:cubicBezTo>
                <a:cubicBezTo>
                  <a:pt x="9303" y="6593"/>
                  <a:pt x="9303" y="6583"/>
                  <a:pt x="9303" y="6572"/>
                </a:cubicBezTo>
                <a:cubicBezTo>
                  <a:pt x="9303" y="6627"/>
                  <a:pt x="9317" y="6682"/>
                  <a:pt x="9334" y="6731"/>
                </a:cubicBezTo>
                <a:cubicBezTo>
                  <a:pt x="9358" y="6798"/>
                  <a:pt x="9403" y="6894"/>
                  <a:pt x="9430" y="6953"/>
                </a:cubicBezTo>
                <a:cubicBezTo>
                  <a:pt x="9463" y="7024"/>
                  <a:pt x="9482" y="7066"/>
                  <a:pt x="9430" y="7144"/>
                </a:cubicBezTo>
                <a:cubicBezTo>
                  <a:pt x="9387" y="7208"/>
                  <a:pt x="9341" y="7233"/>
                  <a:pt x="9271" y="7239"/>
                </a:cubicBezTo>
                <a:cubicBezTo>
                  <a:pt x="9229" y="7243"/>
                  <a:pt x="9108" y="7231"/>
                  <a:pt x="9080" y="7207"/>
                </a:cubicBezTo>
                <a:cubicBezTo>
                  <a:pt x="9047" y="7180"/>
                  <a:pt x="9096" y="7068"/>
                  <a:pt x="9112" y="7048"/>
                </a:cubicBezTo>
                <a:cubicBezTo>
                  <a:pt x="9178" y="6967"/>
                  <a:pt x="9218" y="6950"/>
                  <a:pt x="9303" y="6890"/>
                </a:cubicBezTo>
                <a:cubicBezTo>
                  <a:pt x="9331" y="6861"/>
                  <a:pt x="9337" y="6850"/>
                  <a:pt x="9366" y="6858"/>
                </a:cubicBezTo>
              </a:path>
              <a:path w="2097" h="1842">
                <a:moveTo>
                  <a:pt x="8287" y="7239"/>
                </a:moveTo>
                <a:cubicBezTo>
                  <a:pt x="8287" y="7321"/>
                  <a:pt x="8306" y="7384"/>
                  <a:pt x="8318" y="7461"/>
                </a:cubicBezTo>
                <a:cubicBezTo>
                  <a:pt x="8352" y="7670"/>
                  <a:pt x="8318" y="8244"/>
                  <a:pt x="8318" y="8033"/>
                </a:cubicBezTo>
              </a:path>
              <a:path w="2097" h="1842">
                <a:moveTo>
                  <a:pt x="8287" y="7239"/>
                </a:moveTo>
                <a:cubicBezTo>
                  <a:pt x="8258" y="7220"/>
                  <a:pt x="8226" y="7229"/>
                  <a:pt x="8192" y="7271"/>
                </a:cubicBezTo>
                <a:cubicBezTo>
                  <a:pt x="8149" y="7323"/>
                  <a:pt x="8096" y="7389"/>
                  <a:pt x="8064" y="7430"/>
                </a:cubicBezTo>
                <a:cubicBezTo>
                  <a:pt x="7994" y="7520"/>
                  <a:pt x="8111" y="7383"/>
                  <a:pt x="8128" y="7366"/>
                </a:cubicBezTo>
                <a:cubicBezTo>
                  <a:pt x="8184" y="7310"/>
                  <a:pt x="8160" y="7281"/>
                  <a:pt x="8223" y="7239"/>
                </a:cubicBezTo>
                <a:cubicBezTo>
                  <a:pt x="8255" y="7207"/>
                  <a:pt x="8265" y="7197"/>
                  <a:pt x="8287" y="7176"/>
                </a:cubicBezTo>
                <a:cubicBezTo>
                  <a:pt x="8339" y="7228"/>
                  <a:pt x="8370" y="7276"/>
                  <a:pt x="8414" y="7334"/>
                </a:cubicBezTo>
                <a:cubicBezTo>
                  <a:pt x="8443" y="7372"/>
                  <a:pt x="8500" y="7416"/>
                  <a:pt x="8541" y="7430"/>
                </a:cubicBezTo>
                <a:cubicBezTo>
                  <a:pt x="8551" y="7430"/>
                  <a:pt x="8562" y="7430"/>
                  <a:pt x="8572" y="7430"/>
                </a:cubicBezTo>
              </a:path>
              <a:path w="2097" h="1842">
                <a:moveTo>
                  <a:pt x="9779" y="6540"/>
                </a:moveTo>
                <a:cubicBezTo>
                  <a:pt x="9779" y="6597"/>
                  <a:pt x="9772" y="6542"/>
                  <a:pt x="9747" y="6509"/>
                </a:cubicBezTo>
                <a:cubicBezTo>
                  <a:pt x="9747" y="6587"/>
                  <a:pt x="9764" y="6643"/>
                  <a:pt x="9811" y="6540"/>
                </a:cubicBezTo>
                <a:cubicBezTo>
                  <a:pt x="9840" y="6476"/>
                  <a:pt x="9785" y="6547"/>
                  <a:pt x="9779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6"/>
          <p:cNvSpPr/>
          <p:nvPr/>
        </p:nvSpPr>
        <p:spPr>
          <a:xfrm>
            <a:off x="3782880" y="1965240"/>
            <a:ext cx="3429000" cy="641520"/>
          </a:xfrm>
          <a:custGeom>
            <a:avLst/>
            <a:gdLst/>
            <a:ahLst/>
            <a:rect l="l" t="t" r="r" b="b"/>
            <a:pathLst>
              <a:path w="9526" h="1779">
                <a:moveTo>
                  <a:pt x="10573" y="6064"/>
                </a:moveTo>
                <a:cubicBezTo>
                  <a:pt x="10532" y="6119"/>
                  <a:pt x="10515" y="6151"/>
                  <a:pt x="10509" y="6223"/>
                </a:cubicBezTo>
                <a:cubicBezTo>
                  <a:pt x="10504" y="6285"/>
                  <a:pt x="10500" y="6336"/>
                  <a:pt x="10541" y="6382"/>
                </a:cubicBezTo>
                <a:cubicBezTo>
                  <a:pt x="10573" y="6418"/>
                  <a:pt x="10598" y="6417"/>
                  <a:pt x="10636" y="6445"/>
                </a:cubicBezTo>
                <a:cubicBezTo>
                  <a:pt x="10684" y="6410"/>
                  <a:pt x="10734" y="6394"/>
                  <a:pt x="10795" y="6382"/>
                </a:cubicBezTo>
                <a:cubicBezTo>
                  <a:pt x="10795" y="6350"/>
                  <a:pt x="10795" y="6318"/>
                  <a:pt x="10795" y="6286"/>
                </a:cubicBezTo>
              </a:path>
              <a:path w="9526" h="1779">
                <a:moveTo>
                  <a:pt x="10732" y="6096"/>
                </a:moveTo>
                <a:cubicBezTo>
                  <a:pt x="10732" y="6250"/>
                  <a:pt x="10724" y="6394"/>
                  <a:pt x="10700" y="6540"/>
                </a:cubicBezTo>
                <a:cubicBezTo>
                  <a:pt x="10690" y="6600"/>
                  <a:pt x="10674" y="6647"/>
                  <a:pt x="10668" y="6699"/>
                </a:cubicBezTo>
                <a:cubicBezTo>
                  <a:pt x="10662" y="6752"/>
                  <a:pt x="10660" y="6750"/>
                  <a:pt x="10700" y="6763"/>
                </a:cubicBezTo>
              </a:path>
              <a:path w="9526" h="1779">
                <a:moveTo>
                  <a:pt x="11144" y="6223"/>
                </a:moveTo>
                <a:cubicBezTo>
                  <a:pt x="11144" y="6322"/>
                  <a:pt x="11102" y="6738"/>
                  <a:pt x="11176" y="6763"/>
                </a:cubicBezTo>
              </a:path>
              <a:path w="9526" h="1779">
                <a:moveTo>
                  <a:pt x="11430" y="6255"/>
                </a:moveTo>
                <a:cubicBezTo>
                  <a:pt x="11339" y="6255"/>
                  <a:pt x="11356" y="6279"/>
                  <a:pt x="11303" y="6350"/>
                </a:cubicBezTo>
                <a:cubicBezTo>
                  <a:pt x="11282" y="6378"/>
                  <a:pt x="11247" y="6434"/>
                  <a:pt x="11271" y="6477"/>
                </a:cubicBezTo>
                <a:cubicBezTo>
                  <a:pt x="11282" y="6488"/>
                  <a:pt x="11292" y="6498"/>
                  <a:pt x="11303" y="6509"/>
                </a:cubicBezTo>
                <a:cubicBezTo>
                  <a:pt x="11368" y="6496"/>
                  <a:pt x="11410" y="6489"/>
                  <a:pt x="11430" y="6445"/>
                </a:cubicBezTo>
                <a:cubicBezTo>
                  <a:pt x="11440" y="6424"/>
                  <a:pt x="11464" y="6285"/>
                  <a:pt x="11398" y="6318"/>
                </a:cubicBezTo>
                <a:cubicBezTo>
                  <a:pt x="11387" y="6329"/>
                  <a:pt x="11377" y="6339"/>
                  <a:pt x="11366" y="6350"/>
                </a:cubicBezTo>
              </a:path>
              <a:path w="9526" h="1779">
                <a:moveTo>
                  <a:pt x="11430" y="6477"/>
                </a:moveTo>
                <a:cubicBezTo>
                  <a:pt x="11371" y="6535"/>
                  <a:pt x="11381" y="6578"/>
                  <a:pt x="11335" y="6636"/>
                </a:cubicBezTo>
                <a:cubicBezTo>
                  <a:pt x="11299" y="6682"/>
                  <a:pt x="11285" y="6740"/>
                  <a:pt x="11271" y="6794"/>
                </a:cubicBezTo>
                <a:cubicBezTo>
                  <a:pt x="11342" y="6848"/>
                  <a:pt x="11329" y="6817"/>
                  <a:pt x="11398" y="6794"/>
                </a:cubicBezTo>
                <a:cubicBezTo>
                  <a:pt x="11471" y="6770"/>
                  <a:pt x="11535" y="6760"/>
                  <a:pt x="11557" y="6668"/>
                </a:cubicBezTo>
                <a:cubicBezTo>
                  <a:pt x="11566" y="6629"/>
                  <a:pt x="11533" y="6528"/>
                  <a:pt x="11494" y="6509"/>
                </a:cubicBezTo>
                <a:cubicBezTo>
                  <a:pt x="11450" y="6487"/>
                  <a:pt x="11420" y="6485"/>
                  <a:pt x="11366" y="6477"/>
                </a:cubicBezTo>
              </a:path>
              <a:path w="9526" h="1779">
                <a:moveTo>
                  <a:pt x="11811" y="6223"/>
                </a:moveTo>
                <a:cubicBezTo>
                  <a:pt x="11774" y="6260"/>
                  <a:pt x="11731" y="6305"/>
                  <a:pt x="11716" y="6350"/>
                </a:cubicBezTo>
                <a:cubicBezTo>
                  <a:pt x="11691" y="6424"/>
                  <a:pt x="11710" y="6484"/>
                  <a:pt x="11779" y="6509"/>
                </a:cubicBezTo>
                <a:cubicBezTo>
                  <a:pt x="11838" y="6531"/>
                  <a:pt x="11895" y="6490"/>
                  <a:pt x="11938" y="6477"/>
                </a:cubicBezTo>
                <a:cubicBezTo>
                  <a:pt x="11995" y="6460"/>
                  <a:pt x="12018" y="6442"/>
                  <a:pt x="12033" y="6382"/>
                </a:cubicBezTo>
              </a:path>
              <a:path w="9526" h="1779">
                <a:moveTo>
                  <a:pt x="12033" y="6160"/>
                </a:moveTo>
                <a:cubicBezTo>
                  <a:pt x="11989" y="6219"/>
                  <a:pt x="12002" y="6272"/>
                  <a:pt x="12002" y="6350"/>
                </a:cubicBezTo>
                <a:cubicBezTo>
                  <a:pt x="12002" y="6477"/>
                  <a:pt x="12000" y="6581"/>
                  <a:pt x="11970" y="6699"/>
                </a:cubicBezTo>
                <a:cubicBezTo>
                  <a:pt x="11954" y="6761"/>
                  <a:pt x="11982" y="6781"/>
                  <a:pt x="12033" y="6794"/>
                </a:cubicBezTo>
              </a:path>
              <a:path w="9526" h="1779">
                <a:moveTo>
                  <a:pt x="12636" y="5874"/>
                </a:moveTo>
                <a:cubicBezTo>
                  <a:pt x="12636" y="5990"/>
                  <a:pt x="12668" y="5989"/>
                  <a:pt x="12700" y="6064"/>
                </a:cubicBezTo>
                <a:cubicBezTo>
                  <a:pt x="12734" y="6144"/>
                  <a:pt x="12710" y="6323"/>
                  <a:pt x="12636" y="6350"/>
                </a:cubicBezTo>
                <a:cubicBezTo>
                  <a:pt x="12574" y="6373"/>
                  <a:pt x="12510" y="6337"/>
                  <a:pt x="12478" y="6286"/>
                </a:cubicBezTo>
                <a:cubicBezTo>
                  <a:pt x="12478" y="6276"/>
                  <a:pt x="12478" y="6265"/>
                  <a:pt x="12478" y="6255"/>
                </a:cubicBezTo>
              </a:path>
              <a:path w="9526" h="1779">
                <a:moveTo>
                  <a:pt x="12351" y="5969"/>
                </a:moveTo>
                <a:cubicBezTo>
                  <a:pt x="12434" y="5969"/>
                  <a:pt x="12493" y="5942"/>
                  <a:pt x="12573" y="5937"/>
                </a:cubicBezTo>
                <a:cubicBezTo>
                  <a:pt x="12681" y="5931"/>
                  <a:pt x="12778" y="5906"/>
                  <a:pt x="12890" y="5906"/>
                </a:cubicBezTo>
                <a:cubicBezTo>
                  <a:pt x="12958" y="5906"/>
                  <a:pt x="13062" y="5881"/>
                  <a:pt x="13081" y="5937"/>
                </a:cubicBezTo>
              </a:path>
              <a:path w="9526" h="1779">
                <a:moveTo>
                  <a:pt x="12128" y="6509"/>
                </a:moveTo>
                <a:cubicBezTo>
                  <a:pt x="12218" y="6470"/>
                  <a:pt x="12281" y="6449"/>
                  <a:pt x="12382" y="6445"/>
                </a:cubicBezTo>
                <a:cubicBezTo>
                  <a:pt x="12503" y="6440"/>
                  <a:pt x="12606" y="6414"/>
                  <a:pt x="12732" y="6414"/>
                </a:cubicBezTo>
                <a:cubicBezTo>
                  <a:pt x="12816" y="6414"/>
                  <a:pt x="12876" y="6437"/>
                  <a:pt x="12954" y="6445"/>
                </a:cubicBezTo>
                <a:cubicBezTo>
                  <a:pt x="12965" y="6445"/>
                  <a:pt x="12975" y="6445"/>
                  <a:pt x="12986" y="6445"/>
                </a:cubicBezTo>
              </a:path>
              <a:path w="9526" h="1779">
                <a:moveTo>
                  <a:pt x="12510" y="6636"/>
                </a:moveTo>
                <a:cubicBezTo>
                  <a:pt x="12441" y="6636"/>
                  <a:pt x="12404" y="6651"/>
                  <a:pt x="12351" y="6699"/>
                </a:cubicBezTo>
                <a:cubicBezTo>
                  <a:pt x="12287" y="6756"/>
                  <a:pt x="12267" y="6776"/>
                  <a:pt x="12256" y="6858"/>
                </a:cubicBezTo>
                <a:cubicBezTo>
                  <a:pt x="12325" y="6858"/>
                  <a:pt x="12364" y="6871"/>
                  <a:pt x="12414" y="6826"/>
                </a:cubicBezTo>
                <a:cubicBezTo>
                  <a:pt x="12482" y="6765"/>
                  <a:pt x="12492" y="6744"/>
                  <a:pt x="12446" y="6668"/>
                </a:cubicBezTo>
                <a:cubicBezTo>
                  <a:pt x="12446" y="6734"/>
                  <a:pt x="12462" y="6773"/>
                  <a:pt x="12478" y="6826"/>
                </a:cubicBezTo>
                <a:cubicBezTo>
                  <a:pt x="12496" y="6887"/>
                  <a:pt x="12526" y="6954"/>
                  <a:pt x="12541" y="7017"/>
                </a:cubicBezTo>
                <a:cubicBezTo>
                  <a:pt x="12553" y="7065"/>
                  <a:pt x="12508" y="7143"/>
                  <a:pt x="12478" y="7176"/>
                </a:cubicBezTo>
                <a:cubicBezTo>
                  <a:pt x="12470" y="7185"/>
                  <a:pt x="12369" y="7285"/>
                  <a:pt x="12351" y="7239"/>
                </a:cubicBezTo>
                <a:cubicBezTo>
                  <a:pt x="12351" y="7218"/>
                  <a:pt x="12351" y="7197"/>
                  <a:pt x="12351" y="7176"/>
                </a:cubicBezTo>
              </a:path>
              <a:path w="9526" h="1779">
                <a:moveTo>
                  <a:pt x="12764" y="6572"/>
                </a:moveTo>
                <a:cubicBezTo>
                  <a:pt x="12700" y="6588"/>
                  <a:pt x="12700" y="6603"/>
                  <a:pt x="12700" y="6668"/>
                </a:cubicBezTo>
                <a:cubicBezTo>
                  <a:pt x="12759" y="6668"/>
                  <a:pt x="12788" y="6671"/>
                  <a:pt x="12795" y="6604"/>
                </a:cubicBezTo>
                <a:cubicBezTo>
                  <a:pt x="12800" y="6553"/>
                  <a:pt x="12770" y="6572"/>
                  <a:pt x="12732" y="6572"/>
                </a:cubicBezTo>
              </a:path>
              <a:path w="9526" h="1779">
                <a:moveTo>
                  <a:pt x="13049" y="6604"/>
                </a:moveTo>
                <a:cubicBezTo>
                  <a:pt x="13039" y="6593"/>
                  <a:pt x="13028" y="6583"/>
                  <a:pt x="13018" y="6572"/>
                </a:cubicBezTo>
                <a:cubicBezTo>
                  <a:pt x="12975" y="6605"/>
                  <a:pt x="12923" y="6616"/>
                  <a:pt x="12890" y="6668"/>
                </a:cubicBezTo>
                <a:cubicBezTo>
                  <a:pt x="12865" y="6708"/>
                  <a:pt x="12828" y="6795"/>
                  <a:pt x="12890" y="6826"/>
                </a:cubicBezTo>
                <a:cubicBezTo>
                  <a:pt x="12931" y="6847"/>
                  <a:pt x="12967" y="6858"/>
                  <a:pt x="13018" y="6858"/>
                </a:cubicBezTo>
                <a:cubicBezTo>
                  <a:pt x="13078" y="6858"/>
                  <a:pt x="13131" y="6856"/>
                  <a:pt x="13176" y="6826"/>
                </a:cubicBezTo>
                <a:cubicBezTo>
                  <a:pt x="13187" y="6815"/>
                  <a:pt x="13197" y="6805"/>
                  <a:pt x="13208" y="6794"/>
                </a:cubicBezTo>
              </a:path>
              <a:path w="9526" h="1779">
                <a:moveTo>
                  <a:pt x="13557" y="6350"/>
                </a:moveTo>
                <a:cubicBezTo>
                  <a:pt x="13554" y="6364"/>
                  <a:pt x="13491" y="6477"/>
                  <a:pt x="13557" y="6445"/>
                </a:cubicBezTo>
                <a:cubicBezTo>
                  <a:pt x="13633" y="6408"/>
                  <a:pt x="13534" y="6331"/>
                  <a:pt x="13589" y="6414"/>
                </a:cubicBezTo>
              </a:path>
              <a:path w="9526" h="1779">
                <a:moveTo>
                  <a:pt x="14192" y="5747"/>
                </a:moveTo>
                <a:cubicBezTo>
                  <a:pt x="14118" y="5765"/>
                  <a:pt x="14130" y="5812"/>
                  <a:pt x="14097" y="5874"/>
                </a:cubicBezTo>
                <a:cubicBezTo>
                  <a:pt x="14049" y="5964"/>
                  <a:pt x="14000" y="6064"/>
                  <a:pt x="13970" y="6160"/>
                </a:cubicBezTo>
                <a:cubicBezTo>
                  <a:pt x="13927" y="6298"/>
                  <a:pt x="13905" y="6436"/>
                  <a:pt x="13875" y="6572"/>
                </a:cubicBezTo>
                <a:cubicBezTo>
                  <a:pt x="13853" y="6673"/>
                  <a:pt x="13831" y="6760"/>
                  <a:pt x="13875" y="6858"/>
                </a:cubicBezTo>
                <a:cubicBezTo>
                  <a:pt x="13901" y="6915"/>
                  <a:pt x="13949" y="6922"/>
                  <a:pt x="14002" y="6922"/>
                </a:cubicBezTo>
                <a:cubicBezTo>
                  <a:pt x="14038" y="6922"/>
                  <a:pt x="14052" y="6919"/>
                  <a:pt x="14065" y="6890"/>
                </a:cubicBezTo>
              </a:path>
              <a:path w="9526" h="1779">
                <a:moveTo>
                  <a:pt x="14256" y="6191"/>
                </a:moveTo>
                <a:cubicBezTo>
                  <a:pt x="14263" y="6165"/>
                  <a:pt x="14315" y="6088"/>
                  <a:pt x="14351" y="6096"/>
                </a:cubicBezTo>
                <a:cubicBezTo>
                  <a:pt x="14391" y="6105"/>
                  <a:pt x="14467" y="6140"/>
                  <a:pt x="14478" y="6160"/>
                </a:cubicBezTo>
                <a:cubicBezTo>
                  <a:pt x="14507" y="6213"/>
                  <a:pt x="14503" y="6306"/>
                  <a:pt x="14446" y="6350"/>
                </a:cubicBezTo>
                <a:cubicBezTo>
                  <a:pt x="14379" y="6402"/>
                  <a:pt x="14279" y="6476"/>
                  <a:pt x="14224" y="6540"/>
                </a:cubicBezTo>
                <a:cubicBezTo>
                  <a:pt x="14196" y="6596"/>
                  <a:pt x="14191" y="6611"/>
                  <a:pt x="14160" y="6636"/>
                </a:cubicBezTo>
                <a:cubicBezTo>
                  <a:pt x="14209" y="6673"/>
                  <a:pt x="14226" y="6668"/>
                  <a:pt x="14288" y="6668"/>
                </a:cubicBezTo>
                <a:cubicBezTo>
                  <a:pt x="14335" y="6668"/>
                  <a:pt x="14408" y="6655"/>
                  <a:pt x="14446" y="6636"/>
                </a:cubicBezTo>
                <a:cubicBezTo>
                  <a:pt x="14475" y="6607"/>
                  <a:pt x="14481" y="6596"/>
                  <a:pt x="14510" y="6604"/>
                </a:cubicBezTo>
              </a:path>
              <a:path w="9526" h="1779">
                <a:moveTo>
                  <a:pt x="14859" y="6223"/>
                </a:moveTo>
                <a:cubicBezTo>
                  <a:pt x="14844" y="6147"/>
                  <a:pt x="14841" y="6128"/>
                  <a:pt x="14764" y="6128"/>
                </a:cubicBezTo>
                <a:cubicBezTo>
                  <a:pt x="14659" y="6128"/>
                  <a:pt x="14669" y="6185"/>
                  <a:pt x="14605" y="6255"/>
                </a:cubicBezTo>
                <a:cubicBezTo>
                  <a:pt x="14568" y="6295"/>
                  <a:pt x="14589" y="6344"/>
                  <a:pt x="14637" y="6350"/>
                </a:cubicBezTo>
                <a:cubicBezTo>
                  <a:pt x="14692" y="6357"/>
                  <a:pt x="14724" y="6354"/>
                  <a:pt x="14764" y="6318"/>
                </a:cubicBezTo>
                <a:cubicBezTo>
                  <a:pt x="14813" y="6274"/>
                  <a:pt x="14819" y="6235"/>
                  <a:pt x="14859" y="6191"/>
                </a:cubicBezTo>
                <a:cubicBezTo>
                  <a:pt x="14916" y="6128"/>
                  <a:pt x="14859" y="6204"/>
                  <a:pt x="14859" y="6255"/>
                </a:cubicBezTo>
                <a:cubicBezTo>
                  <a:pt x="14859" y="6378"/>
                  <a:pt x="14816" y="6602"/>
                  <a:pt x="14891" y="6699"/>
                </a:cubicBezTo>
              </a:path>
              <a:path w="9526" h="1779">
                <a:moveTo>
                  <a:pt x="15335" y="6160"/>
                </a:moveTo>
                <a:cubicBezTo>
                  <a:pt x="15322" y="6213"/>
                  <a:pt x="15291" y="6265"/>
                  <a:pt x="15272" y="6318"/>
                </a:cubicBezTo>
                <a:cubicBezTo>
                  <a:pt x="15242" y="6402"/>
                  <a:pt x="15240" y="6447"/>
                  <a:pt x="15240" y="6540"/>
                </a:cubicBezTo>
                <a:cubicBezTo>
                  <a:pt x="15240" y="6613"/>
                  <a:pt x="15277" y="6631"/>
                  <a:pt x="15335" y="6636"/>
                </a:cubicBezTo>
                <a:cubicBezTo>
                  <a:pt x="15377" y="6640"/>
                  <a:pt x="15432" y="6599"/>
                  <a:pt x="15462" y="6572"/>
                </a:cubicBezTo>
                <a:cubicBezTo>
                  <a:pt x="15520" y="6520"/>
                  <a:pt x="15554" y="6454"/>
                  <a:pt x="15558" y="6382"/>
                </a:cubicBezTo>
                <a:cubicBezTo>
                  <a:pt x="15563" y="6299"/>
                  <a:pt x="15545" y="6258"/>
                  <a:pt x="15494" y="6191"/>
                </a:cubicBezTo>
                <a:cubicBezTo>
                  <a:pt x="15463" y="6150"/>
                  <a:pt x="15444" y="6160"/>
                  <a:pt x="15399" y="6160"/>
                </a:cubicBezTo>
              </a:path>
              <a:path w="9526" h="1779">
                <a:moveTo>
                  <a:pt x="15684" y="6160"/>
                </a:moveTo>
                <a:cubicBezTo>
                  <a:pt x="15733" y="6111"/>
                  <a:pt x="15744" y="6096"/>
                  <a:pt x="15812" y="6096"/>
                </a:cubicBezTo>
                <a:cubicBezTo>
                  <a:pt x="15886" y="6096"/>
                  <a:pt x="15869" y="6034"/>
                  <a:pt x="15938" y="6096"/>
                </a:cubicBezTo>
                <a:cubicBezTo>
                  <a:pt x="15971" y="6126"/>
                  <a:pt x="15997" y="6181"/>
                  <a:pt x="16002" y="6223"/>
                </a:cubicBezTo>
                <a:cubicBezTo>
                  <a:pt x="16010" y="6291"/>
                  <a:pt x="15982" y="6332"/>
                  <a:pt x="15938" y="6382"/>
                </a:cubicBezTo>
                <a:cubicBezTo>
                  <a:pt x="15910" y="6413"/>
                  <a:pt x="15791" y="6493"/>
                  <a:pt x="15812" y="6540"/>
                </a:cubicBezTo>
                <a:cubicBezTo>
                  <a:pt x="15844" y="6614"/>
                  <a:pt x="15920" y="6543"/>
                  <a:pt x="15970" y="6540"/>
                </a:cubicBezTo>
                <a:cubicBezTo>
                  <a:pt x="16044" y="6535"/>
                  <a:pt x="16105" y="6530"/>
                  <a:pt x="16161" y="6572"/>
                </a:cubicBezTo>
              </a:path>
              <a:path w="9526" h="1779">
                <a:moveTo>
                  <a:pt x="16446" y="6160"/>
                </a:moveTo>
                <a:cubicBezTo>
                  <a:pt x="16542" y="6160"/>
                  <a:pt x="16619" y="6155"/>
                  <a:pt x="16700" y="6128"/>
                </a:cubicBezTo>
                <a:cubicBezTo>
                  <a:pt x="16732" y="6128"/>
                  <a:pt x="16743" y="6128"/>
                  <a:pt x="16764" y="6128"/>
                </a:cubicBezTo>
              </a:path>
              <a:path w="9526" h="1779">
                <a:moveTo>
                  <a:pt x="17018" y="5937"/>
                </a:moveTo>
                <a:cubicBezTo>
                  <a:pt x="17037" y="5861"/>
                  <a:pt x="17069" y="5874"/>
                  <a:pt x="17145" y="5874"/>
                </a:cubicBezTo>
                <a:cubicBezTo>
                  <a:pt x="17199" y="5874"/>
                  <a:pt x="17235" y="5932"/>
                  <a:pt x="17272" y="5969"/>
                </a:cubicBezTo>
                <a:cubicBezTo>
                  <a:pt x="17314" y="6011"/>
                  <a:pt x="17305" y="6054"/>
                  <a:pt x="17272" y="6096"/>
                </a:cubicBezTo>
                <a:cubicBezTo>
                  <a:pt x="17211" y="6173"/>
                  <a:pt x="17137" y="6248"/>
                  <a:pt x="17082" y="6318"/>
                </a:cubicBezTo>
                <a:cubicBezTo>
                  <a:pt x="17039" y="6372"/>
                  <a:pt x="16999" y="6444"/>
                  <a:pt x="16986" y="6509"/>
                </a:cubicBezTo>
                <a:cubicBezTo>
                  <a:pt x="17029" y="6540"/>
                  <a:pt x="17085" y="6557"/>
                  <a:pt x="17145" y="6540"/>
                </a:cubicBezTo>
                <a:cubicBezTo>
                  <a:pt x="17233" y="6515"/>
                  <a:pt x="17287" y="6491"/>
                  <a:pt x="17367" y="6445"/>
                </a:cubicBezTo>
              </a:path>
              <a:path w="9526" h="1779">
                <a:moveTo>
                  <a:pt x="17558" y="6001"/>
                </a:moveTo>
                <a:cubicBezTo>
                  <a:pt x="17521" y="6049"/>
                  <a:pt x="17526" y="6066"/>
                  <a:pt x="17526" y="6128"/>
                </a:cubicBezTo>
                <a:cubicBezTo>
                  <a:pt x="17526" y="6198"/>
                  <a:pt x="17465" y="6279"/>
                  <a:pt x="17494" y="6350"/>
                </a:cubicBezTo>
                <a:cubicBezTo>
                  <a:pt x="17512" y="6392"/>
                  <a:pt x="17581" y="6441"/>
                  <a:pt x="17621" y="6445"/>
                </a:cubicBezTo>
                <a:cubicBezTo>
                  <a:pt x="17703" y="6454"/>
                  <a:pt x="17725" y="6437"/>
                  <a:pt x="17780" y="6382"/>
                </a:cubicBezTo>
                <a:cubicBezTo>
                  <a:pt x="17829" y="6334"/>
                  <a:pt x="17840" y="6260"/>
                  <a:pt x="17844" y="6191"/>
                </a:cubicBezTo>
                <a:cubicBezTo>
                  <a:pt x="17849" y="6110"/>
                  <a:pt x="17854" y="6022"/>
                  <a:pt x="17780" y="5969"/>
                </a:cubicBezTo>
                <a:cubicBezTo>
                  <a:pt x="17768" y="5961"/>
                  <a:pt x="17645" y="5907"/>
                  <a:pt x="17621" y="5937"/>
                </a:cubicBezTo>
                <a:cubicBezTo>
                  <a:pt x="17621" y="5948"/>
                  <a:pt x="17621" y="5958"/>
                  <a:pt x="17621" y="5969"/>
                </a:cubicBezTo>
              </a:path>
              <a:path w="9526" h="1779">
                <a:moveTo>
                  <a:pt x="18478" y="5842"/>
                </a:moveTo>
                <a:cubicBezTo>
                  <a:pt x="18419" y="5796"/>
                  <a:pt x="18367" y="5810"/>
                  <a:pt x="18288" y="5810"/>
                </a:cubicBezTo>
                <a:cubicBezTo>
                  <a:pt x="18249" y="5810"/>
                  <a:pt x="18149" y="5835"/>
                  <a:pt x="18129" y="5874"/>
                </a:cubicBezTo>
                <a:cubicBezTo>
                  <a:pt x="18095" y="5943"/>
                  <a:pt x="18108" y="5938"/>
                  <a:pt x="18129" y="6001"/>
                </a:cubicBezTo>
                <a:cubicBezTo>
                  <a:pt x="18135" y="6018"/>
                  <a:pt x="18190" y="6086"/>
                  <a:pt x="18224" y="6096"/>
                </a:cubicBezTo>
                <a:cubicBezTo>
                  <a:pt x="18278" y="6112"/>
                  <a:pt x="18380" y="6105"/>
                  <a:pt x="18415" y="6160"/>
                </a:cubicBezTo>
                <a:cubicBezTo>
                  <a:pt x="18446" y="6210"/>
                  <a:pt x="18458" y="6239"/>
                  <a:pt x="18415" y="6286"/>
                </a:cubicBezTo>
                <a:cubicBezTo>
                  <a:pt x="18385" y="6319"/>
                  <a:pt x="18330" y="6345"/>
                  <a:pt x="18288" y="6350"/>
                </a:cubicBezTo>
                <a:cubicBezTo>
                  <a:pt x="18233" y="6356"/>
                  <a:pt x="18234" y="6326"/>
                  <a:pt x="18224" y="6286"/>
                </a:cubicBezTo>
              </a:path>
              <a:path w="9526" h="1779">
                <a:moveTo>
                  <a:pt x="18669" y="5778"/>
                </a:moveTo>
                <a:cubicBezTo>
                  <a:pt x="18636" y="5856"/>
                  <a:pt x="18637" y="5885"/>
                  <a:pt x="18637" y="5969"/>
                </a:cubicBezTo>
                <a:cubicBezTo>
                  <a:pt x="18637" y="6063"/>
                  <a:pt x="18613" y="6133"/>
                  <a:pt x="18606" y="6223"/>
                </a:cubicBezTo>
                <a:cubicBezTo>
                  <a:pt x="18604" y="6250"/>
                  <a:pt x="18622" y="6356"/>
                  <a:pt x="18637" y="6382"/>
                </a:cubicBezTo>
                <a:cubicBezTo>
                  <a:pt x="18666" y="6411"/>
                  <a:pt x="18676" y="6417"/>
                  <a:pt x="18669" y="6445"/>
                </a:cubicBezTo>
              </a:path>
              <a:path w="9526" h="1779">
                <a:moveTo>
                  <a:pt x="19018" y="5874"/>
                </a:moveTo>
                <a:cubicBezTo>
                  <a:pt x="18981" y="5904"/>
                  <a:pt x="18886" y="5936"/>
                  <a:pt x="18923" y="6001"/>
                </a:cubicBezTo>
                <a:cubicBezTo>
                  <a:pt x="18963" y="6073"/>
                  <a:pt x="19009" y="6014"/>
                  <a:pt x="19050" y="6001"/>
                </a:cubicBezTo>
                <a:cubicBezTo>
                  <a:pt x="19080" y="5991"/>
                  <a:pt x="19169" y="5961"/>
                  <a:pt x="19145" y="5906"/>
                </a:cubicBezTo>
                <a:cubicBezTo>
                  <a:pt x="19116" y="5839"/>
                  <a:pt x="19090" y="5854"/>
                  <a:pt x="19050" y="5874"/>
                </a:cubicBezTo>
              </a:path>
              <a:path w="9526" h="1779">
                <a:moveTo>
                  <a:pt x="19558" y="5937"/>
                </a:moveTo>
                <a:cubicBezTo>
                  <a:pt x="19482" y="5882"/>
                  <a:pt x="19499" y="5925"/>
                  <a:pt x="19431" y="5969"/>
                </a:cubicBezTo>
                <a:cubicBezTo>
                  <a:pt x="19357" y="6017"/>
                  <a:pt x="19319" y="6051"/>
                  <a:pt x="19272" y="6128"/>
                </a:cubicBezTo>
                <a:cubicBezTo>
                  <a:pt x="19246" y="6170"/>
                  <a:pt x="19215" y="6267"/>
                  <a:pt x="19240" y="6318"/>
                </a:cubicBezTo>
                <a:cubicBezTo>
                  <a:pt x="19261" y="6360"/>
                  <a:pt x="19359" y="6378"/>
                  <a:pt x="19399" y="6382"/>
                </a:cubicBezTo>
                <a:cubicBezTo>
                  <a:pt x="19469" y="6389"/>
                  <a:pt x="19514" y="6330"/>
                  <a:pt x="19558" y="6286"/>
                </a:cubicBezTo>
              </a:path>
              <a:path w="9526" h="1779">
                <a:moveTo>
                  <a:pt x="19748" y="5461"/>
                </a:moveTo>
                <a:cubicBezTo>
                  <a:pt x="19748" y="5553"/>
                  <a:pt x="19778" y="5576"/>
                  <a:pt x="19812" y="5652"/>
                </a:cubicBezTo>
                <a:cubicBezTo>
                  <a:pt x="19868" y="5776"/>
                  <a:pt x="19925" y="5905"/>
                  <a:pt x="19971" y="6032"/>
                </a:cubicBezTo>
                <a:cubicBezTo>
                  <a:pt x="20014" y="6150"/>
                  <a:pt x="20034" y="6224"/>
                  <a:pt x="20034" y="6350"/>
                </a:cubicBezTo>
                <a:cubicBezTo>
                  <a:pt x="20034" y="6460"/>
                  <a:pt x="19981" y="6498"/>
                  <a:pt x="19907" y="6572"/>
                </a:cubicBezTo>
                <a:cubicBezTo>
                  <a:pt x="19868" y="6611"/>
                  <a:pt x="19823" y="6634"/>
                  <a:pt x="19780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7"/>
          <p:cNvSpPr/>
          <p:nvPr/>
        </p:nvSpPr>
        <p:spPr>
          <a:xfrm>
            <a:off x="1496880" y="1611360"/>
            <a:ext cx="217800" cy="252360"/>
          </a:xfrm>
          <a:custGeom>
            <a:avLst/>
            <a:gdLst/>
            <a:ahLst/>
            <a:rect l="l" t="t" r="r" b="b"/>
            <a:pathLst>
              <a:path w="604" h="699">
                <a:moveTo>
                  <a:pt x="4159" y="4572"/>
                </a:moveTo>
                <a:cubicBezTo>
                  <a:pt x="4163" y="4561"/>
                  <a:pt x="4212" y="4484"/>
                  <a:pt x="4223" y="4477"/>
                </a:cubicBezTo>
                <a:cubicBezTo>
                  <a:pt x="4259" y="4453"/>
                  <a:pt x="4358" y="4492"/>
                  <a:pt x="4382" y="4508"/>
                </a:cubicBezTo>
                <a:cubicBezTo>
                  <a:pt x="4401" y="4521"/>
                  <a:pt x="4458" y="4615"/>
                  <a:pt x="4445" y="4636"/>
                </a:cubicBezTo>
                <a:cubicBezTo>
                  <a:pt x="4402" y="4703"/>
                  <a:pt x="4338" y="4727"/>
                  <a:pt x="4286" y="4762"/>
                </a:cubicBezTo>
                <a:cubicBezTo>
                  <a:pt x="4257" y="4791"/>
                  <a:pt x="4251" y="4801"/>
                  <a:pt x="4223" y="4794"/>
                </a:cubicBezTo>
                <a:cubicBezTo>
                  <a:pt x="4257" y="4768"/>
                  <a:pt x="4300" y="4744"/>
                  <a:pt x="4350" y="4762"/>
                </a:cubicBezTo>
                <a:cubicBezTo>
                  <a:pt x="4436" y="4793"/>
                  <a:pt x="4437" y="4797"/>
                  <a:pt x="4477" y="4858"/>
                </a:cubicBezTo>
                <a:cubicBezTo>
                  <a:pt x="4494" y="4884"/>
                  <a:pt x="4555" y="4951"/>
                  <a:pt x="4540" y="4985"/>
                </a:cubicBezTo>
                <a:cubicBezTo>
                  <a:pt x="4522" y="5025"/>
                  <a:pt x="4443" y="5108"/>
                  <a:pt x="4413" y="5112"/>
                </a:cubicBezTo>
                <a:cubicBezTo>
                  <a:pt x="4347" y="5112"/>
                  <a:pt x="4325" y="5114"/>
                  <a:pt x="4318" y="5175"/>
                </a:cubicBezTo>
                <a:cubicBezTo>
                  <a:pt x="4288" y="5168"/>
                  <a:pt x="4218" y="5159"/>
                  <a:pt x="4191" y="5144"/>
                </a:cubicBezTo>
                <a:cubicBezTo>
                  <a:pt x="4180" y="5133"/>
                  <a:pt x="4170" y="5123"/>
                  <a:pt x="4159" y="5112"/>
                </a:cubicBezTo>
              </a:path>
              <a:path w="604" h="699">
                <a:moveTo>
                  <a:pt x="4762" y="5016"/>
                </a:moveTo>
                <a:cubicBezTo>
                  <a:pt x="4731" y="5048"/>
                  <a:pt x="4720" y="5059"/>
                  <a:pt x="4699" y="5080"/>
                </a:cubicBezTo>
                <a:cubicBezTo>
                  <a:pt x="4772" y="5056"/>
                  <a:pt x="4702" y="5071"/>
                  <a:pt x="4762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8"/>
          <p:cNvSpPr/>
          <p:nvPr/>
        </p:nvSpPr>
        <p:spPr>
          <a:xfrm>
            <a:off x="2149560" y="1531800"/>
            <a:ext cx="1760400" cy="468360"/>
          </a:xfrm>
          <a:custGeom>
            <a:avLst/>
            <a:gdLst/>
            <a:ahLst/>
            <a:rect l="l" t="t" r="r" b="b"/>
            <a:pathLst>
              <a:path w="4890" h="1303">
                <a:moveTo>
                  <a:pt x="6350" y="4540"/>
                </a:moveTo>
                <a:cubicBezTo>
                  <a:pt x="6312" y="4464"/>
                  <a:pt x="6281" y="4464"/>
                  <a:pt x="6223" y="4477"/>
                </a:cubicBezTo>
                <a:cubicBezTo>
                  <a:pt x="6146" y="4494"/>
                  <a:pt x="6142" y="4542"/>
                  <a:pt x="6096" y="4604"/>
                </a:cubicBezTo>
                <a:cubicBezTo>
                  <a:pt x="6037" y="4682"/>
                  <a:pt x="5977" y="4764"/>
                  <a:pt x="5969" y="4858"/>
                </a:cubicBezTo>
                <a:cubicBezTo>
                  <a:pt x="5961" y="4957"/>
                  <a:pt x="5967" y="4977"/>
                  <a:pt x="6064" y="4985"/>
                </a:cubicBezTo>
                <a:cubicBezTo>
                  <a:pt x="6160" y="4993"/>
                  <a:pt x="6149" y="5027"/>
                  <a:pt x="6223" y="4953"/>
                </a:cubicBezTo>
                <a:cubicBezTo>
                  <a:pt x="6263" y="4913"/>
                  <a:pt x="6336" y="4846"/>
                  <a:pt x="6350" y="4794"/>
                </a:cubicBezTo>
                <a:cubicBezTo>
                  <a:pt x="6362" y="4748"/>
                  <a:pt x="6377" y="4677"/>
                  <a:pt x="6382" y="4636"/>
                </a:cubicBezTo>
                <a:cubicBezTo>
                  <a:pt x="6391" y="4553"/>
                  <a:pt x="6374" y="4567"/>
                  <a:pt x="6382" y="4667"/>
                </a:cubicBezTo>
                <a:cubicBezTo>
                  <a:pt x="6392" y="4782"/>
                  <a:pt x="6364" y="4880"/>
                  <a:pt x="6350" y="4985"/>
                </a:cubicBezTo>
                <a:cubicBezTo>
                  <a:pt x="6335" y="5099"/>
                  <a:pt x="6365" y="5198"/>
                  <a:pt x="6382" y="5302"/>
                </a:cubicBezTo>
                <a:cubicBezTo>
                  <a:pt x="6397" y="5399"/>
                  <a:pt x="6373" y="5444"/>
                  <a:pt x="6445" y="5524"/>
                </a:cubicBezTo>
                <a:cubicBezTo>
                  <a:pt x="6481" y="5564"/>
                  <a:pt x="6491" y="5556"/>
                  <a:pt x="6540" y="5556"/>
                </a:cubicBezTo>
                <a:cubicBezTo>
                  <a:pt x="6555" y="5495"/>
                  <a:pt x="6611" y="5484"/>
                  <a:pt x="6636" y="5429"/>
                </a:cubicBezTo>
                <a:cubicBezTo>
                  <a:pt x="6656" y="5385"/>
                  <a:pt x="6664" y="5288"/>
                  <a:pt x="6668" y="5239"/>
                </a:cubicBezTo>
                <a:cubicBezTo>
                  <a:pt x="6674" y="5173"/>
                  <a:pt x="6620" y="5110"/>
                  <a:pt x="6604" y="5048"/>
                </a:cubicBezTo>
                <a:cubicBezTo>
                  <a:pt x="6587" y="4981"/>
                  <a:pt x="6556" y="4985"/>
                  <a:pt x="6509" y="4953"/>
                </a:cubicBezTo>
                <a:cubicBezTo>
                  <a:pt x="6475" y="4930"/>
                  <a:pt x="6390" y="4921"/>
                  <a:pt x="6445" y="4921"/>
                </a:cubicBezTo>
                <a:cubicBezTo>
                  <a:pt x="6509" y="4905"/>
                  <a:pt x="6527" y="4890"/>
                  <a:pt x="6604" y="4890"/>
                </a:cubicBezTo>
              </a:path>
              <a:path w="4890" h="1303">
                <a:moveTo>
                  <a:pt x="6985" y="4636"/>
                </a:moveTo>
                <a:cubicBezTo>
                  <a:pt x="7092" y="4636"/>
                  <a:pt x="7171" y="4629"/>
                  <a:pt x="7271" y="4604"/>
                </a:cubicBezTo>
                <a:cubicBezTo>
                  <a:pt x="7324" y="4591"/>
                  <a:pt x="7353" y="4598"/>
                  <a:pt x="7366" y="4636"/>
                </a:cubicBezTo>
              </a:path>
              <a:path w="4890" h="1303">
                <a:moveTo>
                  <a:pt x="7176" y="4826"/>
                </a:moveTo>
                <a:cubicBezTo>
                  <a:pt x="7254" y="4826"/>
                  <a:pt x="7304" y="4807"/>
                  <a:pt x="7366" y="4794"/>
                </a:cubicBezTo>
                <a:cubicBezTo>
                  <a:pt x="7387" y="4794"/>
                  <a:pt x="7409" y="4794"/>
                  <a:pt x="7430" y="4794"/>
                </a:cubicBezTo>
              </a:path>
              <a:path w="4890" h="1303">
                <a:moveTo>
                  <a:pt x="7652" y="4604"/>
                </a:moveTo>
                <a:cubicBezTo>
                  <a:pt x="7652" y="4662"/>
                  <a:pt x="7680" y="4679"/>
                  <a:pt x="7684" y="4731"/>
                </a:cubicBezTo>
                <a:cubicBezTo>
                  <a:pt x="7688" y="4783"/>
                  <a:pt x="7684" y="4838"/>
                  <a:pt x="7684" y="4890"/>
                </a:cubicBezTo>
                <a:cubicBezTo>
                  <a:pt x="7684" y="4943"/>
                  <a:pt x="7684" y="4847"/>
                  <a:pt x="7684" y="4794"/>
                </a:cubicBezTo>
                <a:cubicBezTo>
                  <a:pt x="7684" y="4737"/>
                  <a:pt x="7686" y="4679"/>
                  <a:pt x="7715" y="4636"/>
                </a:cubicBezTo>
                <a:cubicBezTo>
                  <a:pt x="7763" y="4565"/>
                  <a:pt x="7826" y="4609"/>
                  <a:pt x="7874" y="4636"/>
                </a:cubicBezTo>
                <a:cubicBezTo>
                  <a:pt x="7956" y="4682"/>
                  <a:pt x="7962" y="4761"/>
                  <a:pt x="7969" y="4858"/>
                </a:cubicBezTo>
                <a:cubicBezTo>
                  <a:pt x="7973" y="4914"/>
                  <a:pt x="7989" y="4935"/>
                  <a:pt x="8001" y="4985"/>
                </a:cubicBezTo>
                <a:cubicBezTo>
                  <a:pt x="8001" y="4875"/>
                  <a:pt x="7971" y="4731"/>
                  <a:pt x="8033" y="4636"/>
                </a:cubicBezTo>
                <a:cubicBezTo>
                  <a:pt x="8070" y="4580"/>
                  <a:pt x="8059" y="4572"/>
                  <a:pt x="8128" y="4572"/>
                </a:cubicBezTo>
                <a:cubicBezTo>
                  <a:pt x="8240" y="4572"/>
                  <a:pt x="8225" y="4672"/>
                  <a:pt x="8255" y="4731"/>
                </a:cubicBezTo>
                <a:cubicBezTo>
                  <a:pt x="8297" y="4814"/>
                  <a:pt x="8276" y="4879"/>
                  <a:pt x="8350" y="4953"/>
                </a:cubicBezTo>
                <a:cubicBezTo>
                  <a:pt x="8382" y="4985"/>
                  <a:pt x="8393" y="4996"/>
                  <a:pt x="8414" y="4953"/>
                </a:cubicBezTo>
              </a:path>
              <a:path w="4890" h="1303">
                <a:moveTo>
                  <a:pt x="8922" y="4667"/>
                </a:moveTo>
                <a:cubicBezTo>
                  <a:pt x="8948" y="4615"/>
                  <a:pt x="8959" y="4607"/>
                  <a:pt x="8954" y="4572"/>
                </a:cubicBezTo>
                <a:cubicBezTo>
                  <a:pt x="8839" y="4558"/>
                  <a:pt x="8848" y="4534"/>
                  <a:pt x="8763" y="4604"/>
                </a:cubicBezTo>
                <a:cubicBezTo>
                  <a:pt x="8695" y="4660"/>
                  <a:pt x="8626" y="4696"/>
                  <a:pt x="8604" y="4794"/>
                </a:cubicBezTo>
                <a:cubicBezTo>
                  <a:pt x="8594" y="4840"/>
                  <a:pt x="8597" y="4951"/>
                  <a:pt x="8636" y="4985"/>
                </a:cubicBezTo>
                <a:cubicBezTo>
                  <a:pt x="8656" y="5003"/>
                  <a:pt x="8820" y="5057"/>
                  <a:pt x="8858" y="5048"/>
                </a:cubicBezTo>
                <a:cubicBezTo>
                  <a:pt x="8941" y="5028"/>
                  <a:pt x="9033" y="4983"/>
                  <a:pt x="9112" y="4953"/>
                </a:cubicBezTo>
              </a:path>
              <a:path w="4890" h="1303">
                <a:moveTo>
                  <a:pt x="9588" y="4286"/>
                </a:moveTo>
                <a:cubicBezTo>
                  <a:pt x="9578" y="4358"/>
                  <a:pt x="9566" y="4473"/>
                  <a:pt x="9525" y="4540"/>
                </a:cubicBezTo>
                <a:cubicBezTo>
                  <a:pt x="9467" y="4635"/>
                  <a:pt x="9452" y="4719"/>
                  <a:pt x="9398" y="4826"/>
                </a:cubicBezTo>
                <a:cubicBezTo>
                  <a:pt x="9364" y="4894"/>
                  <a:pt x="9334" y="4912"/>
                  <a:pt x="9334" y="4985"/>
                </a:cubicBezTo>
              </a:path>
              <a:path w="4890" h="1303">
                <a:moveTo>
                  <a:pt x="9525" y="4350"/>
                </a:moveTo>
                <a:cubicBezTo>
                  <a:pt x="9581" y="4364"/>
                  <a:pt x="9591" y="4395"/>
                  <a:pt x="9620" y="4445"/>
                </a:cubicBezTo>
                <a:cubicBezTo>
                  <a:pt x="9671" y="4534"/>
                  <a:pt x="9736" y="4542"/>
                  <a:pt x="9811" y="4604"/>
                </a:cubicBezTo>
                <a:cubicBezTo>
                  <a:pt x="9884" y="4664"/>
                  <a:pt x="9959" y="4706"/>
                  <a:pt x="10033" y="4762"/>
                </a:cubicBezTo>
                <a:cubicBezTo>
                  <a:pt x="10066" y="4787"/>
                  <a:pt x="10123" y="4841"/>
                  <a:pt x="10096" y="4890"/>
                </a:cubicBezTo>
                <a:cubicBezTo>
                  <a:pt x="10067" y="4942"/>
                  <a:pt x="9957" y="4950"/>
                  <a:pt x="9906" y="4953"/>
                </a:cubicBezTo>
                <a:cubicBezTo>
                  <a:pt x="9798" y="4959"/>
                  <a:pt x="9732" y="4959"/>
                  <a:pt x="9620" y="4953"/>
                </a:cubicBezTo>
                <a:cubicBezTo>
                  <a:pt x="9536" y="4949"/>
                  <a:pt x="9450" y="4953"/>
                  <a:pt x="9366" y="4953"/>
                </a:cubicBezTo>
              </a:path>
              <a:path w="4890" h="1303">
                <a:moveTo>
                  <a:pt x="10319" y="4318"/>
                </a:moveTo>
                <a:cubicBezTo>
                  <a:pt x="10319" y="4282"/>
                  <a:pt x="10322" y="4268"/>
                  <a:pt x="10350" y="4254"/>
                </a:cubicBezTo>
                <a:cubicBezTo>
                  <a:pt x="10381" y="4336"/>
                  <a:pt x="10382" y="4389"/>
                  <a:pt x="10382" y="4477"/>
                </a:cubicBezTo>
                <a:cubicBezTo>
                  <a:pt x="10382" y="4623"/>
                  <a:pt x="10379" y="4754"/>
                  <a:pt x="10414" y="4890"/>
                </a:cubicBezTo>
                <a:cubicBezTo>
                  <a:pt x="10428" y="4946"/>
                  <a:pt x="10407" y="4933"/>
                  <a:pt x="10446" y="4985"/>
                </a:cubicBezTo>
              </a:path>
              <a:path w="4890" h="1303">
                <a:moveTo>
                  <a:pt x="10001" y="4350"/>
                </a:moveTo>
                <a:cubicBezTo>
                  <a:pt x="10066" y="4310"/>
                  <a:pt x="10171" y="4302"/>
                  <a:pt x="10255" y="4318"/>
                </a:cubicBezTo>
                <a:cubicBezTo>
                  <a:pt x="10411" y="4348"/>
                  <a:pt x="10573" y="4375"/>
                  <a:pt x="10732" y="4382"/>
                </a:cubicBezTo>
                <a:cubicBezTo>
                  <a:pt x="10774" y="4384"/>
                  <a:pt x="10816" y="4382"/>
                  <a:pt x="10858" y="4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9"/>
          <p:cNvSpPr/>
          <p:nvPr/>
        </p:nvSpPr>
        <p:spPr>
          <a:xfrm>
            <a:off x="2903400" y="2971800"/>
            <a:ext cx="1440000" cy="195120"/>
          </a:xfrm>
          <a:custGeom>
            <a:avLst/>
            <a:gdLst/>
            <a:ahLst/>
            <a:rect l="l" t="t" r="r" b="b"/>
            <a:pathLst>
              <a:path w="4002" h="541">
                <a:moveTo>
                  <a:pt x="8096" y="8446"/>
                </a:moveTo>
                <a:cubicBezTo>
                  <a:pt x="8067" y="8502"/>
                  <a:pt x="8096" y="8499"/>
                  <a:pt x="8096" y="8572"/>
                </a:cubicBezTo>
                <a:cubicBezTo>
                  <a:pt x="8096" y="8644"/>
                  <a:pt x="8128" y="8661"/>
                  <a:pt x="8128" y="8731"/>
                </a:cubicBezTo>
                <a:cubicBezTo>
                  <a:pt x="8128" y="8784"/>
                  <a:pt x="8128" y="8689"/>
                  <a:pt x="8128" y="8636"/>
                </a:cubicBezTo>
                <a:cubicBezTo>
                  <a:pt x="8128" y="8590"/>
                  <a:pt x="8172" y="8523"/>
                  <a:pt x="8192" y="8477"/>
                </a:cubicBezTo>
                <a:cubicBezTo>
                  <a:pt x="8255" y="8504"/>
                  <a:pt x="8297" y="8508"/>
                  <a:pt x="8318" y="8572"/>
                </a:cubicBezTo>
                <a:cubicBezTo>
                  <a:pt x="8338" y="8633"/>
                  <a:pt x="8314" y="8672"/>
                  <a:pt x="8350" y="8731"/>
                </a:cubicBezTo>
                <a:cubicBezTo>
                  <a:pt x="8350" y="8652"/>
                  <a:pt x="8361" y="8604"/>
                  <a:pt x="8382" y="8541"/>
                </a:cubicBezTo>
                <a:cubicBezTo>
                  <a:pt x="8382" y="8505"/>
                  <a:pt x="8385" y="8491"/>
                  <a:pt x="8414" y="8477"/>
                </a:cubicBezTo>
                <a:cubicBezTo>
                  <a:pt x="8474" y="8537"/>
                  <a:pt x="8502" y="8551"/>
                  <a:pt x="8509" y="8636"/>
                </a:cubicBezTo>
                <a:cubicBezTo>
                  <a:pt x="8512" y="8670"/>
                  <a:pt x="8517" y="8746"/>
                  <a:pt x="8541" y="8763"/>
                </a:cubicBezTo>
                <a:cubicBezTo>
                  <a:pt x="8551" y="8763"/>
                  <a:pt x="8562" y="8763"/>
                  <a:pt x="8572" y="8763"/>
                </a:cubicBezTo>
              </a:path>
              <a:path w="4002" h="541">
                <a:moveTo>
                  <a:pt x="8636" y="8287"/>
                </a:moveTo>
                <a:cubicBezTo>
                  <a:pt x="8647" y="8365"/>
                  <a:pt x="8668" y="8393"/>
                  <a:pt x="8668" y="8477"/>
                </a:cubicBezTo>
                <a:cubicBezTo>
                  <a:pt x="8668" y="8565"/>
                  <a:pt x="8711" y="8619"/>
                  <a:pt x="8731" y="8700"/>
                </a:cubicBezTo>
                <a:cubicBezTo>
                  <a:pt x="8740" y="8738"/>
                  <a:pt x="8754" y="8757"/>
                  <a:pt x="8763" y="8795"/>
                </a:cubicBezTo>
                <a:cubicBezTo>
                  <a:pt x="8835" y="8795"/>
                  <a:pt x="8863" y="8783"/>
                  <a:pt x="8922" y="8763"/>
                </a:cubicBezTo>
                <a:cubicBezTo>
                  <a:pt x="8958" y="8751"/>
                  <a:pt x="8980" y="8740"/>
                  <a:pt x="9017" y="8731"/>
                </a:cubicBezTo>
              </a:path>
              <a:path w="4002" h="541">
                <a:moveTo>
                  <a:pt x="9303" y="8477"/>
                </a:moveTo>
                <a:cubicBezTo>
                  <a:pt x="9287" y="8542"/>
                  <a:pt x="9271" y="8558"/>
                  <a:pt x="9271" y="8636"/>
                </a:cubicBezTo>
                <a:cubicBezTo>
                  <a:pt x="9271" y="8693"/>
                  <a:pt x="9268" y="8726"/>
                  <a:pt x="9334" y="8731"/>
                </a:cubicBezTo>
                <a:cubicBezTo>
                  <a:pt x="9417" y="8737"/>
                  <a:pt x="9429" y="8721"/>
                  <a:pt x="9493" y="8700"/>
                </a:cubicBezTo>
                <a:cubicBezTo>
                  <a:pt x="9555" y="8680"/>
                  <a:pt x="9536" y="8652"/>
                  <a:pt x="9525" y="8604"/>
                </a:cubicBezTo>
                <a:cubicBezTo>
                  <a:pt x="9503" y="8503"/>
                  <a:pt x="9456" y="8541"/>
                  <a:pt x="9398" y="8509"/>
                </a:cubicBezTo>
                <a:cubicBezTo>
                  <a:pt x="9369" y="8480"/>
                  <a:pt x="9358" y="8465"/>
                  <a:pt x="9366" y="8509"/>
                </a:cubicBezTo>
              </a:path>
              <a:path w="4002" h="541">
                <a:moveTo>
                  <a:pt x="9684" y="8763"/>
                </a:moveTo>
                <a:cubicBezTo>
                  <a:pt x="9684" y="8707"/>
                  <a:pt x="9672" y="8653"/>
                  <a:pt x="9652" y="8604"/>
                </a:cubicBezTo>
                <a:cubicBezTo>
                  <a:pt x="9629" y="8547"/>
                  <a:pt x="9598" y="8480"/>
                  <a:pt x="9620" y="8414"/>
                </a:cubicBezTo>
                <a:cubicBezTo>
                  <a:pt x="9643" y="8346"/>
                  <a:pt x="9683" y="8276"/>
                  <a:pt x="9747" y="8255"/>
                </a:cubicBezTo>
                <a:cubicBezTo>
                  <a:pt x="9777" y="8245"/>
                  <a:pt x="9863" y="8271"/>
                  <a:pt x="9874" y="8287"/>
                </a:cubicBezTo>
                <a:cubicBezTo>
                  <a:pt x="9874" y="8297"/>
                  <a:pt x="9874" y="8308"/>
                  <a:pt x="9874" y="8318"/>
                </a:cubicBezTo>
              </a:path>
              <a:path w="4002" h="541">
                <a:moveTo>
                  <a:pt x="9557" y="8541"/>
                </a:moveTo>
                <a:cubicBezTo>
                  <a:pt x="9620" y="8525"/>
                  <a:pt x="9662" y="8516"/>
                  <a:pt x="9716" y="8509"/>
                </a:cubicBezTo>
                <a:cubicBezTo>
                  <a:pt x="9767" y="8502"/>
                  <a:pt x="9823" y="8509"/>
                  <a:pt x="9874" y="8509"/>
                </a:cubicBezTo>
              </a:path>
              <a:path w="4002" h="541">
                <a:moveTo>
                  <a:pt x="10192" y="8446"/>
                </a:moveTo>
                <a:cubicBezTo>
                  <a:pt x="10181" y="8471"/>
                  <a:pt x="10117" y="8580"/>
                  <a:pt x="10128" y="8604"/>
                </a:cubicBezTo>
                <a:cubicBezTo>
                  <a:pt x="10153" y="8661"/>
                  <a:pt x="10157" y="8707"/>
                  <a:pt x="10224" y="8731"/>
                </a:cubicBezTo>
                <a:cubicBezTo>
                  <a:pt x="10299" y="8758"/>
                  <a:pt x="10276" y="8667"/>
                  <a:pt x="10287" y="8636"/>
                </a:cubicBezTo>
                <a:cubicBezTo>
                  <a:pt x="10298" y="8615"/>
                  <a:pt x="10308" y="8593"/>
                  <a:pt x="10319" y="8572"/>
                </a:cubicBezTo>
                <a:cubicBezTo>
                  <a:pt x="10319" y="8562"/>
                  <a:pt x="10319" y="8551"/>
                  <a:pt x="10319" y="8541"/>
                </a:cubicBezTo>
                <a:cubicBezTo>
                  <a:pt x="10280" y="8638"/>
                  <a:pt x="10345" y="8617"/>
                  <a:pt x="10382" y="8700"/>
                </a:cubicBezTo>
                <a:cubicBezTo>
                  <a:pt x="10404" y="8749"/>
                  <a:pt x="10449" y="8731"/>
                  <a:pt x="10509" y="8731"/>
                </a:cubicBezTo>
                <a:cubicBezTo>
                  <a:pt x="10590" y="8731"/>
                  <a:pt x="10573" y="8665"/>
                  <a:pt x="10573" y="8604"/>
                </a:cubicBezTo>
                <a:cubicBezTo>
                  <a:pt x="10573" y="8557"/>
                  <a:pt x="10536" y="8513"/>
                  <a:pt x="10509" y="8477"/>
                </a:cubicBezTo>
              </a:path>
              <a:path w="4002" h="541">
                <a:moveTo>
                  <a:pt x="10890" y="8509"/>
                </a:moveTo>
                <a:cubicBezTo>
                  <a:pt x="10831" y="8479"/>
                  <a:pt x="10795" y="8516"/>
                  <a:pt x="10732" y="8572"/>
                </a:cubicBezTo>
                <a:cubicBezTo>
                  <a:pt x="10686" y="8613"/>
                  <a:pt x="10667" y="8658"/>
                  <a:pt x="10700" y="8700"/>
                </a:cubicBezTo>
                <a:cubicBezTo>
                  <a:pt x="10722" y="8728"/>
                  <a:pt x="10790" y="8751"/>
                  <a:pt x="10827" y="8731"/>
                </a:cubicBezTo>
                <a:cubicBezTo>
                  <a:pt x="10893" y="8695"/>
                  <a:pt x="10922" y="8642"/>
                  <a:pt x="10922" y="8572"/>
                </a:cubicBezTo>
                <a:cubicBezTo>
                  <a:pt x="10922" y="8519"/>
                  <a:pt x="10922" y="8509"/>
                  <a:pt x="10922" y="8477"/>
                </a:cubicBezTo>
                <a:cubicBezTo>
                  <a:pt x="10857" y="8520"/>
                  <a:pt x="10914" y="8557"/>
                  <a:pt x="10922" y="8636"/>
                </a:cubicBezTo>
                <a:cubicBezTo>
                  <a:pt x="10929" y="8706"/>
                  <a:pt x="10962" y="8726"/>
                  <a:pt x="11017" y="8763"/>
                </a:cubicBezTo>
              </a:path>
              <a:path w="4002" h="541">
                <a:moveTo>
                  <a:pt x="11144" y="8255"/>
                </a:moveTo>
                <a:cubicBezTo>
                  <a:pt x="11144" y="8370"/>
                  <a:pt x="11156" y="8475"/>
                  <a:pt x="11176" y="8572"/>
                </a:cubicBezTo>
                <a:cubicBezTo>
                  <a:pt x="11193" y="8656"/>
                  <a:pt x="11160" y="8636"/>
                  <a:pt x="11208" y="8700"/>
                </a:cubicBezTo>
              </a:path>
              <a:path w="4002" h="541">
                <a:moveTo>
                  <a:pt x="10986" y="8509"/>
                </a:moveTo>
                <a:cubicBezTo>
                  <a:pt x="10998" y="8546"/>
                  <a:pt x="11056" y="8585"/>
                  <a:pt x="11112" y="8604"/>
                </a:cubicBezTo>
                <a:cubicBezTo>
                  <a:pt x="11203" y="8634"/>
                  <a:pt x="11316" y="8591"/>
                  <a:pt x="11398" y="8572"/>
                </a:cubicBezTo>
                <a:cubicBezTo>
                  <a:pt x="11515" y="8545"/>
                  <a:pt x="11483" y="8553"/>
                  <a:pt x="11525" y="8477"/>
                </a:cubicBezTo>
                <a:cubicBezTo>
                  <a:pt x="11536" y="8467"/>
                  <a:pt x="11546" y="8456"/>
                  <a:pt x="11557" y="8446"/>
                </a:cubicBezTo>
                <a:cubicBezTo>
                  <a:pt x="11495" y="8446"/>
                  <a:pt x="11429" y="8439"/>
                  <a:pt x="11398" y="8509"/>
                </a:cubicBezTo>
                <a:cubicBezTo>
                  <a:pt x="11386" y="8535"/>
                  <a:pt x="11346" y="8599"/>
                  <a:pt x="11366" y="8636"/>
                </a:cubicBezTo>
                <a:cubicBezTo>
                  <a:pt x="11397" y="8692"/>
                  <a:pt x="11438" y="8700"/>
                  <a:pt x="11494" y="8700"/>
                </a:cubicBezTo>
                <a:cubicBezTo>
                  <a:pt x="11529" y="8700"/>
                  <a:pt x="11599" y="8667"/>
                  <a:pt x="11620" y="8636"/>
                </a:cubicBezTo>
                <a:cubicBezTo>
                  <a:pt x="11649" y="8594"/>
                  <a:pt x="11673" y="8553"/>
                  <a:pt x="11684" y="8509"/>
                </a:cubicBezTo>
                <a:cubicBezTo>
                  <a:pt x="11728" y="8567"/>
                  <a:pt x="11721" y="8610"/>
                  <a:pt x="11779" y="8668"/>
                </a:cubicBezTo>
                <a:cubicBezTo>
                  <a:pt x="11828" y="8718"/>
                  <a:pt x="11865" y="8756"/>
                  <a:pt x="11938" y="8763"/>
                </a:cubicBezTo>
                <a:cubicBezTo>
                  <a:pt x="12004" y="8770"/>
                  <a:pt x="12020" y="8745"/>
                  <a:pt x="12065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504120" y="4354560"/>
            <a:ext cx="11160" cy="23760"/>
          </a:xfrm>
          <a:custGeom>
            <a:avLst/>
            <a:gdLst/>
            <a:ahLst/>
            <a:rect l="l" t="t" r="r" b="b"/>
            <a:pathLst>
              <a:path w="33" h="64">
                <a:moveTo>
                  <a:pt x="18098" y="12160"/>
                </a:moveTo>
                <a:cubicBezTo>
                  <a:pt x="18069" y="12131"/>
                  <a:pt x="18059" y="12125"/>
                  <a:pt x="18066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2239920" y="3633840"/>
            <a:ext cx="457200" cy="412560"/>
          </a:xfrm>
          <a:custGeom>
            <a:avLst/>
            <a:gdLst/>
            <a:ahLst/>
            <a:rect l="l" t="t" r="r" b="b"/>
            <a:pathLst>
              <a:path w="1271" h="1145">
                <a:moveTo>
                  <a:pt x="6572" y="10160"/>
                </a:moveTo>
                <a:cubicBezTo>
                  <a:pt x="6572" y="10124"/>
                  <a:pt x="6569" y="10110"/>
                  <a:pt x="6540" y="10096"/>
                </a:cubicBezTo>
                <a:cubicBezTo>
                  <a:pt x="6460" y="10116"/>
                  <a:pt x="6435" y="10165"/>
                  <a:pt x="6382" y="10224"/>
                </a:cubicBezTo>
                <a:cubicBezTo>
                  <a:pt x="6316" y="10298"/>
                  <a:pt x="6253" y="10380"/>
                  <a:pt x="6223" y="10478"/>
                </a:cubicBezTo>
                <a:cubicBezTo>
                  <a:pt x="6212" y="10514"/>
                  <a:pt x="6287" y="10590"/>
                  <a:pt x="6318" y="10604"/>
                </a:cubicBezTo>
                <a:cubicBezTo>
                  <a:pt x="6361" y="10623"/>
                  <a:pt x="6448" y="10567"/>
                  <a:pt x="6477" y="10541"/>
                </a:cubicBezTo>
                <a:cubicBezTo>
                  <a:pt x="6517" y="10505"/>
                  <a:pt x="6536" y="10405"/>
                  <a:pt x="6540" y="10350"/>
                </a:cubicBezTo>
                <a:cubicBezTo>
                  <a:pt x="6543" y="10310"/>
                  <a:pt x="6582" y="10184"/>
                  <a:pt x="6572" y="10160"/>
                </a:cubicBezTo>
                <a:cubicBezTo>
                  <a:pt x="6561" y="10149"/>
                  <a:pt x="6551" y="10139"/>
                  <a:pt x="6540" y="10128"/>
                </a:cubicBezTo>
                <a:cubicBezTo>
                  <a:pt x="6540" y="10253"/>
                  <a:pt x="6558" y="10358"/>
                  <a:pt x="6572" y="10478"/>
                </a:cubicBezTo>
                <a:cubicBezTo>
                  <a:pt x="6587" y="10608"/>
                  <a:pt x="6598" y="10732"/>
                  <a:pt x="6636" y="10858"/>
                </a:cubicBezTo>
                <a:cubicBezTo>
                  <a:pt x="6665" y="10955"/>
                  <a:pt x="6679" y="11092"/>
                  <a:pt x="6731" y="11176"/>
                </a:cubicBezTo>
                <a:cubicBezTo>
                  <a:pt x="6756" y="11217"/>
                  <a:pt x="6786" y="11230"/>
                  <a:pt x="6826" y="11240"/>
                </a:cubicBezTo>
                <a:cubicBezTo>
                  <a:pt x="6913" y="11218"/>
                  <a:pt x="6890" y="11164"/>
                  <a:pt x="6890" y="11081"/>
                </a:cubicBezTo>
                <a:cubicBezTo>
                  <a:pt x="6890" y="10995"/>
                  <a:pt x="6871" y="10936"/>
                  <a:pt x="6858" y="10858"/>
                </a:cubicBezTo>
                <a:cubicBezTo>
                  <a:pt x="6842" y="10763"/>
                  <a:pt x="6820" y="10696"/>
                  <a:pt x="6731" y="10636"/>
                </a:cubicBezTo>
                <a:cubicBezTo>
                  <a:pt x="6674" y="10597"/>
                  <a:pt x="6609" y="10548"/>
                  <a:pt x="6540" y="10541"/>
                </a:cubicBezTo>
                <a:cubicBezTo>
                  <a:pt x="6509" y="10541"/>
                  <a:pt x="6498" y="10541"/>
                  <a:pt x="6477" y="10541"/>
                </a:cubicBezTo>
                <a:cubicBezTo>
                  <a:pt x="6581" y="10541"/>
                  <a:pt x="6665" y="10532"/>
                  <a:pt x="6763" y="10509"/>
                </a:cubicBezTo>
                <a:cubicBezTo>
                  <a:pt x="6815" y="10497"/>
                  <a:pt x="6870" y="10488"/>
                  <a:pt x="6922" y="10478"/>
                </a:cubicBezTo>
              </a:path>
              <a:path w="1271" h="1145">
                <a:moveTo>
                  <a:pt x="7271" y="10160"/>
                </a:moveTo>
                <a:cubicBezTo>
                  <a:pt x="7353" y="10093"/>
                  <a:pt x="7352" y="10101"/>
                  <a:pt x="7430" y="10128"/>
                </a:cubicBezTo>
                <a:cubicBezTo>
                  <a:pt x="7440" y="10128"/>
                  <a:pt x="7451" y="10128"/>
                  <a:pt x="7461" y="10128"/>
                </a:cubicBezTo>
              </a:path>
              <a:path w="1271" h="1145">
                <a:moveTo>
                  <a:pt x="7334" y="10319"/>
                </a:moveTo>
                <a:cubicBezTo>
                  <a:pt x="7384" y="10307"/>
                  <a:pt x="7404" y="10287"/>
                  <a:pt x="7461" y="10287"/>
                </a:cubicBezTo>
                <a:cubicBezTo>
                  <a:pt x="7472" y="10287"/>
                  <a:pt x="7482" y="10287"/>
                  <a:pt x="7493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2971800" y="3497400"/>
            <a:ext cx="709560" cy="320400"/>
          </a:xfrm>
          <a:custGeom>
            <a:avLst/>
            <a:gdLst/>
            <a:ahLst/>
            <a:rect l="l" t="t" r="r" b="b"/>
            <a:pathLst>
              <a:path w="1970" h="889">
                <a:moveTo>
                  <a:pt x="8763" y="9716"/>
                </a:moveTo>
                <a:cubicBezTo>
                  <a:pt x="8707" y="9727"/>
                  <a:pt x="8664" y="9747"/>
                  <a:pt x="8604" y="9747"/>
                </a:cubicBezTo>
                <a:cubicBezTo>
                  <a:pt x="8530" y="9747"/>
                  <a:pt x="8456" y="9747"/>
                  <a:pt x="8382" y="9747"/>
                </a:cubicBezTo>
                <a:cubicBezTo>
                  <a:pt x="8382" y="9824"/>
                  <a:pt x="8369" y="9874"/>
                  <a:pt x="8350" y="9938"/>
                </a:cubicBezTo>
                <a:cubicBezTo>
                  <a:pt x="8336" y="9986"/>
                  <a:pt x="8323" y="10051"/>
                  <a:pt x="8318" y="10096"/>
                </a:cubicBezTo>
                <a:cubicBezTo>
                  <a:pt x="8318" y="10107"/>
                  <a:pt x="8318" y="10117"/>
                  <a:pt x="8318" y="10128"/>
                </a:cubicBezTo>
                <a:cubicBezTo>
                  <a:pt x="8367" y="10080"/>
                  <a:pt x="8410" y="10024"/>
                  <a:pt x="8477" y="10001"/>
                </a:cubicBezTo>
                <a:cubicBezTo>
                  <a:pt x="8523" y="9986"/>
                  <a:pt x="8576" y="10068"/>
                  <a:pt x="8604" y="10096"/>
                </a:cubicBezTo>
                <a:cubicBezTo>
                  <a:pt x="8650" y="10141"/>
                  <a:pt x="8716" y="10189"/>
                  <a:pt x="8731" y="10255"/>
                </a:cubicBezTo>
                <a:cubicBezTo>
                  <a:pt x="8752" y="10345"/>
                  <a:pt x="8725" y="10384"/>
                  <a:pt x="8668" y="10446"/>
                </a:cubicBezTo>
                <a:cubicBezTo>
                  <a:pt x="8603" y="10518"/>
                  <a:pt x="8552" y="10484"/>
                  <a:pt x="8477" y="10509"/>
                </a:cubicBezTo>
                <a:cubicBezTo>
                  <a:pt x="8399" y="10535"/>
                  <a:pt x="8355" y="10554"/>
                  <a:pt x="8287" y="10509"/>
                </a:cubicBezTo>
                <a:cubicBezTo>
                  <a:pt x="8258" y="10481"/>
                  <a:pt x="8247" y="10475"/>
                  <a:pt x="8255" y="10446"/>
                </a:cubicBezTo>
              </a:path>
              <a:path w="1970" h="889">
                <a:moveTo>
                  <a:pt x="8795" y="10001"/>
                </a:moveTo>
                <a:cubicBezTo>
                  <a:pt x="8807" y="9954"/>
                  <a:pt x="8842" y="9922"/>
                  <a:pt x="8890" y="9906"/>
                </a:cubicBezTo>
                <a:cubicBezTo>
                  <a:pt x="8945" y="9888"/>
                  <a:pt x="8970" y="9933"/>
                  <a:pt x="9017" y="9938"/>
                </a:cubicBezTo>
                <a:cubicBezTo>
                  <a:pt x="9054" y="9942"/>
                  <a:pt x="9115" y="9984"/>
                  <a:pt x="9080" y="10033"/>
                </a:cubicBezTo>
                <a:cubicBezTo>
                  <a:pt x="9043" y="10085"/>
                  <a:pt x="9007" y="10114"/>
                  <a:pt x="8954" y="10128"/>
                </a:cubicBezTo>
                <a:cubicBezTo>
                  <a:pt x="9008" y="10087"/>
                  <a:pt x="9040" y="10096"/>
                  <a:pt x="9112" y="10096"/>
                </a:cubicBezTo>
                <a:cubicBezTo>
                  <a:pt x="9159" y="10096"/>
                  <a:pt x="9235" y="10160"/>
                  <a:pt x="9239" y="10192"/>
                </a:cubicBezTo>
                <a:cubicBezTo>
                  <a:pt x="9246" y="10253"/>
                  <a:pt x="9245" y="10303"/>
                  <a:pt x="9208" y="10350"/>
                </a:cubicBezTo>
                <a:cubicBezTo>
                  <a:pt x="9165" y="10403"/>
                  <a:pt x="9104" y="10429"/>
                  <a:pt x="9049" y="10446"/>
                </a:cubicBezTo>
                <a:cubicBezTo>
                  <a:pt x="8948" y="10477"/>
                  <a:pt x="8933" y="10429"/>
                  <a:pt x="8922" y="10350"/>
                </a:cubicBezTo>
              </a:path>
              <a:path w="1970" h="889">
                <a:moveTo>
                  <a:pt x="9398" y="9938"/>
                </a:moveTo>
                <a:cubicBezTo>
                  <a:pt x="9367" y="9979"/>
                  <a:pt x="9359" y="10027"/>
                  <a:pt x="9334" y="10065"/>
                </a:cubicBezTo>
                <a:cubicBezTo>
                  <a:pt x="9324" y="10075"/>
                  <a:pt x="9313" y="10086"/>
                  <a:pt x="9303" y="10096"/>
                </a:cubicBezTo>
                <a:cubicBezTo>
                  <a:pt x="9335" y="10141"/>
                  <a:pt x="9369" y="10207"/>
                  <a:pt x="9430" y="10224"/>
                </a:cubicBezTo>
                <a:cubicBezTo>
                  <a:pt x="9493" y="10241"/>
                  <a:pt x="9577" y="10198"/>
                  <a:pt x="9620" y="10160"/>
                </a:cubicBezTo>
                <a:cubicBezTo>
                  <a:pt x="9658" y="10126"/>
                  <a:pt x="9673" y="10110"/>
                  <a:pt x="9684" y="10065"/>
                </a:cubicBezTo>
              </a:path>
              <a:path w="1970" h="889">
                <a:moveTo>
                  <a:pt x="9716" y="9874"/>
                </a:moveTo>
                <a:cubicBezTo>
                  <a:pt x="9685" y="9915"/>
                  <a:pt x="9666" y="9979"/>
                  <a:pt x="9652" y="10033"/>
                </a:cubicBezTo>
                <a:cubicBezTo>
                  <a:pt x="9603" y="10228"/>
                  <a:pt x="9561" y="10763"/>
                  <a:pt x="9684" y="10604"/>
                </a:cubicBezTo>
                <a:cubicBezTo>
                  <a:pt x="9684" y="10594"/>
                  <a:pt x="9684" y="10583"/>
                  <a:pt x="9684" y="10573"/>
                </a:cubicBezTo>
              </a:path>
              <a:path w="1970" h="889">
                <a:moveTo>
                  <a:pt x="9938" y="10001"/>
                </a:moveTo>
                <a:cubicBezTo>
                  <a:pt x="9902" y="10061"/>
                  <a:pt x="9878" y="10119"/>
                  <a:pt x="9874" y="10192"/>
                </a:cubicBezTo>
                <a:cubicBezTo>
                  <a:pt x="9869" y="10271"/>
                  <a:pt x="9858" y="10354"/>
                  <a:pt x="9906" y="10414"/>
                </a:cubicBezTo>
                <a:cubicBezTo>
                  <a:pt x="9964" y="10487"/>
                  <a:pt x="9996" y="10492"/>
                  <a:pt x="10065" y="10478"/>
                </a:cubicBezTo>
                <a:cubicBezTo>
                  <a:pt x="10100" y="10471"/>
                  <a:pt x="10180" y="10425"/>
                  <a:pt x="10192" y="10382"/>
                </a:cubicBezTo>
                <a:cubicBezTo>
                  <a:pt x="10211" y="10315"/>
                  <a:pt x="10245" y="10202"/>
                  <a:pt x="10224" y="10128"/>
                </a:cubicBezTo>
                <a:cubicBezTo>
                  <a:pt x="10201" y="10047"/>
                  <a:pt x="10161" y="9998"/>
                  <a:pt x="10096" y="9970"/>
                </a:cubicBezTo>
                <a:cubicBezTo>
                  <a:pt x="10028" y="9941"/>
                  <a:pt x="10020" y="9912"/>
                  <a:pt x="10001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3886200" y="3497400"/>
            <a:ext cx="971640" cy="799920"/>
          </a:xfrm>
          <a:custGeom>
            <a:avLst/>
            <a:gdLst/>
            <a:ahLst/>
            <a:rect l="l" t="t" r="r" b="b"/>
            <a:pathLst>
              <a:path w="2700" h="2223">
                <a:moveTo>
                  <a:pt x="11176" y="9842"/>
                </a:moveTo>
                <a:cubicBezTo>
                  <a:pt x="11187" y="9832"/>
                  <a:pt x="11197" y="9821"/>
                  <a:pt x="11208" y="9811"/>
                </a:cubicBezTo>
                <a:cubicBezTo>
                  <a:pt x="11208" y="9905"/>
                  <a:pt x="11225" y="9978"/>
                  <a:pt x="11240" y="10065"/>
                </a:cubicBezTo>
                <a:cubicBezTo>
                  <a:pt x="11254" y="10148"/>
                  <a:pt x="11267" y="10237"/>
                  <a:pt x="11271" y="10319"/>
                </a:cubicBezTo>
                <a:cubicBezTo>
                  <a:pt x="11275" y="10395"/>
                  <a:pt x="11284" y="10475"/>
                  <a:pt x="11240" y="10541"/>
                </a:cubicBezTo>
                <a:cubicBezTo>
                  <a:pt x="11195" y="10609"/>
                  <a:pt x="11155" y="10604"/>
                  <a:pt x="11081" y="10604"/>
                </a:cubicBezTo>
                <a:cubicBezTo>
                  <a:pt x="10951" y="10604"/>
                  <a:pt x="11001" y="10602"/>
                  <a:pt x="10954" y="10509"/>
                </a:cubicBezTo>
                <a:cubicBezTo>
                  <a:pt x="10917" y="10473"/>
                  <a:pt x="10907" y="10457"/>
                  <a:pt x="10922" y="10414"/>
                </a:cubicBezTo>
              </a:path>
              <a:path w="2700" h="2223">
                <a:moveTo>
                  <a:pt x="10827" y="9906"/>
                </a:moveTo>
                <a:cubicBezTo>
                  <a:pt x="10816" y="9895"/>
                  <a:pt x="10806" y="9885"/>
                  <a:pt x="10795" y="9874"/>
                </a:cubicBezTo>
                <a:cubicBezTo>
                  <a:pt x="10876" y="9825"/>
                  <a:pt x="10981" y="9840"/>
                  <a:pt x="11081" y="9811"/>
                </a:cubicBezTo>
                <a:cubicBezTo>
                  <a:pt x="11218" y="9771"/>
                  <a:pt x="11357" y="9777"/>
                  <a:pt x="11494" y="9747"/>
                </a:cubicBezTo>
                <a:cubicBezTo>
                  <a:pt x="11588" y="9727"/>
                  <a:pt x="11652" y="9716"/>
                  <a:pt x="11748" y="9716"/>
                </a:cubicBezTo>
              </a:path>
              <a:path w="2700" h="2223">
                <a:moveTo>
                  <a:pt x="11462" y="10922"/>
                </a:moveTo>
                <a:cubicBezTo>
                  <a:pt x="11462" y="10911"/>
                  <a:pt x="11462" y="10901"/>
                  <a:pt x="11462" y="10890"/>
                </a:cubicBezTo>
                <a:cubicBezTo>
                  <a:pt x="11497" y="10937"/>
                  <a:pt x="11512" y="10971"/>
                  <a:pt x="11557" y="11017"/>
                </a:cubicBezTo>
                <a:cubicBezTo>
                  <a:pt x="11630" y="11090"/>
                  <a:pt x="11705" y="11138"/>
                  <a:pt x="11779" y="11208"/>
                </a:cubicBezTo>
                <a:cubicBezTo>
                  <a:pt x="11858" y="11282"/>
                  <a:pt x="11948" y="11333"/>
                  <a:pt x="12033" y="11398"/>
                </a:cubicBezTo>
                <a:cubicBezTo>
                  <a:pt x="12077" y="11432"/>
                  <a:pt x="12141" y="11503"/>
                  <a:pt x="12192" y="11525"/>
                </a:cubicBezTo>
                <a:cubicBezTo>
                  <a:pt x="12203" y="11525"/>
                  <a:pt x="12213" y="11525"/>
                  <a:pt x="12224" y="11525"/>
                </a:cubicBezTo>
              </a:path>
              <a:path w="2700" h="2223">
                <a:moveTo>
                  <a:pt x="11271" y="10827"/>
                </a:moveTo>
                <a:cubicBezTo>
                  <a:pt x="11300" y="10894"/>
                  <a:pt x="11303" y="10916"/>
                  <a:pt x="11303" y="10986"/>
                </a:cubicBezTo>
                <a:cubicBezTo>
                  <a:pt x="11303" y="11064"/>
                  <a:pt x="11316" y="11116"/>
                  <a:pt x="11271" y="11176"/>
                </a:cubicBezTo>
                <a:cubicBezTo>
                  <a:pt x="11271" y="11042"/>
                  <a:pt x="11268" y="10911"/>
                  <a:pt x="11303" y="10795"/>
                </a:cubicBezTo>
                <a:cubicBezTo>
                  <a:pt x="11322" y="10733"/>
                  <a:pt x="11332" y="10732"/>
                  <a:pt x="11398" y="10732"/>
                </a:cubicBezTo>
                <a:cubicBezTo>
                  <a:pt x="11567" y="10732"/>
                  <a:pt x="11737" y="10732"/>
                  <a:pt x="11906" y="10732"/>
                </a:cubicBezTo>
              </a:path>
              <a:path w="2700" h="2223">
                <a:moveTo>
                  <a:pt x="12700" y="11430"/>
                </a:moveTo>
                <a:cubicBezTo>
                  <a:pt x="12605" y="11430"/>
                  <a:pt x="12571" y="11438"/>
                  <a:pt x="12510" y="11525"/>
                </a:cubicBezTo>
                <a:cubicBezTo>
                  <a:pt x="12457" y="11601"/>
                  <a:pt x="12449" y="11674"/>
                  <a:pt x="12414" y="11748"/>
                </a:cubicBezTo>
                <a:cubicBezTo>
                  <a:pt x="12403" y="11758"/>
                  <a:pt x="12393" y="11769"/>
                  <a:pt x="12382" y="11779"/>
                </a:cubicBezTo>
                <a:cubicBezTo>
                  <a:pt x="12424" y="11848"/>
                  <a:pt x="12417" y="11865"/>
                  <a:pt x="12478" y="11906"/>
                </a:cubicBezTo>
                <a:cubicBezTo>
                  <a:pt x="12546" y="11951"/>
                  <a:pt x="12553" y="11923"/>
                  <a:pt x="12636" y="11906"/>
                </a:cubicBezTo>
              </a:path>
              <a:path w="2700" h="2223">
                <a:moveTo>
                  <a:pt x="12890" y="11557"/>
                </a:moveTo>
                <a:cubicBezTo>
                  <a:pt x="12794" y="11557"/>
                  <a:pt x="12815" y="11610"/>
                  <a:pt x="12764" y="11684"/>
                </a:cubicBezTo>
                <a:cubicBezTo>
                  <a:pt x="12723" y="11744"/>
                  <a:pt x="12704" y="11778"/>
                  <a:pt x="12795" y="11811"/>
                </a:cubicBezTo>
                <a:cubicBezTo>
                  <a:pt x="12853" y="11832"/>
                  <a:pt x="12899" y="11744"/>
                  <a:pt x="12922" y="11716"/>
                </a:cubicBezTo>
                <a:cubicBezTo>
                  <a:pt x="12966" y="11662"/>
                  <a:pt x="12976" y="11627"/>
                  <a:pt x="12986" y="11557"/>
                </a:cubicBezTo>
                <a:cubicBezTo>
                  <a:pt x="12986" y="11460"/>
                  <a:pt x="12986" y="11634"/>
                  <a:pt x="12986" y="11652"/>
                </a:cubicBezTo>
                <a:cubicBezTo>
                  <a:pt x="12986" y="11717"/>
                  <a:pt x="13008" y="11764"/>
                  <a:pt x="13049" y="11811"/>
                </a:cubicBezTo>
                <a:cubicBezTo>
                  <a:pt x="13088" y="11855"/>
                  <a:pt x="13092" y="11884"/>
                  <a:pt x="13113" y="11843"/>
                </a:cubicBezTo>
              </a:path>
              <a:path w="2700" h="2223">
                <a:moveTo>
                  <a:pt x="13144" y="11494"/>
                </a:moveTo>
                <a:cubicBezTo>
                  <a:pt x="13144" y="11593"/>
                  <a:pt x="13148" y="11666"/>
                  <a:pt x="13176" y="11748"/>
                </a:cubicBezTo>
                <a:cubicBezTo>
                  <a:pt x="13185" y="11773"/>
                  <a:pt x="13208" y="11882"/>
                  <a:pt x="13208" y="11811"/>
                </a:cubicBezTo>
                <a:cubicBezTo>
                  <a:pt x="13208" y="11728"/>
                  <a:pt x="13227" y="11656"/>
                  <a:pt x="13240" y="11589"/>
                </a:cubicBezTo>
                <a:cubicBezTo>
                  <a:pt x="13240" y="11531"/>
                  <a:pt x="13235" y="11515"/>
                  <a:pt x="13272" y="11494"/>
                </a:cubicBezTo>
                <a:cubicBezTo>
                  <a:pt x="13327" y="11549"/>
                  <a:pt x="13313" y="11559"/>
                  <a:pt x="13335" y="11620"/>
                </a:cubicBezTo>
                <a:cubicBezTo>
                  <a:pt x="13361" y="11693"/>
                  <a:pt x="13376" y="11726"/>
                  <a:pt x="13430" y="11779"/>
                </a:cubicBezTo>
                <a:cubicBezTo>
                  <a:pt x="13459" y="11808"/>
                  <a:pt x="13465" y="11819"/>
                  <a:pt x="13494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5075280" y="4091040"/>
            <a:ext cx="353880" cy="309600"/>
          </a:xfrm>
          <a:custGeom>
            <a:avLst/>
            <a:gdLst/>
            <a:ahLst/>
            <a:rect l="l" t="t" r="r" b="b"/>
            <a:pathLst>
              <a:path w="985" h="859">
                <a:moveTo>
                  <a:pt x="14097" y="11430"/>
                </a:moveTo>
                <a:cubicBezTo>
                  <a:pt x="14097" y="11512"/>
                  <a:pt x="14076" y="11592"/>
                  <a:pt x="14129" y="11652"/>
                </a:cubicBezTo>
                <a:cubicBezTo>
                  <a:pt x="14157" y="11684"/>
                  <a:pt x="14205" y="11745"/>
                  <a:pt x="14256" y="11716"/>
                </a:cubicBezTo>
                <a:cubicBezTo>
                  <a:pt x="14326" y="11677"/>
                  <a:pt x="14319" y="11592"/>
                  <a:pt x="14319" y="11525"/>
                </a:cubicBezTo>
                <a:cubicBezTo>
                  <a:pt x="14319" y="11428"/>
                  <a:pt x="14319" y="11488"/>
                  <a:pt x="14319" y="11557"/>
                </a:cubicBezTo>
                <a:cubicBezTo>
                  <a:pt x="14319" y="11670"/>
                  <a:pt x="14396" y="11765"/>
                  <a:pt x="14414" y="11874"/>
                </a:cubicBezTo>
                <a:cubicBezTo>
                  <a:pt x="14427" y="11952"/>
                  <a:pt x="14425" y="12060"/>
                  <a:pt x="14383" y="12128"/>
                </a:cubicBezTo>
                <a:cubicBezTo>
                  <a:pt x="14343" y="12193"/>
                  <a:pt x="14293" y="12218"/>
                  <a:pt x="14224" y="12224"/>
                </a:cubicBezTo>
                <a:cubicBezTo>
                  <a:pt x="14145" y="12231"/>
                  <a:pt x="14137" y="12152"/>
                  <a:pt x="14129" y="12097"/>
                </a:cubicBezTo>
              </a:path>
              <a:path w="985" h="859">
                <a:moveTo>
                  <a:pt x="14542" y="11430"/>
                </a:moveTo>
                <a:cubicBezTo>
                  <a:pt x="14526" y="11509"/>
                  <a:pt x="14478" y="11568"/>
                  <a:pt x="14478" y="11652"/>
                </a:cubicBezTo>
                <a:cubicBezTo>
                  <a:pt x="14478" y="11697"/>
                  <a:pt x="14524" y="11744"/>
                  <a:pt x="14573" y="11716"/>
                </a:cubicBezTo>
                <a:cubicBezTo>
                  <a:pt x="14656" y="11669"/>
                  <a:pt x="14668" y="11610"/>
                  <a:pt x="14668" y="11525"/>
                </a:cubicBezTo>
                <a:cubicBezTo>
                  <a:pt x="14668" y="11467"/>
                  <a:pt x="14671" y="11437"/>
                  <a:pt x="14605" y="11430"/>
                </a:cubicBezTo>
                <a:cubicBezTo>
                  <a:pt x="14549" y="11424"/>
                  <a:pt x="14526" y="11450"/>
                  <a:pt x="14478" y="11462"/>
                </a:cubicBezTo>
              </a:path>
              <a:path w="985" h="859">
                <a:moveTo>
                  <a:pt x="14891" y="11462"/>
                </a:moveTo>
                <a:cubicBezTo>
                  <a:pt x="14861" y="11502"/>
                  <a:pt x="14833" y="11539"/>
                  <a:pt x="14827" y="11589"/>
                </a:cubicBezTo>
                <a:cubicBezTo>
                  <a:pt x="14819" y="11662"/>
                  <a:pt x="14850" y="11677"/>
                  <a:pt x="14922" y="11684"/>
                </a:cubicBezTo>
                <a:cubicBezTo>
                  <a:pt x="14945" y="11686"/>
                  <a:pt x="15074" y="11612"/>
                  <a:pt x="15081" y="11589"/>
                </a:cubicBezTo>
                <a:cubicBezTo>
                  <a:pt x="15095" y="11542"/>
                  <a:pt x="15089" y="11400"/>
                  <a:pt x="15050" y="11366"/>
                </a:cubicBezTo>
                <a:cubicBezTo>
                  <a:pt x="15018" y="11366"/>
                  <a:pt x="15007" y="11366"/>
                  <a:pt x="14986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5611680" y="3989520"/>
            <a:ext cx="2264040" cy="960480"/>
          </a:xfrm>
          <a:custGeom>
            <a:avLst/>
            <a:gdLst/>
            <a:ahLst/>
            <a:rect l="l" t="t" r="r" b="b"/>
            <a:pathLst>
              <a:path w="6288" h="2668">
                <a:moveTo>
                  <a:pt x="16224" y="11303"/>
                </a:moveTo>
                <a:cubicBezTo>
                  <a:pt x="16117" y="11303"/>
                  <a:pt x="16037" y="11317"/>
                  <a:pt x="15938" y="11335"/>
                </a:cubicBezTo>
                <a:cubicBezTo>
                  <a:pt x="15873" y="11347"/>
                  <a:pt x="15796" y="11356"/>
                  <a:pt x="15780" y="11430"/>
                </a:cubicBezTo>
                <a:cubicBezTo>
                  <a:pt x="15758" y="11530"/>
                  <a:pt x="15888" y="11539"/>
                  <a:pt x="15938" y="11557"/>
                </a:cubicBezTo>
                <a:cubicBezTo>
                  <a:pt x="16008" y="11582"/>
                  <a:pt x="16065" y="11636"/>
                  <a:pt x="16129" y="11652"/>
                </a:cubicBezTo>
                <a:cubicBezTo>
                  <a:pt x="16107" y="11740"/>
                  <a:pt x="16076" y="11722"/>
                  <a:pt x="16002" y="11748"/>
                </a:cubicBezTo>
                <a:cubicBezTo>
                  <a:pt x="15947" y="11767"/>
                  <a:pt x="15858" y="11821"/>
                  <a:pt x="15812" y="11748"/>
                </a:cubicBezTo>
                <a:cubicBezTo>
                  <a:pt x="15812" y="11737"/>
                  <a:pt x="15812" y="11727"/>
                  <a:pt x="15812" y="11716"/>
                </a:cubicBezTo>
              </a:path>
              <a:path w="6288" h="2668">
                <a:moveTo>
                  <a:pt x="16256" y="11589"/>
                </a:moveTo>
                <a:cubicBezTo>
                  <a:pt x="16328" y="11589"/>
                  <a:pt x="16349" y="11545"/>
                  <a:pt x="16383" y="11525"/>
                </a:cubicBezTo>
                <a:cubicBezTo>
                  <a:pt x="16424" y="11501"/>
                  <a:pt x="16433" y="11466"/>
                  <a:pt x="16446" y="11398"/>
                </a:cubicBezTo>
                <a:cubicBezTo>
                  <a:pt x="16378" y="11398"/>
                  <a:pt x="16368" y="11413"/>
                  <a:pt x="16320" y="11462"/>
                </a:cubicBezTo>
                <a:cubicBezTo>
                  <a:pt x="16265" y="11517"/>
                  <a:pt x="16276" y="11538"/>
                  <a:pt x="16288" y="11589"/>
                </a:cubicBezTo>
                <a:cubicBezTo>
                  <a:pt x="16300" y="11641"/>
                  <a:pt x="16326" y="11678"/>
                  <a:pt x="16383" y="11684"/>
                </a:cubicBezTo>
                <a:cubicBezTo>
                  <a:pt x="16466" y="11693"/>
                  <a:pt x="16500" y="11671"/>
                  <a:pt x="16574" y="11652"/>
                </a:cubicBezTo>
                <a:cubicBezTo>
                  <a:pt x="16606" y="11644"/>
                  <a:pt x="16714" y="11594"/>
                  <a:pt x="16732" y="11557"/>
                </a:cubicBezTo>
                <a:cubicBezTo>
                  <a:pt x="16755" y="11511"/>
                  <a:pt x="16790" y="11455"/>
                  <a:pt x="16796" y="11398"/>
                </a:cubicBezTo>
                <a:cubicBezTo>
                  <a:pt x="16796" y="11362"/>
                  <a:pt x="16793" y="11348"/>
                  <a:pt x="16764" y="11335"/>
                </a:cubicBezTo>
                <a:cubicBezTo>
                  <a:pt x="16710" y="11388"/>
                  <a:pt x="16664" y="11431"/>
                  <a:pt x="16637" y="11494"/>
                </a:cubicBezTo>
                <a:cubicBezTo>
                  <a:pt x="16590" y="11602"/>
                  <a:pt x="16591" y="11623"/>
                  <a:pt x="16669" y="11716"/>
                </a:cubicBezTo>
                <a:cubicBezTo>
                  <a:pt x="16713" y="11769"/>
                  <a:pt x="16795" y="11748"/>
                  <a:pt x="16859" y="11748"/>
                </a:cubicBezTo>
                <a:cubicBezTo>
                  <a:pt x="16891" y="11748"/>
                  <a:pt x="16922" y="11748"/>
                  <a:pt x="16954" y="11748"/>
                </a:cubicBezTo>
              </a:path>
              <a:path w="6288" h="2668">
                <a:moveTo>
                  <a:pt x="17526" y="11366"/>
                </a:moveTo>
                <a:cubicBezTo>
                  <a:pt x="17526" y="11422"/>
                  <a:pt x="17514" y="11475"/>
                  <a:pt x="17494" y="11525"/>
                </a:cubicBezTo>
                <a:cubicBezTo>
                  <a:pt x="17461" y="11606"/>
                  <a:pt x="17477" y="11618"/>
                  <a:pt x="17526" y="11684"/>
                </a:cubicBezTo>
                <a:cubicBezTo>
                  <a:pt x="17589" y="11668"/>
                  <a:pt x="17598" y="11643"/>
                  <a:pt x="17621" y="11589"/>
                </a:cubicBezTo>
                <a:cubicBezTo>
                  <a:pt x="17643" y="11538"/>
                  <a:pt x="17653" y="11374"/>
                  <a:pt x="17653" y="11430"/>
                </a:cubicBezTo>
                <a:cubicBezTo>
                  <a:pt x="17653" y="11541"/>
                  <a:pt x="17640" y="11551"/>
                  <a:pt x="17716" y="11620"/>
                </a:cubicBezTo>
                <a:cubicBezTo>
                  <a:pt x="17742" y="11644"/>
                  <a:pt x="17803" y="11675"/>
                  <a:pt x="17844" y="11652"/>
                </a:cubicBezTo>
                <a:cubicBezTo>
                  <a:pt x="17914" y="11613"/>
                  <a:pt x="17907" y="11528"/>
                  <a:pt x="17907" y="11462"/>
                </a:cubicBezTo>
                <a:cubicBezTo>
                  <a:pt x="17907" y="11377"/>
                  <a:pt x="17897" y="11369"/>
                  <a:pt x="17875" y="11303"/>
                </a:cubicBezTo>
                <a:cubicBezTo>
                  <a:pt x="17875" y="11292"/>
                  <a:pt x="17875" y="11282"/>
                  <a:pt x="17875" y="11271"/>
                </a:cubicBezTo>
              </a:path>
              <a:path w="6288" h="2668">
                <a:moveTo>
                  <a:pt x="18034" y="11081"/>
                </a:moveTo>
                <a:cubicBezTo>
                  <a:pt x="18034" y="11263"/>
                  <a:pt x="18022" y="11459"/>
                  <a:pt x="18066" y="11620"/>
                </a:cubicBezTo>
                <a:cubicBezTo>
                  <a:pt x="18066" y="11631"/>
                  <a:pt x="18066" y="11641"/>
                  <a:pt x="18066" y="11652"/>
                </a:cubicBezTo>
                <a:cubicBezTo>
                  <a:pt x="18112" y="11576"/>
                  <a:pt x="18068" y="11510"/>
                  <a:pt x="18098" y="11430"/>
                </a:cubicBezTo>
                <a:cubicBezTo>
                  <a:pt x="18110" y="11398"/>
                  <a:pt x="18139" y="11362"/>
                  <a:pt x="18161" y="11335"/>
                </a:cubicBezTo>
                <a:cubicBezTo>
                  <a:pt x="18184" y="11373"/>
                  <a:pt x="18216" y="11451"/>
                  <a:pt x="18224" y="11494"/>
                </a:cubicBezTo>
                <a:cubicBezTo>
                  <a:pt x="18237" y="11564"/>
                  <a:pt x="18252" y="11608"/>
                  <a:pt x="18320" y="11652"/>
                </a:cubicBezTo>
                <a:cubicBezTo>
                  <a:pt x="18380" y="11691"/>
                  <a:pt x="18417" y="11685"/>
                  <a:pt x="18478" y="11652"/>
                </a:cubicBezTo>
                <a:cubicBezTo>
                  <a:pt x="18523" y="11628"/>
                  <a:pt x="18589" y="11587"/>
                  <a:pt x="18606" y="11525"/>
                </a:cubicBezTo>
                <a:cubicBezTo>
                  <a:pt x="18626" y="11451"/>
                  <a:pt x="18629" y="11380"/>
                  <a:pt x="18637" y="11303"/>
                </a:cubicBezTo>
                <a:cubicBezTo>
                  <a:pt x="18579" y="11311"/>
                  <a:pt x="18548" y="11307"/>
                  <a:pt x="18510" y="11366"/>
                </a:cubicBezTo>
                <a:cubicBezTo>
                  <a:pt x="18470" y="11428"/>
                  <a:pt x="18446" y="11536"/>
                  <a:pt x="18510" y="11589"/>
                </a:cubicBezTo>
                <a:cubicBezTo>
                  <a:pt x="18539" y="11613"/>
                  <a:pt x="18625" y="11633"/>
                  <a:pt x="18669" y="11620"/>
                </a:cubicBezTo>
                <a:cubicBezTo>
                  <a:pt x="18753" y="11595"/>
                  <a:pt x="18773" y="11509"/>
                  <a:pt x="18828" y="11462"/>
                </a:cubicBezTo>
                <a:cubicBezTo>
                  <a:pt x="18907" y="11394"/>
                  <a:pt x="18893" y="11390"/>
                  <a:pt x="18923" y="11303"/>
                </a:cubicBezTo>
                <a:cubicBezTo>
                  <a:pt x="18923" y="11314"/>
                  <a:pt x="18923" y="11324"/>
                  <a:pt x="18923" y="11335"/>
                </a:cubicBezTo>
                <a:cubicBezTo>
                  <a:pt x="18923" y="11436"/>
                  <a:pt x="18917" y="11443"/>
                  <a:pt x="18986" y="11525"/>
                </a:cubicBezTo>
                <a:cubicBezTo>
                  <a:pt x="19023" y="11569"/>
                  <a:pt x="19089" y="11568"/>
                  <a:pt x="19145" y="11557"/>
                </a:cubicBezTo>
                <a:cubicBezTo>
                  <a:pt x="19187" y="11549"/>
                  <a:pt x="19317" y="11466"/>
                  <a:pt x="19336" y="11430"/>
                </a:cubicBezTo>
                <a:cubicBezTo>
                  <a:pt x="19363" y="11379"/>
                  <a:pt x="19379" y="11295"/>
                  <a:pt x="19399" y="11240"/>
                </a:cubicBezTo>
                <a:cubicBezTo>
                  <a:pt x="19318" y="11251"/>
                  <a:pt x="19310" y="11238"/>
                  <a:pt x="19304" y="11335"/>
                </a:cubicBezTo>
                <a:cubicBezTo>
                  <a:pt x="19300" y="11399"/>
                  <a:pt x="19296" y="11445"/>
                  <a:pt x="19336" y="11494"/>
                </a:cubicBezTo>
                <a:cubicBezTo>
                  <a:pt x="19350" y="11511"/>
                  <a:pt x="19469" y="11582"/>
                  <a:pt x="19494" y="11589"/>
                </a:cubicBezTo>
                <a:cubicBezTo>
                  <a:pt x="19552" y="11589"/>
                  <a:pt x="19568" y="11584"/>
                  <a:pt x="19590" y="11620"/>
                </a:cubicBezTo>
              </a:path>
              <a:path w="6288" h="2668">
                <a:moveTo>
                  <a:pt x="15812" y="12128"/>
                </a:moveTo>
                <a:cubicBezTo>
                  <a:pt x="15753" y="12207"/>
                  <a:pt x="15800" y="12230"/>
                  <a:pt x="15812" y="12319"/>
                </a:cubicBezTo>
                <a:cubicBezTo>
                  <a:pt x="15826" y="12422"/>
                  <a:pt x="15838" y="12534"/>
                  <a:pt x="15843" y="12636"/>
                </a:cubicBezTo>
                <a:cubicBezTo>
                  <a:pt x="15845" y="12669"/>
                  <a:pt x="15913" y="12867"/>
                  <a:pt x="15875" y="12890"/>
                </a:cubicBezTo>
                <a:cubicBezTo>
                  <a:pt x="15864" y="12880"/>
                  <a:pt x="15854" y="12869"/>
                  <a:pt x="15843" y="12859"/>
                </a:cubicBezTo>
              </a:path>
              <a:path w="6288" h="2668">
                <a:moveTo>
                  <a:pt x="15589" y="12541"/>
                </a:moveTo>
                <a:cubicBezTo>
                  <a:pt x="15669" y="12541"/>
                  <a:pt x="15705" y="12514"/>
                  <a:pt x="15780" y="12510"/>
                </a:cubicBezTo>
                <a:cubicBezTo>
                  <a:pt x="15859" y="12505"/>
                  <a:pt x="15965" y="12488"/>
                  <a:pt x="16034" y="12446"/>
                </a:cubicBezTo>
                <a:cubicBezTo>
                  <a:pt x="16079" y="12418"/>
                  <a:pt x="16078" y="12395"/>
                  <a:pt x="16129" y="12382"/>
                </a:cubicBezTo>
              </a:path>
              <a:path w="6288" h="2668">
                <a:moveTo>
                  <a:pt x="16097" y="12192"/>
                </a:moveTo>
                <a:cubicBezTo>
                  <a:pt x="16097" y="12327"/>
                  <a:pt x="16108" y="12447"/>
                  <a:pt x="16129" y="12573"/>
                </a:cubicBezTo>
                <a:cubicBezTo>
                  <a:pt x="16140" y="12641"/>
                  <a:pt x="16146" y="12672"/>
                  <a:pt x="16161" y="12732"/>
                </a:cubicBezTo>
                <a:cubicBezTo>
                  <a:pt x="16186" y="12671"/>
                  <a:pt x="16217" y="12606"/>
                  <a:pt x="16224" y="12541"/>
                </a:cubicBezTo>
                <a:cubicBezTo>
                  <a:pt x="16224" y="12531"/>
                  <a:pt x="16224" y="12520"/>
                  <a:pt x="16224" y="12510"/>
                </a:cubicBezTo>
                <a:cubicBezTo>
                  <a:pt x="16294" y="12596"/>
                  <a:pt x="16299" y="12594"/>
                  <a:pt x="16383" y="12636"/>
                </a:cubicBezTo>
                <a:cubicBezTo>
                  <a:pt x="16443" y="12666"/>
                  <a:pt x="16465" y="12668"/>
                  <a:pt x="16542" y="12668"/>
                </a:cubicBezTo>
                <a:cubicBezTo>
                  <a:pt x="16654" y="12668"/>
                  <a:pt x="16637" y="12632"/>
                  <a:pt x="16669" y="12573"/>
                </a:cubicBezTo>
                <a:cubicBezTo>
                  <a:pt x="16690" y="12535"/>
                  <a:pt x="16706" y="12513"/>
                  <a:pt x="16732" y="12478"/>
                </a:cubicBezTo>
                <a:cubicBezTo>
                  <a:pt x="16655" y="12420"/>
                  <a:pt x="16660" y="12443"/>
                  <a:pt x="16605" y="12510"/>
                </a:cubicBezTo>
                <a:cubicBezTo>
                  <a:pt x="16564" y="12560"/>
                  <a:pt x="16560" y="12586"/>
                  <a:pt x="16605" y="12636"/>
                </a:cubicBezTo>
                <a:cubicBezTo>
                  <a:pt x="16662" y="12701"/>
                  <a:pt x="16679" y="12700"/>
                  <a:pt x="16764" y="12700"/>
                </a:cubicBezTo>
                <a:cubicBezTo>
                  <a:pt x="16785" y="12700"/>
                  <a:pt x="16807" y="12700"/>
                  <a:pt x="16828" y="12700"/>
                </a:cubicBezTo>
              </a:path>
              <a:path w="6288" h="2668">
                <a:moveTo>
                  <a:pt x="17272" y="12382"/>
                </a:moveTo>
                <a:cubicBezTo>
                  <a:pt x="17272" y="12458"/>
                  <a:pt x="17253" y="12548"/>
                  <a:pt x="17304" y="12605"/>
                </a:cubicBezTo>
                <a:cubicBezTo>
                  <a:pt x="17343" y="12648"/>
                  <a:pt x="17377" y="12636"/>
                  <a:pt x="17431" y="12636"/>
                </a:cubicBezTo>
                <a:cubicBezTo>
                  <a:pt x="17492" y="12636"/>
                  <a:pt x="17513" y="12563"/>
                  <a:pt x="17526" y="12510"/>
                </a:cubicBezTo>
                <a:cubicBezTo>
                  <a:pt x="17544" y="12440"/>
                  <a:pt x="17533" y="12339"/>
                  <a:pt x="17494" y="12287"/>
                </a:cubicBezTo>
              </a:path>
              <a:path w="6288" h="2668">
                <a:moveTo>
                  <a:pt x="17590" y="12351"/>
                </a:moveTo>
                <a:cubicBezTo>
                  <a:pt x="17604" y="12407"/>
                  <a:pt x="17646" y="12446"/>
                  <a:pt x="17653" y="12510"/>
                </a:cubicBezTo>
                <a:cubicBezTo>
                  <a:pt x="17658" y="12558"/>
                  <a:pt x="17687" y="12597"/>
                  <a:pt x="17716" y="12636"/>
                </a:cubicBezTo>
                <a:cubicBezTo>
                  <a:pt x="17716" y="12538"/>
                  <a:pt x="17723" y="12464"/>
                  <a:pt x="17748" y="12382"/>
                </a:cubicBezTo>
                <a:cubicBezTo>
                  <a:pt x="17757" y="12353"/>
                  <a:pt x="17800" y="12327"/>
                  <a:pt x="17844" y="12351"/>
                </a:cubicBezTo>
                <a:cubicBezTo>
                  <a:pt x="17882" y="12372"/>
                  <a:pt x="17926" y="12500"/>
                  <a:pt x="17939" y="12541"/>
                </a:cubicBezTo>
                <a:cubicBezTo>
                  <a:pt x="17956" y="12595"/>
                  <a:pt x="17932" y="12585"/>
                  <a:pt x="17970" y="12636"/>
                </a:cubicBezTo>
              </a:path>
              <a:path w="6288" h="2668">
                <a:moveTo>
                  <a:pt x="18098" y="12382"/>
                </a:moveTo>
                <a:cubicBezTo>
                  <a:pt x="18098" y="12446"/>
                  <a:pt x="18112" y="12458"/>
                  <a:pt x="18129" y="12510"/>
                </a:cubicBezTo>
                <a:cubicBezTo>
                  <a:pt x="18136" y="12532"/>
                  <a:pt x="18136" y="12649"/>
                  <a:pt x="18193" y="12636"/>
                </a:cubicBezTo>
                <a:cubicBezTo>
                  <a:pt x="18193" y="12626"/>
                  <a:pt x="18193" y="12615"/>
                  <a:pt x="18193" y="12605"/>
                </a:cubicBezTo>
              </a:path>
              <a:path w="6288" h="2668">
                <a:moveTo>
                  <a:pt x="18383" y="12033"/>
                </a:moveTo>
                <a:cubicBezTo>
                  <a:pt x="18383" y="12101"/>
                  <a:pt x="18409" y="12122"/>
                  <a:pt x="18415" y="12192"/>
                </a:cubicBezTo>
                <a:cubicBezTo>
                  <a:pt x="18421" y="12260"/>
                  <a:pt x="18443" y="12318"/>
                  <a:pt x="18447" y="12382"/>
                </a:cubicBezTo>
                <a:cubicBezTo>
                  <a:pt x="18452" y="12451"/>
                  <a:pt x="18476" y="12521"/>
                  <a:pt x="18510" y="12573"/>
                </a:cubicBezTo>
                <a:cubicBezTo>
                  <a:pt x="18539" y="12602"/>
                  <a:pt x="18549" y="12608"/>
                  <a:pt x="18542" y="12636"/>
                </a:cubicBezTo>
              </a:path>
              <a:path w="6288" h="2668">
                <a:moveTo>
                  <a:pt x="18288" y="12414"/>
                </a:moveTo>
                <a:cubicBezTo>
                  <a:pt x="18361" y="12414"/>
                  <a:pt x="18411" y="12393"/>
                  <a:pt x="18478" y="12382"/>
                </a:cubicBezTo>
                <a:cubicBezTo>
                  <a:pt x="18499" y="12382"/>
                  <a:pt x="18521" y="12382"/>
                  <a:pt x="18542" y="12382"/>
                </a:cubicBezTo>
              </a:path>
              <a:path w="6288" h="2668">
                <a:moveTo>
                  <a:pt x="18891" y="12256"/>
                </a:moveTo>
                <a:cubicBezTo>
                  <a:pt x="18813" y="12224"/>
                  <a:pt x="18789" y="12265"/>
                  <a:pt x="18701" y="12287"/>
                </a:cubicBezTo>
                <a:cubicBezTo>
                  <a:pt x="18635" y="12303"/>
                  <a:pt x="18599" y="12360"/>
                  <a:pt x="18669" y="12414"/>
                </a:cubicBezTo>
                <a:cubicBezTo>
                  <a:pt x="18730" y="12462"/>
                  <a:pt x="18801" y="12448"/>
                  <a:pt x="18860" y="12478"/>
                </a:cubicBezTo>
                <a:cubicBezTo>
                  <a:pt x="18910" y="12503"/>
                  <a:pt x="18895" y="12510"/>
                  <a:pt x="18955" y="12510"/>
                </a:cubicBezTo>
                <a:cubicBezTo>
                  <a:pt x="18926" y="12581"/>
                  <a:pt x="18906" y="12605"/>
                  <a:pt x="18828" y="12605"/>
                </a:cubicBezTo>
                <a:cubicBezTo>
                  <a:pt x="18796" y="12605"/>
                  <a:pt x="18785" y="12605"/>
                  <a:pt x="18764" y="12605"/>
                </a:cubicBezTo>
              </a:path>
              <a:path w="6288" h="2668">
                <a:moveTo>
                  <a:pt x="19844" y="12256"/>
                </a:moveTo>
                <a:cubicBezTo>
                  <a:pt x="19795" y="12219"/>
                  <a:pt x="19779" y="12224"/>
                  <a:pt x="19717" y="12224"/>
                </a:cubicBezTo>
                <a:cubicBezTo>
                  <a:pt x="19626" y="12224"/>
                  <a:pt x="19620" y="12301"/>
                  <a:pt x="19590" y="12351"/>
                </a:cubicBezTo>
                <a:cubicBezTo>
                  <a:pt x="19543" y="12430"/>
                  <a:pt x="19496" y="12449"/>
                  <a:pt x="19558" y="12541"/>
                </a:cubicBezTo>
                <a:cubicBezTo>
                  <a:pt x="19604" y="12609"/>
                  <a:pt x="19642" y="12605"/>
                  <a:pt x="19717" y="12605"/>
                </a:cubicBezTo>
                <a:cubicBezTo>
                  <a:pt x="19799" y="12605"/>
                  <a:pt x="19860" y="12583"/>
                  <a:pt x="19939" y="12573"/>
                </a:cubicBezTo>
              </a:path>
              <a:path w="6288" h="2668">
                <a:moveTo>
                  <a:pt x="20193" y="12287"/>
                </a:moveTo>
                <a:cubicBezTo>
                  <a:pt x="20127" y="12239"/>
                  <a:pt x="20122" y="12263"/>
                  <a:pt x="20066" y="12319"/>
                </a:cubicBezTo>
                <a:cubicBezTo>
                  <a:pt x="20020" y="12365"/>
                  <a:pt x="19960" y="12448"/>
                  <a:pt x="19939" y="12510"/>
                </a:cubicBezTo>
                <a:cubicBezTo>
                  <a:pt x="19939" y="12546"/>
                  <a:pt x="19942" y="12559"/>
                  <a:pt x="19971" y="12573"/>
                </a:cubicBezTo>
                <a:cubicBezTo>
                  <a:pt x="20026" y="12559"/>
                  <a:pt x="20055" y="12521"/>
                  <a:pt x="20098" y="12478"/>
                </a:cubicBezTo>
                <a:cubicBezTo>
                  <a:pt x="20146" y="12430"/>
                  <a:pt x="20130" y="12384"/>
                  <a:pt x="20130" y="12319"/>
                </a:cubicBezTo>
                <a:cubicBezTo>
                  <a:pt x="20130" y="12235"/>
                  <a:pt x="20158" y="12401"/>
                  <a:pt x="20161" y="12414"/>
                </a:cubicBezTo>
                <a:cubicBezTo>
                  <a:pt x="20175" y="12483"/>
                  <a:pt x="20134" y="12531"/>
                  <a:pt x="20225" y="12541"/>
                </a:cubicBezTo>
                <a:cubicBezTo>
                  <a:pt x="20235" y="12541"/>
                  <a:pt x="20246" y="12541"/>
                  <a:pt x="20256" y="12541"/>
                </a:cubicBezTo>
              </a:path>
              <a:path w="6288" h="2668">
                <a:moveTo>
                  <a:pt x="20352" y="12192"/>
                </a:moveTo>
                <a:cubicBezTo>
                  <a:pt x="20352" y="12283"/>
                  <a:pt x="20352" y="12522"/>
                  <a:pt x="20352" y="12510"/>
                </a:cubicBezTo>
                <a:cubicBezTo>
                  <a:pt x="20352" y="12425"/>
                  <a:pt x="20379" y="12369"/>
                  <a:pt x="20384" y="12287"/>
                </a:cubicBezTo>
                <a:cubicBezTo>
                  <a:pt x="20384" y="12230"/>
                  <a:pt x="20380" y="12214"/>
                  <a:pt x="20415" y="12192"/>
                </a:cubicBezTo>
                <a:cubicBezTo>
                  <a:pt x="20454" y="12260"/>
                  <a:pt x="20457" y="12288"/>
                  <a:pt x="20479" y="12351"/>
                </a:cubicBezTo>
                <a:cubicBezTo>
                  <a:pt x="20500" y="12411"/>
                  <a:pt x="20507" y="12463"/>
                  <a:pt x="20542" y="12510"/>
                </a:cubicBezTo>
                <a:cubicBezTo>
                  <a:pt x="20542" y="12443"/>
                  <a:pt x="20547" y="12344"/>
                  <a:pt x="20574" y="12287"/>
                </a:cubicBezTo>
                <a:cubicBezTo>
                  <a:pt x="20590" y="12252"/>
                  <a:pt x="20614" y="12224"/>
                  <a:pt x="20638" y="12192"/>
                </a:cubicBezTo>
                <a:cubicBezTo>
                  <a:pt x="20660" y="12253"/>
                  <a:pt x="20697" y="12323"/>
                  <a:pt x="20701" y="12382"/>
                </a:cubicBezTo>
                <a:cubicBezTo>
                  <a:pt x="20707" y="12462"/>
                  <a:pt x="20721" y="12478"/>
                  <a:pt x="20764" y="12510"/>
                </a:cubicBezTo>
                <a:cubicBezTo>
                  <a:pt x="20775" y="12520"/>
                  <a:pt x="20785" y="12531"/>
                  <a:pt x="20796" y="12541"/>
                </a:cubicBezTo>
              </a:path>
              <a:path w="6288" h="2668">
                <a:moveTo>
                  <a:pt x="20923" y="12446"/>
                </a:moveTo>
                <a:cubicBezTo>
                  <a:pt x="20963" y="12436"/>
                  <a:pt x="21030" y="12397"/>
                  <a:pt x="21050" y="12351"/>
                </a:cubicBezTo>
                <a:cubicBezTo>
                  <a:pt x="21063" y="12322"/>
                  <a:pt x="21050" y="12256"/>
                  <a:pt x="21050" y="12224"/>
                </a:cubicBezTo>
                <a:cubicBezTo>
                  <a:pt x="20961" y="12250"/>
                  <a:pt x="20931" y="12281"/>
                  <a:pt x="20923" y="12382"/>
                </a:cubicBezTo>
                <a:cubicBezTo>
                  <a:pt x="20918" y="12439"/>
                  <a:pt x="20917" y="12468"/>
                  <a:pt x="20955" y="12510"/>
                </a:cubicBezTo>
                <a:cubicBezTo>
                  <a:pt x="20999" y="12559"/>
                  <a:pt x="21038" y="12566"/>
                  <a:pt x="21082" y="12605"/>
                </a:cubicBezTo>
                <a:cubicBezTo>
                  <a:pt x="21093" y="12615"/>
                  <a:pt x="21103" y="12626"/>
                  <a:pt x="21114" y="12636"/>
                </a:cubicBezTo>
              </a:path>
              <a:path w="6288" h="2668">
                <a:moveTo>
                  <a:pt x="20161" y="13748"/>
                </a:moveTo>
                <a:cubicBezTo>
                  <a:pt x="20125" y="13699"/>
                  <a:pt x="20121" y="13645"/>
                  <a:pt x="20098" y="13589"/>
                </a:cubicBezTo>
                <a:cubicBezTo>
                  <a:pt x="20058" y="13489"/>
                  <a:pt x="20038" y="13380"/>
                  <a:pt x="20034" y="13272"/>
                </a:cubicBezTo>
                <a:cubicBezTo>
                  <a:pt x="20029" y="13136"/>
                  <a:pt x="20037" y="13016"/>
                  <a:pt x="20066" y="12890"/>
                </a:cubicBezTo>
                <a:cubicBezTo>
                  <a:pt x="20080" y="12829"/>
                  <a:pt x="20109" y="12816"/>
                  <a:pt x="20161" y="12795"/>
                </a:cubicBezTo>
                <a:cubicBezTo>
                  <a:pt x="20210" y="12855"/>
                  <a:pt x="20215" y="12878"/>
                  <a:pt x="20225" y="12954"/>
                </a:cubicBezTo>
              </a:path>
              <a:path w="6288" h="2668">
                <a:moveTo>
                  <a:pt x="19812" y="13335"/>
                </a:moveTo>
                <a:cubicBezTo>
                  <a:pt x="19880" y="13267"/>
                  <a:pt x="19918" y="13268"/>
                  <a:pt x="20002" y="13240"/>
                </a:cubicBezTo>
                <a:cubicBezTo>
                  <a:pt x="20086" y="13212"/>
                  <a:pt x="20136" y="13165"/>
                  <a:pt x="20225" y="13144"/>
                </a:cubicBezTo>
                <a:cubicBezTo>
                  <a:pt x="20299" y="13127"/>
                  <a:pt x="20314" y="13176"/>
                  <a:pt x="20320" y="13240"/>
                </a:cubicBezTo>
                <a:cubicBezTo>
                  <a:pt x="20328" y="13325"/>
                  <a:pt x="20328" y="13389"/>
                  <a:pt x="20352" y="13462"/>
                </a:cubicBezTo>
                <a:cubicBezTo>
                  <a:pt x="20352" y="13494"/>
                  <a:pt x="20352" y="13505"/>
                  <a:pt x="20352" y="13462"/>
                </a:cubicBezTo>
                <a:cubicBezTo>
                  <a:pt x="20336" y="13354"/>
                  <a:pt x="20325" y="13379"/>
                  <a:pt x="20352" y="13272"/>
                </a:cubicBezTo>
                <a:cubicBezTo>
                  <a:pt x="20366" y="13215"/>
                  <a:pt x="20352" y="13161"/>
                  <a:pt x="20384" y="13113"/>
                </a:cubicBezTo>
                <a:cubicBezTo>
                  <a:pt x="20394" y="13102"/>
                  <a:pt x="20405" y="13092"/>
                  <a:pt x="20415" y="13081"/>
                </a:cubicBezTo>
                <a:cubicBezTo>
                  <a:pt x="20472" y="13081"/>
                  <a:pt x="20505" y="13078"/>
                  <a:pt x="20510" y="13144"/>
                </a:cubicBezTo>
                <a:cubicBezTo>
                  <a:pt x="20515" y="13212"/>
                  <a:pt x="20503" y="13275"/>
                  <a:pt x="20479" y="13335"/>
                </a:cubicBezTo>
                <a:cubicBezTo>
                  <a:pt x="20460" y="13381"/>
                  <a:pt x="20427" y="13458"/>
                  <a:pt x="20479" y="13494"/>
                </a:cubicBezTo>
                <a:cubicBezTo>
                  <a:pt x="20543" y="13538"/>
                  <a:pt x="20615" y="13471"/>
                  <a:pt x="20638" y="13430"/>
                </a:cubicBezTo>
                <a:cubicBezTo>
                  <a:pt x="20671" y="13370"/>
                  <a:pt x="20726" y="13314"/>
                  <a:pt x="20701" y="13240"/>
                </a:cubicBezTo>
                <a:cubicBezTo>
                  <a:pt x="20672" y="13154"/>
                  <a:pt x="20632" y="13182"/>
                  <a:pt x="20574" y="13144"/>
                </a:cubicBezTo>
                <a:cubicBezTo>
                  <a:pt x="20545" y="13116"/>
                  <a:pt x="20539" y="13106"/>
                  <a:pt x="20510" y="13113"/>
                </a:cubicBezTo>
              </a:path>
              <a:path w="6288" h="2668">
                <a:moveTo>
                  <a:pt x="20796" y="13208"/>
                </a:moveTo>
                <a:cubicBezTo>
                  <a:pt x="20831" y="13255"/>
                  <a:pt x="20831" y="13320"/>
                  <a:pt x="20860" y="13367"/>
                </a:cubicBezTo>
                <a:cubicBezTo>
                  <a:pt x="20889" y="13415"/>
                  <a:pt x="20892" y="13403"/>
                  <a:pt x="20892" y="13462"/>
                </a:cubicBezTo>
                <a:cubicBezTo>
                  <a:pt x="20837" y="13389"/>
                  <a:pt x="20877" y="13375"/>
                  <a:pt x="20892" y="13303"/>
                </a:cubicBezTo>
                <a:cubicBezTo>
                  <a:pt x="20909" y="13219"/>
                  <a:pt x="20924" y="13207"/>
                  <a:pt x="20987" y="13144"/>
                </a:cubicBezTo>
                <a:cubicBezTo>
                  <a:pt x="21059" y="13218"/>
                  <a:pt x="21050" y="13224"/>
                  <a:pt x="21050" y="13335"/>
                </a:cubicBezTo>
                <a:cubicBezTo>
                  <a:pt x="21050" y="13376"/>
                  <a:pt x="21072" y="13392"/>
                  <a:pt x="21082" y="13430"/>
                </a:cubicBezTo>
                <a:cubicBezTo>
                  <a:pt x="21058" y="13336"/>
                  <a:pt x="21063" y="13377"/>
                  <a:pt x="21082" y="13272"/>
                </a:cubicBezTo>
                <a:cubicBezTo>
                  <a:pt x="21098" y="13181"/>
                  <a:pt x="21111" y="13148"/>
                  <a:pt x="21177" y="13081"/>
                </a:cubicBezTo>
                <a:cubicBezTo>
                  <a:pt x="21188" y="13070"/>
                  <a:pt x="21198" y="13060"/>
                  <a:pt x="21209" y="13049"/>
                </a:cubicBezTo>
                <a:cubicBezTo>
                  <a:pt x="21252" y="13092"/>
                  <a:pt x="21276" y="13128"/>
                  <a:pt x="21304" y="13176"/>
                </a:cubicBezTo>
                <a:cubicBezTo>
                  <a:pt x="21340" y="13240"/>
                  <a:pt x="21362" y="13298"/>
                  <a:pt x="21368" y="13367"/>
                </a:cubicBezTo>
                <a:cubicBezTo>
                  <a:pt x="21373" y="13421"/>
                  <a:pt x="21375" y="13523"/>
                  <a:pt x="21400" y="13398"/>
                </a:cubicBezTo>
              </a:path>
              <a:path w="6288" h="2668">
                <a:moveTo>
                  <a:pt x="21495" y="12732"/>
                </a:moveTo>
                <a:cubicBezTo>
                  <a:pt x="21510" y="12668"/>
                  <a:pt x="21535" y="12659"/>
                  <a:pt x="21590" y="12636"/>
                </a:cubicBezTo>
                <a:cubicBezTo>
                  <a:pt x="21695" y="12592"/>
                  <a:pt x="21676" y="12611"/>
                  <a:pt x="21780" y="12636"/>
                </a:cubicBezTo>
                <a:cubicBezTo>
                  <a:pt x="21823" y="12646"/>
                  <a:pt x="21866" y="12685"/>
                  <a:pt x="21876" y="12732"/>
                </a:cubicBezTo>
                <a:cubicBezTo>
                  <a:pt x="21889" y="12794"/>
                  <a:pt x="21872" y="12889"/>
                  <a:pt x="21812" y="12922"/>
                </a:cubicBezTo>
                <a:cubicBezTo>
                  <a:pt x="21775" y="12943"/>
                  <a:pt x="21727" y="12999"/>
                  <a:pt x="21685" y="13018"/>
                </a:cubicBezTo>
                <a:cubicBezTo>
                  <a:pt x="21654" y="13018"/>
                  <a:pt x="21644" y="13018"/>
                  <a:pt x="21654" y="13049"/>
                </a:cubicBezTo>
              </a:path>
              <a:path w="6288" h="2668">
                <a:moveTo>
                  <a:pt x="21749" y="13240"/>
                </a:moveTo>
                <a:cubicBezTo>
                  <a:pt x="21642" y="13347"/>
                  <a:pt x="21824" y="13165"/>
                  <a:pt x="21717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Ink 2"/>
          <p:cNvSpPr/>
          <p:nvPr/>
        </p:nvSpPr>
        <p:spPr>
          <a:xfrm>
            <a:off x="1793880" y="1943280"/>
            <a:ext cx="298440" cy="446040"/>
          </a:xfrm>
          <a:custGeom>
            <a:avLst/>
            <a:gdLst/>
            <a:ahLst/>
            <a:rect l="l" t="t" r="r" b="b"/>
            <a:pathLst>
              <a:path w="826" h="1239">
                <a:moveTo>
                  <a:pt x="5334" y="5398"/>
                </a:moveTo>
                <a:cubicBezTo>
                  <a:pt x="5296" y="5447"/>
                  <a:pt x="5283" y="5521"/>
                  <a:pt x="5302" y="5588"/>
                </a:cubicBezTo>
                <a:cubicBezTo>
                  <a:pt x="5337" y="5712"/>
                  <a:pt x="5357" y="5841"/>
                  <a:pt x="5398" y="5969"/>
                </a:cubicBezTo>
                <a:cubicBezTo>
                  <a:pt x="5435" y="6084"/>
                  <a:pt x="5475" y="6204"/>
                  <a:pt x="5493" y="6318"/>
                </a:cubicBezTo>
                <a:cubicBezTo>
                  <a:pt x="5501" y="6368"/>
                  <a:pt x="5493" y="6426"/>
                  <a:pt x="5493" y="6477"/>
                </a:cubicBezTo>
                <a:cubicBezTo>
                  <a:pt x="5453" y="6410"/>
                  <a:pt x="5454" y="6358"/>
                  <a:pt x="5429" y="6286"/>
                </a:cubicBezTo>
                <a:cubicBezTo>
                  <a:pt x="5400" y="6203"/>
                  <a:pt x="5395" y="6132"/>
                  <a:pt x="5334" y="6064"/>
                </a:cubicBezTo>
                <a:cubicBezTo>
                  <a:pt x="5310" y="6038"/>
                  <a:pt x="5246" y="6010"/>
                  <a:pt x="5207" y="6032"/>
                </a:cubicBezTo>
                <a:cubicBezTo>
                  <a:pt x="5131" y="6074"/>
                  <a:pt x="5079" y="6177"/>
                  <a:pt x="5048" y="6255"/>
                </a:cubicBezTo>
                <a:cubicBezTo>
                  <a:pt x="5002" y="6371"/>
                  <a:pt x="4985" y="6448"/>
                  <a:pt x="4985" y="6572"/>
                </a:cubicBezTo>
                <a:cubicBezTo>
                  <a:pt x="4985" y="6663"/>
                  <a:pt x="5078" y="6636"/>
                  <a:pt x="5144" y="6636"/>
                </a:cubicBezTo>
                <a:cubicBezTo>
                  <a:pt x="5262" y="6636"/>
                  <a:pt x="5307" y="6569"/>
                  <a:pt x="5398" y="6509"/>
                </a:cubicBezTo>
                <a:cubicBezTo>
                  <a:pt x="5453" y="6481"/>
                  <a:pt x="5468" y="6476"/>
                  <a:pt x="5493" y="6445"/>
                </a:cubicBezTo>
              </a:path>
              <a:path w="826" h="1239">
                <a:moveTo>
                  <a:pt x="5747" y="6350"/>
                </a:moveTo>
                <a:cubicBezTo>
                  <a:pt x="5747" y="6400"/>
                  <a:pt x="5767" y="6382"/>
                  <a:pt x="5810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Ink 3"/>
          <p:cNvSpPr/>
          <p:nvPr/>
        </p:nvSpPr>
        <p:spPr>
          <a:xfrm>
            <a:off x="2685960" y="1805040"/>
            <a:ext cx="1521000" cy="480960"/>
          </a:xfrm>
          <a:custGeom>
            <a:avLst/>
            <a:gdLst/>
            <a:ahLst/>
            <a:rect l="l" t="t" r="r" b="b"/>
            <a:pathLst>
              <a:path w="4224" h="1335">
                <a:moveTo>
                  <a:pt x="7747" y="5270"/>
                </a:moveTo>
                <a:cubicBezTo>
                  <a:pt x="7789" y="5340"/>
                  <a:pt x="7771" y="5440"/>
                  <a:pt x="7747" y="5524"/>
                </a:cubicBezTo>
                <a:cubicBezTo>
                  <a:pt x="7695" y="5706"/>
                  <a:pt x="7617" y="5884"/>
                  <a:pt x="7556" y="6064"/>
                </a:cubicBezTo>
                <a:cubicBezTo>
                  <a:pt x="7540" y="6112"/>
                  <a:pt x="7490" y="6322"/>
                  <a:pt x="7461" y="6350"/>
                </a:cubicBezTo>
                <a:cubicBezTo>
                  <a:pt x="7461" y="6339"/>
                  <a:pt x="7461" y="6329"/>
                  <a:pt x="7461" y="6318"/>
                </a:cubicBezTo>
              </a:path>
              <a:path w="4224" h="1335">
                <a:moveTo>
                  <a:pt x="7715" y="5366"/>
                </a:moveTo>
                <a:cubicBezTo>
                  <a:pt x="7804" y="5417"/>
                  <a:pt x="7865" y="5483"/>
                  <a:pt x="7938" y="5556"/>
                </a:cubicBezTo>
                <a:cubicBezTo>
                  <a:pt x="8034" y="5652"/>
                  <a:pt x="8076" y="5770"/>
                  <a:pt x="8160" y="5874"/>
                </a:cubicBezTo>
                <a:cubicBezTo>
                  <a:pt x="8237" y="5969"/>
                  <a:pt x="8373" y="6039"/>
                  <a:pt x="8414" y="6160"/>
                </a:cubicBezTo>
                <a:cubicBezTo>
                  <a:pt x="8433" y="6215"/>
                  <a:pt x="8402" y="6251"/>
                  <a:pt x="8350" y="6255"/>
                </a:cubicBezTo>
                <a:cubicBezTo>
                  <a:pt x="8228" y="6264"/>
                  <a:pt x="8196" y="6205"/>
                  <a:pt x="8064" y="6255"/>
                </a:cubicBezTo>
                <a:cubicBezTo>
                  <a:pt x="7959" y="6295"/>
                  <a:pt x="7827" y="6302"/>
                  <a:pt x="7715" y="6318"/>
                </a:cubicBezTo>
                <a:cubicBezTo>
                  <a:pt x="7670" y="6324"/>
                  <a:pt x="7550" y="6323"/>
                  <a:pt x="7525" y="6286"/>
                </a:cubicBezTo>
                <a:cubicBezTo>
                  <a:pt x="7525" y="6250"/>
                  <a:pt x="7528" y="6237"/>
                  <a:pt x="7556" y="6223"/>
                </a:cubicBezTo>
              </a:path>
              <a:path w="4224" h="1335">
                <a:moveTo>
                  <a:pt x="8604" y="5429"/>
                </a:moveTo>
                <a:cubicBezTo>
                  <a:pt x="8669" y="5409"/>
                  <a:pt x="8636" y="5475"/>
                  <a:pt x="8636" y="5556"/>
                </a:cubicBezTo>
                <a:cubicBezTo>
                  <a:pt x="8636" y="5700"/>
                  <a:pt x="8653" y="5831"/>
                  <a:pt x="8668" y="5969"/>
                </a:cubicBezTo>
                <a:cubicBezTo>
                  <a:pt x="8678" y="6066"/>
                  <a:pt x="8691" y="6199"/>
                  <a:pt x="8731" y="6286"/>
                </a:cubicBezTo>
                <a:cubicBezTo>
                  <a:pt x="8760" y="6315"/>
                  <a:pt x="8771" y="6321"/>
                  <a:pt x="8763" y="6350"/>
                </a:cubicBezTo>
              </a:path>
              <a:path w="4224" h="1335">
                <a:moveTo>
                  <a:pt x="8985" y="5398"/>
                </a:moveTo>
                <a:cubicBezTo>
                  <a:pt x="8985" y="5522"/>
                  <a:pt x="9004" y="5628"/>
                  <a:pt x="9017" y="5747"/>
                </a:cubicBezTo>
                <a:cubicBezTo>
                  <a:pt x="9030" y="5866"/>
                  <a:pt x="9031" y="5983"/>
                  <a:pt x="9049" y="6096"/>
                </a:cubicBezTo>
                <a:cubicBezTo>
                  <a:pt x="9052" y="6113"/>
                  <a:pt x="9049" y="6310"/>
                  <a:pt x="9049" y="6223"/>
                </a:cubicBezTo>
              </a:path>
              <a:path w="4224" h="1335">
                <a:moveTo>
                  <a:pt x="8668" y="5874"/>
                </a:moveTo>
                <a:cubicBezTo>
                  <a:pt x="8696" y="5831"/>
                  <a:pt x="8761" y="5836"/>
                  <a:pt x="8826" y="5810"/>
                </a:cubicBezTo>
                <a:cubicBezTo>
                  <a:pt x="8908" y="5777"/>
                  <a:pt x="8991" y="5752"/>
                  <a:pt x="9080" y="5747"/>
                </a:cubicBezTo>
                <a:cubicBezTo>
                  <a:pt x="9152" y="5743"/>
                  <a:pt x="9168" y="5725"/>
                  <a:pt x="9239" y="5715"/>
                </a:cubicBezTo>
              </a:path>
              <a:path w="4224" h="1335">
                <a:moveTo>
                  <a:pt x="9430" y="5652"/>
                </a:moveTo>
                <a:cubicBezTo>
                  <a:pt x="9486" y="5641"/>
                  <a:pt x="9528" y="5620"/>
                  <a:pt x="9588" y="5620"/>
                </a:cubicBezTo>
                <a:cubicBezTo>
                  <a:pt x="9599" y="5620"/>
                  <a:pt x="9609" y="5620"/>
                  <a:pt x="9620" y="5620"/>
                </a:cubicBezTo>
              </a:path>
              <a:path w="4224" h="1335">
                <a:moveTo>
                  <a:pt x="9430" y="5842"/>
                </a:moveTo>
                <a:cubicBezTo>
                  <a:pt x="9498" y="5842"/>
                  <a:pt x="9559" y="5834"/>
                  <a:pt x="9620" y="5810"/>
                </a:cubicBezTo>
                <a:cubicBezTo>
                  <a:pt x="9641" y="5799"/>
                  <a:pt x="9663" y="5789"/>
                  <a:pt x="9684" y="5778"/>
                </a:cubicBezTo>
              </a:path>
              <a:path w="4224" h="1335">
                <a:moveTo>
                  <a:pt x="10732" y="5207"/>
                </a:moveTo>
                <a:cubicBezTo>
                  <a:pt x="10740" y="5167"/>
                  <a:pt x="10787" y="5092"/>
                  <a:pt x="10763" y="5048"/>
                </a:cubicBezTo>
                <a:cubicBezTo>
                  <a:pt x="10753" y="5037"/>
                  <a:pt x="10742" y="5027"/>
                  <a:pt x="10732" y="5016"/>
                </a:cubicBezTo>
                <a:cubicBezTo>
                  <a:pt x="10653" y="5080"/>
                  <a:pt x="10598" y="5119"/>
                  <a:pt x="10541" y="5207"/>
                </a:cubicBezTo>
                <a:cubicBezTo>
                  <a:pt x="10496" y="5277"/>
                  <a:pt x="10454" y="5328"/>
                  <a:pt x="10414" y="5398"/>
                </a:cubicBezTo>
                <a:cubicBezTo>
                  <a:pt x="10430" y="5459"/>
                  <a:pt x="10470" y="5485"/>
                  <a:pt x="10541" y="5461"/>
                </a:cubicBezTo>
                <a:cubicBezTo>
                  <a:pt x="10645" y="5426"/>
                  <a:pt x="10681" y="5403"/>
                  <a:pt x="10763" y="5334"/>
                </a:cubicBezTo>
                <a:cubicBezTo>
                  <a:pt x="10824" y="5283"/>
                  <a:pt x="10842" y="5184"/>
                  <a:pt x="10858" y="5112"/>
                </a:cubicBezTo>
                <a:cubicBezTo>
                  <a:pt x="10858" y="5080"/>
                  <a:pt x="10858" y="5069"/>
                  <a:pt x="10858" y="5048"/>
                </a:cubicBezTo>
                <a:cubicBezTo>
                  <a:pt x="10858" y="5118"/>
                  <a:pt x="10815" y="5169"/>
                  <a:pt x="10827" y="5239"/>
                </a:cubicBezTo>
                <a:cubicBezTo>
                  <a:pt x="10848" y="5361"/>
                  <a:pt x="10858" y="5461"/>
                  <a:pt x="10858" y="5588"/>
                </a:cubicBezTo>
                <a:cubicBezTo>
                  <a:pt x="10858" y="5704"/>
                  <a:pt x="10873" y="5799"/>
                  <a:pt x="10890" y="5906"/>
                </a:cubicBezTo>
                <a:cubicBezTo>
                  <a:pt x="10901" y="5977"/>
                  <a:pt x="10867" y="6057"/>
                  <a:pt x="10954" y="6096"/>
                </a:cubicBezTo>
                <a:cubicBezTo>
                  <a:pt x="10965" y="6096"/>
                  <a:pt x="10975" y="6096"/>
                  <a:pt x="10986" y="6096"/>
                </a:cubicBezTo>
                <a:cubicBezTo>
                  <a:pt x="11028" y="6053"/>
                  <a:pt x="11105" y="6019"/>
                  <a:pt x="11112" y="5969"/>
                </a:cubicBezTo>
                <a:cubicBezTo>
                  <a:pt x="11127" y="5864"/>
                  <a:pt x="11140" y="5677"/>
                  <a:pt x="11081" y="5588"/>
                </a:cubicBezTo>
                <a:cubicBezTo>
                  <a:pt x="11041" y="5527"/>
                  <a:pt x="10971" y="5494"/>
                  <a:pt x="10922" y="5461"/>
                </a:cubicBezTo>
                <a:cubicBezTo>
                  <a:pt x="10893" y="5432"/>
                  <a:pt x="10887" y="5421"/>
                  <a:pt x="10858" y="5429"/>
                </a:cubicBezTo>
                <a:cubicBezTo>
                  <a:pt x="10913" y="5389"/>
                  <a:pt x="10945" y="5372"/>
                  <a:pt x="11017" y="5366"/>
                </a:cubicBezTo>
                <a:cubicBezTo>
                  <a:pt x="11070" y="5366"/>
                  <a:pt x="11102" y="5366"/>
                  <a:pt x="11144" y="5366"/>
                </a:cubicBezTo>
              </a:path>
              <a:path w="4224" h="1335">
                <a:moveTo>
                  <a:pt x="10192" y="6255"/>
                </a:moveTo>
                <a:cubicBezTo>
                  <a:pt x="10248" y="6213"/>
                  <a:pt x="10276" y="6223"/>
                  <a:pt x="10350" y="6223"/>
                </a:cubicBezTo>
                <a:cubicBezTo>
                  <a:pt x="10484" y="6223"/>
                  <a:pt x="10599" y="6195"/>
                  <a:pt x="10732" y="6191"/>
                </a:cubicBezTo>
                <a:cubicBezTo>
                  <a:pt x="10931" y="6185"/>
                  <a:pt x="11494" y="6096"/>
                  <a:pt x="11652" y="6223"/>
                </a:cubicBezTo>
                <a:cubicBezTo>
                  <a:pt x="11663" y="6234"/>
                  <a:pt x="11673" y="6244"/>
                  <a:pt x="11684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Ink 4"/>
          <p:cNvSpPr/>
          <p:nvPr/>
        </p:nvSpPr>
        <p:spPr>
          <a:xfrm>
            <a:off x="3736800" y="2354400"/>
            <a:ext cx="676440" cy="206280"/>
          </a:xfrm>
          <a:custGeom>
            <a:avLst/>
            <a:gdLst/>
            <a:ahLst/>
            <a:rect l="l" t="t" r="r" b="b"/>
            <a:pathLst>
              <a:path w="1875" h="573">
                <a:moveTo>
                  <a:pt x="10382" y="6668"/>
                </a:moveTo>
                <a:cubicBezTo>
                  <a:pt x="10423" y="6719"/>
                  <a:pt x="10466" y="6791"/>
                  <a:pt x="10478" y="6858"/>
                </a:cubicBezTo>
                <a:cubicBezTo>
                  <a:pt x="10491" y="6932"/>
                  <a:pt x="10498" y="7029"/>
                  <a:pt x="10478" y="7080"/>
                </a:cubicBezTo>
                <a:cubicBezTo>
                  <a:pt x="10545" y="7114"/>
                  <a:pt x="10457" y="6966"/>
                  <a:pt x="10446" y="6890"/>
                </a:cubicBezTo>
                <a:cubicBezTo>
                  <a:pt x="10440" y="6850"/>
                  <a:pt x="10468" y="6752"/>
                  <a:pt x="10509" y="6731"/>
                </a:cubicBezTo>
                <a:cubicBezTo>
                  <a:pt x="10546" y="6712"/>
                  <a:pt x="10615" y="6732"/>
                  <a:pt x="10636" y="6763"/>
                </a:cubicBezTo>
                <a:cubicBezTo>
                  <a:pt x="10688" y="6837"/>
                  <a:pt x="10725" y="6895"/>
                  <a:pt x="10732" y="6985"/>
                </a:cubicBezTo>
                <a:cubicBezTo>
                  <a:pt x="10734" y="7016"/>
                  <a:pt x="10732" y="7049"/>
                  <a:pt x="10732" y="7080"/>
                </a:cubicBezTo>
                <a:cubicBezTo>
                  <a:pt x="10693" y="7028"/>
                  <a:pt x="10685" y="6960"/>
                  <a:pt x="10700" y="6890"/>
                </a:cubicBezTo>
                <a:cubicBezTo>
                  <a:pt x="10722" y="6788"/>
                  <a:pt x="10736" y="6763"/>
                  <a:pt x="10827" y="6763"/>
                </a:cubicBezTo>
                <a:cubicBezTo>
                  <a:pt x="10888" y="6763"/>
                  <a:pt x="10909" y="6837"/>
                  <a:pt x="10922" y="6890"/>
                </a:cubicBezTo>
                <a:cubicBezTo>
                  <a:pt x="10938" y="6954"/>
                  <a:pt x="10949" y="7016"/>
                  <a:pt x="10954" y="7080"/>
                </a:cubicBezTo>
                <a:cubicBezTo>
                  <a:pt x="10954" y="7116"/>
                  <a:pt x="10957" y="7124"/>
                  <a:pt x="10986" y="7080"/>
                </a:cubicBezTo>
              </a:path>
              <a:path w="1875" h="573">
                <a:moveTo>
                  <a:pt x="11081" y="6763"/>
                </a:moveTo>
                <a:cubicBezTo>
                  <a:pt x="11055" y="6822"/>
                  <a:pt x="11021" y="6889"/>
                  <a:pt x="11017" y="6953"/>
                </a:cubicBezTo>
                <a:cubicBezTo>
                  <a:pt x="11011" y="7042"/>
                  <a:pt x="11040" y="7073"/>
                  <a:pt x="11112" y="7080"/>
                </a:cubicBezTo>
                <a:cubicBezTo>
                  <a:pt x="11144" y="7083"/>
                  <a:pt x="11221" y="7045"/>
                  <a:pt x="11240" y="7017"/>
                </a:cubicBezTo>
                <a:cubicBezTo>
                  <a:pt x="11272" y="6971"/>
                  <a:pt x="11289" y="6881"/>
                  <a:pt x="11271" y="6826"/>
                </a:cubicBezTo>
                <a:cubicBezTo>
                  <a:pt x="11245" y="6746"/>
                  <a:pt x="11218" y="6731"/>
                  <a:pt x="11144" y="6731"/>
                </a:cubicBezTo>
                <a:cubicBezTo>
                  <a:pt x="11099" y="6731"/>
                  <a:pt x="11077" y="6725"/>
                  <a:pt x="11049" y="6699"/>
                </a:cubicBezTo>
              </a:path>
              <a:path w="1875" h="573">
                <a:moveTo>
                  <a:pt x="11335" y="6540"/>
                </a:moveTo>
                <a:cubicBezTo>
                  <a:pt x="11385" y="6557"/>
                  <a:pt x="11394" y="6602"/>
                  <a:pt x="11398" y="6668"/>
                </a:cubicBezTo>
                <a:cubicBezTo>
                  <a:pt x="11403" y="6754"/>
                  <a:pt x="11411" y="6808"/>
                  <a:pt x="11430" y="6890"/>
                </a:cubicBezTo>
                <a:cubicBezTo>
                  <a:pt x="11447" y="6965"/>
                  <a:pt x="11481" y="6979"/>
                  <a:pt x="11557" y="6985"/>
                </a:cubicBezTo>
                <a:cubicBezTo>
                  <a:pt x="11614" y="6990"/>
                  <a:pt x="11651" y="6972"/>
                  <a:pt x="11684" y="6922"/>
                </a:cubicBezTo>
                <a:cubicBezTo>
                  <a:pt x="11715" y="6874"/>
                  <a:pt x="11779" y="6794"/>
                  <a:pt x="11748" y="6731"/>
                </a:cubicBezTo>
                <a:cubicBezTo>
                  <a:pt x="11737" y="6720"/>
                  <a:pt x="11727" y="6710"/>
                  <a:pt x="11716" y="6699"/>
                </a:cubicBezTo>
                <a:cubicBezTo>
                  <a:pt x="11625" y="6722"/>
                  <a:pt x="11626" y="6762"/>
                  <a:pt x="11589" y="6826"/>
                </a:cubicBezTo>
                <a:cubicBezTo>
                  <a:pt x="11554" y="6886"/>
                  <a:pt x="11551" y="6927"/>
                  <a:pt x="11589" y="6985"/>
                </a:cubicBezTo>
                <a:cubicBezTo>
                  <a:pt x="11619" y="7031"/>
                  <a:pt x="11733" y="7035"/>
                  <a:pt x="11779" y="7017"/>
                </a:cubicBezTo>
                <a:cubicBezTo>
                  <a:pt x="11823" y="6973"/>
                  <a:pt x="11850" y="6963"/>
                  <a:pt x="11906" y="6985"/>
                </a:cubicBezTo>
              </a:path>
              <a:path w="1875" h="573">
                <a:moveTo>
                  <a:pt x="12097" y="6604"/>
                </a:moveTo>
                <a:cubicBezTo>
                  <a:pt x="12042" y="6604"/>
                  <a:pt x="11973" y="6586"/>
                  <a:pt x="11938" y="6636"/>
                </a:cubicBezTo>
                <a:cubicBezTo>
                  <a:pt x="11880" y="6719"/>
                  <a:pt x="11895" y="6752"/>
                  <a:pt x="11970" y="6794"/>
                </a:cubicBezTo>
                <a:cubicBezTo>
                  <a:pt x="12031" y="6828"/>
                  <a:pt x="12099" y="6833"/>
                  <a:pt x="12160" y="6858"/>
                </a:cubicBezTo>
                <a:cubicBezTo>
                  <a:pt x="12212" y="6884"/>
                  <a:pt x="12220" y="6895"/>
                  <a:pt x="12256" y="6890"/>
                </a:cubicBezTo>
                <a:cubicBezTo>
                  <a:pt x="12227" y="6948"/>
                  <a:pt x="12177" y="6952"/>
                  <a:pt x="12128" y="6985"/>
                </a:cubicBezTo>
                <a:cubicBezTo>
                  <a:pt x="12100" y="7014"/>
                  <a:pt x="12094" y="7025"/>
                  <a:pt x="12065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264200" y="2583000"/>
            <a:ext cx="182520" cy="206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1906" y="7461"/>
                </a:moveTo>
                <a:cubicBezTo>
                  <a:pt x="11889" y="7530"/>
                  <a:pt x="11849" y="7571"/>
                  <a:pt x="11843" y="7652"/>
                </a:cubicBezTo>
                <a:cubicBezTo>
                  <a:pt x="11839" y="7706"/>
                  <a:pt x="11866" y="7776"/>
                  <a:pt x="11938" y="7747"/>
                </a:cubicBezTo>
                <a:cubicBezTo>
                  <a:pt x="11982" y="7730"/>
                  <a:pt x="12030" y="7702"/>
                  <a:pt x="12033" y="7652"/>
                </a:cubicBezTo>
                <a:cubicBezTo>
                  <a:pt x="12039" y="7570"/>
                  <a:pt x="12020" y="7527"/>
                  <a:pt x="11970" y="7461"/>
                </a:cubicBezTo>
                <a:cubicBezTo>
                  <a:pt x="11931" y="7410"/>
                  <a:pt x="11919" y="7422"/>
                  <a:pt x="11906" y="7461"/>
                </a:cubicBezTo>
              </a:path>
              <a:path w="509" h="572">
                <a:moveTo>
                  <a:pt x="12192" y="7684"/>
                </a:moveTo>
                <a:cubicBezTo>
                  <a:pt x="12174" y="7613"/>
                  <a:pt x="12179" y="7539"/>
                  <a:pt x="12160" y="7461"/>
                </a:cubicBezTo>
                <a:cubicBezTo>
                  <a:pt x="12138" y="7368"/>
                  <a:pt x="12122" y="7334"/>
                  <a:pt x="12160" y="7239"/>
                </a:cubicBezTo>
                <a:cubicBezTo>
                  <a:pt x="12208" y="7120"/>
                  <a:pt x="12276" y="7183"/>
                  <a:pt x="12351" y="7239"/>
                </a:cubicBezTo>
              </a:path>
              <a:path w="509" h="572">
                <a:moveTo>
                  <a:pt x="12097" y="7493"/>
                </a:moveTo>
                <a:cubicBezTo>
                  <a:pt x="12086" y="7504"/>
                  <a:pt x="12076" y="7514"/>
                  <a:pt x="12065" y="7525"/>
                </a:cubicBezTo>
                <a:cubicBezTo>
                  <a:pt x="12123" y="7490"/>
                  <a:pt x="12212" y="7445"/>
                  <a:pt x="12287" y="7430"/>
                </a:cubicBezTo>
                <a:cubicBezTo>
                  <a:pt x="12308" y="7430"/>
                  <a:pt x="12330" y="7430"/>
                  <a:pt x="1235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Ink 6"/>
          <p:cNvSpPr/>
          <p:nvPr/>
        </p:nvSpPr>
        <p:spPr>
          <a:xfrm>
            <a:off x="4583160" y="2593800"/>
            <a:ext cx="857160" cy="217800"/>
          </a:xfrm>
          <a:custGeom>
            <a:avLst/>
            <a:gdLst/>
            <a:ahLst/>
            <a:rect l="l" t="t" r="r" b="b"/>
            <a:pathLst>
              <a:path w="2382" h="604">
                <a:moveTo>
                  <a:pt x="12732" y="7366"/>
                </a:moveTo>
                <a:cubicBezTo>
                  <a:pt x="12732" y="7458"/>
                  <a:pt x="12757" y="7505"/>
                  <a:pt x="12764" y="7588"/>
                </a:cubicBezTo>
                <a:cubicBezTo>
                  <a:pt x="12768" y="7638"/>
                  <a:pt x="12797" y="7676"/>
                  <a:pt x="12827" y="7715"/>
                </a:cubicBezTo>
                <a:cubicBezTo>
                  <a:pt x="12759" y="7648"/>
                  <a:pt x="12764" y="7621"/>
                  <a:pt x="12764" y="7525"/>
                </a:cubicBezTo>
                <a:cubicBezTo>
                  <a:pt x="12764" y="7485"/>
                  <a:pt x="12737" y="7352"/>
                  <a:pt x="12795" y="7334"/>
                </a:cubicBezTo>
                <a:cubicBezTo>
                  <a:pt x="12848" y="7334"/>
                  <a:pt x="12858" y="7334"/>
                  <a:pt x="12890" y="7334"/>
                </a:cubicBezTo>
              </a:path>
              <a:path w="2382" h="604">
                <a:moveTo>
                  <a:pt x="13018" y="7652"/>
                </a:moveTo>
                <a:cubicBezTo>
                  <a:pt x="13070" y="7617"/>
                  <a:pt x="13107" y="7583"/>
                  <a:pt x="13144" y="7525"/>
                </a:cubicBezTo>
                <a:cubicBezTo>
                  <a:pt x="13180" y="7469"/>
                  <a:pt x="13225" y="7393"/>
                  <a:pt x="13240" y="7334"/>
                </a:cubicBezTo>
                <a:cubicBezTo>
                  <a:pt x="13167" y="7352"/>
                  <a:pt x="13121" y="7393"/>
                  <a:pt x="13081" y="7461"/>
                </a:cubicBezTo>
                <a:cubicBezTo>
                  <a:pt x="13048" y="7517"/>
                  <a:pt x="12989" y="7613"/>
                  <a:pt x="13018" y="7684"/>
                </a:cubicBezTo>
                <a:cubicBezTo>
                  <a:pt x="13033" y="7721"/>
                  <a:pt x="13142" y="7758"/>
                  <a:pt x="13176" y="7747"/>
                </a:cubicBezTo>
                <a:cubicBezTo>
                  <a:pt x="13221" y="7702"/>
                  <a:pt x="13249" y="7686"/>
                  <a:pt x="13303" y="7684"/>
                </a:cubicBezTo>
              </a:path>
              <a:path w="2382" h="604">
                <a:moveTo>
                  <a:pt x="13557" y="7334"/>
                </a:moveTo>
                <a:cubicBezTo>
                  <a:pt x="13475" y="7355"/>
                  <a:pt x="13489" y="7410"/>
                  <a:pt x="13430" y="7461"/>
                </a:cubicBezTo>
                <a:cubicBezTo>
                  <a:pt x="13348" y="7531"/>
                  <a:pt x="13329" y="7574"/>
                  <a:pt x="13303" y="7684"/>
                </a:cubicBezTo>
                <a:cubicBezTo>
                  <a:pt x="13303" y="7694"/>
                  <a:pt x="13303" y="7705"/>
                  <a:pt x="13303" y="7715"/>
                </a:cubicBezTo>
                <a:cubicBezTo>
                  <a:pt x="13352" y="7745"/>
                  <a:pt x="13418" y="7778"/>
                  <a:pt x="13462" y="7715"/>
                </a:cubicBezTo>
                <a:cubicBezTo>
                  <a:pt x="13502" y="7657"/>
                  <a:pt x="13522" y="7558"/>
                  <a:pt x="13526" y="7493"/>
                </a:cubicBezTo>
                <a:cubicBezTo>
                  <a:pt x="13536" y="7322"/>
                  <a:pt x="13526" y="7566"/>
                  <a:pt x="13526" y="7588"/>
                </a:cubicBezTo>
                <a:cubicBezTo>
                  <a:pt x="13526" y="7669"/>
                  <a:pt x="13563" y="7690"/>
                  <a:pt x="13621" y="7715"/>
                </a:cubicBezTo>
                <a:cubicBezTo>
                  <a:pt x="13673" y="7741"/>
                  <a:pt x="13681" y="7752"/>
                  <a:pt x="13716" y="7747"/>
                </a:cubicBezTo>
              </a:path>
              <a:path w="2382" h="604">
                <a:moveTo>
                  <a:pt x="13938" y="7461"/>
                </a:moveTo>
                <a:cubicBezTo>
                  <a:pt x="13914" y="7414"/>
                  <a:pt x="13855" y="7376"/>
                  <a:pt x="13811" y="7430"/>
                </a:cubicBezTo>
                <a:cubicBezTo>
                  <a:pt x="13759" y="7493"/>
                  <a:pt x="13748" y="7541"/>
                  <a:pt x="13748" y="7620"/>
                </a:cubicBezTo>
                <a:cubicBezTo>
                  <a:pt x="13748" y="7677"/>
                  <a:pt x="13789" y="7735"/>
                  <a:pt x="13843" y="7747"/>
                </a:cubicBezTo>
                <a:cubicBezTo>
                  <a:pt x="13928" y="7765"/>
                  <a:pt x="13990" y="7726"/>
                  <a:pt x="14065" y="7715"/>
                </a:cubicBezTo>
              </a:path>
              <a:path w="2382" h="604">
                <a:moveTo>
                  <a:pt x="14192" y="7207"/>
                </a:moveTo>
                <a:cubicBezTo>
                  <a:pt x="14158" y="7297"/>
                  <a:pt x="14160" y="7364"/>
                  <a:pt x="14160" y="7461"/>
                </a:cubicBezTo>
                <a:cubicBezTo>
                  <a:pt x="14160" y="7534"/>
                  <a:pt x="14161" y="7624"/>
                  <a:pt x="14192" y="7684"/>
                </a:cubicBezTo>
                <a:cubicBezTo>
                  <a:pt x="14214" y="7727"/>
                  <a:pt x="14223" y="7736"/>
                  <a:pt x="14256" y="7747"/>
                </a:cubicBezTo>
              </a:path>
              <a:path w="2382" h="604">
                <a:moveTo>
                  <a:pt x="14034" y="7588"/>
                </a:moveTo>
                <a:cubicBezTo>
                  <a:pt x="14120" y="7555"/>
                  <a:pt x="14237" y="7515"/>
                  <a:pt x="14319" y="7493"/>
                </a:cubicBezTo>
                <a:cubicBezTo>
                  <a:pt x="14377" y="7493"/>
                  <a:pt x="14393" y="7498"/>
                  <a:pt x="14414" y="7461"/>
                </a:cubicBezTo>
                <a:cubicBezTo>
                  <a:pt x="14502" y="7505"/>
                  <a:pt x="14469" y="7521"/>
                  <a:pt x="14446" y="7588"/>
                </a:cubicBezTo>
                <a:cubicBezTo>
                  <a:pt x="14433" y="7627"/>
                  <a:pt x="14461" y="7690"/>
                  <a:pt x="14478" y="7715"/>
                </a:cubicBezTo>
                <a:cubicBezTo>
                  <a:pt x="14507" y="7744"/>
                  <a:pt x="14513" y="7755"/>
                  <a:pt x="14542" y="7747"/>
                </a:cubicBezTo>
              </a:path>
              <a:path w="2382" h="604">
                <a:moveTo>
                  <a:pt x="14605" y="7493"/>
                </a:moveTo>
                <a:cubicBezTo>
                  <a:pt x="14605" y="7590"/>
                  <a:pt x="14563" y="7741"/>
                  <a:pt x="14668" y="7779"/>
                </a:cubicBezTo>
                <a:cubicBezTo>
                  <a:pt x="14720" y="7798"/>
                  <a:pt x="14770" y="7756"/>
                  <a:pt x="14796" y="7715"/>
                </a:cubicBezTo>
                <a:cubicBezTo>
                  <a:pt x="14841" y="7644"/>
                  <a:pt x="14825" y="7597"/>
                  <a:pt x="14796" y="7525"/>
                </a:cubicBezTo>
                <a:cubicBezTo>
                  <a:pt x="14761" y="7438"/>
                  <a:pt x="14724" y="7405"/>
                  <a:pt x="14637" y="7398"/>
                </a:cubicBezTo>
                <a:cubicBezTo>
                  <a:pt x="14626" y="7398"/>
                  <a:pt x="14616" y="7398"/>
                  <a:pt x="14605" y="7398"/>
                </a:cubicBezTo>
              </a:path>
              <a:path w="2382" h="604">
                <a:moveTo>
                  <a:pt x="14827" y="7556"/>
                </a:moveTo>
                <a:cubicBezTo>
                  <a:pt x="14857" y="7596"/>
                  <a:pt x="14885" y="7634"/>
                  <a:pt x="14891" y="7684"/>
                </a:cubicBezTo>
                <a:cubicBezTo>
                  <a:pt x="14901" y="7769"/>
                  <a:pt x="14883" y="7736"/>
                  <a:pt x="14922" y="7652"/>
                </a:cubicBezTo>
                <a:cubicBezTo>
                  <a:pt x="14950" y="7592"/>
                  <a:pt x="14982" y="7532"/>
                  <a:pt x="15050" y="7525"/>
                </a:cubicBezTo>
                <a:cubicBezTo>
                  <a:pt x="15060" y="7525"/>
                  <a:pt x="15071" y="7525"/>
                  <a:pt x="15081" y="7525"/>
                </a:cubicBezTo>
                <a:cubicBezTo>
                  <a:pt x="15081" y="7604"/>
                  <a:pt x="15106" y="7650"/>
                  <a:pt x="15113" y="7715"/>
                </a:cubicBezTo>
                <a:cubicBezTo>
                  <a:pt x="15113" y="7757"/>
                  <a:pt x="15113" y="7778"/>
                  <a:pt x="15113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Ink 7"/>
          <p:cNvSpPr/>
          <p:nvPr/>
        </p:nvSpPr>
        <p:spPr>
          <a:xfrm>
            <a:off x="4754520" y="3200400"/>
            <a:ext cx="3178080" cy="903240"/>
          </a:xfrm>
          <a:custGeom>
            <a:avLst/>
            <a:gdLst/>
            <a:ahLst/>
            <a:rect l="l" t="t" r="r" b="b"/>
            <a:pathLst>
              <a:path w="8827" h="2509">
                <a:moveTo>
                  <a:pt x="13208" y="10350"/>
                </a:moveTo>
                <a:lnTo>
                  <a:pt x="13208" y="10350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954" y="11398"/>
                </a:moveTo>
                <a:cubicBezTo>
                  <a:pt x="14954" y="11362"/>
                  <a:pt x="14951" y="11348"/>
                  <a:pt x="14922" y="11335"/>
                </a:cubicBezTo>
              </a:path>
              <a:path w="8827" h="2509">
                <a:moveTo>
                  <a:pt x="15780" y="11398"/>
                </a:moveTo>
                <a:cubicBezTo>
                  <a:pt x="15732" y="11335"/>
                  <a:pt x="15745" y="11353"/>
                  <a:pt x="15780" y="11271"/>
                </a:cubicBezTo>
              </a:path>
              <a:path w="8827" h="2509">
                <a:moveTo>
                  <a:pt x="16351" y="11303"/>
                </a:moveTo>
                <a:cubicBezTo>
                  <a:pt x="16292" y="11242"/>
                  <a:pt x="16342" y="11251"/>
                  <a:pt x="16383" y="11271"/>
                </a:cubicBez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8"/>
          <p:cNvSpPr/>
          <p:nvPr/>
        </p:nvSpPr>
        <p:spPr>
          <a:xfrm>
            <a:off x="4572000" y="3565440"/>
            <a:ext cx="190980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2764" y="9970"/>
                </a:moveTo>
                <a:cubicBezTo>
                  <a:pt x="12728" y="10017"/>
                  <a:pt x="12710" y="10100"/>
                  <a:pt x="12700" y="10160"/>
                </a:cubicBezTo>
                <a:cubicBezTo>
                  <a:pt x="12689" y="10227"/>
                  <a:pt x="12664" y="10507"/>
                  <a:pt x="12732" y="10541"/>
                </a:cubicBezTo>
                <a:cubicBezTo>
                  <a:pt x="12782" y="10566"/>
                  <a:pt x="12849" y="10519"/>
                  <a:pt x="12890" y="10509"/>
                </a:cubicBezTo>
                <a:cubicBezTo>
                  <a:pt x="12956" y="10492"/>
                  <a:pt x="13002" y="10415"/>
                  <a:pt x="13018" y="10350"/>
                </a:cubicBezTo>
                <a:cubicBezTo>
                  <a:pt x="13042" y="10256"/>
                  <a:pt x="12973" y="10232"/>
                  <a:pt x="12954" y="10160"/>
                </a:cubicBezTo>
                <a:cubicBezTo>
                  <a:pt x="12941" y="10111"/>
                  <a:pt x="12899" y="10051"/>
                  <a:pt x="12827" y="10065"/>
                </a:cubicBezTo>
                <a:cubicBezTo>
                  <a:pt x="12785" y="10073"/>
                  <a:pt x="12732" y="10128"/>
                  <a:pt x="12700" y="10160"/>
                </a:cubicBezTo>
              </a:path>
              <a:path w="5303" h="1589">
                <a:moveTo>
                  <a:pt x="13462" y="10001"/>
                </a:moveTo>
                <a:cubicBezTo>
                  <a:pt x="13408" y="10055"/>
                  <a:pt x="13394" y="10093"/>
                  <a:pt x="13367" y="10160"/>
                </a:cubicBezTo>
                <a:cubicBezTo>
                  <a:pt x="13335" y="10241"/>
                  <a:pt x="13335" y="10295"/>
                  <a:pt x="13335" y="10382"/>
                </a:cubicBezTo>
                <a:cubicBezTo>
                  <a:pt x="13335" y="10436"/>
                  <a:pt x="13380" y="10472"/>
                  <a:pt x="13430" y="10478"/>
                </a:cubicBezTo>
                <a:cubicBezTo>
                  <a:pt x="13513" y="10487"/>
                  <a:pt x="13534" y="10469"/>
                  <a:pt x="13589" y="10414"/>
                </a:cubicBezTo>
                <a:cubicBezTo>
                  <a:pt x="13625" y="10378"/>
                  <a:pt x="13665" y="10310"/>
                  <a:pt x="13652" y="10255"/>
                </a:cubicBezTo>
                <a:cubicBezTo>
                  <a:pt x="13635" y="10182"/>
                  <a:pt x="13602" y="10131"/>
                  <a:pt x="13557" y="10096"/>
                </a:cubicBezTo>
                <a:cubicBezTo>
                  <a:pt x="13529" y="10074"/>
                  <a:pt x="13473" y="10042"/>
                  <a:pt x="13430" y="10065"/>
                </a:cubicBezTo>
                <a:cubicBezTo>
                  <a:pt x="13419" y="10075"/>
                  <a:pt x="13409" y="10086"/>
                  <a:pt x="13398" y="10096"/>
                </a:cubicBezTo>
              </a:path>
              <a:path w="5303" h="1589">
                <a:moveTo>
                  <a:pt x="13906" y="10033"/>
                </a:moveTo>
                <a:cubicBezTo>
                  <a:pt x="13906" y="10133"/>
                  <a:pt x="13864" y="10516"/>
                  <a:pt x="13938" y="10541"/>
                </a:cubicBezTo>
              </a:path>
              <a:path w="5303" h="1589">
                <a:moveTo>
                  <a:pt x="14192" y="9970"/>
                </a:moveTo>
                <a:cubicBezTo>
                  <a:pt x="14142" y="10019"/>
                  <a:pt x="14104" y="10055"/>
                  <a:pt x="14097" y="10128"/>
                </a:cubicBezTo>
                <a:cubicBezTo>
                  <a:pt x="14092" y="10181"/>
                  <a:pt x="14098" y="10183"/>
                  <a:pt x="14129" y="10224"/>
                </a:cubicBezTo>
                <a:cubicBezTo>
                  <a:pt x="14190" y="10208"/>
                  <a:pt x="14232" y="10195"/>
                  <a:pt x="14256" y="10128"/>
                </a:cubicBezTo>
                <a:cubicBezTo>
                  <a:pt x="14277" y="10071"/>
                  <a:pt x="14248" y="10051"/>
                  <a:pt x="14224" y="10033"/>
                </a:cubicBezTo>
                <a:cubicBezTo>
                  <a:pt x="14192" y="10001"/>
                  <a:pt x="14181" y="9990"/>
                  <a:pt x="14160" y="10033"/>
                </a:cubicBezTo>
              </a:path>
              <a:path w="5303" h="1589">
                <a:moveTo>
                  <a:pt x="14160" y="10255"/>
                </a:moveTo>
                <a:cubicBezTo>
                  <a:pt x="14131" y="10294"/>
                  <a:pt x="14100" y="10367"/>
                  <a:pt x="14097" y="10414"/>
                </a:cubicBezTo>
                <a:cubicBezTo>
                  <a:pt x="14097" y="10435"/>
                  <a:pt x="14097" y="10457"/>
                  <a:pt x="14097" y="10478"/>
                </a:cubicBezTo>
                <a:cubicBezTo>
                  <a:pt x="14181" y="10478"/>
                  <a:pt x="14190" y="10468"/>
                  <a:pt x="14256" y="10446"/>
                </a:cubicBezTo>
                <a:cubicBezTo>
                  <a:pt x="14336" y="10419"/>
                  <a:pt x="14344" y="10409"/>
                  <a:pt x="14383" y="10350"/>
                </a:cubicBezTo>
                <a:cubicBezTo>
                  <a:pt x="14419" y="10296"/>
                  <a:pt x="14431" y="10278"/>
                  <a:pt x="14383" y="10224"/>
                </a:cubicBezTo>
                <a:cubicBezTo>
                  <a:pt x="14350" y="10187"/>
                  <a:pt x="14269" y="10171"/>
                  <a:pt x="14224" y="10160"/>
                </a:cubicBezTo>
              </a:path>
              <a:path w="5303" h="1589">
                <a:moveTo>
                  <a:pt x="14668" y="10001"/>
                </a:moveTo>
                <a:cubicBezTo>
                  <a:pt x="14610" y="10009"/>
                  <a:pt x="14540" y="10029"/>
                  <a:pt x="14510" y="10096"/>
                </a:cubicBezTo>
                <a:cubicBezTo>
                  <a:pt x="14496" y="10127"/>
                  <a:pt x="14487" y="10158"/>
                  <a:pt x="14478" y="10192"/>
                </a:cubicBezTo>
                <a:cubicBezTo>
                  <a:pt x="14549" y="10246"/>
                  <a:pt x="14536" y="10215"/>
                  <a:pt x="14605" y="10192"/>
                </a:cubicBezTo>
                <a:cubicBezTo>
                  <a:pt x="14630" y="10184"/>
                  <a:pt x="14720" y="10109"/>
                  <a:pt x="14700" y="10065"/>
                </a:cubicBezTo>
                <a:cubicBezTo>
                  <a:pt x="14671" y="10036"/>
                  <a:pt x="14665" y="10026"/>
                  <a:pt x="14637" y="10033"/>
                </a:cubicBezTo>
              </a:path>
              <a:path w="5303" h="1589">
                <a:moveTo>
                  <a:pt x="14605" y="10224"/>
                </a:moveTo>
                <a:cubicBezTo>
                  <a:pt x="14605" y="10284"/>
                  <a:pt x="14579" y="10324"/>
                  <a:pt x="14573" y="10382"/>
                </a:cubicBezTo>
                <a:cubicBezTo>
                  <a:pt x="14566" y="10456"/>
                  <a:pt x="14595" y="10471"/>
                  <a:pt x="14668" y="10478"/>
                </a:cubicBezTo>
                <a:cubicBezTo>
                  <a:pt x="14707" y="10482"/>
                  <a:pt x="14796" y="10406"/>
                  <a:pt x="14827" y="10382"/>
                </a:cubicBezTo>
                <a:cubicBezTo>
                  <a:pt x="14857" y="10360"/>
                  <a:pt x="14906" y="10260"/>
                  <a:pt x="14891" y="10224"/>
                </a:cubicBezTo>
                <a:cubicBezTo>
                  <a:pt x="14868" y="10168"/>
                  <a:pt x="14784" y="10133"/>
                  <a:pt x="14732" y="10128"/>
                </a:cubicBezTo>
                <a:cubicBezTo>
                  <a:pt x="14700" y="10128"/>
                  <a:pt x="14689" y="10128"/>
                  <a:pt x="14700" y="10160"/>
                </a:cubicBezTo>
              </a:path>
              <a:path w="5303" h="1589">
                <a:moveTo>
                  <a:pt x="15208" y="10128"/>
                </a:moveTo>
                <a:cubicBezTo>
                  <a:pt x="15219" y="10185"/>
                  <a:pt x="15240" y="10227"/>
                  <a:pt x="15240" y="10287"/>
                </a:cubicBezTo>
                <a:cubicBezTo>
                  <a:pt x="15240" y="10313"/>
                  <a:pt x="15240" y="10520"/>
                  <a:pt x="15240" y="10446"/>
                </a:cubicBezTo>
                <a:cubicBezTo>
                  <a:pt x="15240" y="10364"/>
                  <a:pt x="15223" y="10287"/>
                  <a:pt x="15272" y="10224"/>
                </a:cubicBezTo>
                <a:cubicBezTo>
                  <a:pt x="15357" y="10241"/>
                  <a:pt x="15362" y="10262"/>
                  <a:pt x="15399" y="10319"/>
                </a:cubicBezTo>
                <a:cubicBezTo>
                  <a:pt x="15435" y="10373"/>
                  <a:pt x="15430" y="10412"/>
                  <a:pt x="15430" y="10478"/>
                </a:cubicBezTo>
                <a:cubicBezTo>
                  <a:pt x="15430" y="10380"/>
                  <a:pt x="15441" y="10315"/>
                  <a:pt x="15462" y="10224"/>
                </a:cubicBezTo>
                <a:cubicBezTo>
                  <a:pt x="15474" y="10174"/>
                  <a:pt x="15553" y="10167"/>
                  <a:pt x="15589" y="10224"/>
                </a:cubicBezTo>
                <a:cubicBezTo>
                  <a:pt x="15602" y="10245"/>
                  <a:pt x="15611" y="10353"/>
                  <a:pt x="15621" y="10382"/>
                </a:cubicBezTo>
                <a:cubicBezTo>
                  <a:pt x="15638" y="10433"/>
                  <a:pt x="15588" y="10470"/>
                  <a:pt x="15653" y="10478"/>
                </a:cubicBezTo>
                <a:cubicBezTo>
                  <a:pt x="15663" y="10478"/>
                  <a:pt x="15674" y="10478"/>
                  <a:pt x="15684" y="10478"/>
                </a:cubicBezTo>
              </a:path>
              <a:path w="5303" h="1589">
                <a:moveTo>
                  <a:pt x="15812" y="10192"/>
                </a:moveTo>
                <a:cubicBezTo>
                  <a:pt x="15748" y="10208"/>
                  <a:pt x="15734" y="10260"/>
                  <a:pt x="15716" y="10319"/>
                </a:cubicBezTo>
                <a:cubicBezTo>
                  <a:pt x="15708" y="10344"/>
                  <a:pt x="15756" y="10434"/>
                  <a:pt x="15780" y="10446"/>
                </a:cubicBezTo>
                <a:cubicBezTo>
                  <a:pt x="15814" y="10463"/>
                  <a:pt x="15886" y="10428"/>
                  <a:pt x="15907" y="10414"/>
                </a:cubicBezTo>
                <a:cubicBezTo>
                  <a:pt x="15946" y="10388"/>
                  <a:pt x="15958" y="10296"/>
                  <a:pt x="15938" y="10255"/>
                </a:cubicBezTo>
                <a:cubicBezTo>
                  <a:pt x="15912" y="10203"/>
                  <a:pt x="15848" y="10184"/>
                  <a:pt x="15812" y="10160"/>
                </a:cubicBezTo>
                <a:cubicBezTo>
                  <a:pt x="15801" y="10149"/>
                  <a:pt x="15791" y="10139"/>
                  <a:pt x="15780" y="10128"/>
                </a:cubicBezTo>
              </a:path>
              <a:path w="5303" h="1589">
                <a:moveTo>
                  <a:pt x="16034" y="10001"/>
                </a:moveTo>
                <a:cubicBezTo>
                  <a:pt x="16034" y="10119"/>
                  <a:pt x="16038" y="10209"/>
                  <a:pt x="16066" y="10319"/>
                </a:cubicBezTo>
                <a:cubicBezTo>
                  <a:pt x="16079" y="10370"/>
                  <a:pt x="16102" y="10410"/>
                  <a:pt x="16161" y="10414"/>
                </a:cubicBezTo>
                <a:cubicBezTo>
                  <a:pt x="16248" y="10420"/>
                  <a:pt x="16261" y="10409"/>
                  <a:pt x="16320" y="10350"/>
                </a:cubicBezTo>
                <a:cubicBezTo>
                  <a:pt x="16345" y="10325"/>
                  <a:pt x="16372" y="10263"/>
                  <a:pt x="16351" y="10224"/>
                </a:cubicBezTo>
                <a:cubicBezTo>
                  <a:pt x="16341" y="10213"/>
                  <a:pt x="16330" y="10203"/>
                  <a:pt x="16320" y="10192"/>
                </a:cubicBezTo>
                <a:cubicBezTo>
                  <a:pt x="16287" y="10200"/>
                  <a:pt x="16210" y="10219"/>
                  <a:pt x="16192" y="10255"/>
                </a:cubicBezTo>
                <a:cubicBezTo>
                  <a:pt x="16175" y="10289"/>
                  <a:pt x="16210" y="10361"/>
                  <a:pt x="16224" y="10382"/>
                </a:cubicBezTo>
                <a:cubicBezTo>
                  <a:pt x="16251" y="10423"/>
                  <a:pt x="16337" y="10443"/>
                  <a:pt x="16383" y="10446"/>
                </a:cubicBezTo>
                <a:cubicBezTo>
                  <a:pt x="16440" y="10446"/>
                  <a:pt x="16457" y="10450"/>
                  <a:pt x="16478" y="10414"/>
                </a:cubicBezTo>
              </a:path>
              <a:path w="5303" h="1589">
                <a:moveTo>
                  <a:pt x="16637" y="10160"/>
                </a:moveTo>
                <a:cubicBezTo>
                  <a:pt x="16589" y="10160"/>
                  <a:pt x="16504" y="10140"/>
                  <a:pt x="16478" y="10192"/>
                </a:cubicBezTo>
                <a:cubicBezTo>
                  <a:pt x="16430" y="10289"/>
                  <a:pt x="16520" y="10283"/>
                  <a:pt x="16574" y="10319"/>
                </a:cubicBezTo>
                <a:cubicBezTo>
                  <a:pt x="16626" y="10353"/>
                  <a:pt x="16667" y="10372"/>
                  <a:pt x="16700" y="10414"/>
                </a:cubicBezTo>
                <a:cubicBezTo>
                  <a:pt x="16711" y="10425"/>
                  <a:pt x="16721" y="10435"/>
                  <a:pt x="16732" y="10446"/>
                </a:cubicBezTo>
                <a:cubicBezTo>
                  <a:pt x="16643" y="10468"/>
                  <a:pt x="16668" y="10509"/>
                  <a:pt x="16605" y="10414"/>
                </a:cubicBezTo>
              </a:path>
              <a:path w="5303" h="1589">
                <a:moveTo>
                  <a:pt x="17050" y="9970"/>
                </a:moveTo>
                <a:cubicBezTo>
                  <a:pt x="17103" y="9930"/>
                  <a:pt x="17173" y="9912"/>
                  <a:pt x="17240" y="9906"/>
                </a:cubicBezTo>
                <a:cubicBezTo>
                  <a:pt x="17298" y="9901"/>
                  <a:pt x="17368" y="9914"/>
                  <a:pt x="17399" y="9970"/>
                </a:cubicBezTo>
                <a:cubicBezTo>
                  <a:pt x="17428" y="10021"/>
                  <a:pt x="17374" y="10093"/>
                  <a:pt x="17367" y="10128"/>
                </a:cubicBezTo>
                <a:cubicBezTo>
                  <a:pt x="17354" y="10191"/>
                  <a:pt x="17371" y="10262"/>
                  <a:pt x="17336" y="10319"/>
                </a:cubicBezTo>
                <a:cubicBezTo>
                  <a:pt x="17296" y="10385"/>
                  <a:pt x="17289" y="10416"/>
                  <a:pt x="17336" y="10478"/>
                </a:cubicBezTo>
              </a:path>
              <a:path w="5303" h="1589">
                <a:moveTo>
                  <a:pt x="17082" y="10224"/>
                </a:moveTo>
                <a:cubicBezTo>
                  <a:pt x="17146" y="10262"/>
                  <a:pt x="17194" y="10255"/>
                  <a:pt x="17272" y="10255"/>
                </a:cubicBezTo>
                <a:cubicBezTo>
                  <a:pt x="17388" y="10255"/>
                  <a:pt x="17482" y="10250"/>
                  <a:pt x="17590" y="10224"/>
                </a:cubicBezTo>
                <a:cubicBezTo>
                  <a:pt x="17621" y="10224"/>
                  <a:pt x="17632" y="10224"/>
                  <a:pt x="17653" y="10224"/>
                </a:cubicBezTo>
              </a:path>
              <a:path w="5303" h="1589">
                <a:moveTo>
                  <a:pt x="17208" y="10509"/>
                </a:moveTo>
                <a:cubicBezTo>
                  <a:pt x="17275" y="10493"/>
                  <a:pt x="17319" y="10478"/>
                  <a:pt x="17399" y="10478"/>
                </a:cubicBezTo>
                <a:cubicBezTo>
                  <a:pt x="17484" y="10478"/>
                  <a:pt x="17568" y="10478"/>
                  <a:pt x="17653" y="10478"/>
                </a:cubicBezTo>
              </a:path>
              <a:path w="5303" h="1589">
                <a:moveTo>
                  <a:pt x="17844" y="10192"/>
                </a:moveTo>
                <a:cubicBezTo>
                  <a:pt x="17844" y="10245"/>
                  <a:pt x="17844" y="10472"/>
                  <a:pt x="17844" y="10414"/>
                </a:cubicBezTo>
                <a:cubicBezTo>
                  <a:pt x="17844" y="10352"/>
                  <a:pt x="17838" y="10286"/>
                  <a:pt x="17907" y="10255"/>
                </a:cubicBezTo>
                <a:cubicBezTo>
                  <a:pt x="17939" y="10255"/>
                  <a:pt x="17949" y="10255"/>
                  <a:pt x="17970" y="10255"/>
                </a:cubicBezTo>
                <a:cubicBezTo>
                  <a:pt x="17970" y="10316"/>
                  <a:pt x="17996" y="10356"/>
                  <a:pt x="18002" y="10414"/>
                </a:cubicBezTo>
                <a:cubicBezTo>
                  <a:pt x="18002" y="10425"/>
                  <a:pt x="18002" y="10435"/>
                  <a:pt x="18002" y="10446"/>
                </a:cubicBezTo>
              </a:path>
              <a:path w="5303" h="1589">
                <a:moveTo>
                  <a:pt x="14065" y="10732"/>
                </a:moveTo>
                <a:cubicBezTo>
                  <a:pt x="14065" y="10867"/>
                  <a:pt x="14076" y="10985"/>
                  <a:pt x="14097" y="11112"/>
                </a:cubicBezTo>
                <a:cubicBezTo>
                  <a:pt x="14109" y="11183"/>
                  <a:pt x="14100" y="11271"/>
                  <a:pt x="14129" y="11335"/>
                </a:cubicBezTo>
                <a:cubicBezTo>
                  <a:pt x="14150" y="11380"/>
                  <a:pt x="14248" y="11446"/>
                  <a:pt x="14288" y="11462"/>
                </a:cubicBezTo>
                <a:cubicBezTo>
                  <a:pt x="14330" y="11479"/>
                  <a:pt x="14426" y="11516"/>
                  <a:pt x="14478" y="11494"/>
                </a:cubicBezTo>
                <a:cubicBezTo>
                  <a:pt x="14507" y="11465"/>
                  <a:pt x="14513" y="11454"/>
                  <a:pt x="14542" y="11462"/>
                </a:cubicBezTo>
              </a:path>
              <a:path w="5303" h="1589">
                <a:moveTo>
                  <a:pt x="14192" y="10795"/>
                </a:moveTo>
                <a:cubicBezTo>
                  <a:pt x="14107" y="10880"/>
                  <a:pt x="14023" y="10965"/>
                  <a:pt x="13938" y="11049"/>
                </a:cubicBezTo>
                <a:cubicBezTo>
                  <a:pt x="13938" y="10972"/>
                  <a:pt x="13974" y="10984"/>
                  <a:pt x="14002" y="10922"/>
                </a:cubicBezTo>
                <a:cubicBezTo>
                  <a:pt x="14029" y="10861"/>
                  <a:pt x="14046" y="10861"/>
                  <a:pt x="14097" y="10827"/>
                </a:cubicBezTo>
                <a:cubicBezTo>
                  <a:pt x="14108" y="10816"/>
                  <a:pt x="14118" y="10806"/>
                  <a:pt x="14129" y="10795"/>
                </a:cubicBezTo>
                <a:cubicBezTo>
                  <a:pt x="14182" y="10849"/>
                  <a:pt x="14205" y="10830"/>
                  <a:pt x="14256" y="10858"/>
                </a:cubicBezTo>
                <a:cubicBezTo>
                  <a:pt x="14297" y="10881"/>
                  <a:pt x="14347" y="10870"/>
                  <a:pt x="14383" y="10890"/>
                </a:cubicBezTo>
                <a:cubicBezTo>
                  <a:pt x="14436" y="10920"/>
                  <a:pt x="14445" y="10922"/>
                  <a:pt x="14510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9"/>
          <p:cNvSpPr/>
          <p:nvPr/>
        </p:nvSpPr>
        <p:spPr>
          <a:xfrm>
            <a:off x="7051680" y="3303720"/>
            <a:ext cx="160200" cy="79200"/>
          </a:xfrm>
          <a:custGeom>
            <a:avLst/>
            <a:gdLst/>
            <a:ahLst/>
            <a:rect l="l" t="t" r="r" b="b"/>
            <a:pathLst>
              <a:path w="445" h="223">
                <a:moveTo>
                  <a:pt x="19590" y="9176"/>
                </a:moveTo>
                <a:cubicBezTo>
                  <a:pt x="19703" y="9176"/>
                  <a:pt x="19884" y="9143"/>
                  <a:pt x="19971" y="9208"/>
                </a:cubicBezTo>
              </a:path>
              <a:path w="445" h="223">
                <a:moveTo>
                  <a:pt x="19780" y="9366"/>
                </a:moveTo>
                <a:cubicBezTo>
                  <a:pt x="19815" y="9392"/>
                  <a:pt x="19904" y="9407"/>
                  <a:pt x="19939" y="9398"/>
                </a:cubicBezTo>
                <a:cubicBezTo>
                  <a:pt x="19984" y="9387"/>
                  <a:pt x="19978" y="9366"/>
                  <a:pt x="20034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Ink 10"/>
          <p:cNvSpPr/>
          <p:nvPr/>
        </p:nvSpPr>
        <p:spPr>
          <a:xfrm>
            <a:off x="7475400" y="2389320"/>
            <a:ext cx="1246320" cy="1406520"/>
          </a:xfrm>
          <a:custGeom>
            <a:avLst/>
            <a:gdLst/>
            <a:ahLst/>
            <a:rect l="l" t="t" r="r" b="b"/>
            <a:pathLst>
              <a:path w="3462" h="3906">
                <a:moveTo>
                  <a:pt x="20764" y="9144"/>
                </a:moveTo>
                <a:cubicBezTo>
                  <a:pt x="20814" y="9157"/>
                  <a:pt x="20835" y="9176"/>
                  <a:pt x="20892" y="9176"/>
                </a:cubicBezTo>
                <a:cubicBezTo>
                  <a:pt x="20942" y="9176"/>
                  <a:pt x="20961" y="9144"/>
                  <a:pt x="21018" y="9144"/>
                </a:cubicBezTo>
                <a:cubicBezTo>
                  <a:pt x="21050" y="9144"/>
                  <a:pt x="21061" y="9144"/>
                  <a:pt x="21082" y="9144"/>
                </a:cubicBezTo>
                <a:cubicBezTo>
                  <a:pt x="21033" y="9181"/>
                  <a:pt x="21017" y="9176"/>
                  <a:pt x="20955" y="9176"/>
                </a:cubicBezTo>
                <a:cubicBezTo>
                  <a:pt x="20923" y="9176"/>
                  <a:pt x="20892" y="9176"/>
                  <a:pt x="20860" y="9176"/>
                </a:cubicBezTo>
                <a:cubicBezTo>
                  <a:pt x="20914" y="9135"/>
                  <a:pt x="20946" y="9144"/>
                  <a:pt x="21018" y="9144"/>
                </a:cubicBezTo>
                <a:cubicBezTo>
                  <a:pt x="21076" y="9144"/>
                  <a:pt x="21117" y="9176"/>
                  <a:pt x="21177" y="9176"/>
                </a:cubicBezTo>
              </a:path>
              <a:path w="3462" h="3906">
                <a:moveTo>
                  <a:pt x="21431" y="8890"/>
                </a:moveTo>
                <a:cubicBezTo>
                  <a:pt x="21505" y="8816"/>
                  <a:pt x="21504" y="8832"/>
                  <a:pt x="21590" y="8858"/>
                </a:cubicBezTo>
                <a:cubicBezTo>
                  <a:pt x="21666" y="8881"/>
                  <a:pt x="21654" y="8944"/>
                  <a:pt x="21654" y="9017"/>
                </a:cubicBezTo>
                <a:cubicBezTo>
                  <a:pt x="21654" y="9109"/>
                  <a:pt x="21632" y="9156"/>
                  <a:pt x="21590" y="9239"/>
                </a:cubicBezTo>
                <a:cubicBezTo>
                  <a:pt x="21543" y="9333"/>
                  <a:pt x="21505" y="9388"/>
                  <a:pt x="21431" y="9462"/>
                </a:cubicBezTo>
                <a:cubicBezTo>
                  <a:pt x="21391" y="9502"/>
                  <a:pt x="21379" y="9535"/>
                  <a:pt x="21368" y="9588"/>
                </a:cubicBezTo>
                <a:cubicBezTo>
                  <a:pt x="21445" y="9646"/>
                  <a:pt x="21436" y="9604"/>
                  <a:pt x="21526" y="9588"/>
                </a:cubicBezTo>
                <a:cubicBezTo>
                  <a:pt x="21593" y="9576"/>
                  <a:pt x="21650" y="9544"/>
                  <a:pt x="21717" y="9557"/>
                </a:cubicBezTo>
                <a:cubicBezTo>
                  <a:pt x="21789" y="9571"/>
                  <a:pt x="21736" y="9613"/>
                  <a:pt x="21812" y="9557"/>
                </a:cubicBezTo>
              </a:path>
              <a:path w="3462" h="3906">
                <a:moveTo>
                  <a:pt x="22034" y="8858"/>
                </a:moveTo>
                <a:cubicBezTo>
                  <a:pt x="21964" y="8876"/>
                  <a:pt x="21957" y="8931"/>
                  <a:pt x="21908" y="8985"/>
                </a:cubicBezTo>
                <a:cubicBezTo>
                  <a:pt x="21868" y="9030"/>
                  <a:pt x="21876" y="9053"/>
                  <a:pt x="21876" y="9112"/>
                </a:cubicBezTo>
                <a:cubicBezTo>
                  <a:pt x="21876" y="9144"/>
                  <a:pt x="21876" y="9155"/>
                  <a:pt x="21876" y="9176"/>
                </a:cubicBezTo>
                <a:cubicBezTo>
                  <a:pt x="21941" y="9176"/>
                  <a:pt x="21985" y="9188"/>
                  <a:pt x="22034" y="9144"/>
                </a:cubicBezTo>
                <a:cubicBezTo>
                  <a:pt x="22068" y="9114"/>
                  <a:pt x="22144" y="9058"/>
                  <a:pt x="22162" y="9017"/>
                </a:cubicBezTo>
                <a:cubicBezTo>
                  <a:pt x="22184" y="8968"/>
                  <a:pt x="22140" y="8882"/>
                  <a:pt x="22098" y="8858"/>
                </a:cubicBezTo>
                <a:cubicBezTo>
                  <a:pt x="22074" y="8845"/>
                  <a:pt x="21999" y="8858"/>
                  <a:pt x="21971" y="8858"/>
                </a:cubicBezTo>
              </a:path>
              <a:path w="3462" h="3906">
                <a:moveTo>
                  <a:pt x="22066" y="9080"/>
                </a:moveTo>
                <a:cubicBezTo>
                  <a:pt x="21989" y="9142"/>
                  <a:pt x="21993" y="9171"/>
                  <a:pt x="21939" y="9239"/>
                </a:cubicBezTo>
                <a:cubicBezTo>
                  <a:pt x="21895" y="9295"/>
                  <a:pt x="21876" y="9327"/>
                  <a:pt x="21876" y="9398"/>
                </a:cubicBezTo>
                <a:cubicBezTo>
                  <a:pt x="21876" y="9433"/>
                  <a:pt x="21932" y="9514"/>
                  <a:pt x="21971" y="9525"/>
                </a:cubicBezTo>
                <a:cubicBezTo>
                  <a:pt x="22043" y="9546"/>
                  <a:pt x="22107" y="9510"/>
                  <a:pt x="22162" y="9493"/>
                </a:cubicBezTo>
                <a:cubicBezTo>
                  <a:pt x="22224" y="9474"/>
                  <a:pt x="22225" y="9464"/>
                  <a:pt x="22225" y="9398"/>
                </a:cubicBezTo>
                <a:cubicBezTo>
                  <a:pt x="22225" y="9332"/>
                  <a:pt x="22232" y="9247"/>
                  <a:pt x="22162" y="9208"/>
                </a:cubicBezTo>
                <a:cubicBezTo>
                  <a:pt x="22117" y="9183"/>
                  <a:pt x="22084" y="9133"/>
                  <a:pt x="22034" y="9144"/>
                </a:cubicBezTo>
                <a:cubicBezTo>
                  <a:pt x="22024" y="9155"/>
                  <a:pt x="22013" y="9165"/>
                  <a:pt x="22003" y="9176"/>
                </a:cubicBezTo>
              </a:path>
              <a:path w="3462" h="3906">
                <a:moveTo>
                  <a:pt x="22447" y="8922"/>
                </a:moveTo>
                <a:cubicBezTo>
                  <a:pt x="22386" y="8938"/>
                  <a:pt x="22369" y="8982"/>
                  <a:pt x="22352" y="9049"/>
                </a:cubicBezTo>
                <a:cubicBezTo>
                  <a:pt x="22345" y="9075"/>
                  <a:pt x="22391" y="9163"/>
                  <a:pt x="22416" y="9176"/>
                </a:cubicBezTo>
                <a:cubicBezTo>
                  <a:pt x="22469" y="9203"/>
                  <a:pt x="22506" y="9208"/>
                  <a:pt x="22574" y="9208"/>
                </a:cubicBezTo>
                <a:cubicBezTo>
                  <a:pt x="22640" y="9208"/>
                  <a:pt x="22634" y="9153"/>
                  <a:pt x="22670" y="9112"/>
                </a:cubicBezTo>
                <a:cubicBezTo>
                  <a:pt x="22698" y="9083"/>
                  <a:pt x="22708" y="9077"/>
                  <a:pt x="22701" y="9049"/>
                </a:cubicBezTo>
              </a:path>
              <a:path w="3462" h="3906">
                <a:moveTo>
                  <a:pt x="22701" y="8826"/>
                </a:moveTo>
                <a:cubicBezTo>
                  <a:pt x="22701" y="8893"/>
                  <a:pt x="22681" y="8921"/>
                  <a:pt x="22670" y="8985"/>
                </a:cubicBezTo>
                <a:cubicBezTo>
                  <a:pt x="22636" y="9184"/>
                  <a:pt x="22670" y="9417"/>
                  <a:pt x="22670" y="9620"/>
                </a:cubicBezTo>
              </a:path>
              <a:path w="3462" h="3906">
                <a:moveTo>
                  <a:pt x="23273" y="8795"/>
                </a:moveTo>
                <a:cubicBezTo>
                  <a:pt x="23232" y="8849"/>
                  <a:pt x="23241" y="8882"/>
                  <a:pt x="23241" y="8954"/>
                </a:cubicBezTo>
                <a:cubicBezTo>
                  <a:pt x="23241" y="9035"/>
                  <a:pt x="23209" y="9086"/>
                  <a:pt x="23209" y="9176"/>
                </a:cubicBezTo>
                <a:cubicBezTo>
                  <a:pt x="23209" y="9292"/>
                  <a:pt x="23209" y="9409"/>
                  <a:pt x="23209" y="9525"/>
                </a:cubicBezTo>
              </a:path>
              <a:path w="3462" h="3906">
                <a:moveTo>
                  <a:pt x="23654" y="8890"/>
                </a:moveTo>
                <a:cubicBezTo>
                  <a:pt x="23604" y="8902"/>
                  <a:pt x="23540" y="8951"/>
                  <a:pt x="23495" y="8985"/>
                </a:cubicBezTo>
                <a:cubicBezTo>
                  <a:pt x="23421" y="9041"/>
                  <a:pt x="23390" y="9072"/>
                  <a:pt x="23336" y="9144"/>
                </a:cubicBezTo>
                <a:cubicBezTo>
                  <a:pt x="23310" y="9179"/>
                  <a:pt x="23243" y="9215"/>
                  <a:pt x="23273" y="9271"/>
                </a:cubicBezTo>
                <a:cubicBezTo>
                  <a:pt x="23289" y="9300"/>
                  <a:pt x="23398" y="9383"/>
                  <a:pt x="23432" y="9398"/>
                </a:cubicBezTo>
                <a:cubicBezTo>
                  <a:pt x="23474" y="9417"/>
                  <a:pt x="23537" y="9481"/>
                  <a:pt x="23558" y="9493"/>
                </a:cubicBezTo>
                <a:cubicBezTo>
                  <a:pt x="23569" y="9493"/>
                  <a:pt x="23579" y="9493"/>
                  <a:pt x="23590" y="9493"/>
                </a:cubicBezTo>
              </a:path>
              <a:path w="3462" h="3906">
                <a:moveTo>
                  <a:pt x="23812" y="8890"/>
                </a:moveTo>
                <a:cubicBezTo>
                  <a:pt x="23823" y="8947"/>
                  <a:pt x="23866" y="9002"/>
                  <a:pt x="23876" y="9049"/>
                </a:cubicBezTo>
                <a:cubicBezTo>
                  <a:pt x="23887" y="9100"/>
                  <a:pt x="23885" y="9193"/>
                  <a:pt x="23908" y="9239"/>
                </a:cubicBezTo>
                <a:cubicBezTo>
                  <a:pt x="23919" y="9250"/>
                  <a:pt x="23929" y="9260"/>
                  <a:pt x="23940" y="9271"/>
                </a:cubicBezTo>
                <a:cubicBezTo>
                  <a:pt x="23912" y="9308"/>
                  <a:pt x="23894" y="9376"/>
                  <a:pt x="23844" y="9398"/>
                </a:cubicBezTo>
                <a:cubicBezTo>
                  <a:pt x="23791" y="9421"/>
                  <a:pt x="23735" y="9330"/>
                  <a:pt x="23717" y="9303"/>
                </a:cubicBezTo>
              </a:path>
              <a:path w="3462" h="3906">
                <a:moveTo>
                  <a:pt x="23558" y="8858"/>
                </a:moveTo>
                <a:cubicBezTo>
                  <a:pt x="23639" y="8888"/>
                  <a:pt x="23693" y="8890"/>
                  <a:pt x="23781" y="8890"/>
                </a:cubicBezTo>
                <a:cubicBezTo>
                  <a:pt x="23834" y="8890"/>
                  <a:pt x="23887" y="8890"/>
                  <a:pt x="23940" y="8890"/>
                </a:cubicBezTo>
              </a:path>
              <a:path w="3462" h="3906">
                <a:moveTo>
                  <a:pt x="22987" y="9811"/>
                </a:moveTo>
                <a:cubicBezTo>
                  <a:pt x="23121" y="9811"/>
                  <a:pt x="23238" y="9791"/>
                  <a:pt x="23368" y="9779"/>
                </a:cubicBezTo>
                <a:cubicBezTo>
                  <a:pt x="23536" y="9764"/>
                  <a:pt x="23708" y="9752"/>
                  <a:pt x="23876" y="9747"/>
                </a:cubicBezTo>
                <a:cubicBezTo>
                  <a:pt x="23946" y="9745"/>
                  <a:pt x="24178" y="9708"/>
                  <a:pt x="24130" y="9779"/>
                </a:cubicBezTo>
              </a:path>
              <a:path w="3462" h="3906">
                <a:moveTo>
                  <a:pt x="23146" y="10128"/>
                </a:moveTo>
                <a:cubicBezTo>
                  <a:pt x="23182" y="10140"/>
                  <a:pt x="23196" y="10201"/>
                  <a:pt x="23209" y="10255"/>
                </a:cubicBezTo>
                <a:cubicBezTo>
                  <a:pt x="23227" y="10330"/>
                  <a:pt x="23209" y="10432"/>
                  <a:pt x="23209" y="10509"/>
                </a:cubicBezTo>
                <a:cubicBezTo>
                  <a:pt x="23209" y="10411"/>
                  <a:pt x="23218" y="10346"/>
                  <a:pt x="23241" y="10255"/>
                </a:cubicBezTo>
                <a:cubicBezTo>
                  <a:pt x="23256" y="10194"/>
                  <a:pt x="23284" y="10181"/>
                  <a:pt x="23336" y="10160"/>
                </a:cubicBezTo>
                <a:cubicBezTo>
                  <a:pt x="23373" y="10221"/>
                  <a:pt x="23394" y="10276"/>
                  <a:pt x="23400" y="10350"/>
                </a:cubicBezTo>
                <a:cubicBezTo>
                  <a:pt x="23403" y="10390"/>
                  <a:pt x="23377" y="10409"/>
                  <a:pt x="23368" y="10446"/>
                </a:cubicBezTo>
                <a:cubicBezTo>
                  <a:pt x="23368" y="10367"/>
                  <a:pt x="23409" y="10329"/>
                  <a:pt x="23432" y="10255"/>
                </a:cubicBezTo>
                <a:cubicBezTo>
                  <a:pt x="23446" y="10210"/>
                  <a:pt x="23458" y="10197"/>
                  <a:pt x="23495" y="10160"/>
                </a:cubicBezTo>
                <a:cubicBezTo>
                  <a:pt x="23561" y="10182"/>
                  <a:pt x="23581" y="10203"/>
                  <a:pt x="23590" y="10287"/>
                </a:cubicBezTo>
                <a:cubicBezTo>
                  <a:pt x="23596" y="10338"/>
                  <a:pt x="23529" y="10394"/>
                  <a:pt x="23558" y="10446"/>
                </a:cubicBezTo>
                <a:cubicBezTo>
                  <a:pt x="23569" y="10457"/>
                  <a:pt x="23579" y="10467"/>
                  <a:pt x="23590" y="10478"/>
                </a:cubicBezTo>
              </a:path>
              <a:path w="3462" h="3906">
                <a:moveTo>
                  <a:pt x="23717" y="10160"/>
                </a:moveTo>
                <a:cubicBezTo>
                  <a:pt x="23688" y="10200"/>
                  <a:pt x="23659" y="10238"/>
                  <a:pt x="23654" y="10287"/>
                </a:cubicBezTo>
                <a:cubicBezTo>
                  <a:pt x="23648" y="10337"/>
                  <a:pt x="23666" y="10391"/>
                  <a:pt x="23717" y="10414"/>
                </a:cubicBezTo>
                <a:cubicBezTo>
                  <a:pt x="23755" y="10431"/>
                  <a:pt x="23853" y="10409"/>
                  <a:pt x="23876" y="10382"/>
                </a:cubicBezTo>
                <a:cubicBezTo>
                  <a:pt x="23904" y="10349"/>
                  <a:pt x="23862" y="10275"/>
                  <a:pt x="23844" y="10255"/>
                </a:cubicBezTo>
                <a:cubicBezTo>
                  <a:pt x="23805" y="10212"/>
                  <a:pt x="23794" y="10174"/>
                  <a:pt x="23749" y="10128"/>
                </a:cubicBezTo>
              </a:path>
              <a:path w="3462" h="3906">
                <a:moveTo>
                  <a:pt x="23971" y="10001"/>
                </a:moveTo>
                <a:cubicBezTo>
                  <a:pt x="23971" y="10080"/>
                  <a:pt x="23958" y="10118"/>
                  <a:pt x="23940" y="10192"/>
                </a:cubicBezTo>
                <a:cubicBezTo>
                  <a:pt x="23921" y="10270"/>
                  <a:pt x="23953" y="10300"/>
                  <a:pt x="24003" y="10350"/>
                </a:cubicBezTo>
                <a:cubicBezTo>
                  <a:pt x="24052" y="10399"/>
                  <a:pt x="24062" y="10414"/>
                  <a:pt x="24130" y="10414"/>
                </a:cubicBezTo>
                <a:cubicBezTo>
                  <a:pt x="24158" y="10414"/>
                  <a:pt x="24231" y="10314"/>
                  <a:pt x="24225" y="10287"/>
                </a:cubicBezTo>
                <a:cubicBezTo>
                  <a:pt x="24194" y="10255"/>
                  <a:pt x="24184" y="10244"/>
                  <a:pt x="24162" y="10224"/>
                </a:cubicBezTo>
                <a:cubicBezTo>
                  <a:pt x="24072" y="10268"/>
                  <a:pt x="24084" y="10299"/>
                  <a:pt x="24098" y="10382"/>
                </a:cubicBezTo>
                <a:cubicBezTo>
                  <a:pt x="24107" y="10434"/>
                  <a:pt x="24099" y="10482"/>
                  <a:pt x="24162" y="10509"/>
                </a:cubicBezTo>
                <a:cubicBezTo>
                  <a:pt x="24198" y="10509"/>
                  <a:pt x="24212" y="10512"/>
                  <a:pt x="24225" y="10541"/>
                </a:cubicBezTo>
              </a:path>
              <a:path w="3462" h="3906">
                <a:moveTo>
                  <a:pt x="23463" y="6636"/>
                </a:moveTo>
                <a:cubicBezTo>
                  <a:pt x="23471" y="6706"/>
                  <a:pt x="23486" y="6759"/>
                  <a:pt x="23495" y="6826"/>
                </a:cubicBezTo>
                <a:cubicBezTo>
                  <a:pt x="23509" y="6931"/>
                  <a:pt x="23504" y="7040"/>
                  <a:pt x="23527" y="7144"/>
                </a:cubicBezTo>
                <a:cubicBezTo>
                  <a:pt x="23560" y="7294"/>
                  <a:pt x="23534" y="7438"/>
                  <a:pt x="23558" y="7588"/>
                </a:cubicBezTo>
                <a:cubicBezTo>
                  <a:pt x="23584" y="7747"/>
                  <a:pt x="23617" y="7900"/>
                  <a:pt x="23622" y="8064"/>
                </a:cubicBezTo>
                <a:cubicBezTo>
                  <a:pt x="23626" y="8220"/>
                  <a:pt x="23633" y="8359"/>
                  <a:pt x="23654" y="8509"/>
                </a:cubicBezTo>
                <a:cubicBezTo>
                  <a:pt x="23661" y="8562"/>
                  <a:pt x="23654" y="8551"/>
                  <a:pt x="23654" y="8604"/>
                </a:cubicBezTo>
              </a:path>
              <a:path w="3462" h="3906">
                <a:moveTo>
                  <a:pt x="23368" y="8255"/>
                </a:moveTo>
                <a:cubicBezTo>
                  <a:pt x="23382" y="8336"/>
                  <a:pt x="23399" y="8318"/>
                  <a:pt x="23463" y="8382"/>
                </a:cubicBezTo>
                <a:cubicBezTo>
                  <a:pt x="23535" y="8455"/>
                  <a:pt x="23611" y="8521"/>
                  <a:pt x="23686" y="8572"/>
                </a:cubicBezTo>
                <a:cubicBezTo>
                  <a:pt x="23735" y="8605"/>
                  <a:pt x="23779" y="8617"/>
                  <a:pt x="23812" y="8541"/>
                </a:cubicBezTo>
                <a:cubicBezTo>
                  <a:pt x="23834" y="8492"/>
                  <a:pt x="23862" y="8405"/>
                  <a:pt x="23876" y="8350"/>
                </a:cubicBezTo>
                <a:cubicBezTo>
                  <a:pt x="23894" y="8280"/>
                  <a:pt x="23899" y="8200"/>
                  <a:pt x="2390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Ink 11"/>
          <p:cNvSpPr/>
          <p:nvPr/>
        </p:nvSpPr>
        <p:spPr>
          <a:xfrm>
            <a:off x="6354720" y="3086280"/>
            <a:ext cx="23760" cy="10800"/>
          </a:xfrm>
          <a:custGeom>
            <a:avLst/>
            <a:gdLst/>
            <a:ahLst/>
            <a:rect l="l" t="t" r="r" b="b"/>
            <a:pathLst>
              <a:path w="64" h="33">
                <a:moveTo>
                  <a:pt x="17653" y="8604"/>
                </a:moveTo>
                <a:cubicBezTo>
                  <a:pt x="17653" y="8537"/>
                  <a:pt x="17687" y="8582"/>
                  <a:pt x="17716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nk 12"/>
          <p:cNvSpPr/>
          <p:nvPr/>
        </p:nvSpPr>
        <p:spPr>
          <a:xfrm>
            <a:off x="4172040" y="3086280"/>
            <a:ext cx="1074600" cy="217440"/>
          </a:xfrm>
          <a:custGeom>
            <a:avLst/>
            <a:gdLst/>
            <a:ahLst/>
            <a:rect l="l" t="t" r="r" b="b"/>
            <a:pathLst>
              <a:path w="2985" h="605">
                <a:moveTo>
                  <a:pt x="11589" y="8826"/>
                </a:moveTo>
                <a:cubicBezTo>
                  <a:pt x="11665" y="8826"/>
                  <a:pt x="11661" y="8817"/>
                  <a:pt x="11716" y="8858"/>
                </a:cubicBezTo>
                <a:cubicBezTo>
                  <a:pt x="11772" y="8816"/>
                  <a:pt x="11800" y="8826"/>
                  <a:pt x="11874" y="8826"/>
                </a:cubicBezTo>
                <a:cubicBezTo>
                  <a:pt x="11906" y="8826"/>
                  <a:pt x="11938" y="8826"/>
                  <a:pt x="11970" y="8826"/>
                </a:cubicBezTo>
              </a:path>
              <a:path w="2985" h="605">
                <a:moveTo>
                  <a:pt x="12510" y="8604"/>
                </a:moveTo>
                <a:cubicBezTo>
                  <a:pt x="12492" y="8550"/>
                  <a:pt x="12448" y="8572"/>
                  <a:pt x="12382" y="8572"/>
                </a:cubicBezTo>
                <a:cubicBezTo>
                  <a:pt x="12337" y="8572"/>
                  <a:pt x="12251" y="8571"/>
                  <a:pt x="12224" y="8604"/>
                </a:cubicBezTo>
                <a:cubicBezTo>
                  <a:pt x="12202" y="8631"/>
                  <a:pt x="12170" y="8732"/>
                  <a:pt x="12160" y="8763"/>
                </a:cubicBezTo>
                <a:cubicBezTo>
                  <a:pt x="12160" y="8774"/>
                  <a:pt x="12160" y="8784"/>
                  <a:pt x="12160" y="8795"/>
                </a:cubicBezTo>
                <a:cubicBezTo>
                  <a:pt x="12229" y="8845"/>
                  <a:pt x="12237" y="8803"/>
                  <a:pt x="12319" y="8795"/>
                </a:cubicBezTo>
                <a:cubicBezTo>
                  <a:pt x="12358" y="8791"/>
                  <a:pt x="12525" y="8772"/>
                  <a:pt x="12541" y="8826"/>
                </a:cubicBezTo>
                <a:cubicBezTo>
                  <a:pt x="12559" y="8887"/>
                  <a:pt x="12573" y="8936"/>
                  <a:pt x="12541" y="8985"/>
                </a:cubicBezTo>
                <a:cubicBezTo>
                  <a:pt x="12519" y="9018"/>
                  <a:pt x="12420" y="9068"/>
                  <a:pt x="12382" y="9080"/>
                </a:cubicBezTo>
                <a:cubicBezTo>
                  <a:pt x="12302" y="9106"/>
                  <a:pt x="12319" y="9042"/>
                  <a:pt x="12319" y="8985"/>
                </a:cubicBezTo>
              </a:path>
              <a:path w="2985" h="605">
                <a:moveTo>
                  <a:pt x="12636" y="8700"/>
                </a:moveTo>
                <a:cubicBezTo>
                  <a:pt x="12664" y="8657"/>
                  <a:pt x="12700" y="8642"/>
                  <a:pt x="12764" y="8636"/>
                </a:cubicBezTo>
                <a:cubicBezTo>
                  <a:pt x="12836" y="8629"/>
                  <a:pt x="12866" y="8658"/>
                  <a:pt x="12890" y="8731"/>
                </a:cubicBezTo>
                <a:cubicBezTo>
                  <a:pt x="12909" y="8788"/>
                  <a:pt x="12884" y="8807"/>
                  <a:pt x="12859" y="8826"/>
                </a:cubicBezTo>
                <a:cubicBezTo>
                  <a:pt x="12805" y="8867"/>
                  <a:pt x="12750" y="8885"/>
                  <a:pt x="12700" y="8922"/>
                </a:cubicBezTo>
                <a:cubicBezTo>
                  <a:pt x="12762" y="8860"/>
                  <a:pt x="12769" y="8858"/>
                  <a:pt x="12859" y="8858"/>
                </a:cubicBezTo>
                <a:cubicBezTo>
                  <a:pt x="12915" y="8858"/>
                  <a:pt x="12979" y="8887"/>
                  <a:pt x="13018" y="8922"/>
                </a:cubicBezTo>
                <a:cubicBezTo>
                  <a:pt x="13066" y="8966"/>
                  <a:pt x="13058" y="9005"/>
                  <a:pt x="13018" y="9049"/>
                </a:cubicBezTo>
                <a:cubicBezTo>
                  <a:pt x="12985" y="9086"/>
                  <a:pt x="12933" y="9129"/>
                  <a:pt x="12890" y="9144"/>
                </a:cubicBezTo>
                <a:cubicBezTo>
                  <a:pt x="12830" y="9164"/>
                  <a:pt x="12834" y="9085"/>
                  <a:pt x="12827" y="9049"/>
                </a:cubicBezTo>
              </a:path>
              <a:path w="2985" h="605">
                <a:moveTo>
                  <a:pt x="13144" y="8731"/>
                </a:moveTo>
                <a:cubicBezTo>
                  <a:pt x="13181" y="8780"/>
                  <a:pt x="13176" y="8796"/>
                  <a:pt x="13176" y="8858"/>
                </a:cubicBezTo>
                <a:cubicBezTo>
                  <a:pt x="13176" y="8942"/>
                  <a:pt x="13205" y="8914"/>
                  <a:pt x="13272" y="8954"/>
                </a:cubicBezTo>
                <a:cubicBezTo>
                  <a:pt x="13322" y="8916"/>
                  <a:pt x="13396" y="8944"/>
                  <a:pt x="13430" y="8890"/>
                </a:cubicBezTo>
                <a:cubicBezTo>
                  <a:pt x="13445" y="8866"/>
                  <a:pt x="13455" y="8824"/>
                  <a:pt x="13462" y="8795"/>
                </a:cubicBezTo>
              </a:path>
              <a:path w="2985" h="605">
                <a:moveTo>
                  <a:pt x="13462" y="8668"/>
                </a:moveTo>
                <a:cubicBezTo>
                  <a:pt x="13427" y="8748"/>
                  <a:pt x="13405" y="8835"/>
                  <a:pt x="13398" y="8922"/>
                </a:cubicBezTo>
                <a:cubicBezTo>
                  <a:pt x="13394" y="8979"/>
                  <a:pt x="13369" y="9146"/>
                  <a:pt x="13430" y="9176"/>
                </a:cubicBezTo>
                <a:cubicBezTo>
                  <a:pt x="13441" y="9176"/>
                  <a:pt x="13451" y="9176"/>
                  <a:pt x="13462" y="9176"/>
                </a:cubicBezTo>
              </a:path>
              <a:path w="2985" h="605">
                <a:moveTo>
                  <a:pt x="13652" y="8731"/>
                </a:moveTo>
                <a:cubicBezTo>
                  <a:pt x="13632" y="8759"/>
                  <a:pt x="13566" y="8827"/>
                  <a:pt x="13557" y="8858"/>
                </a:cubicBezTo>
                <a:cubicBezTo>
                  <a:pt x="13545" y="8902"/>
                  <a:pt x="13537" y="9055"/>
                  <a:pt x="13589" y="9080"/>
                </a:cubicBezTo>
                <a:cubicBezTo>
                  <a:pt x="13644" y="9107"/>
                  <a:pt x="13699" y="9112"/>
                  <a:pt x="13748" y="9080"/>
                </a:cubicBezTo>
                <a:cubicBezTo>
                  <a:pt x="13802" y="9045"/>
                  <a:pt x="13811" y="9013"/>
                  <a:pt x="13811" y="8954"/>
                </a:cubicBezTo>
                <a:cubicBezTo>
                  <a:pt x="13811" y="8892"/>
                  <a:pt x="13819" y="8826"/>
                  <a:pt x="13748" y="8795"/>
                </a:cubicBezTo>
                <a:cubicBezTo>
                  <a:pt x="13712" y="8795"/>
                  <a:pt x="13698" y="8792"/>
                  <a:pt x="13684" y="8763"/>
                </a:cubicBezTo>
              </a:path>
              <a:path w="2985" h="605">
                <a:moveTo>
                  <a:pt x="14192" y="8636"/>
                </a:moveTo>
                <a:cubicBezTo>
                  <a:pt x="14176" y="8745"/>
                  <a:pt x="14173" y="8719"/>
                  <a:pt x="14192" y="8826"/>
                </a:cubicBezTo>
                <a:cubicBezTo>
                  <a:pt x="14206" y="8905"/>
                  <a:pt x="14218" y="8975"/>
                  <a:pt x="14224" y="9049"/>
                </a:cubicBezTo>
                <a:cubicBezTo>
                  <a:pt x="14227" y="9085"/>
                  <a:pt x="14300" y="9153"/>
                  <a:pt x="14224" y="9176"/>
                </a:cubicBezTo>
                <a:cubicBezTo>
                  <a:pt x="14127" y="9206"/>
                  <a:pt x="14133" y="9143"/>
                  <a:pt x="14065" y="9112"/>
                </a:cubicBezTo>
                <a:cubicBezTo>
                  <a:pt x="14055" y="9112"/>
                  <a:pt x="14044" y="9112"/>
                  <a:pt x="14034" y="9112"/>
                </a:cubicBezTo>
              </a:path>
              <a:path w="2985" h="605">
                <a:moveTo>
                  <a:pt x="13938" y="8731"/>
                </a:moveTo>
                <a:cubicBezTo>
                  <a:pt x="13993" y="8691"/>
                  <a:pt x="14026" y="8672"/>
                  <a:pt x="14097" y="8668"/>
                </a:cubicBezTo>
                <a:cubicBezTo>
                  <a:pt x="14196" y="8662"/>
                  <a:pt x="14278" y="8636"/>
                  <a:pt x="14383" y="8636"/>
                </a:cubicBezTo>
                <a:cubicBezTo>
                  <a:pt x="14453" y="8636"/>
                  <a:pt x="14504" y="8613"/>
                  <a:pt x="14573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Ink 13"/>
          <p:cNvSpPr/>
          <p:nvPr/>
        </p:nvSpPr>
        <p:spPr>
          <a:xfrm>
            <a:off x="5372280" y="3006720"/>
            <a:ext cx="731520" cy="365040"/>
          </a:xfrm>
          <a:custGeom>
            <a:avLst/>
            <a:gdLst/>
            <a:ahLst/>
            <a:rect l="l" t="t" r="r" b="b"/>
            <a:pathLst>
              <a:path w="2033" h="1017">
                <a:moveTo>
                  <a:pt x="15176" y="8350"/>
                </a:moveTo>
                <a:cubicBezTo>
                  <a:pt x="15130" y="8366"/>
                  <a:pt x="15111" y="8450"/>
                  <a:pt x="15081" y="8509"/>
                </a:cubicBezTo>
                <a:cubicBezTo>
                  <a:pt x="15026" y="8619"/>
                  <a:pt x="15017" y="8717"/>
                  <a:pt x="14986" y="8826"/>
                </a:cubicBezTo>
                <a:cubicBezTo>
                  <a:pt x="14949" y="8955"/>
                  <a:pt x="14932" y="8950"/>
                  <a:pt x="14954" y="9080"/>
                </a:cubicBezTo>
                <a:cubicBezTo>
                  <a:pt x="14968" y="9161"/>
                  <a:pt x="15001" y="9188"/>
                  <a:pt x="15081" y="9208"/>
                </a:cubicBezTo>
              </a:path>
              <a:path w="2033" h="1017">
                <a:moveTo>
                  <a:pt x="15462" y="8795"/>
                </a:moveTo>
                <a:cubicBezTo>
                  <a:pt x="15451" y="8784"/>
                  <a:pt x="15441" y="8774"/>
                  <a:pt x="15430" y="8763"/>
                </a:cubicBezTo>
                <a:cubicBezTo>
                  <a:pt x="15378" y="8784"/>
                  <a:pt x="15308" y="8834"/>
                  <a:pt x="15272" y="8890"/>
                </a:cubicBezTo>
                <a:cubicBezTo>
                  <a:pt x="15247" y="8930"/>
                  <a:pt x="15213" y="9007"/>
                  <a:pt x="15208" y="9049"/>
                </a:cubicBezTo>
                <a:cubicBezTo>
                  <a:pt x="15199" y="9129"/>
                  <a:pt x="15284" y="9112"/>
                  <a:pt x="15335" y="9112"/>
                </a:cubicBezTo>
                <a:cubicBezTo>
                  <a:pt x="15381" y="9112"/>
                  <a:pt x="15418" y="9089"/>
                  <a:pt x="15462" y="9080"/>
                </a:cubicBezTo>
              </a:path>
              <a:path w="2033" h="1017">
                <a:moveTo>
                  <a:pt x="15589" y="8604"/>
                </a:moveTo>
                <a:cubicBezTo>
                  <a:pt x="15589" y="8729"/>
                  <a:pt x="15599" y="8847"/>
                  <a:pt x="15621" y="8954"/>
                </a:cubicBezTo>
                <a:cubicBezTo>
                  <a:pt x="15628" y="8989"/>
                  <a:pt x="15621" y="9042"/>
                  <a:pt x="15621" y="9080"/>
                </a:cubicBezTo>
                <a:cubicBezTo>
                  <a:pt x="15692" y="9057"/>
                  <a:pt x="15627" y="8991"/>
                  <a:pt x="15653" y="8922"/>
                </a:cubicBezTo>
                <a:cubicBezTo>
                  <a:pt x="15670" y="8877"/>
                  <a:pt x="15690" y="8837"/>
                  <a:pt x="15716" y="8795"/>
                </a:cubicBezTo>
                <a:cubicBezTo>
                  <a:pt x="15778" y="8810"/>
                  <a:pt x="15795" y="8854"/>
                  <a:pt x="15812" y="8922"/>
                </a:cubicBezTo>
                <a:cubicBezTo>
                  <a:pt x="15831" y="8997"/>
                  <a:pt x="15788" y="9027"/>
                  <a:pt x="15875" y="9049"/>
                </a:cubicBezTo>
              </a:path>
              <a:path w="2033" h="1017">
                <a:moveTo>
                  <a:pt x="16034" y="8795"/>
                </a:moveTo>
                <a:cubicBezTo>
                  <a:pt x="16034" y="8763"/>
                  <a:pt x="16034" y="8752"/>
                  <a:pt x="16034" y="8731"/>
                </a:cubicBezTo>
                <a:cubicBezTo>
                  <a:pt x="16001" y="8747"/>
                  <a:pt x="15948" y="8812"/>
                  <a:pt x="15938" y="8858"/>
                </a:cubicBezTo>
                <a:cubicBezTo>
                  <a:pt x="15924" y="8922"/>
                  <a:pt x="15935" y="8971"/>
                  <a:pt x="15970" y="9017"/>
                </a:cubicBezTo>
                <a:cubicBezTo>
                  <a:pt x="16026" y="9017"/>
                  <a:pt x="16061" y="9020"/>
                  <a:pt x="16066" y="8954"/>
                </a:cubicBezTo>
                <a:cubicBezTo>
                  <a:pt x="16071" y="8878"/>
                  <a:pt x="16071" y="8824"/>
                  <a:pt x="16034" y="8763"/>
                </a:cubicBezTo>
                <a:cubicBezTo>
                  <a:pt x="16034" y="8849"/>
                  <a:pt x="16043" y="8885"/>
                  <a:pt x="16066" y="8954"/>
                </a:cubicBezTo>
                <a:cubicBezTo>
                  <a:pt x="16078" y="8989"/>
                  <a:pt x="16088" y="9013"/>
                  <a:pt x="16097" y="9049"/>
                </a:cubicBezTo>
              </a:path>
              <a:path w="2033" h="1017">
                <a:moveTo>
                  <a:pt x="16161" y="8700"/>
                </a:moveTo>
                <a:cubicBezTo>
                  <a:pt x="16161" y="8806"/>
                  <a:pt x="16163" y="8895"/>
                  <a:pt x="16192" y="8985"/>
                </a:cubicBezTo>
                <a:cubicBezTo>
                  <a:pt x="16215" y="9056"/>
                  <a:pt x="16192" y="8913"/>
                  <a:pt x="16192" y="8890"/>
                </a:cubicBezTo>
                <a:cubicBezTo>
                  <a:pt x="16192" y="8819"/>
                  <a:pt x="16221" y="8757"/>
                  <a:pt x="16256" y="8700"/>
                </a:cubicBezTo>
                <a:cubicBezTo>
                  <a:pt x="16299" y="8714"/>
                  <a:pt x="16316" y="8764"/>
                  <a:pt x="16320" y="8826"/>
                </a:cubicBezTo>
                <a:cubicBezTo>
                  <a:pt x="16324" y="8888"/>
                  <a:pt x="16286" y="9048"/>
                  <a:pt x="16351" y="9080"/>
                </a:cubicBezTo>
                <a:cubicBezTo>
                  <a:pt x="16362" y="9080"/>
                  <a:pt x="16372" y="9080"/>
                  <a:pt x="16383" y="9080"/>
                </a:cubicBezTo>
              </a:path>
              <a:path w="2033" h="1017">
                <a:moveTo>
                  <a:pt x="16574" y="8731"/>
                </a:moveTo>
                <a:cubicBezTo>
                  <a:pt x="16512" y="8746"/>
                  <a:pt x="16469" y="8791"/>
                  <a:pt x="16446" y="8858"/>
                </a:cubicBezTo>
                <a:cubicBezTo>
                  <a:pt x="16446" y="8903"/>
                  <a:pt x="16440" y="8925"/>
                  <a:pt x="16415" y="8954"/>
                </a:cubicBezTo>
                <a:cubicBezTo>
                  <a:pt x="16476" y="9002"/>
                  <a:pt x="16509" y="9028"/>
                  <a:pt x="16574" y="8985"/>
                </a:cubicBezTo>
                <a:cubicBezTo>
                  <a:pt x="16626" y="8951"/>
                  <a:pt x="16605" y="8880"/>
                  <a:pt x="16605" y="8826"/>
                </a:cubicBezTo>
                <a:cubicBezTo>
                  <a:pt x="16605" y="8795"/>
                  <a:pt x="16605" y="8784"/>
                  <a:pt x="16605" y="8763"/>
                </a:cubicBezTo>
                <a:cubicBezTo>
                  <a:pt x="16592" y="8810"/>
                  <a:pt x="16580" y="8895"/>
                  <a:pt x="16605" y="8954"/>
                </a:cubicBezTo>
                <a:cubicBezTo>
                  <a:pt x="16635" y="9024"/>
                  <a:pt x="16662" y="9091"/>
                  <a:pt x="16669" y="9176"/>
                </a:cubicBezTo>
                <a:cubicBezTo>
                  <a:pt x="16674" y="9242"/>
                  <a:pt x="16680" y="9287"/>
                  <a:pt x="16637" y="9334"/>
                </a:cubicBezTo>
                <a:cubicBezTo>
                  <a:pt x="16601" y="9374"/>
                  <a:pt x="16591" y="9366"/>
                  <a:pt x="16542" y="9366"/>
                </a:cubicBezTo>
              </a:path>
              <a:path w="2033" h="1017">
                <a:moveTo>
                  <a:pt x="16796" y="8985"/>
                </a:moveTo>
                <a:cubicBezTo>
                  <a:pt x="16861" y="8921"/>
                  <a:pt x="16856" y="8895"/>
                  <a:pt x="16891" y="8826"/>
                </a:cubicBezTo>
                <a:cubicBezTo>
                  <a:pt x="16916" y="8776"/>
                  <a:pt x="16923" y="8791"/>
                  <a:pt x="16923" y="8731"/>
                </a:cubicBezTo>
                <a:cubicBezTo>
                  <a:pt x="16864" y="8731"/>
                  <a:pt x="16831" y="8740"/>
                  <a:pt x="16796" y="8795"/>
                </a:cubicBezTo>
                <a:cubicBezTo>
                  <a:pt x="16753" y="8862"/>
                  <a:pt x="16747" y="8925"/>
                  <a:pt x="16796" y="8985"/>
                </a:cubicBezTo>
                <a:cubicBezTo>
                  <a:pt x="16837" y="9035"/>
                  <a:pt x="16894" y="9017"/>
                  <a:pt x="1695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nk 14"/>
          <p:cNvSpPr/>
          <p:nvPr/>
        </p:nvSpPr>
        <p:spPr>
          <a:xfrm>
            <a:off x="6240600" y="3006720"/>
            <a:ext cx="514080" cy="388800"/>
          </a:xfrm>
          <a:custGeom>
            <a:avLst/>
            <a:gdLst/>
            <a:ahLst/>
            <a:rect l="l" t="t" r="r" b="b"/>
            <a:pathLst>
              <a:path w="1429" h="1081">
                <a:moveTo>
                  <a:pt x="17526" y="8700"/>
                </a:moveTo>
                <a:cubicBezTo>
                  <a:pt x="17526" y="8664"/>
                  <a:pt x="17523" y="8650"/>
                  <a:pt x="17494" y="8636"/>
                </a:cubicBezTo>
                <a:cubicBezTo>
                  <a:pt x="17446" y="8673"/>
                  <a:pt x="17366" y="8663"/>
                  <a:pt x="17336" y="8731"/>
                </a:cubicBezTo>
                <a:cubicBezTo>
                  <a:pt x="17308" y="8795"/>
                  <a:pt x="17370" y="8836"/>
                  <a:pt x="17399" y="8858"/>
                </a:cubicBezTo>
                <a:cubicBezTo>
                  <a:pt x="17443" y="8892"/>
                  <a:pt x="17533" y="8930"/>
                  <a:pt x="17558" y="8985"/>
                </a:cubicBezTo>
                <a:cubicBezTo>
                  <a:pt x="17581" y="9036"/>
                  <a:pt x="17496" y="9076"/>
                  <a:pt x="17462" y="9080"/>
                </a:cubicBezTo>
                <a:cubicBezTo>
                  <a:pt x="17376" y="9089"/>
                  <a:pt x="17417" y="9019"/>
                  <a:pt x="17431" y="8985"/>
                </a:cubicBezTo>
              </a:path>
              <a:path w="1429" h="1081">
                <a:moveTo>
                  <a:pt x="17716" y="8763"/>
                </a:moveTo>
                <a:cubicBezTo>
                  <a:pt x="17716" y="8855"/>
                  <a:pt x="17710" y="8909"/>
                  <a:pt x="17685" y="8985"/>
                </a:cubicBezTo>
                <a:cubicBezTo>
                  <a:pt x="17685" y="9017"/>
                  <a:pt x="17685" y="9027"/>
                  <a:pt x="17716" y="9017"/>
                </a:cubicBezTo>
              </a:path>
              <a:path w="1429" h="1081">
                <a:moveTo>
                  <a:pt x="18066" y="8826"/>
                </a:moveTo>
                <a:cubicBezTo>
                  <a:pt x="17992" y="8806"/>
                  <a:pt x="17951" y="8807"/>
                  <a:pt x="17875" y="8858"/>
                </a:cubicBezTo>
                <a:cubicBezTo>
                  <a:pt x="17855" y="8871"/>
                  <a:pt x="17772" y="8954"/>
                  <a:pt x="17812" y="8985"/>
                </a:cubicBezTo>
                <a:cubicBezTo>
                  <a:pt x="17869" y="9030"/>
                  <a:pt x="17886" y="9003"/>
                  <a:pt x="17939" y="8985"/>
                </a:cubicBezTo>
                <a:cubicBezTo>
                  <a:pt x="17990" y="8968"/>
                  <a:pt x="18027" y="8952"/>
                  <a:pt x="18034" y="8890"/>
                </a:cubicBezTo>
                <a:cubicBezTo>
                  <a:pt x="18042" y="8815"/>
                  <a:pt x="18004" y="8933"/>
                  <a:pt x="18002" y="8954"/>
                </a:cubicBezTo>
                <a:cubicBezTo>
                  <a:pt x="17996" y="9033"/>
                  <a:pt x="18034" y="9093"/>
                  <a:pt x="18034" y="9176"/>
                </a:cubicBezTo>
                <a:cubicBezTo>
                  <a:pt x="18034" y="9248"/>
                  <a:pt x="18015" y="9315"/>
                  <a:pt x="17970" y="9366"/>
                </a:cubicBezTo>
                <a:cubicBezTo>
                  <a:pt x="17918" y="9426"/>
                  <a:pt x="17907" y="9446"/>
                  <a:pt x="17844" y="9398"/>
                </a:cubicBezTo>
              </a:path>
              <a:path w="1429" h="1081">
                <a:moveTo>
                  <a:pt x="18193" y="8826"/>
                </a:moveTo>
                <a:cubicBezTo>
                  <a:pt x="18193" y="8901"/>
                  <a:pt x="18177" y="8947"/>
                  <a:pt x="18161" y="9017"/>
                </a:cubicBezTo>
                <a:cubicBezTo>
                  <a:pt x="18161" y="9028"/>
                  <a:pt x="18161" y="9038"/>
                  <a:pt x="18161" y="9049"/>
                </a:cubicBezTo>
                <a:cubicBezTo>
                  <a:pt x="18172" y="8973"/>
                  <a:pt x="18204" y="8926"/>
                  <a:pt x="18224" y="8858"/>
                </a:cubicBezTo>
                <a:cubicBezTo>
                  <a:pt x="18224" y="8822"/>
                  <a:pt x="18227" y="8808"/>
                  <a:pt x="18256" y="8795"/>
                </a:cubicBezTo>
                <a:cubicBezTo>
                  <a:pt x="18295" y="8814"/>
                  <a:pt x="18336" y="8873"/>
                  <a:pt x="18352" y="8922"/>
                </a:cubicBezTo>
                <a:cubicBezTo>
                  <a:pt x="18372" y="8982"/>
                  <a:pt x="18365" y="9032"/>
                  <a:pt x="18415" y="9049"/>
                </a:cubicBezTo>
              </a:path>
              <a:path w="1429" h="1081">
                <a:moveTo>
                  <a:pt x="18447" y="8350"/>
                </a:moveTo>
                <a:cubicBezTo>
                  <a:pt x="18495" y="8412"/>
                  <a:pt x="18571" y="8505"/>
                  <a:pt x="18606" y="8572"/>
                </a:cubicBezTo>
                <a:cubicBezTo>
                  <a:pt x="18657" y="8671"/>
                  <a:pt x="18684" y="8788"/>
                  <a:pt x="18732" y="8890"/>
                </a:cubicBezTo>
                <a:cubicBezTo>
                  <a:pt x="18767" y="8964"/>
                  <a:pt x="18747" y="9069"/>
                  <a:pt x="18701" y="9144"/>
                </a:cubicBezTo>
                <a:cubicBezTo>
                  <a:pt x="18681" y="9177"/>
                  <a:pt x="18560" y="9294"/>
                  <a:pt x="18542" y="9303"/>
                </a:cubicBezTo>
                <a:cubicBezTo>
                  <a:pt x="18521" y="9303"/>
                  <a:pt x="18499" y="9303"/>
                  <a:pt x="1847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Ink 15"/>
          <p:cNvSpPr/>
          <p:nvPr/>
        </p:nvSpPr>
        <p:spPr>
          <a:xfrm>
            <a:off x="5303880" y="4091040"/>
            <a:ext cx="399960" cy="173160"/>
          </a:xfrm>
          <a:custGeom>
            <a:avLst/>
            <a:gdLst/>
            <a:ahLst/>
            <a:rect l="l" t="t" r="r" b="b"/>
            <a:pathLst>
              <a:path w="1112" h="478">
                <a:moveTo>
                  <a:pt x="14732" y="11366"/>
                </a:moveTo>
                <a:cubicBezTo>
                  <a:pt x="14732" y="11417"/>
                  <a:pt x="14739" y="11484"/>
                  <a:pt x="14764" y="11525"/>
                </a:cubicBezTo>
                <a:cubicBezTo>
                  <a:pt x="14788" y="11564"/>
                  <a:pt x="14818" y="11640"/>
                  <a:pt x="14827" y="11684"/>
                </a:cubicBezTo>
                <a:cubicBezTo>
                  <a:pt x="14838" y="11738"/>
                  <a:pt x="14848" y="11789"/>
                  <a:pt x="14859" y="11843"/>
                </a:cubicBezTo>
              </a:path>
              <a:path w="1112" h="478">
                <a:moveTo>
                  <a:pt x="15018" y="11462"/>
                </a:moveTo>
                <a:cubicBezTo>
                  <a:pt x="15047" y="11529"/>
                  <a:pt x="15050" y="11551"/>
                  <a:pt x="15050" y="11620"/>
                </a:cubicBezTo>
                <a:cubicBezTo>
                  <a:pt x="15050" y="11678"/>
                  <a:pt x="15075" y="11696"/>
                  <a:pt x="15081" y="11748"/>
                </a:cubicBezTo>
                <a:cubicBezTo>
                  <a:pt x="15081" y="11784"/>
                  <a:pt x="15084" y="11797"/>
                  <a:pt x="15113" y="11811"/>
                </a:cubicBezTo>
              </a:path>
              <a:path w="1112" h="478">
                <a:moveTo>
                  <a:pt x="15208" y="11462"/>
                </a:moveTo>
                <a:cubicBezTo>
                  <a:pt x="15221" y="11527"/>
                  <a:pt x="15261" y="11588"/>
                  <a:pt x="15272" y="11652"/>
                </a:cubicBezTo>
                <a:cubicBezTo>
                  <a:pt x="15283" y="11712"/>
                  <a:pt x="15272" y="11782"/>
                  <a:pt x="15272" y="11843"/>
                </a:cubicBezTo>
                <a:cubicBezTo>
                  <a:pt x="15272" y="11749"/>
                  <a:pt x="15250" y="11638"/>
                  <a:pt x="15304" y="11557"/>
                </a:cubicBezTo>
                <a:cubicBezTo>
                  <a:pt x="15326" y="11524"/>
                  <a:pt x="15345" y="11464"/>
                  <a:pt x="15399" y="11494"/>
                </a:cubicBezTo>
                <a:cubicBezTo>
                  <a:pt x="15467" y="11531"/>
                  <a:pt x="15462" y="11585"/>
                  <a:pt x="15462" y="11652"/>
                </a:cubicBezTo>
                <a:cubicBezTo>
                  <a:pt x="15462" y="11673"/>
                  <a:pt x="15462" y="11827"/>
                  <a:pt x="15462" y="11748"/>
                </a:cubicBezTo>
                <a:cubicBezTo>
                  <a:pt x="15493" y="11697"/>
                  <a:pt x="15495" y="11635"/>
                  <a:pt x="15526" y="11589"/>
                </a:cubicBezTo>
                <a:cubicBezTo>
                  <a:pt x="15559" y="11540"/>
                  <a:pt x="15602" y="11557"/>
                  <a:pt x="15653" y="11557"/>
                </a:cubicBezTo>
                <a:cubicBezTo>
                  <a:pt x="15653" y="11615"/>
                  <a:pt x="15678" y="11633"/>
                  <a:pt x="15684" y="11684"/>
                </a:cubicBezTo>
                <a:cubicBezTo>
                  <a:pt x="15687" y="11709"/>
                  <a:pt x="15722" y="11838"/>
                  <a:pt x="15748" y="11811"/>
                </a:cubicBezTo>
                <a:cubicBezTo>
                  <a:pt x="15748" y="11800"/>
                  <a:pt x="15748" y="11790"/>
                  <a:pt x="15748" y="11779"/>
                </a:cubicBezTo>
              </a:path>
              <a:path w="1112" h="478">
                <a:moveTo>
                  <a:pt x="15780" y="11589"/>
                </a:moveTo>
                <a:cubicBezTo>
                  <a:pt x="15780" y="11650"/>
                  <a:pt x="15806" y="11690"/>
                  <a:pt x="15812" y="11748"/>
                </a:cubicBezTo>
                <a:cubicBezTo>
                  <a:pt x="15812" y="11784"/>
                  <a:pt x="15815" y="11797"/>
                  <a:pt x="15843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Ink 16"/>
          <p:cNvSpPr/>
          <p:nvPr/>
        </p:nvSpPr>
        <p:spPr>
          <a:xfrm>
            <a:off x="5726160" y="4035600"/>
            <a:ext cx="584280" cy="377640"/>
          </a:xfrm>
          <a:custGeom>
            <a:avLst/>
            <a:gdLst/>
            <a:ahLst/>
            <a:rect l="l" t="t" r="r" b="b"/>
            <a:pathLst>
              <a:path w="1620" h="1049">
                <a:moveTo>
                  <a:pt x="16066" y="11208"/>
                </a:moveTo>
                <a:cubicBezTo>
                  <a:pt x="16080" y="11265"/>
                  <a:pt x="16097" y="11298"/>
                  <a:pt x="16097" y="11366"/>
                </a:cubicBezTo>
                <a:cubicBezTo>
                  <a:pt x="16097" y="11483"/>
                  <a:pt x="16104" y="11575"/>
                  <a:pt x="16129" y="11684"/>
                </a:cubicBezTo>
                <a:cubicBezTo>
                  <a:pt x="16148" y="11766"/>
                  <a:pt x="16129" y="11778"/>
                  <a:pt x="16192" y="11843"/>
                </a:cubicBezTo>
              </a:path>
              <a:path w="1620" h="1049">
                <a:moveTo>
                  <a:pt x="15907" y="11589"/>
                </a:moveTo>
                <a:cubicBezTo>
                  <a:pt x="15947" y="11558"/>
                  <a:pt x="16021" y="11534"/>
                  <a:pt x="16066" y="11525"/>
                </a:cubicBezTo>
                <a:cubicBezTo>
                  <a:pt x="16161" y="11506"/>
                  <a:pt x="16226" y="11491"/>
                  <a:pt x="16320" y="11462"/>
                </a:cubicBezTo>
                <a:cubicBezTo>
                  <a:pt x="16375" y="11445"/>
                  <a:pt x="16362" y="11469"/>
                  <a:pt x="16415" y="11430"/>
                </a:cubicBezTo>
                <a:cubicBezTo>
                  <a:pt x="16415" y="11558"/>
                  <a:pt x="16414" y="11668"/>
                  <a:pt x="16446" y="11779"/>
                </a:cubicBezTo>
                <a:cubicBezTo>
                  <a:pt x="16449" y="11788"/>
                  <a:pt x="16446" y="11898"/>
                  <a:pt x="16446" y="11811"/>
                </a:cubicBezTo>
              </a:path>
              <a:path w="1620" h="1049">
                <a:moveTo>
                  <a:pt x="16542" y="11430"/>
                </a:moveTo>
                <a:cubicBezTo>
                  <a:pt x="16593" y="11519"/>
                  <a:pt x="16605" y="11547"/>
                  <a:pt x="16605" y="11652"/>
                </a:cubicBezTo>
                <a:cubicBezTo>
                  <a:pt x="16605" y="11719"/>
                  <a:pt x="16637" y="11770"/>
                  <a:pt x="16637" y="11843"/>
                </a:cubicBezTo>
                <a:cubicBezTo>
                  <a:pt x="16637" y="11738"/>
                  <a:pt x="16605" y="11574"/>
                  <a:pt x="16669" y="11494"/>
                </a:cubicBezTo>
                <a:cubicBezTo>
                  <a:pt x="16679" y="11483"/>
                  <a:pt x="16690" y="11473"/>
                  <a:pt x="16700" y="11462"/>
                </a:cubicBezTo>
                <a:cubicBezTo>
                  <a:pt x="16764" y="11526"/>
                  <a:pt x="16761" y="11551"/>
                  <a:pt x="16796" y="11620"/>
                </a:cubicBezTo>
                <a:cubicBezTo>
                  <a:pt x="16822" y="11672"/>
                  <a:pt x="16852" y="11712"/>
                  <a:pt x="16859" y="11779"/>
                </a:cubicBezTo>
                <a:cubicBezTo>
                  <a:pt x="16859" y="11821"/>
                  <a:pt x="16859" y="11842"/>
                  <a:pt x="16859" y="11874"/>
                </a:cubicBezTo>
              </a:path>
              <a:path w="1620" h="1049">
                <a:moveTo>
                  <a:pt x="17113" y="11589"/>
                </a:moveTo>
                <a:cubicBezTo>
                  <a:pt x="17113" y="11547"/>
                  <a:pt x="17113" y="11526"/>
                  <a:pt x="17113" y="11494"/>
                </a:cubicBezTo>
                <a:cubicBezTo>
                  <a:pt x="17072" y="11504"/>
                  <a:pt x="17007" y="11543"/>
                  <a:pt x="16986" y="11589"/>
                </a:cubicBezTo>
                <a:cubicBezTo>
                  <a:pt x="16986" y="11620"/>
                  <a:pt x="16986" y="11631"/>
                  <a:pt x="16986" y="11652"/>
                </a:cubicBezTo>
                <a:cubicBezTo>
                  <a:pt x="17050" y="11700"/>
                  <a:pt x="17054" y="11697"/>
                  <a:pt x="17113" y="11684"/>
                </a:cubicBezTo>
                <a:cubicBezTo>
                  <a:pt x="17164" y="11673"/>
                  <a:pt x="17204" y="11647"/>
                  <a:pt x="17208" y="11589"/>
                </a:cubicBezTo>
                <a:cubicBezTo>
                  <a:pt x="17208" y="11568"/>
                  <a:pt x="17208" y="11546"/>
                  <a:pt x="17208" y="11525"/>
                </a:cubicBezTo>
                <a:cubicBezTo>
                  <a:pt x="17176" y="11592"/>
                  <a:pt x="17225" y="11610"/>
                  <a:pt x="17240" y="11684"/>
                </a:cubicBezTo>
                <a:cubicBezTo>
                  <a:pt x="17258" y="11775"/>
                  <a:pt x="17316" y="11849"/>
                  <a:pt x="17336" y="11938"/>
                </a:cubicBezTo>
                <a:cubicBezTo>
                  <a:pt x="17353" y="12013"/>
                  <a:pt x="17344" y="12127"/>
                  <a:pt x="17304" y="12192"/>
                </a:cubicBezTo>
                <a:cubicBezTo>
                  <a:pt x="17262" y="12261"/>
                  <a:pt x="17217" y="12256"/>
                  <a:pt x="17145" y="12256"/>
                </a:cubicBezTo>
                <a:cubicBezTo>
                  <a:pt x="17098" y="12256"/>
                  <a:pt x="17044" y="12177"/>
                  <a:pt x="17050" y="12128"/>
                </a:cubicBezTo>
                <a:cubicBezTo>
                  <a:pt x="17059" y="12055"/>
                  <a:pt x="17150" y="11947"/>
                  <a:pt x="17208" y="11906"/>
                </a:cubicBezTo>
                <a:cubicBezTo>
                  <a:pt x="17298" y="11842"/>
                  <a:pt x="17422" y="11792"/>
                  <a:pt x="1752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Ink 17"/>
          <p:cNvSpPr/>
          <p:nvPr/>
        </p:nvSpPr>
        <p:spPr>
          <a:xfrm>
            <a:off x="2822400" y="3211560"/>
            <a:ext cx="973440" cy="480960"/>
          </a:xfrm>
          <a:custGeom>
            <a:avLst/>
            <a:gdLst/>
            <a:ahLst/>
            <a:rect l="l" t="t" r="r" b="b"/>
            <a:pathLst>
              <a:path w="2700" h="1334">
                <a:moveTo>
                  <a:pt x="8318" y="8922"/>
                </a:moveTo>
                <a:cubicBezTo>
                  <a:pt x="8318" y="8993"/>
                  <a:pt x="8302" y="9077"/>
                  <a:pt x="8287" y="9144"/>
                </a:cubicBezTo>
                <a:cubicBezTo>
                  <a:pt x="8242" y="9338"/>
                  <a:pt x="8155" y="9527"/>
                  <a:pt x="8096" y="9716"/>
                </a:cubicBezTo>
                <a:cubicBezTo>
                  <a:pt x="8049" y="9869"/>
                  <a:pt x="8023" y="9991"/>
                  <a:pt x="7938" y="10128"/>
                </a:cubicBezTo>
                <a:cubicBezTo>
                  <a:pt x="7891" y="10204"/>
                  <a:pt x="7893" y="10239"/>
                  <a:pt x="7842" y="10255"/>
                </a:cubicBezTo>
              </a:path>
              <a:path w="2700" h="1334">
                <a:moveTo>
                  <a:pt x="8192" y="9144"/>
                </a:moveTo>
                <a:cubicBezTo>
                  <a:pt x="8192" y="9112"/>
                  <a:pt x="8192" y="9101"/>
                  <a:pt x="8192" y="9080"/>
                </a:cubicBezTo>
                <a:cubicBezTo>
                  <a:pt x="8246" y="9149"/>
                  <a:pt x="8287" y="9208"/>
                  <a:pt x="8350" y="9271"/>
                </a:cubicBezTo>
                <a:cubicBezTo>
                  <a:pt x="8440" y="9361"/>
                  <a:pt x="8506" y="9442"/>
                  <a:pt x="8604" y="9525"/>
                </a:cubicBezTo>
                <a:cubicBezTo>
                  <a:pt x="8692" y="9600"/>
                  <a:pt x="8771" y="9712"/>
                  <a:pt x="8826" y="9811"/>
                </a:cubicBezTo>
                <a:cubicBezTo>
                  <a:pt x="8866" y="9882"/>
                  <a:pt x="8877" y="9937"/>
                  <a:pt x="8826" y="10001"/>
                </a:cubicBezTo>
                <a:cubicBezTo>
                  <a:pt x="8753" y="10094"/>
                  <a:pt x="8640" y="10102"/>
                  <a:pt x="8541" y="10128"/>
                </a:cubicBezTo>
                <a:cubicBezTo>
                  <a:pt x="8424" y="10159"/>
                  <a:pt x="8307" y="10206"/>
                  <a:pt x="8192" y="10224"/>
                </a:cubicBezTo>
                <a:cubicBezTo>
                  <a:pt x="8087" y="10241"/>
                  <a:pt x="8090" y="10237"/>
                  <a:pt x="8064" y="10160"/>
                </a:cubicBezTo>
              </a:path>
              <a:path w="2700" h="1334">
                <a:moveTo>
                  <a:pt x="9176" y="9208"/>
                </a:moveTo>
                <a:cubicBezTo>
                  <a:pt x="9212" y="9208"/>
                  <a:pt x="9226" y="9205"/>
                  <a:pt x="9239" y="9176"/>
                </a:cubicBezTo>
                <a:cubicBezTo>
                  <a:pt x="9282" y="9248"/>
                  <a:pt x="9271" y="9308"/>
                  <a:pt x="9271" y="9398"/>
                </a:cubicBezTo>
                <a:cubicBezTo>
                  <a:pt x="9271" y="9532"/>
                  <a:pt x="9298" y="9648"/>
                  <a:pt x="9303" y="9779"/>
                </a:cubicBezTo>
                <a:cubicBezTo>
                  <a:pt x="9307" y="9891"/>
                  <a:pt x="9317" y="10001"/>
                  <a:pt x="9334" y="10096"/>
                </a:cubicBezTo>
                <a:cubicBezTo>
                  <a:pt x="9334" y="10163"/>
                  <a:pt x="9336" y="10185"/>
                  <a:pt x="9398" y="10192"/>
                </a:cubicBezTo>
              </a:path>
              <a:path w="2700" h="1334">
                <a:moveTo>
                  <a:pt x="9652" y="9176"/>
                </a:moveTo>
                <a:cubicBezTo>
                  <a:pt x="9652" y="9291"/>
                  <a:pt x="9671" y="9383"/>
                  <a:pt x="9684" y="9493"/>
                </a:cubicBezTo>
                <a:cubicBezTo>
                  <a:pt x="9697" y="9606"/>
                  <a:pt x="9677" y="9736"/>
                  <a:pt x="9716" y="9842"/>
                </a:cubicBezTo>
                <a:cubicBezTo>
                  <a:pt x="9735" y="9894"/>
                  <a:pt x="9737" y="9956"/>
                  <a:pt x="9779" y="9970"/>
                </a:cubicBezTo>
              </a:path>
              <a:path w="2700" h="1334">
                <a:moveTo>
                  <a:pt x="9366" y="9620"/>
                </a:moveTo>
                <a:cubicBezTo>
                  <a:pt x="9442" y="9544"/>
                  <a:pt x="9462" y="9584"/>
                  <a:pt x="9557" y="9557"/>
                </a:cubicBezTo>
                <a:cubicBezTo>
                  <a:pt x="9669" y="9526"/>
                  <a:pt x="9765" y="9516"/>
                  <a:pt x="9874" y="9462"/>
                </a:cubicBezTo>
              </a:path>
              <a:path w="2700" h="1334">
                <a:moveTo>
                  <a:pt x="10255" y="9303"/>
                </a:moveTo>
                <a:cubicBezTo>
                  <a:pt x="10333" y="9292"/>
                  <a:pt x="10348" y="9261"/>
                  <a:pt x="10414" y="9239"/>
                </a:cubicBezTo>
                <a:cubicBezTo>
                  <a:pt x="10425" y="9239"/>
                  <a:pt x="10435" y="9239"/>
                  <a:pt x="10446" y="9239"/>
                </a:cubicBezTo>
              </a:path>
              <a:path w="2700" h="1334">
                <a:moveTo>
                  <a:pt x="10414" y="9398"/>
                </a:moveTo>
                <a:cubicBezTo>
                  <a:pt x="10456" y="9398"/>
                  <a:pt x="10499" y="9398"/>
                  <a:pt x="10541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Ink 18"/>
          <p:cNvSpPr/>
          <p:nvPr/>
        </p:nvSpPr>
        <p:spPr>
          <a:xfrm>
            <a:off x="8194680" y="1635120"/>
            <a:ext cx="744480" cy="822240"/>
          </a:xfrm>
          <a:custGeom>
            <a:avLst/>
            <a:gdLst/>
            <a:ahLst/>
            <a:rect l="l" t="t" r="r" b="b"/>
            <a:pathLst>
              <a:path w="2064" h="2287">
                <a:moveTo>
                  <a:pt x="22987" y="6001"/>
                </a:moveTo>
                <a:cubicBezTo>
                  <a:pt x="22920" y="6001"/>
                  <a:pt x="22878" y="5988"/>
                  <a:pt x="22828" y="6032"/>
                </a:cubicBezTo>
                <a:cubicBezTo>
                  <a:pt x="22772" y="6082"/>
                  <a:pt x="22768" y="6182"/>
                  <a:pt x="22765" y="6255"/>
                </a:cubicBezTo>
                <a:cubicBezTo>
                  <a:pt x="22761" y="6347"/>
                  <a:pt x="22747" y="6459"/>
                  <a:pt x="22796" y="6540"/>
                </a:cubicBezTo>
                <a:cubicBezTo>
                  <a:pt x="22821" y="6581"/>
                  <a:pt x="22872" y="6623"/>
                  <a:pt x="22924" y="6604"/>
                </a:cubicBezTo>
                <a:cubicBezTo>
                  <a:pt x="22997" y="6578"/>
                  <a:pt x="23032" y="6503"/>
                  <a:pt x="23082" y="6445"/>
                </a:cubicBezTo>
              </a:path>
              <a:path w="2064" h="2287">
                <a:moveTo>
                  <a:pt x="23178" y="5937"/>
                </a:moveTo>
                <a:cubicBezTo>
                  <a:pt x="23120" y="5956"/>
                  <a:pt x="23132" y="5998"/>
                  <a:pt x="23114" y="6064"/>
                </a:cubicBezTo>
                <a:cubicBezTo>
                  <a:pt x="23086" y="6168"/>
                  <a:pt x="23060" y="6229"/>
                  <a:pt x="23114" y="6318"/>
                </a:cubicBezTo>
                <a:cubicBezTo>
                  <a:pt x="23165" y="6318"/>
                  <a:pt x="23216" y="6311"/>
                  <a:pt x="23241" y="6255"/>
                </a:cubicBezTo>
                <a:cubicBezTo>
                  <a:pt x="23271" y="6187"/>
                  <a:pt x="23269" y="6133"/>
                  <a:pt x="23241" y="6064"/>
                </a:cubicBezTo>
                <a:cubicBezTo>
                  <a:pt x="23210" y="6003"/>
                  <a:pt x="23199" y="5984"/>
                  <a:pt x="23209" y="5937"/>
                </a:cubicBezTo>
                <a:cubicBezTo>
                  <a:pt x="23209" y="6033"/>
                  <a:pt x="23206" y="6085"/>
                  <a:pt x="23273" y="6160"/>
                </a:cubicBezTo>
                <a:cubicBezTo>
                  <a:pt x="23343" y="6238"/>
                  <a:pt x="23308" y="6246"/>
                  <a:pt x="23400" y="6223"/>
                </a:cubicBezTo>
              </a:path>
              <a:path w="2064" h="2287">
                <a:moveTo>
                  <a:pt x="23304" y="5810"/>
                </a:moveTo>
                <a:cubicBezTo>
                  <a:pt x="23318" y="5865"/>
                  <a:pt x="23352" y="5917"/>
                  <a:pt x="23368" y="5969"/>
                </a:cubicBezTo>
                <a:cubicBezTo>
                  <a:pt x="23383" y="6019"/>
                  <a:pt x="23399" y="6052"/>
                  <a:pt x="23432" y="6096"/>
                </a:cubicBezTo>
                <a:cubicBezTo>
                  <a:pt x="23454" y="6050"/>
                  <a:pt x="23423" y="6001"/>
                  <a:pt x="23400" y="5937"/>
                </a:cubicBezTo>
                <a:cubicBezTo>
                  <a:pt x="23368" y="5849"/>
                  <a:pt x="23368" y="5778"/>
                  <a:pt x="23368" y="5683"/>
                </a:cubicBezTo>
                <a:cubicBezTo>
                  <a:pt x="23368" y="5673"/>
                  <a:pt x="23368" y="5662"/>
                  <a:pt x="23368" y="5652"/>
                </a:cubicBezTo>
                <a:cubicBezTo>
                  <a:pt x="23432" y="5679"/>
                  <a:pt x="23507" y="5702"/>
                  <a:pt x="23527" y="5778"/>
                </a:cubicBezTo>
                <a:cubicBezTo>
                  <a:pt x="23549" y="5862"/>
                  <a:pt x="23556" y="5872"/>
                  <a:pt x="23622" y="5937"/>
                </a:cubicBezTo>
                <a:cubicBezTo>
                  <a:pt x="23651" y="5966"/>
                  <a:pt x="23662" y="5981"/>
                  <a:pt x="23654" y="5937"/>
                </a:cubicBezTo>
              </a:path>
              <a:path w="2064" h="2287">
                <a:moveTo>
                  <a:pt x="23781" y="5302"/>
                </a:moveTo>
                <a:cubicBezTo>
                  <a:pt x="23781" y="5376"/>
                  <a:pt x="23793" y="5403"/>
                  <a:pt x="23812" y="5461"/>
                </a:cubicBezTo>
                <a:cubicBezTo>
                  <a:pt x="23828" y="5510"/>
                  <a:pt x="23910" y="5547"/>
                  <a:pt x="23971" y="5493"/>
                </a:cubicBezTo>
                <a:cubicBezTo>
                  <a:pt x="24016" y="5454"/>
                  <a:pt x="23949" y="5245"/>
                  <a:pt x="23940" y="5207"/>
                </a:cubicBezTo>
                <a:cubicBezTo>
                  <a:pt x="23927" y="5149"/>
                  <a:pt x="23924" y="5136"/>
                  <a:pt x="23876" y="5112"/>
                </a:cubicBezTo>
                <a:cubicBezTo>
                  <a:pt x="23958" y="5171"/>
                  <a:pt x="23972" y="5226"/>
                  <a:pt x="24035" y="5302"/>
                </a:cubicBezTo>
                <a:cubicBezTo>
                  <a:pt x="24106" y="5389"/>
                  <a:pt x="24181" y="5493"/>
                  <a:pt x="24225" y="5588"/>
                </a:cubicBezTo>
                <a:cubicBezTo>
                  <a:pt x="24259" y="5662"/>
                  <a:pt x="24267" y="5714"/>
                  <a:pt x="24225" y="5778"/>
                </a:cubicBezTo>
                <a:cubicBezTo>
                  <a:pt x="24194" y="5810"/>
                  <a:pt x="24183" y="5821"/>
                  <a:pt x="24162" y="5842"/>
                </a:cubicBezTo>
                <a:cubicBezTo>
                  <a:pt x="24107" y="5787"/>
                  <a:pt x="24109" y="5793"/>
                  <a:pt x="24098" y="5715"/>
                </a:cubicBezTo>
              </a:path>
              <a:path w="2064" h="2287">
                <a:moveTo>
                  <a:pt x="24162" y="4985"/>
                </a:moveTo>
                <a:cubicBezTo>
                  <a:pt x="24162" y="5049"/>
                  <a:pt x="24125" y="5236"/>
                  <a:pt x="24194" y="5270"/>
                </a:cubicBezTo>
                <a:cubicBezTo>
                  <a:pt x="24262" y="5304"/>
                  <a:pt x="24286" y="5226"/>
                  <a:pt x="24289" y="5175"/>
                </a:cubicBezTo>
                <a:cubicBezTo>
                  <a:pt x="24296" y="5079"/>
                  <a:pt x="24281" y="5002"/>
                  <a:pt x="24225" y="4921"/>
                </a:cubicBezTo>
                <a:cubicBezTo>
                  <a:pt x="24197" y="4880"/>
                  <a:pt x="24135" y="4817"/>
                  <a:pt x="24098" y="4890"/>
                </a:cubicBezTo>
                <a:cubicBezTo>
                  <a:pt x="24098" y="4900"/>
                  <a:pt x="24098" y="4911"/>
                  <a:pt x="24098" y="4921"/>
                </a:cubicBezTo>
              </a:path>
              <a:path w="2064" h="2287">
                <a:moveTo>
                  <a:pt x="24384" y="4699"/>
                </a:moveTo>
                <a:cubicBezTo>
                  <a:pt x="24384" y="4785"/>
                  <a:pt x="24402" y="4853"/>
                  <a:pt x="24416" y="4921"/>
                </a:cubicBezTo>
                <a:cubicBezTo>
                  <a:pt x="24433" y="5006"/>
                  <a:pt x="24439" y="5037"/>
                  <a:pt x="24543" y="5048"/>
                </a:cubicBezTo>
                <a:cubicBezTo>
                  <a:pt x="24581" y="5052"/>
                  <a:pt x="24654" y="4989"/>
                  <a:pt x="24670" y="4953"/>
                </a:cubicBezTo>
                <a:cubicBezTo>
                  <a:pt x="24712" y="4858"/>
                  <a:pt x="24685" y="4823"/>
                  <a:pt x="24670" y="4731"/>
                </a:cubicBezTo>
                <a:cubicBezTo>
                  <a:pt x="24658" y="4659"/>
                  <a:pt x="24694" y="4579"/>
                  <a:pt x="24606" y="4540"/>
                </a:cubicBezTo>
                <a:cubicBezTo>
                  <a:pt x="24563" y="4540"/>
                  <a:pt x="24553" y="4551"/>
                  <a:pt x="24574" y="4604"/>
                </a:cubicBezTo>
              </a:path>
              <a:path w="2064" h="2287">
                <a:moveTo>
                  <a:pt x="23749" y="6160"/>
                </a:moveTo>
                <a:cubicBezTo>
                  <a:pt x="23735" y="6229"/>
                  <a:pt x="23716" y="6292"/>
                  <a:pt x="23686" y="6350"/>
                </a:cubicBezTo>
                <a:cubicBezTo>
                  <a:pt x="23649" y="6420"/>
                  <a:pt x="23654" y="6462"/>
                  <a:pt x="23654" y="6540"/>
                </a:cubicBezTo>
                <a:cubicBezTo>
                  <a:pt x="23654" y="6578"/>
                  <a:pt x="23706" y="6601"/>
                  <a:pt x="23749" y="6604"/>
                </a:cubicBezTo>
                <a:cubicBezTo>
                  <a:pt x="23824" y="6609"/>
                  <a:pt x="23880" y="6623"/>
                  <a:pt x="23908" y="6699"/>
                </a:cubicBezTo>
                <a:cubicBezTo>
                  <a:pt x="23925" y="6746"/>
                  <a:pt x="23887" y="6807"/>
                  <a:pt x="23844" y="6826"/>
                </a:cubicBezTo>
                <a:cubicBezTo>
                  <a:pt x="23793" y="6848"/>
                  <a:pt x="23788" y="6791"/>
                  <a:pt x="23781" y="6763"/>
                </a:cubicBezTo>
              </a:path>
              <a:path w="2064" h="2287">
                <a:moveTo>
                  <a:pt x="23940" y="6477"/>
                </a:moveTo>
                <a:cubicBezTo>
                  <a:pt x="23951" y="6419"/>
                  <a:pt x="23982" y="6367"/>
                  <a:pt x="24003" y="6318"/>
                </a:cubicBezTo>
                <a:cubicBezTo>
                  <a:pt x="24020" y="6278"/>
                  <a:pt x="24058" y="6197"/>
                  <a:pt x="24066" y="6160"/>
                </a:cubicBezTo>
                <a:cubicBezTo>
                  <a:pt x="24066" y="6102"/>
                  <a:pt x="24071" y="6086"/>
                  <a:pt x="24035" y="6064"/>
                </a:cubicBezTo>
                <a:cubicBezTo>
                  <a:pt x="23979" y="6120"/>
                  <a:pt x="23953" y="6176"/>
                  <a:pt x="23940" y="6255"/>
                </a:cubicBezTo>
                <a:cubicBezTo>
                  <a:pt x="23930" y="6317"/>
                  <a:pt x="23940" y="6398"/>
                  <a:pt x="23971" y="6445"/>
                </a:cubicBezTo>
                <a:cubicBezTo>
                  <a:pt x="24015" y="6511"/>
                  <a:pt x="24081" y="6465"/>
                  <a:pt x="24130" y="6445"/>
                </a:cubicBezTo>
                <a:cubicBezTo>
                  <a:pt x="24190" y="6420"/>
                  <a:pt x="24214" y="6394"/>
                  <a:pt x="24257" y="6350"/>
                </a:cubicBezTo>
              </a:path>
              <a:path w="2064" h="2287">
                <a:moveTo>
                  <a:pt x="24225" y="6191"/>
                </a:moveTo>
                <a:cubicBezTo>
                  <a:pt x="24237" y="6146"/>
                  <a:pt x="24280" y="6106"/>
                  <a:pt x="24289" y="6064"/>
                </a:cubicBezTo>
                <a:cubicBezTo>
                  <a:pt x="24297" y="6028"/>
                  <a:pt x="24329" y="5902"/>
                  <a:pt x="24320" y="5874"/>
                </a:cubicBezTo>
                <a:cubicBezTo>
                  <a:pt x="24310" y="5863"/>
                  <a:pt x="24299" y="5853"/>
                  <a:pt x="24289" y="5842"/>
                </a:cubicBezTo>
                <a:cubicBezTo>
                  <a:pt x="24225" y="5858"/>
                  <a:pt x="24199" y="5896"/>
                  <a:pt x="24194" y="5969"/>
                </a:cubicBezTo>
                <a:cubicBezTo>
                  <a:pt x="24189" y="6040"/>
                  <a:pt x="24178" y="6108"/>
                  <a:pt x="24225" y="6160"/>
                </a:cubicBezTo>
                <a:cubicBezTo>
                  <a:pt x="24257" y="6195"/>
                  <a:pt x="24368" y="6210"/>
                  <a:pt x="24416" y="6191"/>
                </a:cubicBezTo>
                <a:cubicBezTo>
                  <a:pt x="24459" y="6174"/>
                  <a:pt x="24464" y="6140"/>
                  <a:pt x="24511" y="6128"/>
                </a:cubicBezTo>
              </a:path>
              <a:path w="2064" h="2287">
                <a:moveTo>
                  <a:pt x="24479" y="5493"/>
                </a:moveTo>
                <a:cubicBezTo>
                  <a:pt x="24479" y="5404"/>
                  <a:pt x="24473" y="5350"/>
                  <a:pt x="24511" y="5270"/>
                </a:cubicBezTo>
                <a:cubicBezTo>
                  <a:pt x="24555" y="5178"/>
                  <a:pt x="24576" y="5198"/>
                  <a:pt x="24638" y="5207"/>
                </a:cubicBezTo>
                <a:cubicBezTo>
                  <a:pt x="24680" y="5213"/>
                  <a:pt x="24772" y="5254"/>
                  <a:pt x="24765" y="5334"/>
                </a:cubicBezTo>
                <a:cubicBezTo>
                  <a:pt x="24760" y="5390"/>
                  <a:pt x="24702" y="5471"/>
                  <a:pt x="24670" y="5524"/>
                </a:cubicBezTo>
                <a:cubicBezTo>
                  <a:pt x="24624" y="5600"/>
                  <a:pt x="24586" y="5631"/>
                  <a:pt x="24574" y="5715"/>
                </a:cubicBezTo>
              </a:path>
              <a:path w="2064" h="2287">
                <a:moveTo>
                  <a:pt x="24797" y="5874"/>
                </a:moveTo>
                <a:cubicBezTo>
                  <a:pt x="24776" y="5885"/>
                  <a:pt x="24754" y="5895"/>
                  <a:pt x="24733" y="5906"/>
                </a:cubicBezTo>
                <a:cubicBezTo>
                  <a:pt x="24788" y="5882"/>
                  <a:pt x="24722" y="5864"/>
                  <a:pt x="24765" y="5906"/>
                </a:cubicBezTo>
                <a:cubicBezTo>
                  <a:pt x="24776" y="5906"/>
                  <a:pt x="24786" y="5906"/>
                  <a:pt x="2479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Ink 19"/>
          <p:cNvSpPr/>
          <p:nvPr/>
        </p:nvSpPr>
        <p:spPr>
          <a:xfrm>
            <a:off x="3954600" y="3394080"/>
            <a:ext cx="2914560" cy="46080"/>
          </a:xfrm>
          <a:custGeom>
            <a:avLst/>
            <a:gdLst/>
            <a:ahLst/>
            <a:rect l="l" t="t" r="r" b="b"/>
            <a:pathLst>
              <a:path w="8097" h="128">
                <a:moveTo>
                  <a:pt x="10986" y="9462"/>
                </a:moveTo>
                <a:cubicBezTo>
                  <a:pt x="11110" y="9468"/>
                  <a:pt x="11216" y="9485"/>
                  <a:pt x="11335" y="9493"/>
                </a:cubicBezTo>
                <a:cubicBezTo>
                  <a:pt x="11557" y="9507"/>
                  <a:pt x="11787" y="9439"/>
                  <a:pt x="12002" y="9462"/>
                </a:cubicBezTo>
                <a:cubicBezTo>
                  <a:pt x="12191" y="9483"/>
                  <a:pt x="12376" y="9462"/>
                  <a:pt x="12573" y="9462"/>
                </a:cubicBezTo>
                <a:cubicBezTo>
                  <a:pt x="13125" y="9462"/>
                  <a:pt x="13675" y="9465"/>
                  <a:pt x="14224" y="9430"/>
                </a:cubicBezTo>
                <a:cubicBezTo>
                  <a:pt x="15054" y="9378"/>
                  <a:pt x="15938" y="9398"/>
                  <a:pt x="16764" y="9462"/>
                </a:cubicBezTo>
                <a:cubicBezTo>
                  <a:pt x="17301" y="9504"/>
                  <a:pt x="17849" y="9453"/>
                  <a:pt x="18383" y="9493"/>
                </a:cubicBezTo>
                <a:cubicBezTo>
                  <a:pt x="18518" y="9503"/>
                  <a:pt x="18665" y="9517"/>
                  <a:pt x="18796" y="9525"/>
                </a:cubicBezTo>
                <a:cubicBezTo>
                  <a:pt x="18860" y="9529"/>
                  <a:pt x="19006" y="9559"/>
                  <a:pt x="19050" y="9557"/>
                </a:cubicBezTo>
                <a:cubicBezTo>
                  <a:pt x="19082" y="9557"/>
                  <a:pt x="19093" y="9557"/>
                  <a:pt x="19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Ink 2"/>
          <p:cNvSpPr/>
          <p:nvPr/>
        </p:nvSpPr>
        <p:spPr>
          <a:xfrm>
            <a:off x="2046240" y="2000160"/>
            <a:ext cx="180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683" y="5556"/>
                </a:moveTo>
                <a:lnTo>
                  <a:pt x="5683" y="5556"/>
                </a:lnTo>
              </a:path>
              <a:path w="1" h="65">
                <a:moveTo>
                  <a:pt x="5683" y="5556"/>
                </a:moveTo>
                <a:cubicBezTo>
                  <a:pt x="5683" y="5577"/>
                  <a:pt x="5683" y="5599"/>
                  <a:pt x="5683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3"/>
          <p:cNvSpPr/>
          <p:nvPr/>
        </p:nvSpPr>
        <p:spPr>
          <a:xfrm>
            <a:off x="2022480" y="2011320"/>
            <a:ext cx="320760" cy="343080"/>
          </a:xfrm>
          <a:custGeom>
            <a:avLst/>
            <a:gdLst/>
            <a:ahLst/>
            <a:rect l="l" t="t" r="r" b="b"/>
            <a:pathLst>
              <a:path w="890" h="953">
                <a:moveTo>
                  <a:pt x="5683" y="5620"/>
                </a:moveTo>
                <a:cubicBezTo>
                  <a:pt x="5683" y="5703"/>
                  <a:pt x="5665" y="5775"/>
                  <a:pt x="5652" y="5842"/>
                </a:cubicBezTo>
                <a:cubicBezTo>
                  <a:pt x="5636" y="5924"/>
                  <a:pt x="5626" y="6015"/>
                  <a:pt x="5620" y="6096"/>
                </a:cubicBezTo>
                <a:cubicBezTo>
                  <a:pt x="5615" y="6166"/>
                  <a:pt x="5654" y="6233"/>
                  <a:pt x="5715" y="6255"/>
                </a:cubicBezTo>
                <a:cubicBezTo>
                  <a:pt x="5756" y="6270"/>
                  <a:pt x="5838" y="6198"/>
                  <a:pt x="5874" y="6191"/>
                </a:cubicBezTo>
                <a:cubicBezTo>
                  <a:pt x="5949" y="6176"/>
                  <a:pt x="5988" y="6147"/>
                  <a:pt x="6064" y="6128"/>
                </a:cubicBezTo>
                <a:cubicBezTo>
                  <a:pt x="6096" y="6128"/>
                  <a:pt x="6107" y="6128"/>
                  <a:pt x="6128" y="6128"/>
                </a:cubicBezTo>
              </a:path>
              <a:path w="890" h="953">
                <a:moveTo>
                  <a:pt x="6032" y="5588"/>
                </a:moveTo>
                <a:cubicBezTo>
                  <a:pt x="5993" y="5642"/>
                  <a:pt x="6001" y="5676"/>
                  <a:pt x="6001" y="5747"/>
                </a:cubicBezTo>
                <a:cubicBezTo>
                  <a:pt x="6001" y="5862"/>
                  <a:pt x="5982" y="5954"/>
                  <a:pt x="5969" y="6064"/>
                </a:cubicBezTo>
                <a:cubicBezTo>
                  <a:pt x="5952" y="6214"/>
                  <a:pt x="6014" y="6414"/>
                  <a:pt x="5937" y="6540"/>
                </a:cubicBezTo>
              </a:path>
              <a:path w="890" h="953">
                <a:moveTo>
                  <a:pt x="6477" y="6318"/>
                </a:moveTo>
                <a:cubicBezTo>
                  <a:pt x="6428" y="6330"/>
                  <a:pt x="6392" y="6409"/>
                  <a:pt x="6445" y="6382"/>
                </a:cubicBezTo>
                <a:cubicBezTo>
                  <a:pt x="6517" y="6345"/>
                  <a:pt x="6503" y="6280"/>
                  <a:pt x="6477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4"/>
          <p:cNvSpPr/>
          <p:nvPr/>
        </p:nvSpPr>
        <p:spPr>
          <a:xfrm>
            <a:off x="3235320" y="1782720"/>
            <a:ext cx="1189080" cy="685800"/>
          </a:xfrm>
          <a:custGeom>
            <a:avLst/>
            <a:gdLst/>
            <a:ahLst/>
            <a:rect l="l" t="t" r="r" b="b"/>
            <a:pathLst>
              <a:path w="3303" h="1906">
                <a:moveTo>
                  <a:pt x="9462" y="5524"/>
                </a:moveTo>
                <a:cubicBezTo>
                  <a:pt x="9449" y="5574"/>
                  <a:pt x="9430" y="5595"/>
                  <a:pt x="9430" y="5652"/>
                </a:cubicBezTo>
                <a:cubicBezTo>
                  <a:pt x="9430" y="5742"/>
                  <a:pt x="9413" y="5792"/>
                  <a:pt x="9398" y="5874"/>
                </a:cubicBezTo>
                <a:cubicBezTo>
                  <a:pt x="9387" y="5935"/>
                  <a:pt x="9412" y="6025"/>
                  <a:pt x="9462" y="6064"/>
                </a:cubicBezTo>
                <a:cubicBezTo>
                  <a:pt x="9521" y="6110"/>
                  <a:pt x="9565" y="6070"/>
                  <a:pt x="9620" y="6064"/>
                </a:cubicBezTo>
                <a:cubicBezTo>
                  <a:pt x="9658" y="6060"/>
                  <a:pt x="9774" y="6047"/>
                  <a:pt x="9811" y="6032"/>
                </a:cubicBezTo>
                <a:cubicBezTo>
                  <a:pt x="9861" y="6012"/>
                  <a:pt x="9893" y="5988"/>
                  <a:pt x="9906" y="5937"/>
                </a:cubicBezTo>
              </a:path>
              <a:path w="3303" h="1906">
                <a:moveTo>
                  <a:pt x="9842" y="5556"/>
                </a:moveTo>
                <a:cubicBezTo>
                  <a:pt x="9798" y="5616"/>
                  <a:pt x="9811" y="5669"/>
                  <a:pt x="9811" y="5747"/>
                </a:cubicBezTo>
                <a:cubicBezTo>
                  <a:pt x="9811" y="5848"/>
                  <a:pt x="9783" y="5933"/>
                  <a:pt x="9779" y="6032"/>
                </a:cubicBezTo>
                <a:cubicBezTo>
                  <a:pt x="9775" y="6121"/>
                  <a:pt x="9739" y="6453"/>
                  <a:pt x="9811" y="6477"/>
                </a:cubicBezTo>
              </a:path>
              <a:path w="3303" h="1906">
                <a:moveTo>
                  <a:pt x="10224" y="5683"/>
                </a:moveTo>
                <a:cubicBezTo>
                  <a:pt x="10188" y="5743"/>
                  <a:pt x="10164" y="5801"/>
                  <a:pt x="10160" y="5874"/>
                </a:cubicBezTo>
                <a:cubicBezTo>
                  <a:pt x="10154" y="5979"/>
                  <a:pt x="10169" y="6063"/>
                  <a:pt x="10192" y="6160"/>
                </a:cubicBezTo>
                <a:cubicBezTo>
                  <a:pt x="10206" y="6222"/>
                  <a:pt x="10253" y="6264"/>
                  <a:pt x="10319" y="6286"/>
                </a:cubicBezTo>
                <a:cubicBezTo>
                  <a:pt x="10376" y="6305"/>
                  <a:pt x="10453" y="6279"/>
                  <a:pt x="10478" y="6223"/>
                </a:cubicBezTo>
                <a:cubicBezTo>
                  <a:pt x="10499" y="6175"/>
                  <a:pt x="10509" y="6089"/>
                  <a:pt x="10509" y="6032"/>
                </a:cubicBezTo>
                <a:cubicBezTo>
                  <a:pt x="10509" y="5977"/>
                  <a:pt x="10510" y="5982"/>
                  <a:pt x="10478" y="5937"/>
                </a:cubicBezTo>
                <a:cubicBezTo>
                  <a:pt x="10436" y="5948"/>
                  <a:pt x="10392" y="5986"/>
                  <a:pt x="10382" y="6032"/>
                </a:cubicBezTo>
                <a:cubicBezTo>
                  <a:pt x="10364" y="6115"/>
                  <a:pt x="10400" y="6160"/>
                  <a:pt x="10414" y="6223"/>
                </a:cubicBezTo>
                <a:cubicBezTo>
                  <a:pt x="10430" y="6298"/>
                  <a:pt x="10436" y="6316"/>
                  <a:pt x="10478" y="6255"/>
                </a:cubicBezTo>
              </a:path>
              <a:path w="3303" h="1906">
                <a:moveTo>
                  <a:pt x="10636" y="5652"/>
                </a:moveTo>
                <a:cubicBezTo>
                  <a:pt x="10733" y="5652"/>
                  <a:pt x="10807" y="5645"/>
                  <a:pt x="10890" y="5620"/>
                </a:cubicBezTo>
                <a:cubicBezTo>
                  <a:pt x="10934" y="5607"/>
                  <a:pt x="10979" y="5614"/>
                  <a:pt x="11017" y="5588"/>
                </a:cubicBezTo>
                <a:cubicBezTo>
                  <a:pt x="11028" y="5577"/>
                  <a:pt x="11038" y="5567"/>
                  <a:pt x="11049" y="5556"/>
                </a:cubicBezTo>
                <a:cubicBezTo>
                  <a:pt x="11049" y="5617"/>
                  <a:pt x="11021" y="5657"/>
                  <a:pt x="11017" y="5715"/>
                </a:cubicBezTo>
                <a:cubicBezTo>
                  <a:pt x="11004" y="5904"/>
                  <a:pt x="11017" y="6097"/>
                  <a:pt x="11017" y="6286"/>
                </a:cubicBezTo>
              </a:path>
              <a:path w="3303" h="1906">
                <a:moveTo>
                  <a:pt x="10795" y="5969"/>
                </a:moveTo>
                <a:cubicBezTo>
                  <a:pt x="10863" y="5969"/>
                  <a:pt x="10885" y="5995"/>
                  <a:pt x="10954" y="6001"/>
                </a:cubicBezTo>
                <a:cubicBezTo>
                  <a:pt x="11048" y="6009"/>
                  <a:pt x="11146" y="6001"/>
                  <a:pt x="11240" y="6001"/>
                </a:cubicBezTo>
              </a:path>
              <a:path w="3303" h="1906">
                <a:moveTo>
                  <a:pt x="11462" y="6160"/>
                </a:moveTo>
                <a:cubicBezTo>
                  <a:pt x="11430" y="6191"/>
                  <a:pt x="11419" y="6201"/>
                  <a:pt x="11462" y="6160"/>
                </a:cubicBezTo>
              </a:path>
              <a:path w="3303" h="1906">
                <a:moveTo>
                  <a:pt x="12128" y="5683"/>
                </a:moveTo>
                <a:cubicBezTo>
                  <a:pt x="12128" y="5622"/>
                  <a:pt x="12132" y="5604"/>
                  <a:pt x="12097" y="5556"/>
                </a:cubicBezTo>
                <a:cubicBezTo>
                  <a:pt x="12018" y="5576"/>
                  <a:pt x="11989" y="5622"/>
                  <a:pt x="11938" y="5683"/>
                </a:cubicBezTo>
                <a:cubicBezTo>
                  <a:pt x="11873" y="5761"/>
                  <a:pt x="11843" y="5769"/>
                  <a:pt x="11843" y="5874"/>
                </a:cubicBezTo>
                <a:cubicBezTo>
                  <a:pt x="11843" y="5941"/>
                  <a:pt x="11906" y="5913"/>
                  <a:pt x="11938" y="5906"/>
                </a:cubicBezTo>
                <a:cubicBezTo>
                  <a:pt x="12016" y="5889"/>
                  <a:pt x="12019" y="5839"/>
                  <a:pt x="12065" y="5778"/>
                </a:cubicBezTo>
                <a:cubicBezTo>
                  <a:pt x="12098" y="5734"/>
                  <a:pt x="12120" y="5614"/>
                  <a:pt x="12160" y="5652"/>
                </a:cubicBezTo>
                <a:cubicBezTo>
                  <a:pt x="12202" y="5691"/>
                  <a:pt x="12128" y="5753"/>
                  <a:pt x="12128" y="5810"/>
                </a:cubicBezTo>
                <a:cubicBezTo>
                  <a:pt x="12128" y="5879"/>
                  <a:pt x="12141" y="5996"/>
                  <a:pt x="12160" y="6064"/>
                </a:cubicBezTo>
                <a:cubicBezTo>
                  <a:pt x="12180" y="6135"/>
                  <a:pt x="12197" y="6219"/>
                  <a:pt x="12224" y="6286"/>
                </a:cubicBezTo>
                <a:cubicBezTo>
                  <a:pt x="12250" y="6338"/>
                  <a:pt x="12247" y="6359"/>
                  <a:pt x="12287" y="6350"/>
                </a:cubicBezTo>
              </a:path>
              <a:path w="3303" h="1906">
                <a:moveTo>
                  <a:pt x="9716" y="4985"/>
                </a:moveTo>
                <a:cubicBezTo>
                  <a:pt x="9614" y="4960"/>
                  <a:pt x="9562" y="4976"/>
                  <a:pt x="9462" y="4985"/>
                </a:cubicBezTo>
                <a:cubicBezTo>
                  <a:pt x="9346" y="4995"/>
                  <a:pt x="9241" y="4972"/>
                  <a:pt x="9144" y="4953"/>
                </a:cubicBezTo>
                <a:cubicBezTo>
                  <a:pt x="9114" y="4947"/>
                  <a:pt x="9080" y="4957"/>
                  <a:pt x="9049" y="4953"/>
                </a:cubicBezTo>
                <a:cubicBezTo>
                  <a:pt x="9049" y="5045"/>
                  <a:pt x="9067" y="5117"/>
                  <a:pt x="9080" y="5207"/>
                </a:cubicBezTo>
                <a:cubicBezTo>
                  <a:pt x="9134" y="5592"/>
                  <a:pt x="9083" y="6034"/>
                  <a:pt x="9049" y="6414"/>
                </a:cubicBezTo>
                <a:cubicBezTo>
                  <a:pt x="9041" y="6499"/>
                  <a:pt x="8974" y="6688"/>
                  <a:pt x="8985" y="6763"/>
                </a:cubicBezTo>
                <a:cubicBezTo>
                  <a:pt x="8997" y="6848"/>
                  <a:pt x="9068" y="6832"/>
                  <a:pt x="9112" y="6826"/>
                </a:cubicBezTo>
                <a:cubicBezTo>
                  <a:pt x="9200" y="6814"/>
                  <a:pt x="9284" y="6799"/>
                  <a:pt x="9366" y="6763"/>
                </a:cubicBezTo>
                <a:cubicBezTo>
                  <a:pt x="9453" y="6725"/>
                  <a:pt x="9526" y="6731"/>
                  <a:pt x="9620" y="6731"/>
                </a:cubicBezTo>
                <a:cubicBezTo>
                  <a:pt x="9678" y="6731"/>
                  <a:pt x="9695" y="6727"/>
                  <a:pt x="9716" y="6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nk 5"/>
          <p:cNvSpPr/>
          <p:nvPr/>
        </p:nvSpPr>
        <p:spPr>
          <a:xfrm>
            <a:off x="4721400" y="1793880"/>
            <a:ext cx="1576080" cy="674640"/>
          </a:xfrm>
          <a:custGeom>
            <a:avLst/>
            <a:gdLst/>
            <a:ahLst/>
            <a:rect l="l" t="t" r="r" b="b"/>
            <a:pathLst>
              <a:path w="4382" h="1874">
                <a:moveTo>
                  <a:pt x="13144" y="5556"/>
                </a:moveTo>
                <a:cubicBezTo>
                  <a:pt x="13144" y="5742"/>
                  <a:pt x="13138" y="5916"/>
                  <a:pt x="13113" y="6096"/>
                </a:cubicBezTo>
                <a:cubicBezTo>
                  <a:pt x="13102" y="6173"/>
                  <a:pt x="13137" y="6215"/>
                  <a:pt x="13144" y="6286"/>
                </a:cubicBezTo>
                <a:cubicBezTo>
                  <a:pt x="13144" y="6318"/>
                  <a:pt x="13144" y="6329"/>
                  <a:pt x="13144" y="6350"/>
                </a:cubicBezTo>
              </a:path>
              <a:path w="4382" h="1874">
                <a:moveTo>
                  <a:pt x="13494" y="5778"/>
                </a:moveTo>
                <a:cubicBezTo>
                  <a:pt x="13505" y="5768"/>
                  <a:pt x="13515" y="5757"/>
                  <a:pt x="13526" y="5747"/>
                </a:cubicBezTo>
                <a:cubicBezTo>
                  <a:pt x="13457" y="5792"/>
                  <a:pt x="13429" y="5792"/>
                  <a:pt x="13367" y="5842"/>
                </a:cubicBezTo>
                <a:cubicBezTo>
                  <a:pt x="13308" y="5889"/>
                  <a:pt x="13283" y="5944"/>
                  <a:pt x="13240" y="6001"/>
                </a:cubicBezTo>
                <a:cubicBezTo>
                  <a:pt x="13218" y="6029"/>
                  <a:pt x="13184" y="6085"/>
                  <a:pt x="13208" y="6128"/>
                </a:cubicBezTo>
                <a:cubicBezTo>
                  <a:pt x="13245" y="6195"/>
                  <a:pt x="13282" y="6172"/>
                  <a:pt x="13335" y="6191"/>
                </a:cubicBezTo>
                <a:cubicBezTo>
                  <a:pt x="13386" y="6209"/>
                  <a:pt x="13484" y="6232"/>
                  <a:pt x="13526" y="6255"/>
                </a:cubicBezTo>
                <a:cubicBezTo>
                  <a:pt x="13564" y="6276"/>
                  <a:pt x="13586" y="6291"/>
                  <a:pt x="13621" y="6318"/>
                </a:cubicBezTo>
              </a:path>
              <a:path w="4382" h="1874">
                <a:moveTo>
                  <a:pt x="13843" y="5715"/>
                </a:moveTo>
                <a:cubicBezTo>
                  <a:pt x="13806" y="5751"/>
                  <a:pt x="13842" y="5784"/>
                  <a:pt x="13875" y="5842"/>
                </a:cubicBezTo>
                <a:cubicBezTo>
                  <a:pt x="13923" y="5928"/>
                  <a:pt x="13941" y="6010"/>
                  <a:pt x="13970" y="6096"/>
                </a:cubicBezTo>
                <a:cubicBezTo>
                  <a:pt x="13984" y="6138"/>
                  <a:pt x="14081" y="6230"/>
                  <a:pt x="14034" y="6286"/>
                </a:cubicBezTo>
                <a:cubicBezTo>
                  <a:pt x="14012" y="6312"/>
                  <a:pt x="13909" y="6378"/>
                  <a:pt x="13875" y="6382"/>
                </a:cubicBezTo>
                <a:cubicBezTo>
                  <a:pt x="13822" y="6388"/>
                  <a:pt x="13782" y="6321"/>
                  <a:pt x="13748" y="6286"/>
                </a:cubicBezTo>
              </a:path>
              <a:path w="4382" h="1874">
                <a:moveTo>
                  <a:pt x="13652" y="5747"/>
                </a:moveTo>
                <a:cubicBezTo>
                  <a:pt x="13710" y="5733"/>
                  <a:pt x="13742" y="5715"/>
                  <a:pt x="13811" y="5715"/>
                </a:cubicBezTo>
                <a:cubicBezTo>
                  <a:pt x="13884" y="5715"/>
                  <a:pt x="13996" y="5706"/>
                  <a:pt x="14065" y="5683"/>
                </a:cubicBezTo>
                <a:cubicBezTo>
                  <a:pt x="14129" y="5662"/>
                  <a:pt x="14156" y="5652"/>
                  <a:pt x="14224" y="5652"/>
                </a:cubicBezTo>
              </a:path>
              <a:path w="4382" h="1874">
                <a:moveTo>
                  <a:pt x="14732" y="5398"/>
                </a:moveTo>
                <a:cubicBezTo>
                  <a:pt x="14732" y="5462"/>
                  <a:pt x="14716" y="5528"/>
                  <a:pt x="14700" y="5588"/>
                </a:cubicBezTo>
                <a:cubicBezTo>
                  <a:pt x="14667" y="5715"/>
                  <a:pt x="14665" y="5843"/>
                  <a:pt x="14637" y="5969"/>
                </a:cubicBezTo>
                <a:cubicBezTo>
                  <a:pt x="14608" y="6099"/>
                  <a:pt x="14559" y="6219"/>
                  <a:pt x="14542" y="6350"/>
                </a:cubicBezTo>
                <a:cubicBezTo>
                  <a:pt x="14533" y="6418"/>
                  <a:pt x="14510" y="6471"/>
                  <a:pt x="14510" y="6540"/>
                </a:cubicBezTo>
              </a:path>
              <a:path w="4382" h="1874">
                <a:moveTo>
                  <a:pt x="14859" y="5937"/>
                </a:moveTo>
                <a:cubicBezTo>
                  <a:pt x="14888" y="5909"/>
                  <a:pt x="14894" y="5899"/>
                  <a:pt x="14922" y="5906"/>
                </a:cubicBezTo>
                <a:cubicBezTo>
                  <a:pt x="14955" y="5982"/>
                  <a:pt x="14981" y="6045"/>
                  <a:pt x="14986" y="6128"/>
                </a:cubicBezTo>
                <a:cubicBezTo>
                  <a:pt x="14988" y="6170"/>
                  <a:pt x="14986" y="6384"/>
                  <a:pt x="14986" y="6318"/>
                </a:cubicBezTo>
                <a:cubicBezTo>
                  <a:pt x="14965" y="6263"/>
                  <a:pt x="14927" y="6160"/>
                  <a:pt x="14954" y="6096"/>
                </a:cubicBezTo>
                <a:cubicBezTo>
                  <a:pt x="14967" y="6065"/>
                  <a:pt x="15079" y="5954"/>
                  <a:pt x="15113" y="5969"/>
                </a:cubicBezTo>
                <a:cubicBezTo>
                  <a:pt x="15158" y="5989"/>
                  <a:pt x="15230" y="6084"/>
                  <a:pt x="15240" y="6128"/>
                </a:cubicBezTo>
                <a:cubicBezTo>
                  <a:pt x="15251" y="6172"/>
                  <a:pt x="15240" y="6239"/>
                  <a:pt x="15240" y="6286"/>
                </a:cubicBezTo>
                <a:cubicBezTo>
                  <a:pt x="15240" y="6204"/>
                  <a:pt x="15260" y="6145"/>
                  <a:pt x="15272" y="6064"/>
                </a:cubicBezTo>
                <a:cubicBezTo>
                  <a:pt x="15283" y="5987"/>
                  <a:pt x="15289" y="5957"/>
                  <a:pt x="15367" y="5937"/>
                </a:cubicBezTo>
                <a:cubicBezTo>
                  <a:pt x="15406" y="6002"/>
                  <a:pt x="15426" y="6079"/>
                  <a:pt x="15430" y="6160"/>
                </a:cubicBezTo>
                <a:cubicBezTo>
                  <a:pt x="15434" y="6238"/>
                  <a:pt x="15474" y="6283"/>
                  <a:pt x="15494" y="6350"/>
                </a:cubicBezTo>
                <a:cubicBezTo>
                  <a:pt x="15512" y="6409"/>
                  <a:pt x="15523" y="6379"/>
                  <a:pt x="15589" y="6350"/>
                </a:cubicBezTo>
              </a:path>
              <a:path w="4382" h="1874">
                <a:moveTo>
                  <a:pt x="15748" y="5969"/>
                </a:moveTo>
                <a:cubicBezTo>
                  <a:pt x="15732" y="6046"/>
                  <a:pt x="15691" y="6082"/>
                  <a:pt x="15684" y="6160"/>
                </a:cubicBezTo>
                <a:cubicBezTo>
                  <a:pt x="15681" y="6192"/>
                  <a:pt x="15688" y="6308"/>
                  <a:pt x="15716" y="6318"/>
                </a:cubicBezTo>
                <a:cubicBezTo>
                  <a:pt x="15776" y="6340"/>
                  <a:pt x="15848" y="6348"/>
                  <a:pt x="15907" y="6318"/>
                </a:cubicBezTo>
                <a:cubicBezTo>
                  <a:pt x="15948" y="6297"/>
                  <a:pt x="15999" y="6233"/>
                  <a:pt x="16002" y="6191"/>
                </a:cubicBezTo>
                <a:cubicBezTo>
                  <a:pt x="16009" y="6095"/>
                  <a:pt x="16003" y="6066"/>
                  <a:pt x="15938" y="6001"/>
                </a:cubicBezTo>
                <a:cubicBezTo>
                  <a:pt x="15902" y="5964"/>
                  <a:pt x="15784" y="5968"/>
                  <a:pt x="15843" y="5937"/>
                </a:cubicBezTo>
              </a:path>
              <a:path w="4382" h="1874">
                <a:moveTo>
                  <a:pt x="16224" y="5620"/>
                </a:moveTo>
                <a:cubicBezTo>
                  <a:pt x="16224" y="5706"/>
                  <a:pt x="16243" y="5763"/>
                  <a:pt x="16256" y="5842"/>
                </a:cubicBezTo>
                <a:cubicBezTo>
                  <a:pt x="16272" y="5936"/>
                  <a:pt x="16190" y="6365"/>
                  <a:pt x="16288" y="6414"/>
                </a:cubicBezTo>
                <a:cubicBezTo>
                  <a:pt x="16299" y="6414"/>
                  <a:pt x="16309" y="6414"/>
                  <a:pt x="16320" y="6414"/>
                </a:cubicBezTo>
              </a:path>
              <a:path w="4382" h="1874">
                <a:moveTo>
                  <a:pt x="16478" y="6286"/>
                </a:moveTo>
                <a:cubicBezTo>
                  <a:pt x="16533" y="6243"/>
                  <a:pt x="16586" y="6210"/>
                  <a:pt x="16637" y="6160"/>
                </a:cubicBezTo>
                <a:cubicBezTo>
                  <a:pt x="16701" y="6096"/>
                  <a:pt x="16666" y="6068"/>
                  <a:pt x="16700" y="6001"/>
                </a:cubicBezTo>
                <a:cubicBezTo>
                  <a:pt x="16729" y="5972"/>
                  <a:pt x="16740" y="5966"/>
                  <a:pt x="16732" y="5937"/>
                </a:cubicBezTo>
                <a:cubicBezTo>
                  <a:pt x="16666" y="5888"/>
                  <a:pt x="16637" y="5912"/>
                  <a:pt x="16574" y="5969"/>
                </a:cubicBezTo>
                <a:cubicBezTo>
                  <a:pt x="16496" y="6039"/>
                  <a:pt x="16472" y="6051"/>
                  <a:pt x="16446" y="6160"/>
                </a:cubicBezTo>
                <a:cubicBezTo>
                  <a:pt x="16430" y="6229"/>
                  <a:pt x="16504" y="6308"/>
                  <a:pt x="16542" y="6350"/>
                </a:cubicBezTo>
                <a:cubicBezTo>
                  <a:pt x="16598" y="6411"/>
                  <a:pt x="16617" y="6414"/>
                  <a:pt x="16700" y="6414"/>
                </a:cubicBezTo>
                <a:cubicBezTo>
                  <a:pt x="16767" y="6414"/>
                  <a:pt x="16773" y="6396"/>
                  <a:pt x="16828" y="6382"/>
                </a:cubicBezTo>
              </a:path>
              <a:path w="4382" h="1874">
                <a:moveTo>
                  <a:pt x="16510" y="4985"/>
                </a:moveTo>
                <a:cubicBezTo>
                  <a:pt x="16564" y="5005"/>
                  <a:pt x="16638" y="5040"/>
                  <a:pt x="16700" y="5048"/>
                </a:cubicBezTo>
                <a:cubicBezTo>
                  <a:pt x="16831" y="5065"/>
                  <a:pt x="16953" y="5093"/>
                  <a:pt x="17082" y="5112"/>
                </a:cubicBezTo>
                <a:cubicBezTo>
                  <a:pt x="17191" y="5128"/>
                  <a:pt x="17265" y="5099"/>
                  <a:pt x="17367" y="5144"/>
                </a:cubicBezTo>
                <a:cubicBezTo>
                  <a:pt x="17443" y="5177"/>
                  <a:pt x="17469" y="5167"/>
                  <a:pt x="17494" y="5239"/>
                </a:cubicBezTo>
                <a:cubicBezTo>
                  <a:pt x="17534" y="5351"/>
                  <a:pt x="17475" y="5518"/>
                  <a:pt x="17462" y="5620"/>
                </a:cubicBezTo>
                <a:cubicBezTo>
                  <a:pt x="17434" y="5840"/>
                  <a:pt x="17460" y="6068"/>
                  <a:pt x="17431" y="6286"/>
                </a:cubicBezTo>
                <a:cubicBezTo>
                  <a:pt x="17417" y="6394"/>
                  <a:pt x="17399" y="6492"/>
                  <a:pt x="17399" y="6604"/>
                </a:cubicBezTo>
                <a:cubicBezTo>
                  <a:pt x="17399" y="6689"/>
                  <a:pt x="17399" y="6773"/>
                  <a:pt x="17399" y="6858"/>
                </a:cubicBezTo>
                <a:cubicBezTo>
                  <a:pt x="17187" y="6858"/>
                  <a:pt x="16976" y="6858"/>
                  <a:pt x="16764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Ink 6"/>
          <p:cNvSpPr/>
          <p:nvPr/>
        </p:nvSpPr>
        <p:spPr>
          <a:xfrm>
            <a:off x="2479680" y="3029040"/>
            <a:ext cx="15559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7080" y="8477"/>
                </a:moveTo>
                <a:cubicBezTo>
                  <a:pt x="7080" y="8572"/>
                  <a:pt x="7110" y="8613"/>
                  <a:pt x="7144" y="8700"/>
                </a:cubicBezTo>
                <a:cubicBezTo>
                  <a:pt x="7190" y="8817"/>
                  <a:pt x="7203" y="8955"/>
                  <a:pt x="7207" y="9080"/>
                </a:cubicBezTo>
                <a:cubicBezTo>
                  <a:pt x="7212" y="9215"/>
                  <a:pt x="7252" y="9332"/>
                  <a:pt x="7271" y="9462"/>
                </a:cubicBezTo>
                <a:cubicBezTo>
                  <a:pt x="7283" y="9543"/>
                  <a:pt x="7257" y="9528"/>
                  <a:pt x="7302" y="9588"/>
                </a:cubicBezTo>
              </a:path>
              <a:path w="4319" h="1271">
                <a:moveTo>
                  <a:pt x="6953" y="8731"/>
                </a:moveTo>
                <a:cubicBezTo>
                  <a:pt x="6906" y="8635"/>
                  <a:pt x="6874" y="8600"/>
                  <a:pt x="6922" y="8509"/>
                </a:cubicBezTo>
                <a:cubicBezTo>
                  <a:pt x="6971" y="8417"/>
                  <a:pt x="7036" y="8419"/>
                  <a:pt x="7144" y="8414"/>
                </a:cubicBezTo>
                <a:cubicBezTo>
                  <a:pt x="7222" y="8410"/>
                  <a:pt x="7373" y="8447"/>
                  <a:pt x="7430" y="8509"/>
                </a:cubicBezTo>
                <a:cubicBezTo>
                  <a:pt x="7508" y="8593"/>
                  <a:pt x="7453" y="8723"/>
                  <a:pt x="7398" y="8795"/>
                </a:cubicBezTo>
                <a:cubicBezTo>
                  <a:pt x="7317" y="8901"/>
                  <a:pt x="7193" y="8982"/>
                  <a:pt x="7080" y="9049"/>
                </a:cubicBezTo>
                <a:cubicBezTo>
                  <a:pt x="7007" y="9092"/>
                  <a:pt x="7009" y="9090"/>
                  <a:pt x="6953" y="9049"/>
                </a:cubicBezTo>
                <a:cubicBezTo>
                  <a:pt x="7024" y="8978"/>
                  <a:pt x="7079" y="8956"/>
                  <a:pt x="7176" y="8922"/>
                </a:cubicBezTo>
                <a:cubicBezTo>
                  <a:pt x="7292" y="8882"/>
                  <a:pt x="7377" y="8877"/>
                  <a:pt x="7493" y="8922"/>
                </a:cubicBezTo>
                <a:cubicBezTo>
                  <a:pt x="7609" y="8967"/>
                  <a:pt x="7649" y="9055"/>
                  <a:pt x="7620" y="9176"/>
                </a:cubicBezTo>
                <a:cubicBezTo>
                  <a:pt x="7594" y="9285"/>
                  <a:pt x="7511" y="9448"/>
                  <a:pt x="7430" y="9525"/>
                </a:cubicBezTo>
                <a:cubicBezTo>
                  <a:pt x="7420" y="9534"/>
                  <a:pt x="7227" y="9686"/>
                  <a:pt x="7207" y="9684"/>
                </a:cubicBezTo>
                <a:cubicBezTo>
                  <a:pt x="7171" y="9647"/>
                  <a:pt x="7161" y="9630"/>
                  <a:pt x="7176" y="9588"/>
                </a:cubicBezTo>
              </a:path>
              <a:path w="4319" h="1271">
                <a:moveTo>
                  <a:pt x="7810" y="9271"/>
                </a:moveTo>
                <a:cubicBezTo>
                  <a:pt x="7874" y="9263"/>
                  <a:pt x="8015" y="9257"/>
                  <a:pt x="8064" y="9208"/>
                </a:cubicBezTo>
                <a:cubicBezTo>
                  <a:pt x="8078" y="9194"/>
                  <a:pt x="8126" y="9077"/>
                  <a:pt x="8128" y="9049"/>
                </a:cubicBezTo>
                <a:cubicBezTo>
                  <a:pt x="8128" y="8991"/>
                  <a:pt x="8133" y="8975"/>
                  <a:pt x="8096" y="8954"/>
                </a:cubicBezTo>
                <a:cubicBezTo>
                  <a:pt x="8016" y="8973"/>
                  <a:pt x="7990" y="9021"/>
                  <a:pt x="7938" y="9080"/>
                </a:cubicBezTo>
                <a:cubicBezTo>
                  <a:pt x="7853" y="9177"/>
                  <a:pt x="7842" y="9173"/>
                  <a:pt x="7842" y="9303"/>
                </a:cubicBezTo>
                <a:cubicBezTo>
                  <a:pt x="7842" y="9393"/>
                  <a:pt x="7895" y="9418"/>
                  <a:pt x="7969" y="9462"/>
                </a:cubicBezTo>
                <a:cubicBezTo>
                  <a:pt x="8059" y="9515"/>
                  <a:pt x="8126" y="9473"/>
                  <a:pt x="8223" y="9462"/>
                </a:cubicBezTo>
              </a:path>
              <a:path w="4319" h="1271">
                <a:moveTo>
                  <a:pt x="8700" y="8954"/>
                </a:moveTo>
                <a:cubicBezTo>
                  <a:pt x="8597" y="8968"/>
                  <a:pt x="8563" y="9016"/>
                  <a:pt x="8509" y="9112"/>
                </a:cubicBezTo>
                <a:cubicBezTo>
                  <a:pt x="8465" y="9192"/>
                  <a:pt x="8446" y="9244"/>
                  <a:pt x="8446" y="9334"/>
                </a:cubicBezTo>
                <a:cubicBezTo>
                  <a:pt x="8446" y="9428"/>
                  <a:pt x="8482" y="9457"/>
                  <a:pt x="8572" y="9462"/>
                </a:cubicBezTo>
                <a:cubicBezTo>
                  <a:pt x="8646" y="9462"/>
                  <a:pt x="8678" y="9462"/>
                  <a:pt x="8731" y="9462"/>
                </a:cubicBezTo>
              </a:path>
              <a:path w="4319" h="1271">
                <a:moveTo>
                  <a:pt x="9112" y="8985"/>
                </a:moveTo>
                <a:cubicBezTo>
                  <a:pt x="9043" y="9032"/>
                  <a:pt x="9028" y="9062"/>
                  <a:pt x="8985" y="9144"/>
                </a:cubicBezTo>
                <a:cubicBezTo>
                  <a:pt x="8936" y="9238"/>
                  <a:pt x="8922" y="9293"/>
                  <a:pt x="8922" y="9398"/>
                </a:cubicBezTo>
                <a:cubicBezTo>
                  <a:pt x="8922" y="9460"/>
                  <a:pt x="8991" y="9487"/>
                  <a:pt x="9049" y="9462"/>
                </a:cubicBezTo>
                <a:cubicBezTo>
                  <a:pt x="9092" y="9444"/>
                  <a:pt x="9166" y="9345"/>
                  <a:pt x="9176" y="9303"/>
                </a:cubicBezTo>
                <a:cubicBezTo>
                  <a:pt x="9188" y="9254"/>
                  <a:pt x="9190" y="9140"/>
                  <a:pt x="9144" y="9112"/>
                </a:cubicBezTo>
                <a:cubicBezTo>
                  <a:pt x="9133" y="9112"/>
                  <a:pt x="9123" y="9112"/>
                  <a:pt x="9112" y="9112"/>
                </a:cubicBezTo>
                <a:cubicBezTo>
                  <a:pt x="9112" y="9189"/>
                  <a:pt x="9109" y="9239"/>
                  <a:pt x="9144" y="9303"/>
                </a:cubicBezTo>
                <a:cubicBezTo>
                  <a:pt x="9174" y="9359"/>
                  <a:pt x="9203" y="9425"/>
                  <a:pt x="9271" y="9430"/>
                </a:cubicBezTo>
                <a:cubicBezTo>
                  <a:pt x="9330" y="9434"/>
                  <a:pt x="9424" y="9449"/>
                  <a:pt x="9462" y="9398"/>
                </a:cubicBezTo>
                <a:cubicBezTo>
                  <a:pt x="9509" y="9337"/>
                  <a:pt x="9545" y="9250"/>
                  <a:pt x="9557" y="9176"/>
                </a:cubicBezTo>
                <a:cubicBezTo>
                  <a:pt x="9557" y="9123"/>
                  <a:pt x="9557" y="9112"/>
                  <a:pt x="9557" y="9080"/>
                </a:cubicBezTo>
                <a:cubicBezTo>
                  <a:pt x="9557" y="9173"/>
                  <a:pt x="9567" y="9218"/>
                  <a:pt x="9588" y="9303"/>
                </a:cubicBezTo>
                <a:cubicBezTo>
                  <a:pt x="9601" y="9356"/>
                  <a:pt x="9626" y="9392"/>
                  <a:pt x="9684" y="9398"/>
                </a:cubicBezTo>
                <a:cubicBezTo>
                  <a:pt x="9733" y="9403"/>
                  <a:pt x="9768" y="9386"/>
                  <a:pt x="9779" y="9334"/>
                </a:cubicBezTo>
                <a:cubicBezTo>
                  <a:pt x="9798" y="9248"/>
                  <a:pt x="9779" y="9138"/>
                  <a:pt x="9779" y="9049"/>
                </a:cubicBezTo>
                <a:cubicBezTo>
                  <a:pt x="9779" y="8967"/>
                  <a:pt x="9810" y="9137"/>
                  <a:pt x="9811" y="9144"/>
                </a:cubicBezTo>
                <a:cubicBezTo>
                  <a:pt x="9824" y="9218"/>
                  <a:pt x="9831" y="9297"/>
                  <a:pt x="9874" y="9366"/>
                </a:cubicBezTo>
                <a:cubicBezTo>
                  <a:pt x="9914" y="9431"/>
                  <a:pt x="9965" y="9456"/>
                  <a:pt x="10033" y="9462"/>
                </a:cubicBezTo>
                <a:cubicBezTo>
                  <a:pt x="10044" y="9462"/>
                  <a:pt x="10054" y="9462"/>
                  <a:pt x="10065" y="9462"/>
                </a:cubicBezTo>
              </a:path>
              <a:path w="4319" h="1271">
                <a:moveTo>
                  <a:pt x="10573" y="8922"/>
                </a:moveTo>
                <a:cubicBezTo>
                  <a:pt x="10516" y="8879"/>
                  <a:pt x="10482" y="8876"/>
                  <a:pt x="10414" y="8922"/>
                </a:cubicBezTo>
                <a:cubicBezTo>
                  <a:pt x="10349" y="8965"/>
                  <a:pt x="10299" y="8959"/>
                  <a:pt x="10255" y="9017"/>
                </a:cubicBezTo>
                <a:cubicBezTo>
                  <a:pt x="10224" y="9058"/>
                  <a:pt x="10198" y="9104"/>
                  <a:pt x="10255" y="9144"/>
                </a:cubicBezTo>
                <a:cubicBezTo>
                  <a:pt x="10306" y="9180"/>
                  <a:pt x="10416" y="9219"/>
                  <a:pt x="10478" y="9239"/>
                </a:cubicBezTo>
                <a:cubicBezTo>
                  <a:pt x="10523" y="9254"/>
                  <a:pt x="10536" y="9266"/>
                  <a:pt x="10573" y="9303"/>
                </a:cubicBezTo>
                <a:cubicBezTo>
                  <a:pt x="10506" y="9356"/>
                  <a:pt x="10464" y="9391"/>
                  <a:pt x="10382" y="9398"/>
                </a:cubicBezTo>
                <a:cubicBezTo>
                  <a:pt x="10371" y="9398"/>
                  <a:pt x="10361" y="9398"/>
                  <a:pt x="10350" y="9398"/>
                </a:cubicBezTo>
              </a:path>
              <a:path w="4319" h="1271">
                <a:moveTo>
                  <a:pt x="10763" y="9208"/>
                </a:moveTo>
                <a:cubicBezTo>
                  <a:pt x="10805" y="9177"/>
                  <a:pt x="10873" y="9132"/>
                  <a:pt x="10922" y="9112"/>
                </a:cubicBezTo>
                <a:cubicBezTo>
                  <a:pt x="10997" y="9082"/>
                  <a:pt x="10978" y="9049"/>
                  <a:pt x="11017" y="8985"/>
                </a:cubicBezTo>
                <a:cubicBezTo>
                  <a:pt x="11055" y="8922"/>
                  <a:pt x="11080" y="8920"/>
                  <a:pt x="11049" y="8858"/>
                </a:cubicBezTo>
                <a:cubicBezTo>
                  <a:pt x="10961" y="8909"/>
                  <a:pt x="10949" y="8939"/>
                  <a:pt x="10890" y="9017"/>
                </a:cubicBezTo>
                <a:cubicBezTo>
                  <a:pt x="10846" y="9075"/>
                  <a:pt x="10841" y="9121"/>
                  <a:pt x="10890" y="9176"/>
                </a:cubicBezTo>
                <a:cubicBezTo>
                  <a:pt x="10932" y="9224"/>
                  <a:pt x="10995" y="9260"/>
                  <a:pt x="11049" y="9271"/>
                </a:cubicBezTo>
                <a:cubicBezTo>
                  <a:pt x="11117" y="9285"/>
                  <a:pt x="11149" y="9264"/>
                  <a:pt x="11208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Ink 7"/>
          <p:cNvSpPr/>
          <p:nvPr/>
        </p:nvSpPr>
        <p:spPr>
          <a:xfrm>
            <a:off x="2879640" y="4022640"/>
            <a:ext cx="1327320" cy="584280"/>
          </a:xfrm>
          <a:custGeom>
            <a:avLst/>
            <a:gdLst/>
            <a:ahLst/>
            <a:rect l="l" t="t" r="r" b="b"/>
            <a:pathLst>
              <a:path w="3684" h="1620">
                <a:moveTo>
                  <a:pt x="8001" y="11874"/>
                </a:moveTo>
                <a:cubicBezTo>
                  <a:pt x="8017" y="11817"/>
                  <a:pt x="8041" y="11754"/>
                  <a:pt x="8096" y="11716"/>
                </a:cubicBezTo>
                <a:cubicBezTo>
                  <a:pt x="8157" y="11674"/>
                  <a:pt x="8248" y="11657"/>
                  <a:pt x="8318" y="11652"/>
                </a:cubicBezTo>
                <a:cubicBezTo>
                  <a:pt x="8344" y="11650"/>
                  <a:pt x="8448" y="11717"/>
                  <a:pt x="8446" y="11748"/>
                </a:cubicBezTo>
                <a:cubicBezTo>
                  <a:pt x="8443" y="11784"/>
                  <a:pt x="8393" y="11894"/>
                  <a:pt x="8350" y="11906"/>
                </a:cubicBezTo>
                <a:cubicBezTo>
                  <a:pt x="8269" y="11929"/>
                  <a:pt x="8217" y="11913"/>
                  <a:pt x="8318" y="11906"/>
                </a:cubicBezTo>
                <a:cubicBezTo>
                  <a:pt x="8403" y="11900"/>
                  <a:pt x="8424" y="11871"/>
                  <a:pt x="8509" y="11906"/>
                </a:cubicBezTo>
                <a:cubicBezTo>
                  <a:pt x="8583" y="11936"/>
                  <a:pt x="8622" y="11987"/>
                  <a:pt x="8636" y="12065"/>
                </a:cubicBezTo>
                <a:cubicBezTo>
                  <a:pt x="8651" y="12151"/>
                  <a:pt x="8626" y="12221"/>
                  <a:pt x="8572" y="12287"/>
                </a:cubicBezTo>
                <a:cubicBezTo>
                  <a:pt x="8527" y="12341"/>
                  <a:pt x="8414" y="12459"/>
                  <a:pt x="8350" y="12478"/>
                </a:cubicBezTo>
                <a:cubicBezTo>
                  <a:pt x="8250" y="12508"/>
                  <a:pt x="8175" y="12485"/>
                  <a:pt x="8128" y="12414"/>
                </a:cubicBezTo>
              </a:path>
              <a:path w="3684" h="1620">
                <a:moveTo>
                  <a:pt x="9303" y="11176"/>
                </a:moveTo>
                <a:cubicBezTo>
                  <a:pt x="9213" y="11212"/>
                  <a:pt x="9188" y="11278"/>
                  <a:pt x="9144" y="11366"/>
                </a:cubicBezTo>
                <a:cubicBezTo>
                  <a:pt x="9080" y="11494"/>
                  <a:pt x="9074" y="11612"/>
                  <a:pt x="9049" y="11748"/>
                </a:cubicBezTo>
                <a:cubicBezTo>
                  <a:pt x="9018" y="11916"/>
                  <a:pt x="8985" y="12052"/>
                  <a:pt x="8985" y="12224"/>
                </a:cubicBezTo>
                <a:cubicBezTo>
                  <a:pt x="8985" y="12378"/>
                  <a:pt x="8991" y="12492"/>
                  <a:pt x="9049" y="12636"/>
                </a:cubicBezTo>
                <a:cubicBezTo>
                  <a:pt x="9074" y="12698"/>
                  <a:pt x="9142" y="12778"/>
                  <a:pt x="9208" y="12795"/>
                </a:cubicBezTo>
                <a:cubicBezTo>
                  <a:pt x="9229" y="12795"/>
                  <a:pt x="9250" y="12795"/>
                  <a:pt x="9271" y="12795"/>
                </a:cubicBezTo>
              </a:path>
              <a:path w="3684" h="1620">
                <a:moveTo>
                  <a:pt x="9462" y="12002"/>
                </a:moveTo>
                <a:cubicBezTo>
                  <a:pt x="9528" y="12030"/>
                  <a:pt x="9551" y="12033"/>
                  <a:pt x="9620" y="12033"/>
                </a:cubicBezTo>
                <a:cubicBezTo>
                  <a:pt x="9705" y="12033"/>
                  <a:pt x="9789" y="12033"/>
                  <a:pt x="9874" y="12033"/>
                </a:cubicBezTo>
              </a:path>
              <a:path w="3684" h="1620">
                <a:moveTo>
                  <a:pt x="10096" y="11684"/>
                </a:moveTo>
                <a:cubicBezTo>
                  <a:pt x="10146" y="11634"/>
                  <a:pt x="10194" y="11607"/>
                  <a:pt x="10255" y="11589"/>
                </a:cubicBezTo>
                <a:cubicBezTo>
                  <a:pt x="10299" y="11576"/>
                  <a:pt x="10369" y="11606"/>
                  <a:pt x="10382" y="11652"/>
                </a:cubicBezTo>
                <a:cubicBezTo>
                  <a:pt x="10398" y="11710"/>
                  <a:pt x="10385" y="11771"/>
                  <a:pt x="10350" y="11811"/>
                </a:cubicBezTo>
                <a:cubicBezTo>
                  <a:pt x="10311" y="11856"/>
                  <a:pt x="10173" y="11856"/>
                  <a:pt x="10255" y="11843"/>
                </a:cubicBezTo>
                <a:cubicBezTo>
                  <a:pt x="10320" y="11832"/>
                  <a:pt x="10349" y="11811"/>
                  <a:pt x="10414" y="11811"/>
                </a:cubicBezTo>
                <a:cubicBezTo>
                  <a:pt x="10454" y="11811"/>
                  <a:pt x="10523" y="11866"/>
                  <a:pt x="10541" y="11906"/>
                </a:cubicBezTo>
                <a:cubicBezTo>
                  <a:pt x="10555" y="11937"/>
                  <a:pt x="10497" y="12011"/>
                  <a:pt x="10478" y="12033"/>
                </a:cubicBezTo>
                <a:cubicBezTo>
                  <a:pt x="10440" y="12076"/>
                  <a:pt x="10368" y="12128"/>
                  <a:pt x="10319" y="12160"/>
                </a:cubicBezTo>
                <a:cubicBezTo>
                  <a:pt x="10261" y="12198"/>
                  <a:pt x="10180" y="12221"/>
                  <a:pt x="10160" y="12160"/>
                </a:cubicBezTo>
              </a:path>
              <a:path w="3684" h="1620">
                <a:moveTo>
                  <a:pt x="10858" y="11462"/>
                </a:moveTo>
                <a:cubicBezTo>
                  <a:pt x="10785" y="11462"/>
                  <a:pt x="10760" y="11489"/>
                  <a:pt x="10700" y="11525"/>
                </a:cubicBezTo>
                <a:cubicBezTo>
                  <a:pt x="10661" y="11548"/>
                  <a:pt x="10508" y="11659"/>
                  <a:pt x="10604" y="11716"/>
                </a:cubicBezTo>
                <a:cubicBezTo>
                  <a:pt x="10639" y="11736"/>
                  <a:pt x="10771" y="11696"/>
                  <a:pt x="10795" y="11684"/>
                </a:cubicBezTo>
                <a:cubicBezTo>
                  <a:pt x="10823" y="11670"/>
                  <a:pt x="10907" y="11557"/>
                  <a:pt x="10922" y="11525"/>
                </a:cubicBezTo>
                <a:cubicBezTo>
                  <a:pt x="10922" y="11515"/>
                  <a:pt x="10922" y="11504"/>
                  <a:pt x="10922" y="11494"/>
                </a:cubicBezTo>
                <a:cubicBezTo>
                  <a:pt x="10922" y="11577"/>
                  <a:pt x="10895" y="11635"/>
                  <a:pt x="10890" y="11716"/>
                </a:cubicBezTo>
                <a:cubicBezTo>
                  <a:pt x="10883" y="11832"/>
                  <a:pt x="10897" y="11926"/>
                  <a:pt x="10922" y="12033"/>
                </a:cubicBezTo>
                <a:cubicBezTo>
                  <a:pt x="10936" y="12094"/>
                  <a:pt x="10930" y="12129"/>
                  <a:pt x="10954" y="12192"/>
                </a:cubicBezTo>
              </a:path>
              <a:path w="3684" h="1620">
                <a:moveTo>
                  <a:pt x="11240" y="11525"/>
                </a:moveTo>
                <a:cubicBezTo>
                  <a:pt x="11287" y="11466"/>
                  <a:pt x="11316" y="11443"/>
                  <a:pt x="11366" y="11398"/>
                </a:cubicBezTo>
                <a:cubicBezTo>
                  <a:pt x="11415" y="11354"/>
                  <a:pt x="11469" y="11364"/>
                  <a:pt x="11525" y="11398"/>
                </a:cubicBezTo>
                <a:cubicBezTo>
                  <a:pt x="11561" y="11420"/>
                  <a:pt x="11571" y="11486"/>
                  <a:pt x="11557" y="11525"/>
                </a:cubicBezTo>
                <a:cubicBezTo>
                  <a:pt x="11525" y="11615"/>
                  <a:pt x="11463" y="11626"/>
                  <a:pt x="11398" y="11684"/>
                </a:cubicBezTo>
                <a:cubicBezTo>
                  <a:pt x="11366" y="11716"/>
                  <a:pt x="11356" y="11726"/>
                  <a:pt x="11335" y="11748"/>
                </a:cubicBezTo>
                <a:cubicBezTo>
                  <a:pt x="11383" y="11699"/>
                  <a:pt x="11394" y="11684"/>
                  <a:pt x="11462" y="11684"/>
                </a:cubicBezTo>
                <a:cubicBezTo>
                  <a:pt x="11524" y="11684"/>
                  <a:pt x="11601" y="11685"/>
                  <a:pt x="11652" y="11716"/>
                </a:cubicBezTo>
                <a:cubicBezTo>
                  <a:pt x="11693" y="11741"/>
                  <a:pt x="11700" y="11830"/>
                  <a:pt x="11684" y="11874"/>
                </a:cubicBezTo>
                <a:cubicBezTo>
                  <a:pt x="11659" y="11944"/>
                  <a:pt x="11586" y="12024"/>
                  <a:pt x="11525" y="12065"/>
                </a:cubicBezTo>
                <a:cubicBezTo>
                  <a:pt x="11493" y="12086"/>
                  <a:pt x="11412" y="12153"/>
                  <a:pt x="11366" y="12128"/>
                </a:cubicBezTo>
                <a:cubicBezTo>
                  <a:pt x="11356" y="12118"/>
                  <a:pt x="11345" y="12107"/>
                  <a:pt x="1133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nk 8"/>
          <p:cNvSpPr/>
          <p:nvPr/>
        </p:nvSpPr>
        <p:spPr>
          <a:xfrm>
            <a:off x="3611520" y="4206960"/>
            <a:ext cx="23760" cy="33120"/>
          </a:xfrm>
          <a:custGeom>
            <a:avLst/>
            <a:gdLst/>
            <a:ahLst/>
            <a:rect l="l" t="t" r="r" b="b"/>
            <a:pathLst>
              <a:path w="64" h="96">
                <a:moveTo>
                  <a:pt x="10033" y="11779"/>
                </a:moveTo>
                <a:cubicBezTo>
                  <a:pt x="10044" y="11769"/>
                  <a:pt x="10054" y="11758"/>
                  <a:pt x="10065" y="11748"/>
                </a:cubicBezTo>
              </a:path>
              <a:path w="64" h="96">
                <a:moveTo>
                  <a:pt x="10033" y="11779"/>
                </a:moveTo>
                <a:cubicBezTo>
                  <a:pt x="10054" y="11747"/>
                  <a:pt x="10075" y="11716"/>
                  <a:pt x="10096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Ink 9"/>
          <p:cNvSpPr/>
          <p:nvPr/>
        </p:nvSpPr>
        <p:spPr>
          <a:xfrm>
            <a:off x="3908520" y="1235160"/>
            <a:ext cx="2367000" cy="2914560"/>
          </a:xfrm>
          <a:custGeom>
            <a:avLst/>
            <a:gdLst/>
            <a:ahLst/>
            <a:rect l="l" t="t" r="r" b="b"/>
            <a:pathLst>
              <a:path w="6574" h="8097">
                <a:moveTo>
                  <a:pt x="10858" y="11525"/>
                </a:moveTo>
                <a:cubicBezTo>
                  <a:pt x="10858" y="11515"/>
                  <a:pt x="10858" y="11504"/>
                  <a:pt x="10858" y="11494"/>
                </a:cubicBezTo>
              </a:path>
              <a:path w="6574" h="8097">
                <a:moveTo>
                  <a:pt x="10858" y="11525"/>
                </a:moveTo>
                <a:cubicBezTo>
                  <a:pt x="10858" y="11504"/>
                  <a:pt x="10858" y="11483"/>
                  <a:pt x="10858" y="11462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4286160" y="4000680"/>
            <a:ext cx="1303560" cy="296640"/>
          </a:xfrm>
          <a:custGeom>
            <a:avLst/>
            <a:gdLst/>
            <a:ahLst/>
            <a:rect l="l" t="t" r="r" b="b"/>
            <a:pathLst>
              <a:path w="3621" h="827">
                <a:moveTo>
                  <a:pt x="11906" y="11938"/>
                </a:moveTo>
                <a:lnTo>
                  <a:pt x="11906" y="11938"/>
                </a:lnTo>
              </a:path>
              <a:path w="3621" h="827">
                <a:moveTo>
                  <a:pt x="13494" y="11144"/>
                </a:moveTo>
                <a:cubicBezTo>
                  <a:pt x="13494" y="11133"/>
                  <a:pt x="13494" y="11123"/>
                  <a:pt x="13494" y="11112"/>
                </a:cubicBezTo>
              </a:path>
              <a:path w="3621" h="827">
                <a:moveTo>
                  <a:pt x="13494" y="11144"/>
                </a:moveTo>
                <a:cubicBezTo>
                  <a:pt x="13483" y="11133"/>
                  <a:pt x="13473" y="11123"/>
                  <a:pt x="13462" y="11112"/>
                </a:cubicBezTo>
              </a:path>
              <a:path w="3621" h="827">
                <a:moveTo>
                  <a:pt x="15526" y="11240"/>
                </a:moveTo>
                <a:lnTo>
                  <a:pt x="15526" y="11240"/>
                </a:lnTo>
              </a:path>
              <a:path w="3621" h="827">
                <a:moveTo>
                  <a:pt x="15526" y="11240"/>
                </a:moveTo>
                <a:cubicBezTo>
                  <a:pt x="15515" y="11293"/>
                  <a:pt x="15505" y="11345"/>
                  <a:pt x="154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4365720" y="4035600"/>
            <a:ext cx="172800" cy="250560"/>
          </a:xfrm>
          <a:custGeom>
            <a:avLst/>
            <a:gdLst/>
            <a:ahLst/>
            <a:rect l="l" t="t" r="r" b="b"/>
            <a:pathLst>
              <a:path w="478" h="699">
                <a:moveTo>
                  <a:pt x="12478" y="11271"/>
                </a:moveTo>
                <a:cubicBezTo>
                  <a:pt x="12478" y="11235"/>
                  <a:pt x="12475" y="11222"/>
                  <a:pt x="12446" y="11208"/>
                </a:cubicBezTo>
                <a:cubicBezTo>
                  <a:pt x="12389" y="11220"/>
                  <a:pt x="12311" y="11222"/>
                  <a:pt x="12256" y="11240"/>
                </a:cubicBezTo>
                <a:cubicBezTo>
                  <a:pt x="12191" y="11261"/>
                  <a:pt x="12190" y="11271"/>
                  <a:pt x="12128" y="11271"/>
                </a:cubicBezTo>
                <a:cubicBezTo>
                  <a:pt x="12128" y="11358"/>
                  <a:pt x="12137" y="11392"/>
                  <a:pt x="12160" y="11462"/>
                </a:cubicBezTo>
                <a:cubicBezTo>
                  <a:pt x="12168" y="11486"/>
                  <a:pt x="12160" y="11532"/>
                  <a:pt x="12160" y="11557"/>
                </a:cubicBezTo>
                <a:cubicBezTo>
                  <a:pt x="12205" y="11546"/>
                  <a:pt x="12245" y="11503"/>
                  <a:pt x="12287" y="11494"/>
                </a:cubicBezTo>
                <a:cubicBezTo>
                  <a:pt x="12329" y="11485"/>
                  <a:pt x="12401" y="11446"/>
                  <a:pt x="12446" y="11462"/>
                </a:cubicBezTo>
                <a:cubicBezTo>
                  <a:pt x="12533" y="11493"/>
                  <a:pt x="12533" y="11497"/>
                  <a:pt x="12573" y="11557"/>
                </a:cubicBezTo>
                <a:cubicBezTo>
                  <a:pt x="12607" y="11608"/>
                  <a:pt x="12605" y="11620"/>
                  <a:pt x="12605" y="11684"/>
                </a:cubicBezTo>
                <a:cubicBezTo>
                  <a:pt x="12605" y="11782"/>
                  <a:pt x="12543" y="11795"/>
                  <a:pt x="12478" y="11843"/>
                </a:cubicBezTo>
                <a:cubicBezTo>
                  <a:pt x="12454" y="11861"/>
                  <a:pt x="12348" y="11919"/>
                  <a:pt x="12319" y="11906"/>
                </a:cubicBezTo>
                <a:cubicBezTo>
                  <a:pt x="12308" y="11895"/>
                  <a:pt x="12298" y="11885"/>
                  <a:pt x="12287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4721400" y="3897360"/>
            <a:ext cx="1074600" cy="469800"/>
          </a:xfrm>
          <a:custGeom>
            <a:avLst/>
            <a:gdLst/>
            <a:ahLst/>
            <a:rect l="l" t="t" r="r" b="b"/>
            <a:pathLst>
              <a:path w="2985" h="1302">
                <a:moveTo>
                  <a:pt x="13113" y="11112"/>
                </a:moveTo>
                <a:cubicBezTo>
                  <a:pt x="13113" y="11282"/>
                  <a:pt x="13095" y="11470"/>
                  <a:pt x="13144" y="11620"/>
                </a:cubicBezTo>
                <a:cubicBezTo>
                  <a:pt x="13144" y="11631"/>
                  <a:pt x="13144" y="11641"/>
                  <a:pt x="13144" y="11652"/>
                </a:cubicBezTo>
              </a:path>
              <a:path w="2985" h="1302">
                <a:moveTo>
                  <a:pt x="13462" y="11112"/>
                </a:moveTo>
                <a:cubicBezTo>
                  <a:pt x="13404" y="11135"/>
                  <a:pt x="13329" y="11198"/>
                  <a:pt x="13272" y="11240"/>
                </a:cubicBezTo>
                <a:cubicBezTo>
                  <a:pt x="13237" y="11266"/>
                  <a:pt x="13168" y="11382"/>
                  <a:pt x="13208" y="11430"/>
                </a:cubicBezTo>
                <a:cubicBezTo>
                  <a:pt x="13232" y="11458"/>
                  <a:pt x="13374" y="11489"/>
                  <a:pt x="13398" y="11494"/>
                </a:cubicBezTo>
                <a:cubicBezTo>
                  <a:pt x="13452" y="11505"/>
                  <a:pt x="13509" y="11520"/>
                  <a:pt x="13557" y="11525"/>
                </a:cubicBezTo>
                <a:cubicBezTo>
                  <a:pt x="13568" y="11525"/>
                  <a:pt x="13578" y="11525"/>
                  <a:pt x="13589" y="11525"/>
                </a:cubicBezTo>
              </a:path>
              <a:path w="2985" h="1302">
                <a:moveTo>
                  <a:pt x="13780" y="11049"/>
                </a:moveTo>
                <a:cubicBezTo>
                  <a:pt x="13791" y="11107"/>
                  <a:pt x="13822" y="11159"/>
                  <a:pt x="13843" y="11208"/>
                </a:cubicBezTo>
                <a:cubicBezTo>
                  <a:pt x="13875" y="11282"/>
                  <a:pt x="13875" y="11316"/>
                  <a:pt x="13875" y="11398"/>
                </a:cubicBezTo>
                <a:cubicBezTo>
                  <a:pt x="13875" y="11457"/>
                  <a:pt x="13878" y="11486"/>
                  <a:pt x="13811" y="11494"/>
                </a:cubicBezTo>
                <a:cubicBezTo>
                  <a:pt x="13766" y="11494"/>
                  <a:pt x="13744" y="11488"/>
                  <a:pt x="13716" y="11462"/>
                </a:cubicBezTo>
              </a:path>
              <a:path w="2985" h="1302">
                <a:moveTo>
                  <a:pt x="13557" y="11176"/>
                </a:moveTo>
                <a:cubicBezTo>
                  <a:pt x="13547" y="11165"/>
                  <a:pt x="13536" y="11155"/>
                  <a:pt x="13526" y="11144"/>
                </a:cubicBezTo>
                <a:cubicBezTo>
                  <a:pt x="13585" y="11094"/>
                  <a:pt x="13636" y="11063"/>
                  <a:pt x="13716" y="11049"/>
                </a:cubicBezTo>
                <a:cubicBezTo>
                  <a:pt x="13855" y="11025"/>
                  <a:pt x="14018" y="11049"/>
                  <a:pt x="14160" y="11049"/>
                </a:cubicBezTo>
              </a:path>
              <a:path w="2985" h="1302">
                <a:moveTo>
                  <a:pt x="14414" y="10954"/>
                </a:moveTo>
                <a:cubicBezTo>
                  <a:pt x="14360" y="11027"/>
                  <a:pt x="14372" y="11087"/>
                  <a:pt x="14351" y="11176"/>
                </a:cubicBezTo>
                <a:cubicBezTo>
                  <a:pt x="14311" y="11346"/>
                  <a:pt x="14243" y="11517"/>
                  <a:pt x="14192" y="11684"/>
                </a:cubicBezTo>
                <a:cubicBezTo>
                  <a:pt x="14163" y="11781"/>
                  <a:pt x="14120" y="11884"/>
                  <a:pt x="14097" y="11970"/>
                </a:cubicBezTo>
                <a:cubicBezTo>
                  <a:pt x="14097" y="11981"/>
                  <a:pt x="14097" y="11991"/>
                  <a:pt x="14097" y="12002"/>
                </a:cubicBezTo>
              </a:path>
              <a:path w="2985" h="1302">
                <a:moveTo>
                  <a:pt x="14414" y="11494"/>
                </a:moveTo>
                <a:cubicBezTo>
                  <a:pt x="14456" y="11549"/>
                  <a:pt x="14446" y="11578"/>
                  <a:pt x="14446" y="11652"/>
                </a:cubicBezTo>
                <a:cubicBezTo>
                  <a:pt x="14446" y="11724"/>
                  <a:pt x="14414" y="11771"/>
                  <a:pt x="14414" y="11843"/>
                </a:cubicBezTo>
                <a:cubicBezTo>
                  <a:pt x="14414" y="11864"/>
                  <a:pt x="14414" y="11885"/>
                  <a:pt x="14414" y="11906"/>
                </a:cubicBezTo>
                <a:cubicBezTo>
                  <a:pt x="14414" y="11827"/>
                  <a:pt x="14427" y="11779"/>
                  <a:pt x="14446" y="11716"/>
                </a:cubicBezTo>
                <a:cubicBezTo>
                  <a:pt x="14465" y="11653"/>
                  <a:pt x="14467" y="11597"/>
                  <a:pt x="14542" y="11589"/>
                </a:cubicBezTo>
                <a:cubicBezTo>
                  <a:pt x="14611" y="11581"/>
                  <a:pt x="14615" y="11599"/>
                  <a:pt x="14637" y="11652"/>
                </a:cubicBezTo>
                <a:cubicBezTo>
                  <a:pt x="14671" y="11732"/>
                  <a:pt x="14687" y="11775"/>
                  <a:pt x="14637" y="11843"/>
                </a:cubicBezTo>
                <a:cubicBezTo>
                  <a:pt x="14637" y="11759"/>
                  <a:pt x="14642" y="11716"/>
                  <a:pt x="14700" y="11652"/>
                </a:cubicBezTo>
                <a:cubicBezTo>
                  <a:pt x="14740" y="11608"/>
                  <a:pt x="14774" y="11571"/>
                  <a:pt x="14827" y="11557"/>
                </a:cubicBezTo>
                <a:cubicBezTo>
                  <a:pt x="14859" y="11631"/>
                  <a:pt x="14859" y="11666"/>
                  <a:pt x="14859" y="11748"/>
                </a:cubicBezTo>
                <a:cubicBezTo>
                  <a:pt x="14859" y="11780"/>
                  <a:pt x="14833" y="11928"/>
                  <a:pt x="14891" y="11906"/>
                </a:cubicBezTo>
                <a:cubicBezTo>
                  <a:pt x="14901" y="11895"/>
                  <a:pt x="14912" y="11885"/>
                  <a:pt x="14922" y="11874"/>
                </a:cubicBezTo>
              </a:path>
              <a:path w="2985" h="1302">
                <a:moveTo>
                  <a:pt x="15081" y="11557"/>
                </a:moveTo>
                <a:cubicBezTo>
                  <a:pt x="15055" y="11619"/>
                  <a:pt x="15044" y="11696"/>
                  <a:pt x="15018" y="11748"/>
                </a:cubicBezTo>
                <a:cubicBezTo>
                  <a:pt x="14992" y="11799"/>
                  <a:pt x="14968" y="11838"/>
                  <a:pt x="15050" y="11874"/>
                </a:cubicBezTo>
                <a:cubicBezTo>
                  <a:pt x="15141" y="11914"/>
                  <a:pt x="15143" y="11833"/>
                  <a:pt x="15176" y="11811"/>
                </a:cubicBezTo>
                <a:cubicBezTo>
                  <a:pt x="15220" y="11782"/>
                  <a:pt x="15208" y="11759"/>
                  <a:pt x="15208" y="11684"/>
                </a:cubicBezTo>
                <a:cubicBezTo>
                  <a:pt x="15208" y="11629"/>
                  <a:pt x="15163" y="11594"/>
                  <a:pt x="15113" y="11589"/>
                </a:cubicBezTo>
                <a:cubicBezTo>
                  <a:pt x="15102" y="11589"/>
                  <a:pt x="15092" y="11589"/>
                  <a:pt x="15081" y="11589"/>
                </a:cubicBezTo>
              </a:path>
              <a:path w="2985" h="1302">
                <a:moveTo>
                  <a:pt x="15494" y="11398"/>
                </a:moveTo>
                <a:cubicBezTo>
                  <a:pt x="15483" y="11488"/>
                  <a:pt x="15462" y="11558"/>
                  <a:pt x="15462" y="11652"/>
                </a:cubicBezTo>
                <a:cubicBezTo>
                  <a:pt x="15462" y="11724"/>
                  <a:pt x="15432" y="11854"/>
                  <a:pt x="15494" y="11874"/>
                </a:cubicBezTo>
              </a:path>
              <a:path w="2985" h="1302">
                <a:moveTo>
                  <a:pt x="15621" y="10827"/>
                </a:moveTo>
                <a:cubicBezTo>
                  <a:pt x="15677" y="10841"/>
                  <a:pt x="15705" y="10879"/>
                  <a:pt x="15748" y="10922"/>
                </a:cubicBezTo>
                <a:cubicBezTo>
                  <a:pt x="15834" y="11008"/>
                  <a:pt x="15917" y="11103"/>
                  <a:pt x="15970" y="11208"/>
                </a:cubicBezTo>
                <a:cubicBezTo>
                  <a:pt x="16019" y="11305"/>
                  <a:pt x="16081" y="11450"/>
                  <a:pt x="16097" y="11557"/>
                </a:cubicBezTo>
                <a:cubicBezTo>
                  <a:pt x="16111" y="11652"/>
                  <a:pt x="16102" y="11829"/>
                  <a:pt x="16034" y="11906"/>
                </a:cubicBezTo>
                <a:cubicBezTo>
                  <a:pt x="15973" y="11975"/>
                  <a:pt x="15889" y="12038"/>
                  <a:pt x="15812" y="12097"/>
                </a:cubicBezTo>
                <a:cubicBezTo>
                  <a:pt x="15801" y="12107"/>
                  <a:pt x="15791" y="12118"/>
                  <a:pt x="15780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2732040" y="4606920"/>
            <a:ext cx="2217960" cy="388800"/>
          </a:xfrm>
          <a:custGeom>
            <a:avLst/>
            <a:gdLst/>
            <a:ahLst/>
            <a:rect l="l" t="t" r="r" b="b"/>
            <a:pathLst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8509" y="12795"/>
                </a:moveTo>
                <a:lnTo>
                  <a:pt x="8509" y="12795"/>
                </a:lnTo>
              </a:path>
              <a:path w="6161" h="1081">
                <a:moveTo>
                  <a:pt x="8509" y="12795"/>
                </a:moveTo>
                <a:cubicBezTo>
                  <a:pt x="8488" y="12837"/>
                  <a:pt x="8467" y="12880"/>
                  <a:pt x="8446" y="12922"/>
                </a:cubicBezTo>
              </a:path>
              <a:path w="6161" h="1081">
                <a:moveTo>
                  <a:pt x="11176" y="13748"/>
                </a:moveTo>
                <a:lnTo>
                  <a:pt x="11176" y="13748"/>
                </a:lnTo>
              </a:path>
              <a:path w="6161" h="1081">
                <a:moveTo>
                  <a:pt x="13684" y="13081"/>
                </a:moveTo>
                <a:lnTo>
                  <a:pt x="13684" y="13081"/>
                </a:lnTo>
              </a:path>
              <a:path w="6161" h="1081">
                <a:moveTo>
                  <a:pt x="13684" y="13081"/>
                </a:moveTo>
                <a:cubicBezTo>
                  <a:pt x="13705" y="13092"/>
                  <a:pt x="13727" y="13102"/>
                  <a:pt x="1374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2354400" y="4835520"/>
            <a:ext cx="160200" cy="250920"/>
          </a:xfrm>
          <a:custGeom>
            <a:avLst/>
            <a:gdLst/>
            <a:ahLst/>
            <a:rect l="l" t="t" r="r" b="b"/>
            <a:pathLst>
              <a:path w="446" h="700">
                <a:moveTo>
                  <a:pt x="6699" y="13430"/>
                </a:moveTo>
                <a:cubicBezTo>
                  <a:pt x="6727" y="13496"/>
                  <a:pt x="6706" y="13563"/>
                  <a:pt x="6731" y="13621"/>
                </a:cubicBezTo>
                <a:cubicBezTo>
                  <a:pt x="6755" y="13678"/>
                  <a:pt x="6769" y="13749"/>
                  <a:pt x="6794" y="13811"/>
                </a:cubicBezTo>
                <a:cubicBezTo>
                  <a:pt x="6817" y="13868"/>
                  <a:pt x="6847" y="13950"/>
                  <a:pt x="6858" y="14002"/>
                </a:cubicBezTo>
                <a:cubicBezTo>
                  <a:pt x="6869" y="14054"/>
                  <a:pt x="6858" y="14150"/>
                  <a:pt x="6858" y="14097"/>
                </a:cubicBezTo>
              </a:path>
              <a:path w="446" h="700">
                <a:moveTo>
                  <a:pt x="6540" y="13780"/>
                </a:moveTo>
                <a:cubicBezTo>
                  <a:pt x="6647" y="13780"/>
                  <a:pt x="6736" y="13766"/>
                  <a:pt x="6826" y="13748"/>
                </a:cubicBezTo>
                <a:cubicBezTo>
                  <a:pt x="6894" y="13734"/>
                  <a:pt x="6964" y="13778"/>
                  <a:pt x="698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2685960" y="4651200"/>
            <a:ext cx="1246320" cy="503280"/>
          </a:xfrm>
          <a:custGeom>
            <a:avLst/>
            <a:gdLst/>
            <a:ahLst/>
            <a:rect l="l" t="t" r="r" b="b"/>
            <a:pathLst>
              <a:path w="3462" h="1398">
                <a:moveTo>
                  <a:pt x="8541" y="13398"/>
                </a:moveTo>
                <a:cubicBezTo>
                  <a:pt x="8558" y="13330"/>
                  <a:pt x="8596" y="13270"/>
                  <a:pt x="8668" y="13240"/>
                </a:cubicBezTo>
                <a:cubicBezTo>
                  <a:pt x="8702" y="13226"/>
                  <a:pt x="8813" y="13256"/>
                  <a:pt x="8826" y="13272"/>
                </a:cubicBezTo>
                <a:cubicBezTo>
                  <a:pt x="8859" y="13312"/>
                  <a:pt x="8809" y="13436"/>
                  <a:pt x="8795" y="13462"/>
                </a:cubicBezTo>
                <a:cubicBezTo>
                  <a:pt x="8760" y="13528"/>
                  <a:pt x="8736" y="13540"/>
                  <a:pt x="8668" y="13557"/>
                </a:cubicBezTo>
                <a:cubicBezTo>
                  <a:pt x="8714" y="13523"/>
                  <a:pt x="8765" y="13500"/>
                  <a:pt x="8826" y="13494"/>
                </a:cubicBezTo>
                <a:cubicBezTo>
                  <a:pt x="8906" y="13486"/>
                  <a:pt x="8893" y="13432"/>
                  <a:pt x="8985" y="13494"/>
                </a:cubicBezTo>
                <a:cubicBezTo>
                  <a:pt x="9023" y="13520"/>
                  <a:pt x="9069" y="13570"/>
                  <a:pt x="9112" y="13589"/>
                </a:cubicBezTo>
                <a:cubicBezTo>
                  <a:pt x="9173" y="13616"/>
                  <a:pt x="9200" y="13635"/>
                  <a:pt x="9208" y="13716"/>
                </a:cubicBezTo>
                <a:cubicBezTo>
                  <a:pt x="9214" y="13779"/>
                  <a:pt x="9204" y="13794"/>
                  <a:pt x="9176" y="13843"/>
                </a:cubicBezTo>
                <a:cubicBezTo>
                  <a:pt x="9119" y="13941"/>
                  <a:pt x="9076" y="13938"/>
                  <a:pt x="8985" y="13970"/>
                </a:cubicBezTo>
                <a:cubicBezTo>
                  <a:pt x="8895" y="14002"/>
                  <a:pt x="8860" y="14034"/>
                  <a:pt x="8763" y="14034"/>
                </a:cubicBezTo>
                <a:cubicBezTo>
                  <a:pt x="8707" y="14034"/>
                  <a:pt x="8713" y="14036"/>
                  <a:pt x="8668" y="14002"/>
                </a:cubicBezTo>
              </a:path>
              <a:path w="3462" h="1398">
                <a:moveTo>
                  <a:pt x="7842" y="13018"/>
                </a:moveTo>
                <a:cubicBezTo>
                  <a:pt x="7818" y="13102"/>
                  <a:pt x="7842" y="13113"/>
                  <a:pt x="7842" y="13208"/>
                </a:cubicBezTo>
                <a:cubicBezTo>
                  <a:pt x="7842" y="13314"/>
                  <a:pt x="7842" y="13420"/>
                  <a:pt x="7842" y="13526"/>
                </a:cubicBezTo>
              </a:path>
              <a:path w="3462" h="1398">
                <a:moveTo>
                  <a:pt x="7461" y="13589"/>
                </a:moveTo>
                <a:cubicBezTo>
                  <a:pt x="7535" y="13557"/>
                  <a:pt x="7612" y="13555"/>
                  <a:pt x="7684" y="13526"/>
                </a:cubicBezTo>
                <a:cubicBezTo>
                  <a:pt x="7765" y="13493"/>
                  <a:pt x="7819" y="13494"/>
                  <a:pt x="7906" y="13494"/>
                </a:cubicBezTo>
                <a:cubicBezTo>
                  <a:pt x="7959" y="13494"/>
                  <a:pt x="8011" y="13494"/>
                  <a:pt x="8064" y="13494"/>
                </a:cubicBezTo>
              </a:path>
              <a:path w="3462" h="1398">
                <a:moveTo>
                  <a:pt x="7652" y="13843"/>
                </a:moveTo>
                <a:cubicBezTo>
                  <a:pt x="7684" y="13811"/>
                  <a:pt x="7737" y="13757"/>
                  <a:pt x="7779" y="13748"/>
                </a:cubicBezTo>
                <a:cubicBezTo>
                  <a:pt x="7864" y="13730"/>
                  <a:pt x="7931" y="13824"/>
                  <a:pt x="7906" y="13906"/>
                </a:cubicBezTo>
                <a:cubicBezTo>
                  <a:pt x="7895" y="13941"/>
                  <a:pt x="7825" y="14034"/>
                  <a:pt x="7810" y="14065"/>
                </a:cubicBezTo>
                <a:cubicBezTo>
                  <a:pt x="7794" y="14098"/>
                  <a:pt x="7741" y="14134"/>
                  <a:pt x="7715" y="14160"/>
                </a:cubicBezTo>
                <a:cubicBezTo>
                  <a:pt x="7786" y="14150"/>
                  <a:pt x="7815" y="14110"/>
                  <a:pt x="7874" y="14097"/>
                </a:cubicBezTo>
                <a:cubicBezTo>
                  <a:pt x="7948" y="14081"/>
                  <a:pt x="7999" y="14073"/>
                  <a:pt x="8064" y="14034"/>
                </a:cubicBezTo>
              </a:path>
              <a:path w="3462" h="1398">
                <a:moveTo>
                  <a:pt x="8446" y="12922"/>
                </a:moveTo>
                <a:cubicBezTo>
                  <a:pt x="8434" y="13020"/>
                  <a:pt x="8394" y="13109"/>
                  <a:pt x="8382" y="13208"/>
                </a:cubicBezTo>
                <a:cubicBezTo>
                  <a:pt x="8367" y="13338"/>
                  <a:pt x="8350" y="13453"/>
                  <a:pt x="8350" y="13589"/>
                </a:cubicBezTo>
                <a:cubicBezTo>
                  <a:pt x="8350" y="13704"/>
                  <a:pt x="8370" y="13834"/>
                  <a:pt x="8414" y="13938"/>
                </a:cubicBezTo>
                <a:cubicBezTo>
                  <a:pt x="8453" y="14031"/>
                  <a:pt x="8495" y="14157"/>
                  <a:pt x="8572" y="14224"/>
                </a:cubicBezTo>
                <a:cubicBezTo>
                  <a:pt x="8618" y="14264"/>
                  <a:pt x="8753" y="14324"/>
                  <a:pt x="8795" y="14319"/>
                </a:cubicBezTo>
                <a:cubicBezTo>
                  <a:pt x="8816" y="14309"/>
                  <a:pt x="8837" y="14298"/>
                  <a:pt x="8858" y="14288"/>
                </a:cubicBezTo>
              </a:path>
              <a:path w="3462" h="1398">
                <a:moveTo>
                  <a:pt x="9366" y="13303"/>
                </a:moveTo>
                <a:cubicBezTo>
                  <a:pt x="9409" y="13271"/>
                  <a:pt x="9465" y="13252"/>
                  <a:pt x="9525" y="13272"/>
                </a:cubicBezTo>
                <a:cubicBezTo>
                  <a:pt x="9602" y="13297"/>
                  <a:pt x="9614" y="13357"/>
                  <a:pt x="9620" y="13430"/>
                </a:cubicBezTo>
                <a:cubicBezTo>
                  <a:pt x="9628" y="13520"/>
                  <a:pt x="9596" y="13573"/>
                  <a:pt x="9557" y="13652"/>
                </a:cubicBezTo>
                <a:cubicBezTo>
                  <a:pt x="9523" y="13719"/>
                  <a:pt x="9480" y="13787"/>
                  <a:pt x="9430" y="13843"/>
                </a:cubicBezTo>
                <a:cubicBezTo>
                  <a:pt x="9400" y="13876"/>
                  <a:pt x="9379" y="13962"/>
                  <a:pt x="9462" y="13938"/>
                </a:cubicBezTo>
                <a:cubicBezTo>
                  <a:pt x="9529" y="13919"/>
                  <a:pt x="9582" y="13882"/>
                  <a:pt x="9652" y="13875"/>
                </a:cubicBezTo>
                <a:cubicBezTo>
                  <a:pt x="9731" y="13867"/>
                  <a:pt x="9731" y="13850"/>
                  <a:pt x="9811" y="13875"/>
                </a:cubicBezTo>
                <a:cubicBezTo>
                  <a:pt x="9821" y="13875"/>
                  <a:pt x="9832" y="13875"/>
                  <a:pt x="9842" y="13875"/>
                </a:cubicBezTo>
              </a:path>
              <a:path w="3462" h="1398">
                <a:moveTo>
                  <a:pt x="10096" y="13240"/>
                </a:moveTo>
                <a:cubicBezTo>
                  <a:pt x="10027" y="13240"/>
                  <a:pt x="9989" y="13228"/>
                  <a:pt x="9938" y="13272"/>
                </a:cubicBezTo>
                <a:cubicBezTo>
                  <a:pt x="9896" y="13309"/>
                  <a:pt x="9848" y="13378"/>
                  <a:pt x="9842" y="13430"/>
                </a:cubicBezTo>
                <a:cubicBezTo>
                  <a:pt x="9835" y="13489"/>
                  <a:pt x="9845" y="13519"/>
                  <a:pt x="9906" y="13526"/>
                </a:cubicBezTo>
                <a:cubicBezTo>
                  <a:pt x="9927" y="13528"/>
                  <a:pt x="10048" y="13471"/>
                  <a:pt x="10065" y="13462"/>
                </a:cubicBezTo>
                <a:cubicBezTo>
                  <a:pt x="10142" y="13423"/>
                  <a:pt x="10132" y="13359"/>
                  <a:pt x="10160" y="13303"/>
                </a:cubicBezTo>
                <a:cubicBezTo>
                  <a:pt x="10194" y="13236"/>
                  <a:pt x="10192" y="13232"/>
                  <a:pt x="10192" y="13303"/>
                </a:cubicBezTo>
                <a:cubicBezTo>
                  <a:pt x="10192" y="13364"/>
                  <a:pt x="10160" y="13419"/>
                  <a:pt x="10160" y="13494"/>
                </a:cubicBezTo>
                <a:cubicBezTo>
                  <a:pt x="10160" y="13577"/>
                  <a:pt x="10182" y="13651"/>
                  <a:pt x="10192" y="13716"/>
                </a:cubicBezTo>
                <a:cubicBezTo>
                  <a:pt x="10196" y="13741"/>
                  <a:pt x="10192" y="14015"/>
                  <a:pt x="10192" y="13938"/>
                </a:cubicBezTo>
              </a:path>
              <a:path w="3462" h="1398">
                <a:moveTo>
                  <a:pt x="10478" y="13272"/>
                </a:moveTo>
                <a:cubicBezTo>
                  <a:pt x="10478" y="13376"/>
                  <a:pt x="10452" y="13454"/>
                  <a:pt x="10446" y="13557"/>
                </a:cubicBezTo>
                <a:cubicBezTo>
                  <a:pt x="10443" y="13612"/>
                  <a:pt x="10477" y="13708"/>
                  <a:pt x="10509" y="13748"/>
                </a:cubicBezTo>
                <a:cubicBezTo>
                  <a:pt x="10563" y="13816"/>
                  <a:pt x="10639" y="13790"/>
                  <a:pt x="10700" y="13780"/>
                </a:cubicBezTo>
                <a:cubicBezTo>
                  <a:pt x="10774" y="13768"/>
                  <a:pt x="10807" y="13736"/>
                  <a:pt x="10858" y="13684"/>
                </a:cubicBezTo>
                <a:cubicBezTo>
                  <a:pt x="10907" y="13635"/>
                  <a:pt x="10917" y="13564"/>
                  <a:pt x="10922" y="13494"/>
                </a:cubicBezTo>
                <a:cubicBezTo>
                  <a:pt x="10922" y="13458"/>
                  <a:pt x="10919" y="13444"/>
                  <a:pt x="10890" y="13430"/>
                </a:cubicBezTo>
                <a:cubicBezTo>
                  <a:pt x="10819" y="13471"/>
                  <a:pt x="10759" y="13505"/>
                  <a:pt x="10732" y="13589"/>
                </a:cubicBezTo>
                <a:cubicBezTo>
                  <a:pt x="10721" y="13622"/>
                  <a:pt x="10693" y="13753"/>
                  <a:pt x="10700" y="13780"/>
                </a:cubicBezTo>
                <a:cubicBezTo>
                  <a:pt x="10723" y="13866"/>
                  <a:pt x="10739" y="13869"/>
                  <a:pt x="10795" y="13906"/>
                </a:cubicBezTo>
                <a:cubicBezTo>
                  <a:pt x="10806" y="13917"/>
                  <a:pt x="10816" y="13927"/>
                  <a:pt x="10827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4091040" y="47545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525" y="13208"/>
                </a:moveTo>
                <a:cubicBezTo>
                  <a:pt x="11463" y="13240"/>
                  <a:pt x="11445" y="13305"/>
                  <a:pt x="11398" y="13367"/>
                </a:cubicBezTo>
                <a:cubicBezTo>
                  <a:pt x="11358" y="13420"/>
                  <a:pt x="11351" y="13441"/>
                  <a:pt x="11398" y="13494"/>
                </a:cubicBezTo>
                <a:cubicBezTo>
                  <a:pt x="11456" y="13559"/>
                  <a:pt x="11488" y="13511"/>
                  <a:pt x="11557" y="13494"/>
                </a:cubicBezTo>
                <a:cubicBezTo>
                  <a:pt x="11606" y="13482"/>
                  <a:pt x="11727" y="13457"/>
                  <a:pt x="11748" y="13398"/>
                </a:cubicBezTo>
                <a:cubicBezTo>
                  <a:pt x="11777" y="13317"/>
                  <a:pt x="11769" y="13306"/>
                  <a:pt x="11748" y="13240"/>
                </a:cubicBezTo>
                <a:cubicBezTo>
                  <a:pt x="11732" y="13192"/>
                  <a:pt x="11709" y="13208"/>
                  <a:pt x="11652" y="13208"/>
                </a:cubicBezTo>
              </a:path>
              <a:path w="605" h="795">
                <a:moveTo>
                  <a:pt x="11620" y="13462"/>
                </a:moveTo>
                <a:cubicBezTo>
                  <a:pt x="11588" y="13538"/>
                  <a:pt x="11562" y="13608"/>
                  <a:pt x="11525" y="13684"/>
                </a:cubicBezTo>
                <a:cubicBezTo>
                  <a:pt x="11477" y="13780"/>
                  <a:pt x="11480" y="13846"/>
                  <a:pt x="11494" y="13938"/>
                </a:cubicBezTo>
                <a:cubicBezTo>
                  <a:pt x="11504" y="14001"/>
                  <a:pt x="11590" y="14020"/>
                  <a:pt x="11652" y="14002"/>
                </a:cubicBezTo>
                <a:cubicBezTo>
                  <a:pt x="11723" y="13981"/>
                  <a:pt x="11827" y="13930"/>
                  <a:pt x="11874" y="13875"/>
                </a:cubicBezTo>
                <a:cubicBezTo>
                  <a:pt x="11916" y="13826"/>
                  <a:pt x="11966" y="13714"/>
                  <a:pt x="11970" y="13652"/>
                </a:cubicBezTo>
                <a:cubicBezTo>
                  <a:pt x="11977" y="13554"/>
                  <a:pt x="11969" y="13486"/>
                  <a:pt x="11874" y="13430"/>
                </a:cubicBezTo>
                <a:cubicBezTo>
                  <a:pt x="11858" y="13420"/>
                  <a:pt x="11798" y="13430"/>
                  <a:pt x="11779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4686480" y="4606920"/>
            <a:ext cx="1120680" cy="593640"/>
          </a:xfrm>
          <a:custGeom>
            <a:avLst/>
            <a:gdLst/>
            <a:ahLst/>
            <a:rect l="l" t="t" r="r" b="b"/>
            <a:pathLst>
              <a:path w="3112" h="1652">
                <a:moveTo>
                  <a:pt x="13113" y="13049"/>
                </a:moveTo>
                <a:cubicBezTo>
                  <a:pt x="13087" y="13092"/>
                  <a:pt x="13057" y="13185"/>
                  <a:pt x="13049" y="13240"/>
                </a:cubicBezTo>
                <a:cubicBezTo>
                  <a:pt x="13036" y="13333"/>
                  <a:pt x="13022" y="13435"/>
                  <a:pt x="13018" y="13526"/>
                </a:cubicBezTo>
                <a:cubicBezTo>
                  <a:pt x="13017" y="13556"/>
                  <a:pt x="12994" y="13876"/>
                  <a:pt x="13049" y="13875"/>
                </a:cubicBezTo>
                <a:cubicBezTo>
                  <a:pt x="13049" y="13864"/>
                  <a:pt x="13049" y="13854"/>
                  <a:pt x="13049" y="13843"/>
                </a:cubicBezTo>
              </a:path>
              <a:path w="3112" h="1652">
                <a:moveTo>
                  <a:pt x="13303" y="13303"/>
                </a:moveTo>
                <a:cubicBezTo>
                  <a:pt x="13267" y="13315"/>
                  <a:pt x="13221" y="13358"/>
                  <a:pt x="13176" y="13398"/>
                </a:cubicBezTo>
                <a:cubicBezTo>
                  <a:pt x="13125" y="13444"/>
                  <a:pt x="13088" y="13487"/>
                  <a:pt x="13081" y="13557"/>
                </a:cubicBezTo>
                <a:cubicBezTo>
                  <a:pt x="13072" y="13644"/>
                  <a:pt x="13134" y="13629"/>
                  <a:pt x="13176" y="13652"/>
                </a:cubicBezTo>
                <a:cubicBezTo>
                  <a:pt x="13222" y="13677"/>
                  <a:pt x="13286" y="13737"/>
                  <a:pt x="13335" y="13748"/>
                </a:cubicBezTo>
                <a:cubicBezTo>
                  <a:pt x="13407" y="13764"/>
                  <a:pt x="13435" y="13768"/>
                  <a:pt x="13494" y="13811"/>
                </a:cubicBezTo>
              </a:path>
              <a:path w="3112" h="1652">
                <a:moveTo>
                  <a:pt x="13748" y="13113"/>
                </a:moveTo>
                <a:cubicBezTo>
                  <a:pt x="13780" y="13188"/>
                  <a:pt x="13786" y="13261"/>
                  <a:pt x="13811" y="13335"/>
                </a:cubicBezTo>
                <a:cubicBezTo>
                  <a:pt x="13840" y="13420"/>
                  <a:pt x="13870" y="13498"/>
                  <a:pt x="13875" y="13589"/>
                </a:cubicBezTo>
                <a:cubicBezTo>
                  <a:pt x="13880" y="13673"/>
                  <a:pt x="13868" y="13716"/>
                  <a:pt x="13811" y="13780"/>
                </a:cubicBezTo>
                <a:cubicBezTo>
                  <a:pt x="13755" y="13843"/>
                  <a:pt x="13739" y="13798"/>
                  <a:pt x="13684" y="13780"/>
                </a:cubicBezTo>
                <a:cubicBezTo>
                  <a:pt x="13673" y="13780"/>
                  <a:pt x="13663" y="13780"/>
                  <a:pt x="13652" y="13780"/>
                </a:cubicBezTo>
              </a:path>
              <a:path w="3112" h="1652">
                <a:moveTo>
                  <a:pt x="13398" y="13240"/>
                </a:moveTo>
                <a:cubicBezTo>
                  <a:pt x="13486" y="13202"/>
                  <a:pt x="13554" y="13208"/>
                  <a:pt x="13652" y="13208"/>
                </a:cubicBezTo>
                <a:cubicBezTo>
                  <a:pt x="13777" y="13208"/>
                  <a:pt x="13916" y="13214"/>
                  <a:pt x="14034" y="13176"/>
                </a:cubicBezTo>
                <a:cubicBezTo>
                  <a:pt x="14111" y="13151"/>
                  <a:pt x="14191" y="13151"/>
                  <a:pt x="14256" y="13113"/>
                </a:cubicBezTo>
              </a:path>
              <a:path w="3112" h="1652">
                <a:moveTo>
                  <a:pt x="14510" y="12859"/>
                </a:moveTo>
                <a:cubicBezTo>
                  <a:pt x="14510" y="12934"/>
                  <a:pt x="14503" y="12978"/>
                  <a:pt x="14478" y="13049"/>
                </a:cubicBezTo>
                <a:cubicBezTo>
                  <a:pt x="14430" y="13186"/>
                  <a:pt x="14393" y="13324"/>
                  <a:pt x="14351" y="13462"/>
                </a:cubicBezTo>
                <a:cubicBezTo>
                  <a:pt x="14310" y="13599"/>
                  <a:pt x="14279" y="13742"/>
                  <a:pt x="14224" y="13875"/>
                </a:cubicBezTo>
                <a:cubicBezTo>
                  <a:pt x="14198" y="13939"/>
                  <a:pt x="14192" y="13940"/>
                  <a:pt x="14192" y="14002"/>
                </a:cubicBezTo>
              </a:path>
              <a:path w="3112" h="1652">
                <a:moveTo>
                  <a:pt x="14573" y="13430"/>
                </a:moveTo>
                <a:cubicBezTo>
                  <a:pt x="14587" y="13501"/>
                  <a:pt x="14605" y="13545"/>
                  <a:pt x="14605" y="13621"/>
                </a:cubicBezTo>
                <a:cubicBezTo>
                  <a:pt x="14605" y="13684"/>
                  <a:pt x="14605" y="13748"/>
                  <a:pt x="14605" y="13811"/>
                </a:cubicBezTo>
                <a:cubicBezTo>
                  <a:pt x="14568" y="13750"/>
                  <a:pt x="14564" y="13688"/>
                  <a:pt x="14605" y="13621"/>
                </a:cubicBezTo>
                <a:cubicBezTo>
                  <a:pt x="14633" y="13575"/>
                  <a:pt x="14669" y="13535"/>
                  <a:pt x="14700" y="13494"/>
                </a:cubicBezTo>
                <a:cubicBezTo>
                  <a:pt x="14738" y="13522"/>
                  <a:pt x="14805" y="13538"/>
                  <a:pt x="14827" y="13589"/>
                </a:cubicBezTo>
                <a:cubicBezTo>
                  <a:pt x="14850" y="13642"/>
                  <a:pt x="14859" y="13682"/>
                  <a:pt x="14859" y="13748"/>
                </a:cubicBezTo>
                <a:cubicBezTo>
                  <a:pt x="14859" y="13759"/>
                  <a:pt x="14859" y="13769"/>
                  <a:pt x="14859" y="13780"/>
                </a:cubicBezTo>
                <a:cubicBezTo>
                  <a:pt x="14807" y="13745"/>
                  <a:pt x="14816" y="13659"/>
                  <a:pt x="14859" y="13589"/>
                </a:cubicBezTo>
                <a:cubicBezTo>
                  <a:pt x="14894" y="13533"/>
                  <a:pt x="14885" y="13485"/>
                  <a:pt x="14954" y="13462"/>
                </a:cubicBezTo>
                <a:cubicBezTo>
                  <a:pt x="15026" y="13438"/>
                  <a:pt x="15069" y="13573"/>
                  <a:pt x="15081" y="13621"/>
                </a:cubicBezTo>
                <a:cubicBezTo>
                  <a:pt x="15088" y="13651"/>
                  <a:pt x="15056" y="13872"/>
                  <a:pt x="15113" y="13843"/>
                </a:cubicBezTo>
                <a:cubicBezTo>
                  <a:pt x="15124" y="13832"/>
                  <a:pt x="15134" y="13822"/>
                  <a:pt x="15145" y="13811"/>
                </a:cubicBezTo>
              </a:path>
              <a:path w="3112" h="1652">
                <a:moveTo>
                  <a:pt x="15272" y="13494"/>
                </a:moveTo>
                <a:cubicBezTo>
                  <a:pt x="15235" y="13555"/>
                  <a:pt x="15214" y="13610"/>
                  <a:pt x="15208" y="13684"/>
                </a:cubicBezTo>
                <a:cubicBezTo>
                  <a:pt x="15204" y="13736"/>
                  <a:pt x="15218" y="13788"/>
                  <a:pt x="15272" y="13811"/>
                </a:cubicBezTo>
                <a:cubicBezTo>
                  <a:pt x="15348" y="13844"/>
                  <a:pt x="15368" y="13758"/>
                  <a:pt x="15399" y="13716"/>
                </a:cubicBezTo>
                <a:cubicBezTo>
                  <a:pt x="15454" y="13641"/>
                  <a:pt x="15407" y="13630"/>
                  <a:pt x="15399" y="13557"/>
                </a:cubicBezTo>
                <a:cubicBezTo>
                  <a:pt x="15395" y="13517"/>
                  <a:pt x="15374" y="13523"/>
                  <a:pt x="15335" y="13494"/>
                </a:cubicBezTo>
              </a:path>
              <a:path w="3112" h="1652">
                <a:moveTo>
                  <a:pt x="15589" y="13176"/>
                </a:moveTo>
                <a:cubicBezTo>
                  <a:pt x="15589" y="13281"/>
                  <a:pt x="15549" y="13438"/>
                  <a:pt x="15558" y="13526"/>
                </a:cubicBezTo>
                <a:cubicBezTo>
                  <a:pt x="15567" y="13610"/>
                  <a:pt x="15589" y="13687"/>
                  <a:pt x="15589" y="13780"/>
                </a:cubicBezTo>
                <a:cubicBezTo>
                  <a:pt x="15589" y="13811"/>
                  <a:pt x="15589" y="13822"/>
                  <a:pt x="15589" y="13843"/>
                </a:cubicBezTo>
              </a:path>
              <a:path w="3112" h="1652">
                <a:moveTo>
                  <a:pt x="15589" y="12795"/>
                </a:moveTo>
                <a:cubicBezTo>
                  <a:pt x="15667" y="12858"/>
                  <a:pt x="15739" y="12914"/>
                  <a:pt x="15812" y="12986"/>
                </a:cubicBezTo>
                <a:cubicBezTo>
                  <a:pt x="15917" y="13090"/>
                  <a:pt x="15964" y="13178"/>
                  <a:pt x="16034" y="13303"/>
                </a:cubicBezTo>
                <a:cubicBezTo>
                  <a:pt x="16119" y="13456"/>
                  <a:pt x="16129" y="13540"/>
                  <a:pt x="16129" y="13716"/>
                </a:cubicBezTo>
                <a:cubicBezTo>
                  <a:pt x="16129" y="13884"/>
                  <a:pt x="16076" y="14044"/>
                  <a:pt x="16002" y="14192"/>
                </a:cubicBezTo>
                <a:cubicBezTo>
                  <a:pt x="15956" y="14283"/>
                  <a:pt x="15874" y="14367"/>
                  <a:pt x="1581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337000" y="1017720"/>
            <a:ext cx="1509840" cy="892080"/>
          </a:xfrm>
          <a:custGeom>
            <a:avLst/>
            <a:gdLst/>
            <a:ahLst/>
            <a:rect l="l" t="t" r="r" b="b"/>
            <a:pathLst>
              <a:path w="4192" h="2477">
                <a:moveTo>
                  <a:pt x="15716" y="3492"/>
                </a:moveTo>
                <a:cubicBezTo>
                  <a:pt x="15683" y="3576"/>
                  <a:pt x="15653" y="3660"/>
                  <a:pt x="15621" y="3746"/>
                </a:cubicBezTo>
                <a:cubicBezTo>
                  <a:pt x="15563" y="3900"/>
                  <a:pt x="15496" y="4040"/>
                  <a:pt x="15430" y="4191"/>
                </a:cubicBezTo>
                <a:cubicBezTo>
                  <a:pt x="15342" y="4391"/>
                  <a:pt x="15267" y="4596"/>
                  <a:pt x="15176" y="4794"/>
                </a:cubicBezTo>
                <a:cubicBezTo>
                  <a:pt x="15123" y="4910"/>
                  <a:pt x="15065" y="5144"/>
                  <a:pt x="14986" y="5239"/>
                </a:cubicBezTo>
                <a:cubicBezTo>
                  <a:pt x="14965" y="5249"/>
                  <a:pt x="14943" y="5260"/>
                  <a:pt x="14922" y="5270"/>
                </a:cubicBezTo>
                <a:cubicBezTo>
                  <a:pt x="14900" y="5233"/>
                  <a:pt x="14891" y="5195"/>
                  <a:pt x="14891" y="5112"/>
                </a:cubicBezTo>
                <a:cubicBezTo>
                  <a:pt x="14891" y="5033"/>
                  <a:pt x="14870" y="4981"/>
                  <a:pt x="14859" y="4921"/>
                </a:cubicBezTo>
                <a:cubicBezTo>
                  <a:pt x="14859" y="4868"/>
                  <a:pt x="14859" y="4858"/>
                  <a:pt x="14859" y="4826"/>
                </a:cubicBezTo>
                <a:cubicBezTo>
                  <a:pt x="14751" y="4772"/>
                  <a:pt x="14870" y="4782"/>
                  <a:pt x="14891" y="4890"/>
                </a:cubicBezTo>
                <a:cubicBezTo>
                  <a:pt x="14910" y="4991"/>
                  <a:pt x="14886" y="5110"/>
                  <a:pt x="14922" y="5207"/>
                </a:cubicBezTo>
                <a:cubicBezTo>
                  <a:pt x="14943" y="5262"/>
                  <a:pt x="14971" y="5268"/>
                  <a:pt x="15018" y="5302"/>
                </a:cubicBezTo>
                <a:cubicBezTo>
                  <a:pt x="15069" y="5251"/>
                  <a:pt x="15127" y="5183"/>
                  <a:pt x="15176" y="5144"/>
                </a:cubicBezTo>
                <a:cubicBezTo>
                  <a:pt x="15236" y="5096"/>
                  <a:pt x="15273" y="5061"/>
                  <a:pt x="15335" y="5016"/>
                </a:cubicBezTo>
              </a:path>
              <a:path w="4192" h="2477">
                <a:moveTo>
                  <a:pt x="16351" y="3207"/>
                </a:moveTo>
                <a:cubicBezTo>
                  <a:pt x="16322" y="3166"/>
                  <a:pt x="16318" y="3152"/>
                  <a:pt x="16288" y="3112"/>
                </a:cubicBezTo>
                <a:cubicBezTo>
                  <a:pt x="16230" y="3169"/>
                  <a:pt x="16191" y="3224"/>
                  <a:pt x="16161" y="3302"/>
                </a:cubicBezTo>
                <a:cubicBezTo>
                  <a:pt x="16115" y="3419"/>
                  <a:pt x="16097" y="3495"/>
                  <a:pt x="16097" y="3620"/>
                </a:cubicBezTo>
                <a:cubicBezTo>
                  <a:pt x="16097" y="3711"/>
                  <a:pt x="16163" y="3708"/>
                  <a:pt x="16224" y="3683"/>
                </a:cubicBezTo>
                <a:cubicBezTo>
                  <a:pt x="16245" y="3672"/>
                  <a:pt x="16267" y="3662"/>
                  <a:pt x="16288" y="3651"/>
                </a:cubicBezTo>
              </a:path>
              <a:path w="4192" h="2477">
                <a:moveTo>
                  <a:pt x="16605" y="3143"/>
                </a:moveTo>
                <a:cubicBezTo>
                  <a:pt x="16543" y="3159"/>
                  <a:pt x="16512" y="3213"/>
                  <a:pt x="16478" y="3270"/>
                </a:cubicBezTo>
                <a:cubicBezTo>
                  <a:pt x="16433" y="3346"/>
                  <a:pt x="16439" y="3364"/>
                  <a:pt x="16478" y="3429"/>
                </a:cubicBezTo>
                <a:cubicBezTo>
                  <a:pt x="16559" y="3409"/>
                  <a:pt x="16582" y="3395"/>
                  <a:pt x="16637" y="3334"/>
                </a:cubicBezTo>
                <a:cubicBezTo>
                  <a:pt x="16693" y="3273"/>
                  <a:pt x="16700" y="3261"/>
                  <a:pt x="16700" y="3175"/>
                </a:cubicBezTo>
                <a:cubicBezTo>
                  <a:pt x="16700" y="3133"/>
                  <a:pt x="16700" y="3090"/>
                  <a:pt x="16700" y="3048"/>
                </a:cubicBezTo>
                <a:cubicBezTo>
                  <a:pt x="16673" y="3067"/>
                  <a:pt x="16650" y="3120"/>
                  <a:pt x="16669" y="3175"/>
                </a:cubicBezTo>
                <a:cubicBezTo>
                  <a:pt x="16688" y="3229"/>
                  <a:pt x="16729" y="3294"/>
                  <a:pt x="16764" y="3334"/>
                </a:cubicBezTo>
                <a:cubicBezTo>
                  <a:pt x="16793" y="3363"/>
                  <a:pt x="16799" y="3374"/>
                  <a:pt x="16828" y="3366"/>
                </a:cubicBezTo>
              </a:path>
              <a:path w="4192" h="2477">
                <a:moveTo>
                  <a:pt x="16828" y="2953"/>
                </a:moveTo>
                <a:cubicBezTo>
                  <a:pt x="16828" y="3040"/>
                  <a:pt x="16841" y="3094"/>
                  <a:pt x="16859" y="3175"/>
                </a:cubicBezTo>
                <a:cubicBezTo>
                  <a:pt x="16872" y="3233"/>
                  <a:pt x="16851" y="3218"/>
                  <a:pt x="16891" y="3270"/>
                </a:cubicBezTo>
                <a:cubicBezTo>
                  <a:pt x="16891" y="3176"/>
                  <a:pt x="16864" y="3111"/>
                  <a:pt x="16859" y="3016"/>
                </a:cubicBezTo>
                <a:cubicBezTo>
                  <a:pt x="16856" y="2953"/>
                  <a:pt x="16859" y="2889"/>
                  <a:pt x="16859" y="2826"/>
                </a:cubicBezTo>
                <a:cubicBezTo>
                  <a:pt x="16907" y="2886"/>
                  <a:pt x="16940" y="2955"/>
                  <a:pt x="16986" y="3016"/>
                </a:cubicBezTo>
                <a:cubicBezTo>
                  <a:pt x="17021" y="3062"/>
                  <a:pt x="17072" y="3102"/>
                  <a:pt x="17113" y="3143"/>
                </a:cubicBezTo>
              </a:path>
              <a:path w="4192" h="2477">
                <a:moveTo>
                  <a:pt x="17113" y="3683"/>
                </a:moveTo>
                <a:cubicBezTo>
                  <a:pt x="17113" y="3732"/>
                  <a:pt x="17090" y="3815"/>
                  <a:pt x="17145" y="3842"/>
                </a:cubicBezTo>
                <a:cubicBezTo>
                  <a:pt x="17211" y="3875"/>
                  <a:pt x="17262" y="3797"/>
                  <a:pt x="17272" y="3746"/>
                </a:cubicBezTo>
                <a:cubicBezTo>
                  <a:pt x="17289" y="3662"/>
                  <a:pt x="17257" y="3599"/>
                  <a:pt x="17240" y="3524"/>
                </a:cubicBezTo>
                <a:cubicBezTo>
                  <a:pt x="17240" y="3488"/>
                  <a:pt x="17237" y="3474"/>
                  <a:pt x="17208" y="3461"/>
                </a:cubicBezTo>
                <a:cubicBezTo>
                  <a:pt x="17256" y="3544"/>
                  <a:pt x="17346" y="3618"/>
                  <a:pt x="17367" y="3715"/>
                </a:cubicBezTo>
                <a:cubicBezTo>
                  <a:pt x="17385" y="3797"/>
                  <a:pt x="17421" y="3855"/>
                  <a:pt x="17462" y="3937"/>
                </a:cubicBezTo>
                <a:cubicBezTo>
                  <a:pt x="17480" y="3972"/>
                  <a:pt x="17541" y="4091"/>
                  <a:pt x="17526" y="4128"/>
                </a:cubicBezTo>
                <a:cubicBezTo>
                  <a:pt x="17497" y="4156"/>
                  <a:pt x="17491" y="4166"/>
                  <a:pt x="17462" y="4159"/>
                </a:cubicBezTo>
              </a:path>
              <a:path w="4192" h="2477">
                <a:moveTo>
                  <a:pt x="17431" y="3429"/>
                </a:moveTo>
                <a:cubicBezTo>
                  <a:pt x="17471" y="3484"/>
                  <a:pt x="17452" y="3526"/>
                  <a:pt x="17494" y="3588"/>
                </a:cubicBezTo>
                <a:cubicBezTo>
                  <a:pt x="17505" y="3599"/>
                  <a:pt x="17515" y="3609"/>
                  <a:pt x="17526" y="3620"/>
                </a:cubicBezTo>
                <a:cubicBezTo>
                  <a:pt x="17592" y="3598"/>
                  <a:pt x="17565" y="3543"/>
                  <a:pt x="17558" y="3492"/>
                </a:cubicBezTo>
                <a:cubicBezTo>
                  <a:pt x="17553" y="3457"/>
                  <a:pt x="17542" y="3349"/>
                  <a:pt x="17494" y="3334"/>
                </a:cubicBezTo>
                <a:cubicBezTo>
                  <a:pt x="17430" y="3314"/>
                  <a:pt x="17412" y="3328"/>
                  <a:pt x="17399" y="3366"/>
                </a:cubicBezTo>
              </a:path>
              <a:path w="4192" h="2477">
                <a:moveTo>
                  <a:pt x="17685" y="3238"/>
                </a:moveTo>
                <a:cubicBezTo>
                  <a:pt x="17685" y="3302"/>
                  <a:pt x="17685" y="3365"/>
                  <a:pt x="17685" y="3429"/>
                </a:cubicBezTo>
                <a:cubicBezTo>
                  <a:pt x="17754" y="3429"/>
                  <a:pt x="17793" y="3442"/>
                  <a:pt x="17844" y="3397"/>
                </a:cubicBezTo>
                <a:cubicBezTo>
                  <a:pt x="17908" y="3340"/>
                  <a:pt x="17907" y="3286"/>
                  <a:pt x="17907" y="3207"/>
                </a:cubicBezTo>
                <a:cubicBezTo>
                  <a:pt x="17907" y="3145"/>
                  <a:pt x="17906" y="3068"/>
                  <a:pt x="17875" y="3016"/>
                </a:cubicBezTo>
                <a:cubicBezTo>
                  <a:pt x="17847" y="2987"/>
                  <a:pt x="17841" y="2976"/>
                  <a:pt x="17812" y="2984"/>
                </a:cubicBezTo>
              </a:path>
              <a:path w="4192" h="2477">
                <a:moveTo>
                  <a:pt x="17939" y="3937"/>
                </a:moveTo>
                <a:cubicBezTo>
                  <a:pt x="17878" y="3952"/>
                  <a:pt x="17865" y="3998"/>
                  <a:pt x="17812" y="4032"/>
                </a:cubicBezTo>
                <a:cubicBezTo>
                  <a:pt x="17741" y="4077"/>
                  <a:pt x="17713" y="4131"/>
                  <a:pt x="17653" y="4191"/>
                </a:cubicBezTo>
                <a:cubicBezTo>
                  <a:pt x="17642" y="4202"/>
                  <a:pt x="17632" y="4212"/>
                  <a:pt x="17621" y="4223"/>
                </a:cubicBezTo>
                <a:cubicBezTo>
                  <a:pt x="17669" y="4316"/>
                  <a:pt x="17700" y="4252"/>
                  <a:pt x="17780" y="4286"/>
                </a:cubicBezTo>
                <a:cubicBezTo>
                  <a:pt x="17809" y="4298"/>
                  <a:pt x="17924" y="4352"/>
                  <a:pt x="17939" y="4382"/>
                </a:cubicBezTo>
                <a:cubicBezTo>
                  <a:pt x="17972" y="4446"/>
                  <a:pt x="17917" y="4496"/>
                  <a:pt x="17907" y="4540"/>
                </a:cubicBezTo>
                <a:cubicBezTo>
                  <a:pt x="17902" y="4564"/>
                  <a:pt x="17894" y="4692"/>
                  <a:pt x="17844" y="4667"/>
                </a:cubicBezTo>
                <a:cubicBezTo>
                  <a:pt x="17833" y="4657"/>
                  <a:pt x="17823" y="4646"/>
                  <a:pt x="17812" y="4636"/>
                </a:cubicBezTo>
              </a:path>
              <a:path w="4192" h="2477">
                <a:moveTo>
                  <a:pt x="18034" y="4318"/>
                </a:moveTo>
                <a:cubicBezTo>
                  <a:pt x="18079" y="4273"/>
                  <a:pt x="18107" y="4243"/>
                  <a:pt x="18129" y="4191"/>
                </a:cubicBezTo>
                <a:cubicBezTo>
                  <a:pt x="18161" y="4117"/>
                  <a:pt x="18161" y="4082"/>
                  <a:pt x="18161" y="4000"/>
                </a:cubicBezTo>
                <a:cubicBezTo>
                  <a:pt x="18161" y="3990"/>
                  <a:pt x="18161" y="3979"/>
                  <a:pt x="18161" y="3969"/>
                </a:cubicBezTo>
                <a:cubicBezTo>
                  <a:pt x="18091" y="3986"/>
                  <a:pt x="18069" y="4030"/>
                  <a:pt x="18034" y="4096"/>
                </a:cubicBezTo>
                <a:cubicBezTo>
                  <a:pt x="18007" y="4146"/>
                  <a:pt x="17973" y="4261"/>
                  <a:pt x="18002" y="4318"/>
                </a:cubicBezTo>
                <a:cubicBezTo>
                  <a:pt x="18028" y="4370"/>
                  <a:pt x="18104" y="4406"/>
                  <a:pt x="18161" y="4382"/>
                </a:cubicBezTo>
                <a:cubicBezTo>
                  <a:pt x="18227" y="4354"/>
                  <a:pt x="18282" y="4326"/>
                  <a:pt x="18352" y="4286"/>
                </a:cubicBezTo>
              </a:path>
              <a:path w="4192" h="2477">
                <a:moveTo>
                  <a:pt x="18320" y="4128"/>
                </a:moveTo>
                <a:cubicBezTo>
                  <a:pt x="18335" y="4051"/>
                  <a:pt x="18387" y="4031"/>
                  <a:pt x="18415" y="3969"/>
                </a:cubicBezTo>
                <a:cubicBezTo>
                  <a:pt x="18438" y="3917"/>
                  <a:pt x="18447" y="3875"/>
                  <a:pt x="18447" y="3810"/>
                </a:cubicBezTo>
                <a:cubicBezTo>
                  <a:pt x="18447" y="3774"/>
                  <a:pt x="18444" y="3760"/>
                  <a:pt x="18415" y="3746"/>
                </a:cubicBezTo>
                <a:cubicBezTo>
                  <a:pt x="18366" y="3795"/>
                  <a:pt x="18325" y="3832"/>
                  <a:pt x="18320" y="3905"/>
                </a:cubicBezTo>
                <a:cubicBezTo>
                  <a:pt x="18315" y="3973"/>
                  <a:pt x="18307" y="4062"/>
                  <a:pt x="18383" y="4096"/>
                </a:cubicBezTo>
                <a:cubicBezTo>
                  <a:pt x="18441" y="4122"/>
                  <a:pt x="18516" y="4125"/>
                  <a:pt x="18574" y="4096"/>
                </a:cubicBezTo>
                <a:cubicBezTo>
                  <a:pt x="18610" y="4078"/>
                  <a:pt x="18636" y="4057"/>
                  <a:pt x="18669" y="4032"/>
                </a:cubicBezTo>
              </a:path>
              <a:path w="4192" h="2477">
                <a:moveTo>
                  <a:pt x="18669" y="3397"/>
                </a:moveTo>
                <a:cubicBezTo>
                  <a:pt x="18679" y="3325"/>
                  <a:pt x="18693" y="3252"/>
                  <a:pt x="18764" y="3207"/>
                </a:cubicBezTo>
                <a:cubicBezTo>
                  <a:pt x="18811" y="3177"/>
                  <a:pt x="18861" y="3175"/>
                  <a:pt x="18923" y="3175"/>
                </a:cubicBezTo>
                <a:cubicBezTo>
                  <a:pt x="19008" y="3175"/>
                  <a:pt x="19013" y="3269"/>
                  <a:pt x="19018" y="3334"/>
                </a:cubicBezTo>
                <a:cubicBezTo>
                  <a:pt x="19023" y="3392"/>
                  <a:pt x="18957" y="3479"/>
                  <a:pt x="18923" y="3524"/>
                </a:cubicBezTo>
                <a:cubicBezTo>
                  <a:pt x="18893" y="3563"/>
                  <a:pt x="18865" y="3602"/>
                  <a:pt x="18860" y="3651"/>
                </a:cubicBezTo>
                <a:cubicBezTo>
                  <a:pt x="18860" y="3662"/>
                  <a:pt x="18860" y="3672"/>
                  <a:pt x="18860" y="3683"/>
                </a:cubicBezTo>
              </a:path>
              <a:path w="4192" h="2477">
                <a:moveTo>
                  <a:pt x="19018" y="3937"/>
                </a:moveTo>
                <a:cubicBezTo>
                  <a:pt x="18975" y="3937"/>
                  <a:pt x="18948" y="3950"/>
                  <a:pt x="18986" y="3969"/>
                </a:cubicBezTo>
                <a:cubicBezTo>
                  <a:pt x="18997" y="3969"/>
                  <a:pt x="19007" y="3969"/>
                  <a:pt x="19018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Ink 2"/>
          <p:cNvSpPr/>
          <p:nvPr/>
        </p:nvSpPr>
        <p:spPr>
          <a:xfrm>
            <a:off x="2536920" y="1657440"/>
            <a:ext cx="1109520" cy="309600"/>
          </a:xfrm>
          <a:custGeom>
            <a:avLst/>
            <a:gdLst/>
            <a:ahLst/>
            <a:rect l="l" t="t" r="r" b="b"/>
            <a:pathLst>
              <a:path w="3081" h="858">
                <a:moveTo>
                  <a:pt x="7048" y="5461"/>
                </a:moveTo>
                <a:lnTo>
                  <a:pt x="7048" y="5461"/>
                </a:lnTo>
              </a:path>
              <a:path w="3081" h="858">
                <a:moveTo>
                  <a:pt x="8763" y="4604"/>
                </a:moveTo>
                <a:lnTo>
                  <a:pt x="8763" y="4604"/>
                </a:lnTo>
              </a:path>
              <a:path w="3081" h="858">
                <a:moveTo>
                  <a:pt x="8763" y="4604"/>
                </a:moveTo>
                <a:cubicBezTo>
                  <a:pt x="8763" y="4625"/>
                  <a:pt x="8763" y="4646"/>
                  <a:pt x="8763" y="4667"/>
                </a:cubicBezTo>
              </a:path>
              <a:path w="3081" h="858">
                <a:moveTo>
                  <a:pt x="10128" y="5366"/>
                </a:moveTo>
                <a:lnTo>
                  <a:pt x="10128" y="5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Ink 3"/>
          <p:cNvSpPr/>
          <p:nvPr/>
        </p:nvSpPr>
        <p:spPr>
          <a:xfrm>
            <a:off x="2239920" y="1725480"/>
            <a:ext cx="195480" cy="298440"/>
          </a:xfrm>
          <a:custGeom>
            <a:avLst/>
            <a:gdLst/>
            <a:ahLst/>
            <a:rect l="l" t="t" r="r" b="b"/>
            <a:pathLst>
              <a:path w="541" h="827">
                <a:moveTo>
                  <a:pt x="6763" y="4794"/>
                </a:moveTo>
                <a:cubicBezTo>
                  <a:pt x="6678" y="4794"/>
                  <a:pt x="6620" y="4807"/>
                  <a:pt x="6540" y="4826"/>
                </a:cubicBezTo>
                <a:cubicBezTo>
                  <a:pt x="6453" y="4846"/>
                  <a:pt x="6364" y="4834"/>
                  <a:pt x="6286" y="4858"/>
                </a:cubicBezTo>
                <a:cubicBezTo>
                  <a:pt x="6255" y="4858"/>
                  <a:pt x="6244" y="4858"/>
                  <a:pt x="6223" y="4858"/>
                </a:cubicBezTo>
                <a:cubicBezTo>
                  <a:pt x="6223" y="4924"/>
                  <a:pt x="6187" y="5141"/>
                  <a:pt x="6255" y="5175"/>
                </a:cubicBezTo>
                <a:cubicBezTo>
                  <a:pt x="6323" y="5209"/>
                  <a:pt x="6332" y="5123"/>
                  <a:pt x="6382" y="5112"/>
                </a:cubicBezTo>
                <a:cubicBezTo>
                  <a:pt x="6449" y="5097"/>
                  <a:pt x="6549" y="5108"/>
                  <a:pt x="6604" y="5144"/>
                </a:cubicBezTo>
                <a:cubicBezTo>
                  <a:pt x="6644" y="5170"/>
                  <a:pt x="6720" y="5286"/>
                  <a:pt x="6731" y="5334"/>
                </a:cubicBezTo>
                <a:cubicBezTo>
                  <a:pt x="6745" y="5394"/>
                  <a:pt x="6732" y="5474"/>
                  <a:pt x="6699" y="5524"/>
                </a:cubicBezTo>
                <a:cubicBezTo>
                  <a:pt x="6662" y="5580"/>
                  <a:pt x="6592" y="5604"/>
                  <a:pt x="6540" y="5620"/>
                </a:cubicBezTo>
                <a:cubicBezTo>
                  <a:pt x="6434" y="5652"/>
                  <a:pt x="6291" y="5665"/>
                  <a:pt x="638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nk 4"/>
          <p:cNvSpPr/>
          <p:nvPr/>
        </p:nvSpPr>
        <p:spPr>
          <a:xfrm>
            <a:off x="3143160" y="1657440"/>
            <a:ext cx="400320" cy="377640"/>
          </a:xfrm>
          <a:custGeom>
            <a:avLst/>
            <a:gdLst/>
            <a:ahLst/>
            <a:rect l="l" t="t" r="r" b="b"/>
            <a:pathLst>
              <a:path w="1112" h="1049">
                <a:moveTo>
                  <a:pt x="8763" y="4667"/>
                </a:moveTo>
                <a:cubicBezTo>
                  <a:pt x="8763" y="4753"/>
                  <a:pt x="8744" y="4812"/>
                  <a:pt x="8731" y="4890"/>
                </a:cubicBezTo>
                <a:cubicBezTo>
                  <a:pt x="8719" y="4964"/>
                  <a:pt x="8737" y="5047"/>
                  <a:pt x="8763" y="5112"/>
                </a:cubicBezTo>
                <a:cubicBezTo>
                  <a:pt x="8791" y="5181"/>
                  <a:pt x="8845" y="5200"/>
                  <a:pt x="8922" y="5175"/>
                </a:cubicBezTo>
                <a:cubicBezTo>
                  <a:pt x="9023" y="5142"/>
                  <a:pt x="9078" y="5097"/>
                  <a:pt x="9144" y="5048"/>
                </a:cubicBezTo>
                <a:cubicBezTo>
                  <a:pt x="9207" y="5002"/>
                  <a:pt x="9222" y="5023"/>
                  <a:pt x="9239" y="4953"/>
                </a:cubicBezTo>
              </a:path>
              <a:path w="1112" h="1049">
                <a:moveTo>
                  <a:pt x="9239" y="4604"/>
                </a:moveTo>
                <a:cubicBezTo>
                  <a:pt x="9198" y="4674"/>
                  <a:pt x="9208" y="4740"/>
                  <a:pt x="9208" y="4826"/>
                </a:cubicBezTo>
                <a:cubicBezTo>
                  <a:pt x="9208" y="4966"/>
                  <a:pt x="9176" y="5095"/>
                  <a:pt x="9176" y="5239"/>
                </a:cubicBezTo>
                <a:cubicBezTo>
                  <a:pt x="9176" y="5316"/>
                  <a:pt x="9126" y="5610"/>
                  <a:pt x="9208" y="5652"/>
                </a:cubicBezTo>
                <a:cubicBezTo>
                  <a:pt x="9218" y="5652"/>
                  <a:pt x="9229" y="5652"/>
                  <a:pt x="9239" y="5652"/>
                </a:cubicBezTo>
              </a:path>
              <a:path w="1112" h="1049">
                <a:moveTo>
                  <a:pt x="9525" y="4731"/>
                </a:moveTo>
                <a:cubicBezTo>
                  <a:pt x="9471" y="4824"/>
                  <a:pt x="9489" y="4856"/>
                  <a:pt x="9462" y="4953"/>
                </a:cubicBezTo>
                <a:cubicBezTo>
                  <a:pt x="9434" y="5054"/>
                  <a:pt x="9448" y="5068"/>
                  <a:pt x="9462" y="5175"/>
                </a:cubicBezTo>
                <a:cubicBezTo>
                  <a:pt x="9512" y="5182"/>
                  <a:pt x="9599" y="5233"/>
                  <a:pt x="9652" y="5207"/>
                </a:cubicBezTo>
                <a:cubicBezTo>
                  <a:pt x="9709" y="5179"/>
                  <a:pt x="9788" y="5103"/>
                  <a:pt x="9811" y="5048"/>
                </a:cubicBezTo>
                <a:cubicBezTo>
                  <a:pt x="9826" y="5011"/>
                  <a:pt x="9834" y="4962"/>
                  <a:pt x="9842" y="4921"/>
                </a:cubicBezTo>
              </a:path>
              <a:path w="1112" h="1049">
                <a:moveTo>
                  <a:pt x="9842" y="4604"/>
                </a:moveTo>
                <a:cubicBezTo>
                  <a:pt x="9807" y="4664"/>
                  <a:pt x="9788" y="4783"/>
                  <a:pt x="9779" y="4858"/>
                </a:cubicBezTo>
                <a:cubicBezTo>
                  <a:pt x="9753" y="5080"/>
                  <a:pt x="9762" y="5345"/>
                  <a:pt x="9811" y="5556"/>
                </a:cubicBezTo>
                <a:cubicBezTo>
                  <a:pt x="9811" y="5588"/>
                  <a:pt x="9811" y="5599"/>
                  <a:pt x="9811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Ink 5"/>
          <p:cNvSpPr/>
          <p:nvPr/>
        </p:nvSpPr>
        <p:spPr>
          <a:xfrm>
            <a:off x="3782880" y="1692360"/>
            <a:ext cx="34920" cy="296640"/>
          </a:xfrm>
          <a:custGeom>
            <a:avLst/>
            <a:gdLst/>
            <a:ahLst/>
            <a:rect l="l" t="t" r="r" b="b"/>
            <a:pathLst>
              <a:path w="96" h="826">
                <a:moveTo>
                  <a:pt x="10541" y="4699"/>
                </a:moveTo>
                <a:cubicBezTo>
                  <a:pt x="10505" y="4758"/>
                  <a:pt x="10492" y="4844"/>
                  <a:pt x="10509" y="4921"/>
                </a:cubicBezTo>
                <a:cubicBezTo>
                  <a:pt x="10534" y="5034"/>
                  <a:pt x="10559" y="5159"/>
                  <a:pt x="10573" y="5270"/>
                </a:cubicBezTo>
                <a:cubicBezTo>
                  <a:pt x="10585" y="5362"/>
                  <a:pt x="10581" y="5414"/>
                  <a:pt x="10604" y="5493"/>
                </a:cubicBezTo>
                <a:cubicBezTo>
                  <a:pt x="10604" y="5503"/>
                  <a:pt x="10604" y="5514"/>
                  <a:pt x="10604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Ink 6"/>
          <p:cNvSpPr/>
          <p:nvPr/>
        </p:nvSpPr>
        <p:spPr>
          <a:xfrm>
            <a:off x="4079880" y="1635120"/>
            <a:ext cx="927000" cy="446040"/>
          </a:xfrm>
          <a:custGeom>
            <a:avLst/>
            <a:gdLst/>
            <a:ahLst/>
            <a:rect l="l" t="t" r="r" b="b"/>
            <a:pathLst>
              <a:path w="2572" h="1239">
                <a:moveTo>
                  <a:pt x="11366" y="4667"/>
                </a:moveTo>
                <a:cubicBezTo>
                  <a:pt x="11366" y="4738"/>
                  <a:pt x="11338" y="4787"/>
                  <a:pt x="11335" y="4858"/>
                </a:cubicBezTo>
                <a:cubicBezTo>
                  <a:pt x="11329" y="5002"/>
                  <a:pt x="11345" y="5135"/>
                  <a:pt x="11366" y="5270"/>
                </a:cubicBezTo>
                <a:cubicBezTo>
                  <a:pt x="11378" y="5346"/>
                  <a:pt x="11328" y="5501"/>
                  <a:pt x="11398" y="5524"/>
                </a:cubicBezTo>
              </a:path>
              <a:path w="2572" h="1239">
                <a:moveTo>
                  <a:pt x="11684" y="4826"/>
                </a:moveTo>
                <a:cubicBezTo>
                  <a:pt x="11641" y="4837"/>
                  <a:pt x="11563" y="4867"/>
                  <a:pt x="11525" y="4890"/>
                </a:cubicBezTo>
                <a:cubicBezTo>
                  <a:pt x="11479" y="4918"/>
                  <a:pt x="11332" y="5056"/>
                  <a:pt x="11335" y="5112"/>
                </a:cubicBezTo>
                <a:cubicBezTo>
                  <a:pt x="11338" y="5162"/>
                  <a:pt x="11423" y="5199"/>
                  <a:pt x="11462" y="5207"/>
                </a:cubicBezTo>
                <a:cubicBezTo>
                  <a:pt x="11549" y="5226"/>
                  <a:pt x="11566" y="5242"/>
                  <a:pt x="11652" y="5270"/>
                </a:cubicBezTo>
                <a:cubicBezTo>
                  <a:pt x="11697" y="5285"/>
                  <a:pt x="11710" y="5296"/>
                  <a:pt x="11748" y="5334"/>
                </a:cubicBezTo>
              </a:path>
              <a:path w="2572" h="1239">
                <a:moveTo>
                  <a:pt x="11970" y="4762"/>
                </a:moveTo>
                <a:cubicBezTo>
                  <a:pt x="11970" y="4867"/>
                  <a:pt x="11986" y="4951"/>
                  <a:pt x="12002" y="5048"/>
                </a:cubicBezTo>
                <a:cubicBezTo>
                  <a:pt x="12014" y="5120"/>
                  <a:pt x="12033" y="5162"/>
                  <a:pt x="12033" y="5239"/>
                </a:cubicBezTo>
                <a:cubicBezTo>
                  <a:pt x="12033" y="5307"/>
                  <a:pt x="11955" y="5264"/>
                  <a:pt x="11938" y="5239"/>
                </a:cubicBezTo>
              </a:path>
              <a:path w="2572" h="1239">
                <a:moveTo>
                  <a:pt x="11652" y="4890"/>
                </a:moveTo>
                <a:cubicBezTo>
                  <a:pt x="11652" y="4858"/>
                  <a:pt x="11652" y="4847"/>
                  <a:pt x="11652" y="4826"/>
                </a:cubicBezTo>
                <a:cubicBezTo>
                  <a:pt x="11731" y="4815"/>
                  <a:pt x="11823" y="4814"/>
                  <a:pt x="11906" y="4794"/>
                </a:cubicBezTo>
                <a:cubicBezTo>
                  <a:pt x="11999" y="4772"/>
                  <a:pt x="12098" y="4745"/>
                  <a:pt x="12192" y="4731"/>
                </a:cubicBezTo>
                <a:cubicBezTo>
                  <a:pt x="12251" y="4722"/>
                  <a:pt x="12322" y="4731"/>
                  <a:pt x="12382" y="4731"/>
                </a:cubicBezTo>
              </a:path>
              <a:path w="2572" h="1239">
                <a:moveTo>
                  <a:pt x="12795" y="4540"/>
                </a:moveTo>
                <a:cubicBezTo>
                  <a:pt x="12795" y="4604"/>
                  <a:pt x="12780" y="4671"/>
                  <a:pt x="12764" y="4731"/>
                </a:cubicBezTo>
                <a:cubicBezTo>
                  <a:pt x="12728" y="4869"/>
                  <a:pt x="12726" y="5006"/>
                  <a:pt x="12700" y="5144"/>
                </a:cubicBezTo>
                <a:cubicBezTo>
                  <a:pt x="12673" y="5284"/>
                  <a:pt x="12618" y="5421"/>
                  <a:pt x="12573" y="5556"/>
                </a:cubicBezTo>
                <a:cubicBezTo>
                  <a:pt x="12547" y="5635"/>
                  <a:pt x="12510" y="5696"/>
                  <a:pt x="12510" y="5778"/>
                </a:cubicBezTo>
              </a:path>
              <a:path w="2572" h="1239">
                <a:moveTo>
                  <a:pt x="12859" y="5048"/>
                </a:moveTo>
                <a:cubicBezTo>
                  <a:pt x="12903" y="5108"/>
                  <a:pt x="12890" y="5161"/>
                  <a:pt x="12890" y="5239"/>
                </a:cubicBezTo>
                <a:cubicBezTo>
                  <a:pt x="12890" y="5289"/>
                  <a:pt x="12880" y="5418"/>
                  <a:pt x="12859" y="5461"/>
                </a:cubicBezTo>
                <a:cubicBezTo>
                  <a:pt x="12848" y="5472"/>
                  <a:pt x="12838" y="5482"/>
                  <a:pt x="12827" y="5493"/>
                </a:cubicBezTo>
                <a:cubicBezTo>
                  <a:pt x="12827" y="5412"/>
                  <a:pt x="12847" y="5344"/>
                  <a:pt x="12859" y="5270"/>
                </a:cubicBezTo>
                <a:cubicBezTo>
                  <a:pt x="12874" y="5179"/>
                  <a:pt x="12890" y="5118"/>
                  <a:pt x="12986" y="5080"/>
                </a:cubicBezTo>
                <a:cubicBezTo>
                  <a:pt x="12997" y="5080"/>
                  <a:pt x="13007" y="5080"/>
                  <a:pt x="13018" y="5080"/>
                </a:cubicBezTo>
                <a:cubicBezTo>
                  <a:pt x="13092" y="5156"/>
                  <a:pt x="13055" y="5176"/>
                  <a:pt x="13081" y="5270"/>
                </a:cubicBezTo>
                <a:cubicBezTo>
                  <a:pt x="13102" y="5347"/>
                  <a:pt x="13113" y="5377"/>
                  <a:pt x="13113" y="5461"/>
                </a:cubicBezTo>
                <a:cubicBezTo>
                  <a:pt x="13113" y="5359"/>
                  <a:pt x="13089" y="5234"/>
                  <a:pt x="13144" y="5144"/>
                </a:cubicBezTo>
                <a:cubicBezTo>
                  <a:pt x="13172" y="5099"/>
                  <a:pt x="13170" y="5093"/>
                  <a:pt x="13208" y="5080"/>
                </a:cubicBezTo>
                <a:cubicBezTo>
                  <a:pt x="13281" y="5134"/>
                  <a:pt x="13272" y="5134"/>
                  <a:pt x="13272" y="5239"/>
                </a:cubicBezTo>
                <a:cubicBezTo>
                  <a:pt x="13272" y="5286"/>
                  <a:pt x="13264" y="5442"/>
                  <a:pt x="13272" y="5461"/>
                </a:cubicBezTo>
                <a:cubicBezTo>
                  <a:pt x="13282" y="5461"/>
                  <a:pt x="13293" y="5461"/>
                  <a:pt x="13303" y="5461"/>
                </a:cubicBezTo>
              </a:path>
              <a:path w="2572" h="1239">
                <a:moveTo>
                  <a:pt x="13526" y="5080"/>
                </a:moveTo>
                <a:cubicBezTo>
                  <a:pt x="13471" y="5148"/>
                  <a:pt x="13463" y="5205"/>
                  <a:pt x="13430" y="5270"/>
                </a:cubicBezTo>
                <a:cubicBezTo>
                  <a:pt x="13394" y="5342"/>
                  <a:pt x="13396" y="5333"/>
                  <a:pt x="13462" y="5398"/>
                </a:cubicBezTo>
                <a:cubicBezTo>
                  <a:pt x="13506" y="5441"/>
                  <a:pt x="13544" y="5428"/>
                  <a:pt x="13589" y="5398"/>
                </a:cubicBezTo>
                <a:cubicBezTo>
                  <a:pt x="13653" y="5356"/>
                  <a:pt x="13678" y="5309"/>
                  <a:pt x="13684" y="5239"/>
                </a:cubicBezTo>
                <a:cubicBezTo>
                  <a:pt x="13690" y="5167"/>
                  <a:pt x="13665" y="5146"/>
                  <a:pt x="13621" y="5112"/>
                </a:cubicBezTo>
                <a:cubicBezTo>
                  <a:pt x="13567" y="5070"/>
                  <a:pt x="13520" y="5083"/>
                  <a:pt x="13462" y="5048"/>
                </a:cubicBezTo>
              </a:path>
              <a:path w="2572" h="1239">
                <a:moveTo>
                  <a:pt x="13875" y="4762"/>
                </a:moveTo>
                <a:cubicBezTo>
                  <a:pt x="13875" y="4824"/>
                  <a:pt x="13862" y="4898"/>
                  <a:pt x="13843" y="4953"/>
                </a:cubicBezTo>
                <a:cubicBezTo>
                  <a:pt x="13803" y="5071"/>
                  <a:pt x="13836" y="5123"/>
                  <a:pt x="13843" y="5239"/>
                </a:cubicBezTo>
                <a:cubicBezTo>
                  <a:pt x="13847" y="5307"/>
                  <a:pt x="13853" y="5380"/>
                  <a:pt x="13906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Ink 7"/>
          <p:cNvSpPr/>
          <p:nvPr/>
        </p:nvSpPr>
        <p:spPr>
          <a:xfrm>
            <a:off x="3681360" y="3371760"/>
            <a:ext cx="171360" cy="46080"/>
          </a:xfrm>
          <a:custGeom>
            <a:avLst/>
            <a:gdLst/>
            <a:ahLst/>
            <a:rect l="l" t="t" r="r" b="b"/>
            <a:pathLst>
              <a:path w="477" h="128">
                <a:moveTo>
                  <a:pt x="10224" y="9493"/>
                </a:moveTo>
                <a:lnTo>
                  <a:pt x="10224" y="9493"/>
                </a:lnTo>
              </a:path>
              <a:path w="477" h="128">
                <a:moveTo>
                  <a:pt x="10700" y="9366"/>
                </a:moveTo>
                <a:cubicBezTo>
                  <a:pt x="10700" y="9377"/>
                  <a:pt x="10700" y="9387"/>
                  <a:pt x="10700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k 8"/>
          <p:cNvSpPr/>
          <p:nvPr/>
        </p:nvSpPr>
        <p:spPr>
          <a:xfrm>
            <a:off x="1908000" y="3165480"/>
            <a:ext cx="1602000" cy="492120"/>
          </a:xfrm>
          <a:custGeom>
            <a:avLst/>
            <a:gdLst/>
            <a:ahLst/>
            <a:rect l="l" t="t" r="r" b="b"/>
            <a:pathLst>
              <a:path w="4446" h="1366">
                <a:moveTo>
                  <a:pt x="5556" y="8954"/>
                </a:moveTo>
                <a:cubicBezTo>
                  <a:pt x="5535" y="8943"/>
                  <a:pt x="5514" y="8933"/>
                  <a:pt x="5493" y="8922"/>
                </a:cubicBezTo>
                <a:cubicBezTo>
                  <a:pt x="5448" y="9025"/>
                  <a:pt x="5478" y="9068"/>
                  <a:pt x="5524" y="9176"/>
                </a:cubicBezTo>
                <a:cubicBezTo>
                  <a:pt x="5577" y="9299"/>
                  <a:pt x="5606" y="9423"/>
                  <a:pt x="5620" y="9557"/>
                </a:cubicBezTo>
                <a:cubicBezTo>
                  <a:pt x="5637" y="9723"/>
                  <a:pt x="5620" y="9898"/>
                  <a:pt x="5620" y="10065"/>
                </a:cubicBezTo>
              </a:path>
              <a:path w="4446" h="1366">
                <a:moveTo>
                  <a:pt x="5366" y="9271"/>
                </a:moveTo>
                <a:cubicBezTo>
                  <a:pt x="5309" y="9196"/>
                  <a:pt x="5272" y="9123"/>
                  <a:pt x="5302" y="9017"/>
                </a:cubicBezTo>
                <a:cubicBezTo>
                  <a:pt x="5323" y="8943"/>
                  <a:pt x="5419" y="8842"/>
                  <a:pt x="5493" y="8826"/>
                </a:cubicBezTo>
                <a:cubicBezTo>
                  <a:pt x="5602" y="8802"/>
                  <a:pt x="5705" y="8782"/>
                  <a:pt x="5810" y="8826"/>
                </a:cubicBezTo>
                <a:cubicBezTo>
                  <a:pt x="5869" y="8851"/>
                  <a:pt x="5894" y="8878"/>
                  <a:pt x="5937" y="8922"/>
                </a:cubicBezTo>
                <a:cubicBezTo>
                  <a:pt x="5883" y="9031"/>
                  <a:pt x="5819" y="9112"/>
                  <a:pt x="5747" y="9208"/>
                </a:cubicBezTo>
                <a:cubicBezTo>
                  <a:pt x="5670" y="9310"/>
                  <a:pt x="5611" y="9368"/>
                  <a:pt x="5493" y="9398"/>
                </a:cubicBezTo>
                <a:cubicBezTo>
                  <a:pt x="5561" y="9343"/>
                  <a:pt x="5643" y="9321"/>
                  <a:pt x="5715" y="9271"/>
                </a:cubicBezTo>
                <a:cubicBezTo>
                  <a:pt x="5809" y="9206"/>
                  <a:pt x="5865" y="9193"/>
                  <a:pt x="5969" y="9239"/>
                </a:cubicBezTo>
                <a:cubicBezTo>
                  <a:pt x="6086" y="9291"/>
                  <a:pt x="6152" y="9392"/>
                  <a:pt x="6128" y="9525"/>
                </a:cubicBezTo>
                <a:cubicBezTo>
                  <a:pt x="6099" y="9683"/>
                  <a:pt x="6014" y="9793"/>
                  <a:pt x="5906" y="9906"/>
                </a:cubicBezTo>
                <a:cubicBezTo>
                  <a:pt x="5827" y="9989"/>
                  <a:pt x="5753" y="10074"/>
                  <a:pt x="5652" y="10128"/>
                </a:cubicBezTo>
                <a:cubicBezTo>
                  <a:pt x="5536" y="10190"/>
                  <a:pt x="5567" y="10116"/>
                  <a:pt x="5556" y="10033"/>
                </a:cubicBezTo>
              </a:path>
              <a:path w="4446" h="1366">
                <a:moveTo>
                  <a:pt x="6191" y="9684"/>
                </a:moveTo>
                <a:cubicBezTo>
                  <a:pt x="6272" y="9684"/>
                  <a:pt x="6349" y="9700"/>
                  <a:pt x="6414" y="9652"/>
                </a:cubicBezTo>
                <a:cubicBezTo>
                  <a:pt x="6479" y="9604"/>
                  <a:pt x="6534" y="9582"/>
                  <a:pt x="6540" y="9493"/>
                </a:cubicBezTo>
                <a:cubicBezTo>
                  <a:pt x="6545" y="9418"/>
                  <a:pt x="6545" y="9363"/>
                  <a:pt x="6509" y="9303"/>
                </a:cubicBezTo>
                <a:cubicBezTo>
                  <a:pt x="6438" y="9320"/>
                  <a:pt x="6418" y="9363"/>
                  <a:pt x="6382" y="9430"/>
                </a:cubicBezTo>
                <a:cubicBezTo>
                  <a:pt x="6347" y="9495"/>
                  <a:pt x="6262" y="9606"/>
                  <a:pt x="6286" y="9684"/>
                </a:cubicBezTo>
                <a:cubicBezTo>
                  <a:pt x="6299" y="9726"/>
                  <a:pt x="6402" y="9856"/>
                  <a:pt x="6445" y="9874"/>
                </a:cubicBezTo>
                <a:cubicBezTo>
                  <a:pt x="6529" y="9909"/>
                  <a:pt x="6689" y="9867"/>
                  <a:pt x="6763" y="9842"/>
                </a:cubicBezTo>
              </a:path>
              <a:path w="4446" h="1366">
                <a:moveTo>
                  <a:pt x="7239" y="9398"/>
                </a:moveTo>
                <a:cubicBezTo>
                  <a:pt x="7227" y="9363"/>
                  <a:pt x="7149" y="9364"/>
                  <a:pt x="7112" y="9398"/>
                </a:cubicBezTo>
                <a:cubicBezTo>
                  <a:pt x="7057" y="9449"/>
                  <a:pt x="7019" y="9584"/>
                  <a:pt x="6985" y="9652"/>
                </a:cubicBezTo>
                <a:cubicBezTo>
                  <a:pt x="6946" y="9729"/>
                  <a:pt x="6930" y="9806"/>
                  <a:pt x="6985" y="9874"/>
                </a:cubicBezTo>
                <a:cubicBezTo>
                  <a:pt x="7022" y="9920"/>
                  <a:pt x="7188" y="9933"/>
                  <a:pt x="7239" y="9906"/>
                </a:cubicBezTo>
                <a:cubicBezTo>
                  <a:pt x="7298" y="9846"/>
                  <a:pt x="7313" y="9828"/>
                  <a:pt x="7366" y="9811"/>
                </a:cubicBezTo>
              </a:path>
              <a:path w="4446" h="1366">
                <a:moveTo>
                  <a:pt x="7652" y="9430"/>
                </a:moveTo>
                <a:cubicBezTo>
                  <a:pt x="7594" y="9430"/>
                  <a:pt x="7560" y="9439"/>
                  <a:pt x="7525" y="9493"/>
                </a:cubicBezTo>
                <a:cubicBezTo>
                  <a:pt x="7469" y="9581"/>
                  <a:pt x="7461" y="9646"/>
                  <a:pt x="7461" y="9747"/>
                </a:cubicBezTo>
                <a:cubicBezTo>
                  <a:pt x="7461" y="9824"/>
                  <a:pt x="7452" y="9819"/>
                  <a:pt x="7493" y="9874"/>
                </a:cubicBezTo>
                <a:cubicBezTo>
                  <a:pt x="7562" y="9874"/>
                  <a:pt x="7599" y="9858"/>
                  <a:pt x="7652" y="9811"/>
                </a:cubicBezTo>
                <a:cubicBezTo>
                  <a:pt x="7702" y="9766"/>
                  <a:pt x="7711" y="9686"/>
                  <a:pt x="7715" y="9620"/>
                </a:cubicBezTo>
                <a:cubicBezTo>
                  <a:pt x="7715" y="9567"/>
                  <a:pt x="7715" y="9557"/>
                  <a:pt x="7715" y="9525"/>
                </a:cubicBezTo>
                <a:cubicBezTo>
                  <a:pt x="7715" y="9438"/>
                  <a:pt x="7745" y="9641"/>
                  <a:pt x="7747" y="9652"/>
                </a:cubicBezTo>
                <a:cubicBezTo>
                  <a:pt x="7765" y="9756"/>
                  <a:pt x="7793" y="9775"/>
                  <a:pt x="7874" y="9842"/>
                </a:cubicBezTo>
                <a:cubicBezTo>
                  <a:pt x="7905" y="9868"/>
                  <a:pt x="7988" y="9899"/>
                  <a:pt x="8033" y="9874"/>
                </a:cubicBezTo>
                <a:cubicBezTo>
                  <a:pt x="8071" y="9852"/>
                  <a:pt x="8153" y="9752"/>
                  <a:pt x="8160" y="9716"/>
                </a:cubicBezTo>
                <a:cubicBezTo>
                  <a:pt x="8180" y="9618"/>
                  <a:pt x="8201" y="9527"/>
                  <a:pt x="8223" y="9430"/>
                </a:cubicBezTo>
                <a:cubicBezTo>
                  <a:pt x="8223" y="9398"/>
                  <a:pt x="8223" y="9387"/>
                  <a:pt x="8223" y="9366"/>
                </a:cubicBezTo>
                <a:cubicBezTo>
                  <a:pt x="8223" y="9452"/>
                  <a:pt x="8202" y="9554"/>
                  <a:pt x="8255" y="9620"/>
                </a:cubicBezTo>
                <a:cubicBezTo>
                  <a:pt x="8300" y="9675"/>
                  <a:pt x="8266" y="9738"/>
                  <a:pt x="8350" y="9747"/>
                </a:cubicBezTo>
                <a:cubicBezTo>
                  <a:pt x="8434" y="9756"/>
                  <a:pt x="8439" y="9730"/>
                  <a:pt x="8446" y="9652"/>
                </a:cubicBezTo>
                <a:cubicBezTo>
                  <a:pt x="8453" y="9572"/>
                  <a:pt x="8471" y="9508"/>
                  <a:pt x="8477" y="9430"/>
                </a:cubicBezTo>
                <a:cubicBezTo>
                  <a:pt x="8477" y="9419"/>
                  <a:pt x="8477" y="9409"/>
                  <a:pt x="8477" y="9398"/>
                </a:cubicBezTo>
                <a:cubicBezTo>
                  <a:pt x="8477" y="9293"/>
                  <a:pt x="8476" y="9522"/>
                  <a:pt x="8477" y="9525"/>
                </a:cubicBezTo>
                <a:cubicBezTo>
                  <a:pt x="8496" y="9589"/>
                  <a:pt x="8546" y="9695"/>
                  <a:pt x="8572" y="9747"/>
                </a:cubicBezTo>
                <a:cubicBezTo>
                  <a:pt x="8588" y="9779"/>
                  <a:pt x="8696" y="9852"/>
                  <a:pt x="8731" y="9842"/>
                </a:cubicBezTo>
                <a:cubicBezTo>
                  <a:pt x="8752" y="9832"/>
                  <a:pt x="8774" y="9821"/>
                  <a:pt x="8795" y="9811"/>
                </a:cubicBezTo>
              </a:path>
              <a:path w="4446" h="1366">
                <a:moveTo>
                  <a:pt x="9239" y="9271"/>
                </a:moveTo>
                <a:cubicBezTo>
                  <a:pt x="9239" y="9250"/>
                  <a:pt x="9239" y="9229"/>
                  <a:pt x="9239" y="9208"/>
                </a:cubicBezTo>
                <a:cubicBezTo>
                  <a:pt x="9172" y="9208"/>
                  <a:pt x="9136" y="9209"/>
                  <a:pt x="9080" y="9239"/>
                </a:cubicBezTo>
                <a:cubicBezTo>
                  <a:pt x="9020" y="9271"/>
                  <a:pt x="8972" y="9297"/>
                  <a:pt x="8922" y="9334"/>
                </a:cubicBezTo>
                <a:cubicBezTo>
                  <a:pt x="8986" y="9431"/>
                  <a:pt x="8987" y="9383"/>
                  <a:pt x="9080" y="9430"/>
                </a:cubicBezTo>
                <a:cubicBezTo>
                  <a:pt x="9134" y="9457"/>
                  <a:pt x="9183" y="9500"/>
                  <a:pt x="9239" y="9525"/>
                </a:cubicBezTo>
                <a:cubicBezTo>
                  <a:pt x="9275" y="9525"/>
                  <a:pt x="9289" y="9528"/>
                  <a:pt x="9303" y="9557"/>
                </a:cubicBezTo>
                <a:cubicBezTo>
                  <a:pt x="9271" y="9589"/>
                  <a:pt x="9195" y="9661"/>
                  <a:pt x="9144" y="9652"/>
                </a:cubicBezTo>
                <a:cubicBezTo>
                  <a:pt x="9115" y="9623"/>
                  <a:pt x="9109" y="9612"/>
                  <a:pt x="9080" y="9620"/>
                </a:cubicBezTo>
              </a:path>
              <a:path w="4446" h="1366">
                <a:moveTo>
                  <a:pt x="9430" y="9493"/>
                </a:moveTo>
                <a:cubicBezTo>
                  <a:pt x="9468" y="9486"/>
                  <a:pt x="9556" y="9480"/>
                  <a:pt x="9588" y="9462"/>
                </a:cubicBezTo>
                <a:cubicBezTo>
                  <a:pt x="9633" y="9437"/>
                  <a:pt x="9629" y="9368"/>
                  <a:pt x="9652" y="9334"/>
                </a:cubicBezTo>
                <a:cubicBezTo>
                  <a:pt x="9692" y="9275"/>
                  <a:pt x="9697" y="9267"/>
                  <a:pt x="9652" y="9208"/>
                </a:cubicBezTo>
                <a:cubicBezTo>
                  <a:pt x="9612" y="9247"/>
                  <a:pt x="9539" y="9314"/>
                  <a:pt x="9525" y="9366"/>
                </a:cubicBezTo>
                <a:cubicBezTo>
                  <a:pt x="9506" y="9439"/>
                  <a:pt x="9540" y="9501"/>
                  <a:pt x="9557" y="9557"/>
                </a:cubicBezTo>
                <a:cubicBezTo>
                  <a:pt x="9568" y="9593"/>
                  <a:pt x="9601" y="9614"/>
                  <a:pt x="9652" y="9620"/>
                </a:cubicBezTo>
                <a:cubicBezTo>
                  <a:pt x="9694" y="9620"/>
                  <a:pt x="9715" y="9620"/>
                  <a:pt x="974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Ink 9"/>
          <p:cNvSpPr/>
          <p:nvPr/>
        </p:nvSpPr>
        <p:spPr>
          <a:xfrm>
            <a:off x="4011480" y="3360600"/>
            <a:ext cx="34920" cy="111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1144" y="9334"/>
                </a:moveTo>
                <a:cubicBezTo>
                  <a:pt x="11200" y="9334"/>
                  <a:pt x="11195" y="9332"/>
                  <a:pt x="11240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3668760" y="421812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224" y="11716"/>
                </a:moveTo>
                <a:cubicBezTo>
                  <a:pt x="10224" y="11752"/>
                  <a:pt x="10221" y="11760"/>
                  <a:pt x="10192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793880" y="4125960"/>
            <a:ext cx="230040" cy="228600"/>
          </a:xfrm>
          <a:custGeom>
            <a:avLst/>
            <a:gdLst/>
            <a:ahLst/>
            <a:rect l="l" t="t" r="r" b="b"/>
            <a:pathLst>
              <a:path w="636" h="636">
                <a:moveTo>
                  <a:pt x="5175" y="11462"/>
                </a:moveTo>
                <a:cubicBezTo>
                  <a:pt x="5185" y="11503"/>
                  <a:pt x="5188" y="11583"/>
                  <a:pt x="5207" y="11620"/>
                </a:cubicBezTo>
                <a:cubicBezTo>
                  <a:pt x="5234" y="11674"/>
                  <a:pt x="5254" y="11745"/>
                  <a:pt x="5270" y="11811"/>
                </a:cubicBezTo>
                <a:cubicBezTo>
                  <a:pt x="5285" y="11871"/>
                  <a:pt x="5285" y="11918"/>
                  <a:pt x="5302" y="11970"/>
                </a:cubicBezTo>
                <a:cubicBezTo>
                  <a:pt x="5313" y="12003"/>
                  <a:pt x="5302" y="12062"/>
                  <a:pt x="5302" y="12097"/>
                </a:cubicBezTo>
              </a:path>
              <a:path w="636" h="636">
                <a:moveTo>
                  <a:pt x="4985" y="11843"/>
                </a:moveTo>
                <a:cubicBezTo>
                  <a:pt x="5089" y="11843"/>
                  <a:pt x="5183" y="11829"/>
                  <a:pt x="5270" y="11811"/>
                </a:cubicBezTo>
                <a:cubicBezTo>
                  <a:pt x="5306" y="11804"/>
                  <a:pt x="5478" y="11777"/>
                  <a:pt x="5493" y="11779"/>
                </a:cubicBezTo>
                <a:cubicBezTo>
                  <a:pt x="5551" y="11787"/>
                  <a:pt x="5562" y="11811"/>
                  <a:pt x="562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217600" y="3908520"/>
            <a:ext cx="263520" cy="595080"/>
          </a:xfrm>
          <a:custGeom>
            <a:avLst/>
            <a:gdLst/>
            <a:ahLst/>
            <a:rect l="l" t="t" r="r" b="b"/>
            <a:pathLst>
              <a:path w="731" h="1653">
                <a:moveTo>
                  <a:pt x="6636" y="10858"/>
                </a:moveTo>
                <a:cubicBezTo>
                  <a:pt x="6636" y="10889"/>
                  <a:pt x="6598" y="11004"/>
                  <a:pt x="6604" y="11017"/>
                </a:cubicBezTo>
                <a:cubicBezTo>
                  <a:pt x="6629" y="11074"/>
                  <a:pt x="6636" y="11108"/>
                  <a:pt x="6636" y="11176"/>
                </a:cubicBezTo>
                <a:cubicBezTo>
                  <a:pt x="6636" y="11194"/>
                  <a:pt x="6660" y="11316"/>
                  <a:pt x="6668" y="11335"/>
                </a:cubicBezTo>
                <a:cubicBezTo>
                  <a:pt x="6678" y="11345"/>
                  <a:pt x="6689" y="11356"/>
                  <a:pt x="6699" y="11366"/>
                </a:cubicBezTo>
              </a:path>
              <a:path w="731" h="1653">
                <a:moveTo>
                  <a:pt x="6160" y="11652"/>
                </a:moveTo>
                <a:cubicBezTo>
                  <a:pt x="6223" y="11636"/>
                  <a:pt x="6280" y="11635"/>
                  <a:pt x="6350" y="11620"/>
                </a:cubicBezTo>
                <a:cubicBezTo>
                  <a:pt x="6444" y="11600"/>
                  <a:pt x="6508" y="11589"/>
                  <a:pt x="6604" y="11589"/>
                </a:cubicBezTo>
                <a:cubicBezTo>
                  <a:pt x="6663" y="11589"/>
                  <a:pt x="6856" y="11553"/>
                  <a:pt x="6890" y="11620"/>
                </a:cubicBezTo>
                <a:cubicBezTo>
                  <a:pt x="6890" y="11631"/>
                  <a:pt x="6890" y="11641"/>
                  <a:pt x="6890" y="11652"/>
                </a:cubicBezTo>
              </a:path>
              <a:path w="731" h="1653">
                <a:moveTo>
                  <a:pt x="6414" y="11970"/>
                </a:moveTo>
                <a:cubicBezTo>
                  <a:pt x="6477" y="11879"/>
                  <a:pt x="6497" y="11915"/>
                  <a:pt x="6572" y="11874"/>
                </a:cubicBezTo>
                <a:cubicBezTo>
                  <a:pt x="6625" y="11845"/>
                  <a:pt x="6644" y="11837"/>
                  <a:pt x="6699" y="11874"/>
                </a:cubicBezTo>
                <a:cubicBezTo>
                  <a:pt x="6737" y="11899"/>
                  <a:pt x="6748" y="11992"/>
                  <a:pt x="6731" y="12033"/>
                </a:cubicBezTo>
                <a:cubicBezTo>
                  <a:pt x="6697" y="12115"/>
                  <a:pt x="6616" y="12149"/>
                  <a:pt x="6572" y="12224"/>
                </a:cubicBezTo>
                <a:cubicBezTo>
                  <a:pt x="6529" y="12296"/>
                  <a:pt x="6471" y="12350"/>
                  <a:pt x="6414" y="12414"/>
                </a:cubicBezTo>
                <a:cubicBezTo>
                  <a:pt x="6382" y="12446"/>
                  <a:pt x="6371" y="12457"/>
                  <a:pt x="6350" y="12478"/>
                </a:cubicBezTo>
                <a:cubicBezTo>
                  <a:pt x="6430" y="12510"/>
                  <a:pt x="6451" y="12468"/>
                  <a:pt x="6540" y="12446"/>
                </a:cubicBezTo>
                <a:cubicBezTo>
                  <a:pt x="6610" y="12428"/>
                  <a:pt x="6656" y="12414"/>
                  <a:pt x="6731" y="12414"/>
                </a:cubicBezTo>
                <a:cubicBezTo>
                  <a:pt x="6763" y="12414"/>
                  <a:pt x="6794" y="12414"/>
                  <a:pt x="6826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2732040" y="3851280"/>
            <a:ext cx="149400" cy="641520"/>
          </a:xfrm>
          <a:custGeom>
            <a:avLst/>
            <a:gdLst/>
            <a:ahLst/>
            <a:rect l="l" t="t" r="r" b="b"/>
            <a:pathLst>
              <a:path w="414" h="1779">
                <a:moveTo>
                  <a:pt x="7874" y="10700"/>
                </a:moveTo>
                <a:cubicBezTo>
                  <a:pt x="7808" y="10765"/>
                  <a:pt x="7807" y="10779"/>
                  <a:pt x="7779" y="10858"/>
                </a:cubicBezTo>
                <a:cubicBezTo>
                  <a:pt x="7736" y="10979"/>
                  <a:pt x="7718" y="11084"/>
                  <a:pt x="7684" y="11208"/>
                </a:cubicBezTo>
                <a:cubicBezTo>
                  <a:pt x="7639" y="11371"/>
                  <a:pt x="7594" y="11514"/>
                  <a:pt x="7588" y="11684"/>
                </a:cubicBezTo>
                <a:cubicBezTo>
                  <a:pt x="7583" y="11845"/>
                  <a:pt x="7605" y="11974"/>
                  <a:pt x="7652" y="12128"/>
                </a:cubicBezTo>
                <a:cubicBezTo>
                  <a:pt x="7686" y="12241"/>
                  <a:pt x="7763" y="12328"/>
                  <a:pt x="7842" y="12414"/>
                </a:cubicBezTo>
                <a:cubicBezTo>
                  <a:pt x="7894" y="12470"/>
                  <a:pt x="7931" y="12469"/>
                  <a:pt x="8001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3051000" y="4022640"/>
            <a:ext cx="516240" cy="298440"/>
          </a:xfrm>
          <a:custGeom>
            <a:avLst/>
            <a:gdLst/>
            <a:ahLst/>
            <a:rect l="l" t="t" r="r" b="b"/>
            <a:pathLst>
              <a:path w="1430" h="827">
                <a:moveTo>
                  <a:pt x="8604" y="11176"/>
                </a:moveTo>
                <a:cubicBezTo>
                  <a:pt x="8561" y="11219"/>
                  <a:pt x="8537" y="11255"/>
                  <a:pt x="8509" y="11303"/>
                </a:cubicBezTo>
                <a:cubicBezTo>
                  <a:pt x="8470" y="11371"/>
                  <a:pt x="8477" y="11417"/>
                  <a:pt x="8477" y="11494"/>
                </a:cubicBezTo>
                <a:cubicBezTo>
                  <a:pt x="8477" y="11504"/>
                  <a:pt x="8477" y="11515"/>
                  <a:pt x="8477" y="11525"/>
                </a:cubicBezTo>
                <a:cubicBezTo>
                  <a:pt x="8526" y="11549"/>
                  <a:pt x="8578" y="11540"/>
                  <a:pt x="8636" y="11494"/>
                </a:cubicBezTo>
                <a:cubicBezTo>
                  <a:pt x="8689" y="11452"/>
                  <a:pt x="8724" y="11403"/>
                  <a:pt x="8731" y="11335"/>
                </a:cubicBezTo>
                <a:cubicBezTo>
                  <a:pt x="8738" y="11261"/>
                  <a:pt x="8754" y="11198"/>
                  <a:pt x="8668" y="11176"/>
                </a:cubicBezTo>
                <a:cubicBezTo>
                  <a:pt x="8647" y="11176"/>
                  <a:pt x="8625" y="11176"/>
                  <a:pt x="8604" y="11176"/>
                </a:cubicBezTo>
              </a:path>
              <a:path w="1430" h="827">
                <a:moveTo>
                  <a:pt x="8572" y="11525"/>
                </a:moveTo>
                <a:cubicBezTo>
                  <a:pt x="8533" y="11591"/>
                  <a:pt x="8534" y="11645"/>
                  <a:pt x="8509" y="11716"/>
                </a:cubicBezTo>
                <a:cubicBezTo>
                  <a:pt x="8493" y="11760"/>
                  <a:pt x="8448" y="11854"/>
                  <a:pt x="8477" y="11906"/>
                </a:cubicBezTo>
                <a:cubicBezTo>
                  <a:pt x="8499" y="11945"/>
                  <a:pt x="8514" y="11966"/>
                  <a:pt x="8541" y="12002"/>
                </a:cubicBezTo>
                <a:cubicBezTo>
                  <a:pt x="8598" y="11987"/>
                  <a:pt x="8648" y="11966"/>
                  <a:pt x="8700" y="11938"/>
                </a:cubicBezTo>
                <a:cubicBezTo>
                  <a:pt x="8786" y="11892"/>
                  <a:pt x="8818" y="11875"/>
                  <a:pt x="8826" y="11779"/>
                </a:cubicBezTo>
                <a:cubicBezTo>
                  <a:pt x="8832" y="11711"/>
                  <a:pt x="8834" y="11699"/>
                  <a:pt x="8826" y="11620"/>
                </a:cubicBezTo>
                <a:cubicBezTo>
                  <a:pt x="8819" y="11554"/>
                  <a:pt x="8765" y="11529"/>
                  <a:pt x="8700" y="11525"/>
                </a:cubicBezTo>
                <a:cubicBezTo>
                  <a:pt x="8633" y="11520"/>
                  <a:pt x="8627" y="11543"/>
                  <a:pt x="8572" y="11557"/>
                </a:cubicBezTo>
              </a:path>
              <a:path w="1430" h="827">
                <a:moveTo>
                  <a:pt x="9366" y="11303"/>
                </a:moveTo>
                <a:cubicBezTo>
                  <a:pt x="9309" y="11260"/>
                  <a:pt x="9300" y="11276"/>
                  <a:pt x="9239" y="11303"/>
                </a:cubicBezTo>
                <a:cubicBezTo>
                  <a:pt x="9169" y="11333"/>
                  <a:pt x="9092" y="11429"/>
                  <a:pt x="9049" y="11494"/>
                </a:cubicBezTo>
                <a:cubicBezTo>
                  <a:pt x="9023" y="11546"/>
                  <a:pt x="9012" y="11554"/>
                  <a:pt x="9017" y="11589"/>
                </a:cubicBezTo>
                <a:cubicBezTo>
                  <a:pt x="9091" y="11643"/>
                  <a:pt x="9074" y="11604"/>
                  <a:pt x="9144" y="11589"/>
                </a:cubicBezTo>
                <a:cubicBezTo>
                  <a:pt x="9230" y="11571"/>
                  <a:pt x="9238" y="11528"/>
                  <a:pt x="9303" y="11462"/>
                </a:cubicBezTo>
                <a:cubicBezTo>
                  <a:pt x="9345" y="11419"/>
                  <a:pt x="9366" y="11243"/>
                  <a:pt x="9366" y="11303"/>
                </a:cubicBezTo>
                <a:cubicBezTo>
                  <a:pt x="9366" y="11363"/>
                  <a:pt x="9334" y="11418"/>
                  <a:pt x="9334" y="11494"/>
                </a:cubicBezTo>
                <a:cubicBezTo>
                  <a:pt x="9334" y="11640"/>
                  <a:pt x="9332" y="11770"/>
                  <a:pt x="9366" y="11906"/>
                </a:cubicBezTo>
                <a:cubicBezTo>
                  <a:pt x="9380" y="11962"/>
                  <a:pt x="9342" y="11951"/>
                  <a:pt x="9398" y="11970"/>
                </a:cubicBezTo>
              </a:path>
              <a:path w="1430" h="827">
                <a:moveTo>
                  <a:pt x="9684" y="11303"/>
                </a:moveTo>
                <a:cubicBezTo>
                  <a:pt x="9642" y="11376"/>
                  <a:pt x="9602" y="11442"/>
                  <a:pt x="9588" y="11525"/>
                </a:cubicBezTo>
                <a:cubicBezTo>
                  <a:pt x="9573" y="11616"/>
                  <a:pt x="9607" y="11708"/>
                  <a:pt x="9620" y="11779"/>
                </a:cubicBezTo>
                <a:cubicBezTo>
                  <a:pt x="9636" y="11863"/>
                  <a:pt x="9627" y="11874"/>
                  <a:pt x="9716" y="11874"/>
                </a:cubicBezTo>
                <a:cubicBezTo>
                  <a:pt x="9784" y="11874"/>
                  <a:pt x="9857" y="11812"/>
                  <a:pt x="9874" y="11748"/>
                </a:cubicBezTo>
                <a:cubicBezTo>
                  <a:pt x="9895" y="11668"/>
                  <a:pt x="9927" y="11549"/>
                  <a:pt x="9906" y="11462"/>
                </a:cubicBezTo>
                <a:cubicBezTo>
                  <a:pt x="9889" y="11390"/>
                  <a:pt x="9855" y="11338"/>
                  <a:pt x="9811" y="11303"/>
                </a:cubicBezTo>
                <a:cubicBezTo>
                  <a:pt x="9794" y="11290"/>
                  <a:pt x="9712" y="11239"/>
                  <a:pt x="9684" y="11271"/>
                </a:cubicBezTo>
                <a:cubicBezTo>
                  <a:pt x="9673" y="11292"/>
                  <a:pt x="9663" y="11314"/>
                  <a:pt x="9652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3726000" y="3772080"/>
            <a:ext cx="503280" cy="595080"/>
          </a:xfrm>
          <a:custGeom>
            <a:avLst/>
            <a:gdLst/>
            <a:ahLst/>
            <a:rect l="l" t="t" r="r" b="b"/>
            <a:pathLst>
              <a:path w="1399" h="1651">
                <a:moveTo>
                  <a:pt x="10795" y="11144"/>
                </a:moveTo>
                <a:cubicBezTo>
                  <a:pt x="10746" y="11107"/>
                  <a:pt x="10730" y="11112"/>
                  <a:pt x="10668" y="11112"/>
                </a:cubicBezTo>
                <a:cubicBezTo>
                  <a:pt x="10609" y="11112"/>
                  <a:pt x="10469" y="11123"/>
                  <a:pt x="10414" y="11144"/>
                </a:cubicBezTo>
                <a:cubicBezTo>
                  <a:pt x="10349" y="11169"/>
                  <a:pt x="10377" y="11247"/>
                  <a:pt x="10382" y="11271"/>
                </a:cubicBezTo>
                <a:cubicBezTo>
                  <a:pt x="10394" y="11323"/>
                  <a:pt x="10381" y="11369"/>
                  <a:pt x="10446" y="11398"/>
                </a:cubicBezTo>
                <a:cubicBezTo>
                  <a:pt x="10472" y="11410"/>
                  <a:pt x="10592" y="11366"/>
                  <a:pt x="10636" y="11366"/>
                </a:cubicBezTo>
                <a:cubicBezTo>
                  <a:pt x="10701" y="11366"/>
                  <a:pt x="10743" y="11356"/>
                  <a:pt x="10795" y="11398"/>
                </a:cubicBezTo>
                <a:cubicBezTo>
                  <a:pt x="10842" y="11436"/>
                  <a:pt x="10916" y="11499"/>
                  <a:pt x="10922" y="11557"/>
                </a:cubicBezTo>
                <a:cubicBezTo>
                  <a:pt x="10931" y="11640"/>
                  <a:pt x="10912" y="11661"/>
                  <a:pt x="10858" y="11716"/>
                </a:cubicBezTo>
                <a:cubicBezTo>
                  <a:pt x="10834" y="11740"/>
                  <a:pt x="10734" y="11788"/>
                  <a:pt x="10700" y="11779"/>
                </a:cubicBezTo>
                <a:cubicBezTo>
                  <a:pt x="10648" y="11754"/>
                  <a:pt x="10626" y="11756"/>
                  <a:pt x="10636" y="11716"/>
                </a:cubicBezTo>
              </a:path>
              <a:path w="1399" h="1651">
                <a:moveTo>
                  <a:pt x="11017" y="10509"/>
                </a:moveTo>
                <a:cubicBezTo>
                  <a:pt x="11051" y="10504"/>
                  <a:pt x="11094" y="10500"/>
                  <a:pt x="11176" y="10573"/>
                </a:cubicBezTo>
                <a:cubicBezTo>
                  <a:pt x="11261" y="10649"/>
                  <a:pt x="11344" y="10722"/>
                  <a:pt x="11430" y="10795"/>
                </a:cubicBezTo>
                <a:cubicBezTo>
                  <a:pt x="11508" y="10861"/>
                  <a:pt x="11607" y="10991"/>
                  <a:pt x="11652" y="11081"/>
                </a:cubicBezTo>
                <a:cubicBezTo>
                  <a:pt x="11703" y="11183"/>
                  <a:pt x="11762" y="11347"/>
                  <a:pt x="11748" y="11462"/>
                </a:cubicBezTo>
                <a:cubicBezTo>
                  <a:pt x="11728" y="11618"/>
                  <a:pt x="11652" y="11717"/>
                  <a:pt x="11589" y="11843"/>
                </a:cubicBezTo>
                <a:cubicBezTo>
                  <a:pt x="11543" y="11936"/>
                  <a:pt x="11502" y="12019"/>
                  <a:pt x="11430" y="12097"/>
                </a:cubicBezTo>
                <a:cubicBezTo>
                  <a:pt x="11419" y="12107"/>
                  <a:pt x="11409" y="12118"/>
                  <a:pt x="1139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46280" y="4994280"/>
            <a:ext cx="263520" cy="12600"/>
          </a:xfrm>
          <a:custGeom>
            <a:avLst/>
            <a:gdLst/>
            <a:ahLst/>
            <a:rect l="l" t="t" r="r" b="b"/>
            <a:pathLst>
              <a:path w="731" h="32">
                <a:moveTo>
                  <a:pt x="4572" y="13906"/>
                </a:moveTo>
                <a:cubicBezTo>
                  <a:pt x="4703" y="13906"/>
                  <a:pt x="4912" y="13862"/>
                  <a:pt x="5016" y="13875"/>
                </a:cubicBezTo>
                <a:cubicBezTo>
                  <a:pt x="5102" y="13886"/>
                  <a:pt x="5130" y="13885"/>
                  <a:pt x="5207" y="13875"/>
                </a:cubicBezTo>
                <a:cubicBezTo>
                  <a:pt x="5260" y="13875"/>
                  <a:pt x="5270" y="13875"/>
                  <a:pt x="530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2251080" y="4686480"/>
            <a:ext cx="320760" cy="502920"/>
          </a:xfrm>
          <a:custGeom>
            <a:avLst/>
            <a:gdLst/>
            <a:ahLst/>
            <a:rect l="l" t="t" r="r" b="b"/>
            <a:pathLst>
              <a:path w="890" h="1397">
                <a:moveTo>
                  <a:pt x="6572" y="13018"/>
                </a:moveTo>
                <a:cubicBezTo>
                  <a:pt x="6572" y="13133"/>
                  <a:pt x="6584" y="13237"/>
                  <a:pt x="6604" y="13335"/>
                </a:cubicBezTo>
                <a:cubicBezTo>
                  <a:pt x="6623" y="13429"/>
                  <a:pt x="6632" y="13414"/>
                  <a:pt x="6668" y="13494"/>
                </a:cubicBezTo>
                <a:cubicBezTo>
                  <a:pt x="6668" y="13526"/>
                  <a:pt x="6668" y="13536"/>
                  <a:pt x="6699" y="13526"/>
                </a:cubicBezTo>
              </a:path>
              <a:path w="890" h="1397">
                <a:moveTo>
                  <a:pt x="6255" y="13621"/>
                </a:moveTo>
                <a:cubicBezTo>
                  <a:pt x="6347" y="13621"/>
                  <a:pt x="6395" y="13596"/>
                  <a:pt x="6477" y="13589"/>
                </a:cubicBezTo>
                <a:cubicBezTo>
                  <a:pt x="6547" y="13583"/>
                  <a:pt x="6600" y="13538"/>
                  <a:pt x="6668" y="13526"/>
                </a:cubicBezTo>
                <a:cubicBezTo>
                  <a:pt x="6741" y="13513"/>
                  <a:pt x="6793" y="13530"/>
                  <a:pt x="6858" y="13557"/>
                </a:cubicBezTo>
              </a:path>
              <a:path w="890" h="1397">
                <a:moveTo>
                  <a:pt x="6445" y="13970"/>
                </a:moveTo>
                <a:cubicBezTo>
                  <a:pt x="6491" y="13950"/>
                  <a:pt x="6564" y="13886"/>
                  <a:pt x="6604" y="13875"/>
                </a:cubicBezTo>
                <a:cubicBezTo>
                  <a:pt x="6642" y="13864"/>
                  <a:pt x="6741" y="13863"/>
                  <a:pt x="6763" y="13906"/>
                </a:cubicBezTo>
                <a:cubicBezTo>
                  <a:pt x="6788" y="13956"/>
                  <a:pt x="6756" y="14057"/>
                  <a:pt x="6731" y="14097"/>
                </a:cubicBezTo>
                <a:cubicBezTo>
                  <a:pt x="6690" y="14163"/>
                  <a:pt x="6622" y="14239"/>
                  <a:pt x="6604" y="14319"/>
                </a:cubicBezTo>
                <a:cubicBezTo>
                  <a:pt x="6604" y="14372"/>
                  <a:pt x="6604" y="14382"/>
                  <a:pt x="6604" y="14414"/>
                </a:cubicBezTo>
                <a:cubicBezTo>
                  <a:pt x="6674" y="14414"/>
                  <a:pt x="6724" y="14388"/>
                  <a:pt x="6794" y="14383"/>
                </a:cubicBezTo>
                <a:cubicBezTo>
                  <a:pt x="6864" y="14378"/>
                  <a:pt x="6910" y="14351"/>
                  <a:pt x="6985" y="14351"/>
                </a:cubicBezTo>
                <a:cubicBezTo>
                  <a:pt x="7058" y="14351"/>
                  <a:pt x="7084" y="14375"/>
                  <a:pt x="7144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2800440" y="4537080"/>
            <a:ext cx="1542960" cy="652320"/>
          </a:xfrm>
          <a:custGeom>
            <a:avLst/>
            <a:gdLst/>
            <a:ahLst/>
            <a:rect l="l" t="t" r="r" b="b"/>
            <a:pathLst>
              <a:path w="4287" h="1810">
                <a:moveTo>
                  <a:pt x="8001" y="12986"/>
                </a:moveTo>
                <a:cubicBezTo>
                  <a:pt x="7940" y="13062"/>
                  <a:pt x="7942" y="13117"/>
                  <a:pt x="7906" y="13208"/>
                </a:cubicBezTo>
                <a:cubicBezTo>
                  <a:pt x="7860" y="13321"/>
                  <a:pt x="7824" y="13436"/>
                  <a:pt x="7810" y="13557"/>
                </a:cubicBezTo>
                <a:cubicBezTo>
                  <a:pt x="7794" y="13704"/>
                  <a:pt x="7762" y="13825"/>
                  <a:pt x="7810" y="13970"/>
                </a:cubicBezTo>
                <a:cubicBezTo>
                  <a:pt x="7842" y="14066"/>
                  <a:pt x="7903" y="14152"/>
                  <a:pt x="7969" y="14224"/>
                </a:cubicBezTo>
                <a:cubicBezTo>
                  <a:pt x="8011" y="14270"/>
                  <a:pt x="8100" y="14331"/>
                  <a:pt x="8160" y="14351"/>
                </a:cubicBezTo>
                <a:cubicBezTo>
                  <a:pt x="8233" y="14375"/>
                  <a:pt x="8258" y="14397"/>
                  <a:pt x="8318" y="14351"/>
                </a:cubicBezTo>
              </a:path>
              <a:path w="4287" h="1810">
                <a:moveTo>
                  <a:pt x="8731" y="13335"/>
                </a:moveTo>
                <a:cubicBezTo>
                  <a:pt x="8624" y="13351"/>
                  <a:pt x="8635" y="13377"/>
                  <a:pt x="8572" y="13462"/>
                </a:cubicBezTo>
                <a:cubicBezTo>
                  <a:pt x="8529" y="13520"/>
                  <a:pt x="8482" y="13578"/>
                  <a:pt x="8477" y="13652"/>
                </a:cubicBezTo>
                <a:cubicBezTo>
                  <a:pt x="8471" y="13736"/>
                  <a:pt x="8518" y="13777"/>
                  <a:pt x="8604" y="13748"/>
                </a:cubicBezTo>
                <a:cubicBezTo>
                  <a:pt x="8680" y="13723"/>
                  <a:pt x="8740" y="13677"/>
                  <a:pt x="8795" y="13621"/>
                </a:cubicBezTo>
                <a:cubicBezTo>
                  <a:pt x="8856" y="13560"/>
                  <a:pt x="8858" y="13512"/>
                  <a:pt x="8858" y="13430"/>
                </a:cubicBezTo>
                <a:cubicBezTo>
                  <a:pt x="8858" y="13358"/>
                  <a:pt x="8808" y="13296"/>
                  <a:pt x="8731" y="13335"/>
                </a:cubicBezTo>
                <a:cubicBezTo>
                  <a:pt x="8721" y="13346"/>
                  <a:pt x="8710" y="13356"/>
                  <a:pt x="8700" y="13367"/>
                </a:cubicBezTo>
              </a:path>
              <a:path w="4287" h="1810">
                <a:moveTo>
                  <a:pt x="8763" y="13621"/>
                </a:moveTo>
                <a:cubicBezTo>
                  <a:pt x="8731" y="13694"/>
                  <a:pt x="8715" y="13775"/>
                  <a:pt x="8668" y="13843"/>
                </a:cubicBezTo>
                <a:cubicBezTo>
                  <a:pt x="8626" y="13903"/>
                  <a:pt x="8610" y="13991"/>
                  <a:pt x="8604" y="14065"/>
                </a:cubicBezTo>
                <a:cubicBezTo>
                  <a:pt x="8598" y="14142"/>
                  <a:pt x="8675" y="14155"/>
                  <a:pt x="8731" y="14160"/>
                </a:cubicBezTo>
                <a:cubicBezTo>
                  <a:pt x="8756" y="14162"/>
                  <a:pt x="8873" y="14116"/>
                  <a:pt x="8890" y="14097"/>
                </a:cubicBezTo>
                <a:cubicBezTo>
                  <a:pt x="8920" y="14065"/>
                  <a:pt x="9007" y="13944"/>
                  <a:pt x="9017" y="13906"/>
                </a:cubicBezTo>
                <a:cubicBezTo>
                  <a:pt x="9033" y="13847"/>
                  <a:pt x="9008" y="13732"/>
                  <a:pt x="8985" y="13684"/>
                </a:cubicBezTo>
                <a:cubicBezTo>
                  <a:pt x="8963" y="13639"/>
                  <a:pt x="8868" y="13629"/>
                  <a:pt x="8826" y="13621"/>
                </a:cubicBezTo>
              </a:path>
              <a:path w="4287" h="1810">
                <a:moveTo>
                  <a:pt x="9239" y="13398"/>
                </a:moveTo>
                <a:cubicBezTo>
                  <a:pt x="9239" y="13495"/>
                  <a:pt x="9196" y="13530"/>
                  <a:pt x="9176" y="13621"/>
                </a:cubicBezTo>
                <a:cubicBezTo>
                  <a:pt x="9157" y="13705"/>
                  <a:pt x="9120" y="13817"/>
                  <a:pt x="9144" y="13906"/>
                </a:cubicBezTo>
                <a:cubicBezTo>
                  <a:pt x="9156" y="13953"/>
                  <a:pt x="9188" y="14043"/>
                  <a:pt x="9239" y="14065"/>
                </a:cubicBezTo>
                <a:cubicBezTo>
                  <a:pt x="9282" y="14084"/>
                  <a:pt x="9365" y="14055"/>
                  <a:pt x="9398" y="14034"/>
                </a:cubicBezTo>
                <a:cubicBezTo>
                  <a:pt x="9449" y="14000"/>
                  <a:pt x="9522" y="13960"/>
                  <a:pt x="9557" y="13906"/>
                </a:cubicBezTo>
                <a:cubicBezTo>
                  <a:pt x="9596" y="13846"/>
                  <a:pt x="9607" y="13722"/>
                  <a:pt x="9588" y="13652"/>
                </a:cubicBezTo>
                <a:cubicBezTo>
                  <a:pt x="9564" y="13563"/>
                  <a:pt x="9504" y="13507"/>
                  <a:pt x="9430" y="13462"/>
                </a:cubicBezTo>
                <a:cubicBezTo>
                  <a:pt x="9354" y="13416"/>
                  <a:pt x="9328" y="13398"/>
                  <a:pt x="9239" y="13398"/>
                </a:cubicBezTo>
                <a:cubicBezTo>
                  <a:pt x="9208" y="13398"/>
                  <a:pt x="9197" y="13398"/>
                  <a:pt x="9208" y="13430"/>
                </a:cubicBezTo>
              </a:path>
              <a:path w="4287" h="1810">
                <a:moveTo>
                  <a:pt x="9747" y="13430"/>
                </a:moveTo>
                <a:cubicBezTo>
                  <a:pt x="9793" y="13393"/>
                  <a:pt x="9849" y="13339"/>
                  <a:pt x="9906" y="13335"/>
                </a:cubicBezTo>
                <a:cubicBezTo>
                  <a:pt x="10017" y="13327"/>
                  <a:pt x="9985" y="13307"/>
                  <a:pt x="10096" y="13335"/>
                </a:cubicBezTo>
                <a:cubicBezTo>
                  <a:pt x="10157" y="13350"/>
                  <a:pt x="10128" y="13424"/>
                  <a:pt x="10128" y="13494"/>
                </a:cubicBezTo>
                <a:cubicBezTo>
                  <a:pt x="10128" y="13608"/>
                  <a:pt x="10053" y="13654"/>
                  <a:pt x="10001" y="13748"/>
                </a:cubicBezTo>
                <a:cubicBezTo>
                  <a:pt x="9961" y="13821"/>
                  <a:pt x="9914" y="13904"/>
                  <a:pt x="9874" y="13970"/>
                </a:cubicBezTo>
                <a:cubicBezTo>
                  <a:pt x="9863" y="13981"/>
                  <a:pt x="9853" y="13991"/>
                  <a:pt x="9842" y="14002"/>
                </a:cubicBezTo>
                <a:cubicBezTo>
                  <a:pt x="9920" y="14033"/>
                  <a:pt x="9955" y="13986"/>
                  <a:pt x="10033" y="13970"/>
                </a:cubicBezTo>
                <a:cubicBezTo>
                  <a:pt x="10092" y="13958"/>
                  <a:pt x="10166" y="13944"/>
                  <a:pt x="10224" y="13938"/>
                </a:cubicBezTo>
                <a:cubicBezTo>
                  <a:pt x="10234" y="13938"/>
                  <a:pt x="10245" y="13938"/>
                  <a:pt x="10255" y="13938"/>
                </a:cubicBezTo>
              </a:path>
              <a:path w="4287" h="1810">
                <a:moveTo>
                  <a:pt x="10478" y="13875"/>
                </a:moveTo>
                <a:cubicBezTo>
                  <a:pt x="10534" y="13875"/>
                  <a:pt x="10557" y="13859"/>
                  <a:pt x="10573" y="13906"/>
                </a:cubicBezTo>
                <a:cubicBezTo>
                  <a:pt x="10573" y="13896"/>
                  <a:pt x="10573" y="13885"/>
                  <a:pt x="10573" y="13875"/>
                </a:cubicBezTo>
              </a:path>
              <a:path w="4287" h="1810">
                <a:moveTo>
                  <a:pt x="10732" y="13303"/>
                </a:moveTo>
                <a:cubicBezTo>
                  <a:pt x="10773" y="13247"/>
                  <a:pt x="10802" y="13227"/>
                  <a:pt x="10858" y="13176"/>
                </a:cubicBezTo>
                <a:cubicBezTo>
                  <a:pt x="10912" y="13127"/>
                  <a:pt x="10978" y="13144"/>
                  <a:pt x="11049" y="13144"/>
                </a:cubicBezTo>
                <a:cubicBezTo>
                  <a:pt x="11112" y="13144"/>
                  <a:pt x="11188" y="13142"/>
                  <a:pt x="11176" y="13240"/>
                </a:cubicBezTo>
                <a:cubicBezTo>
                  <a:pt x="11169" y="13302"/>
                  <a:pt x="11090" y="13357"/>
                  <a:pt x="11049" y="13398"/>
                </a:cubicBezTo>
                <a:cubicBezTo>
                  <a:pt x="11017" y="13430"/>
                  <a:pt x="11007" y="13440"/>
                  <a:pt x="10986" y="13462"/>
                </a:cubicBezTo>
                <a:cubicBezTo>
                  <a:pt x="11002" y="13398"/>
                  <a:pt x="11016" y="13398"/>
                  <a:pt x="11081" y="13398"/>
                </a:cubicBezTo>
                <a:cubicBezTo>
                  <a:pt x="11147" y="13398"/>
                  <a:pt x="11201" y="13351"/>
                  <a:pt x="11271" y="13430"/>
                </a:cubicBezTo>
                <a:cubicBezTo>
                  <a:pt x="11303" y="13467"/>
                  <a:pt x="11331" y="13536"/>
                  <a:pt x="11335" y="13589"/>
                </a:cubicBezTo>
                <a:cubicBezTo>
                  <a:pt x="11341" y="13658"/>
                  <a:pt x="11343" y="13721"/>
                  <a:pt x="11303" y="13780"/>
                </a:cubicBezTo>
                <a:cubicBezTo>
                  <a:pt x="11264" y="13838"/>
                  <a:pt x="11199" y="13882"/>
                  <a:pt x="11144" y="13906"/>
                </a:cubicBezTo>
                <a:cubicBezTo>
                  <a:pt x="11062" y="13941"/>
                  <a:pt x="11080" y="13953"/>
                  <a:pt x="11017" y="13906"/>
                </a:cubicBezTo>
              </a:path>
              <a:path w="4287" h="1810">
                <a:moveTo>
                  <a:pt x="11430" y="12605"/>
                </a:moveTo>
                <a:cubicBezTo>
                  <a:pt x="11482" y="12656"/>
                  <a:pt x="11535" y="12688"/>
                  <a:pt x="11589" y="12732"/>
                </a:cubicBezTo>
                <a:cubicBezTo>
                  <a:pt x="11716" y="12836"/>
                  <a:pt x="11852" y="12975"/>
                  <a:pt x="11938" y="13113"/>
                </a:cubicBezTo>
                <a:cubicBezTo>
                  <a:pt x="11993" y="13202"/>
                  <a:pt x="12052" y="13359"/>
                  <a:pt x="12065" y="13462"/>
                </a:cubicBezTo>
                <a:cubicBezTo>
                  <a:pt x="12084" y="13611"/>
                  <a:pt x="12052" y="13766"/>
                  <a:pt x="12002" y="13906"/>
                </a:cubicBezTo>
                <a:cubicBezTo>
                  <a:pt x="11960" y="14023"/>
                  <a:pt x="11874" y="14124"/>
                  <a:pt x="11811" y="14224"/>
                </a:cubicBezTo>
                <a:cubicBezTo>
                  <a:pt x="11771" y="14288"/>
                  <a:pt x="11738" y="14330"/>
                  <a:pt x="11684" y="14383"/>
                </a:cubicBezTo>
                <a:cubicBezTo>
                  <a:pt x="11673" y="14393"/>
                  <a:pt x="11663" y="14404"/>
                  <a:pt x="1165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Ink 2"/>
          <p:cNvSpPr/>
          <p:nvPr/>
        </p:nvSpPr>
        <p:spPr>
          <a:xfrm>
            <a:off x="2708280" y="1725480"/>
            <a:ext cx="12600" cy="12960"/>
          </a:xfrm>
          <a:custGeom>
            <a:avLst/>
            <a:gdLst/>
            <a:ahLst/>
            <a:rect l="l" t="t" r="r" b="b"/>
            <a:pathLst>
              <a:path w="32" h="33">
                <a:moveTo>
                  <a:pt x="7556" y="4794"/>
                </a:moveTo>
                <a:lnTo>
                  <a:pt x="7556" y="4794"/>
                </a:lnTo>
              </a:path>
              <a:path w="32" h="33">
                <a:moveTo>
                  <a:pt x="7556" y="4794"/>
                </a:moveTo>
                <a:cubicBezTo>
                  <a:pt x="7546" y="4805"/>
                  <a:pt x="7535" y="4815"/>
                  <a:pt x="7525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Ink 3"/>
          <p:cNvSpPr/>
          <p:nvPr/>
        </p:nvSpPr>
        <p:spPr>
          <a:xfrm>
            <a:off x="2664000" y="1736640"/>
            <a:ext cx="307800" cy="355680"/>
          </a:xfrm>
          <a:custGeom>
            <a:avLst/>
            <a:gdLst/>
            <a:ahLst/>
            <a:rect l="l" t="t" r="r" b="b"/>
            <a:pathLst>
              <a:path w="858" h="985">
                <a:moveTo>
                  <a:pt x="7525" y="4826"/>
                </a:moveTo>
                <a:cubicBezTo>
                  <a:pt x="7486" y="4878"/>
                  <a:pt x="7456" y="4950"/>
                  <a:pt x="7430" y="5016"/>
                </a:cubicBezTo>
                <a:cubicBezTo>
                  <a:pt x="7392" y="5115"/>
                  <a:pt x="7376" y="5260"/>
                  <a:pt x="7398" y="5366"/>
                </a:cubicBezTo>
                <a:cubicBezTo>
                  <a:pt x="7419" y="5465"/>
                  <a:pt x="7446" y="5584"/>
                  <a:pt x="7525" y="5652"/>
                </a:cubicBezTo>
                <a:cubicBezTo>
                  <a:pt x="7569" y="5690"/>
                  <a:pt x="7685" y="5741"/>
                  <a:pt x="7747" y="5715"/>
                </a:cubicBezTo>
                <a:cubicBezTo>
                  <a:pt x="7834" y="5679"/>
                  <a:pt x="7866" y="5604"/>
                  <a:pt x="7906" y="5524"/>
                </a:cubicBezTo>
                <a:cubicBezTo>
                  <a:pt x="7946" y="5444"/>
                  <a:pt x="8000" y="5396"/>
                  <a:pt x="7969" y="5334"/>
                </a:cubicBezTo>
                <a:cubicBezTo>
                  <a:pt x="7941" y="5247"/>
                  <a:pt x="7872" y="5348"/>
                  <a:pt x="7842" y="5398"/>
                </a:cubicBezTo>
                <a:cubicBezTo>
                  <a:pt x="7804" y="5463"/>
                  <a:pt x="7783" y="5549"/>
                  <a:pt x="7779" y="5620"/>
                </a:cubicBezTo>
                <a:cubicBezTo>
                  <a:pt x="7773" y="5727"/>
                  <a:pt x="7806" y="5697"/>
                  <a:pt x="7842" y="5778"/>
                </a:cubicBezTo>
                <a:cubicBezTo>
                  <a:pt x="7842" y="5810"/>
                  <a:pt x="7842" y="5821"/>
                  <a:pt x="7874" y="5810"/>
                </a:cubicBezTo>
              </a:path>
              <a:path w="858" h="985">
                <a:moveTo>
                  <a:pt x="8255" y="5620"/>
                </a:moveTo>
                <a:cubicBezTo>
                  <a:pt x="8223" y="5620"/>
                  <a:pt x="8212" y="5620"/>
                  <a:pt x="8255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Ink 4"/>
          <p:cNvSpPr/>
          <p:nvPr/>
        </p:nvSpPr>
        <p:spPr>
          <a:xfrm>
            <a:off x="3565440" y="1692360"/>
            <a:ext cx="584280" cy="422280"/>
          </a:xfrm>
          <a:custGeom>
            <a:avLst/>
            <a:gdLst/>
            <a:ahLst/>
            <a:rect l="l" t="t" r="r" b="b"/>
            <a:pathLst>
              <a:path w="1620" h="1176">
                <a:moveTo>
                  <a:pt x="9938" y="4699"/>
                </a:moveTo>
                <a:cubicBezTo>
                  <a:pt x="9896" y="4769"/>
                  <a:pt x="9906" y="4834"/>
                  <a:pt x="9906" y="4921"/>
                </a:cubicBezTo>
                <a:cubicBezTo>
                  <a:pt x="9906" y="5158"/>
                  <a:pt x="9900" y="5394"/>
                  <a:pt x="9938" y="5620"/>
                </a:cubicBezTo>
                <a:cubicBezTo>
                  <a:pt x="9951" y="5694"/>
                  <a:pt x="9911" y="5695"/>
                  <a:pt x="9970" y="5715"/>
                </a:cubicBezTo>
              </a:path>
              <a:path w="1620" h="1176">
                <a:moveTo>
                  <a:pt x="10732" y="4826"/>
                </a:moveTo>
                <a:cubicBezTo>
                  <a:pt x="10742" y="4815"/>
                  <a:pt x="10753" y="4805"/>
                  <a:pt x="10763" y="4794"/>
                </a:cubicBezTo>
                <a:cubicBezTo>
                  <a:pt x="10694" y="4752"/>
                  <a:pt x="10628" y="4762"/>
                  <a:pt x="10541" y="4762"/>
                </a:cubicBezTo>
                <a:cubicBezTo>
                  <a:pt x="10444" y="4762"/>
                  <a:pt x="10430" y="4789"/>
                  <a:pt x="10350" y="4762"/>
                </a:cubicBezTo>
                <a:cubicBezTo>
                  <a:pt x="10308" y="4762"/>
                  <a:pt x="10287" y="4762"/>
                  <a:pt x="10255" y="4762"/>
                </a:cubicBezTo>
                <a:cubicBezTo>
                  <a:pt x="10255" y="4867"/>
                  <a:pt x="10246" y="4949"/>
                  <a:pt x="10224" y="5048"/>
                </a:cubicBezTo>
                <a:cubicBezTo>
                  <a:pt x="10217" y="5079"/>
                  <a:pt x="10250" y="5139"/>
                  <a:pt x="10255" y="5175"/>
                </a:cubicBezTo>
                <a:cubicBezTo>
                  <a:pt x="10380" y="5158"/>
                  <a:pt x="10336" y="5140"/>
                  <a:pt x="10382" y="5048"/>
                </a:cubicBezTo>
                <a:cubicBezTo>
                  <a:pt x="10416" y="4979"/>
                  <a:pt x="10476" y="4985"/>
                  <a:pt x="10541" y="4985"/>
                </a:cubicBezTo>
                <a:cubicBezTo>
                  <a:pt x="10631" y="4985"/>
                  <a:pt x="10662" y="5042"/>
                  <a:pt x="10700" y="5112"/>
                </a:cubicBezTo>
                <a:cubicBezTo>
                  <a:pt x="10747" y="5199"/>
                  <a:pt x="10766" y="5280"/>
                  <a:pt x="10795" y="5366"/>
                </a:cubicBezTo>
                <a:cubicBezTo>
                  <a:pt x="10831" y="5474"/>
                  <a:pt x="10808" y="5519"/>
                  <a:pt x="10732" y="5588"/>
                </a:cubicBezTo>
                <a:cubicBezTo>
                  <a:pt x="10670" y="5644"/>
                  <a:pt x="10660" y="5652"/>
                  <a:pt x="10573" y="5652"/>
                </a:cubicBezTo>
                <a:cubicBezTo>
                  <a:pt x="10513" y="5652"/>
                  <a:pt x="10490" y="5605"/>
                  <a:pt x="10478" y="5556"/>
                </a:cubicBezTo>
              </a:path>
              <a:path w="1620" h="1176">
                <a:moveTo>
                  <a:pt x="11112" y="4890"/>
                </a:moveTo>
                <a:cubicBezTo>
                  <a:pt x="11174" y="4890"/>
                  <a:pt x="11290" y="4853"/>
                  <a:pt x="11335" y="4858"/>
                </a:cubicBezTo>
                <a:cubicBezTo>
                  <a:pt x="11350" y="4860"/>
                  <a:pt x="11521" y="4917"/>
                  <a:pt x="11525" y="4921"/>
                </a:cubicBezTo>
                <a:cubicBezTo>
                  <a:pt x="11584" y="4993"/>
                  <a:pt x="11505" y="5254"/>
                  <a:pt x="11494" y="5334"/>
                </a:cubicBezTo>
                <a:cubicBezTo>
                  <a:pt x="11479" y="5444"/>
                  <a:pt x="11486" y="5576"/>
                  <a:pt x="11462" y="5683"/>
                </a:cubicBezTo>
                <a:cubicBezTo>
                  <a:pt x="11446" y="5753"/>
                  <a:pt x="11430" y="5799"/>
                  <a:pt x="11430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Ink 5"/>
          <p:cNvSpPr/>
          <p:nvPr/>
        </p:nvSpPr>
        <p:spPr>
          <a:xfrm>
            <a:off x="4503600" y="1646280"/>
            <a:ext cx="1211400" cy="468360"/>
          </a:xfrm>
          <a:custGeom>
            <a:avLst/>
            <a:gdLst/>
            <a:ahLst/>
            <a:rect l="l" t="t" r="r" b="b"/>
            <a:pathLst>
              <a:path w="3366" h="1303">
                <a:moveTo>
                  <a:pt x="12510" y="4794"/>
                </a:moveTo>
                <a:cubicBezTo>
                  <a:pt x="12540" y="4877"/>
                  <a:pt x="12564" y="4991"/>
                  <a:pt x="12573" y="5080"/>
                </a:cubicBezTo>
                <a:cubicBezTo>
                  <a:pt x="12595" y="5308"/>
                  <a:pt x="12573" y="5549"/>
                  <a:pt x="12573" y="5778"/>
                </a:cubicBezTo>
              </a:path>
              <a:path w="3366" h="1303">
                <a:moveTo>
                  <a:pt x="13049" y="4890"/>
                </a:moveTo>
                <a:cubicBezTo>
                  <a:pt x="12998" y="4928"/>
                  <a:pt x="12917" y="4986"/>
                  <a:pt x="12859" y="5016"/>
                </a:cubicBezTo>
                <a:cubicBezTo>
                  <a:pt x="12765" y="5065"/>
                  <a:pt x="12648" y="5128"/>
                  <a:pt x="12605" y="5239"/>
                </a:cubicBezTo>
                <a:cubicBezTo>
                  <a:pt x="12587" y="5285"/>
                  <a:pt x="12625" y="5408"/>
                  <a:pt x="12668" y="5429"/>
                </a:cubicBezTo>
                <a:cubicBezTo>
                  <a:pt x="12738" y="5464"/>
                  <a:pt x="12842" y="5484"/>
                  <a:pt x="12922" y="5524"/>
                </a:cubicBezTo>
                <a:cubicBezTo>
                  <a:pt x="13008" y="5567"/>
                  <a:pt x="13041" y="5589"/>
                  <a:pt x="13049" y="5683"/>
                </a:cubicBezTo>
                <a:cubicBezTo>
                  <a:pt x="13049" y="5715"/>
                  <a:pt x="13049" y="5726"/>
                  <a:pt x="13049" y="5747"/>
                </a:cubicBezTo>
              </a:path>
              <a:path w="3366" h="1303">
                <a:moveTo>
                  <a:pt x="13494" y="4953"/>
                </a:moveTo>
                <a:cubicBezTo>
                  <a:pt x="13494" y="5046"/>
                  <a:pt x="13521" y="5113"/>
                  <a:pt x="13526" y="5207"/>
                </a:cubicBezTo>
                <a:cubicBezTo>
                  <a:pt x="13531" y="5317"/>
                  <a:pt x="13557" y="5411"/>
                  <a:pt x="13557" y="5524"/>
                </a:cubicBezTo>
                <a:cubicBezTo>
                  <a:pt x="13557" y="5574"/>
                  <a:pt x="13518" y="5647"/>
                  <a:pt x="13494" y="5683"/>
                </a:cubicBezTo>
                <a:cubicBezTo>
                  <a:pt x="13441" y="5761"/>
                  <a:pt x="13389" y="5628"/>
                  <a:pt x="13367" y="5588"/>
                </a:cubicBezTo>
              </a:path>
              <a:path w="3366" h="1303">
                <a:moveTo>
                  <a:pt x="13144" y="5048"/>
                </a:moveTo>
                <a:cubicBezTo>
                  <a:pt x="13188" y="5004"/>
                  <a:pt x="13238" y="4962"/>
                  <a:pt x="13303" y="4953"/>
                </a:cubicBezTo>
                <a:cubicBezTo>
                  <a:pt x="13426" y="4936"/>
                  <a:pt x="13561" y="4926"/>
                  <a:pt x="13684" y="4921"/>
                </a:cubicBezTo>
                <a:cubicBezTo>
                  <a:pt x="13811" y="4916"/>
                  <a:pt x="13938" y="4921"/>
                  <a:pt x="14065" y="4921"/>
                </a:cubicBezTo>
              </a:path>
              <a:path w="3366" h="1303">
                <a:moveTo>
                  <a:pt x="14605" y="4572"/>
                </a:moveTo>
                <a:cubicBezTo>
                  <a:pt x="14569" y="4667"/>
                  <a:pt x="14545" y="4759"/>
                  <a:pt x="14510" y="4858"/>
                </a:cubicBezTo>
                <a:cubicBezTo>
                  <a:pt x="14456" y="5013"/>
                  <a:pt x="14423" y="5175"/>
                  <a:pt x="14383" y="5334"/>
                </a:cubicBezTo>
                <a:cubicBezTo>
                  <a:pt x="14347" y="5477"/>
                  <a:pt x="14298" y="5617"/>
                  <a:pt x="14256" y="5747"/>
                </a:cubicBezTo>
                <a:cubicBezTo>
                  <a:pt x="14235" y="5813"/>
                  <a:pt x="14224" y="5811"/>
                  <a:pt x="14224" y="5874"/>
                </a:cubicBezTo>
              </a:path>
              <a:path w="3366" h="1303">
                <a:moveTo>
                  <a:pt x="14668" y="5144"/>
                </a:moveTo>
                <a:cubicBezTo>
                  <a:pt x="14714" y="5203"/>
                  <a:pt x="14700" y="5255"/>
                  <a:pt x="14700" y="5334"/>
                </a:cubicBezTo>
                <a:cubicBezTo>
                  <a:pt x="14700" y="5423"/>
                  <a:pt x="14720" y="5519"/>
                  <a:pt x="14668" y="5588"/>
                </a:cubicBezTo>
                <a:cubicBezTo>
                  <a:pt x="14668" y="5515"/>
                  <a:pt x="14689" y="5465"/>
                  <a:pt x="14700" y="5398"/>
                </a:cubicBezTo>
                <a:cubicBezTo>
                  <a:pt x="14717" y="5298"/>
                  <a:pt x="14726" y="5223"/>
                  <a:pt x="14796" y="5144"/>
                </a:cubicBezTo>
                <a:cubicBezTo>
                  <a:pt x="14806" y="5133"/>
                  <a:pt x="14817" y="5123"/>
                  <a:pt x="14827" y="5112"/>
                </a:cubicBezTo>
                <a:cubicBezTo>
                  <a:pt x="14897" y="5130"/>
                  <a:pt x="14919" y="5172"/>
                  <a:pt x="14954" y="5239"/>
                </a:cubicBezTo>
                <a:cubicBezTo>
                  <a:pt x="14998" y="5322"/>
                  <a:pt x="14986" y="5401"/>
                  <a:pt x="14986" y="5493"/>
                </a:cubicBezTo>
                <a:cubicBezTo>
                  <a:pt x="14986" y="5529"/>
                  <a:pt x="14983" y="5542"/>
                  <a:pt x="14954" y="5556"/>
                </a:cubicBezTo>
                <a:cubicBezTo>
                  <a:pt x="14954" y="5661"/>
                  <a:pt x="14953" y="5431"/>
                  <a:pt x="14954" y="5429"/>
                </a:cubicBezTo>
                <a:cubicBezTo>
                  <a:pt x="14978" y="5323"/>
                  <a:pt x="14994" y="5191"/>
                  <a:pt x="15081" y="5112"/>
                </a:cubicBezTo>
                <a:cubicBezTo>
                  <a:pt x="15091" y="5103"/>
                  <a:pt x="15162" y="5112"/>
                  <a:pt x="15176" y="5112"/>
                </a:cubicBezTo>
                <a:cubicBezTo>
                  <a:pt x="15190" y="5180"/>
                  <a:pt x="15189" y="5267"/>
                  <a:pt x="15208" y="5334"/>
                </a:cubicBezTo>
                <a:cubicBezTo>
                  <a:pt x="15231" y="5416"/>
                  <a:pt x="15240" y="5468"/>
                  <a:pt x="15240" y="5556"/>
                </a:cubicBezTo>
                <a:cubicBezTo>
                  <a:pt x="15240" y="5588"/>
                  <a:pt x="15240" y="5599"/>
                  <a:pt x="15272" y="5588"/>
                </a:cubicBezTo>
              </a:path>
              <a:path w="3366" h="1303">
                <a:moveTo>
                  <a:pt x="15430" y="5207"/>
                </a:moveTo>
                <a:cubicBezTo>
                  <a:pt x="15398" y="5283"/>
                  <a:pt x="15373" y="5346"/>
                  <a:pt x="15367" y="5429"/>
                </a:cubicBezTo>
                <a:cubicBezTo>
                  <a:pt x="15363" y="5482"/>
                  <a:pt x="15390" y="5551"/>
                  <a:pt x="15430" y="5556"/>
                </a:cubicBezTo>
                <a:cubicBezTo>
                  <a:pt x="15486" y="5563"/>
                  <a:pt x="15518" y="5560"/>
                  <a:pt x="15558" y="5524"/>
                </a:cubicBezTo>
                <a:cubicBezTo>
                  <a:pt x="15611" y="5477"/>
                  <a:pt x="15589" y="5400"/>
                  <a:pt x="15589" y="5334"/>
                </a:cubicBezTo>
                <a:cubicBezTo>
                  <a:pt x="15589" y="5259"/>
                  <a:pt x="15567" y="5202"/>
                  <a:pt x="15494" y="5175"/>
                </a:cubicBezTo>
                <a:cubicBezTo>
                  <a:pt x="15439" y="5155"/>
                  <a:pt x="15450" y="5202"/>
                  <a:pt x="15430" y="5144"/>
                </a:cubicBezTo>
              </a:path>
              <a:path w="3366" h="1303">
                <a:moveTo>
                  <a:pt x="15875" y="4858"/>
                </a:moveTo>
                <a:cubicBezTo>
                  <a:pt x="15860" y="4918"/>
                  <a:pt x="15821" y="4981"/>
                  <a:pt x="15812" y="5048"/>
                </a:cubicBezTo>
                <a:cubicBezTo>
                  <a:pt x="15787" y="5249"/>
                  <a:pt x="15796" y="5492"/>
                  <a:pt x="15843" y="5683"/>
                </a:cubicBezTo>
                <a:cubicBezTo>
                  <a:pt x="15843" y="5694"/>
                  <a:pt x="15843" y="5704"/>
                  <a:pt x="15843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Ink 6"/>
          <p:cNvSpPr/>
          <p:nvPr/>
        </p:nvSpPr>
        <p:spPr>
          <a:xfrm>
            <a:off x="2789280" y="2583000"/>
            <a:ext cx="1417680" cy="446040"/>
          </a:xfrm>
          <a:custGeom>
            <a:avLst/>
            <a:gdLst/>
            <a:ahLst/>
            <a:rect l="l" t="t" r="r" b="b"/>
            <a:pathLst>
              <a:path w="3938" h="1239">
                <a:moveTo>
                  <a:pt x="7969" y="7207"/>
                </a:moveTo>
                <a:cubicBezTo>
                  <a:pt x="7915" y="7300"/>
                  <a:pt x="7965" y="7358"/>
                  <a:pt x="8001" y="7461"/>
                </a:cubicBezTo>
                <a:cubicBezTo>
                  <a:pt x="8051" y="7604"/>
                  <a:pt x="8064" y="7725"/>
                  <a:pt x="8064" y="7874"/>
                </a:cubicBezTo>
                <a:cubicBezTo>
                  <a:pt x="8064" y="8004"/>
                  <a:pt x="8096" y="8122"/>
                  <a:pt x="8096" y="8255"/>
                </a:cubicBezTo>
                <a:cubicBezTo>
                  <a:pt x="8096" y="8318"/>
                  <a:pt x="8096" y="8340"/>
                  <a:pt x="8096" y="8382"/>
                </a:cubicBezTo>
              </a:path>
              <a:path w="3938" h="1239">
                <a:moveTo>
                  <a:pt x="7779" y="7588"/>
                </a:moveTo>
                <a:cubicBezTo>
                  <a:pt x="7733" y="7453"/>
                  <a:pt x="7748" y="7359"/>
                  <a:pt x="7874" y="7271"/>
                </a:cubicBezTo>
                <a:cubicBezTo>
                  <a:pt x="7963" y="7209"/>
                  <a:pt x="8055" y="7180"/>
                  <a:pt x="8160" y="7176"/>
                </a:cubicBezTo>
                <a:cubicBezTo>
                  <a:pt x="8265" y="7172"/>
                  <a:pt x="8370" y="7198"/>
                  <a:pt x="8414" y="7302"/>
                </a:cubicBezTo>
                <a:cubicBezTo>
                  <a:pt x="8445" y="7375"/>
                  <a:pt x="8302" y="7517"/>
                  <a:pt x="8255" y="7556"/>
                </a:cubicBezTo>
                <a:cubicBezTo>
                  <a:pt x="8166" y="7629"/>
                  <a:pt x="8057" y="7676"/>
                  <a:pt x="7969" y="7747"/>
                </a:cubicBezTo>
                <a:cubicBezTo>
                  <a:pt x="8039" y="7691"/>
                  <a:pt x="8132" y="7634"/>
                  <a:pt x="8223" y="7620"/>
                </a:cubicBezTo>
                <a:cubicBezTo>
                  <a:pt x="8292" y="7609"/>
                  <a:pt x="8497" y="7655"/>
                  <a:pt x="8541" y="7715"/>
                </a:cubicBezTo>
                <a:cubicBezTo>
                  <a:pt x="8598" y="7793"/>
                  <a:pt x="8581" y="7954"/>
                  <a:pt x="8541" y="8033"/>
                </a:cubicBezTo>
                <a:cubicBezTo>
                  <a:pt x="8469" y="8176"/>
                  <a:pt x="8337" y="8251"/>
                  <a:pt x="8223" y="8350"/>
                </a:cubicBezTo>
                <a:cubicBezTo>
                  <a:pt x="8142" y="8420"/>
                  <a:pt x="8083" y="8464"/>
                  <a:pt x="8064" y="8350"/>
                </a:cubicBezTo>
              </a:path>
              <a:path w="3938" h="1239">
                <a:moveTo>
                  <a:pt x="8826" y="8033"/>
                </a:moveTo>
                <a:cubicBezTo>
                  <a:pt x="8917" y="8015"/>
                  <a:pt x="8951" y="7972"/>
                  <a:pt x="9017" y="7906"/>
                </a:cubicBezTo>
                <a:cubicBezTo>
                  <a:pt x="9077" y="7846"/>
                  <a:pt x="9104" y="7754"/>
                  <a:pt x="9144" y="7684"/>
                </a:cubicBezTo>
                <a:cubicBezTo>
                  <a:pt x="9175" y="7622"/>
                  <a:pt x="9186" y="7603"/>
                  <a:pt x="9176" y="7556"/>
                </a:cubicBezTo>
                <a:cubicBezTo>
                  <a:pt x="9083" y="7575"/>
                  <a:pt x="9061" y="7602"/>
                  <a:pt x="9017" y="7684"/>
                </a:cubicBezTo>
                <a:cubicBezTo>
                  <a:pt x="8980" y="7753"/>
                  <a:pt x="8903" y="7819"/>
                  <a:pt x="8922" y="7906"/>
                </a:cubicBezTo>
                <a:cubicBezTo>
                  <a:pt x="8939" y="7982"/>
                  <a:pt x="8971" y="8038"/>
                  <a:pt x="9049" y="8064"/>
                </a:cubicBezTo>
                <a:cubicBezTo>
                  <a:pt x="9091" y="8078"/>
                  <a:pt x="9164" y="8064"/>
                  <a:pt x="9208" y="8064"/>
                </a:cubicBezTo>
              </a:path>
              <a:path w="3938" h="1239">
                <a:moveTo>
                  <a:pt x="9747" y="7556"/>
                </a:moveTo>
                <a:cubicBezTo>
                  <a:pt x="9700" y="7497"/>
                  <a:pt x="9653" y="7496"/>
                  <a:pt x="9588" y="7588"/>
                </a:cubicBezTo>
                <a:cubicBezTo>
                  <a:pt x="9533" y="7665"/>
                  <a:pt x="9459" y="7748"/>
                  <a:pt x="9430" y="7842"/>
                </a:cubicBezTo>
                <a:cubicBezTo>
                  <a:pt x="9411" y="7905"/>
                  <a:pt x="9425" y="7964"/>
                  <a:pt x="9493" y="7969"/>
                </a:cubicBezTo>
                <a:cubicBezTo>
                  <a:pt x="9594" y="7976"/>
                  <a:pt x="9578" y="7954"/>
                  <a:pt x="9652" y="7906"/>
                </a:cubicBezTo>
                <a:cubicBezTo>
                  <a:pt x="9712" y="7867"/>
                  <a:pt x="9752" y="7794"/>
                  <a:pt x="9779" y="7715"/>
                </a:cubicBezTo>
                <a:cubicBezTo>
                  <a:pt x="9794" y="7670"/>
                  <a:pt x="9771" y="7651"/>
                  <a:pt x="9747" y="7620"/>
                </a:cubicBezTo>
                <a:cubicBezTo>
                  <a:pt x="9747" y="7719"/>
                  <a:pt x="9756" y="7783"/>
                  <a:pt x="9779" y="7874"/>
                </a:cubicBezTo>
                <a:cubicBezTo>
                  <a:pt x="9793" y="7929"/>
                  <a:pt x="9839" y="7972"/>
                  <a:pt x="9906" y="7938"/>
                </a:cubicBezTo>
                <a:cubicBezTo>
                  <a:pt x="9993" y="7894"/>
                  <a:pt x="9943" y="7845"/>
                  <a:pt x="9970" y="7779"/>
                </a:cubicBezTo>
                <a:cubicBezTo>
                  <a:pt x="9992" y="7726"/>
                  <a:pt x="9976" y="7638"/>
                  <a:pt x="10001" y="7588"/>
                </a:cubicBezTo>
                <a:cubicBezTo>
                  <a:pt x="10012" y="7577"/>
                  <a:pt x="10022" y="7567"/>
                  <a:pt x="10033" y="7556"/>
                </a:cubicBezTo>
                <a:cubicBezTo>
                  <a:pt x="10033" y="7643"/>
                  <a:pt x="10015" y="7734"/>
                  <a:pt x="10065" y="7810"/>
                </a:cubicBezTo>
                <a:cubicBezTo>
                  <a:pt x="10092" y="7851"/>
                  <a:pt x="10119" y="7864"/>
                  <a:pt x="10160" y="7874"/>
                </a:cubicBezTo>
                <a:cubicBezTo>
                  <a:pt x="10236" y="7855"/>
                  <a:pt x="10228" y="7814"/>
                  <a:pt x="10255" y="7747"/>
                </a:cubicBezTo>
                <a:cubicBezTo>
                  <a:pt x="10286" y="7671"/>
                  <a:pt x="10330" y="7594"/>
                  <a:pt x="10350" y="7525"/>
                </a:cubicBezTo>
                <a:cubicBezTo>
                  <a:pt x="10350" y="7514"/>
                  <a:pt x="10350" y="7504"/>
                  <a:pt x="10350" y="7493"/>
                </a:cubicBezTo>
                <a:cubicBezTo>
                  <a:pt x="10350" y="7601"/>
                  <a:pt x="10357" y="7679"/>
                  <a:pt x="10382" y="7779"/>
                </a:cubicBezTo>
                <a:cubicBezTo>
                  <a:pt x="10392" y="7820"/>
                  <a:pt x="10432" y="7885"/>
                  <a:pt x="10478" y="7906"/>
                </a:cubicBezTo>
                <a:cubicBezTo>
                  <a:pt x="10488" y="7906"/>
                  <a:pt x="10499" y="7906"/>
                  <a:pt x="10509" y="7906"/>
                </a:cubicBezTo>
              </a:path>
              <a:path w="3938" h="1239">
                <a:moveTo>
                  <a:pt x="10986" y="7461"/>
                </a:moveTo>
                <a:cubicBezTo>
                  <a:pt x="10974" y="7426"/>
                  <a:pt x="10912" y="7408"/>
                  <a:pt x="10858" y="7430"/>
                </a:cubicBezTo>
                <a:cubicBezTo>
                  <a:pt x="10819" y="7446"/>
                  <a:pt x="10720" y="7511"/>
                  <a:pt x="10700" y="7556"/>
                </a:cubicBezTo>
                <a:cubicBezTo>
                  <a:pt x="10679" y="7602"/>
                  <a:pt x="10797" y="7676"/>
                  <a:pt x="10827" y="7684"/>
                </a:cubicBezTo>
                <a:cubicBezTo>
                  <a:pt x="10915" y="7708"/>
                  <a:pt x="11000" y="7723"/>
                  <a:pt x="11081" y="7779"/>
                </a:cubicBezTo>
                <a:cubicBezTo>
                  <a:pt x="11115" y="7802"/>
                  <a:pt x="11171" y="7858"/>
                  <a:pt x="11144" y="7906"/>
                </a:cubicBezTo>
                <a:cubicBezTo>
                  <a:pt x="11120" y="7949"/>
                  <a:pt x="11000" y="7965"/>
                  <a:pt x="10954" y="7969"/>
                </a:cubicBezTo>
                <a:cubicBezTo>
                  <a:pt x="10922" y="7969"/>
                  <a:pt x="10911" y="7969"/>
                  <a:pt x="10890" y="7969"/>
                </a:cubicBezTo>
              </a:path>
              <a:path w="3938" h="1239">
                <a:moveTo>
                  <a:pt x="11271" y="7810"/>
                </a:moveTo>
                <a:cubicBezTo>
                  <a:pt x="11312" y="7780"/>
                  <a:pt x="11361" y="7772"/>
                  <a:pt x="11398" y="7747"/>
                </a:cubicBezTo>
                <a:cubicBezTo>
                  <a:pt x="11436" y="7722"/>
                  <a:pt x="11481" y="7659"/>
                  <a:pt x="11494" y="7620"/>
                </a:cubicBezTo>
                <a:cubicBezTo>
                  <a:pt x="11506" y="7584"/>
                  <a:pt x="11494" y="7532"/>
                  <a:pt x="11494" y="7493"/>
                </a:cubicBezTo>
                <a:cubicBezTo>
                  <a:pt x="11455" y="7474"/>
                  <a:pt x="11404" y="7470"/>
                  <a:pt x="11366" y="7525"/>
                </a:cubicBezTo>
                <a:cubicBezTo>
                  <a:pt x="11334" y="7571"/>
                  <a:pt x="11317" y="7660"/>
                  <a:pt x="11335" y="7715"/>
                </a:cubicBezTo>
                <a:cubicBezTo>
                  <a:pt x="11361" y="7796"/>
                  <a:pt x="11417" y="7822"/>
                  <a:pt x="11494" y="7842"/>
                </a:cubicBezTo>
                <a:cubicBezTo>
                  <a:pt x="11549" y="7856"/>
                  <a:pt x="11626" y="7842"/>
                  <a:pt x="116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Ink 7"/>
          <p:cNvSpPr/>
          <p:nvPr/>
        </p:nvSpPr>
        <p:spPr>
          <a:xfrm>
            <a:off x="2354400" y="3965400"/>
            <a:ext cx="217440" cy="24120"/>
          </a:xfrm>
          <a:custGeom>
            <a:avLst/>
            <a:gdLst/>
            <a:ahLst/>
            <a:rect l="l" t="t" r="r" b="b"/>
            <a:pathLst>
              <a:path w="605" h="65">
                <a:moveTo>
                  <a:pt x="6604" y="11017"/>
                </a:moveTo>
                <a:cubicBezTo>
                  <a:pt x="6572" y="11017"/>
                  <a:pt x="6561" y="11017"/>
                  <a:pt x="6604" y="11017"/>
                </a:cubicBezTo>
              </a:path>
              <a:path w="605" h="65">
                <a:moveTo>
                  <a:pt x="6636" y="11017"/>
                </a:moveTo>
                <a:cubicBezTo>
                  <a:pt x="6734" y="11017"/>
                  <a:pt x="6799" y="11026"/>
                  <a:pt x="6890" y="11049"/>
                </a:cubicBezTo>
                <a:cubicBezTo>
                  <a:pt x="6945" y="11063"/>
                  <a:pt x="7022" y="11049"/>
                  <a:pt x="7080" y="11049"/>
                </a:cubicBezTo>
                <a:cubicBezTo>
                  <a:pt x="6984" y="11049"/>
                  <a:pt x="6915" y="11039"/>
                  <a:pt x="6826" y="11017"/>
                </a:cubicBezTo>
                <a:cubicBezTo>
                  <a:pt x="6768" y="11002"/>
                  <a:pt x="6723" y="11043"/>
                  <a:pt x="6668" y="11049"/>
                </a:cubicBezTo>
                <a:cubicBezTo>
                  <a:pt x="6625" y="11049"/>
                  <a:pt x="6604" y="11049"/>
                  <a:pt x="6572" y="11049"/>
                </a:cubicBezTo>
                <a:cubicBezTo>
                  <a:pt x="6525" y="11120"/>
                  <a:pt x="6605" y="11054"/>
                  <a:pt x="6668" y="11049"/>
                </a:cubicBezTo>
                <a:cubicBezTo>
                  <a:pt x="6746" y="11042"/>
                  <a:pt x="6806" y="11017"/>
                  <a:pt x="6890" y="11017"/>
                </a:cubicBezTo>
                <a:cubicBezTo>
                  <a:pt x="6965" y="11017"/>
                  <a:pt x="7022" y="11003"/>
                  <a:pt x="7080" y="11049"/>
                </a:cubicBezTo>
                <a:cubicBezTo>
                  <a:pt x="7109" y="11078"/>
                  <a:pt x="7115" y="11089"/>
                  <a:pt x="7144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Ink 8"/>
          <p:cNvSpPr/>
          <p:nvPr/>
        </p:nvSpPr>
        <p:spPr>
          <a:xfrm>
            <a:off x="3235320" y="3554280"/>
            <a:ext cx="193680" cy="675000"/>
          </a:xfrm>
          <a:custGeom>
            <a:avLst/>
            <a:gdLst/>
            <a:ahLst/>
            <a:rect l="l" t="t" r="r" b="b"/>
            <a:pathLst>
              <a:path w="541" h="1875">
                <a:moveTo>
                  <a:pt x="9239" y="9874"/>
                </a:moveTo>
                <a:cubicBezTo>
                  <a:pt x="9212" y="9930"/>
                  <a:pt x="9170" y="10000"/>
                  <a:pt x="9144" y="10065"/>
                </a:cubicBezTo>
                <a:cubicBezTo>
                  <a:pt x="9090" y="10201"/>
                  <a:pt x="9033" y="10364"/>
                  <a:pt x="9017" y="10509"/>
                </a:cubicBezTo>
                <a:cubicBezTo>
                  <a:pt x="8996" y="10700"/>
                  <a:pt x="8985" y="10886"/>
                  <a:pt x="8985" y="11081"/>
                </a:cubicBezTo>
                <a:cubicBezTo>
                  <a:pt x="8985" y="11257"/>
                  <a:pt x="8994" y="11371"/>
                  <a:pt x="9080" y="11525"/>
                </a:cubicBezTo>
                <a:cubicBezTo>
                  <a:pt x="9124" y="11603"/>
                  <a:pt x="9243" y="11722"/>
                  <a:pt x="9334" y="11748"/>
                </a:cubicBezTo>
                <a:cubicBezTo>
                  <a:pt x="9386" y="11763"/>
                  <a:pt x="9470" y="11748"/>
                  <a:pt x="9525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Ink 9"/>
          <p:cNvSpPr/>
          <p:nvPr/>
        </p:nvSpPr>
        <p:spPr>
          <a:xfrm>
            <a:off x="3817800" y="3521160"/>
            <a:ext cx="457200" cy="560160"/>
          </a:xfrm>
          <a:custGeom>
            <a:avLst/>
            <a:gdLst/>
            <a:ahLst/>
            <a:rect l="l" t="t" r="r" b="b"/>
            <a:pathLst>
              <a:path w="1271" h="1557">
                <a:moveTo>
                  <a:pt x="10604" y="10319"/>
                </a:moveTo>
                <a:cubicBezTo>
                  <a:pt x="10701" y="10305"/>
                  <a:pt x="10686" y="10302"/>
                  <a:pt x="10763" y="10319"/>
                </a:cubicBezTo>
                <a:cubicBezTo>
                  <a:pt x="10833" y="10334"/>
                  <a:pt x="10877" y="10344"/>
                  <a:pt x="10922" y="10414"/>
                </a:cubicBezTo>
                <a:cubicBezTo>
                  <a:pt x="10963" y="10478"/>
                  <a:pt x="10970" y="10520"/>
                  <a:pt x="10922" y="10573"/>
                </a:cubicBezTo>
                <a:cubicBezTo>
                  <a:pt x="10874" y="10626"/>
                  <a:pt x="10820" y="10673"/>
                  <a:pt x="10763" y="10700"/>
                </a:cubicBezTo>
                <a:cubicBezTo>
                  <a:pt x="10711" y="10726"/>
                  <a:pt x="10703" y="10737"/>
                  <a:pt x="10668" y="10732"/>
                </a:cubicBezTo>
                <a:cubicBezTo>
                  <a:pt x="10717" y="10683"/>
                  <a:pt x="10753" y="10641"/>
                  <a:pt x="10827" y="10636"/>
                </a:cubicBezTo>
                <a:cubicBezTo>
                  <a:pt x="10889" y="10632"/>
                  <a:pt x="10971" y="10663"/>
                  <a:pt x="11017" y="10700"/>
                </a:cubicBezTo>
                <a:cubicBezTo>
                  <a:pt x="11093" y="10761"/>
                  <a:pt x="11112" y="10755"/>
                  <a:pt x="11112" y="10858"/>
                </a:cubicBezTo>
                <a:cubicBezTo>
                  <a:pt x="11112" y="10920"/>
                  <a:pt x="11038" y="11037"/>
                  <a:pt x="10986" y="11081"/>
                </a:cubicBezTo>
                <a:cubicBezTo>
                  <a:pt x="10946" y="11115"/>
                  <a:pt x="10851" y="11172"/>
                  <a:pt x="10795" y="11144"/>
                </a:cubicBezTo>
                <a:cubicBezTo>
                  <a:pt x="10766" y="11115"/>
                  <a:pt x="10756" y="11109"/>
                  <a:pt x="10763" y="11081"/>
                </a:cubicBezTo>
              </a:path>
              <a:path w="1271" h="1557">
                <a:moveTo>
                  <a:pt x="11112" y="9779"/>
                </a:moveTo>
                <a:cubicBezTo>
                  <a:pt x="11173" y="9839"/>
                  <a:pt x="11240" y="9885"/>
                  <a:pt x="11303" y="9938"/>
                </a:cubicBezTo>
                <a:cubicBezTo>
                  <a:pt x="11409" y="10027"/>
                  <a:pt x="11490" y="10134"/>
                  <a:pt x="11589" y="10224"/>
                </a:cubicBezTo>
                <a:cubicBezTo>
                  <a:pt x="11692" y="10318"/>
                  <a:pt x="11805" y="10429"/>
                  <a:pt x="11843" y="10573"/>
                </a:cubicBezTo>
                <a:cubicBezTo>
                  <a:pt x="11876" y="10698"/>
                  <a:pt x="11857" y="10804"/>
                  <a:pt x="11843" y="10922"/>
                </a:cubicBezTo>
                <a:cubicBezTo>
                  <a:pt x="11826" y="11059"/>
                  <a:pt x="11790" y="11090"/>
                  <a:pt x="11716" y="11208"/>
                </a:cubicBezTo>
                <a:cubicBezTo>
                  <a:pt x="11680" y="11265"/>
                  <a:pt x="11620" y="11310"/>
                  <a:pt x="1158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2732040" y="3668760"/>
            <a:ext cx="343080" cy="595440"/>
          </a:xfrm>
          <a:custGeom>
            <a:avLst/>
            <a:gdLst/>
            <a:ahLst/>
            <a:rect l="l" t="t" r="r" b="b"/>
            <a:pathLst>
              <a:path w="954" h="1652">
                <a:moveTo>
                  <a:pt x="8064" y="10192"/>
                </a:moveTo>
                <a:cubicBezTo>
                  <a:pt x="8064" y="10338"/>
                  <a:pt x="8062" y="10468"/>
                  <a:pt x="8096" y="10604"/>
                </a:cubicBezTo>
                <a:cubicBezTo>
                  <a:pt x="8104" y="10634"/>
                  <a:pt x="8113" y="10705"/>
                  <a:pt x="8128" y="10732"/>
                </a:cubicBezTo>
                <a:cubicBezTo>
                  <a:pt x="8139" y="10742"/>
                  <a:pt x="8149" y="10753"/>
                  <a:pt x="8160" y="10763"/>
                </a:cubicBezTo>
              </a:path>
              <a:path w="954" h="1652">
                <a:moveTo>
                  <a:pt x="7588" y="11049"/>
                </a:moveTo>
                <a:cubicBezTo>
                  <a:pt x="7682" y="11049"/>
                  <a:pt x="7725" y="11001"/>
                  <a:pt x="7810" y="10986"/>
                </a:cubicBezTo>
                <a:cubicBezTo>
                  <a:pt x="7927" y="10966"/>
                  <a:pt x="8046" y="10949"/>
                  <a:pt x="8160" y="10922"/>
                </a:cubicBezTo>
                <a:cubicBezTo>
                  <a:pt x="8271" y="10896"/>
                  <a:pt x="8362" y="10890"/>
                  <a:pt x="8477" y="10890"/>
                </a:cubicBezTo>
                <a:cubicBezTo>
                  <a:pt x="8565" y="10890"/>
                  <a:pt x="8525" y="10929"/>
                  <a:pt x="8509" y="10986"/>
                </a:cubicBezTo>
              </a:path>
              <a:path w="954" h="1652">
                <a:moveTo>
                  <a:pt x="7906" y="11398"/>
                </a:moveTo>
                <a:cubicBezTo>
                  <a:pt x="7929" y="11352"/>
                  <a:pt x="8001" y="11292"/>
                  <a:pt x="8064" y="11271"/>
                </a:cubicBezTo>
                <a:cubicBezTo>
                  <a:pt x="8127" y="11250"/>
                  <a:pt x="8185" y="11240"/>
                  <a:pt x="8255" y="11240"/>
                </a:cubicBezTo>
                <a:cubicBezTo>
                  <a:pt x="8299" y="11240"/>
                  <a:pt x="8403" y="11263"/>
                  <a:pt x="8382" y="11335"/>
                </a:cubicBezTo>
                <a:cubicBezTo>
                  <a:pt x="8359" y="11416"/>
                  <a:pt x="8308" y="11493"/>
                  <a:pt x="8255" y="11557"/>
                </a:cubicBezTo>
                <a:cubicBezTo>
                  <a:pt x="8201" y="11622"/>
                  <a:pt x="8101" y="11706"/>
                  <a:pt x="8064" y="11779"/>
                </a:cubicBezTo>
                <a:cubicBezTo>
                  <a:pt x="8064" y="11790"/>
                  <a:pt x="8064" y="11800"/>
                  <a:pt x="8064" y="11811"/>
                </a:cubicBezTo>
                <a:cubicBezTo>
                  <a:pt x="8104" y="11871"/>
                  <a:pt x="8146" y="11818"/>
                  <a:pt x="8223" y="11811"/>
                </a:cubicBezTo>
                <a:cubicBezTo>
                  <a:pt x="8294" y="11805"/>
                  <a:pt x="8338" y="11779"/>
                  <a:pt x="8414" y="11779"/>
                </a:cubicBezTo>
                <a:cubicBezTo>
                  <a:pt x="8446" y="11779"/>
                  <a:pt x="8456" y="11779"/>
                  <a:pt x="8477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378160" y="4640400"/>
            <a:ext cx="239760" cy="274680"/>
          </a:xfrm>
          <a:custGeom>
            <a:avLst/>
            <a:gdLst/>
            <a:ahLst/>
            <a:rect l="l" t="t" r="r" b="b"/>
            <a:pathLst>
              <a:path w="668" h="763">
                <a:moveTo>
                  <a:pt x="6731" y="12890"/>
                </a:moveTo>
                <a:cubicBezTo>
                  <a:pt x="6731" y="12976"/>
                  <a:pt x="6750" y="13035"/>
                  <a:pt x="6763" y="13113"/>
                </a:cubicBezTo>
                <a:cubicBezTo>
                  <a:pt x="6785" y="13242"/>
                  <a:pt x="6766" y="13368"/>
                  <a:pt x="6794" y="13494"/>
                </a:cubicBezTo>
                <a:cubicBezTo>
                  <a:pt x="6797" y="13506"/>
                  <a:pt x="6777" y="13667"/>
                  <a:pt x="6826" y="13652"/>
                </a:cubicBezTo>
                <a:cubicBezTo>
                  <a:pt x="6826" y="13642"/>
                  <a:pt x="6826" y="13631"/>
                  <a:pt x="6826" y="13621"/>
                </a:cubicBezTo>
              </a:path>
              <a:path w="668" h="763">
                <a:moveTo>
                  <a:pt x="6604" y="13240"/>
                </a:moveTo>
                <a:cubicBezTo>
                  <a:pt x="6687" y="13240"/>
                  <a:pt x="6749" y="13221"/>
                  <a:pt x="6826" y="13208"/>
                </a:cubicBezTo>
                <a:cubicBezTo>
                  <a:pt x="6900" y="13196"/>
                  <a:pt x="6986" y="13188"/>
                  <a:pt x="7048" y="13176"/>
                </a:cubicBezTo>
                <a:cubicBezTo>
                  <a:pt x="7116" y="13162"/>
                  <a:pt x="7201" y="13176"/>
                  <a:pt x="727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2903400" y="4560840"/>
            <a:ext cx="503280" cy="263520"/>
          </a:xfrm>
          <a:custGeom>
            <a:avLst/>
            <a:gdLst/>
            <a:ahLst/>
            <a:rect l="l" t="t" r="r" b="b"/>
            <a:pathLst>
              <a:path w="1399" h="731">
                <a:moveTo>
                  <a:pt x="8509" y="12668"/>
                </a:moveTo>
                <a:cubicBezTo>
                  <a:pt x="8444" y="12684"/>
                  <a:pt x="8428" y="12700"/>
                  <a:pt x="8350" y="12700"/>
                </a:cubicBezTo>
                <a:cubicBezTo>
                  <a:pt x="8300" y="12700"/>
                  <a:pt x="8191" y="12770"/>
                  <a:pt x="8160" y="12764"/>
                </a:cubicBezTo>
                <a:cubicBezTo>
                  <a:pt x="8119" y="12756"/>
                  <a:pt x="8117" y="12732"/>
                  <a:pt x="8064" y="12732"/>
                </a:cubicBezTo>
                <a:cubicBezTo>
                  <a:pt x="8064" y="12808"/>
                  <a:pt x="8077" y="12859"/>
                  <a:pt x="8096" y="12922"/>
                </a:cubicBezTo>
                <a:cubicBezTo>
                  <a:pt x="8106" y="12957"/>
                  <a:pt x="8096" y="13012"/>
                  <a:pt x="8096" y="13049"/>
                </a:cubicBezTo>
                <a:cubicBezTo>
                  <a:pt x="8160" y="13033"/>
                  <a:pt x="8187" y="12977"/>
                  <a:pt x="8255" y="12954"/>
                </a:cubicBezTo>
                <a:cubicBezTo>
                  <a:pt x="8300" y="12939"/>
                  <a:pt x="8356" y="12898"/>
                  <a:pt x="8414" y="12922"/>
                </a:cubicBezTo>
                <a:cubicBezTo>
                  <a:pt x="8448" y="12936"/>
                  <a:pt x="8523" y="12979"/>
                  <a:pt x="8541" y="13018"/>
                </a:cubicBezTo>
                <a:cubicBezTo>
                  <a:pt x="8569" y="13079"/>
                  <a:pt x="8518" y="13156"/>
                  <a:pt x="8509" y="13208"/>
                </a:cubicBezTo>
                <a:cubicBezTo>
                  <a:pt x="8497" y="13279"/>
                  <a:pt x="8451" y="13323"/>
                  <a:pt x="8382" y="13367"/>
                </a:cubicBezTo>
                <a:cubicBezTo>
                  <a:pt x="8368" y="13376"/>
                  <a:pt x="8249" y="13427"/>
                  <a:pt x="8223" y="13398"/>
                </a:cubicBezTo>
                <a:cubicBezTo>
                  <a:pt x="8213" y="13377"/>
                  <a:pt x="8202" y="13356"/>
                  <a:pt x="8192" y="13335"/>
                </a:cubicBezTo>
              </a:path>
              <a:path w="1399" h="731">
                <a:moveTo>
                  <a:pt x="8763" y="12732"/>
                </a:moveTo>
                <a:cubicBezTo>
                  <a:pt x="8831" y="12732"/>
                  <a:pt x="8853" y="12706"/>
                  <a:pt x="8922" y="12700"/>
                </a:cubicBezTo>
                <a:cubicBezTo>
                  <a:pt x="8999" y="12694"/>
                  <a:pt x="9039" y="12674"/>
                  <a:pt x="9112" y="12668"/>
                </a:cubicBezTo>
                <a:cubicBezTo>
                  <a:pt x="9179" y="12662"/>
                  <a:pt x="9214" y="12702"/>
                  <a:pt x="9239" y="12764"/>
                </a:cubicBezTo>
                <a:cubicBezTo>
                  <a:pt x="9266" y="12832"/>
                  <a:pt x="9212" y="12918"/>
                  <a:pt x="9208" y="12986"/>
                </a:cubicBezTo>
                <a:cubicBezTo>
                  <a:pt x="9203" y="13075"/>
                  <a:pt x="9183" y="13127"/>
                  <a:pt x="9176" y="13208"/>
                </a:cubicBezTo>
                <a:cubicBezTo>
                  <a:pt x="9171" y="13269"/>
                  <a:pt x="9179" y="13288"/>
                  <a:pt x="9208" y="13335"/>
                </a:cubicBezTo>
              </a:path>
              <a:path w="1399" h="731">
                <a:moveTo>
                  <a:pt x="9017" y="13018"/>
                </a:moveTo>
                <a:cubicBezTo>
                  <a:pt x="9098" y="13018"/>
                  <a:pt x="9135" y="12999"/>
                  <a:pt x="9208" y="12986"/>
                </a:cubicBezTo>
                <a:cubicBezTo>
                  <a:pt x="9288" y="12972"/>
                  <a:pt x="9401" y="12972"/>
                  <a:pt x="9462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Ink 13"/>
          <p:cNvSpPr/>
          <p:nvPr/>
        </p:nvSpPr>
        <p:spPr>
          <a:xfrm>
            <a:off x="2343240" y="5235480"/>
            <a:ext cx="171360" cy="239760"/>
          </a:xfrm>
          <a:custGeom>
            <a:avLst/>
            <a:gdLst/>
            <a:ahLst/>
            <a:rect l="l" t="t" r="r" b="b"/>
            <a:pathLst>
              <a:path w="477" h="667">
                <a:moveTo>
                  <a:pt x="6572" y="14542"/>
                </a:moveTo>
                <a:cubicBezTo>
                  <a:pt x="6572" y="14670"/>
                  <a:pt x="6576" y="14771"/>
                  <a:pt x="6604" y="14891"/>
                </a:cubicBezTo>
                <a:cubicBezTo>
                  <a:pt x="6619" y="14957"/>
                  <a:pt x="6631" y="15016"/>
                  <a:pt x="6636" y="15081"/>
                </a:cubicBezTo>
                <a:cubicBezTo>
                  <a:pt x="6640" y="15133"/>
                  <a:pt x="6668" y="15150"/>
                  <a:pt x="6668" y="15208"/>
                </a:cubicBezTo>
              </a:path>
              <a:path w="477" h="667">
                <a:moveTo>
                  <a:pt x="6509" y="14954"/>
                </a:moveTo>
                <a:cubicBezTo>
                  <a:pt x="6570" y="14954"/>
                  <a:pt x="6610" y="14926"/>
                  <a:pt x="6668" y="14922"/>
                </a:cubicBezTo>
                <a:cubicBezTo>
                  <a:pt x="6742" y="14917"/>
                  <a:pt x="6779" y="14891"/>
                  <a:pt x="6858" y="14891"/>
                </a:cubicBezTo>
                <a:cubicBezTo>
                  <a:pt x="6900" y="14891"/>
                  <a:pt x="6943" y="14891"/>
                  <a:pt x="6985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Ink 14"/>
          <p:cNvSpPr/>
          <p:nvPr/>
        </p:nvSpPr>
        <p:spPr>
          <a:xfrm>
            <a:off x="2789280" y="5132520"/>
            <a:ext cx="307800" cy="320400"/>
          </a:xfrm>
          <a:custGeom>
            <a:avLst/>
            <a:gdLst/>
            <a:ahLst/>
            <a:rect l="l" t="t" r="r" b="b"/>
            <a:pathLst>
              <a:path w="858" h="890">
                <a:moveTo>
                  <a:pt x="7779" y="14288"/>
                </a:moveTo>
                <a:cubicBezTo>
                  <a:pt x="7779" y="14380"/>
                  <a:pt x="7761" y="14456"/>
                  <a:pt x="7747" y="14542"/>
                </a:cubicBezTo>
                <a:cubicBezTo>
                  <a:pt x="7725" y="14678"/>
                  <a:pt x="7699" y="15038"/>
                  <a:pt x="7779" y="15145"/>
                </a:cubicBezTo>
              </a:path>
              <a:path w="858" h="890">
                <a:moveTo>
                  <a:pt x="8192" y="14256"/>
                </a:moveTo>
                <a:cubicBezTo>
                  <a:pt x="8183" y="14320"/>
                  <a:pt x="8155" y="14420"/>
                  <a:pt x="8128" y="14478"/>
                </a:cubicBezTo>
                <a:cubicBezTo>
                  <a:pt x="8099" y="14540"/>
                  <a:pt x="8070" y="14619"/>
                  <a:pt x="8160" y="14668"/>
                </a:cubicBezTo>
                <a:cubicBezTo>
                  <a:pt x="8194" y="14687"/>
                  <a:pt x="8322" y="14651"/>
                  <a:pt x="8350" y="14637"/>
                </a:cubicBezTo>
                <a:cubicBezTo>
                  <a:pt x="8374" y="14625"/>
                  <a:pt x="8470" y="14536"/>
                  <a:pt x="8477" y="14510"/>
                </a:cubicBezTo>
                <a:cubicBezTo>
                  <a:pt x="8492" y="14458"/>
                  <a:pt x="8474" y="14340"/>
                  <a:pt x="8414" y="14319"/>
                </a:cubicBezTo>
                <a:cubicBezTo>
                  <a:pt x="8356" y="14298"/>
                  <a:pt x="8295" y="14320"/>
                  <a:pt x="8255" y="14351"/>
                </a:cubicBezTo>
              </a:path>
              <a:path w="858" h="890">
                <a:moveTo>
                  <a:pt x="8287" y="14573"/>
                </a:moveTo>
                <a:cubicBezTo>
                  <a:pt x="8258" y="14640"/>
                  <a:pt x="8207" y="14725"/>
                  <a:pt x="8192" y="14796"/>
                </a:cubicBezTo>
                <a:cubicBezTo>
                  <a:pt x="8180" y="14849"/>
                  <a:pt x="8136" y="14960"/>
                  <a:pt x="8160" y="15018"/>
                </a:cubicBezTo>
                <a:cubicBezTo>
                  <a:pt x="8184" y="15075"/>
                  <a:pt x="8236" y="15081"/>
                  <a:pt x="8287" y="15081"/>
                </a:cubicBezTo>
                <a:cubicBezTo>
                  <a:pt x="8342" y="15081"/>
                  <a:pt x="8408" y="15048"/>
                  <a:pt x="8446" y="15018"/>
                </a:cubicBezTo>
                <a:cubicBezTo>
                  <a:pt x="8538" y="14945"/>
                  <a:pt x="8530" y="14910"/>
                  <a:pt x="8572" y="14827"/>
                </a:cubicBezTo>
                <a:cubicBezTo>
                  <a:pt x="8604" y="14764"/>
                  <a:pt x="8614" y="14716"/>
                  <a:pt x="8572" y="14637"/>
                </a:cubicBezTo>
                <a:cubicBezTo>
                  <a:pt x="8536" y="14571"/>
                  <a:pt x="8464" y="14552"/>
                  <a:pt x="8446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Ink 15"/>
          <p:cNvSpPr/>
          <p:nvPr/>
        </p:nvSpPr>
        <p:spPr>
          <a:xfrm>
            <a:off x="3257640" y="5040360"/>
            <a:ext cx="11160" cy="423720"/>
          </a:xfrm>
          <a:custGeom>
            <a:avLst/>
            <a:gdLst/>
            <a:ahLst/>
            <a:rect l="l" t="t" r="r" b="b"/>
            <a:pathLst>
              <a:path w="32" h="1175">
                <a:moveTo>
                  <a:pt x="9080" y="14002"/>
                </a:moveTo>
                <a:cubicBezTo>
                  <a:pt x="9080" y="14134"/>
                  <a:pt x="9061" y="14259"/>
                  <a:pt x="9049" y="14383"/>
                </a:cubicBezTo>
                <a:cubicBezTo>
                  <a:pt x="9038" y="14490"/>
                  <a:pt x="8999" y="15149"/>
                  <a:pt x="9080" y="15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Ink 16"/>
          <p:cNvSpPr/>
          <p:nvPr/>
        </p:nvSpPr>
        <p:spPr>
          <a:xfrm>
            <a:off x="2903400" y="3646440"/>
            <a:ext cx="914400" cy="103320"/>
          </a:xfrm>
          <a:custGeom>
            <a:avLst/>
            <a:gdLst/>
            <a:ahLst/>
            <a:rect l="l" t="t" r="r" b="b"/>
            <a:pathLst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10604" y="10414"/>
                </a:moveTo>
                <a:cubicBezTo>
                  <a:pt x="10594" y="10414"/>
                  <a:pt x="10583" y="10414"/>
                  <a:pt x="10573" y="10414"/>
                </a:cubicBezTo>
              </a:path>
              <a:path w="2541" h="287">
                <a:moveTo>
                  <a:pt x="10604" y="10414"/>
                </a:moveTo>
                <a:cubicBezTo>
                  <a:pt x="10604" y="10382"/>
                  <a:pt x="10604" y="10351"/>
                  <a:pt x="1060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Ink 17"/>
          <p:cNvSpPr/>
          <p:nvPr/>
        </p:nvSpPr>
        <p:spPr>
          <a:xfrm>
            <a:off x="2378160" y="3965400"/>
            <a:ext cx="868320" cy="721080"/>
          </a:xfrm>
          <a:custGeom>
            <a:avLst/>
            <a:gdLst/>
            <a:ahLst/>
            <a:rect l="l" t="t" r="r" b="b"/>
            <a:pathLst>
              <a:path w="2414" h="2002">
                <a:moveTo>
                  <a:pt x="6604" y="11017"/>
                </a:moveTo>
                <a:cubicBezTo>
                  <a:pt x="6615" y="11017"/>
                  <a:pt x="6625" y="11017"/>
                  <a:pt x="6636" y="11017"/>
                </a:cubicBezTo>
              </a:path>
              <a:path w="2414" h="2002">
                <a:moveTo>
                  <a:pt x="8985" y="13018"/>
                </a:moveTo>
                <a:cubicBezTo>
                  <a:pt x="8975" y="13018"/>
                  <a:pt x="8964" y="13018"/>
                  <a:pt x="8954" y="13018"/>
                </a:cubicBezTo>
              </a:path>
              <a:path w="2414" h="2002">
                <a:moveTo>
                  <a:pt x="8985" y="13018"/>
                </a:moveTo>
                <a:cubicBezTo>
                  <a:pt x="8996" y="13018"/>
                  <a:pt x="9006" y="13018"/>
                  <a:pt x="9017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Ink 18"/>
          <p:cNvSpPr/>
          <p:nvPr/>
        </p:nvSpPr>
        <p:spPr>
          <a:xfrm>
            <a:off x="3486240" y="3726000"/>
            <a:ext cx="252360" cy="298440"/>
          </a:xfrm>
          <a:custGeom>
            <a:avLst/>
            <a:gdLst/>
            <a:ahLst/>
            <a:rect l="l" t="t" r="r" b="b"/>
            <a:pathLst>
              <a:path w="699" h="827">
                <a:moveTo>
                  <a:pt x="9684" y="10350"/>
                </a:moveTo>
                <a:cubicBezTo>
                  <a:pt x="9684" y="10456"/>
                  <a:pt x="9700" y="10539"/>
                  <a:pt x="9716" y="10636"/>
                </a:cubicBezTo>
                <a:cubicBezTo>
                  <a:pt x="9741" y="10785"/>
                  <a:pt x="9716" y="10960"/>
                  <a:pt x="9716" y="11112"/>
                </a:cubicBezTo>
              </a:path>
              <a:path w="699" h="827">
                <a:moveTo>
                  <a:pt x="10001" y="10446"/>
                </a:moveTo>
                <a:cubicBezTo>
                  <a:pt x="10001" y="10536"/>
                  <a:pt x="9974" y="10576"/>
                  <a:pt x="9970" y="10668"/>
                </a:cubicBezTo>
                <a:cubicBezTo>
                  <a:pt x="9965" y="10772"/>
                  <a:pt x="9937" y="10846"/>
                  <a:pt x="9970" y="10954"/>
                </a:cubicBezTo>
                <a:cubicBezTo>
                  <a:pt x="9996" y="11037"/>
                  <a:pt x="10043" y="11116"/>
                  <a:pt x="10128" y="11144"/>
                </a:cubicBezTo>
                <a:cubicBezTo>
                  <a:pt x="10214" y="11173"/>
                  <a:pt x="10262" y="11133"/>
                  <a:pt x="10319" y="11081"/>
                </a:cubicBezTo>
                <a:cubicBezTo>
                  <a:pt x="10358" y="11045"/>
                  <a:pt x="10378" y="10944"/>
                  <a:pt x="10382" y="10890"/>
                </a:cubicBezTo>
                <a:cubicBezTo>
                  <a:pt x="10382" y="10833"/>
                  <a:pt x="10386" y="10816"/>
                  <a:pt x="10350" y="10795"/>
                </a:cubicBezTo>
                <a:cubicBezTo>
                  <a:pt x="10244" y="10848"/>
                  <a:pt x="10241" y="10863"/>
                  <a:pt x="10192" y="10954"/>
                </a:cubicBezTo>
                <a:cubicBezTo>
                  <a:pt x="10143" y="11045"/>
                  <a:pt x="10167" y="11062"/>
                  <a:pt x="10192" y="11144"/>
                </a:cubicBezTo>
                <a:cubicBezTo>
                  <a:pt x="10203" y="11180"/>
                  <a:pt x="10265" y="11199"/>
                  <a:pt x="10319" y="11176"/>
                </a:cubicBezTo>
                <a:cubicBezTo>
                  <a:pt x="10329" y="11165"/>
                  <a:pt x="10340" y="11155"/>
                  <a:pt x="10350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Ink 19"/>
          <p:cNvSpPr/>
          <p:nvPr/>
        </p:nvSpPr>
        <p:spPr>
          <a:xfrm>
            <a:off x="5635800" y="903240"/>
            <a:ext cx="547560" cy="593640"/>
          </a:xfrm>
          <a:custGeom>
            <a:avLst/>
            <a:gdLst/>
            <a:ahLst/>
            <a:rect l="l" t="t" r="r" b="b"/>
            <a:pathLst>
              <a:path w="1525" h="1652">
                <a:moveTo>
                  <a:pt x="16320" y="3016"/>
                </a:moveTo>
                <a:cubicBezTo>
                  <a:pt x="16259" y="3093"/>
                  <a:pt x="16253" y="3153"/>
                  <a:pt x="16224" y="3238"/>
                </a:cubicBezTo>
                <a:cubicBezTo>
                  <a:pt x="16181" y="3366"/>
                  <a:pt x="16122" y="3498"/>
                  <a:pt x="16066" y="3620"/>
                </a:cubicBezTo>
                <a:cubicBezTo>
                  <a:pt x="15999" y="3766"/>
                  <a:pt x="15900" y="3871"/>
                  <a:pt x="15812" y="4000"/>
                </a:cubicBezTo>
                <a:cubicBezTo>
                  <a:pt x="15797" y="4022"/>
                  <a:pt x="15687" y="4146"/>
                  <a:pt x="15653" y="4128"/>
                </a:cubicBezTo>
                <a:cubicBezTo>
                  <a:pt x="15653" y="4117"/>
                  <a:pt x="15653" y="4107"/>
                  <a:pt x="15653" y="4096"/>
                </a:cubicBezTo>
              </a:path>
              <a:path w="1525" h="1652">
                <a:moveTo>
                  <a:pt x="15716" y="3683"/>
                </a:moveTo>
                <a:cubicBezTo>
                  <a:pt x="15705" y="3672"/>
                  <a:pt x="15695" y="3662"/>
                  <a:pt x="15684" y="3651"/>
                </a:cubicBezTo>
                <a:cubicBezTo>
                  <a:pt x="15684" y="3776"/>
                  <a:pt x="15672" y="3883"/>
                  <a:pt x="15653" y="4000"/>
                </a:cubicBezTo>
                <a:cubicBezTo>
                  <a:pt x="15647" y="4035"/>
                  <a:pt x="15656" y="4140"/>
                  <a:pt x="15684" y="4159"/>
                </a:cubicBezTo>
                <a:cubicBezTo>
                  <a:pt x="15741" y="4196"/>
                  <a:pt x="15856" y="4141"/>
                  <a:pt x="15907" y="4128"/>
                </a:cubicBezTo>
                <a:cubicBezTo>
                  <a:pt x="16006" y="4104"/>
                  <a:pt x="16020" y="4096"/>
                  <a:pt x="16034" y="4000"/>
                </a:cubicBezTo>
              </a:path>
              <a:path w="1525" h="1652">
                <a:moveTo>
                  <a:pt x="16732" y="2699"/>
                </a:moveTo>
                <a:cubicBezTo>
                  <a:pt x="16732" y="2632"/>
                  <a:pt x="16728" y="2604"/>
                  <a:pt x="16764" y="2572"/>
                </a:cubicBezTo>
                <a:cubicBezTo>
                  <a:pt x="16817" y="2526"/>
                  <a:pt x="16913" y="2512"/>
                  <a:pt x="16986" y="2508"/>
                </a:cubicBezTo>
                <a:cubicBezTo>
                  <a:pt x="17034" y="2505"/>
                  <a:pt x="17152" y="2522"/>
                  <a:pt x="17177" y="2572"/>
                </a:cubicBezTo>
                <a:cubicBezTo>
                  <a:pt x="17212" y="2642"/>
                  <a:pt x="17179" y="2859"/>
                  <a:pt x="17145" y="2921"/>
                </a:cubicBezTo>
                <a:cubicBezTo>
                  <a:pt x="17110" y="2987"/>
                  <a:pt x="17038" y="3037"/>
                  <a:pt x="16986" y="3080"/>
                </a:cubicBezTo>
                <a:cubicBezTo>
                  <a:pt x="16933" y="3125"/>
                  <a:pt x="16923" y="3102"/>
                  <a:pt x="16923" y="3175"/>
                </a:cubicBezTo>
              </a:path>
              <a:path w="1525" h="1652">
                <a:moveTo>
                  <a:pt x="17177" y="3461"/>
                </a:moveTo>
                <a:cubicBezTo>
                  <a:pt x="17120" y="3475"/>
                  <a:pt x="17094" y="3512"/>
                  <a:pt x="17050" y="3556"/>
                </a:cubicBezTo>
                <a:cubicBezTo>
                  <a:pt x="17013" y="3593"/>
                  <a:pt x="16998" y="3605"/>
                  <a:pt x="16986" y="3651"/>
                </a:cubicBezTo>
                <a:cubicBezTo>
                  <a:pt x="17077" y="3651"/>
                  <a:pt x="17060" y="3627"/>
                  <a:pt x="17113" y="3556"/>
                </a:cubicBezTo>
                <a:cubicBezTo>
                  <a:pt x="17174" y="3474"/>
                  <a:pt x="17072" y="3568"/>
                  <a:pt x="17050" y="3588"/>
                </a:cubicBezTo>
                <a:cubicBezTo>
                  <a:pt x="17039" y="3599"/>
                  <a:pt x="17029" y="3609"/>
                  <a:pt x="17018" y="3620"/>
                </a:cubicBezTo>
                <a:cubicBezTo>
                  <a:pt x="17069" y="3607"/>
                  <a:pt x="17117" y="3578"/>
                  <a:pt x="17050" y="3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3:15:09Z</dcterms:created>
  <dc:creator>swaters</dc:creator>
  <dc:description/>
  <dc:language>en-US</dc:language>
  <cp:lastModifiedBy>swaters</cp:lastModifiedBy>
  <dcterms:modified xsi:type="dcterms:W3CDTF">2014-01-09T14:51:10Z</dcterms:modified>
  <cp:revision>1</cp:revision>
  <dc:subject/>
  <dc:title>Thermo I HW</dc:title>
</cp:coreProperties>
</file>