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01D6-0337-4FB4-B864-2A7E751C1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32FA-9907-4BEB-BA8F-8DBD645D0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3D2C-9EA1-42AD-8A68-F053C3CC52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82DF-9B1B-496F-AAA1-A5EFC7B88D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CA71-A8F2-4246-B95F-EBD2BEDE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06D8-643F-4C98-A067-9CE8538F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F764-C407-48DF-82ED-CCD68E06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ECDA-72C6-4DF9-A131-16D389CC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71D-D925-4C7B-9FD1-415A6548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3443-91C4-4CFE-BF4A-A6A9E846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2F86-3AAE-46CE-84B3-42344206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FC39-9D32-452F-B4FF-4A14FC77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B7BF-4E68-40A4-909D-1439C086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4D02-BD27-47D6-B213-0F2ABE07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CD7D-2572-4CC7-AEBB-1ECE93BF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2FA6-A790-41DF-9922-94B3F197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A8C6-93B3-4F77-94A5-CBDDADFA8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mo II H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book requir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890.7 kJ/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he states of matter as well as the number of particles to determine the sign on 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he states of matter as well as the number of particles to determine the sign on 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Use the chart that we constructed to aid your respon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he states of matter as well as the number of particles to determine the sign on 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Use the chart that we constructed to aid your respon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G = H – TS  to solve for S. Watch your un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50 J/mol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member that two forces can drive a reaction, the one that is FAVORABLE will be the driving for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Exothermic is favored (Enthalp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Increase in disorder is favored (Entrop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c, use your values for H and S and the chart we construct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G = H – TS  to solve for H. Watch your 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2 kJ/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G = H – TS  to solve for H. Watch your uni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65 kJ/m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member that two forces can drive a reaction, the one that is FAVORABLE will be the driving for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Exothermic is favored (Enthalp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Increase in disorder is favored (Entrop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c, use your values for H and S and the chart we construct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G = H – TS  to solve for S. Watch your 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4 J/mo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nitude? This means to predict whether you think that the change in entropy is a large positive, large negative, small positive, small negative, or number close to zer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Thermo II #1.jpg"/>
          <p:cNvPicPr/>
          <p:nvPr/>
        </p:nvPicPr>
        <p:blipFill>
          <a:blip r:embed="rId1"/>
          <a:stretch/>
        </p:blipFill>
        <p:spPr>
          <a:xfrm>
            <a:off x="457200" y="533520"/>
            <a:ext cx="807732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out of the four answers correct. Identify which one is no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+327 J/mol*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-1087.4 J/mol*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-89 J/mol*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-387 J/mol*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the reactants are the same, notice the difference in the produ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is as part of your explan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ree out of the four answers are correct. Identify which one is no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75 kJ/m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2972.8 kJ/m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1379 kJ/m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432 kJ/m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 sure to identify if they are spontaneous or non-spontaneo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 something “becomes spontaneous” G changes from positive to negative. Therefore, we can set G=0 and solve for temperatur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 = H – 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 = H – 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=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Get H and S from #2)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swer 1750 K or 1477 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two forces that determine whether a system is spontaneous—enthalpy and entro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one is not favored, the other must be to produce a spontaneous re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about this as you construct your respon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notes, we discussion dissolved of an ionic sol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book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632 kJ/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he states of matter, then at the number of particles to decide if S is positive or nega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d on the sign you assigned to S (b) and the sign on G, you should be able to predict the sign on H (use the chart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9T14:56:38Z</dcterms:created>
  <dc:creator>swaters</dc:creator>
  <dc:description/>
  <dc:language>en-US</dc:language>
  <cp:lastModifiedBy>swaters</cp:lastModifiedBy>
  <dcterms:modified xsi:type="dcterms:W3CDTF">2014-01-10T21:12:42Z</dcterms:modified>
  <cp:revision>2</cp:revision>
  <dc:subject/>
  <dc:title>Thermo II HW</dc:title>
</cp:coreProperties>
</file>