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A8D3-DD5C-450C-A469-E1E92FD51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039F-1A8B-448A-926B-A77678598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09CD-7F7D-4A11-9177-ADE27B22E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FCD6-1D6D-4A89-B0BB-B2ABA92D7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CA6-FB9E-422C-A3A7-A4902963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CCE-E3EA-4DC5-B0F6-EEF99146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7DE-DD37-4AB7-A48B-78D0ADF1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377-CBC0-4FE6-8F3C-594FCE21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6FF-112D-40E4-85BE-BE162A25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F94-2E9E-47F2-ACEC-23D6B8C8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151-18D1-41C7-A88F-B83C0F6A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B57-03EF-49F8-927B-7461F40B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DD1-3FF8-4A85-BF83-77F9565E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06A-4423-48F1-9BDC-65553A1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98D-47E2-4914-9332-3BFBED2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A9C-0356-4C62-A21B-B35E813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2C14-4245-40B2-8979-5FE0CA6AE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o II 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890.7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 as well as the number of particles to determine the sign on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Use the chart that we constructed to aid your respon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S. Watch your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50 J/mol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G = H – TS  to solve for H. Watch your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6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hat two forces can drive a reaction, the one that is FAVORABLE will be the driving fo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Exothermic is favored (Enthal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ncrease in disorder is favored (Entrop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c, use your values for H and S and the chart we construc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 = H – TS  to solve for S. Watch your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 J/m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? This means to predict whether you think that the change in entropy is a large positive, large negative, small positive, small negative, or number close to zer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Thermo II #1.jpg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out of the four answers correct. Identify which one is no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+32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-1087.4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-89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-387 J/mol*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reactants are the same, notice the difference in the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is as part of your expla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out of the four answers are correct. Identify which one is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75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972.8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379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32 kJ/m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 sure to identify if they are spontaneous or non-spontaneo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something “becomes spontaneous” G changes from positive to negative. Therefore, we can set G=0 and solve for temperatu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 = H – 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=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Get H and S from #2)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swer 1750 K or 1477 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forces that determine whether a system is spontaneous—enthalpy and entro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ne is not favored, the other must be to produce a spontaneous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is as you construct your respo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otes, we discussion dissolved of an ionic sol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632 kJ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states of matter, then at the number of particles to decide if S is positive or neg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sign you assigned to S (b) and the sign on G, you should be able to predict the sign on H (use the chart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4:56:38Z</dcterms:created>
  <dc:creator>swaters</dc:creator>
  <dc:description/>
  <dc:language>en-US</dc:language>
  <cp:lastModifiedBy>swaters</cp:lastModifiedBy>
  <dcterms:modified xsi:type="dcterms:W3CDTF">2014-01-10T21:12:42Z</dcterms:modified>
  <cp:revision>2</cp:revision>
  <dc:subject/>
  <dc:title>Thermo II HW</dc:title>
</cp:coreProperties>
</file>