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k why line slopes up during temp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the length of line during phase changes - L&gt;G is greater than S&gt;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slope of line during each phase? I am not sure why gas is steeper sl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A1E7-EA8E-4CD6-B381-6F4B63484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8279-8C52-4CA1-8709-180719C0803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BC2FF-E130-4AF4-9D8B-624881B899A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3C49-8273-4D2F-BDEE-D7C200978DB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90F4-6B53-4E8E-8D70-254506A2495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5EC3-7DC7-46B2-B424-01CDFD74C2D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7E03-0F64-400A-A385-2F1A894B16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8F03-18F0-4AC7-B090-41D755EE77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332D-E8BE-42E6-A2E9-247D9A3048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2E1A-2D71-440A-BE77-F32339A9F61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0277-0C25-4ED2-90C8-D0F87A61222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19E79-7B0B-4E53-8898-41F91B42A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8C84-BBE0-440A-97C2-5D537B8B77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4B98F7-2712-421D-950B-846607BEE0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4F504-01CB-42B6-B61F-CB6B4F71236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EE36B-8693-49C4-97A1-EC14A7E6416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0B0C9-E21E-45F4-BBB5-3A8F41CBE97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BA6372-AFB2-4353-8BF6-D4039B52624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B7D8E1-6DFB-4979-B0AC-5EC1998AB8C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C66BB-E3BA-41CD-87B4-CF99AD20542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A343D-DD23-43CC-86E1-60831478F29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8DB13-EC1B-4721-A8A2-0F9E839FB68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9CE9E-1DAB-44A5-969C-5698EE4EF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C9CB-54BD-40DE-AA49-678E471A3A1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C2625-C8FE-40E2-B471-454F82F82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E507-1E92-4685-8E8B-03BB5B621C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5861-6436-4AB0-9E20-BBDC31B2E4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B0A5-1F0B-4841-AF40-D1C068AF3D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CCDB-9E9D-41F3-8792-40881A585E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ED87-033F-452D-9CA1-170084E5ED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9000-2FFE-4B73-A9F3-C00675D25E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74CE-0698-4DBC-BC03-26B3746D0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21C1-74F8-41E6-954D-0B6E0324C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F4B6-4AE8-4DF2-B522-0284513F0D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D156-3AB9-4710-A823-5D3BE96E20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8307-DD23-4839-B106-47395D580D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5560-CE6A-4D37-8785-0BAEA3C47B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D910-CE15-4862-AD5A-D7F35B7EDB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FCF-1AC6-440E-9846-A4FE89D38C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EC5-325B-41B7-A6C9-284409A8EE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3CD-9444-40AA-BDB5-E1919BF9B0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E80-9665-4531-89A2-69D4448E7D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080-048E-481D-92A1-2898C9D832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BB1D-2367-420A-8A05-A386221EC3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2BE-BEF1-49D9-AE83-68609FAAF1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FA7-5E35-47F7-AA6E-711E2A82C3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D07-66CF-406B-BDC1-52BC86F7B2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4AE-AB44-4D37-96A1-30605073D4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617-36B4-4AAA-91E3-56768835CC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608-79E2-4A5F-8077-82584912E9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CAE-3CBE-4E37-B324-8832782A71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B9CBB-B813-40D3-B200-030877F8BA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1C61E-1A4B-43E0-89A2-9B162B94FA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45184-B447-409B-BF10-0FE908247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BC20-EB85-4C2D-891B-D56F4737C4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D2EFF-C405-429B-9B52-962163A7CE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79038-FB94-4C52-AC0A-963AF46B8B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81062-2B32-4261-A1B1-CEA55174D9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19A10-0BAD-43F0-BAA6-0F3F021074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AE7E7-B2C3-4634-8D36-B817B274BD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828B6-235F-4100-B5A3-0374BE24A1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1B8C7-6041-47BA-AD55-B5C0CB0A94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0F499-806A-4CE0-BB61-976A95DA5D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59381-46A8-4493-8259-5D687FD619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B8DF1-4F76-442E-A221-E5D62BA77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DFFE-7C95-4BE0-92E6-3B16A901BA3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A6693-BBE9-4C99-99AE-2D03DD04C3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9FA03-6A96-41D9-B426-635ED8011A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F2469-F88A-4B2A-A651-8B3F22F8E74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5F6D9-AA7F-48B0-8D90-85C4F6BE5D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11701-6652-46E9-A001-1F7A84F6A2C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B08F9-6B37-4C38-8237-E8A073D3C9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AC2E4-E3D2-473D-B3BB-F67B8C8BCD1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9B6E0-3081-40AE-B7B9-25D2F5C7E86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12560-FD14-43E4-9901-23FCF56EFF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944FB-DC0F-4B26-8EB1-6B6AD238C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F934-28F9-445B-8B1B-A7533494A68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364AA-CCEA-4D95-B7C1-08CB4A291CC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99F9-1E89-4000-B16B-DE3A1560A19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BAA6-F077-404A-8EFE-4105BC75663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1BE4-AB07-4674-9E55-8BCDAC62C0C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4932-224C-423C-AC4D-B4375B6BD1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2996-E82A-4516-83C9-744401E3E2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CF7D-8A34-4113-B6A9-BD00C6AEBC9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782B-E6DB-4B60-9C7E-FCE1C6DC53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FB1C-8B02-4939-85BB-C4B173548F6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4582-AFEB-4750-9C63-0572776B5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F00A-07A2-4256-9A8E-C3372AACCE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9EFF-E956-4C06-8F00-F6D4EF883E0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B0BC-F3A7-4ED0-AC66-E1D2332E5B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088A-0286-4590-821D-243F478F7C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7BE22-D30C-42E9-9146-BD9ABD50283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908D6F-BC1B-4BBE-9465-4FC47ABA3C0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6B0E33-8F21-4295-980E-8C9A1EEADB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B3CE2-9D2A-4A91-9489-BC0C470404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4965B-435B-4914-950E-1C93EBBA195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90BE45-DC4D-4878-8038-13D0E7CA64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7C080F-0A07-47A1-AED3-CA9EEBF1E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6F9B-9C94-47C0-A9E5-D7732C0BDFC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A48AE-8F8F-4566-ACD3-F58318351E3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CE308E-CE6D-4FE2-91C9-662C6269D0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7D9CD-3C8A-4C1B-A9B4-969788C7F08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B3B99-16D5-4C56-972B-B68684A7987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09197-5CCD-4B0C-A38F-502B749F7D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097F4-BA9A-4A95-AFB1-B037DB085FC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CCC83-9EAB-45AF-A326-F50C40F4C63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EB5F7-4287-486E-8631-46CBBEE9FF6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10BDF-88ED-42AC-8798-DD763FEDE3F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E3B01-339B-48C7-8CCC-AD0AF117F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72D5-A5B4-4E34-9961-857441D7D6D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91293-3FA9-44F4-B47D-1392BD4FA3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3BB84-5313-4EF9-9E55-C03CBAC66D2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D8B23-49A5-4633-89A9-6D90B7EB5FA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07160-FF99-43CF-AA72-181B954D58D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44A7D-3ABC-40EA-81D9-7FE234B7B5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FF76A-2399-4361-AB7D-3A5F2F2665F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69BF4-E6FE-411A-956D-6D9B6EE0A4D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39A0C-D956-4F59-B1EE-60783B765D4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9264-1FD7-4D76-B11B-1B9790037CB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C6A5-5467-4AB4-8893-3F520115B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8DDD-DAE4-4861-B80A-C71D042C4E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FCC1-CC93-41E2-9339-A31CADABBB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0F8C-567A-415E-9671-0B66673CE58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B338-34B8-48E2-B7B2-848565A162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2771-2EF8-42B5-BE1B-FDB2B0AC1E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443D-90F2-49B2-B778-B86641655ED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E79A-E9E4-47FF-A8AC-0A6A4B3E9F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01B3-0708-4B7A-A53C-F524C07579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EE46-FD48-4BA1-906D-51DA1D95F1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6E0C-FD22-4FD7-B89D-FC27CEB4045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0F6B-E97B-43CA-9355-740C53B9A6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dynamic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Entropy and Free Energy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257C-4C4C-43F7-8347-D0C9D5E87A7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1920" y="190440"/>
            <a:ext cx="1268748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 and Reaction Direction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 - 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5980-3BC8-43FA-B467-8F6E9E1DB3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B06F-D414-45D0-9F1C-DA303AF1DE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dd2067"/>
                </a:solidFill>
                <a:latin typeface="Arial"/>
              </a:rPr>
              <a:t>Solid (If all other things were similar)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not really enough information to determ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BBEE-DA31-4D55-9726-EAE755A887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gol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F47B-6FE0-4869-A9CA-C7AAECB0C4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dd2067"/>
                </a:solidFill>
                <a:latin typeface="Arial"/>
              </a:rPr>
              <a:t>1 mole of gold, since it is solid, yet the mercury would be liquid at room temp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700F-A36A-40A7-8F18-615B33C5809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A78E-86B5-40D8-896A-457D8D09115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N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 u="sng">
                <a:solidFill>
                  <a:srgbClr val="dd2067"/>
                </a:solidFill>
                <a:uFillTx/>
                <a:latin typeface="Arial"/>
              </a:rPr>
              <a:t>All else being the same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, larger molecules have higher entropy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797C-09D0-46D8-80F7-A6BFCDBCAB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2680" y="6781320"/>
            <a:ext cx="12687480" cy="28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nd can you name these three molecules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33D2-93A6-49B5-B993-992CED17F4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0" t="0" r="0" b="27440"/>
          <a:stretch/>
        </p:blipFill>
        <p:spPr>
          <a:xfrm>
            <a:off x="203040" y="2629080"/>
            <a:ext cx="12520800" cy="28317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162828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575784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1046952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5D37-5988-4DCE-8E5F-4299AC9EDF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02680" y="2006280"/>
            <a:ext cx="12687480" cy="76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ropane is a larger an thus has more entropy than analogous molecules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5756-390E-41E5-90A0-8678B316B8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rcRect l="0" t="0" r="0" b="7908"/>
          <a:stretch/>
        </p:blipFill>
        <p:spPr>
          <a:xfrm>
            <a:off x="241200" y="4013280"/>
            <a:ext cx="12520800" cy="3593880"/>
          </a:xfrm>
          <a:prstGeom prst="rect">
            <a:avLst/>
          </a:prstGeom>
          <a:ln w="0">
            <a:noFill/>
          </a:ln>
        </p:spPr>
      </p:pic>
      <p:sp>
        <p:nvSpPr>
          <p:cNvPr id="467" name="Oval 5"/>
          <p:cNvSpPr/>
          <p:nvPr/>
        </p:nvSpPr>
        <p:spPr>
          <a:xfrm>
            <a:off x="8255160" y="3759120"/>
            <a:ext cx="4597200" cy="4102200"/>
          </a:xfrm>
          <a:prstGeom prst="ellipse">
            <a:avLst/>
          </a:prstGeom>
          <a:noFill/>
          <a:ln w="63360">
            <a:solidFill>
              <a:srgbClr val="dd20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F02E-073F-467B-9B04-F005194D37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two moles of 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54B8-CEA5-4BC2-AB87-B612D992439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7840" y="25200"/>
            <a:ext cx="12687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7480" y="1307880"/>
            <a:ext cx="12649320" cy="78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very process has a preferred direction, which can be referred to as the spontaneous direction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spontaneous process can be reversed only by some action or outside forc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process can be spontaneous, yet may not occur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er behind a dam won’t flow until the gate is open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mixture of CH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will remain until spark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pontaneous in thermodynamics does not have the same meaning as in everyday spe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6E3F-9F6B-495A-BAA0-4AA03B51A3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two moles of NO</a:t>
            </a:r>
            <a:r>
              <a:rPr b="0" lang="en-US" sz="72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since these molecules are not tied together with a bon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3E02-E02F-4D3C-A9A9-2570F5E710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ºC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955B-FEC3-47AA-B1A9-77575F82C0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e at 0ºC (This is 273 K…a higher temp=more entropy all else being the sam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B0AE-2D83-4467-9672-C4668130EE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2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 and 2 have the same entropy 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6FF6-1E52-423C-83B8-5FB4BDF9287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10 ml of 2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Higher concentration will have more entropy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 and 2 have the same entropy </a:t>
            </a: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04B4-82AA-41B7-8A88-BD2B88AFDB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E7F1-F698-4C8B-AB40-964E554A3C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404-A132-48B4-9B74-6696CC0E815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40D6-B338-4748-A53E-4108A118F7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59F8-954E-44AB-9049-4E1547BEE2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EE33-9F9C-430B-B09F-31BCA1FE4A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64CD-2834-466C-8049-2EA34E2629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salt &gt; 0  alway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water &lt; 0 sometimes (Remember how water surrounds the ions in a hydrosphere? This creates more order in the water.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CE62-48E2-4E4D-B6AB-C00DBFD5B3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7FF5-4996-42EF-AE12-A459D2BB0C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 (more than 1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Na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1BDE-E8B7-4510-869B-705EE6EEC6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EA01-682F-4D7B-AC35-6429E0A9A44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e Common-Sense Law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gs tend to become dispers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bles will scatter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not roll back in the bag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ences fall down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piles of wood don’t assembl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igsaw puzzles disassemble easily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shaking the box never result in reassemb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ach process reduces the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on the objec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B0BC-E4C0-40B1-A9DB-8F9AFACD9D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Ca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Ca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NaCl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Na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+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l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-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be unlikely that you would be asked to distinguish something like this as it is a VERY tough decision as demonstrated by next slide showing that there is very small entropy de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2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⇋ 3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EB6D-E454-426D-88E0-D5A9EB8C90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D536-6614-4950-B634-9ADD6A5942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080" y="202680"/>
            <a:ext cx="12687480" cy="22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8880" y="1816200"/>
            <a:ext cx="3961440" cy="3895200"/>
            <a:chOff x="38880" y="1816200"/>
            <a:chExt cx="3961440" cy="3895200"/>
          </a:xfrm>
        </p:grpSpPr>
        <p:grpSp>
          <p:nvGrpSpPr>
            <p:cNvPr id="514" name="Group 4"/>
            <p:cNvGrpSpPr/>
            <p:nvPr/>
          </p:nvGrpSpPr>
          <p:grpSpPr>
            <a:xfrm>
              <a:off x="38880" y="1816200"/>
              <a:ext cx="3961440" cy="3895200"/>
              <a:chOff x="38880" y="1816200"/>
              <a:chExt cx="3961440" cy="3895200"/>
            </a:xfrm>
          </p:grpSpPr>
          <p:sp>
            <p:nvSpPr>
              <p:cNvPr id="515" name="Line 5"/>
              <p:cNvSpPr/>
              <p:nvPr/>
            </p:nvSpPr>
            <p:spPr>
              <a:xfrm>
                <a:off x="31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6"/>
              <p:cNvSpPr/>
              <p:nvPr/>
            </p:nvSpPr>
            <p:spPr>
              <a:xfrm>
                <a:off x="31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7"/>
              <p:cNvSpPr/>
              <p:nvPr/>
            </p:nvSpPr>
            <p:spPr>
              <a:xfrm>
                <a:off x="156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8"/>
              <p:cNvSpPr/>
              <p:nvPr/>
            </p:nvSpPr>
            <p:spPr>
              <a:xfrm>
                <a:off x="278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9"/>
              <p:cNvSpPr/>
              <p:nvPr/>
            </p:nvSpPr>
            <p:spPr>
              <a:xfrm>
                <a:off x="32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10"/>
              <p:cNvSpPr/>
              <p:nvPr/>
            </p:nvSpPr>
            <p:spPr>
              <a:xfrm>
                <a:off x="57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1"/>
              <p:cNvSpPr/>
              <p:nvPr/>
            </p:nvSpPr>
            <p:spPr>
              <a:xfrm>
                <a:off x="177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2"/>
              <p:cNvSpPr/>
              <p:nvPr/>
            </p:nvSpPr>
            <p:spPr>
              <a:xfrm>
                <a:off x="311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3"/>
              <p:cNvSpPr/>
              <p:nvPr/>
            </p:nvSpPr>
            <p:spPr>
              <a:xfrm>
                <a:off x="141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4"/>
              <p:cNvSpPr/>
              <p:nvPr/>
            </p:nvSpPr>
            <p:spPr>
              <a:xfrm>
                <a:off x="3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Line 15"/>
            <p:cNvSpPr/>
            <p:nvPr/>
          </p:nvSpPr>
          <p:spPr>
            <a:xfrm flipV="1">
              <a:off x="330120" y="2270160"/>
              <a:ext cx="3520800" cy="31017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6"/>
          <p:cNvGrpSpPr/>
          <p:nvPr/>
        </p:nvGrpSpPr>
        <p:grpSpPr>
          <a:xfrm>
            <a:off x="4063320" y="5753160"/>
            <a:ext cx="3962520" cy="3895200"/>
            <a:chOff x="4063320" y="5753160"/>
            <a:chExt cx="3962520" cy="3895200"/>
          </a:xfrm>
        </p:grpSpPr>
        <p:grpSp>
          <p:nvGrpSpPr>
            <p:cNvPr id="527" name="Group 17"/>
            <p:cNvGrpSpPr/>
            <p:nvPr/>
          </p:nvGrpSpPr>
          <p:grpSpPr>
            <a:xfrm>
              <a:off x="4063320" y="5753160"/>
              <a:ext cx="3962520" cy="3895200"/>
              <a:chOff x="4063320" y="5753160"/>
              <a:chExt cx="3962520" cy="3895200"/>
            </a:xfrm>
          </p:grpSpPr>
          <p:sp>
            <p:nvSpPr>
              <p:cNvPr id="528" name="Line 18"/>
              <p:cNvSpPr/>
              <p:nvPr/>
            </p:nvSpPr>
            <p:spPr>
              <a:xfrm>
                <a:off x="4341600" y="9321840"/>
                <a:ext cx="36810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9"/>
              <p:cNvSpPr/>
              <p:nvPr/>
            </p:nvSpPr>
            <p:spPr>
              <a:xfrm>
                <a:off x="4341600" y="5753160"/>
                <a:ext cx="121968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20"/>
              <p:cNvSpPr/>
              <p:nvPr/>
            </p:nvSpPr>
            <p:spPr>
              <a:xfrm>
                <a:off x="5586840" y="5753160"/>
                <a:ext cx="121932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21"/>
              <p:cNvSpPr/>
              <p:nvPr/>
            </p:nvSpPr>
            <p:spPr>
              <a:xfrm>
                <a:off x="6806160" y="5753160"/>
                <a:ext cx="121968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22"/>
              <p:cNvSpPr/>
              <p:nvPr/>
            </p:nvSpPr>
            <p:spPr>
              <a:xfrm>
                <a:off x="434484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3"/>
              <p:cNvSpPr/>
              <p:nvPr/>
            </p:nvSpPr>
            <p:spPr>
              <a:xfrm>
                <a:off x="459612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24"/>
              <p:cNvSpPr/>
              <p:nvPr/>
            </p:nvSpPr>
            <p:spPr>
              <a:xfrm>
                <a:off x="57963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5"/>
              <p:cNvSpPr/>
              <p:nvPr/>
            </p:nvSpPr>
            <p:spPr>
              <a:xfrm>
                <a:off x="713988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26"/>
              <p:cNvSpPr/>
              <p:nvPr/>
            </p:nvSpPr>
            <p:spPr>
              <a:xfrm>
                <a:off x="544068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27"/>
              <p:cNvSpPr/>
              <p:nvPr/>
            </p:nvSpPr>
            <p:spPr>
              <a:xfrm>
                <a:off x="406332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Line 28"/>
            <p:cNvSpPr/>
            <p:nvPr/>
          </p:nvSpPr>
          <p:spPr>
            <a:xfrm flipV="1">
              <a:off x="4354560" y="895176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9"/>
            <p:cNvSpPr/>
            <p:nvPr/>
          </p:nvSpPr>
          <p:spPr>
            <a:xfrm flipV="1">
              <a:off x="5586840" y="8248680"/>
              <a:ext cx="1214640" cy="6667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0"/>
            <p:cNvSpPr/>
            <p:nvPr/>
          </p:nvSpPr>
          <p:spPr>
            <a:xfrm flipV="1">
              <a:off x="6819480" y="6516360"/>
              <a:ext cx="1175040" cy="17002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1"/>
          <p:cNvGrpSpPr/>
          <p:nvPr/>
        </p:nvGrpSpPr>
        <p:grpSpPr>
          <a:xfrm>
            <a:off x="8228880" y="1816200"/>
            <a:ext cx="3966120" cy="3895200"/>
            <a:chOff x="8228880" y="1816200"/>
            <a:chExt cx="3966120" cy="3895200"/>
          </a:xfrm>
        </p:grpSpPr>
        <p:grpSp>
          <p:nvGrpSpPr>
            <p:cNvPr id="542" name="Group 32"/>
            <p:cNvGrpSpPr/>
            <p:nvPr/>
          </p:nvGrpSpPr>
          <p:grpSpPr>
            <a:xfrm>
              <a:off x="8228880" y="1816200"/>
              <a:ext cx="3961440" cy="3895200"/>
              <a:chOff x="8228880" y="1816200"/>
              <a:chExt cx="3961440" cy="3895200"/>
            </a:xfrm>
          </p:grpSpPr>
          <p:sp>
            <p:nvSpPr>
              <p:cNvPr id="543" name="Line 33"/>
              <p:cNvSpPr/>
              <p:nvPr/>
            </p:nvSpPr>
            <p:spPr>
              <a:xfrm>
                <a:off x="850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4"/>
              <p:cNvSpPr/>
              <p:nvPr/>
            </p:nvSpPr>
            <p:spPr>
              <a:xfrm>
                <a:off x="850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5"/>
              <p:cNvSpPr/>
              <p:nvPr/>
            </p:nvSpPr>
            <p:spPr>
              <a:xfrm>
                <a:off x="975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6"/>
              <p:cNvSpPr/>
              <p:nvPr/>
            </p:nvSpPr>
            <p:spPr>
              <a:xfrm>
                <a:off x="1097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7"/>
              <p:cNvSpPr/>
              <p:nvPr/>
            </p:nvSpPr>
            <p:spPr>
              <a:xfrm>
                <a:off x="851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8"/>
              <p:cNvSpPr/>
              <p:nvPr/>
            </p:nvSpPr>
            <p:spPr>
              <a:xfrm>
                <a:off x="876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9"/>
              <p:cNvSpPr/>
              <p:nvPr/>
            </p:nvSpPr>
            <p:spPr>
              <a:xfrm>
                <a:off x="996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40"/>
              <p:cNvSpPr/>
              <p:nvPr/>
            </p:nvSpPr>
            <p:spPr>
              <a:xfrm>
                <a:off x="1130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41"/>
              <p:cNvSpPr/>
              <p:nvPr/>
            </p:nvSpPr>
            <p:spPr>
              <a:xfrm>
                <a:off x="960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42"/>
              <p:cNvSpPr/>
              <p:nvPr/>
            </p:nvSpPr>
            <p:spPr>
              <a:xfrm>
                <a:off x="822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Line 43"/>
            <p:cNvSpPr/>
            <p:nvPr/>
          </p:nvSpPr>
          <p:spPr>
            <a:xfrm flipV="1">
              <a:off x="8532720" y="51447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44"/>
            <p:cNvSpPr/>
            <p:nvPr/>
          </p:nvSpPr>
          <p:spPr>
            <a:xfrm flipV="1">
              <a:off x="9752040" y="458640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45"/>
            <p:cNvSpPr/>
            <p:nvPr/>
          </p:nvSpPr>
          <p:spPr>
            <a:xfrm flipV="1">
              <a:off x="10971000" y="284652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6"/>
            <p:cNvSpPr/>
            <p:nvPr/>
          </p:nvSpPr>
          <p:spPr>
            <a:xfrm flipH="1" flipV="1">
              <a:off x="10949040" y="2873520"/>
              <a:ext cx="9360" cy="16984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47"/>
            <p:cNvSpPr/>
            <p:nvPr/>
          </p:nvSpPr>
          <p:spPr>
            <a:xfrm flipV="1">
              <a:off x="9738360" y="4622760"/>
              <a:ext cx="180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48"/>
          <p:cNvGrpSpPr/>
          <p:nvPr/>
        </p:nvGrpSpPr>
        <p:grpSpPr>
          <a:xfrm>
            <a:off x="4050720" y="1816200"/>
            <a:ext cx="3962520" cy="3895200"/>
            <a:chOff x="4050720" y="1816200"/>
            <a:chExt cx="3962520" cy="3895200"/>
          </a:xfrm>
        </p:grpSpPr>
        <p:grpSp>
          <p:nvGrpSpPr>
            <p:cNvPr id="559" name="Group 49"/>
            <p:cNvGrpSpPr/>
            <p:nvPr/>
          </p:nvGrpSpPr>
          <p:grpSpPr>
            <a:xfrm>
              <a:off x="4050720" y="1816200"/>
              <a:ext cx="3962160" cy="3895200"/>
              <a:chOff x="4050720" y="1816200"/>
              <a:chExt cx="3962160" cy="3895200"/>
            </a:xfrm>
          </p:grpSpPr>
          <p:sp>
            <p:nvSpPr>
              <p:cNvPr id="560" name="Line 50"/>
              <p:cNvSpPr/>
              <p:nvPr/>
            </p:nvSpPr>
            <p:spPr>
              <a:xfrm>
                <a:off x="4329000" y="5384880"/>
                <a:ext cx="36806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51"/>
              <p:cNvSpPr/>
              <p:nvPr/>
            </p:nvSpPr>
            <p:spPr>
              <a:xfrm>
                <a:off x="432900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52"/>
              <p:cNvSpPr/>
              <p:nvPr/>
            </p:nvSpPr>
            <p:spPr>
              <a:xfrm>
                <a:off x="55742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53"/>
              <p:cNvSpPr/>
              <p:nvPr/>
            </p:nvSpPr>
            <p:spPr>
              <a:xfrm>
                <a:off x="679356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54"/>
              <p:cNvSpPr/>
              <p:nvPr/>
            </p:nvSpPr>
            <p:spPr>
              <a:xfrm>
                <a:off x="433224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55"/>
              <p:cNvSpPr/>
              <p:nvPr/>
            </p:nvSpPr>
            <p:spPr>
              <a:xfrm>
                <a:off x="458352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56"/>
              <p:cNvSpPr/>
              <p:nvPr/>
            </p:nvSpPr>
            <p:spPr>
              <a:xfrm>
                <a:off x="57837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57"/>
              <p:cNvSpPr/>
              <p:nvPr/>
            </p:nvSpPr>
            <p:spPr>
              <a:xfrm>
                <a:off x="712692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58"/>
              <p:cNvSpPr/>
              <p:nvPr/>
            </p:nvSpPr>
            <p:spPr>
              <a:xfrm>
                <a:off x="542808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59"/>
              <p:cNvSpPr/>
              <p:nvPr/>
            </p:nvSpPr>
            <p:spPr>
              <a:xfrm>
                <a:off x="405072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Line 60"/>
            <p:cNvSpPr/>
            <p:nvPr/>
          </p:nvSpPr>
          <p:spPr>
            <a:xfrm flipV="1">
              <a:off x="4341960" y="501480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61"/>
            <p:cNvSpPr/>
            <p:nvPr/>
          </p:nvSpPr>
          <p:spPr>
            <a:xfrm flipV="1">
              <a:off x="5574240" y="4001760"/>
              <a:ext cx="124632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62"/>
            <p:cNvSpPr/>
            <p:nvPr/>
          </p:nvSpPr>
          <p:spPr>
            <a:xfrm flipV="1">
              <a:off x="6793560" y="1974600"/>
              <a:ext cx="121968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63"/>
            <p:cNvSpPr/>
            <p:nvPr/>
          </p:nvSpPr>
          <p:spPr>
            <a:xfrm flipH="1" flipV="1">
              <a:off x="6771600" y="2720520"/>
              <a:ext cx="9360" cy="126684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4"/>
            <p:cNvSpPr/>
            <p:nvPr/>
          </p:nvSpPr>
          <p:spPr>
            <a:xfrm flipV="1">
              <a:off x="5574240" y="447048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5"/>
          <p:cNvGrpSpPr/>
          <p:nvPr/>
        </p:nvGrpSpPr>
        <p:grpSpPr>
          <a:xfrm>
            <a:off x="8228880" y="5753160"/>
            <a:ext cx="3966120" cy="3895200"/>
            <a:chOff x="8228880" y="5753160"/>
            <a:chExt cx="3966120" cy="3895200"/>
          </a:xfrm>
        </p:grpSpPr>
        <p:grpSp>
          <p:nvGrpSpPr>
            <p:cNvPr id="576" name="Group 66"/>
            <p:cNvGrpSpPr/>
            <p:nvPr/>
          </p:nvGrpSpPr>
          <p:grpSpPr>
            <a:xfrm>
              <a:off x="8228880" y="5753160"/>
              <a:ext cx="3961440" cy="3895200"/>
              <a:chOff x="8228880" y="5753160"/>
              <a:chExt cx="3961440" cy="3895200"/>
            </a:xfrm>
          </p:grpSpPr>
          <p:sp>
            <p:nvSpPr>
              <p:cNvPr id="577" name="Line 67"/>
              <p:cNvSpPr/>
              <p:nvPr/>
            </p:nvSpPr>
            <p:spPr>
              <a:xfrm>
                <a:off x="85071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68"/>
              <p:cNvSpPr/>
              <p:nvPr/>
            </p:nvSpPr>
            <p:spPr>
              <a:xfrm>
                <a:off x="85071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69"/>
              <p:cNvSpPr/>
              <p:nvPr/>
            </p:nvSpPr>
            <p:spPr>
              <a:xfrm>
                <a:off x="97520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70"/>
              <p:cNvSpPr/>
              <p:nvPr/>
            </p:nvSpPr>
            <p:spPr>
              <a:xfrm>
                <a:off x="109710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71"/>
              <p:cNvSpPr/>
              <p:nvPr/>
            </p:nvSpPr>
            <p:spPr>
              <a:xfrm>
                <a:off x="85104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72"/>
              <p:cNvSpPr/>
              <p:nvPr/>
            </p:nvSpPr>
            <p:spPr>
              <a:xfrm>
                <a:off x="87616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73"/>
              <p:cNvSpPr/>
              <p:nvPr/>
            </p:nvSpPr>
            <p:spPr>
              <a:xfrm>
                <a:off x="99615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74"/>
              <p:cNvSpPr/>
              <p:nvPr/>
            </p:nvSpPr>
            <p:spPr>
              <a:xfrm>
                <a:off x="113043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75"/>
              <p:cNvSpPr/>
              <p:nvPr/>
            </p:nvSpPr>
            <p:spPr>
              <a:xfrm>
                <a:off x="96055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76"/>
              <p:cNvSpPr/>
              <p:nvPr/>
            </p:nvSpPr>
            <p:spPr>
              <a:xfrm>
                <a:off x="82288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Line 77"/>
            <p:cNvSpPr/>
            <p:nvPr/>
          </p:nvSpPr>
          <p:spPr>
            <a:xfrm flipV="1">
              <a:off x="8532720" y="908172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78"/>
            <p:cNvSpPr/>
            <p:nvPr/>
          </p:nvSpPr>
          <p:spPr>
            <a:xfrm flipV="1">
              <a:off x="9752040" y="78879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79"/>
            <p:cNvSpPr/>
            <p:nvPr/>
          </p:nvSpPr>
          <p:spPr>
            <a:xfrm flipV="1">
              <a:off x="10971000" y="668124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80"/>
            <p:cNvSpPr/>
            <p:nvPr/>
          </p:nvSpPr>
          <p:spPr>
            <a:xfrm flipH="1" flipV="1">
              <a:off x="9736200" y="787356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81"/>
            <p:cNvSpPr/>
            <p:nvPr/>
          </p:nvSpPr>
          <p:spPr>
            <a:xfrm flipH="1" flipV="1">
              <a:off x="10968120" y="666720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Rectangle 82"/>
          <p:cNvSpPr/>
          <p:nvPr/>
        </p:nvSpPr>
        <p:spPr>
          <a:xfrm>
            <a:off x="197100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3"/>
          <p:cNvSpPr/>
          <p:nvPr/>
        </p:nvSpPr>
        <p:spPr>
          <a:xfrm>
            <a:off x="599688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4"/>
          <p:cNvSpPr/>
          <p:nvPr/>
        </p:nvSpPr>
        <p:spPr>
          <a:xfrm>
            <a:off x="1016244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5"/>
          <p:cNvSpPr/>
          <p:nvPr/>
        </p:nvSpPr>
        <p:spPr>
          <a:xfrm>
            <a:off x="607320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6"/>
          <p:cNvSpPr/>
          <p:nvPr/>
        </p:nvSpPr>
        <p:spPr>
          <a:xfrm>
            <a:off x="1023876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87"/>
          <p:cNvGrpSpPr/>
          <p:nvPr/>
        </p:nvGrpSpPr>
        <p:grpSpPr>
          <a:xfrm>
            <a:off x="26280" y="5753160"/>
            <a:ext cx="3961440" cy="3895200"/>
            <a:chOff x="26280" y="5753160"/>
            <a:chExt cx="3961440" cy="3895200"/>
          </a:xfrm>
        </p:grpSpPr>
        <p:grpSp>
          <p:nvGrpSpPr>
            <p:cNvPr id="598" name="Group 88"/>
            <p:cNvGrpSpPr/>
            <p:nvPr/>
          </p:nvGrpSpPr>
          <p:grpSpPr>
            <a:xfrm>
              <a:off x="26280" y="5753160"/>
              <a:ext cx="3961440" cy="3895200"/>
              <a:chOff x="26280" y="5753160"/>
              <a:chExt cx="3961440" cy="3895200"/>
            </a:xfrm>
          </p:grpSpPr>
          <p:sp>
            <p:nvSpPr>
              <p:cNvPr id="599" name="Line 89"/>
              <p:cNvSpPr/>
              <p:nvPr/>
            </p:nvSpPr>
            <p:spPr>
              <a:xfrm>
                <a:off x="3045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90"/>
              <p:cNvSpPr/>
              <p:nvPr/>
            </p:nvSpPr>
            <p:spPr>
              <a:xfrm>
                <a:off x="3045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91"/>
              <p:cNvSpPr/>
              <p:nvPr/>
            </p:nvSpPr>
            <p:spPr>
              <a:xfrm>
                <a:off x="15494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92"/>
              <p:cNvSpPr/>
              <p:nvPr/>
            </p:nvSpPr>
            <p:spPr>
              <a:xfrm>
                <a:off x="27684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93"/>
              <p:cNvSpPr/>
              <p:nvPr/>
            </p:nvSpPr>
            <p:spPr>
              <a:xfrm>
                <a:off x="3078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94"/>
              <p:cNvSpPr/>
              <p:nvPr/>
            </p:nvSpPr>
            <p:spPr>
              <a:xfrm>
                <a:off x="5590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95"/>
              <p:cNvSpPr/>
              <p:nvPr/>
            </p:nvSpPr>
            <p:spPr>
              <a:xfrm>
                <a:off x="17589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96"/>
              <p:cNvSpPr/>
              <p:nvPr/>
            </p:nvSpPr>
            <p:spPr>
              <a:xfrm>
                <a:off x="31017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97"/>
              <p:cNvSpPr/>
              <p:nvPr/>
            </p:nvSpPr>
            <p:spPr>
              <a:xfrm>
                <a:off x="14029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98"/>
              <p:cNvSpPr/>
              <p:nvPr/>
            </p:nvSpPr>
            <p:spPr>
              <a:xfrm>
                <a:off x="262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Line 99"/>
            <p:cNvSpPr/>
            <p:nvPr/>
          </p:nvSpPr>
          <p:spPr>
            <a:xfrm>
              <a:off x="322200" y="8902800"/>
              <a:ext cx="121608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0"/>
            <p:cNvSpPr/>
            <p:nvPr/>
          </p:nvSpPr>
          <p:spPr>
            <a:xfrm flipV="1">
              <a:off x="1548720" y="7938720"/>
              <a:ext cx="124596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1"/>
            <p:cNvSpPr/>
            <p:nvPr/>
          </p:nvSpPr>
          <p:spPr>
            <a:xfrm flipV="1">
              <a:off x="2767680" y="5911560"/>
              <a:ext cx="121932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02"/>
            <p:cNvSpPr/>
            <p:nvPr/>
          </p:nvSpPr>
          <p:spPr>
            <a:xfrm flipH="1" flipV="1">
              <a:off x="2746440" y="6657480"/>
              <a:ext cx="9360" cy="126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03"/>
            <p:cNvSpPr/>
            <p:nvPr/>
          </p:nvSpPr>
          <p:spPr>
            <a:xfrm flipV="1">
              <a:off x="1549440" y="840744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Rectangle 104"/>
          <p:cNvSpPr/>
          <p:nvPr/>
        </p:nvSpPr>
        <p:spPr>
          <a:xfrm>
            <a:off x="1971000" y="687420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BF20-484B-4D5B-BEBA-14E35B1DF4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03040" y="2629080"/>
            <a:ext cx="6591600" cy="69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ntropy increase as temperature increases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t phase changes, temperature stays the same (remember!) but the disorder will continue to increase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"/>
          <p:cNvPicPr/>
          <p:nvPr/>
        </p:nvPicPr>
        <p:blipFill>
          <a:blip r:embed="rId1"/>
          <a:srcRect l="0" t="0" r="0" b="4244"/>
          <a:stretch/>
        </p:blipFill>
        <p:spPr>
          <a:xfrm>
            <a:off x="6969240" y="2082960"/>
            <a:ext cx="5921280" cy="51814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C425-D041-4863-82B2-D8B488E35C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0F82-8E99-483D-BD2C-567C79019D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ter at room temperature decomposes into gaseous 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B975-9DD6-45C6-9BA0-CBB5E43C60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B716-F5AC-47D3-89D2-7012D2E68F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Water at room temperature decomposes into gaseous H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 and O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1001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61b0"/>
                </a:solidFill>
                <a:latin typeface="Arial"/>
              </a:rPr>
              <a:t># 3 is at equilibrium, ∆G = 0, below 80.1º it would be spontaneous, above 80.1ºC is not spontaneo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59D1-DC13-49D8-96E7-AB123563A12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6332-8576-4F55-89F0-922C32E4150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1920" y="190080"/>
            <a:ext cx="1268748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</a:t>
            </a:r>
            <a:br>
              <a:rPr sz="7400"/>
            </a:br>
            <a:r>
              <a:rPr b="0" lang="en-US" sz="6600" spc="-1" strike="noStrike">
                <a:solidFill>
                  <a:srgbClr val="00007d"/>
                </a:solidFill>
                <a:latin typeface="Arial"/>
              </a:rPr>
              <a:t>as related to Reaction Direction</a:t>
            </a:r>
            <a:endParaRPr b="0" lang="en-US" sz="6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A993-AF3B-46B3-8043-5587EBDB95E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wo Forces Drive Reaction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 entrop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 increase (+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w energ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 decrease (-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0EB7-FF84-4DD6-83C8-71B9015B558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7400" spc="-1" strike="noStrike" baseline="32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54160" y="1473120"/>
            <a:ext cx="1264896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om the second law of thermodynamics, we know that the entropy of the universe is always increasing. For every process and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20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t it is not always easy or practical to calculate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because it is difficult to know all of the entropy changes to the surroundings (universe),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B61A-5447-433D-8001-A1AFFC0DD05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7d"/>
                </a:solidFill>
                <a:latin typeface="Arial"/>
              </a:rPr>
              <a:t>So how can we predict spontaneity?</a:t>
            </a:r>
            <a:endParaRPr b="0" lang="en-US" sz="6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ibbs Free Energy (G) combines the two driving forces into one relationshi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aximum useful work that can be done by a system on its surroundings in a spontaneous process occurring at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constant temp and pressur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= ∆H - T∆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though the restriction of constant T and P are stringent, they do apply to many important chemical process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iological processes in the bo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boratory or industrially controlled proc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31B1-A845-4BEA-AB99-AB8DB9747D3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7d"/>
                </a:solidFill>
                <a:latin typeface="Arial"/>
              </a:rPr>
              <a:t>The Common-Sense Law applies at the molecular level as well. </a:t>
            </a:r>
            <a:endParaRPr b="0" lang="en-US" sz="6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7480" y="2552760"/>
            <a:ext cx="12649320" cy="70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lt disso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ases disp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7478640" y="2349360"/>
            <a:ext cx="4954680" cy="4330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rcRect l="0" t="0" r="0" b="11224"/>
          <a:stretch/>
        </p:blipFill>
        <p:spPr>
          <a:xfrm>
            <a:off x="579600" y="6934320"/>
            <a:ext cx="11437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9F88-72AC-499A-ADE9-A2721B86EF7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G = ∆H - T∆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lt; 0 , a reaction will proceed in the forward direction and is considered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= 0, a reaction will be at equilibrium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gt; 0, a reaction will not proceed in forward direction and is considered not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DBAA-C463-4096-93D8-165BF1154A6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0840" y="19008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7d"/>
                </a:solidFill>
                <a:latin typeface="Arial"/>
              </a:rPr>
              <a:t>Using ∆Gº</a:t>
            </a:r>
            <a:endParaRPr b="0" lang="en-US" sz="6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40840" y="1320840"/>
            <a:ext cx="12649320" cy="82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tandard condi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at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M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e ∆Gº values in the table are reported for temperatures at 25º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values have been established for a great many substances making the ∆G calculation below convenient at 1M or 1atm at 25ºC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Rx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=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prod -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rea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160E-DF4D-4670-A439-73298D4CCD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02680" y="5625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A2FC-64BA-4775-AFF0-69CC4E60D5F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8ABA-C919-42BE-8B80-DD4F39F952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02680" y="4330440"/>
            <a:ext cx="1268748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Yes, at approximately 632 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H=+74kJ, ∆S=117J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G = ∆H - T∆S, since ∆G&gt;0 is not spontaneous and ∆G&lt;0 is spontaneous, when ∆G=0 the spontaneity “switches”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0 = 74kJ - T(0.117kJ)  solve T = 632 K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3BDB-BF8C-455C-9FDE-652EB5B762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D0E6-00A4-4C7D-BA47-E312303C7C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298 K this reaction is not spontaneous and at temps above 632 K the reaction becomes spontaneous. What occurs AT 632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17520" y="5753160"/>
            <a:ext cx="1268712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is at equilibrium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DB71-66C6-4EDF-A229-ECD9696D401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2007-7EDC-42C1-8692-4DE009B1B8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standard conditions this reaction is not spontaneous and at temps above 633 K the reaction becomes spontaneous. What occurs AT 633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02680" y="5118120"/>
            <a:ext cx="1268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The reaction is at equilibrium, since ∆G =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BB5-D2C4-474E-84AD-CC675B75E6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C15F-8738-4E3C-AB3B-55A592AFAD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 don’t know, and I would just be guessing or following my neighbors, but I don’t really know how to analytically think through to an answ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BBB9-9132-4D49-94C3-7D19E7495F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C5EF-0A9C-4474-9FD2-83F49AE053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d2067"/>
                </a:solidFill>
                <a:latin typeface="Arial"/>
              </a:rPr>
              <a:t>no, remember: ∆G = ∆H - T∆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When ∆H is +, and ∆S is -, no temperature will ever make the reaction spontaneou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f ∆H is - and ∆S is -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ncreasing the T value will make ∆G more +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decreasing the T would make the less + and the temp may not be able to be lowered enough to turn it spontaneous. (Remember that there is a lower limit to temperature values, absolute zero.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648B-7BA6-4849-94BC-C0A4772AB9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9A73-0BBD-4137-84EC-5D444FA0213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DC62-DD79-4526-8CBA-F1A79B1C0E1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33F6-811A-4D70-B939-E8341AE89D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21600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133200" y="2879640"/>
            <a:ext cx="5905800" cy="615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6337440" y="2882880"/>
            <a:ext cx="5959440" cy="6147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440064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1013940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F926-7BD9-49CD-91D0-BD892F9B00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2680" y="3784680"/>
            <a:ext cx="6007320" cy="58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S—gas to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H—the gas is condensing (giving off heat NOT taking it 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324480" y="3936960"/>
          <a:ext cx="654228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92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6D90-4DC6-439E-978E-FA62EC0DA3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02680" y="203040"/>
            <a:ext cx="1268748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02680" y="3796920"/>
            <a:ext cx="12687480" cy="58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4931-EFC0-440C-9418-898A9FC469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088-8A70-4832-A283-2E82FCAD09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02680" y="2793960"/>
            <a:ext cx="12687480" cy="68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that if the reaction proceeds (spontaneous) it must have a negative ∆G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45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&gt;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at standard conditions of 1 atm, 1M K would always = 1, so if the reaction proceeds K will end up greater than 1 since as the reaction proceeds products will increase and reactants will decrease resulting in K larger than 1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1D00-A6F5-4537-8FF0-28F1E68E8B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B2DB-A46F-4986-ACD8-2DB222B41A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ubmit your answer rounded to the nearest whole numb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C4D1-9E02-4AC1-B69F-9F59E12ED8C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4DB3-3756-4C5C-BC85-F289F3089A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25 kJ/m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9CF3-F425-4FDD-8953-FC1347A2B4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4781-8E5A-4073-8F63-797AB08790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02680" y="3733560"/>
            <a:ext cx="12687480" cy="58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EA7A-3E5B-4703-AB08-22A920EC3D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5F73-371F-40BE-BED6-74C7DF82AC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02680" y="2476440"/>
            <a:ext cx="12687480" cy="71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4920" indent="-6649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 &l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Since we know that the solution cools, we know that ∆H is positive, and since that is unfavorable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lthough it is completely counter intuitive, the driving force for this reaction </a:t>
            </a:r>
            <a:r>
              <a:rPr b="0" i="1" lang="en-US" sz="3500" spc="-1" strike="noStrike">
                <a:solidFill>
                  <a:srgbClr val="2961b0"/>
                </a:solidFill>
                <a:latin typeface="Arial"/>
              </a:rPr>
              <a:t>must</a:t>
            </a: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 be an increase in entropy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nd for the reaction to be spontaneous (∆G&lt;0), the |T∆S| factor must be larger than the |∆H| factor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0001-1EF2-4DF0-8F1B-05FD5B592B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46CF-B10A-4F30-8B1F-8B1F625F07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EBCA-9875-4F02-9A73-2E0D918A3D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CD89-3857-4FAD-8CD6-8B26BCD4C6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CEC-CD81-4778-ABFD-6BA806A84D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6F3A-7823-4056-82E1-B55E749C45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→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2364-60E6-4681-8889-629E02FC534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8696-63CE-4CB2-92E3-B95587F60D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02680" y="2082600"/>
            <a:ext cx="12687480" cy="75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Both are,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yet #1 is endothermic and #2 is exothermic. (Notice the settings—table and freezer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s means that analyzing just energy changes is not enough to determine when a process will be spontaneou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B031-1048-421B-9883-BA857C6601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3987720" y="54864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559720" y="556272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31561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74977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13CE-C8A2-444C-BF5F-141CAB1422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--&gt;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905040" indent="-905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G, ∆H, and ∆S are all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at 298 K, not spontaneous means G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when ∆S is positive, the |T∆S| factor will increase at higher temperatures and since the equation is, -T∆S, at some temp the T∆S factor will be greater than the ∆H and the value of ∆G will become  nega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B3F8-F9B0-4FF9-A612-D3200539CD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0D77-A696-4682-B3CF-4EBF11210E4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xidation of a met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60E3-30B1-4E1E-97BD-DFDD6928BD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Oxidation of a meta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24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oxidation will often produce a solid metal oxide which will have more order than a pure metal and the oxygen g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A108-61E2-440E-88EC-88D9686FB7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V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7530-AD43-4718-AB85-3E8BC8D2FB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V &lt; 0—V is for volume, which decrases when a gas forms into a liqu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D7CC-D07A-403D-A3FF-B60B0B55854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02680" y="190080"/>
            <a:ext cx="12687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  ∆H = -97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02680" y="4876920"/>
            <a:ext cx="12687480" cy="47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pends on other factors, and cannot be determined with the information give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CE0-F3B9-4684-A716-93E0DE1552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3160-3665-4901-8A01-E270F6AB12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02680" y="127080"/>
            <a:ext cx="1268748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      ∆H = -97kJ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3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02680" y="2603160"/>
            <a:ext cx="1268748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850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Produc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Because the reaction is exothermic, the product bonds must release more energy when formed than the reactant bonds require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3. depends on other factors, and cannot be determined with the information given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D298-6ECE-4D4E-AA80-D44326D249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D84A-A061-4AD3-9BD5-DA26D3D6B6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A209-0C35-4BE4-9F05-134E6F2453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22A4-0C75-4EA2-9152-49A0146532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254160" y="2629080"/>
          <a:ext cx="12496680" cy="593388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000"/>
                <a:gridCol w="5662800"/>
              </a:tblGrid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6BF2-679D-435B-BAC6-6F79BB930C7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Opposing Dispersal Trend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02680" y="1510920"/>
            <a:ext cx="12687480" cy="8102520"/>
          </a:xfrm>
          <a:prstGeom prst="rect">
            <a:avLst/>
          </a:prstGeom>
          <a:noFill/>
          <a:ln w="0">
            <a:noFill/>
          </a:ln>
        </p:spPr>
        <p:txBody>
          <a:bodyPr lIns="0" rIns="417744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zing water leads to more ordered matter and seems like a violation of the common-sense la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eans that analyzing just change in disorder is not enough to determine when a process will be spontaneo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what should we consid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8788320" y="13716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810640" y="562140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1194264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D103-A52F-47C8-B98B-A72CBE0014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368280" y="2527200"/>
          <a:ext cx="12496680" cy="593424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360"/>
                <a:gridCol w="5662440"/>
              </a:tblGrid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9C07-B0BB-40FB-891F-DD13610ADE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4160" y="254160"/>
            <a:ext cx="126871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2ADE-766F-4672-B9E8-467B2DBED1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FB45-1036-4ED1-8FA3-3B7B13A972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7AF5-3D4F-4EB7-8509-EF090CDF8A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0439-F8C9-40C8-B98F-55EF45EEC6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(Select as many as apply.)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BCB8-D127-42AF-AC16-31C3F7E4BD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F015-DCC8-4646-A786-BE2DDC9591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BEE7-9C26-4E8F-AF4B-0B176298748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5DE9-812A-4E77-A7C8-F34613A72F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6061-23A6-4094-91CF-B7AF21EC55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B5C8-08C2-4402-93A0-158E2B471A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(must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0F3D-92CD-4F68-924C-C4F5147226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DCB3-9757-47D5-96C9-F4277268EB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alculating ∆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D8EA-DA7C-4C67-839E-7455B5EA328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Boiling and Melting Point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a substance is at its boiling or melting temperature it is at equilib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at equilibrium ∆G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nce ∆G = ∆Hº - T∆S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∆Sº = ∆H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the ∆S of melting or boiling = ∆H/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is how entropy of some substances can be calcula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CD38-88BA-45F8-91E8-1402E22400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02680" y="3403080"/>
            <a:ext cx="12687480" cy="62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809D-0F43-4E1E-A3D7-142B8747F3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4"/>
          <p:cNvGrpSpPr/>
          <p:nvPr/>
        </p:nvGrpSpPr>
        <p:grpSpPr>
          <a:xfrm>
            <a:off x="3124080" y="6010560"/>
            <a:ext cx="1184400" cy="1212120"/>
            <a:chOff x="3124080" y="6010560"/>
            <a:chExt cx="1184400" cy="1212120"/>
          </a:xfrm>
        </p:grpSpPr>
        <p:sp>
          <p:nvSpPr>
            <p:cNvPr id="793" name="Rectangle 5"/>
            <p:cNvSpPr/>
            <p:nvPr/>
          </p:nvSpPr>
          <p:spPr>
            <a:xfrm>
              <a:off x="326448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6"/>
            <p:cNvSpPr/>
            <p:nvPr/>
          </p:nvSpPr>
          <p:spPr>
            <a:xfrm>
              <a:off x="327384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V="1">
              <a:off x="312408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797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4338-DFDD-45A1-928C-FD494B058E5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Entropy, (S) is a measure of dispersal - dispersal of matter </a:t>
            </a:r>
            <a:r>
              <a:rPr b="0" i="1" lang="en-US" sz="4800" spc="-1" strike="noStrike">
                <a:solidFill>
                  <a:srgbClr val="00007d"/>
                </a:solidFill>
                <a:latin typeface="Arial"/>
              </a:rPr>
              <a:t>and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dispersal of energy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0080" y="1765080"/>
            <a:ext cx="12649320" cy="78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In 1877 Ludwig Boltzman defined the entropy of a substance as the number of ways to describe a system, “degrees of freedom”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8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member the First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nergy is never lost or gained, only change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= 0 (always)       ∆E = q + w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1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In any spontaneous process, the total entropy increases. 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0E64-54F6-4A8F-BDCD-9FCED6DBE5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17520" y="3543480"/>
            <a:ext cx="12687120" cy="62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dd2067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 =         ice melts at 0 C (273 K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CEED-3E06-4A6D-9548-0B86F53081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4"/>
          <p:cNvGrpSpPr/>
          <p:nvPr/>
        </p:nvGrpSpPr>
        <p:grpSpPr>
          <a:xfrm>
            <a:off x="3284640" y="6010560"/>
            <a:ext cx="1184400" cy="1212120"/>
            <a:chOff x="3284640" y="6010560"/>
            <a:chExt cx="1184400" cy="1212120"/>
          </a:xfrm>
        </p:grpSpPr>
        <p:sp>
          <p:nvSpPr>
            <p:cNvPr id="805" name="Rectangle 5"/>
            <p:cNvSpPr/>
            <p:nvPr/>
          </p:nvSpPr>
          <p:spPr>
            <a:xfrm>
              <a:off x="342504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"/>
            <p:cNvSpPr/>
            <p:nvPr/>
          </p:nvSpPr>
          <p:spPr>
            <a:xfrm>
              <a:off x="343440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7"/>
            <p:cNvSpPr/>
            <p:nvPr/>
          </p:nvSpPr>
          <p:spPr>
            <a:xfrm flipV="1">
              <a:off x="328464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809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6D03-C82C-4F2C-941F-19DEC2BA85F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ird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Third law of Thermodynam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pure, perfect crystal at 0 K has zero entrop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800" spc="-1" strike="noStrike" baseline="-6000">
                <a:solidFill>
                  <a:srgbClr val="000000"/>
                </a:solidFill>
                <a:latin typeface="Arial"/>
              </a:rPr>
              <a:t>(pure, perfect crystal; T=0K)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akes it possible to measure the absolute entropy of any substance at any temperat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e that unlike ∆Hº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Sº values are never zero at any temperature above 0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9:01Z</dcterms:modified>
  <cp:revision>34</cp:revision>
  <dc:subject/>
  <dc:title>Thermodynamics</dc:title>
</cp:coreProperties>
</file>