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k why line slopes up during temp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the length of line during phase changes - L&gt;G is greater than S&gt;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slope of line during each phase? I am not sure why gas is steeper sl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993A-34B7-4045-B87B-54CAA86A6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A15F-11F4-4777-8554-A6C52F4715D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E5CF-E328-4A81-A2FE-5B31B76C085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6E73F-2B7C-4A63-A41D-D8680F05EB0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25AC-60AB-4A6B-B797-36B011F934D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B92E6-BE79-4176-8D60-CAF2A86FB4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4EF7D-EA9A-4E21-BF97-459B1A4F389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003C-A151-478C-AD27-5718850FDB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153B-09B8-4897-A35A-B6B7F6B13C0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3E0C-F783-422D-86CE-FA13BD30587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054C-C710-4A39-9B84-91C39867562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1416C-325D-4043-9FCF-BD861AA41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C4E9-99A7-4F07-9D7E-34C0557E589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30249-3F21-413F-B253-0E55EC965B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20FAF-F0DC-4F6B-9195-24EF154CF60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A8D90-FF18-4903-8DE3-C44BDFC81F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B4554-0987-4B3D-8D52-21602885AD1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22A005-BF5F-4042-88C4-29D01222DE8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95DA5-CC2F-4E1D-BB63-BD0480F135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6AAD02-C7AE-49CB-A6C9-5CBBA44CBFA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CCF0B-F9BB-450B-95BF-F76EA7E71EE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B15E0-F8B3-473D-B0A0-D2AF739F205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A740E-CFA9-4234-B8C4-4D7AB3361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486E-0B07-4DCF-BEE1-24F3C77135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FF27D-6F12-4553-86EE-ACCF7327F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23FE-B41E-416A-A332-F6480B55AB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5C32-43AD-4ECD-80D1-720FE0D82E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114C-DDDB-463C-88B2-CFCBA932F5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3E44-2F58-43CE-B99D-284502DA66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10D2-9EC4-4EB6-AE1C-97B13ABE25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9C3A-0CB8-432F-AD43-91CE5B2ACD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934E-E83B-430A-83E6-74710D23C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A4E9-FF9A-4503-98E9-8E3FB2FD6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D438-03B9-4E81-BD4E-217EDDABA2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4EEC-E598-4435-9E21-F108F657A9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0CA8-B353-47CF-98FE-B5C6C5DAB6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04C6-77B1-4275-B5EE-ED91FFA462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9D44A-E9E6-4062-81C4-735F07ED1A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9BC-5B69-4F51-B6BA-0905B04FCB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E3E-7E17-4C16-9236-80F8A5818B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705-655C-44E3-8212-FF4D03308E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756-DACB-43BB-8746-8A336AC423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248-F37F-4AF1-89E0-FF1F14EA7E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DD06-5432-4B81-8663-7734A9A802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FC2-1B58-460B-96E1-20A6E788FA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24A-660F-41C7-A347-DAA55BFBD1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135-9C81-45AA-8E5E-E995C32925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C2A-DC31-4CB0-9205-AA785C460F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9B5-126A-4440-B236-98831A452E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D36-7D5F-43AD-9089-0F2E6C81F2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85A-1B78-4DB8-8A41-83B8CAD551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6D731-CD5A-4340-9E69-143C421ED6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A09DC-D8A3-4077-AF64-9153E27D1D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315DE-5A3C-45D0-8DC7-ABE0525EF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5E20-1A94-4823-A0F9-7A67E8BB76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FE464-36AE-4D4C-9FBA-2F82465A57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C09FA-BE50-4259-8A3C-01A78DF1EC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96101-1794-4C19-9FDF-9E6EB9DFA8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52D2C-BF26-43B2-80EC-E1DBF1F205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01F9F-D8B1-4B2C-95FD-4354AB9458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9DC1A-C4D3-413A-BB4A-8D16FCB503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78ABF-EAC6-4D28-828B-6FE5D28FAF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D3351-B723-4D50-8A64-71601BEAD4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14337-4B8A-4241-B66D-98828B61C4B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24534-F595-4978-AFE4-027E55351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84A6-2CFA-487B-B1D4-AF2C815DD5F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DB8A7-386A-4050-B9A2-BDBB9EABCC7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D0914-64C2-4CD1-A662-BBA5FE1705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7EF38-20AE-4BF8-A53C-216750FA38C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AF6F7-45E9-450C-B50E-26550F0BCB9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15CED-1FAA-4CBB-87CF-B655863CC32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A23F3-31D5-4B43-9A96-DA3B355358E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C0997-820E-4B07-937D-4B858E1094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2D133-FE61-4B91-9D50-19813316DB5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3C7C0-5930-46FD-855B-6782A642CF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13515-88DE-439E-8FDB-17260F150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4655-FD7E-4F20-83A7-E72E8C7F283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09413-D61D-4F6B-A873-886038AE2D2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3C53-22A8-45B5-8081-BF39264D03F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BDD5-1931-4196-B042-41CF95BC943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80CD-AE03-4C46-A5D1-6CE603530CA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90DD-037F-4461-8514-9DA5C8B0A59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46C1-0C12-4BC8-BB58-C2114B46E50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CBC5-ED64-48C2-B602-804E5FE079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9503-9636-4E04-A797-8CB432E64D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0A6E-861F-4754-A04F-DA10A2B938E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7B2C-9376-4866-8705-DC4A43E6B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2A98-4E91-492E-A391-6F51467B66D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E89B-E95A-43D6-ABA3-1063C8A7BF7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D61A-2740-4050-AF15-A29D0373935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B2A2-D01D-414F-AC51-178266D406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1A9E37-1417-40D1-A6AE-AF26908EAB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6DA937-7DCF-465E-8D9E-D7F1C9B5389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70DFD-7112-409B-AE32-F1F9FEACF6B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1B5769-BD68-4DE4-ADAA-268920A94BA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72FE1-9721-448D-943F-E87EC94352D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0443BD-81AB-4623-B9AE-B551B5B322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B2D2AA-450B-48D9-A7CC-66344488F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B2B8-EE3E-4179-880A-F49CDB8742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FEBB9-1428-4CAF-9D52-D5A225F8AD5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7F628-C574-4921-81E8-20506D9265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ED847F-1119-4BE9-AB54-46759F514E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8F5A2-2797-4110-A3AA-1B638EB2964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DFB47-4E44-46D5-A21B-1ACDAE53354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BDA7D-2B28-4CB0-9323-64B65B128FE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0381A-1E10-4EBE-8B0E-EB4DAA695A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7FCFE-6173-448D-A345-1C2ECA026A6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89826-ABE2-4FA2-BDA2-750AF3F7DB6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DAFA2-ACD0-4AA2-9770-2D24EFDA9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D415-0995-4D67-831D-1D4FFE704D8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360F3-6D69-4DE5-92E3-7538A1202BF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FB7D1-3933-4001-ACB4-C8E8F086F25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6AC38-CB4E-458C-B966-5FCD9AA43F1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8D397-79F7-4919-AB82-D5E2D77B235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C4E0A-F360-4711-BA0B-257D7A544BB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4C390-C1CC-4A31-8797-4A44ECEED3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9B1F1-0B2F-4E62-8439-847D006A3D7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62E3C-7EEF-4DB9-9817-17FA149F533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5F9FE-7D48-4DD0-ABE9-4261B68002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28B57-9504-4814-B78A-16CEEF76B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E914-4F15-4260-8B9E-DC21B58C2C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9049-3BAB-4CD5-8FDC-6781019BA4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DDF4-20E1-4B29-AF47-EBAA3833140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C73E-0215-4C96-AD22-5A4FAF21C1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26D9-34B1-4DAC-8F0F-61C2919BEF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4633-F43D-4371-8467-CF7D34E0C18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435A-C976-4183-8F79-7D25DD2D6F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DC04-597C-4F78-B8CC-4D050A1865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BD13-B5D7-4FE5-830D-301484F967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F5BB-A0C3-4F4F-97B7-DAA97F827A8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EE35-2C2A-4EEB-B83E-9D9377FF75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dynamic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Entropy and Free Energy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E36B-64D1-4EB1-BC2B-99DA6F42368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1920" y="190440"/>
            <a:ext cx="1268748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 and Reaction Direction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 - 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04F0-E7A7-408A-B776-B98E2FC8DF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A38B-3143-44E8-8AC3-D99A406311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dd2067"/>
                </a:solidFill>
                <a:latin typeface="Arial"/>
              </a:rPr>
              <a:t>Solid (If all other things were similar)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not really enough information to determ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17C4-FBFB-4499-B323-5D0C22C446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gol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1801-CA24-4CB2-BCD2-159A95D171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dd2067"/>
                </a:solidFill>
                <a:latin typeface="Arial"/>
              </a:rPr>
              <a:t>1 mole of gold, since it is solid, yet the mercury would be liquid at room temp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D489-D6C7-4931-9C28-52B7A7F55A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2C72-C969-46C6-ACEA-78E83160CE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N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 u="sng">
                <a:solidFill>
                  <a:srgbClr val="dd2067"/>
                </a:solidFill>
                <a:uFillTx/>
                <a:latin typeface="Arial"/>
              </a:rPr>
              <a:t>All else being the same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, larger molecules have higher entropy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E06B-996E-4A37-82FB-A8A3B5207E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2680" y="6781320"/>
            <a:ext cx="12687480" cy="28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nd can you name these three molecules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305F-C9C5-4A87-8828-6F3D790F1E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0" t="0" r="0" b="27440"/>
          <a:stretch/>
        </p:blipFill>
        <p:spPr>
          <a:xfrm>
            <a:off x="203040" y="2629080"/>
            <a:ext cx="12520800" cy="28317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162828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575784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1046952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F616-FA7B-4AE7-B274-64A3B2F644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02680" y="2006280"/>
            <a:ext cx="12687480" cy="76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ropane is a larger an thus has more entropy than analogous molecules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61E3-5944-46FC-BDF6-453ECC2E01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rcRect l="0" t="0" r="0" b="7908"/>
          <a:stretch/>
        </p:blipFill>
        <p:spPr>
          <a:xfrm>
            <a:off x="241200" y="4013280"/>
            <a:ext cx="12520800" cy="3593880"/>
          </a:xfrm>
          <a:prstGeom prst="rect">
            <a:avLst/>
          </a:prstGeom>
          <a:ln w="0">
            <a:noFill/>
          </a:ln>
        </p:spPr>
      </p:pic>
      <p:sp>
        <p:nvSpPr>
          <p:cNvPr id="467" name="Oval 5"/>
          <p:cNvSpPr/>
          <p:nvPr/>
        </p:nvSpPr>
        <p:spPr>
          <a:xfrm>
            <a:off x="8255160" y="3759120"/>
            <a:ext cx="4597200" cy="4102200"/>
          </a:xfrm>
          <a:prstGeom prst="ellipse">
            <a:avLst/>
          </a:prstGeom>
          <a:noFill/>
          <a:ln w="63360">
            <a:solidFill>
              <a:srgbClr val="dd20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63A5-6FE3-472D-AA40-8E6FFC8F2C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two moles of 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AD21-5E46-4150-BADC-3BE657E95BE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7840" y="25200"/>
            <a:ext cx="12687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7480" y="1307880"/>
            <a:ext cx="12649320" cy="78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very process has a preferred direction, which can be referred to as the spontaneous direction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spontaneous process can be reversed only by some action or outside forc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process can be spontaneous, yet may not occur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er behind a dam won’t flow until the gate is open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mixture of CH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will remain until spark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pontaneous in thermodynamics does not have the same meaning as in everyday spe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CE09-4B67-446A-A33A-1FE705204E2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two moles of NO</a:t>
            </a:r>
            <a:r>
              <a:rPr b="0" lang="en-US" sz="72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since these molecules are not tied together with a bon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D0AA-2786-4193-B2E6-1F2EB46B10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ºC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ED4A-7CA7-409A-B899-15A505615F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e at 0ºC (This is 273 K…a higher temp=more entropy all else being the sam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DEE0-9996-429E-853B-946B3F7EC0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2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 and 2 have the same entropy 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A6C3-4362-47B8-8D2D-F2C753A7FC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10 ml of 2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Higher concentration will have more entropy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 and 2 have the same entropy </a:t>
            </a: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36CC-6177-42DE-B199-583797087B7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3025-BB54-4222-90D4-C413D9E292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EC34-F604-4BA7-BF3A-724D99DDA68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8180-EABE-485B-A90E-69355136E3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D46E-1613-4BB2-B6A5-9689512115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F901-A30A-4BD2-9452-561D454C51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91EF-D388-4272-84AC-3D63F41B0E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salt &gt; 0  alway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water &lt; 0 sometimes (Remember how water surrounds the ions in a hydrosphere? This creates more order in the water.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12E6-99FE-4534-BEF2-E7FD43718A2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792B-D882-43F7-881E-64E07B5944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 (more than 1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Na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722E-64AC-4AF6-A547-7EF338D7BF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B76F-4554-4F17-8A62-E056B680CCD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e Common-Sense Law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gs tend to become dispers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bles will scatter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not roll back in the bag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ences fall down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piles of wood don’t assembl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igsaw puzzles disassemble easily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shaking the box never result in reassemb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ach process reduces the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on the objec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DD54-FBB6-4209-8316-6B4177FB6D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Ca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Ca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NaCl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Na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+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l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-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be unlikely that you would be asked to distinguish something like this as it is a VERY tough decision as demonstrated by next slide showing that there is very small entropy de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2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⇋ 3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00C6-29C6-45A2-AD3E-89F9B0D5EB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7808-72C6-4FE2-9804-F5101FA193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080" y="202680"/>
            <a:ext cx="12687480" cy="22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8880" y="1816200"/>
            <a:ext cx="3961440" cy="3895200"/>
            <a:chOff x="38880" y="1816200"/>
            <a:chExt cx="3961440" cy="3895200"/>
          </a:xfrm>
        </p:grpSpPr>
        <p:grpSp>
          <p:nvGrpSpPr>
            <p:cNvPr id="514" name="Group 4"/>
            <p:cNvGrpSpPr/>
            <p:nvPr/>
          </p:nvGrpSpPr>
          <p:grpSpPr>
            <a:xfrm>
              <a:off x="38880" y="1816200"/>
              <a:ext cx="3961440" cy="3895200"/>
              <a:chOff x="38880" y="1816200"/>
              <a:chExt cx="3961440" cy="3895200"/>
            </a:xfrm>
          </p:grpSpPr>
          <p:sp>
            <p:nvSpPr>
              <p:cNvPr id="515" name="Line 5"/>
              <p:cNvSpPr/>
              <p:nvPr/>
            </p:nvSpPr>
            <p:spPr>
              <a:xfrm>
                <a:off x="31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6"/>
              <p:cNvSpPr/>
              <p:nvPr/>
            </p:nvSpPr>
            <p:spPr>
              <a:xfrm>
                <a:off x="31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7"/>
              <p:cNvSpPr/>
              <p:nvPr/>
            </p:nvSpPr>
            <p:spPr>
              <a:xfrm>
                <a:off x="156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8"/>
              <p:cNvSpPr/>
              <p:nvPr/>
            </p:nvSpPr>
            <p:spPr>
              <a:xfrm>
                <a:off x="278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9"/>
              <p:cNvSpPr/>
              <p:nvPr/>
            </p:nvSpPr>
            <p:spPr>
              <a:xfrm>
                <a:off x="32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10"/>
              <p:cNvSpPr/>
              <p:nvPr/>
            </p:nvSpPr>
            <p:spPr>
              <a:xfrm>
                <a:off x="57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1"/>
              <p:cNvSpPr/>
              <p:nvPr/>
            </p:nvSpPr>
            <p:spPr>
              <a:xfrm>
                <a:off x="177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2"/>
              <p:cNvSpPr/>
              <p:nvPr/>
            </p:nvSpPr>
            <p:spPr>
              <a:xfrm>
                <a:off x="311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3"/>
              <p:cNvSpPr/>
              <p:nvPr/>
            </p:nvSpPr>
            <p:spPr>
              <a:xfrm>
                <a:off x="141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4"/>
              <p:cNvSpPr/>
              <p:nvPr/>
            </p:nvSpPr>
            <p:spPr>
              <a:xfrm>
                <a:off x="3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Line 15"/>
            <p:cNvSpPr/>
            <p:nvPr/>
          </p:nvSpPr>
          <p:spPr>
            <a:xfrm flipV="1">
              <a:off x="330120" y="2270160"/>
              <a:ext cx="3520800" cy="31017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6"/>
          <p:cNvGrpSpPr/>
          <p:nvPr/>
        </p:nvGrpSpPr>
        <p:grpSpPr>
          <a:xfrm>
            <a:off x="4063320" y="5753160"/>
            <a:ext cx="3962520" cy="3895200"/>
            <a:chOff x="4063320" y="5753160"/>
            <a:chExt cx="3962520" cy="3895200"/>
          </a:xfrm>
        </p:grpSpPr>
        <p:grpSp>
          <p:nvGrpSpPr>
            <p:cNvPr id="527" name="Group 17"/>
            <p:cNvGrpSpPr/>
            <p:nvPr/>
          </p:nvGrpSpPr>
          <p:grpSpPr>
            <a:xfrm>
              <a:off x="4063320" y="5753160"/>
              <a:ext cx="3962520" cy="3895200"/>
              <a:chOff x="4063320" y="5753160"/>
              <a:chExt cx="3962520" cy="3895200"/>
            </a:xfrm>
          </p:grpSpPr>
          <p:sp>
            <p:nvSpPr>
              <p:cNvPr id="528" name="Line 18"/>
              <p:cNvSpPr/>
              <p:nvPr/>
            </p:nvSpPr>
            <p:spPr>
              <a:xfrm>
                <a:off x="4341600" y="9321840"/>
                <a:ext cx="36810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9"/>
              <p:cNvSpPr/>
              <p:nvPr/>
            </p:nvSpPr>
            <p:spPr>
              <a:xfrm>
                <a:off x="4341600" y="5753160"/>
                <a:ext cx="121968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20"/>
              <p:cNvSpPr/>
              <p:nvPr/>
            </p:nvSpPr>
            <p:spPr>
              <a:xfrm>
                <a:off x="5586840" y="5753160"/>
                <a:ext cx="121932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21"/>
              <p:cNvSpPr/>
              <p:nvPr/>
            </p:nvSpPr>
            <p:spPr>
              <a:xfrm>
                <a:off x="6806160" y="5753160"/>
                <a:ext cx="121968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22"/>
              <p:cNvSpPr/>
              <p:nvPr/>
            </p:nvSpPr>
            <p:spPr>
              <a:xfrm>
                <a:off x="434484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3"/>
              <p:cNvSpPr/>
              <p:nvPr/>
            </p:nvSpPr>
            <p:spPr>
              <a:xfrm>
                <a:off x="459612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24"/>
              <p:cNvSpPr/>
              <p:nvPr/>
            </p:nvSpPr>
            <p:spPr>
              <a:xfrm>
                <a:off x="57963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5"/>
              <p:cNvSpPr/>
              <p:nvPr/>
            </p:nvSpPr>
            <p:spPr>
              <a:xfrm>
                <a:off x="713988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26"/>
              <p:cNvSpPr/>
              <p:nvPr/>
            </p:nvSpPr>
            <p:spPr>
              <a:xfrm>
                <a:off x="544068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27"/>
              <p:cNvSpPr/>
              <p:nvPr/>
            </p:nvSpPr>
            <p:spPr>
              <a:xfrm>
                <a:off x="406332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Line 28"/>
            <p:cNvSpPr/>
            <p:nvPr/>
          </p:nvSpPr>
          <p:spPr>
            <a:xfrm flipV="1">
              <a:off x="4354560" y="895176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9"/>
            <p:cNvSpPr/>
            <p:nvPr/>
          </p:nvSpPr>
          <p:spPr>
            <a:xfrm flipV="1">
              <a:off x="5586840" y="8248680"/>
              <a:ext cx="1214640" cy="6667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0"/>
            <p:cNvSpPr/>
            <p:nvPr/>
          </p:nvSpPr>
          <p:spPr>
            <a:xfrm flipV="1">
              <a:off x="6819480" y="6516360"/>
              <a:ext cx="1175040" cy="17002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1"/>
          <p:cNvGrpSpPr/>
          <p:nvPr/>
        </p:nvGrpSpPr>
        <p:grpSpPr>
          <a:xfrm>
            <a:off x="8228880" y="1816200"/>
            <a:ext cx="3966120" cy="3895200"/>
            <a:chOff x="8228880" y="1816200"/>
            <a:chExt cx="3966120" cy="3895200"/>
          </a:xfrm>
        </p:grpSpPr>
        <p:grpSp>
          <p:nvGrpSpPr>
            <p:cNvPr id="542" name="Group 32"/>
            <p:cNvGrpSpPr/>
            <p:nvPr/>
          </p:nvGrpSpPr>
          <p:grpSpPr>
            <a:xfrm>
              <a:off x="8228880" y="1816200"/>
              <a:ext cx="3961440" cy="3895200"/>
              <a:chOff x="8228880" y="1816200"/>
              <a:chExt cx="3961440" cy="3895200"/>
            </a:xfrm>
          </p:grpSpPr>
          <p:sp>
            <p:nvSpPr>
              <p:cNvPr id="543" name="Line 33"/>
              <p:cNvSpPr/>
              <p:nvPr/>
            </p:nvSpPr>
            <p:spPr>
              <a:xfrm>
                <a:off x="850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4"/>
              <p:cNvSpPr/>
              <p:nvPr/>
            </p:nvSpPr>
            <p:spPr>
              <a:xfrm>
                <a:off x="850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5"/>
              <p:cNvSpPr/>
              <p:nvPr/>
            </p:nvSpPr>
            <p:spPr>
              <a:xfrm>
                <a:off x="975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6"/>
              <p:cNvSpPr/>
              <p:nvPr/>
            </p:nvSpPr>
            <p:spPr>
              <a:xfrm>
                <a:off x="1097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7"/>
              <p:cNvSpPr/>
              <p:nvPr/>
            </p:nvSpPr>
            <p:spPr>
              <a:xfrm>
                <a:off x="851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8"/>
              <p:cNvSpPr/>
              <p:nvPr/>
            </p:nvSpPr>
            <p:spPr>
              <a:xfrm>
                <a:off x="876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9"/>
              <p:cNvSpPr/>
              <p:nvPr/>
            </p:nvSpPr>
            <p:spPr>
              <a:xfrm>
                <a:off x="996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40"/>
              <p:cNvSpPr/>
              <p:nvPr/>
            </p:nvSpPr>
            <p:spPr>
              <a:xfrm>
                <a:off x="1130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41"/>
              <p:cNvSpPr/>
              <p:nvPr/>
            </p:nvSpPr>
            <p:spPr>
              <a:xfrm>
                <a:off x="960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42"/>
              <p:cNvSpPr/>
              <p:nvPr/>
            </p:nvSpPr>
            <p:spPr>
              <a:xfrm>
                <a:off x="822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Line 43"/>
            <p:cNvSpPr/>
            <p:nvPr/>
          </p:nvSpPr>
          <p:spPr>
            <a:xfrm flipV="1">
              <a:off x="8532720" y="51447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44"/>
            <p:cNvSpPr/>
            <p:nvPr/>
          </p:nvSpPr>
          <p:spPr>
            <a:xfrm flipV="1">
              <a:off x="9752040" y="458640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45"/>
            <p:cNvSpPr/>
            <p:nvPr/>
          </p:nvSpPr>
          <p:spPr>
            <a:xfrm flipV="1">
              <a:off x="10971000" y="284652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6"/>
            <p:cNvSpPr/>
            <p:nvPr/>
          </p:nvSpPr>
          <p:spPr>
            <a:xfrm flipH="1" flipV="1">
              <a:off x="10949040" y="2873520"/>
              <a:ext cx="9360" cy="16984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47"/>
            <p:cNvSpPr/>
            <p:nvPr/>
          </p:nvSpPr>
          <p:spPr>
            <a:xfrm flipV="1">
              <a:off x="9738360" y="4622760"/>
              <a:ext cx="180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48"/>
          <p:cNvGrpSpPr/>
          <p:nvPr/>
        </p:nvGrpSpPr>
        <p:grpSpPr>
          <a:xfrm>
            <a:off x="4050720" y="1816200"/>
            <a:ext cx="3962520" cy="3895200"/>
            <a:chOff x="4050720" y="1816200"/>
            <a:chExt cx="3962520" cy="3895200"/>
          </a:xfrm>
        </p:grpSpPr>
        <p:grpSp>
          <p:nvGrpSpPr>
            <p:cNvPr id="559" name="Group 49"/>
            <p:cNvGrpSpPr/>
            <p:nvPr/>
          </p:nvGrpSpPr>
          <p:grpSpPr>
            <a:xfrm>
              <a:off x="4050720" y="1816200"/>
              <a:ext cx="3962160" cy="3895200"/>
              <a:chOff x="4050720" y="1816200"/>
              <a:chExt cx="3962160" cy="3895200"/>
            </a:xfrm>
          </p:grpSpPr>
          <p:sp>
            <p:nvSpPr>
              <p:cNvPr id="560" name="Line 50"/>
              <p:cNvSpPr/>
              <p:nvPr/>
            </p:nvSpPr>
            <p:spPr>
              <a:xfrm>
                <a:off x="4329000" y="5384880"/>
                <a:ext cx="36806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51"/>
              <p:cNvSpPr/>
              <p:nvPr/>
            </p:nvSpPr>
            <p:spPr>
              <a:xfrm>
                <a:off x="432900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52"/>
              <p:cNvSpPr/>
              <p:nvPr/>
            </p:nvSpPr>
            <p:spPr>
              <a:xfrm>
                <a:off x="55742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53"/>
              <p:cNvSpPr/>
              <p:nvPr/>
            </p:nvSpPr>
            <p:spPr>
              <a:xfrm>
                <a:off x="679356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54"/>
              <p:cNvSpPr/>
              <p:nvPr/>
            </p:nvSpPr>
            <p:spPr>
              <a:xfrm>
                <a:off x="433224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55"/>
              <p:cNvSpPr/>
              <p:nvPr/>
            </p:nvSpPr>
            <p:spPr>
              <a:xfrm>
                <a:off x="458352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56"/>
              <p:cNvSpPr/>
              <p:nvPr/>
            </p:nvSpPr>
            <p:spPr>
              <a:xfrm>
                <a:off x="57837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57"/>
              <p:cNvSpPr/>
              <p:nvPr/>
            </p:nvSpPr>
            <p:spPr>
              <a:xfrm>
                <a:off x="712692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58"/>
              <p:cNvSpPr/>
              <p:nvPr/>
            </p:nvSpPr>
            <p:spPr>
              <a:xfrm>
                <a:off x="542808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59"/>
              <p:cNvSpPr/>
              <p:nvPr/>
            </p:nvSpPr>
            <p:spPr>
              <a:xfrm>
                <a:off x="405072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Line 60"/>
            <p:cNvSpPr/>
            <p:nvPr/>
          </p:nvSpPr>
          <p:spPr>
            <a:xfrm flipV="1">
              <a:off x="4341960" y="501480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61"/>
            <p:cNvSpPr/>
            <p:nvPr/>
          </p:nvSpPr>
          <p:spPr>
            <a:xfrm flipV="1">
              <a:off x="5574240" y="4001760"/>
              <a:ext cx="124632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62"/>
            <p:cNvSpPr/>
            <p:nvPr/>
          </p:nvSpPr>
          <p:spPr>
            <a:xfrm flipV="1">
              <a:off x="6793560" y="1974600"/>
              <a:ext cx="121968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63"/>
            <p:cNvSpPr/>
            <p:nvPr/>
          </p:nvSpPr>
          <p:spPr>
            <a:xfrm flipH="1" flipV="1">
              <a:off x="6771600" y="2720520"/>
              <a:ext cx="9360" cy="126684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4"/>
            <p:cNvSpPr/>
            <p:nvPr/>
          </p:nvSpPr>
          <p:spPr>
            <a:xfrm flipV="1">
              <a:off x="5574240" y="447048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5"/>
          <p:cNvGrpSpPr/>
          <p:nvPr/>
        </p:nvGrpSpPr>
        <p:grpSpPr>
          <a:xfrm>
            <a:off x="8228880" y="5753160"/>
            <a:ext cx="3966120" cy="3895200"/>
            <a:chOff x="8228880" y="5753160"/>
            <a:chExt cx="3966120" cy="3895200"/>
          </a:xfrm>
        </p:grpSpPr>
        <p:grpSp>
          <p:nvGrpSpPr>
            <p:cNvPr id="576" name="Group 66"/>
            <p:cNvGrpSpPr/>
            <p:nvPr/>
          </p:nvGrpSpPr>
          <p:grpSpPr>
            <a:xfrm>
              <a:off x="8228880" y="5753160"/>
              <a:ext cx="3961440" cy="3895200"/>
              <a:chOff x="8228880" y="5753160"/>
              <a:chExt cx="3961440" cy="3895200"/>
            </a:xfrm>
          </p:grpSpPr>
          <p:sp>
            <p:nvSpPr>
              <p:cNvPr id="577" name="Line 67"/>
              <p:cNvSpPr/>
              <p:nvPr/>
            </p:nvSpPr>
            <p:spPr>
              <a:xfrm>
                <a:off x="85071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68"/>
              <p:cNvSpPr/>
              <p:nvPr/>
            </p:nvSpPr>
            <p:spPr>
              <a:xfrm>
                <a:off x="85071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69"/>
              <p:cNvSpPr/>
              <p:nvPr/>
            </p:nvSpPr>
            <p:spPr>
              <a:xfrm>
                <a:off x="97520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70"/>
              <p:cNvSpPr/>
              <p:nvPr/>
            </p:nvSpPr>
            <p:spPr>
              <a:xfrm>
                <a:off x="109710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71"/>
              <p:cNvSpPr/>
              <p:nvPr/>
            </p:nvSpPr>
            <p:spPr>
              <a:xfrm>
                <a:off x="85104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72"/>
              <p:cNvSpPr/>
              <p:nvPr/>
            </p:nvSpPr>
            <p:spPr>
              <a:xfrm>
                <a:off x="87616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73"/>
              <p:cNvSpPr/>
              <p:nvPr/>
            </p:nvSpPr>
            <p:spPr>
              <a:xfrm>
                <a:off x="99615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74"/>
              <p:cNvSpPr/>
              <p:nvPr/>
            </p:nvSpPr>
            <p:spPr>
              <a:xfrm>
                <a:off x="113043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75"/>
              <p:cNvSpPr/>
              <p:nvPr/>
            </p:nvSpPr>
            <p:spPr>
              <a:xfrm>
                <a:off x="96055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76"/>
              <p:cNvSpPr/>
              <p:nvPr/>
            </p:nvSpPr>
            <p:spPr>
              <a:xfrm>
                <a:off x="82288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Line 77"/>
            <p:cNvSpPr/>
            <p:nvPr/>
          </p:nvSpPr>
          <p:spPr>
            <a:xfrm flipV="1">
              <a:off x="8532720" y="908172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78"/>
            <p:cNvSpPr/>
            <p:nvPr/>
          </p:nvSpPr>
          <p:spPr>
            <a:xfrm flipV="1">
              <a:off x="9752040" y="78879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79"/>
            <p:cNvSpPr/>
            <p:nvPr/>
          </p:nvSpPr>
          <p:spPr>
            <a:xfrm flipV="1">
              <a:off x="10971000" y="668124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80"/>
            <p:cNvSpPr/>
            <p:nvPr/>
          </p:nvSpPr>
          <p:spPr>
            <a:xfrm flipH="1" flipV="1">
              <a:off x="9736200" y="787356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81"/>
            <p:cNvSpPr/>
            <p:nvPr/>
          </p:nvSpPr>
          <p:spPr>
            <a:xfrm flipH="1" flipV="1">
              <a:off x="10968120" y="666720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Rectangle 82"/>
          <p:cNvSpPr/>
          <p:nvPr/>
        </p:nvSpPr>
        <p:spPr>
          <a:xfrm>
            <a:off x="197100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3"/>
          <p:cNvSpPr/>
          <p:nvPr/>
        </p:nvSpPr>
        <p:spPr>
          <a:xfrm>
            <a:off x="599688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4"/>
          <p:cNvSpPr/>
          <p:nvPr/>
        </p:nvSpPr>
        <p:spPr>
          <a:xfrm>
            <a:off x="1016244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5"/>
          <p:cNvSpPr/>
          <p:nvPr/>
        </p:nvSpPr>
        <p:spPr>
          <a:xfrm>
            <a:off x="607320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6"/>
          <p:cNvSpPr/>
          <p:nvPr/>
        </p:nvSpPr>
        <p:spPr>
          <a:xfrm>
            <a:off x="1023876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87"/>
          <p:cNvGrpSpPr/>
          <p:nvPr/>
        </p:nvGrpSpPr>
        <p:grpSpPr>
          <a:xfrm>
            <a:off x="26280" y="5753160"/>
            <a:ext cx="3961440" cy="3895200"/>
            <a:chOff x="26280" y="5753160"/>
            <a:chExt cx="3961440" cy="3895200"/>
          </a:xfrm>
        </p:grpSpPr>
        <p:grpSp>
          <p:nvGrpSpPr>
            <p:cNvPr id="598" name="Group 88"/>
            <p:cNvGrpSpPr/>
            <p:nvPr/>
          </p:nvGrpSpPr>
          <p:grpSpPr>
            <a:xfrm>
              <a:off x="26280" y="5753160"/>
              <a:ext cx="3961440" cy="3895200"/>
              <a:chOff x="26280" y="5753160"/>
              <a:chExt cx="3961440" cy="3895200"/>
            </a:xfrm>
          </p:grpSpPr>
          <p:sp>
            <p:nvSpPr>
              <p:cNvPr id="599" name="Line 89"/>
              <p:cNvSpPr/>
              <p:nvPr/>
            </p:nvSpPr>
            <p:spPr>
              <a:xfrm>
                <a:off x="3045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90"/>
              <p:cNvSpPr/>
              <p:nvPr/>
            </p:nvSpPr>
            <p:spPr>
              <a:xfrm>
                <a:off x="3045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91"/>
              <p:cNvSpPr/>
              <p:nvPr/>
            </p:nvSpPr>
            <p:spPr>
              <a:xfrm>
                <a:off x="15494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92"/>
              <p:cNvSpPr/>
              <p:nvPr/>
            </p:nvSpPr>
            <p:spPr>
              <a:xfrm>
                <a:off x="27684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93"/>
              <p:cNvSpPr/>
              <p:nvPr/>
            </p:nvSpPr>
            <p:spPr>
              <a:xfrm>
                <a:off x="3078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94"/>
              <p:cNvSpPr/>
              <p:nvPr/>
            </p:nvSpPr>
            <p:spPr>
              <a:xfrm>
                <a:off x="5590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95"/>
              <p:cNvSpPr/>
              <p:nvPr/>
            </p:nvSpPr>
            <p:spPr>
              <a:xfrm>
                <a:off x="17589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96"/>
              <p:cNvSpPr/>
              <p:nvPr/>
            </p:nvSpPr>
            <p:spPr>
              <a:xfrm>
                <a:off x="31017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97"/>
              <p:cNvSpPr/>
              <p:nvPr/>
            </p:nvSpPr>
            <p:spPr>
              <a:xfrm>
                <a:off x="14029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98"/>
              <p:cNvSpPr/>
              <p:nvPr/>
            </p:nvSpPr>
            <p:spPr>
              <a:xfrm>
                <a:off x="262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Line 99"/>
            <p:cNvSpPr/>
            <p:nvPr/>
          </p:nvSpPr>
          <p:spPr>
            <a:xfrm>
              <a:off x="322200" y="8902800"/>
              <a:ext cx="121608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0"/>
            <p:cNvSpPr/>
            <p:nvPr/>
          </p:nvSpPr>
          <p:spPr>
            <a:xfrm flipV="1">
              <a:off x="1548720" y="7938720"/>
              <a:ext cx="124596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1"/>
            <p:cNvSpPr/>
            <p:nvPr/>
          </p:nvSpPr>
          <p:spPr>
            <a:xfrm flipV="1">
              <a:off x="2767680" y="5911560"/>
              <a:ext cx="121932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02"/>
            <p:cNvSpPr/>
            <p:nvPr/>
          </p:nvSpPr>
          <p:spPr>
            <a:xfrm flipH="1" flipV="1">
              <a:off x="2746440" y="6657480"/>
              <a:ext cx="9360" cy="126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03"/>
            <p:cNvSpPr/>
            <p:nvPr/>
          </p:nvSpPr>
          <p:spPr>
            <a:xfrm flipV="1">
              <a:off x="1549440" y="840744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Rectangle 104"/>
          <p:cNvSpPr/>
          <p:nvPr/>
        </p:nvSpPr>
        <p:spPr>
          <a:xfrm>
            <a:off x="1971000" y="687420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E9CF-439C-4F08-B4D1-FFC318C543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03040" y="2629080"/>
            <a:ext cx="6591600" cy="69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ntropy increase as temperature increases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t phase changes, temperature stays the same (remember!) but the disorder will continue to increase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"/>
          <p:cNvPicPr/>
          <p:nvPr/>
        </p:nvPicPr>
        <p:blipFill>
          <a:blip r:embed="rId1"/>
          <a:srcRect l="0" t="0" r="0" b="4244"/>
          <a:stretch/>
        </p:blipFill>
        <p:spPr>
          <a:xfrm>
            <a:off x="6969240" y="2082960"/>
            <a:ext cx="5921280" cy="51814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13B0-6A3D-4213-8922-8FD20F2295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4FDF-3589-4A02-8646-AE32F03E19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ter at room temperature decomposes into gaseous 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01D1-8F37-4FF9-A195-AB97A73C80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B763-1CF7-4E0C-9A1A-0E44E309FB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Water at room temperature decomposes into gaseous H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 and O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1001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61b0"/>
                </a:solidFill>
                <a:latin typeface="Arial"/>
              </a:rPr>
              <a:t># 3 is at equilibrium, ∆G = 0, below 80.1º it would be spontaneous, above 80.1ºC is not spontaneo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6AE1-155F-427C-B6C2-0BCAAE652B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2E93-7DA1-4352-84EA-5B6381EE871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1920" y="190080"/>
            <a:ext cx="1268748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</a:t>
            </a:r>
            <a:br>
              <a:rPr sz="7400"/>
            </a:br>
            <a:r>
              <a:rPr b="0" lang="en-US" sz="6600" spc="-1" strike="noStrike">
                <a:solidFill>
                  <a:srgbClr val="00007d"/>
                </a:solidFill>
                <a:latin typeface="Arial"/>
              </a:rPr>
              <a:t>as related to Reaction Direction</a:t>
            </a:r>
            <a:endParaRPr b="0" lang="en-US" sz="6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CD2C-0B50-49AA-824E-46E933F00DE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wo Forces Drive Reaction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 entrop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 increase (+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w energ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 decrease (-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8DC8-5BB9-4755-BEC8-220D29F63A8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7400" spc="-1" strike="noStrike" baseline="32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54160" y="1473120"/>
            <a:ext cx="1264896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om the second law of thermodynamics, we know that the entropy of the universe is always increasing. For every process and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20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t it is not always easy or practical to calculate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because it is difficult to know all of the entropy changes to the surroundings (universe),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D8EE-F68B-48B0-87B7-1AD091A2DB5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7d"/>
                </a:solidFill>
                <a:latin typeface="Arial"/>
              </a:rPr>
              <a:t>So how can we predict spontaneity?</a:t>
            </a:r>
            <a:endParaRPr b="0" lang="en-US" sz="6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ibbs Free Energy (G) combines the two driving forces into one relationshi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aximum useful work that can be done by a system on its surroundings in a spontaneous process occurring at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constant temp and pressur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= ∆H - T∆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though the restriction of constant T and P are stringent, they do apply to many important chemical process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iological processes in the bo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boratory or industrially controlled proc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4DA9-131D-4FCC-9525-0698E1E8E61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7d"/>
                </a:solidFill>
                <a:latin typeface="Arial"/>
              </a:rPr>
              <a:t>The Common-Sense Law applies at the molecular level as well. </a:t>
            </a:r>
            <a:endParaRPr b="0" lang="en-US" sz="6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7480" y="2552760"/>
            <a:ext cx="12649320" cy="70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lt disso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ases disp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7478640" y="2349360"/>
            <a:ext cx="4954680" cy="4330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rcRect l="0" t="0" r="0" b="11224"/>
          <a:stretch/>
        </p:blipFill>
        <p:spPr>
          <a:xfrm>
            <a:off x="579600" y="6934320"/>
            <a:ext cx="11437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AB77-A8A5-4F1E-BC2B-E132869B0F7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G = ∆H - T∆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lt; 0 , a reaction will proceed in the forward direction and is considered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= 0, a reaction will be at equilibrium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gt; 0, a reaction will not proceed in forward direction and is considered not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9B9F-5CE4-4978-99CE-7464EF8B688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0840" y="19008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7d"/>
                </a:solidFill>
                <a:latin typeface="Arial"/>
              </a:rPr>
              <a:t>Using ∆Gº</a:t>
            </a:r>
            <a:endParaRPr b="0" lang="en-US" sz="6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40840" y="1320840"/>
            <a:ext cx="12649320" cy="82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tandard condi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at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M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e ∆Gº values in the table are reported for temperatures at 25º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values have been established for a great many substances making the ∆G calculation below convenient at 1M or 1atm at 25ºC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Rx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=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prod -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rea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B32B-9DF3-4F2B-9539-CE66E5418F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02680" y="5625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81EF-A8C9-415E-939C-F07C38B89E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F254-7700-4468-AEFE-54A0A8B37D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02680" y="4330440"/>
            <a:ext cx="1268748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Yes, at approximately 632 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H=+74kJ, ∆S=117J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G = ∆H - T∆S, since ∆G&gt;0 is not spontaneous and ∆G&lt;0 is spontaneous, when ∆G=0 the spontaneity “switches”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0 = 74kJ - T(0.117kJ)  solve T = 632 K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5318-B9A7-4803-8DE6-DC7B8747B0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3820-86CA-4340-8C98-172E22405E8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298 K this reaction is not spontaneous and at temps above 632 K the reaction becomes spontaneous. What occurs AT 632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17520" y="5753160"/>
            <a:ext cx="1268712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is at equilibrium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52C2-BDE2-48B1-B014-3F84AA1388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0274-21B5-4892-B956-3659F8D6EDD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standard conditions this reaction is not spontaneous and at temps above 633 K the reaction becomes spontaneous. What occurs AT 633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02680" y="5118120"/>
            <a:ext cx="1268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The reaction is at equilibrium, since ∆G =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7531-1B48-4D0E-B898-27654E4645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CC0D-121B-4CED-A430-9C0117CCC0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 don’t know, and I would just be guessing or following my neighbors, but I don’t really know how to analytically think through to an answ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CD93-379A-4B71-855F-CA1ECF44CC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489A-DE98-4DC4-8D07-FD913DA69C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d2067"/>
                </a:solidFill>
                <a:latin typeface="Arial"/>
              </a:rPr>
              <a:t>no, remember: ∆G = ∆H - T∆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When ∆H is +, and ∆S is -, no temperature will ever make the reaction spontaneou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f ∆H is - and ∆S is -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ncreasing the T value will make ∆G more +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decreasing the T would make the less + and the temp may not be able to be lowered enough to turn it spontaneous. (Remember that there is a lower limit to temperature values, absolute zero.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C472-B1B4-43C0-9BCB-80D03521CF2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7295-F3BE-46C1-A650-8CE5653559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35E4-2A61-41AF-BB46-C08D623CCB2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05B4-4A54-4C20-B8C1-73ED1C39CC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21600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133200" y="2879640"/>
            <a:ext cx="5905800" cy="615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6337440" y="2882880"/>
            <a:ext cx="5959440" cy="6147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440064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1013940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7322-A9DB-4C5E-93EE-D4EF0E730D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2680" y="3784680"/>
            <a:ext cx="6007320" cy="58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S—gas to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H—the gas is condensing (giving off heat NOT taking it 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324480" y="3936960"/>
          <a:ext cx="654228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92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AEA7-290D-417B-B1AD-72B9FFDEA9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02680" y="203040"/>
            <a:ext cx="1268748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02680" y="3796920"/>
            <a:ext cx="12687480" cy="58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3129-F106-45D7-BB0F-B13B5B2E0DD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5610-9049-4A44-ADDE-49471D7D84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02680" y="2793960"/>
            <a:ext cx="12687480" cy="68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that if the reaction proceeds (spontaneous) it must have a negative ∆G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45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&gt;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at standard conditions of 1 atm, 1M K would always = 1, so if the reaction proceeds K will end up greater than 1 since as the reaction proceeds products will increase and reactants will decrease resulting in K larger than 1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D43B-4FAE-421A-BB65-3F16D9A1F1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D2D7-1EE3-415C-B65C-3BDA3D2A2F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ubmit your answer rounded to the nearest whole numb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4FBA-3C3D-48C1-8640-388A785768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898B-B5C8-48A9-A912-6EA491F4F9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25 kJ/m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2DE2-B258-458B-AA3C-F67467A6AA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95DD-FABF-4F7E-B121-B4B3111E5F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02680" y="3733560"/>
            <a:ext cx="12687480" cy="58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10E8-9169-493D-BF93-1F78E5665E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05F9-3893-48AE-A634-DB8711A714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02680" y="2476440"/>
            <a:ext cx="12687480" cy="71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4920" indent="-6649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 &l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Since we know that the solution cools, we know that ∆H is positive, and since that is unfavorable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lthough it is completely counter intuitive, the driving force for this reaction </a:t>
            </a:r>
            <a:r>
              <a:rPr b="0" i="1" lang="en-US" sz="3500" spc="-1" strike="noStrike">
                <a:solidFill>
                  <a:srgbClr val="2961b0"/>
                </a:solidFill>
                <a:latin typeface="Arial"/>
              </a:rPr>
              <a:t>must</a:t>
            </a: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 be an increase in entropy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nd for the reaction to be spontaneous (∆G&lt;0), the |T∆S| factor must be larger than the |∆H| factor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EDA3-66A5-4AAD-B686-98127777C3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1F77-DF4D-4C0E-9E00-A0A502491E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080B-B3B9-4A49-B14D-99B838CD48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6E2D-6FC2-43A2-843F-9786C4D3AE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3DFA-02B1-40F1-9EFC-B7FD850451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DB7D-61C9-450D-942C-D5C7578B9CB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→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BFE5-54C7-4ED0-BD3E-32AA832B268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F62C-B93B-4139-8EF5-A914BC2267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02680" y="2082600"/>
            <a:ext cx="12687480" cy="75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Both are,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yet #1 is endothermic and #2 is exothermic. (Notice the settings—table and freezer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s means that analyzing just energy changes is not enough to determine when a process will be spontaneou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FA93-0956-4B32-A882-8B01273AAE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3987720" y="54864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559720" y="556272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31561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74977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79FD-18C3-4FB2-A15A-C837208F66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--&gt;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905040" indent="-905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G, ∆H, and ∆S are all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at 298 K, not spontaneous means G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when ∆S is positive, the |T∆S| factor will increase at higher temperatures and since the equation is, -T∆S, at some temp the T∆S factor will be greater than the ∆H and the value of ∆G will become  nega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1080-38A7-427C-98AA-1A9D2F92C61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7CB9-3021-4DC9-B51C-1E559E41CE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xidation of a met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8625-1050-4D71-A13D-AF136E1539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Oxidation of a meta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24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oxidation will often produce a solid metal oxide which will have more order than a pure metal and the oxygen g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2836-049B-4436-82B7-B35CC9DA4B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V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9EF6-3E2D-4F35-8790-A902C9ED47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V &lt; 0—V is for volume, which decrases when a gas forms into a liqu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A3F8-AD6C-4706-802D-724294BA51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02680" y="190080"/>
            <a:ext cx="12687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  ∆H = -97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02680" y="4876920"/>
            <a:ext cx="12687480" cy="47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pends on other factors, and cannot be determined with the information give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89C5-10CD-44E0-B769-EEAC2DA3EA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3EDE-8749-4699-82C8-CC43A2DB79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02680" y="127080"/>
            <a:ext cx="1268748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      ∆H = -97kJ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3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02680" y="2603160"/>
            <a:ext cx="1268748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850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Produc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Because the reaction is exothermic, the product bonds must release more energy when formed than the reactant bonds require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3. depends on other factors, and cannot be determined with the information given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CAD2-31CE-4370-B7C0-7C757A23A8C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035-324A-49DD-B815-3A7A6DE2B92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DA89-6C2C-4855-A84E-88972C59DE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4FA0-8BEF-43D1-8D30-FFF2D81DD9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254160" y="2629080"/>
          <a:ext cx="12496680" cy="593388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000"/>
                <a:gridCol w="5662800"/>
              </a:tblGrid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25F1-FE37-48F2-8D26-269F6FBC585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Opposing Dispersal Trend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02680" y="1510920"/>
            <a:ext cx="12687480" cy="8102520"/>
          </a:xfrm>
          <a:prstGeom prst="rect">
            <a:avLst/>
          </a:prstGeom>
          <a:noFill/>
          <a:ln w="0">
            <a:noFill/>
          </a:ln>
        </p:spPr>
        <p:txBody>
          <a:bodyPr lIns="0" rIns="417744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zing water leads to more ordered matter and seems like a violation of the common-sense la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eans that analyzing just change in disorder is not enough to determine when a process will be spontaneo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what should we consid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8788320" y="13716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810640" y="562140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1194264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959A-C3C5-40F0-8961-EF3F640B73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368280" y="2527200"/>
          <a:ext cx="12496680" cy="593424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360"/>
                <a:gridCol w="5662440"/>
              </a:tblGrid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8012-7378-45A4-A3D8-8C10A7EFBF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4160" y="254160"/>
            <a:ext cx="126871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2790-9B46-4979-85E4-5351BC5722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05EC-2F79-40B4-A1C4-FCDAEBD991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9D5B-4A75-4E2C-9E58-BC7C91D738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7EB4-3B17-43BF-9B02-D3B98D4F20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(Select as many as apply.)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D5C1-BB5F-41FA-8749-D11E67F07F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7919-87FF-4D8F-8F80-3D285AAA16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C761-60E6-4A6C-A23D-5D92F033D1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752F-BC14-4B86-BDD2-195973D28D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1ED1-F6C0-4C48-B577-118AF2B6CC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D9FD-572E-4BB6-BC0D-90F9B5616B5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(must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479B-5014-48D0-A001-BE02ABF329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2C8F-03B5-4D12-B950-0AC82771C1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alculating ∆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9DAF-9967-4687-AEC7-B7B3C517ED9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Boiling and Melting Point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a substance is at its boiling or melting temperature it is at equilib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at equilibrium ∆G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nce ∆G = ∆Hº - T∆S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∆Sº = ∆H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the ∆S of melting or boiling = ∆H/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is how entropy of some substances can be calcula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6E1D-FA3C-4A79-A369-83967FAAA5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02680" y="3403080"/>
            <a:ext cx="12687480" cy="62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3DA1-1EED-466C-92B8-B788F9C2F5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4"/>
          <p:cNvGrpSpPr/>
          <p:nvPr/>
        </p:nvGrpSpPr>
        <p:grpSpPr>
          <a:xfrm>
            <a:off x="3124080" y="6010560"/>
            <a:ext cx="1184400" cy="1212120"/>
            <a:chOff x="3124080" y="6010560"/>
            <a:chExt cx="1184400" cy="1212120"/>
          </a:xfrm>
        </p:grpSpPr>
        <p:sp>
          <p:nvSpPr>
            <p:cNvPr id="793" name="Rectangle 5"/>
            <p:cNvSpPr/>
            <p:nvPr/>
          </p:nvSpPr>
          <p:spPr>
            <a:xfrm>
              <a:off x="326448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6"/>
            <p:cNvSpPr/>
            <p:nvPr/>
          </p:nvSpPr>
          <p:spPr>
            <a:xfrm>
              <a:off x="327384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V="1">
              <a:off x="312408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797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B08A-B411-4581-9859-98DB7826B3A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Entropy, (S) is a measure of dispersal - dispersal of matter </a:t>
            </a:r>
            <a:r>
              <a:rPr b="0" i="1" lang="en-US" sz="4800" spc="-1" strike="noStrike">
                <a:solidFill>
                  <a:srgbClr val="00007d"/>
                </a:solidFill>
                <a:latin typeface="Arial"/>
              </a:rPr>
              <a:t>and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dispersal of energy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0080" y="1765080"/>
            <a:ext cx="12649320" cy="78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In 1877 Ludwig Boltzman defined the entropy of a substance as the number of ways to describe a system, “degrees of freedom”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8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member the First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nergy is never lost or gained, only change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= 0 (always)       ∆E = q + w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1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In any spontaneous process, the total entropy increases. 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B665-9C73-47B8-892A-25696D5BD0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17520" y="3543480"/>
            <a:ext cx="12687120" cy="62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dd2067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 =         ice melts at 0 C (273 K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951C-40C2-4863-BF8E-3C40DF9057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4"/>
          <p:cNvGrpSpPr/>
          <p:nvPr/>
        </p:nvGrpSpPr>
        <p:grpSpPr>
          <a:xfrm>
            <a:off x="3284640" y="6010560"/>
            <a:ext cx="1184400" cy="1212120"/>
            <a:chOff x="3284640" y="6010560"/>
            <a:chExt cx="1184400" cy="1212120"/>
          </a:xfrm>
        </p:grpSpPr>
        <p:sp>
          <p:nvSpPr>
            <p:cNvPr id="805" name="Rectangle 5"/>
            <p:cNvSpPr/>
            <p:nvPr/>
          </p:nvSpPr>
          <p:spPr>
            <a:xfrm>
              <a:off x="342504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"/>
            <p:cNvSpPr/>
            <p:nvPr/>
          </p:nvSpPr>
          <p:spPr>
            <a:xfrm>
              <a:off x="343440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7"/>
            <p:cNvSpPr/>
            <p:nvPr/>
          </p:nvSpPr>
          <p:spPr>
            <a:xfrm flipV="1">
              <a:off x="328464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809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8877-419D-413D-943A-B207A527789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ird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Third law of Thermodynam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pure, perfect crystal at 0 K has zero entrop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800" spc="-1" strike="noStrike" baseline="-6000">
                <a:solidFill>
                  <a:srgbClr val="000000"/>
                </a:solidFill>
                <a:latin typeface="Arial"/>
              </a:rPr>
              <a:t>(pure, perfect crystal; T=0K)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akes it possible to measure the absolute entropy of any substance at any temperat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e that unlike ∆Hº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Sº values are never zero at any temperature above 0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9:01Z</dcterms:modified>
  <cp:revision>34</cp:revision>
  <dc:subject/>
  <dc:title>Thermodynamics</dc:title>
</cp:coreProperties>
</file>