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k why line slopes up during temp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the length of line during phase changes - L&gt;G is greater than S&gt;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slope of line during each phase? I am not sure why gas is steeper sl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D44F-2B43-43D3-B28F-A3ED80E53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82EC-BE7F-4438-B486-BAC70BACCB6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5E22-E98C-4B29-BE86-37EE4EE989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42F2-0E47-4DAA-BAD8-DAF97991EF3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7EF3-36E8-498A-AB7B-E639896018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F065-A531-4ABE-AFA7-22E551B24D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BF8F-D03F-432C-9728-02CE44BFB3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7C7B-C7EF-4F1E-8977-FFBEB73E06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C03B-40A4-4117-9F02-EF07AEB6BD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8C76-8C6C-4763-AB60-6247D18A69E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8C57-3409-40BB-9A9F-D01EF43820A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8B17F-C8D1-4568-88FB-E1C04B318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E874-B647-41A0-9CDF-DFF4030FDE6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DB816-1917-4AB7-99EA-1380C511228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7EE25-56B7-4B76-9F81-F6FF8571D1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82BFA-719F-4E1E-916C-A7A467B04E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88595-97B1-45F0-8FB5-B993B101B0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5BED50-078A-4E5C-92E6-365CA96EAC4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801B4-88BC-478E-9696-CE0D86F874A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667A5-985F-44BD-8D03-2DD7B55736D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4933A1-B880-4B50-81D7-059B7936C94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AC7C4-D28B-497B-B3F7-86B1BAEBBD7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4EFBB-E485-4A0B-B6B9-C559D7071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8F59-DFDB-483F-9803-4E6E8069973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B99E2-720C-46FD-AE49-EA3F27868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CCC2-1FF4-486B-92B6-115E33CAC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AED8-026A-496A-AC93-AFC70A8E12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F17A-4C8F-44B9-83FF-675EEA8FED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7631-D70E-4306-9F7C-D62117FE13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63C3-9FA9-47CE-8279-DC26907830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2480-B90C-4CFA-8420-491F52B2FD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4B77-ADD8-4787-A1C7-97C7B08D3B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14D8-DA16-41C2-B57E-7B3E31A25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3A6E-207C-4103-9330-93BC51D758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CE75-C5F7-4192-85F6-6B2CF8F1C6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C487-9139-4A10-97FF-61D14813CD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7B71F-8313-4AE0-9681-376D0FD650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0387-04D6-426A-A40F-F8AD18533D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D29-CDE1-4E45-9A98-0ECEA24ED1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D73-9311-4713-99FB-3696D4BC63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A6C-40BA-4179-B5A2-7A2946FC31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809-D336-47AD-AB38-BC28460497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A61-5025-4974-A043-50BE99D42B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6756-9F0A-440C-AD1E-A1086B72E5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5AC-A3E7-46EC-AD92-8A37D1BD54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573-3BF2-486F-BBDA-917D078170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0AF-4CCC-441A-A897-F20F4E4FA0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E39-F02C-4002-B96E-966B4DDE4D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AB1-7ADF-4D44-9680-4B90F2BDB2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FEC-6810-4FEC-93CA-AF16E6A374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63A-29AD-4052-893B-245A787458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138C5-F4C2-45B6-84D1-544F9FDAA3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CE3E8-3700-406A-A35A-9857BEE4B0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B9353-2E11-4820-8C59-C4231ED7C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5307-B60F-4956-9791-59BEE67FAE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19333-DECB-42FD-8D65-BFFF3E05B5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AE6C8-4F71-45D3-BA80-07CB280252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BA988-3E4B-4AA3-A9EC-338F12E3FB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13314-BDD6-4B44-8591-E0947EA920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FF0B5-144B-4428-93BC-F3BF4661E4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A85E7-307C-4691-A404-DC9670396A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73B86-ECAE-411A-9CE0-2BA7B7991E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17743-3BE0-404E-AB97-62FA2CC186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EEEFE-D074-4EE0-9775-E8CDE9AFB0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BFC7E-A600-45C8-9F16-0DE198335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2EB5-7A17-47AE-8FFA-9597485B18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E4853-B4CA-49EF-8576-B2937C37DC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2D8E0-EFBB-4402-B39B-131ECEE63A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CE4E5-6D52-4B29-B695-2F0615E57F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4384-9F97-4E41-9E8E-613D19C78BC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992E3-99B5-4CB4-A01B-A47322F5B4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C8BB1-2579-405C-8FBE-544C567856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C7AC6-CB3B-4461-8273-FCF6208386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9436E-6A15-4A16-9623-C4D19721AE8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F0D15-EA82-4795-BB73-628B512653D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BEFB5-9BA8-4A0E-BC11-D09277FB5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55CD-AA97-4A93-A9F0-654AF8FAF2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96CD5-447F-4E66-9993-53E38A1D56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904D-F2D9-4BCF-A385-4D2C45E037F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6639-857F-4F50-8DF2-15B1F1DD9D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3217-0099-41E4-B066-133B486748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C152-259A-44FA-BB0C-0BEDF1632A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DBD5-8D34-49DE-AD2C-495D0E63F1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034-9C74-4346-9072-DCE74B517C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E23E-36AF-4617-B714-70EC94ECCAF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B3A2-C671-448C-AD98-9B3154D376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6585-75D6-425A-B123-C2353CF44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566F-C70C-44B1-B9C8-49798D5693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A64B-70F2-4623-9A32-1635FDFAAA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F565-4720-4E4F-B183-0B02B9436F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E741-50BF-4130-8B8F-9CFC091E14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465A5-B806-4445-9706-9E670A3CF4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7DC4B-9A84-4633-9C43-918AF60C36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099750-B81E-4EBE-A5E3-27ABDC13B42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E86B7-DA70-4EF9-902D-5F9959B3562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BC853-0374-42C1-A993-EB8EFFBF0FB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C0B3A-5272-4777-998D-C24988AFC5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5ACE0-31B1-4C52-B655-C958A69D9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91B1-3891-407B-8226-AC46468A4F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90580-73BF-4283-9967-078409956E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1C853-CFF2-4171-9153-C6AE56D203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5D039-494E-4FE1-B2A7-70AE91A9B3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39AEA-FD00-4AEE-939F-AF27EA159A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31DAF-A268-4578-B0D2-4897CF3ACA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F8A6F-DCF5-481A-92F7-CF67FDB9C17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AD4CE-C2F9-4591-9B34-AD2926EEBE0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52603-58DC-439C-839D-97EA9767E71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1106B-B6C5-4098-8C5E-6A9DC7BE94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C520D-58BF-4C8C-B405-2C65E001F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4D50-468B-4383-89B1-FAFDB602656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17FDB-AFAA-4DFC-8F9B-8F8B5DAFAB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4B5E7-F0A5-4306-8EA2-1FEA23BCB37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394E4-DAA2-4C12-A394-995A0B3C82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3E3E1-E802-4E8B-93AB-DA83A2CF24F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7C174-5173-4379-B5F2-FFF4A56B7E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13E74-0A00-4E50-8F97-19D92A85F7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22E18-6A45-4FB0-908B-014438CFB5D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544B0-9D80-4C3A-96CA-14A18638C96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2909-907E-4FA7-AE22-67371996C2F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587C-90E7-4D71-BA28-674BA98E7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876-A246-4938-9430-71D43DD65B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C07-8520-4E40-B02D-18E717A822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23D9-8C7A-4B36-A3B9-278AB2D3B9C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9B7-4213-407B-90BE-317B5D7B16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27D9-C933-4DE9-9BE7-8527B9DF9B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CDC8-5BEA-4A20-B7E2-77017E87B4E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FE2A-7687-4856-B4DC-E2DAAD943F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73FA-8625-4F13-AB29-B98F484D1E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FFAA-35F1-442E-8A6A-8DB8869D75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B862-690A-4BDC-B3C9-7E0CA47902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4976-95A5-42BE-8771-9D90BDABC5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dynamic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Entropy and Free Energy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042-8814-4DC7-8679-6B2F59AAC3A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1920" y="190440"/>
            <a:ext cx="1268748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 and Reaction Direction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 - 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2B85-CAFA-4686-8842-65E0E75C98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8F99-03AB-4DC2-9122-7FF5D8DE79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dd2067"/>
                </a:solidFill>
                <a:latin typeface="Arial"/>
              </a:rPr>
              <a:t>Solid (If all other things were similar)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really enough information to determ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AD9C-6F42-4C98-B2B3-CA99457059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gol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1657-8BBC-4460-9C1B-DA7C06F986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dd2067"/>
                </a:solidFill>
                <a:latin typeface="Arial"/>
              </a:rPr>
              <a:t>1 mole of gold, since it is solid, yet the mercury would be liquid at room temp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9B69-5945-481B-9178-423DC76C7B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0AE-3F97-478B-B984-0CBFDF672B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N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 u="sng">
                <a:solidFill>
                  <a:srgbClr val="dd2067"/>
                </a:solidFill>
                <a:uFillTx/>
                <a:latin typeface="Arial"/>
              </a:rPr>
              <a:t>All else being the same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, larger molecules have higher entropy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C82C-CB59-4DF0-883B-45334DF112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2680" y="6781320"/>
            <a:ext cx="12687480" cy="28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nd can you name these three molecules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EF5C-D36C-4314-BD4C-FEA6756B5D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0" t="0" r="0" b="27440"/>
          <a:stretch/>
        </p:blipFill>
        <p:spPr>
          <a:xfrm>
            <a:off x="203040" y="2629080"/>
            <a:ext cx="12520800" cy="28317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162828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575784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1046952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2E9-0F9D-47CD-A754-527C4612B9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02680" y="2006280"/>
            <a:ext cx="12687480" cy="76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ropane is a larger an thus has more entropy than analogous molecules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91CB-57BF-4C59-8387-B359F577C2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rcRect l="0" t="0" r="0" b="7908"/>
          <a:stretch/>
        </p:blipFill>
        <p:spPr>
          <a:xfrm>
            <a:off x="241200" y="4013280"/>
            <a:ext cx="12520800" cy="3593880"/>
          </a:xfrm>
          <a:prstGeom prst="rect">
            <a:avLst/>
          </a:prstGeom>
          <a:ln w="0">
            <a:noFill/>
          </a:ln>
        </p:spPr>
      </p:pic>
      <p:sp>
        <p:nvSpPr>
          <p:cNvPr id="467" name="Oval 5"/>
          <p:cNvSpPr/>
          <p:nvPr/>
        </p:nvSpPr>
        <p:spPr>
          <a:xfrm>
            <a:off x="8255160" y="3759120"/>
            <a:ext cx="4597200" cy="4102200"/>
          </a:xfrm>
          <a:prstGeom prst="ellipse">
            <a:avLst/>
          </a:prstGeom>
          <a:noFill/>
          <a:ln w="63360">
            <a:solidFill>
              <a:srgbClr val="dd20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B76C-B6C6-45A0-9FD8-D253F8C7B6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two moles of 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35E3-C47E-4E81-8D18-B5C34D41635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7840" y="25200"/>
            <a:ext cx="12687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7480" y="1307880"/>
            <a:ext cx="12649320" cy="78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very process has a preferred direction, which can be referred to as the spontaneous direction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spontaneous process can be reversed only by some action or outside forc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process can be spontaneous, yet may not occu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er behind a dam won’t flow until the gate is open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mixture of CH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will remain until spark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pontaneous in thermodynamics does not have the same meaning as in everyday spe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A4E9-29D7-4509-82CB-43AD3A83C8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two moles of NO</a:t>
            </a:r>
            <a:r>
              <a:rPr b="0" lang="en-US" sz="72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since these molecules are not tied together with a bon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2A31-F0D2-4990-87E4-5539FC497B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ºC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AE3-1844-4C37-8404-7B8B62573A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e at 0ºC (This is 273 K…a higher temp=more entropy all else being the sam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246E-6160-47A9-B9AA-624FAFAAE8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2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 and 2 have the same entropy 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A407-5F4E-4D7E-9043-D4E8A5E2A2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10 ml of 2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Higher concentration will have more entropy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 and 2 have the same entropy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6E2-C693-4779-A294-B1CBEEAC2B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A940-40C5-40C1-A2B3-50E590ACAF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4C83-D912-4BD0-8B14-C7D5B075BE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EC8B-2E91-4A07-8A1A-83C6BAFA79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B1ED-968B-4251-9556-56B522F128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917B-1C5A-4A5D-AA21-BE3E394DDA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F85A-2867-4DF9-B0DD-FC35713D5C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salt &gt; 0  alway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water &lt; 0 sometimes (Remember how water surrounds the ions in a hydrosphere? This creates more order in the water.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E97E-2EDE-4869-B2A3-29B477C97F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574A-B0EF-456D-B337-CAA8BDEE92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 (more than 1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Na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324D-A900-4F24-9048-0F272C4F54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BC3-593B-4785-BD74-952ABE8CA23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e Common-Sense Law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tend to become disper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bles will scatter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not roll back in the bag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ences fall down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piles of wood don’t assembl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igsaw puzzles disassemble easily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shaking the box never result in reassemb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ch process reduces th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n the objec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C6B7-244D-44AC-8D9E-1D509684BF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Ca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Ca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NaCl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Na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+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l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-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be unlikely that you would be asked to distinguish something like this as it is a VERY tough decision as demonstrated by next slide showing that there is very small entropy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2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⇋ 3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6EEA-A019-44AF-8C43-27BB1455A8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9A92-80FB-400B-9B34-0A0DB818E7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080" y="202680"/>
            <a:ext cx="12687480" cy="22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8880" y="1816200"/>
            <a:ext cx="3961440" cy="3895200"/>
            <a:chOff x="38880" y="1816200"/>
            <a:chExt cx="3961440" cy="3895200"/>
          </a:xfrm>
        </p:grpSpPr>
        <p:grpSp>
          <p:nvGrpSpPr>
            <p:cNvPr id="514" name="Group 4"/>
            <p:cNvGrpSpPr/>
            <p:nvPr/>
          </p:nvGrpSpPr>
          <p:grpSpPr>
            <a:xfrm>
              <a:off x="38880" y="1816200"/>
              <a:ext cx="3961440" cy="3895200"/>
              <a:chOff x="38880" y="1816200"/>
              <a:chExt cx="3961440" cy="3895200"/>
            </a:xfrm>
          </p:grpSpPr>
          <p:sp>
            <p:nvSpPr>
              <p:cNvPr id="515" name="Line 5"/>
              <p:cNvSpPr/>
              <p:nvPr/>
            </p:nvSpPr>
            <p:spPr>
              <a:xfrm>
                <a:off x="31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6"/>
              <p:cNvSpPr/>
              <p:nvPr/>
            </p:nvSpPr>
            <p:spPr>
              <a:xfrm>
                <a:off x="31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7"/>
              <p:cNvSpPr/>
              <p:nvPr/>
            </p:nvSpPr>
            <p:spPr>
              <a:xfrm>
                <a:off x="156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278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9"/>
              <p:cNvSpPr/>
              <p:nvPr/>
            </p:nvSpPr>
            <p:spPr>
              <a:xfrm>
                <a:off x="32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0"/>
              <p:cNvSpPr/>
              <p:nvPr/>
            </p:nvSpPr>
            <p:spPr>
              <a:xfrm>
                <a:off x="57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1"/>
              <p:cNvSpPr/>
              <p:nvPr/>
            </p:nvSpPr>
            <p:spPr>
              <a:xfrm>
                <a:off x="177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2"/>
              <p:cNvSpPr/>
              <p:nvPr/>
            </p:nvSpPr>
            <p:spPr>
              <a:xfrm>
                <a:off x="311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3"/>
              <p:cNvSpPr/>
              <p:nvPr/>
            </p:nvSpPr>
            <p:spPr>
              <a:xfrm>
                <a:off x="141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4"/>
              <p:cNvSpPr/>
              <p:nvPr/>
            </p:nvSpPr>
            <p:spPr>
              <a:xfrm>
                <a:off x="3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Line 15"/>
            <p:cNvSpPr/>
            <p:nvPr/>
          </p:nvSpPr>
          <p:spPr>
            <a:xfrm flipV="1">
              <a:off x="330120" y="2270160"/>
              <a:ext cx="3520800" cy="31017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6"/>
          <p:cNvGrpSpPr/>
          <p:nvPr/>
        </p:nvGrpSpPr>
        <p:grpSpPr>
          <a:xfrm>
            <a:off x="4063320" y="5753160"/>
            <a:ext cx="3962520" cy="3895200"/>
            <a:chOff x="4063320" y="5753160"/>
            <a:chExt cx="3962520" cy="3895200"/>
          </a:xfrm>
        </p:grpSpPr>
        <p:grpSp>
          <p:nvGrpSpPr>
            <p:cNvPr id="527" name="Group 17"/>
            <p:cNvGrpSpPr/>
            <p:nvPr/>
          </p:nvGrpSpPr>
          <p:grpSpPr>
            <a:xfrm>
              <a:off x="4063320" y="5753160"/>
              <a:ext cx="3962520" cy="3895200"/>
              <a:chOff x="4063320" y="5753160"/>
              <a:chExt cx="3962520" cy="3895200"/>
            </a:xfrm>
          </p:grpSpPr>
          <p:sp>
            <p:nvSpPr>
              <p:cNvPr id="528" name="Line 18"/>
              <p:cNvSpPr/>
              <p:nvPr/>
            </p:nvSpPr>
            <p:spPr>
              <a:xfrm>
                <a:off x="4341600" y="9321840"/>
                <a:ext cx="36810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9"/>
              <p:cNvSpPr/>
              <p:nvPr/>
            </p:nvSpPr>
            <p:spPr>
              <a:xfrm>
                <a:off x="4341600" y="5753160"/>
                <a:ext cx="121968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20"/>
              <p:cNvSpPr/>
              <p:nvPr/>
            </p:nvSpPr>
            <p:spPr>
              <a:xfrm>
                <a:off x="5586840" y="5753160"/>
                <a:ext cx="121932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21"/>
              <p:cNvSpPr/>
              <p:nvPr/>
            </p:nvSpPr>
            <p:spPr>
              <a:xfrm>
                <a:off x="6806160" y="5753160"/>
                <a:ext cx="121968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22"/>
              <p:cNvSpPr/>
              <p:nvPr/>
            </p:nvSpPr>
            <p:spPr>
              <a:xfrm>
                <a:off x="434484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3"/>
              <p:cNvSpPr/>
              <p:nvPr/>
            </p:nvSpPr>
            <p:spPr>
              <a:xfrm>
                <a:off x="459612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24"/>
              <p:cNvSpPr/>
              <p:nvPr/>
            </p:nvSpPr>
            <p:spPr>
              <a:xfrm>
                <a:off x="57963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5"/>
              <p:cNvSpPr/>
              <p:nvPr/>
            </p:nvSpPr>
            <p:spPr>
              <a:xfrm>
                <a:off x="713988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26"/>
              <p:cNvSpPr/>
              <p:nvPr/>
            </p:nvSpPr>
            <p:spPr>
              <a:xfrm>
                <a:off x="544068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27"/>
              <p:cNvSpPr/>
              <p:nvPr/>
            </p:nvSpPr>
            <p:spPr>
              <a:xfrm>
                <a:off x="406332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Line 28"/>
            <p:cNvSpPr/>
            <p:nvPr/>
          </p:nvSpPr>
          <p:spPr>
            <a:xfrm flipV="1">
              <a:off x="4354560" y="895176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9"/>
            <p:cNvSpPr/>
            <p:nvPr/>
          </p:nvSpPr>
          <p:spPr>
            <a:xfrm flipV="1">
              <a:off x="5586840" y="8248680"/>
              <a:ext cx="1214640" cy="6667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0"/>
            <p:cNvSpPr/>
            <p:nvPr/>
          </p:nvSpPr>
          <p:spPr>
            <a:xfrm flipV="1">
              <a:off x="6819480" y="6516360"/>
              <a:ext cx="1175040" cy="17002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1"/>
          <p:cNvGrpSpPr/>
          <p:nvPr/>
        </p:nvGrpSpPr>
        <p:grpSpPr>
          <a:xfrm>
            <a:off x="8228880" y="1816200"/>
            <a:ext cx="3966120" cy="3895200"/>
            <a:chOff x="8228880" y="1816200"/>
            <a:chExt cx="3966120" cy="3895200"/>
          </a:xfrm>
        </p:grpSpPr>
        <p:grpSp>
          <p:nvGrpSpPr>
            <p:cNvPr id="542" name="Group 32"/>
            <p:cNvGrpSpPr/>
            <p:nvPr/>
          </p:nvGrpSpPr>
          <p:grpSpPr>
            <a:xfrm>
              <a:off x="8228880" y="1816200"/>
              <a:ext cx="3961440" cy="3895200"/>
              <a:chOff x="8228880" y="1816200"/>
              <a:chExt cx="3961440" cy="3895200"/>
            </a:xfrm>
          </p:grpSpPr>
          <p:sp>
            <p:nvSpPr>
              <p:cNvPr id="543" name="Line 33"/>
              <p:cNvSpPr/>
              <p:nvPr/>
            </p:nvSpPr>
            <p:spPr>
              <a:xfrm>
                <a:off x="850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4"/>
              <p:cNvSpPr/>
              <p:nvPr/>
            </p:nvSpPr>
            <p:spPr>
              <a:xfrm>
                <a:off x="850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5"/>
              <p:cNvSpPr/>
              <p:nvPr/>
            </p:nvSpPr>
            <p:spPr>
              <a:xfrm>
                <a:off x="975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6"/>
              <p:cNvSpPr/>
              <p:nvPr/>
            </p:nvSpPr>
            <p:spPr>
              <a:xfrm>
                <a:off x="1097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7"/>
              <p:cNvSpPr/>
              <p:nvPr/>
            </p:nvSpPr>
            <p:spPr>
              <a:xfrm>
                <a:off x="851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8"/>
              <p:cNvSpPr/>
              <p:nvPr/>
            </p:nvSpPr>
            <p:spPr>
              <a:xfrm>
                <a:off x="876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9"/>
              <p:cNvSpPr/>
              <p:nvPr/>
            </p:nvSpPr>
            <p:spPr>
              <a:xfrm>
                <a:off x="996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40"/>
              <p:cNvSpPr/>
              <p:nvPr/>
            </p:nvSpPr>
            <p:spPr>
              <a:xfrm>
                <a:off x="1130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41"/>
              <p:cNvSpPr/>
              <p:nvPr/>
            </p:nvSpPr>
            <p:spPr>
              <a:xfrm>
                <a:off x="960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42"/>
              <p:cNvSpPr/>
              <p:nvPr/>
            </p:nvSpPr>
            <p:spPr>
              <a:xfrm>
                <a:off x="822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Line 43"/>
            <p:cNvSpPr/>
            <p:nvPr/>
          </p:nvSpPr>
          <p:spPr>
            <a:xfrm flipV="1">
              <a:off x="8532720" y="51447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44"/>
            <p:cNvSpPr/>
            <p:nvPr/>
          </p:nvSpPr>
          <p:spPr>
            <a:xfrm flipV="1">
              <a:off x="9752040" y="458640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45"/>
            <p:cNvSpPr/>
            <p:nvPr/>
          </p:nvSpPr>
          <p:spPr>
            <a:xfrm flipV="1">
              <a:off x="10971000" y="284652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6"/>
            <p:cNvSpPr/>
            <p:nvPr/>
          </p:nvSpPr>
          <p:spPr>
            <a:xfrm flipH="1" flipV="1">
              <a:off x="10949040" y="2873520"/>
              <a:ext cx="9360" cy="16984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47"/>
            <p:cNvSpPr/>
            <p:nvPr/>
          </p:nvSpPr>
          <p:spPr>
            <a:xfrm flipV="1">
              <a:off x="9738360" y="4622760"/>
              <a:ext cx="180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8"/>
          <p:cNvGrpSpPr/>
          <p:nvPr/>
        </p:nvGrpSpPr>
        <p:grpSpPr>
          <a:xfrm>
            <a:off x="4050720" y="1816200"/>
            <a:ext cx="3962520" cy="3895200"/>
            <a:chOff x="4050720" y="1816200"/>
            <a:chExt cx="3962520" cy="3895200"/>
          </a:xfrm>
        </p:grpSpPr>
        <p:grpSp>
          <p:nvGrpSpPr>
            <p:cNvPr id="559" name="Group 49"/>
            <p:cNvGrpSpPr/>
            <p:nvPr/>
          </p:nvGrpSpPr>
          <p:grpSpPr>
            <a:xfrm>
              <a:off x="4050720" y="1816200"/>
              <a:ext cx="3962160" cy="3895200"/>
              <a:chOff x="4050720" y="1816200"/>
              <a:chExt cx="3962160" cy="3895200"/>
            </a:xfrm>
          </p:grpSpPr>
          <p:sp>
            <p:nvSpPr>
              <p:cNvPr id="560" name="Line 50"/>
              <p:cNvSpPr/>
              <p:nvPr/>
            </p:nvSpPr>
            <p:spPr>
              <a:xfrm>
                <a:off x="4329000" y="5384880"/>
                <a:ext cx="36806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51"/>
              <p:cNvSpPr/>
              <p:nvPr/>
            </p:nvSpPr>
            <p:spPr>
              <a:xfrm>
                <a:off x="432900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52"/>
              <p:cNvSpPr/>
              <p:nvPr/>
            </p:nvSpPr>
            <p:spPr>
              <a:xfrm>
                <a:off x="55742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53"/>
              <p:cNvSpPr/>
              <p:nvPr/>
            </p:nvSpPr>
            <p:spPr>
              <a:xfrm>
                <a:off x="679356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54"/>
              <p:cNvSpPr/>
              <p:nvPr/>
            </p:nvSpPr>
            <p:spPr>
              <a:xfrm>
                <a:off x="433224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55"/>
              <p:cNvSpPr/>
              <p:nvPr/>
            </p:nvSpPr>
            <p:spPr>
              <a:xfrm>
                <a:off x="458352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56"/>
              <p:cNvSpPr/>
              <p:nvPr/>
            </p:nvSpPr>
            <p:spPr>
              <a:xfrm>
                <a:off x="57837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57"/>
              <p:cNvSpPr/>
              <p:nvPr/>
            </p:nvSpPr>
            <p:spPr>
              <a:xfrm>
                <a:off x="712692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58"/>
              <p:cNvSpPr/>
              <p:nvPr/>
            </p:nvSpPr>
            <p:spPr>
              <a:xfrm>
                <a:off x="542808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59"/>
              <p:cNvSpPr/>
              <p:nvPr/>
            </p:nvSpPr>
            <p:spPr>
              <a:xfrm>
                <a:off x="405072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Line 60"/>
            <p:cNvSpPr/>
            <p:nvPr/>
          </p:nvSpPr>
          <p:spPr>
            <a:xfrm flipV="1">
              <a:off x="4341960" y="501480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61"/>
            <p:cNvSpPr/>
            <p:nvPr/>
          </p:nvSpPr>
          <p:spPr>
            <a:xfrm flipV="1">
              <a:off x="5574240" y="4001760"/>
              <a:ext cx="124632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2"/>
            <p:cNvSpPr/>
            <p:nvPr/>
          </p:nvSpPr>
          <p:spPr>
            <a:xfrm flipV="1">
              <a:off x="6793560" y="1974600"/>
              <a:ext cx="121968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3"/>
            <p:cNvSpPr/>
            <p:nvPr/>
          </p:nvSpPr>
          <p:spPr>
            <a:xfrm flipH="1" flipV="1">
              <a:off x="6771600" y="2720520"/>
              <a:ext cx="9360" cy="126684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4"/>
            <p:cNvSpPr/>
            <p:nvPr/>
          </p:nvSpPr>
          <p:spPr>
            <a:xfrm flipV="1">
              <a:off x="5574240" y="447048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5"/>
          <p:cNvGrpSpPr/>
          <p:nvPr/>
        </p:nvGrpSpPr>
        <p:grpSpPr>
          <a:xfrm>
            <a:off x="8228880" y="5753160"/>
            <a:ext cx="3966120" cy="3895200"/>
            <a:chOff x="8228880" y="5753160"/>
            <a:chExt cx="3966120" cy="3895200"/>
          </a:xfrm>
        </p:grpSpPr>
        <p:grpSp>
          <p:nvGrpSpPr>
            <p:cNvPr id="576" name="Group 66"/>
            <p:cNvGrpSpPr/>
            <p:nvPr/>
          </p:nvGrpSpPr>
          <p:grpSpPr>
            <a:xfrm>
              <a:off x="8228880" y="5753160"/>
              <a:ext cx="3961440" cy="3895200"/>
              <a:chOff x="8228880" y="5753160"/>
              <a:chExt cx="3961440" cy="3895200"/>
            </a:xfrm>
          </p:grpSpPr>
          <p:sp>
            <p:nvSpPr>
              <p:cNvPr id="577" name="Line 67"/>
              <p:cNvSpPr/>
              <p:nvPr/>
            </p:nvSpPr>
            <p:spPr>
              <a:xfrm>
                <a:off x="85071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8"/>
              <p:cNvSpPr/>
              <p:nvPr/>
            </p:nvSpPr>
            <p:spPr>
              <a:xfrm>
                <a:off x="85071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69"/>
              <p:cNvSpPr/>
              <p:nvPr/>
            </p:nvSpPr>
            <p:spPr>
              <a:xfrm>
                <a:off x="97520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70"/>
              <p:cNvSpPr/>
              <p:nvPr/>
            </p:nvSpPr>
            <p:spPr>
              <a:xfrm>
                <a:off x="109710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71"/>
              <p:cNvSpPr/>
              <p:nvPr/>
            </p:nvSpPr>
            <p:spPr>
              <a:xfrm>
                <a:off x="85104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72"/>
              <p:cNvSpPr/>
              <p:nvPr/>
            </p:nvSpPr>
            <p:spPr>
              <a:xfrm>
                <a:off x="87616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73"/>
              <p:cNvSpPr/>
              <p:nvPr/>
            </p:nvSpPr>
            <p:spPr>
              <a:xfrm>
                <a:off x="99615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74"/>
              <p:cNvSpPr/>
              <p:nvPr/>
            </p:nvSpPr>
            <p:spPr>
              <a:xfrm>
                <a:off x="113043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75"/>
              <p:cNvSpPr/>
              <p:nvPr/>
            </p:nvSpPr>
            <p:spPr>
              <a:xfrm>
                <a:off x="96055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76"/>
              <p:cNvSpPr/>
              <p:nvPr/>
            </p:nvSpPr>
            <p:spPr>
              <a:xfrm>
                <a:off x="82288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Line 77"/>
            <p:cNvSpPr/>
            <p:nvPr/>
          </p:nvSpPr>
          <p:spPr>
            <a:xfrm flipV="1">
              <a:off x="8532720" y="908172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78"/>
            <p:cNvSpPr/>
            <p:nvPr/>
          </p:nvSpPr>
          <p:spPr>
            <a:xfrm flipV="1">
              <a:off x="9752040" y="78879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79"/>
            <p:cNvSpPr/>
            <p:nvPr/>
          </p:nvSpPr>
          <p:spPr>
            <a:xfrm flipV="1">
              <a:off x="10971000" y="668124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80"/>
            <p:cNvSpPr/>
            <p:nvPr/>
          </p:nvSpPr>
          <p:spPr>
            <a:xfrm flipH="1" flipV="1">
              <a:off x="9736200" y="787356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81"/>
            <p:cNvSpPr/>
            <p:nvPr/>
          </p:nvSpPr>
          <p:spPr>
            <a:xfrm flipH="1" flipV="1">
              <a:off x="10968120" y="666720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Rectangle 82"/>
          <p:cNvSpPr/>
          <p:nvPr/>
        </p:nvSpPr>
        <p:spPr>
          <a:xfrm>
            <a:off x="197100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3"/>
          <p:cNvSpPr/>
          <p:nvPr/>
        </p:nvSpPr>
        <p:spPr>
          <a:xfrm>
            <a:off x="599688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4"/>
          <p:cNvSpPr/>
          <p:nvPr/>
        </p:nvSpPr>
        <p:spPr>
          <a:xfrm>
            <a:off x="1016244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5"/>
          <p:cNvSpPr/>
          <p:nvPr/>
        </p:nvSpPr>
        <p:spPr>
          <a:xfrm>
            <a:off x="607320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6"/>
          <p:cNvSpPr/>
          <p:nvPr/>
        </p:nvSpPr>
        <p:spPr>
          <a:xfrm>
            <a:off x="1023876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7"/>
          <p:cNvGrpSpPr/>
          <p:nvPr/>
        </p:nvGrpSpPr>
        <p:grpSpPr>
          <a:xfrm>
            <a:off x="26280" y="5753160"/>
            <a:ext cx="3961440" cy="3895200"/>
            <a:chOff x="26280" y="5753160"/>
            <a:chExt cx="3961440" cy="3895200"/>
          </a:xfrm>
        </p:grpSpPr>
        <p:grpSp>
          <p:nvGrpSpPr>
            <p:cNvPr id="598" name="Group 88"/>
            <p:cNvGrpSpPr/>
            <p:nvPr/>
          </p:nvGrpSpPr>
          <p:grpSpPr>
            <a:xfrm>
              <a:off x="26280" y="5753160"/>
              <a:ext cx="3961440" cy="3895200"/>
              <a:chOff x="26280" y="5753160"/>
              <a:chExt cx="3961440" cy="3895200"/>
            </a:xfrm>
          </p:grpSpPr>
          <p:sp>
            <p:nvSpPr>
              <p:cNvPr id="599" name="Line 89"/>
              <p:cNvSpPr/>
              <p:nvPr/>
            </p:nvSpPr>
            <p:spPr>
              <a:xfrm>
                <a:off x="3045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90"/>
              <p:cNvSpPr/>
              <p:nvPr/>
            </p:nvSpPr>
            <p:spPr>
              <a:xfrm>
                <a:off x="3045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91"/>
              <p:cNvSpPr/>
              <p:nvPr/>
            </p:nvSpPr>
            <p:spPr>
              <a:xfrm>
                <a:off x="15494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92"/>
              <p:cNvSpPr/>
              <p:nvPr/>
            </p:nvSpPr>
            <p:spPr>
              <a:xfrm>
                <a:off x="27684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93"/>
              <p:cNvSpPr/>
              <p:nvPr/>
            </p:nvSpPr>
            <p:spPr>
              <a:xfrm>
                <a:off x="3078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94"/>
              <p:cNvSpPr/>
              <p:nvPr/>
            </p:nvSpPr>
            <p:spPr>
              <a:xfrm>
                <a:off x="5590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95"/>
              <p:cNvSpPr/>
              <p:nvPr/>
            </p:nvSpPr>
            <p:spPr>
              <a:xfrm>
                <a:off x="17589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96"/>
              <p:cNvSpPr/>
              <p:nvPr/>
            </p:nvSpPr>
            <p:spPr>
              <a:xfrm>
                <a:off x="31017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97"/>
              <p:cNvSpPr/>
              <p:nvPr/>
            </p:nvSpPr>
            <p:spPr>
              <a:xfrm>
                <a:off x="14029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98"/>
              <p:cNvSpPr/>
              <p:nvPr/>
            </p:nvSpPr>
            <p:spPr>
              <a:xfrm>
                <a:off x="262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Line 99"/>
            <p:cNvSpPr/>
            <p:nvPr/>
          </p:nvSpPr>
          <p:spPr>
            <a:xfrm>
              <a:off x="322200" y="8902800"/>
              <a:ext cx="121608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0"/>
            <p:cNvSpPr/>
            <p:nvPr/>
          </p:nvSpPr>
          <p:spPr>
            <a:xfrm flipV="1">
              <a:off x="1548720" y="7938720"/>
              <a:ext cx="124596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1"/>
            <p:cNvSpPr/>
            <p:nvPr/>
          </p:nvSpPr>
          <p:spPr>
            <a:xfrm flipV="1">
              <a:off x="2767680" y="5911560"/>
              <a:ext cx="121932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2"/>
            <p:cNvSpPr/>
            <p:nvPr/>
          </p:nvSpPr>
          <p:spPr>
            <a:xfrm flipH="1" flipV="1">
              <a:off x="2746440" y="6657480"/>
              <a:ext cx="9360" cy="126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03"/>
            <p:cNvSpPr/>
            <p:nvPr/>
          </p:nvSpPr>
          <p:spPr>
            <a:xfrm flipV="1">
              <a:off x="1549440" y="840744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104"/>
          <p:cNvSpPr/>
          <p:nvPr/>
        </p:nvSpPr>
        <p:spPr>
          <a:xfrm>
            <a:off x="1971000" y="687420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F764-771C-4839-B8E9-E1827EF027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03040" y="2629080"/>
            <a:ext cx="6591600" cy="69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ntropy increase as temperature increases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t phase changes, temperature stays the same (remember!) but the disorder will continue to increas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rcRect l="0" t="0" r="0" b="4244"/>
          <a:stretch/>
        </p:blipFill>
        <p:spPr>
          <a:xfrm>
            <a:off x="6969240" y="2082960"/>
            <a:ext cx="5921280" cy="51814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5752-5C24-453C-82B4-CDE27365897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3BFB-0A06-4459-B351-892931CF5C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ter at room temperature decomposes into gaseous 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DA3D-5178-4967-9591-81E226B8AD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7276-6FC8-4D52-AFB7-F0B85CFDB1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Water at room temperature decomposes into gaseous H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 and O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1001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61b0"/>
                </a:solidFill>
                <a:latin typeface="Arial"/>
              </a:rPr>
              <a:t># 3 is at equilibrium, ∆G = 0, below 80.1º it would be spontaneous, above 80.1ºC is not spontaneo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B5E3-3300-4C61-9A37-FEBEF45EB4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3F72-7687-4F2B-82D8-83EF391B26A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1920" y="190080"/>
            <a:ext cx="1268748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</a:t>
            </a:r>
            <a:br>
              <a:rPr sz="7400"/>
            </a:br>
            <a:r>
              <a:rPr b="0" lang="en-US" sz="6600" spc="-1" strike="noStrike">
                <a:solidFill>
                  <a:srgbClr val="00007d"/>
                </a:solidFill>
                <a:latin typeface="Arial"/>
              </a:rPr>
              <a:t>as related to Reaction Direction</a:t>
            </a:r>
            <a:endParaRPr b="0" lang="en-US" sz="6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BC76-02D3-4BDD-81D6-3ABAD321537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wo Forces Drive Reaction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 entrop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 increase (+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w energ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 decrease (-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A0EE-14A9-4A98-9AF9-25B0C6B30F0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7400" spc="-1" strike="noStrike" baseline="32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54160" y="1473120"/>
            <a:ext cx="1264896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m the second law of thermodynamics, we know that the entropy of the universe is always increasing. For every process and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20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it is not always easy or practical to calculate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ecause it is difficult to know all of the entropy changes to the surroundings (universe),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4E50-29E8-4744-A5FB-10A4E09876E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7d"/>
                </a:solidFill>
                <a:latin typeface="Arial"/>
              </a:rPr>
              <a:t>So how can we predict spontaneity?</a:t>
            </a:r>
            <a:endParaRPr b="0" lang="en-US" sz="6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ibbs Free Energy (G) combines the two driving forces into one relationshi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aximum useful work that can be done by a system on its surroundings in a spontaneous process occurring at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constant temp and pressur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= ∆H - T∆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though the restriction of constant T and P are stringent, they do apply to many important chemical process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iological processes in the bo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boratory or industrially controlled proc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E9AA-EFD3-4D1E-9865-1ADFECF117A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7d"/>
                </a:solidFill>
                <a:latin typeface="Arial"/>
              </a:rPr>
              <a:t>The Common-Sense Law applies at the molecular level as well. </a:t>
            </a:r>
            <a:endParaRPr b="0" lang="en-US" sz="6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7480" y="2552760"/>
            <a:ext cx="12649320" cy="70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lt disso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ses disp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7478640" y="2349360"/>
            <a:ext cx="4954680" cy="4330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rcRect l="0" t="0" r="0" b="11224"/>
          <a:stretch/>
        </p:blipFill>
        <p:spPr>
          <a:xfrm>
            <a:off x="579600" y="6934320"/>
            <a:ext cx="11437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C202-8DF6-4813-A9ED-7B8B5DF02DA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G = ∆H - T∆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lt; 0 , a reaction will proceed in the forward direction and is considered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= 0, a reaction will be at equilibriu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gt; 0, a reaction will not proceed in forward direction and is considered not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4DE6-E428-4F21-8584-A4FD2DE6FF8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0840" y="19008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7d"/>
                </a:solidFill>
                <a:latin typeface="Arial"/>
              </a:rPr>
              <a:t>Using ∆Gº</a:t>
            </a:r>
            <a:endParaRPr b="0" lang="en-US" sz="6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40840" y="1320840"/>
            <a:ext cx="12649320" cy="82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tandard condi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a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M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e ∆Gº values in the table are reported for temperatures at 25º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values have been established for a great many substances making the ∆G calculation below convenient at 1M or 1atm at 25ºC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Rx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=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prod -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rea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A26B-019F-4291-B8A5-514D3B02CF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02680" y="5625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6CCC-2955-4BA5-BCBB-69028BFDB4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9F99-9245-4696-9D00-63071475A0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02680" y="4330440"/>
            <a:ext cx="1268748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Yes, at approximately 632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H=+74kJ, ∆S=117J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G = ∆H - T∆S, since ∆G&gt;0 is not spontaneous and ∆G&lt;0 is spontaneous, when ∆G=0 the spontaneity “switches”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0 = 74kJ - T(0.117kJ)  solve T = 632 K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87D7-C8EE-4212-B730-5F7CB02A81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FEA7-5436-4264-94DE-282501E085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298 K this reaction is not spontaneous and at temps above 632 K the reaction becomes spontaneous. What occurs AT 632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17520" y="5753160"/>
            <a:ext cx="1268712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is at equilibrium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3390-5870-46C3-8B8C-05A96AC289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3915-E393-49D9-BF87-9226EBBE40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standard conditions this reaction is not spontaneous and at temps above 633 K the reaction becomes spontaneous. What occurs AT 633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02680" y="5118120"/>
            <a:ext cx="1268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The reaction is at equilibrium, since ∆G =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A28C-0751-4831-8918-F83B0018C6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4106-EF46-4EDC-93FC-2691CA3AA6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 don’t know, and I would just be guessing or following my neighbors, but I don’t really know how to analytically think through to an answ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84F5-F6CF-4E7A-BE93-954F394F4B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3852-7F75-426E-BCF2-C132430FC51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d2067"/>
                </a:solidFill>
                <a:latin typeface="Arial"/>
              </a:rPr>
              <a:t>no, remember: ∆G = ∆H - T∆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When ∆H is +, and ∆S is -, no temperature will ever make the reaction spontaneou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f ∆H is - and ∆S is -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ncreasing the T value will make ∆G more +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decreasing the T would make the less + and the temp may not be able to be lowered enough to turn it spontaneous. (Remember that there is a lower limit to temperature values, absolute zero.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16AF-ABFA-4C55-8E3E-684CAB83A7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83A4-9541-4FDA-A60D-45F7F02BBD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622-97F2-4C16-9439-19C1D99C27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86B8-83DD-4BD2-8285-5FE132C540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21600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133200" y="2879640"/>
            <a:ext cx="5905800" cy="615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6337440" y="2882880"/>
            <a:ext cx="5959440" cy="6147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440064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1013940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8419-F973-46BB-8344-BAFFBEE1AF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2680" y="3784680"/>
            <a:ext cx="600732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S—gas to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H—the gas is condensing (giving off heat NOT taking it 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324480" y="3936960"/>
          <a:ext cx="654228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92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67AA-A0A1-4953-A34F-09DE5C2F4D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02680" y="203040"/>
            <a:ext cx="1268748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02680" y="3796920"/>
            <a:ext cx="12687480" cy="58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865B-1CCF-4578-978C-62E7AA8573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B8F9-D44A-4BD8-AB01-CC1FA95469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02680" y="2793960"/>
            <a:ext cx="12687480" cy="68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that if the reaction proceeds (spontaneous) it must have a negative ∆G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45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&gt;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at standard conditions of 1 atm, 1M K would always = 1, so if the reaction proceeds K will end up greater than 1 since as the reaction proceeds products will increase and reactants will decrease resulting in K larger than 1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DFFD-6521-4A6B-892E-FF1844DAE5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7750-4CF4-4317-8E98-D91E6D0D48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ubmit your answer rounded to the nearest whole numb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2825-0B2F-420A-B4FB-C4342E4945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CE79-3085-4E15-9383-9814839CF1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25 kJ/m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A997-C54F-42F3-ACB6-2193E158E1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2D8A-EF0B-44C3-B12B-67E8089CEC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02680" y="3733560"/>
            <a:ext cx="12687480" cy="58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FC6-D32C-4E1C-B68B-6F963B15DC3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BEB9-BB78-493C-A142-245F8DBE35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02680" y="2476440"/>
            <a:ext cx="12687480" cy="71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4920" indent="-6649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 &l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Since we know that the solution cools, we know that ∆H is positive, and since that is unfavorable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lthough it is completely counter intuitive, the driving force for this reaction </a:t>
            </a:r>
            <a:r>
              <a:rPr b="0" i="1" lang="en-US" sz="3500" spc="-1" strike="noStrike">
                <a:solidFill>
                  <a:srgbClr val="2961b0"/>
                </a:solidFill>
                <a:latin typeface="Arial"/>
              </a:rPr>
              <a:t>must</a:t>
            </a: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 be an increase in entropy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nd for the reaction to be spontaneous (∆G&lt;0), the |T∆S| factor must be larger than the |∆H| facto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4A72-EA5C-4CB1-A249-C485700BB9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8084-832E-4EA0-B67E-D086023F5A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E82C-3058-4BD6-9479-17736C6D12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67AF-D460-44E7-8DD1-CB79DF53EA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177D-C7C9-4D43-883C-5A25587AB9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B1D4-4C4F-45B8-9D07-EC8B01C2EA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→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7FA2-BB5E-4F16-AF11-DAD2A9A81D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1DC6-7C4E-48CD-917C-0847C46643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02680" y="2082600"/>
            <a:ext cx="12687480" cy="75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Both are,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yet #1 is endothermic and #2 is exothermic. (Notice the settings—table and freezer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s means that analyzing just energy changes is not enough to determine when a process will be spontaneou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6D2-CA9D-4BBA-9156-2C35015AAA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3987720" y="54864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559720" y="556272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31561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74977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6C88-0BC4-4E6C-BA18-6CD5D38F06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--&gt;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905040" indent="-905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G, ∆H, and ∆S are all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at 298 K, not spontaneous means G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when ∆S is positive, the |T∆S| factor will increase at higher temperatures and since the equation is, -T∆S, at some temp the T∆S factor will be greater than the ∆H and the value of ∆G will become  nega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82DF-340B-4399-AFEC-FA8517FCF1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BDB4-00C7-4C67-866B-41309F012A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xidation of a met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3366-5F87-40F2-9BDA-694A4D29F0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Oxidation of a meta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24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oxidation will often produce a solid metal oxide which will have more order than a pure metal and the oxygen g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3F2-AB96-42C7-8E5D-E8484E2B0A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V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1C34-5B04-4743-960D-C55CE01D1E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V &lt; 0—V is for volume, which decrases when a gas forms into a liqu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594C-6C81-4213-8815-2768E4B8A4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02680" y="190080"/>
            <a:ext cx="12687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  ∆H = -97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02680" y="4876920"/>
            <a:ext cx="12687480" cy="47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pends on other factors, and cannot be determined with the information give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A8C4-015E-4235-8A82-CD5D2654EC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8093-C2D2-4426-A025-4CDD9D21F1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02680" y="127080"/>
            <a:ext cx="1268748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      ∆H = -97kJ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3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02680" y="2603160"/>
            <a:ext cx="1268748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850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Produc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Because the reaction is exothermic, the product bonds must release more energy when formed than the reactant bonds require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3. depends on other factors, and cannot be determined with the information given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CFDB-C99F-4EA7-BE18-C52871BAA0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5AA5-EB16-47DF-BBE7-7981610FD4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23F1-DE48-46FB-9D72-11E826FD2D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CD76-CC27-49B0-A9CD-6C684E1025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254160" y="2629080"/>
          <a:ext cx="12496680" cy="593388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000"/>
                <a:gridCol w="5662800"/>
              </a:tblGrid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0C7-229E-40E6-A80E-83FCAB6B3AC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Opposing Dispersal Trend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02680" y="1510920"/>
            <a:ext cx="12687480" cy="8102520"/>
          </a:xfrm>
          <a:prstGeom prst="rect">
            <a:avLst/>
          </a:prstGeom>
          <a:noFill/>
          <a:ln w="0">
            <a:noFill/>
          </a:ln>
        </p:spPr>
        <p:txBody>
          <a:bodyPr lIns="0" rIns="417744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zing water leads to more ordered matter and seems like a violation of the common-sense la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eans that analyzing just change in disorder is not enough to determine when a process will be spontaneo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what should we consid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8788320" y="13716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810640" y="562140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1194264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DBCE-4E16-459A-A5E8-9A57EBB712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368280" y="2527200"/>
          <a:ext cx="12496680" cy="593424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360"/>
                <a:gridCol w="5662440"/>
              </a:tblGrid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2965-DA0C-4E09-974E-BE9A48540B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4160" y="254160"/>
            <a:ext cx="126871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92E1-0D96-4F30-B46C-C998FA8AC5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AEB8-222D-4D5D-919D-BB39103465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A52D-1541-42F6-932C-4DBDF7F0CE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9D9E-6FA5-460F-B584-16B1784F83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(Select as many as apply.)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ADDC-7558-4354-B358-5FBD5A774D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82CD-ED3A-4003-B703-05A1A7F769A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2CB5-73FE-4649-AC0D-963BB31C93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4860-7DEA-491F-BE2A-9D44805712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E0A4-0A7D-4F37-8D00-D304FD4130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46AE-C234-4741-BA5A-58E107493C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(must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7118-801B-49E7-BB74-92A80491A5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E26C-C87F-48D1-B03B-CA8DEDD08F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alculating ∆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074D-4FBB-40FB-A855-C01F4574E9A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Boiling and Melting Point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substance is at its boiling or melting temperature it is at equilib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at equilibrium ∆G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nce ∆G = ∆Hº - T∆S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∆Sº = ∆H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the ∆S of melting or boiling = ∆H/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is how entropy of some substances can be calcula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A35C-6B40-457B-8593-A0330C97B5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02680" y="3403080"/>
            <a:ext cx="12687480" cy="62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33D1-972D-44A0-9A77-CFEAA13BDC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4"/>
          <p:cNvGrpSpPr/>
          <p:nvPr/>
        </p:nvGrpSpPr>
        <p:grpSpPr>
          <a:xfrm>
            <a:off x="3124080" y="6010560"/>
            <a:ext cx="1184400" cy="1212120"/>
            <a:chOff x="3124080" y="6010560"/>
            <a:chExt cx="1184400" cy="1212120"/>
          </a:xfrm>
        </p:grpSpPr>
        <p:sp>
          <p:nvSpPr>
            <p:cNvPr id="793" name="Rectangle 5"/>
            <p:cNvSpPr/>
            <p:nvPr/>
          </p:nvSpPr>
          <p:spPr>
            <a:xfrm>
              <a:off x="326448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6"/>
            <p:cNvSpPr/>
            <p:nvPr/>
          </p:nvSpPr>
          <p:spPr>
            <a:xfrm>
              <a:off x="327384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V="1">
              <a:off x="312408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797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7C7C-4271-4F47-BFD9-6937EFC59A2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Entropy, (S) is a measure of dispersal - dispersal of matter </a:t>
            </a:r>
            <a:r>
              <a:rPr b="0" i="1" lang="en-US" sz="4800" spc="-1" strike="noStrike">
                <a:solidFill>
                  <a:srgbClr val="00007d"/>
                </a:solidFill>
                <a:latin typeface="Arial"/>
              </a:rPr>
              <a:t>and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dispersal of energy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0080" y="1765080"/>
            <a:ext cx="12649320" cy="78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In 1877 Ludwig Boltzman defined the entropy of a substance as the number of ways to describe a system, “degrees of freedom”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8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member the First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nergy is never lost or gained, only change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= 0 (always)       ∆E = q + w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1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n any spontaneous process, the total entropy increases. 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D545-4EB9-4FC0-87B0-CB396FF185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17520" y="3543480"/>
            <a:ext cx="12687120" cy="62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dd2067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 =         ice melts at 0 C (273 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5A4B-8D5D-4F9B-8019-D3B347ED41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3284640" y="6010560"/>
            <a:ext cx="1184400" cy="1212120"/>
            <a:chOff x="3284640" y="6010560"/>
            <a:chExt cx="1184400" cy="1212120"/>
          </a:xfrm>
        </p:grpSpPr>
        <p:sp>
          <p:nvSpPr>
            <p:cNvPr id="805" name="Rectangle 5"/>
            <p:cNvSpPr/>
            <p:nvPr/>
          </p:nvSpPr>
          <p:spPr>
            <a:xfrm>
              <a:off x="342504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"/>
            <p:cNvSpPr/>
            <p:nvPr/>
          </p:nvSpPr>
          <p:spPr>
            <a:xfrm>
              <a:off x="343440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"/>
            <p:cNvSpPr/>
            <p:nvPr/>
          </p:nvSpPr>
          <p:spPr>
            <a:xfrm flipV="1">
              <a:off x="328464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809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94E5-E2F4-4823-9FAA-82ED934F82E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ird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hird law of Thermodynam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pure, perfect crystal at 0 K has zero entrop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800" spc="-1" strike="noStrike" baseline="-6000">
                <a:solidFill>
                  <a:srgbClr val="000000"/>
                </a:solidFill>
                <a:latin typeface="Arial"/>
              </a:rPr>
              <a:t>(pure, perfect crystal; T=0K)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akes it possible to measure the absolute entropy of any substance at any temperat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e that unlike ∆Hº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Sº values are never zero at any temperature above 0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9:01Z</dcterms:modified>
  <cp:revision>34</cp:revision>
  <dc:subject/>
  <dc:title>Thermodynamics</dc:title>
</cp:coreProperties>
</file>