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k why line slopes up during temp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the length of line during phase changes - L&gt;G is greater than S&gt;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slope of line during each phase? I am not sure why gas is steeper sl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A133-7C39-4B6D-A396-ACFEF3705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FEAB-DB88-42D8-995A-7AFA485FD0B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31F7-1006-4AEC-AC36-37DD8D8602A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87ED-F1B7-487E-8D89-99324734F7B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E3D0-630A-472F-A643-6278D409F5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8D09-E303-4D6C-96F2-902F89834FA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2A4A0-90AD-422D-9761-CF36F02F9A0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E27B-1FC7-4E1B-9A52-6E1383C94A5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904CE-37D3-49FB-870F-FBFA6A0C897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701D-73ED-469B-B4CF-42F82C8BF28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06175-9723-4A0C-8795-EA5BF6237AC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DA4AE-66B8-4A5B-80F5-6075E9E8B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D467-5C03-4F18-878B-41B419A8492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6F487-8B8D-48EB-8CDE-35E39A38EA7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BDC07-2BCA-48D6-8A6F-BFFE9C22EA9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EB7BB-F0C4-45E4-B08B-63AB9F56912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E7951-FD2E-4467-AB47-C50445BF463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F3036-2E3A-4EBC-BA7B-B149ADA607E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36EC1B-BEDD-4780-A51D-8C209103F61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EABC6-E2B4-40F1-B585-292A1939D08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B2B1D-E0B7-4BE5-BAFE-0B2B2D293D2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C9D6D-1303-483A-972D-72CFABBC55F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E174F-C68D-43C7-A2BB-0448BFD9F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67A4-4888-4A1B-845E-418DA44B31C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195CCF-A4AF-4CE9-82D7-816F4E7FC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BB73-DC11-4FA7-B693-C643547177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06DD-41EC-4EFF-911A-273C0ED1C3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ED9A-EBDC-47DA-9235-E00E0CCEFF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F4CB-152D-4A46-B6B9-650CEE9E95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628A-767E-4743-9FA9-16F10EECCC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ED34-C17D-4204-A536-CA79DD8C46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9392-9B65-4FC0-9AAC-F2DF7456A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60CD-E74D-4DFE-9FE2-4F885FAD9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A671-BEDC-457E-AAAA-DE018D9050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6943-1AC2-4A06-B3ED-AF5A0A9E58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3BAE-E47D-4F62-B5E8-82E6D0322B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8C92-EE67-4E0F-A904-8EAEBCA1ED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75C5-6EC5-4C87-8657-6070DAC809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834-2531-4177-9B19-D93788D622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16B-5AEE-40DB-81DC-55CD962F11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186-FCCD-4AAE-8465-D7BD445204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812-9813-4BC6-A834-23B7FD9CE2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DE2-1250-4DAD-ABDA-09CC2AE03D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0DF3-292F-453F-828E-4EC39C8C85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3C8-B555-4E70-B478-64B68ABEDA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948-4556-4755-920E-8DA5597C08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A3F-3163-4A54-889D-576DE7A05F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6F5-55F8-4A58-8535-E57BC5D1F6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22D-B164-4949-8245-39478B6CF0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F0E-ADF9-4195-BF78-B1ED8BFE87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129-4AAC-4515-B0A2-D15645EAFC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B2AB9-4B7C-47AC-B48C-7E1D678678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7ADF3-EB60-43B8-9F61-13BCD11FAB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EB804-9D45-43C4-A52C-0950DF64F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0C73-FA17-4E52-96FE-326232EF08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14894-0114-41DE-8B12-09F5E35B6C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F7457-4218-47B7-B654-7F5F56F1A2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1E423-3FF5-4BB8-B9C7-902CD49DA4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13ACC-9701-4121-80C0-4760696363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F5C4C-E8DD-4C8E-873E-BEC64C1697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5CC25-AFAD-4374-8579-75432E046E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57493-24AD-41B1-8107-014043D53B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807E4-AB4D-49C5-BBEF-68EF5ACFFB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9CF15-F652-4C8C-814E-DA63664612F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25290-4CA3-422B-BDAE-30C7A4771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BAF5-8AA8-4F91-B8F4-BCC5C05B63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3F6DD-3BCE-466D-B135-5097D52F2F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4824E-D8E4-42F3-9E9D-5C0073990D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60CE7-73E3-46C9-A5F9-232ED01DD0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62379-2A68-4C38-BD18-E76A98D2BF1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EA74B-24B3-48F5-B22E-17D3E0E1E81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5BF09-642B-41E8-A373-23BA9882857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56A2E-B209-4458-B6A1-C127D873A6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74B3D-6C68-4DE5-B53B-7D2A08531D2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1AD83-9D86-416B-B751-1E46A8AB24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29050-EFDD-47D5-96C0-D4966D7E0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4010-2EE5-4FD7-B4D3-5988FBD6F8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1C843-1C18-44AA-85AC-5806989C03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1C59-8846-43D6-B9FD-B443031E14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A3E5-A269-4AF3-9302-9FDA85C975F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AB67-44E9-4CD7-B1DD-1E15C5E86AA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1288-0BE6-4C4B-A7CF-ED2573012A3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1980-95B5-48EB-B5D4-1B955CA4421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89EA-A9F7-4764-980D-81EE454126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2B13-0751-47BD-848E-FB8F60601E0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8B9B-821A-49C1-AB07-8B2B2C5816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D426-8015-4755-B03F-DC6745D2A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5E71-AE5B-49FD-909A-D77477407D7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3E2A-041E-4F6F-AF5C-C1D2E821F3D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4C6E-2C02-4469-8D1A-F25CDF5A59B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CAC7-E0EE-47AA-B70E-3DAAD44FD5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686CFF-B315-42DA-8E04-F2FF8B57DC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61F55-2CCD-4CAB-BB39-FE74D6D31F7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331CF-FFDF-4C48-B33C-FEE4DE591F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49682-8A07-442D-90C7-8FB721F3DE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4F2C6-00FD-4E58-9C4E-46FB6A2EBF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AF95B-8954-4D0B-99ED-346891B3ADD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075CE-E218-47A1-B07A-39426D0B9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FC5D-C088-4FF1-B095-25580F1554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2AB199-4A60-4771-8C32-DE3E7D9A6DB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AF169-5004-478B-83EB-86803F649E1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49550-79A9-4DCB-916B-8F91F3CB76E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32070-8902-4776-B2A4-BB33EC60B6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C7D97-981C-4F38-A094-BDDB1A67C7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CC3E0-D8CC-4829-B42C-BC2683166B5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EB48C-9A7E-4A3B-A9A5-5DD07E94FDB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E4C65-ACA9-4324-BABD-796C96063DC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CA4D1-C19A-46AB-A121-D438D181B47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DA15D-E177-498F-8D3D-11C88F8EA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4241-41CF-479D-B532-58F8AC53C50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FB226-D2F1-4E81-AC0F-297A7AF1D2E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910CE-AAB9-4764-9045-D6E532B1F8B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94AC9-60F1-48FB-B377-63D1B680A5C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D1E2D-FCC4-4F12-BAA5-206355466FE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0D899-C5E2-47F8-AECC-D70F795C945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0C3F3-85AA-4C10-A0D4-61A1A83F07B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17B27-FFBA-423A-9380-8DDD8D68E7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E615-3604-4732-9DE1-AE5442C08A1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2DBC6-6F6A-4398-8E76-A670579E37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AE74-5E85-4DFD-B947-462703339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9D23-0A09-4E29-9828-834AA5E44A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E9BA-B1A1-4799-AC92-A181355E400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AEE5-ADA7-4F0E-BC94-B9D9A829310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B47A-E442-4B0E-BE20-AEAC6E6B72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218E-3C03-47EE-84B0-3F8B0BC16C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07E6-0E68-495E-809B-0BD9FFC7E4B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8668-4547-43D5-ADA7-4D8E47186E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FFAD-7D52-49BB-8EDB-932E4B9AA2C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13FA-4205-49F7-ABE0-0F8463AAC7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A086-8A70-48B4-98E5-4DD2896854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7D0E-BD4B-425E-BB4C-076F6DCF2E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dynamic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Entropy and Free Energy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7978-301A-44A6-B828-84E76CBF240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1920" y="190440"/>
            <a:ext cx="1268748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 and Reaction Direction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 - 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4CBB-5D7B-40B9-AB32-AAF13E48FEC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DC46-BCE5-4052-BA83-BA608E15FD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dd2067"/>
                </a:solidFill>
                <a:latin typeface="Arial"/>
              </a:rPr>
              <a:t>Solid (If all other things were similar)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not really enough information to determ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ABF4-63A9-4DBA-A20C-C5C50E194D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gol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BC12-DBCD-4C72-BC3F-8BB3821D89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dd2067"/>
                </a:solidFill>
                <a:latin typeface="Arial"/>
              </a:rPr>
              <a:t>1 mole of gold, since it is solid, yet the mercury would be liquid at room temp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E206-3B00-4906-822B-96D736E5DD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FBD4-8350-499E-80E5-0CA2F48E27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N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 u="sng">
                <a:solidFill>
                  <a:srgbClr val="dd2067"/>
                </a:solidFill>
                <a:uFillTx/>
                <a:latin typeface="Arial"/>
              </a:rPr>
              <a:t>All else being the same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, larger molecules have higher entropy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27F2-2C5A-44C1-9DCF-D3D710867C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2680" y="6781320"/>
            <a:ext cx="12687480" cy="28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nd can you name these three molecules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EB68-08BF-43FD-B3CC-7EBA59B7B4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0" t="0" r="0" b="27440"/>
          <a:stretch/>
        </p:blipFill>
        <p:spPr>
          <a:xfrm>
            <a:off x="203040" y="2629080"/>
            <a:ext cx="12520800" cy="28317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162828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575784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1046952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158C-0FB8-4551-A52A-0786A573C8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02680" y="2006280"/>
            <a:ext cx="12687480" cy="76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ropane is a larger an thus has more entropy than analogous molecules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FE2A-241D-462F-BA4E-06675E3A96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rcRect l="0" t="0" r="0" b="7908"/>
          <a:stretch/>
        </p:blipFill>
        <p:spPr>
          <a:xfrm>
            <a:off x="241200" y="4013280"/>
            <a:ext cx="12520800" cy="3593880"/>
          </a:xfrm>
          <a:prstGeom prst="rect">
            <a:avLst/>
          </a:prstGeom>
          <a:ln w="0">
            <a:noFill/>
          </a:ln>
        </p:spPr>
      </p:pic>
      <p:sp>
        <p:nvSpPr>
          <p:cNvPr id="467" name="Oval 5"/>
          <p:cNvSpPr/>
          <p:nvPr/>
        </p:nvSpPr>
        <p:spPr>
          <a:xfrm>
            <a:off x="8255160" y="3759120"/>
            <a:ext cx="4597200" cy="4102200"/>
          </a:xfrm>
          <a:prstGeom prst="ellipse">
            <a:avLst/>
          </a:prstGeom>
          <a:noFill/>
          <a:ln w="63360">
            <a:solidFill>
              <a:srgbClr val="dd20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0325-8A3F-44F7-B191-F8CEBAC6412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two moles of 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8DE9-8FF9-4CDB-98F5-5CBE1A9147D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7840" y="25200"/>
            <a:ext cx="12687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7480" y="1307880"/>
            <a:ext cx="12649320" cy="78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very process has a preferred direction, which can be referred to as the spontaneous direction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spontaneous process can be reversed only by some action or outside forc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process can be spontaneous, yet may not occur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er behind a dam won’t flow until the gate is open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mixture of CH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will remain until spark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pontaneous in thermodynamics does not have the same meaning as in everyday spe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E577-8F74-4678-9BAD-1776234019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two moles of NO</a:t>
            </a:r>
            <a:r>
              <a:rPr b="0" lang="en-US" sz="72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since these molecules are not tied together with a bon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12C9-2F4C-4206-8F3A-375B909A18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ºC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739B-B32E-49E4-9014-C1D5533E96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e at 0ºC (This is 273 K…a higher temp=more entropy all else being the sam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341A-9EB4-43F2-98CE-4ACDEE2A71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2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 and 2 have the same entropy 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2F2F-752E-4B77-8C16-5A5D7319E5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10 ml of 2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Higher concentration will have more entropy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 and 2 have the same entropy </a:t>
            </a: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A551-C66C-4AA9-B183-D49E9ADF24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BEA7-452B-486F-814C-E171F29E23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8DA7-A938-4904-8026-BEA816DD8B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E6C6-BD7A-47E4-9AC7-DBAAFA9DAE1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8007-DCE5-4C76-865B-47200A8439A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0861-D2AC-4AAF-AB99-BA89BFA354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5BDE-5EE6-442E-953A-76F6BB0EB4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salt &gt; 0  alway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water &lt; 0 sometimes (Remember how water surrounds the ions in a hydrosphere? This creates more order in the water.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F154-2B09-41B1-BE45-7B8F3AEDEC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4FA9-6D65-4E61-A9A8-0243FC7ABC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 (more than 1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Na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AF01-F791-4292-9DF5-1C43AAEA2D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DE27-28EA-40F8-8BEF-78D57EC0768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e Common-Sense Law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gs tend to become dispers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bles will scatter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not roll back in the bag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ences fall down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piles of wood don’t assembl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igsaw puzzles disassemble easily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shaking the box never result in reassemb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ach process reduces the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on the objec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811C-2536-41C6-B45F-EEB1007C99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Ca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Ca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NaCl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Na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+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l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-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be unlikely that you would be asked to distinguish something like this as it is a VERY tough decision as demonstrated by next slide showing that there is very small entropy de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2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⇋ 3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F530-DA8C-48F3-9FEF-410F0106AB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BDB6-F5F3-47DA-8AE7-DAE9B6FEC2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080" y="202680"/>
            <a:ext cx="12687480" cy="22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8880" y="1816200"/>
            <a:ext cx="3961440" cy="3895200"/>
            <a:chOff x="38880" y="1816200"/>
            <a:chExt cx="3961440" cy="3895200"/>
          </a:xfrm>
        </p:grpSpPr>
        <p:grpSp>
          <p:nvGrpSpPr>
            <p:cNvPr id="514" name="Group 4"/>
            <p:cNvGrpSpPr/>
            <p:nvPr/>
          </p:nvGrpSpPr>
          <p:grpSpPr>
            <a:xfrm>
              <a:off x="38880" y="1816200"/>
              <a:ext cx="3961440" cy="3895200"/>
              <a:chOff x="38880" y="1816200"/>
              <a:chExt cx="3961440" cy="3895200"/>
            </a:xfrm>
          </p:grpSpPr>
          <p:sp>
            <p:nvSpPr>
              <p:cNvPr id="515" name="Line 5"/>
              <p:cNvSpPr/>
              <p:nvPr/>
            </p:nvSpPr>
            <p:spPr>
              <a:xfrm>
                <a:off x="31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6"/>
              <p:cNvSpPr/>
              <p:nvPr/>
            </p:nvSpPr>
            <p:spPr>
              <a:xfrm>
                <a:off x="31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7"/>
              <p:cNvSpPr/>
              <p:nvPr/>
            </p:nvSpPr>
            <p:spPr>
              <a:xfrm>
                <a:off x="156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8"/>
              <p:cNvSpPr/>
              <p:nvPr/>
            </p:nvSpPr>
            <p:spPr>
              <a:xfrm>
                <a:off x="278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9"/>
              <p:cNvSpPr/>
              <p:nvPr/>
            </p:nvSpPr>
            <p:spPr>
              <a:xfrm>
                <a:off x="32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10"/>
              <p:cNvSpPr/>
              <p:nvPr/>
            </p:nvSpPr>
            <p:spPr>
              <a:xfrm>
                <a:off x="57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1"/>
              <p:cNvSpPr/>
              <p:nvPr/>
            </p:nvSpPr>
            <p:spPr>
              <a:xfrm>
                <a:off x="177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2"/>
              <p:cNvSpPr/>
              <p:nvPr/>
            </p:nvSpPr>
            <p:spPr>
              <a:xfrm>
                <a:off x="311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3"/>
              <p:cNvSpPr/>
              <p:nvPr/>
            </p:nvSpPr>
            <p:spPr>
              <a:xfrm>
                <a:off x="141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4"/>
              <p:cNvSpPr/>
              <p:nvPr/>
            </p:nvSpPr>
            <p:spPr>
              <a:xfrm>
                <a:off x="3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Line 15"/>
            <p:cNvSpPr/>
            <p:nvPr/>
          </p:nvSpPr>
          <p:spPr>
            <a:xfrm flipV="1">
              <a:off x="330120" y="2270160"/>
              <a:ext cx="3520800" cy="31017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6"/>
          <p:cNvGrpSpPr/>
          <p:nvPr/>
        </p:nvGrpSpPr>
        <p:grpSpPr>
          <a:xfrm>
            <a:off x="4063320" y="5753160"/>
            <a:ext cx="3962520" cy="3895200"/>
            <a:chOff x="4063320" y="5753160"/>
            <a:chExt cx="3962520" cy="3895200"/>
          </a:xfrm>
        </p:grpSpPr>
        <p:grpSp>
          <p:nvGrpSpPr>
            <p:cNvPr id="527" name="Group 17"/>
            <p:cNvGrpSpPr/>
            <p:nvPr/>
          </p:nvGrpSpPr>
          <p:grpSpPr>
            <a:xfrm>
              <a:off x="4063320" y="5753160"/>
              <a:ext cx="3962520" cy="3895200"/>
              <a:chOff x="4063320" y="5753160"/>
              <a:chExt cx="3962520" cy="3895200"/>
            </a:xfrm>
          </p:grpSpPr>
          <p:sp>
            <p:nvSpPr>
              <p:cNvPr id="528" name="Line 18"/>
              <p:cNvSpPr/>
              <p:nvPr/>
            </p:nvSpPr>
            <p:spPr>
              <a:xfrm>
                <a:off x="4341600" y="9321840"/>
                <a:ext cx="36810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9"/>
              <p:cNvSpPr/>
              <p:nvPr/>
            </p:nvSpPr>
            <p:spPr>
              <a:xfrm>
                <a:off x="4341600" y="5753160"/>
                <a:ext cx="121968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20"/>
              <p:cNvSpPr/>
              <p:nvPr/>
            </p:nvSpPr>
            <p:spPr>
              <a:xfrm>
                <a:off x="5586840" y="5753160"/>
                <a:ext cx="121932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21"/>
              <p:cNvSpPr/>
              <p:nvPr/>
            </p:nvSpPr>
            <p:spPr>
              <a:xfrm>
                <a:off x="6806160" y="5753160"/>
                <a:ext cx="121968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22"/>
              <p:cNvSpPr/>
              <p:nvPr/>
            </p:nvSpPr>
            <p:spPr>
              <a:xfrm>
                <a:off x="434484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3"/>
              <p:cNvSpPr/>
              <p:nvPr/>
            </p:nvSpPr>
            <p:spPr>
              <a:xfrm>
                <a:off x="459612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24"/>
              <p:cNvSpPr/>
              <p:nvPr/>
            </p:nvSpPr>
            <p:spPr>
              <a:xfrm>
                <a:off x="57963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5"/>
              <p:cNvSpPr/>
              <p:nvPr/>
            </p:nvSpPr>
            <p:spPr>
              <a:xfrm>
                <a:off x="713988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26"/>
              <p:cNvSpPr/>
              <p:nvPr/>
            </p:nvSpPr>
            <p:spPr>
              <a:xfrm>
                <a:off x="544068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27"/>
              <p:cNvSpPr/>
              <p:nvPr/>
            </p:nvSpPr>
            <p:spPr>
              <a:xfrm>
                <a:off x="406332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Line 28"/>
            <p:cNvSpPr/>
            <p:nvPr/>
          </p:nvSpPr>
          <p:spPr>
            <a:xfrm flipV="1">
              <a:off x="4354560" y="895176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9"/>
            <p:cNvSpPr/>
            <p:nvPr/>
          </p:nvSpPr>
          <p:spPr>
            <a:xfrm flipV="1">
              <a:off x="5586840" y="8248680"/>
              <a:ext cx="1214640" cy="6667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0"/>
            <p:cNvSpPr/>
            <p:nvPr/>
          </p:nvSpPr>
          <p:spPr>
            <a:xfrm flipV="1">
              <a:off x="6819480" y="6516360"/>
              <a:ext cx="1175040" cy="17002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1"/>
          <p:cNvGrpSpPr/>
          <p:nvPr/>
        </p:nvGrpSpPr>
        <p:grpSpPr>
          <a:xfrm>
            <a:off x="8228880" y="1816200"/>
            <a:ext cx="3966120" cy="3895200"/>
            <a:chOff x="8228880" y="1816200"/>
            <a:chExt cx="3966120" cy="3895200"/>
          </a:xfrm>
        </p:grpSpPr>
        <p:grpSp>
          <p:nvGrpSpPr>
            <p:cNvPr id="542" name="Group 32"/>
            <p:cNvGrpSpPr/>
            <p:nvPr/>
          </p:nvGrpSpPr>
          <p:grpSpPr>
            <a:xfrm>
              <a:off x="8228880" y="1816200"/>
              <a:ext cx="3961440" cy="3895200"/>
              <a:chOff x="8228880" y="1816200"/>
              <a:chExt cx="3961440" cy="3895200"/>
            </a:xfrm>
          </p:grpSpPr>
          <p:sp>
            <p:nvSpPr>
              <p:cNvPr id="543" name="Line 33"/>
              <p:cNvSpPr/>
              <p:nvPr/>
            </p:nvSpPr>
            <p:spPr>
              <a:xfrm>
                <a:off x="850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4"/>
              <p:cNvSpPr/>
              <p:nvPr/>
            </p:nvSpPr>
            <p:spPr>
              <a:xfrm>
                <a:off x="850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5"/>
              <p:cNvSpPr/>
              <p:nvPr/>
            </p:nvSpPr>
            <p:spPr>
              <a:xfrm>
                <a:off x="975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6"/>
              <p:cNvSpPr/>
              <p:nvPr/>
            </p:nvSpPr>
            <p:spPr>
              <a:xfrm>
                <a:off x="1097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7"/>
              <p:cNvSpPr/>
              <p:nvPr/>
            </p:nvSpPr>
            <p:spPr>
              <a:xfrm>
                <a:off x="851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8"/>
              <p:cNvSpPr/>
              <p:nvPr/>
            </p:nvSpPr>
            <p:spPr>
              <a:xfrm>
                <a:off x="876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9"/>
              <p:cNvSpPr/>
              <p:nvPr/>
            </p:nvSpPr>
            <p:spPr>
              <a:xfrm>
                <a:off x="996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40"/>
              <p:cNvSpPr/>
              <p:nvPr/>
            </p:nvSpPr>
            <p:spPr>
              <a:xfrm>
                <a:off x="1130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41"/>
              <p:cNvSpPr/>
              <p:nvPr/>
            </p:nvSpPr>
            <p:spPr>
              <a:xfrm>
                <a:off x="960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42"/>
              <p:cNvSpPr/>
              <p:nvPr/>
            </p:nvSpPr>
            <p:spPr>
              <a:xfrm>
                <a:off x="822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Line 43"/>
            <p:cNvSpPr/>
            <p:nvPr/>
          </p:nvSpPr>
          <p:spPr>
            <a:xfrm flipV="1">
              <a:off x="8532720" y="51447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44"/>
            <p:cNvSpPr/>
            <p:nvPr/>
          </p:nvSpPr>
          <p:spPr>
            <a:xfrm flipV="1">
              <a:off x="9752040" y="458640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45"/>
            <p:cNvSpPr/>
            <p:nvPr/>
          </p:nvSpPr>
          <p:spPr>
            <a:xfrm flipV="1">
              <a:off x="10971000" y="284652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6"/>
            <p:cNvSpPr/>
            <p:nvPr/>
          </p:nvSpPr>
          <p:spPr>
            <a:xfrm flipH="1" flipV="1">
              <a:off x="10949040" y="2873520"/>
              <a:ext cx="9360" cy="16984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47"/>
            <p:cNvSpPr/>
            <p:nvPr/>
          </p:nvSpPr>
          <p:spPr>
            <a:xfrm flipV="1">
              <a:off x="9738360" y="4622760"/>
              <a:ext cx="180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48"/>
          <p:cNvGrpSpPr/>
          <p:nvPr/>
        </p:nvGrpSpPr>
        <p:grpSpPr>
          <a:xfrm>
            <a:off x="4050720" y="1816200"/>
            <a:ext cx="3962520" cy="3895200"/>
            <a:chOff x="4050720" y="1816200"/>
            <a:chExt cx="3962520" cy="3895200"/>
          </a:xfrm>
        </p:grpSpPr>
        <p:grpSp>
          <p:nvGrpSpPr>
            <p:cNvPr id="559" name="Group 49"/>
            <p:cNvGrpSpPr/>
            <p:nvPr/>
          </p:nvGrpSpPr>
          <p:grpSpPr>
            <a:xfrm>
              <a:off x="4050720" y="1816200"/>
              <a:ext cx="3962160" cy="3895200"/>
              <a:chOff x="4050720" y="1816200"/>
              <a:chExt cx="3962160" cy="3895200"/>
            </a:xfrm>
          </p:grpSpPr>
          <p:sp>
            <p:nvSpPr>
              <p:cNvPr id="560" name="Line 50"/>
              <p:cNvSpPr/>
              <p:nvPr/>
            </p:nvSpPr>
            <p:spPr>
              <a:xfrm>
                <a:off x="4329000" y="5384880"/>
                <a:ext cx="36806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51"/>
              <p:cNvSpPr/>
              <p:nvPr/>
            </p:nvSpPr>
            <p:spPr>
              <a:xfrm>
                <a:off x="432900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52"/>
              <p:cNvSpPr/>
              <p:nvPr/>
            </p:nvSpPr>
            <p:spPr>
              <a:xfrm>
                <a:off x="55742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53"/>
              <p:cNvSpPr/>
              <p:nvPr/>
            </p:nvSpPr>
            <p:spPr>
              <a:xfrm>
                <a:off x="679356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54"/>
              <p:cNvSpPr/>
              <p:nvPr/>
            </p:nvSpPr>
            <p:spPr>
              <a:xfrm>
                <a:off x="433224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55"/>
              <p:cNvSpPr/>
              <p:nvPr/>
            </p:nvSpPr>
            <p:spPr>
              <a:xfrm>
                <a:off x="458352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56"/>
              <p:cNvSpPr/>
              <p:nvPr/>
            </p:nvSpPr>
            <p:spPr>
              <a:xfrm>
                <a:off x="57837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57"/>
              <p:cNvSpPr/>
              <p:nvPr/>
            </p:nvSpPr>
            <p:spPr>
              <a:xfrm>
                <a:off x="712692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58"/>
              <p:cNvSpPr/>
              <p:nvPr/>
            </p:nvSpPr>
            <p:spPr>
              <a:xfrm>
                <a:off x="542808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59"/>
              <p:cNvSpPr/>
              <p:nvPr/>
            </p:nvSpPr>
            <p:spPr>
              <a:xfrm>
                <a:off x="405072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Line 60"/>
            <p:cNvSpPr/>
            <p:nvPr/>
          </p:nvSpPr>
          <p:spPr>
            <a:xfrm flipV="1">
              <a:off x="4341960" y="501480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61"/>
            <p:cNvSpPr/>
            <p:nvPr/>
          </p:nvSpPr>
          <p:spPr>
            <a:xfrm flipV="1">
              <a:off x="5574240" y="4001760"/>
              <a:ext cx="124632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62"/>
            <p:cNvSpPr/>
            <p:nvPr/>
          </p:nvSpPr>
          <p:spPr>
            <a:xfrm flipV="1">
              <a:off x="6793560" y="1974600"/>
              <a:ext cx="121968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63"/>
            <p:cNvSpPr/>
            <p:nvPr/>
          </p:nvSpPr>
          <p:spPr>
            <a:xfrm flipH="1" flipV="1">
              <a:off x="6771600" y="2720520"/>
              <a:ext cx="9360" cy="126684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4"/>
            <p:cNvSpPr/>
            <p:nvPr/>
          </p:nvSpPr>
          <p:spPr>
            <a:xfrm flipV="1">
              <a:off x="5574240" y="447048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5"/>
          <p:cNvGrpSpPr/>
          <p:nvPr/>
        </p:nvGrpSpPr>
        <p:grpSpPr>
          <a:xfrm>
            <a:off x="8228880" y="5753160"/>
            <a:ext cx="3966120" cy="3895200"/>
            <a:chOff x="8228880" y="5753160"/>
            <a:chExt cx="3966120" cy="3895200"/>
          </a:xfrm>
        </p:grpSpPr>
        <p:grpSp>
          <p:nvGrpSpPr>
            <p:cNvPr id="576" name="Group 66"/>
            <p:cNvGrpSpPr/>
            <p:nvPr/>
          </p:nvGrpSpPr>
          <p:grpSpPr>
            <a:xfrm>
              <a:off x="8228880" y="5753160"/>
              <a:ext cx="3961440" cy="3895200"/>
              <a:chOff x="8228880" y="5753160"/>
              <a:chExt cx="3961440" cy="3895200"/>
            </a:xfrm>
          </p:grpSpPr>
          <p:sp>
            <p:nvSpPr>
              <p:cNvPr id="577" name="Line 67"/>
              <p:cNvSpPr/>
              <p:nvPr/>
            </p:nvSpPr>
            <p:spPr>
              <a:xfrm>
                <a:off x="85071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68"/>
              <p:cNvSpPr/>
              <p:nvPr/>
            </p:nvSpPr>
            <p:spPr>
              <a:xfrm>
                <a:off x="85071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69"/>
              <p:cNvSpPr/>
              <p:nvPr/>
            </p:nvSpPr>
            <p:spPr>
              <a:xfrm>
                <a:off x="97520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70"/>
              <p:cNvSpPr/>
              <p:nvPr/>
            </p:nvSpPr>
            <p:spPr>
              <a:xfrm>
                <a:off x="109710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71"/>
              <p:cNvSpPr/>
              <p:nvPr/>
            </p:nvSpPr>
            <p:spPr>
              <a:xfrm>
                <a:off x="85104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72"/>
              <p:cNvSpPr/>
              <p:nvPr/>
            </p:nvSpPr>
            <p:spPr>
              <a:xfrm>
                <a:off x="87616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73"/>
              <p:cNvSpPr/>
              <p:nvPr/>
            </p:nvSpPr>
            <p:spPr>
              <a:xfrm>
                <a:off x="99615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74"/>
              <p:cNvSpPr/>
              <p:nvPr/>
            </p:nvSpPr>
            <p:spPr>
              <a:xfrm>
                <a:off x="113043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75"/>
              <p:cNvSpPr/>
              <p:nvPr/>
            </p:nvSpPr>
            <p:spPr>
              <a:xfrm>
                <a:off x="96055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76"/>
              <p:cNvSpPr/>
              <p:nvPr/>
            </p:nvSpPr>
            <p:spPr>
              <a:xfrm>
                <a:off x="82288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Line 77"/>
            <p:cNvSpPr/>
            <p:nvPr/>
          </p:nvSpPr>
          <p:spPr>
            <a:xfrm flipV="1">
              <a:off x="8532720" y="908172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78"/>
            <p:cNvSpPr/>
            <p:nvPr/>
          </p:nvSpPr>
          <p:spPr>
            <a:xfrm flipV="1">
              <a:off x="9752040" y="78879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79"/>
            <p:cNvSpPr/>
            <p:nvPr/>
          </p:nvSpPr>
          <p:spPr>
            <a:xfrm flipV="1">
              <a:off x="10971000" y="668124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80"/>
            <p:cNvSpPr/>
            <p:nvPr/>
          </p:nvSpPr>
          <p:spPr>
            <a:xfrm flipH="1" flipV="1">
              <a:off x="9736200" y="787356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81"/>
            <p:cNvSpPr/>
            <p:nvPr/>
          </p:nvSpPr>
          <p:spPr>
            <a:xfrm flipH="1" flipV="1">
              <a:off x="10968120" y="666720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Rectangle 82"/>
          <p:cNvSpPr/>
          <p:nvPr/>
        </p:nvSpPr>
        <p:spPr>
          <a:xfrm>
            <a:off x="197100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3"/>
          <p:cNvSpPr/>
          <p:nvPr/>
        </p:nvSpPr>
        <p:spPr>
          <a:xfrm>
            <a:off x="599688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4"/>
          <p:cNvSpPr/>
          <p:nvPr/>
        </p:nvSpPr>
        <p:spPr>
          <a:xfrm>
            <a:off x="1016244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5"/>
          <p:cNvSpPr/>
          <p:nvPr/>
        </p:nvSpPr>
        <p:spPr>
          <a:xfrm>
            <a:off x="607320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6"/>
          <p:cNvSpPr/>
          <p:nvPr/>
        </p:nvSpPr>
        <p:spPr>
          <a:xfrm>
            <a:off x="1023876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87"/>
          <p:cNvGrpSpPr/>
          <p:nvPr/>
        </p:nvGrpSpPr>
        <p:grpSpPr>
          <a:xfrm>
            <a:off x="26280" y="5753160"/>
            <a:ext cx="3961440" cy="3895200"/>
            <a:chOff x="26280" y="5753160"/>
            <a:chExt cx="3961440" cy="3895200"/>
          </a:xfrm>
        </p:grpSpPr>
        <p:grpSp>
          <p:nvGrpSpPr>
            <p:cNvPr id="598" name="Group 88"/>
            <p:cNvGrpSpPr/>
            <p:nvPr/>
          </p:nvGrpSpPr>
          <p:grpSpPr>
            <a:xfrm>
              <a:off x="26280" y="5753160"/>
              <a:ext cx="3961440" cy="3895200"/>
              <a:chOff x="26280" y="5753160"/>
              <a:chExt cx="3961440" cy="3895200"/>
            </a:xfrm>
          </p:grpSpPr>
          <p:sp>
            <p:nvSpPr>
              <p:cNvPr id="599" name="Line 89"/>
              <p:cNvSpPr/>
              <p:nvPr/>
            </p:nvSpPr>
            <p:spPr>
              <a:xfrm>
                <a:off x="3045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90"/>
              <p:cNvSpPr/>
              <p:nvPr/>
            </p:nvSpPr>
            <p:spPr>
              <a:xfrm>
                <a:off x="3045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91"/>
              <p:cNvSpPr/>
              <p:nvPr/>
            </p:nvSpPr>
            <p:spPr>
              <a:xfrm>
                <a:off x="15494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92"/>
              <p:cNvSpPr/>
              <p:nvPr/>
            </p:nvSpPr>
            <p:spPr>
              <a:xfrm>
                <a:off x="27684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93"/>
              <p:cNvSpPr/>
              <p:nvPr/>
            </p:nvSpPr>
            <p:spPr>
              <a:xfrm>
                <a:off x="3078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94"/>
              <p:cNvSpPr/>
              <p:nvPr/>
            </p:nvSpPr>
            <p:spPr>
              <a:xfrm>
                <a:off x="5590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95"/>
              <p:cNvSpPr/>
              <p:nvPr/>
            </p:nvSpPr>
            <p:spPr>
              <a:xfrm>
                <a:off x="17589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96"/>
              <p:cNvSpPr/>
              <p:nvPr/>
            </p:nvSpPr>
            <p:spPr>
              <a:xfrm>
                <a:off x="31017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97"/>
              <p:cNvSpPr/>
              <p:nvPr/>
            </p:nvSpPr>
            <p:spPr>
              <a:xfrm>
                <a:off x="14029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98"/>
              <p:cNvSpPr/>
              <p:nvPr/>
            </p:nvSpPr>
            <p:spPr>
              <a:xfrm>
                <a:off x="262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Line 99"/>
            <p:cNvSpPr/>
            <p:nvPr/>
          </p:nvSpPr>
          <p:spPr>
            <a:xfrm>
              <a:off x="322200" y="8902800"/>
              <a:ext cx="121608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0"/>
            <p:cNvSpPr/>
            <p:nvPr/>
          </p:nvSpPr>
          <p:spPr>
            <a:xfrm flipV="1">
              <a:off x="1548720" y="7938720"/>
              <a:ext cx="124596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1"/>
            <p:cNvSpPr/>
            <p:nvPr/>
          </p:nvSpPr>
          <p:spPr>
            <a:xfrm flipV="1">
              <a:off x="2767680" y="5911560"/>
              <a:ext cx="121932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02"/>
            <p:cNvSpPr/>
            <p:nvPr/>
          </p:nvSpPr>
          <p:spPr>
            <a:xfrm flipH="1" flipV="1">
              <a:off x="2746440" y="6657480"/>
              <a:ext cx="9360" cy="126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03"/>
            <p:cNvSpPr/>
            <p:nvPr/>
          </p:nvSpPr>
          <p:spPr>
            <a:xfrm flipV="1">
              <a:off x="1549440" y="840744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Rectangle 104"/>
          <p:cNvSpPr/>
          <p:nvPr/>
        </p:nvSpPr>
        <p:spPr>
          <a:xfrm>
            <a:off x="1971000" y="687420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6499-A908-4DC2-B744-893DE5022E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03040" y="2629080"/>
            <a:ext cx="6591600" cy="69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ntropy increase as temperature increases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t phase changes, temperature stays the same (remember!) but the disorder will continue to increase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"/>
          <p:cNvPicPr/>
          <p:nvPr/>
        </p:nvPicPr>
        <p:blipFill>
          <a:blip r:embed="rId1"/>
          <a:srcRect l="0" t="0" r="0" b="4244"/>
          <a:stretch/>
        </p:blipFill>
        <p:spPr>
          <a:xfrm>
            <a:off x="6969240" y="2082960"/>
            <a:ext cx="5921280" cy="51814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3A01-E218-4C55-A41E-62B9F35690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9F8E-30CD-4B87-9535-81533CF2DE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ter at room temperature decomposes into gaseous 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66A0-AC50-4D4B-96C5-159170902A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F958-A53A-4372-A3E6-DAD72D12FE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Water at room temperature decomposes into gaseous H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 and O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1001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61b0"/>
                </a:solidFill>
                <a:latin typeface="Arial"/>
              </a:rPr>
              <a:t># 3 is at equilibrium, ∆G = 0, below 80.1º it would be spontaneous, above 80.1ºC is not spontaneo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9F7F-9AA6-4E16-98CF-8FC838E134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FF42-9BEB-4AB4-AA38-DB31FCC8CEC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1920" y="190080"/>
            <a:ext cx="1268748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</a:t>
            </a:r>
            <a:br>
              <a:rPr sz="7400"/>
            </a:br>
            <a:r>
              <a:rPr b="0" lang="en-US" sz="6600" spc="-1" strike="noStrike">
                <a:solidFill>
                  <a:srgbClr val="00007d"/>
                </a:solidFill>
                <a:latin typeface="Arial"/>
              </a:rPr>
              <a:t>as related to Reaction Direction</a:t>
            </a:r>
            <a:endParaRPr b="0" lang="en-US" sz="6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0B35-1CE4-4227-9741-9D2DD2BD785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wo Forces Drive Reaction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 entrop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 increase (+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w energ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 decrease (-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391A-F6A5-4318-8B76-3B859F239C6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7400" spc="-1" strike="noStrike" baseline="32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54160" y="1473120"/>
            <a:ext cx="1264896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om the second law of thermodynamics, we know that the entropy of the universe is always increasing. For every process and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20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t it is not always easy or practical to calculate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because it is difficult to know all of the entropy changes to the surroundings (universe),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EF94-1D71-4D3E-AEE8-C3816063203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7d"/>
                </a:solidFill>
                <a:latin typeface="Arial"/>
              </a:rPr>
              <a:t>So how can we predict spontaneity?</a:t>
            </a:r>
            <a:endParaRPr b="0" lang="en-US" sz="6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ibbs Free Energy (G) combines the two driving forces into one relationshi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aximum useful work that can be done by a system on its surroundings in a spontaneous process occurring at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constant temp and pressur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= ∆H - T∆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though the restriction of constant T and P are stringent, they do apply to many important chemical process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iological processes in the bo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boratory or industrially controlled proc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3F00-0C8C-4660-B0E3-A36AC6C8E9E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7d"/>
                </a:solidFill>
                <a:latin typeface="Arial"/>
              </a:rPr>
              <a:t>The Common-Sense Law applies at the molecular level as well. </a:t>
            </a:r>
            <a:endParaRPr b="0" lang="en-US" sz="6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7480" y="2552760"/>
            <a:ext cx="12649320" cy="70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lt disso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ases disp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7478640" y="2349360"/>
            <a:ext cx="4954680" cy="4330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rcRect l="0" t="0" r="0" b="11224"/>
          <a:stretch/>
        </p:blipFill>
        <p:spPr>
          <a:xfrm>
            <a:off x="579600" y="6934320"/>
            <a:ext cx="11437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A2D7-E7A9-41C6-BA44-C28BC0C8576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G = ∆H - T∆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lt; 0 , a reaction will proceed in the forward direction and is considered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= 0, a reaction will be at equilibrium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gt; 0, a reaction will not proceed in forward direction and is considered not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29CD-E7AF-4D05-812A-7C5F2CB9212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0840" y="19008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7d"/>
                </a:solidFill>
                <a:latin typeface="Arial"/>
              </a:rPr>
              <a:t>Using ∆Gº</a:t>
            </a:r>
            <a:endParaRPr b="0" lang="en-US" sz="6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40840" y="1320840"/>
            <a:ext cx="12649320" cy="82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tandard condi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at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M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e ∆Gº values in the table are reported for temperatures at 25º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values have been established for a great many substances making the ∆G calculation below convenient at 1M or 1atm at 25ºC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Rx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=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prod -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rea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C146-2422-4CCB-AC77-CF874B2279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02680" y="5625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5A45-8227-4913-9605-3537CD46F1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0301-0B3D-40FE-A870-6270EFB143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02680" y="4330440"/>
            <a:ext cx="1268748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Yes, at approximately 632 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H=+74kJ, ∆S=117J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G = ∆H - T∆S, since ∆G&gt;0 is not spontaneous and ∆G&lt;0 is spontaneous, when ∆G=0 the spontaneity “switches”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0 = 74kJ - T(0.117kJ)  solve T = 632 K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FF19-D2B8-40B4-8CC9-BC33AC140F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87AB-156F-41D7-8AF6-8EE7BFEDCE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298 K this reaction is not spontaneous and at temps above 632 K the reaction becomes spontaneous. What occurs AT 632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17520" y="5753160"/>
            <a:ext cx="1268712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is at equilibrium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CD60-31BF-4745-AD5E-57222674F9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4A21-31A0-4998-B26D-8556E6AF5B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standard conditions this reaction is not spontaneous and at temps above 633 K the reaction becomes spontaneous. What occurs AT 633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02680" y="5118120"/>
            <a:ext cx="1268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The reaction is at equilibrium, since ∆G =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C02F-611F-4A0D-807C-4C4ABBDB4E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22ED-1D96-4984-A740-14A6BE9C50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 don’t know, and I would just be guessing or following my neighbors, but I don’t really know how to analytically think through to an answ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910D-8153-47F2-AAB7-71218B5380D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1250-E87E-4743-8825-1FB7003F534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d2067"/>
                </a:solidFill>
                <a:latin typeface="Arial"/>
              </a:rPr>
              <a:t>no, remember: ∆G = ∆H - T∆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When ∆H is +, and ∆S is -, no temperature will ever make the reaction spontaneou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f ∆H is - and ∆S is -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ncreasing the T value will make ∆G more +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decreasing the T would make the less + and the temp may not be able to be lowered enough to turn it spontaneous. (Remember that there is a lower limit to temperature values, absolute zero.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4839-C176-41EE-A5CD-DBB54C650D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585A-BCDD-4E43-A700-A97072FB53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679C-219B-4308-855A-8E4E2481B6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B011-B857-4D24-8A68-B6F6965A66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21600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133200" y="2879640"/>
            <a:ext cx="5905800" cy="615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6337440" y="2882880"/>
            <a:ext cx="5959440" cy="6147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440064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1013940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B408-32F1-4508-AD71-513BAB6170E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2680" y="3784680"/>
            <a:ext cx="6007320" cy="58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S—gas to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H—the gas is condensing (giving off heat NOT taking it 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324480" y="3936960"/>
          <a:ext cx="654228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92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D229-1EF7-4BAF-B259-B9FB4D5E6C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02680" y="203040"/>
            <a:ext cx="1268748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02680" y="3796920"/>
            <a:ext cx="12687480" cy="58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2AA6-12F6-4682-94AA-2F08DF46FD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FDB7-21CC-481A-9E3E-0F3F5B649E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02680" y="2793960"/>
            <a:ext cx="12687480" cy="68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that if the reaction proceeds (spontaneous) it must have a negative ∆G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45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&gt;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at standard conditions of 1 atm, 1M K would always = 1, so if the reaction proceeds K will end up greater than 1 since as the reaction proceeds products will increase and reactants will decrease resulting in K larger than 1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2D25-F2F5-4369-88D8-909A1F9B637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384F-CC0C-47D6-B748-9380A7B7B7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ubmit your answer rounded to the nearest whole numb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9B86-1EAD-441E-87A9-CCF723CA26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BEC4-9195-4EB6-B386-CB9E0B2CA5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25 kJ/m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81B2-29E4-431D-B5E3-EAEE69174E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4758-916E-4401-908B-C4F8A753FB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02680" y="3733560"/>
            <a:ext cx="12687480" cy="58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315-82C5-4B73-B8B6-D7C8CBF9D8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C86F-1245-4C2E-9AF4-F4A2C1F7C0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02680" y="2476440"/>
            <a:ext cx="12687480" cy="71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4920" indent="-6649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 &l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Since we know that the solution cools, we know that ∆H is positive, and since that is unfavorable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lthough it is completely counter intuitive, the driving force for this reaction </a:t>
            </a:r>
            <a:r>
              <a:rPr b="0" i="1" lang="en-US" sz="3500" spc="-1" strike="noStrike">
                <a:solidFill>
                  <a:srgbClr val="2961b0"/>
                </a:solidFill>
                <a:latin typeface="Arial"/>
              </a:rPr>
              <a:t>must</a:t>
            </a: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 be an increase in entropy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nd for the reaction to be spontaneous (∆G&lt;0), the |T∆S| factor must be larger than the |∆H| factor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7178-A9F8-41F7-A7F4-393384A03B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A58A-6031-487C-B057-12D70F10AE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527C-F0CF-4ECF-A6BD-E9CF18679BE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CF87-FBD6-4E4C-B7B4-1DEF6ABE60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9FCD-A038-4577-AD56-26D89A6C46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45F6-589A-43E9-A7A0-3C42CD158A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→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A324-289F-4E5C-B787-7C5845FB4C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51A4-8F23-4333-AD52-7557616AC2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02680" y="2082600"/>
            <a:ext cx="12687480" cy="75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Both are,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yet #1 is endothermic and #2 is exothermic. (Notice the settings—table and freezer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s means that analyzing just energy changes is not enough to determine when a process will be spontaneou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8E75-3D80-4F0A-91B1-7FD88693AD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3987720" y="54864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559720" y="556272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31561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74977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D559-6AEB-4FAA-92D9-0DDACFFF32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--&gt;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905040" indent="-905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G, ∆H, and ∆S are all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at 298 K, not spontaneous means G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when ∆S is positive, the |T∆S| factor will increase at higher temperatures and since the equation is, -T∆S, at some temp the T∆S factor will be greater than the ∆H and the value of ∆G will become  nega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B6E7-7CA5-4844-982D-18404390FA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0CE-6F60-4F12-98C0-938DA09CC5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xidation of a met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F27E-6658-4F08-8E7C-1736EC6806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Oxidation of a meta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24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oxidation will often produce a solid metal oxide which will have more order than a pure metal and the oxygen g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374A-B412-4D34-BFE9-C7CE2E2797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V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4E02-9073-4696-A782-E1C8011DFB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V &lt; 0—V is for volume, which decrases when a gas forms into a liqu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CC73-9DD9-42C9-9CF3-448CC87757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02680" y="190080"/>
            <a:ext cx="12687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  ∆H = -97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02680" y="4876920"/>
            <a:ext cx="12687480" cy="47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pends on other factors, and cannot be determined with the information give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0EC5-AA57-4381-8C72-47B0F9EF49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B978-C86E-4A8B-8CB6-93222D5D18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02680" y="127080"/>
            <a:ext cx="1268748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      ∆H = -97kJ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3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02680" y="2603160"/>
            <a:ext cx="1268748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850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Produc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Because the reaction is exothermic, the product bonds must release more energy when formed than the reactant bonds require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3. depends on other factors, and cannot be determined with the information given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859A-261F-439A-B234-0F5A7B7E1C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6E71-5745-49BF-B9CA-10316064984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1384-02F5-4276-B80C-B868630F122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CDD8-4E63-432E-B4BE-68330B68F4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254160" y="2629080"/>
          <a:ext cx="12496680" cy="593388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000"/>
                <a:gridCol w="5662800"/>
              </a:tblGrid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2A07-2787-4712-BFE3-72F28109032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Opposing Dispersal Trend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02680" y="1510920"/>
            <a:ext cx="12687480" cy="8102520"/>
          </a:xfrm>
          <a:prstGeom prst="rect">
            <a:avLst/>
          </a:prstGeom>
          <a:noFill/>
          <a:ln w="0">
            <a:noFill/>
          </a:ln>
        </p:spPr>
        <p:txBody>
          <a:bodyPr lIns="0" rIns="417744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zing water leads to more ordered matter and seems like a violation of the common-sense la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eans that analyzing just change in disorder is not enough to determine when a process will be spontaneo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what should we consid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8788320" y="13716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810640" y="562140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1194264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0943-75E1-4253-9E20-84B91105FC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368280" y="2527200"/>
          <a:ext cx="12496680" cy="593424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360"/>
                <a:gridCol w="5662440"/>
              </a:tblGrid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930B-C59B-4C48-A597-E8D4BF19944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4160" y="254160"/>
            <a:ext cx="126871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D88C-F3A6-49FB-AB8F-B9A1117B51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337C-436E-4A0B-9EFC-65E3D0A8C3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D67F-471C-406E-87A9-B3EC9E7478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E99F-BB63-4740-857C-792E42BC59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(Select as many as apply.)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2756-8022-4A9E-9073-E12C04716C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C01B-D6D4-41EF-8B60-49AEF8A149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4A48-B626-48FE-B1DC-DEBD4ECD09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03BB-6AC0-4B30-BFC4-44D29AF22D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FD61-E4B5-41CB-A747-4DB7547E47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654A-2EE8-4E48-AE40-6285C8A611E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(must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3644-EB95-4691-80A6-24D5FA0915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0DDA-FBC3-454D-80B5-BC5FBDF6C7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alculating ∆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91B4-0DC0-40C1-BCFB-71DC11D1B0E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Boiling and Melting Point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a substance is at its boiling or melting temperature it is at equilib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at equilibrium ∆G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nce ∆G = ∆Hº - T∆S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∆Sº = ∆H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the ∆S of melting or boiling = ∆H/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is how entropy of some substances can be calcula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866B-E358-4848-B585-0620B59D16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02680" y="3403080"/>
            <a:ext cx="12687480" cy="62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A4BC-C59C-42F6-BB56-3B38BC38D5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4"/>
          <p:cNvGrpSpPr/>
          <p:nvPr/>
        </p:nvGrpSpPr>
        <p:grpSpPr>
          <a:xfrm>
            <a:off x="3124080" y="6010560"/>
            <a:ext cx="1184400" cy="1212120"/>
            <a:chOff x="3124080" y="6010560"/>
            <a:chExt cx="1184400" cy="1212120"/>
          </a:xfrm>
        </p:grpSpPr>
        <p:sp>
          <p:nvSpPr>
            <p:cNvPr id="793" name="Rectangle 5"/>
            <p:cNvSpPr/>
            <p:nvPr/>
          </p:nvSpPr>
          <p:spPr>
            <a:xfrm>
              <a:off x="326448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6"/>
            <p:cNvSpPr/>
            <p:nvPr/>
          </p:nvSpPr>
          <p:spPr>
            <a:xfrm>
              <a:off x="327384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V="1">
              <a:off x="312408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797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ACB2-8BB2-48F6-A6E9-3F8E696B42E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Entropy, (S) is a measure of dispersal - dispersal of matter </a:t>
            </a:r>
            <a:r>
              <a:rPr b="0" i="1" lang="en-US" sz="4800" spc="-1" strike="noStrike">
                <a:solidFill>
                  <a:srgbClr val="00007d"/>
                </a:solidFill>
                <a:latin typeface="Arial"/>
              </a:rPr>
              <a:t>and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dispersal of energy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0080" y="1765080"/>
            <a:ext cx="12649320" cy="78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In 1877 Ludwig Boltzman defined the entropy of a substance as the number of ways to describe a system, “degrees of freedom”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8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member the First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nergy is never lost or gained, only change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= 0 (always)       ∆E = q + w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1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In any spontaneous process, the total entropy increases. 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1944-B824-403C-A99B-267DFEDBA3D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17520" y="3543480"/>
            <a:ext cx="12687120" cy="62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dd2067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 =         ice melts at 0 C (273 K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05DC-1E6D-46D4-9275-82912A12C68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4"/>
          <p:cNvGrpSpPr/>
          <p:nvPr/>
        </p:nvGrpSpPr>
        <p:grpSpPr>
          <a:xfrm>
            <a:off x="3284640" y="6010560"/>
            <a:ext cx="1184400" cy="1212120"/>
            <a:chOff x="3284640" y="6010560"/>
            <a:chExt cx="1184400" cy="1212120"/>
          </a:xfrm>
        </p:grpSpPr>
        <p:sp>
          <p:nvSpPr>
            <p:cNvPr id="805" name="Rectangle 5"/>
            <p:cNvSpPr/>
            <p:nvPr/>
          </p:nvSpPr>
          <p:spPr>
            <a:xfrm>
              <a:off x="342504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"/>
            <p:cNvSpPr/>
            <p:nvPr/>
          </p:nvSpPr>
          <p:spPr>
            <a:xfrm>
              <a:off x="343440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7"/>
            <p:cNvSpPr/>
            <p:nvPr/>
          </p:nvSpPr>
          <p:spPr>
            <a:xfrm flipV="1">
              <a:off x="328464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809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C46D-F12B-493E-B1DC-CC74877A2B1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ird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Third law of Thermodynam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pure, perfect crystal at 0 K has zero entrop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800" spc="-1" strike="noStrike" baseline="-6000">
                <a:solidFill>
                  <a:srgbClr val="000000"/>
                </a:solidFill>
                <a:latin typeface="Arial"/>
              </a:rPr>
              <a:t>(pure, perfect crystal; T=0K)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akes it possible to measure the absolute entropy of any substance at any temperat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e that unlike ∆Hº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Sº values are never zero at any temperature above 0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9:01Z</dcterms:modified>
  <cp:revision>34</cp:revision>
  <dc:subject/>
  <dc:title>Thermodynamics</dc:title>
</cp:coreProperties>
</file>