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E53F-719E-49E8-A6A3-A84501274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BD2D-7272-40D2-98F1-8254F2D6E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C630-3DE0-4401-87DD-4616E14E2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6596-052C-4214-8051-9350BCB6D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B6C7-DCE1-4FF1-9DCF-F26FA5C6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E9D-A352-4C7A-89B3-164AE0CE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C74F-0917-47F5-B875-159EFC44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B60-9196-4467-89FE-C134E15C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638B-CFB8-4B33-9B9D-BDDC40C9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43D-7244-4E39-A2AC-7D4A60FC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8AE-C3BD-42A1-AA83-440EDB99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FA0B-C38D-42B5-A78E-8CA91BE7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456E-2B14-45E3-B6A9-4F7825D9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5EC-1D18-49B6-A5CA-F88EEF0D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E5F5-A799-493E-AF4F-AD153649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64D1-8CDA-4B6F-8A47-BA5BEB53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6311-7538-49C9-B6BD-9BAF5ECFC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mo II H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book requir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890.7 kJ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states of matter as well as the number of particles to determine the sign on 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states of matter as well as the number of particles to determine the sign on 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Use the chart that we constructed to aid your respon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states of matter as well as the number of particles to determine the sign on 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Use the chart that we constructed to aid your respon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G = H – TS  to solve for S. Watch your un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50 J/mol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ember that two forces can drive a reaction, the one that is FAVORABLE will be the driving for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Exothermic is favored (Enthalp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Increase in disorder is favored (Entrop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c, use your values for H and S and the chart we construct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G = H – TS  to solve for H. Watch your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 kJ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G = H – TS  to solve for H. Watch your uni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65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ember that two forces can drive a reaction, the one that is FAVORABLE will be the driving for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Exothermic is favored (Enthalp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Increase in disorder is favored (Entrop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c, use your values for H and S and the chart we construct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G = H – TS  to solve for S. Watch your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4 J/mo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itude? This means to predict whether you think that the change in entropy is a large positive, large negative, small positive, small negative, or number close to zer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Thermo II #1.jpg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out of the four answers correct. Identify which one is no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+327 J/mol*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-1087.4 J/mol*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-89 J/mol*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-387 J/mol*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the reactants are the same, notice the difference in the produ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is as part of your explan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ree out of the four answers are correct. Identify which one is no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75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2972.8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1379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32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 sure to identify if they are spontaneous or non-spontaneo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something “becomes spontaneous” G changes from positive to negative. Therefore, we can set G=0 and solve for temperatur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 = H – 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 = H – 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=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Get H and S from #2)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swer 1750 K or 1477 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wo forces that determine whether a system is spontaneous—enthalpy and entro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one is not favored, the other must be to produce a spontaneous re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bout this as you construct your respon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notes, we discussion dissolved of an ionic sol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book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632 kJ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states of matter, then at the number of particles to decide if S is positive or neg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on the sign you assigned to S (b) and the sign on G, you should be able to predict the sign on H (use the chart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14:56:38Z</dcterms:created>
  <dc:creator>swaters</dc:creator>
  <dc:description/>
  <dc:language>en-US</dc:language>
  <cp:lastModifiedBy>swaters</cp:lastModifiedBy>
  <dcterms:modified xsi:type="dcterms:W3CDTF">2014-01-10T21:12:42Z</dcterms:modified>
  <cp:revision>2</cp:revision>
  <dc:subject/>
  <dc:title>Thermo II HW</dc:title>
</cp:coreProperties>
</file>