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A88D-B551-4B4D-8E62-D41879219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BEAA-BD6F-426A-BB65-4DC4420D3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050F-83E3-4931-9408-56A17DB9E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610F-83D1-41EC-B3E9-937118F86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161-B2E4-41E5-BC6F-B0C35842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BA9-016A-45D4-B252-6B373672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BCC-CA5F-45F1-95F5-1601DCFE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1CA-E7B3-4CF9-8781-A12DD076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72B-5CA2-428E-B175-47DA186D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65C-63C6-44F9-9E48-061E8006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BD3-E81F-437E-A531-759DF4CF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780-9C1C-480E-BD55-CC823E5A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2BC-8111-4BC3-8342-4EBF06CF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0E7-62E7-4A28-94CA-5A9DA3FA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547-80D8-40B2-8348-6305BE6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6EE-B649-41AF-BD55-6780ED55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4220-41BD-478C-A889-BC39543B5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890.7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S. Watch your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50 J/mol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6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S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 J/m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? This means to predict whether you think that the change in entropy is a large positive, large negative, small positive, small negative, or number close to zer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Thermo II #1.jpg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out of the four answers correct. Identify which one is no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+32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-1087.4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-89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-38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reactants are the same, notice the difference in the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is as part of your expla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out of the four answers are correct. Identify which one is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7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972.8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379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32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 sure to identify if they are spontaneous or non-spontaneo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something “becomes spontaneous” G changes from positive to negative. Therefore, we can set G=0 and solve for temperatu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=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Get H and S from #2)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swer 1750 K or 1477 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forces that determine whether a system is spontaneous—enthalpy and entro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ne is not favored, the other must be to produce a spontaneous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is as you construct your respo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otes, we discussion dissolved of an ionic sol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63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, then at the number of particles to decide if S is positive or neg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sign you assigned to S (b) and the sign on G, you should be able to predict the sign on H (use the chart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4:56:38Z</dcterms:created>
  <dc:creator>swaters</dc:creator>
  <dc:description/>
  <dc:language>en-US</dc:language>
  <cp:lastModifiedBy>swaters</cp:lastModifiedBy>
  <dcterms:modified xsi:type="dcterms:W3CDTF">2014-01-10T21:12:42Z</dcterms:modified>
  <cp:revision>2</cp:revision>
  <dc:subject/>
  <dc:title>Thermo II HW</dc:title>
</cp:coreProperties>
</file>