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244D-3B9F-487B-9AD0-9B8333564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0BA6-CDA7-4910-8F3A-2F49C5D7D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3D66-6581-469B-B83F-AC16B1774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9320-168B-4B30-A292-F8E0362BC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F63-0138-4898-B61D-BAFDD0A7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5EC-C41B-4512-AD38-FCDFA290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355-1334-4581-8CE2-A651D169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18B-BA70-4FBA-A774-CC44FE2A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13F-0F82-405D-8FD5-49EA4BE0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05A-DFEC-44B2-91FE-D4DCD635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185-F927-45E4-9B61-6CE0A30F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4C5-BC6C-4637-9F16-3AC4980C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183-85F5-4C3C-AB74-36748B00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E8E-CF9D-4631-B545-B72DCFC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929-6900-49D5-9E87-18632C68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C64-F7BE-4C4C-97C9-052EEF2F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3DAA-B6DD-441D-8308-D582DBE78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o II 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requir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890.7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Use the chart that we constructed to aid your respon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Use the chart that we constructed to aid your respon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G = H – TS  to solve for S. Watch your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50 J/mol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hat two forces can drive a reaction, the one that is FAVORABLE will be the driving fo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Exothermic is favored (Enthal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ncrease in disorder is favored (Entro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, use your values for H and S and the chart we construc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 = H – TS  to solve for H. Watch your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G = H – TS  to solve for H. Watch your un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65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hat two forces can drive a reaction, the one that is FAVORABLE will be the driving fo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Exothermic is favored (Enthal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ncrease in disorder is favored (Entro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, use your values for H and S and the chart we construc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 = H – TS  to solve for S. Watch your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 J/m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? This means to predict whether you think that the change in entropy is a large positive, large negative, small positive, small negative, or number close to zer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Thermo II #1.jpg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out of the four answers correct. Identify which one is no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+327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-1087.4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-89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-387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reactants are the same, notice the difference in the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is as part of your expla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ree out of the four answers are correct. Identify which one is 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75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2972.8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379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32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 sure to identify if they are spontaneous or non-spontaneo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something “becomes spontaneous” G changes from positive to negative. Therefore, we can set G=0 and solve for temperatu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 = H – 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 = H – 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=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Get H and S from #2)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swer 1750 K or 1477 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wo forces that determine whether a system is spontaneous—enthalpy and entro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ne is not favored, the other must be to produce a spontaneous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is as you construct your respo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notes, we discussion dissolved of an ionic sol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632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, then at the number of particles to decide if S is positive or neg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sign you assigned to S (b) and the sign on G, you should be able to predict the sign on H (use the chart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4:56:38Z</dcterms:created>
  <dc:creator>swaters</dc:creator>
  <dc:description/>
  <dc:language>en-US</dc:language>
  <cp:lastModifiedBy>swaters</cp:lastModifiedBy>
  <dcterms:modified xsi:type="dcterms:W3CDTF">2014-01-10T21:12:42Z</dcterms:modified>
  <cp:revision>2</cp:revision>
  <dc:subject/>
  <dc:title>Thermo II HW</dc:title>
</cp:coreProperties>
</file>