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B127-88FA-4761-9C7B-C639F1387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AB59-8814-4DEE-8D34-CD18FB947E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DB87-91F8-4433-80AD-9819AA405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6518-3656-4833-9203-0D67CC605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67D6-44CF-4942-B372-54DAC6BB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A0D7-0CB6-45DD-8B02-56332A2E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CB18-C860-4354-9C97-24366D4E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931-9E52-4767-B23E-C5E98803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F333-A3C6-408A-A6F9-1DC26D85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0617-4E4B-4051-87E2-77B211C4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5E5C-EE1A-4997-84CC-BC8D1205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71BE-9454-4303-A10B-16382458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4F5-F879-48F0-83F9-AE54EF6A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3A30-965E-4E83-A89A-F0E64463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18C5-0641-4AB0-95D5-3BF23DFB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C7A8-3FFA-4C45-8399-21EF149D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0060-AFA9-4FC5-9672-6D7D902F3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mo II H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book requir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890.7 kJ/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he states of matter as well as the number of particles to determine the sign on 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he states of matter as well as the number of particles to determine the sign on 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Use the chart that we constructed to aid your respon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he states of matter as well as the number of particles to determine the sign on 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Use the chart that we constructed to aid your respon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G = H – TS  to solve for S. Watch your un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50 J/mol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member that two forces can drive a reaction, the one that is FAVORABLE will be the driving for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Exothermic is favored (Enthalp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Increase in disorder is favored (Entrop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c, use your values for H and S and the chart we construct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G = H – TS  to solve for H. Watch your 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2 kJ/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G = H – TS  to solve for H. Watch your uni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65 kJ/m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member that two forces can drive a reaction, the one that is FAVORABLE will be the driving for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Exothermic is favored (Enthalp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Increase in disorder is favored (Entrop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c, use your values for H and S and the chart we construct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G = H – TS  to solve for S. Watch your 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4 J/mo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nitude? This means to predict whether you think that the change in entropy is a large positive, large negative, small positive, small negative, or number close to zer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Thermo II #1.jpg"/>
          <p:cNvPicPr/>
          <p:nvPr/>
        </p:nvPicPr>
        <p:blipFill>
          <a:blip r:embed="rId1"/>
          <a:stretch/>
        </p:blipFill>
        <p:spPr>
          <a:xfrm>
            <a:off x="457200" y="533520"/>
            <a:ext cx="807732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out of the four answers correct. Identify which one is no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+327 J/mol*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-1087.4 J/mol*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-89 J/mol*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-387 J/mol*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the reactants are the same, notice the difference in the produ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is as part of your explan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ree out of the four answers are correct. Identify which one is no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75 kJ/m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2972.8 kJ/m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1379 kJ/m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432 kJ/m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 sure to identify if they are spontaneous or non-spontaneo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 something “becomes spontaneous” G changes from positive to negative. Therefore, we can set G=0 and solve for temperatur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 = H – 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 = H – 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=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Get H and S from #2)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swer 1750 K or 1477 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two forces that determine whether a system is spontaneous—enthalpy and entro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one is not favored, the other must be to produce a spontaneous re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about this as you construct your respon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notes, we discussion dissolved of an ionic sol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book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632 kJ/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he states of matter, then at the number of particles to decide if S is positive or nega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d on the sign you assigned to S (b) and the sign on G, you should be able to predict the sign on H (use the chart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9T14:56:38Z</dcterms:created>
  <dc:creator>swaters</dc:creator>
  <dc:description/>
  <dc:language>en-US</dc:language>
  <cp:lastModifiedBy>swaters</cp:lastModifiedBy>
  <dcterms:modified xsi:type="dcterms:W3CDTF">2014-01-10T21:12:42Z</dcterms:modified>
  <cp:revision>2</cp:revision>
  <dc:subject/>
  <dc:title>Thermo II HW</dc:title>
</cp:coreProperties>
</file>