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06FF-01E0-4589-B5AE-27A6AA491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6F76-2C2A-42E7-95F2-F3D87EFED8D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373AF-ECA4-44A7-B9BB-170D3C07A1F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8F94-5327-4000-BE49-F6AB3F9A803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04EA2-D1EC-4897-9FFA-E1D2FEC7263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BB94F-9F53-468A-8DB8-B8755000C2D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F56DB-3161-4BD9-8E6E-0BC6C279BD1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54716-8E57-4CF5-BF7B-97884AAFAFA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2441E-F1B1-4374-BD60-9A432BBD29D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260E8-D5AC-4185-B83D-A616BFE8C63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D488-C48A-4639-B9B4-A4F2579D19C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50F598-EBE5-42E8-8AF6-8F49523DE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EC1D-19FD-4EB3-A51D-D100D8E3FCD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77792-EE4B-48DF-BF9B-72236743746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958380-DF11-4664-95BE-E1C11AEBC59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634372-DEA0-4445-A045-6110A34F834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162BCF-FEFD-46F6-B287-80EE48434A5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40562D-BB4E-4DAE-ABFA-ABB5B0EC51C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788F6D-C181-4126-B25A-E38500911AE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ACC701-846C-4478-9667-E8826DF9B82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ED76CB-A248-4ED5-8E71-6608194C29B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8F3EE5-2AD2-4D2B-831F-72F0A133BB1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96721-23D3-428A-9F62-5E5D56E1D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A0C3-C1F1-432B-931B-AAEF2561763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6BD905-B8A8-42A5-B632-D78C3D76561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F87F1-44A7-435C-899B-481B8BF0BE7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54FF84-FC5C-4612-9E6D-18FDDC8EBB8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D0EE44-CB12-4A9D-8493-0F519636F5A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65F61-D497-4964-B4D3-B3D7D69B6EC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C69FF-5BB3-47B4-9052-A08D4D18785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3CFDC-ABEE-4A98-A552-6E53B9BF687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0406C6-0355-45CE-B8AE-CEB726730D2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9295D-E67D-4CF1-B99E-3EEA667B678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7EEBA-1ED1-4B91-8D69-380D76F61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4DDF1-2282-4DC8-A5B0-BB005859993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E3E600-270D-4D90-B5D3-A534B8A0131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88860D-74F8-42A9-99DA-92E51EF6782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E65ED-9E8D-4E69-8969-C17978CBA9D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5824A-C927-4886-BFE2-D815E3FDEB4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AC0C1-0844-4E51-BBBA-0B1717A1CC6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5C456-F851-4FD9-8478-59A7F01F234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6A462-36C2-4A03-ACC9-F5FCB150D2F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43878-34CC-4BA9-A8BE-52BC4F09FC4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B5394-6951-4E35-9FC1-5342B8D4873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3AADA-4D45-41DD-9453-ED26D3E2EA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338B-126E-48F8-AE81-F17D92517CA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DF6C4-66E7-45A3-95E6-6C48B0E1294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D927A-62F2-4991-9D20-EA10706375E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EF102-9A4B-4084-8C72-7893A55AE48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6C221-203D-4BC6-9246-6DBAA0B31E4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7B8E5-2BDF-4953-8DA5-579F80211E8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1F571A-F1A9-42CA-A730-B3A8846EB53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7DBC1D-F947-4DB6-9961-D67C58ED76E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72FE5E-85CF-4C4F-BB98-8F0F8295A0F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848F19-89EC-4C79-A883-F9E712FE69E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7DF052-7608-493E-80EB-37FDC330A6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B235A-8D6A-4FED-8D9B-96DEE1EA060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501749-1BA8-4CB5-9407-76BCC0D59DE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720BDA-70D6-4666-80DC-26639929210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01F753-04D4-43DB-980E-EAA9AFB7C7C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3F0B53-1BAC-4F43-B42B-65331417319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28F721-E459-4A56-A7E3-9CEB349778E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DC0933-7C19-4A7D-BC42-861A7BC3A03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3AB952-6BE4-465D-A2E1-C563393A679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2636B-0C17-410D-A970-A5D8D344C57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CEB52-5E7A-411F-8C7F-856A4004801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00732-511D-457D-B8AA-DB9667175B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F3C66-9BD3-4D90-8CF6-5A366836DA2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F8A2E-1832-4039-877B-02111D72A9D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CE161-7924-44D3-918E-0006896E92E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1905A-26EE-4CC6-9D6C-B2EBAC140E6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B6249-DB49-41C0-8CC4-54BA40846E7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3FBDD-8990-469B-8649-49B69171CEC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04A8C5-8910-49C1-A0B4-EF0BE75351F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02996-DD25-488A-BE21-70A7230594E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81786-B7AF-41DD-B59E-106268054D8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D8D63-2DFA-4B47-B726-355A512AE2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4FBEA-7D76-4853-8477-B68C2C7AA1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96C6-D559-45AA-8BBE-4660A246A9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8C66B-5DBE-483E-BC26-5885331ACA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B62D-21FF-4C61-85DC-CBBE7779D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41546-B2D3-4C37-BC61-3CAFAAE358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869C-DE31-4AE4-8C61-AE8DB1CDA9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29DA-FDA7-4C64-B9A0-81B977C0C1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2E93D-E16B-4CBD-BE30-1B6A1478CF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90802-7EEA-40F9-BE7D-0F89C9DB4B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EDA-3296-41DA-81E4-89E94C9AD1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666-7B83-4654-9DA9-D0D110CF36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A05-A624-44AA-B508-614A380C1E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D96-2AFA-43C5-A7C8-745776211F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824-9F15-4814-B430-C45A82C3BB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C2F2-AC5A-46CB-B8A2-646FB1663C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E0F-F552-49FD-A034-1451D1D186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A29-6B5C-4E9F-8BE3-DA3EDA2C2E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CFA-E50E-45E5-B9AA-EEBC32810D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EF4-D587-4639-B464-FCADB7B6A2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125-902C-444A-B9B2-2B3D1AA9DC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8B3-52C3-426D-8E13-09DD55BC67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62A-E7D7-42C2-A716-49597D1D1D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97473-7571-4F0A-9AE7-F0A0F5466E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F9380-D190-4634-BBC4-F15BF3FD92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EFF4F-392F-4556-8B0F-0CAAEBAE2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BFCF-1BEF-49D1-BE1C-B1E23E7627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47438-028A-48A1-8B4C-4DBEF64F1A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0E253-7ECF-4ED9-A866-63A9832994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F0D4B-026B-4602-BAFF-A70C213D31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69319-D1C8-4BD1-86A1-969C7FC777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485B4-2A38-4677-BD2E-9DA09898EA1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3334F-3550-4784-ACD2-D437F264E2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538B8-D32B-4DF6-A502-33851C2026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7F078-1DC9-4753-B91B-CF7FB8D8ED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AA50E-D759-4333-B9CE-C656F112E3E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C51E8-91AE-4B0B-B7B4-B38F3932F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AA83-F79F-471C-BBF8-5BB0D95CEAC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34473-C1B8-4A85-B187-914FD6A8350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38912-ED1D-4418-B264-C6BCC5EFD82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6C6C9-F09B-447B-BAC1-59B81EEB68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C34B8-808F-4C1F-9A6D-73C101BB9F7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0DAA3-7888-40E9-B8A0-99AA640DF4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76B8A-A0E0-4364-9AEF-A137C64EE4E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9817E-668C-4C6E-B85D-965C83F23AE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08E5E-4964-4C71-A72C-044DC3ABEF7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7EBCF-84D4-4FC5-9903-E58B8840A55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1EE14-0F0D-4ACD-ADDE-F6E8B107D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F489-35F7-44C7-9DAF-26861F62F4E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D0228-34AA-4FDD-A3A8-E6C9A7FE87D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7958-C79D-4B33-9359-6BCC74632A7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B8F6-782E-4E05-A560-7E3181DC79B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7C91-6579-4C8B-8564-A90015ED426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CDBA-BBF1-4E4E-AB45-F1DC77105F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58ED-B2CC-41B8-A08B-94196511965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807E-C3A7-4A20-AC43-F2188141B55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B615-C553-47E8-ADFF-37955DC12CD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2893-1019-4AB8-A908-D8C506E9872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EEB3-11A1-423B-B446-0820F3016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5A04-B1AA-40B0-B19C-C84C2740221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D4F4-A8FA-43DB-9D46-E0E9A1D0428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0B9B-67C9-4DC6-B451-CBB2E57C255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DF61-F4F8-43FF-B465-80C6910268F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D4C4BC-DB79-4465-BE64-46DE4F55B5F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96114E-4F5D-4A77-9A45-09866084D02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9CDB69-4158-4EC1-9C9B-6C3EE468039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050A64-06CE-480D-BB4B-E5A4EB44016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215D2-9F03-49C9-89A9-945903C1917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20E356-53B5-47F1-A6E4-7E43CC9410E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97E331-A941-4429-960C-E6431FE13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18C4-F892-4860-92CE-D0624B33531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9E15A9-CEAA-4811-AA7F-CF896ECB83B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B7D7F7-CB46-4FD5-8DEE-02C1CAF3FAB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C850EE-472B-4DD6-ACB9-707C4EE7B9B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39C1B-8126-4009-853D-BC1F49F3B5F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7E87CA-A953-49C8-8868-4BDC25C9F04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516AF-9B37-459E-9C66-9B63684ED17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DE829-84B5-4614-A09D-EB6168A6DAC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8863C-F282-4026-AD58-E44AC2E4FC7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94286-D540-48E9-8ABE-4D5A1C1D4A8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5D010-45FD-47E3-8BC1-21874250A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EBB4-0A9F-49E6-B046-92FF5ECCFC6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30120" y="216000"/>
            <a:ext cx="12357360" cy="12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F673F-AC7B-4F50-A019-81FF4FE6D86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DC932-2401-4AFB-9924-E52E7854745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106EC-6FAA-4CD2-B982-5B0BB82FEF7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CBA67-D777-45CB-921B-F529A0FAE96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0120" y="6489360"/>
            <a:ext cx="12357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3E833-3A65-418C-8381-82E33174FB7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62520" y="292068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301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62520" y="6489360"/>
            <a:ext cx="603036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A6190-82E2-4D5C-B2E3-066C4438D1A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082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686080" y="292068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3012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5082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686080" y="6489360"/>
            <a:ext cx="3978720" cy="32587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BAF1F-6B58-4D10-B602-6F43F30F641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CCBF3-9502-4F91-B7B7-79EB7F0220D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B297-4259-468B-BB55-42EF8FD06E3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CD93A-F644-49E4-808F-01072FCFB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23FE-AFDF-4215-B5AE-979B4567FAD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49344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7B20-E2DE-437F-BFAD-AC4694E8A07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1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75E1-EC1E-4938-A967-6F9EFFE49A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2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4828-6842-4E6A-BF3A-06E6FC6CA77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0E58-55F5-44BB-A937-E1F5DD2D2F9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22C2-F7F3-4F42-A876-8E2A29A2013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2481-1216-41FF-AEEF-9203F49CA8B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8E56-4D26-4281-B427-50B4098D63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49344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041F-AD83-4F02-BA3C-8E82B092415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86C4-6031-4708-AD4B-940A9D35134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89AC-A9A8-429B-AE74-1F600AD7F74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E3BE-A5B5-46F8-83A8-57900DFEDF8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229B-CC24-4712-93BE-A49A2888EBD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8209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30120" y="2920680"/>
            <a:ext cx="1235736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5731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3808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1464560" y="939780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AC8F-D8A1-4B93-8062-C71AC06CE36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784A-3EFE-47A5-BD65-31802FDFC40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chemistr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986040" y="8089920"/>
            <a:ext cx="359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Handwriting - Dakota"/>
                <a:ea typeface="Handwriting - Dakota"/>
              </a:rPr>
              <a:t>No Calcul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5355-0778-46A3-AFA5-C5983931B98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42720" y="1168560"/>
            <a:ext cx="12661560" cy="80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</a:t>
            </a:r>
            <a:r>
              <a:rPr b="0" i="1" lang="en-US" sz="4200" spc="-1" strike="noStrike">
                <a:solidFill>
                  <a:srgbClr val="dd2067"/>
                </a:solidFill>
                <a:latin typeface="Arial"/>
              </a:rPr>
              <a:t>always</a:t>
            </a: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..A chemical bond is a stable arrangement of electrons shared between the bonded atoms. Therefore a bond cannot be broken without the input of energy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F320-9381-4272-8F25-5534103F78A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42720" y="2222640"/>
            <a:ext cx="826740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E183-7E10-4D98-8572-D6C5F5CD97A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9176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f bond breaking is endothermic, bond forming 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253484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cause…When a chemical reaction occurs, bonds must be broken, and other bonds must form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heat of the reaction is the net result of energy in (for bonds breaking) and energy out (for bonds forming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D2FD-3230-48A9-95AC-7AA1C8BE28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one of the above, because this cannot be determined from this grap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C163-45B7-476D-AB87-1BF12CE2B1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total bond dissociation energy of the products is ________ the bond dissociation energy of the reactants.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58720" y="2666880"/>
            <a:ext cx="12179520" cy="6756480"/>
          </a:xfrm>
          <a:prstGeom prst="rect">
            <a:avLst/>
          </a:prstGeom>
          <a:noFill/>
          <a:ln w="0">
            <a:noFill/>
          </a:ln>
        </p:spPr>
        <p:txBody>
          <a:bodyPr lIns="0" rIns="588024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less th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ame 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961b0"/>
                </a:solidFill>
                <a:latin typeface="Arial"/>
              </a:rPr>
              <a:t>We know this because there is less energy produced by the formation of the products than needed to break the reactant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7264440" y="2476440"/>
            <a:ext cx="556740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8173-191C-4A4D-B155-9805D44D105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1920" y="5143320"/>
            <a:ext cx="126874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DEB0-A39C-49B1-99FA-F85C18960F9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02680" y="380520"/>
            <a:ext cx="1268748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heat of formation for gaseous benzene is represented below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6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→ C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 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 = 83 kJ</a:t>
            </a:r>
            <a:br>
              <a:rPr sz="4500"/>
            </a:b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The ∆Hº</a:t>
            </a:r>
            <a:r>
              <a:rPr b="0" lang="en-US" sz="4500" spc="-1" strike="noStrike" baseline="-6000">
                <a:solidFill>
                  <a:srgbClr val="00007d"/>
                </a:solidFill>
                <a:latin typeface="Arial"/>
              </a:rPr>
              <a:t>f  </a:t>
            </a: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for liquid benzene is</a:t>
            </a:r>
            <a:endParaRPr b="0" lang="en-US" sz="4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02680" y="3593880"/>
            <a:ext cx="1268748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eat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d2067"/>
                </a:solidFill>
                <a:latin typeface="Arial"/>
              </a:rPr>
              <a:t>smaller positive valu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2961b0"/>
                </a:solidFill>
                <a:latin typeface="Arial"/>
              </a:rPr>
              <a:t>You know that gas → liquid is exothermic, so adding ∆H - to the ∆H above, will make it a smaller positive valu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able to determin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681B-B6F5-4AF1-A379-695D9E5478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B496-51C7-4151-BE6B-FAA2B11DD13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5DC4-513A-4E3B-A756-E80FB98419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997D-3CAD-4399-A2F3-65B02AEB0FA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emperature   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(select all that apply)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02680" y="2019240"/>
            <a:ext cx="12687480" cy="75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a measure of activation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average kinetic energ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is he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 us hotness vs coldnes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is proportional to molecular velocity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Arial"/>
              </a:rPr>
              <a:t>tells us the direction that heat will flow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38D6-591B-495A-BD7F-E481F0B0E0F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BA50-FE69-42E5-AD64-E8D462A7D64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6623-A023-46C9-8C03-16AF0795F29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1235700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Both of these sketches are called an </a:t>
            </a:r>
            <a:r>
              <a:rPr b="0" i="1" lang="en-US" sz="5100" spc="-1" strike="noStrike">
                <a:solidFill>
                  <a:srgbClr val="182093"/>
                </a:solidFill>
                <a:latin typeface="Arial"/>
              </a:rPr>
              <a:t>Energy Diagrams</a:t>
            </a:r>
            <a:br>
              <a:rPr sz="5100"/>
            </a:b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4160" y="6477120"/>
            <a:ext cx="699768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 fontScale="94000"/>
          </a:bodyPr>
          <a:p>
            <a:pPr marL="53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 Exam sometimes refers to them a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otential Energy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4408560" y="1300320"/>
            <a:ext cx="8458200" cy="7556400"/>
            <a:chOff x="4408560" y="1300320"/>
            <a:chExt cx="8458200" cy="7556400"/>
          </a:xfrm>
        </p:grpSpPr>
        <p:sp>
          <p:nvSpPr>
            <p:cNvPr id="554" name="Rectangle 4"/>
            <p:cNvSpPr/>
            <p:nvPr/>
          </p:nvSpPr>
          <p:spPr>
            <a:xfrm>
              <a:off x="6664320" y="8070840"/>
              <a:ext cx="6202440" cy="6940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5"/>
            <p:cNvSpPr/>
            <p:nvPr/>
          </p:nvSpPr>
          <p:spPr>
            <a:xfrm>
              <a:off x="8918640" y="7979040"/>
              <a:ext cx="169236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6"/>
            <p:cNvSpPr/>
            <p:nvPr/>
          </p:nvSpPr>
          <p:spPr>
            <a:xfrm>
              <a:off x="6674040" y="1382760"/>
              <a:ext cx="569592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7554960" y="1300320"/>
              <a:ext cx="391644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+  1/2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34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1" i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10103040" y="5623200"/>
              <a:ext cx="1987560" cy="623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10253880" y="5540400"/>
              <a:ext cx="16984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3500" spc="-1" strike="noStrike" baseline="-17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(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n-US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0"/>
            <p:cNvSpPr/>
            <p:nvPr/>
          </p:nvSpPr>
          <p:spPr>
            <a:xfrm>
              <a:off x="7201080" y="2006640"/>
              <a:ext cx="403200" cy="5948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948640"/>
                <a:gd name="textAreaBottom" fmla="*/ 5949000 h 594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1"/>
            <p:cNvSpPr/>
            <p:nvPr/>
          </p:nvSpPr>
          <p:spPr>
            <a:xfrm>
              <a:off x="10771200" y="2006640"/>
              <a:ext cx="403200" cy="35989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98920"/>
                <a:gd name="textAreaBottom" fmla="*/ 3599280 h 35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2"/>
            <p:cNvSpPr/>
            <p:nvPr/>
          </p:nvSpPr>
          <p:spPr>
            <a:xfrm>
              <a:off x="10771200" y="6247080"/>
              <a:ext cx="403200" cy="1725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lnTo>
                    <a:pt x="5400" y="16200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6200"/>
                  </a:lnTo>
                  <a:lnTo>
                    <a:pt x="21600" y="16200"/>
                  </a:lnTo>
                  <a:lnTo>
                    <a:pt x="10800" y="21600"/>
                  </a:lnTo>
                  <a:close/>
                  <a:moveTo>
                    <a:pt x="0" y="16200"/>
                  </a:moveTo>
                </a:path>
              </a:pathLst>
            </a:custGeom>
            <a:solidFill>
              <a:srgbClr val="ffffb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3"/>
            <p:cNvSpPr/>
            <p:nvPr/>
          </p:nvSpPr>
          <p:spPr>
            <a:xfrm>
              <a:off x="4408560" y="3584880"/>
              <a:ext cx="300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8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8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286 kJ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4"/>
            <p:cNvSpPr/>
            <p:nvPr/>
          </p:nvSpPr>
          <p:spPr>
            <a:xfrm>
              <a:off x="8116920" y="6559560"/>
              <a:ext cx="27799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3900" spc="-1" strike="noStrike" baseline="-15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39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- 44 kJ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5"/>
            <p:cNvSpPr/>
            <p:nvPr/>
          </p:nvSpPr>
          <p:spPr>
            <a:xfrm>
              <a:off x="9312480" y="3108600"/>
              <a:ext cx="1788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7d"/>
                  </a:solidFill>
                  <a:latin typeface="Symbol"/>
                  <a:ea typeface="Symbol"/>
                </a:rPr>
                <a:t>Δ</a:t>
              </a:r>
              <a:r>
                <a:rPr b="0" i="1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H</a:t>
              </a:r>
              <a:r>
                <a:rPr b="0" lang="en-US" sz="4100" spc="-1" strike="noStrike" baseline="-14000">
                  <a:solidFill>
                    <a:srgbClr val="00007d"/>
                  </a:solidFill>
                  <a:latin typeface="Arial"/>
                  <a:ea typeface="Arial"/>
                </a:rPr>
                <a:t> </a:t>
              </a:r>
              <a:r>
                <a:rPr b="0" lang="en-US" sz="4100" spc="-1" strike="noStrike">
                  <a:solidFill>
                    <a:srgbClr val="00007d"/>
                  </a:solidFill>
                  <a:latin typeface="Arial"/>
                  <a:ea typeface="Arial"/>
                </a:rPr>
                <a:t>= ?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6" descr=""/>
          <p:cNvPicPr/>
          <p:nvPr/>
        </p:nvPicPr>
        <p:blipFill>
          <a:blip r:embed="rId1"/>
          <a:stretch/>
        </p:blipFill>
        <p:spPr>
          <a:xfrm>
            <a:off x="165240" y="2146320"/>
            <a:ext cx="5697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D706-60CD-47D8-8593-1CC588480A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reaction best represents the ∆H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for solid sodium nitrat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02680" y="2260080"/>
            <a:ext cx="1268748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→  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→  2NaNO</a:t>
            </a:r>
            <a:r>
              <a:rPr b="0" lang="en-US" sz="47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Na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+ ½N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  <a:ea typeface="Lucida Grande"/>
              </a:rPr>
              <a:t> + ³/₂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→  NaNO</a:t>
            </a:r>
            <a:r>
              <a:rPr b="0" lang="en-US" sz="47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6D3F-0180-426D-A19E-E2E3784D3D6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46C6-8A68-4A7E-A36D-8F0AE980B68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1920" y="63360"/>
            <a:ext cx="12687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5308560"/>
                <a:tab algn="l" pos="7910640"/>
                <a:tab algn="l" pos="1090152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Use the reactions below to determine the ∆H for formation of diborane shown above.</a:t>
            </a:r>
            <a:br>
              <a:rPr sz="39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2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  <a:ea typeface="Lucida Grande"/>
              </a:rPr>
              <a:t> + ³/₂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a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6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B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3(s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3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b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+ ½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 → 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c</a:t>
            </a:r>
            <a:br>
              <a:rPr sz="5300"/>
            </a:b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L) 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→H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3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300" spc="-1" strike="noStrike" baseline="-6000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5300" spc="-1" strike="noStrike">
                <a:solidFill>
                  <a:srgbClr val="3883ea"/>
                </a:solidFill>
                <a:latin typeface="Arial"/>
              </a:rPr>
              <a:t>∆H=d</a:t>
            </a:r>
            <a:endParaRPr b="0" lang="en-US" sz="5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51920" y="5625720"/>
            <a:ext cx="1268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+b+c+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-b+3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a-b+3c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c</a:t>
            </a:r>
            <a:r>
              <a:rPr b="0" lang="en-US" sz="5400" spc="-1" strike="noStrike" baseline="32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+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-a-3c-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me other sum not listed abo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9C60-2B06-4920-ACC3-F36D8A63AA9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42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43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50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53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3"/>
          <p:cNvSpPr/>
          <p:nvPr/>
        </p:nvSpPr>
        <p:spPr>
          <a:xfrm>
            <a:off x="12493800" y="920736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1392-CAAD-4F30-9066-7E517E8D187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82093"/>
                </a:solidFill>
                <a:latin typeface="Arial"/>
              </a:rPr>
              <a:t>Which accurately describes the diagram below? </a:t>
            </a:r>
            <a:r>
              <a:rPr b="0" i="1" lang="en-US" sz="3600" spc="-1" strike="noStrike">
                <a:solidFill>
                  <a:srgbClr val="182093"/>
                </a:solidFill>
                <a:latin typeface="Arial"/>
              </a:rPr>
              <a:t>(Choose all that apply.)</a:t>
            </a:r>
            <a:endParaRPr b="0" lang="en-US" sz="3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29760" y="1968480"/>
            <a:ext cx="734076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-work-i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i="1" lang="en-US" sz="4400" spc="-1" strike="noStrike">
                <a:solidFill>
                  <a:srgbClr val="dd2067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of system decr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2067"/>
                </a:solidFill>
                <a:latin typeface="Arial"/>
              </a:rPr>
              <a:t>The system must be at a higher temperature than the surround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3"/>
          <p:cNvGrpSpPr/>
          <p:nvPr/>
        </p:nvGrpSpPr>
        <p:grpSpPr>
          <a:xfrm>
            <a:off x="7827840" y="1727280"/>
            <a:ext cx="4803480" cy="3365280"/>
            <a:chOff x="7827840" y="1727280"/>
            <a:chExt cx="4803480" cy="3365280"/>
          </a:xfrm>
        </p:grpSpPr>
        <p:grpSp>
          <p:nvGrpSpPr>
            <p:cNvPr id="660" name="Group 4"/>
            <p:cNvGrpSpPr/>
            <p:nvPr/>
          </p:nvGrpSpPr>
          <p:grpSpPr>
            <a:xfrm>
              <a:off x="7827840" y="1727280"/>
              <a:ext cx="2274840" cy="3365280"/>
              <a:chOff x="7827840" y="1727280"/>
              <a:chExt cx="2274840" cy="3365280"/>
            </a:xfrm>
          </p:grpSpPr>
          <p:sp>
            <p:nvSpPr>
              <p:cNvPr id="661" name="AutoShape 5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1132"/>
                    </a:ln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0099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6"/>
              <p:cNvSpPr/>
              <p:nvPr/>
            </p:nvSpPr>
            <p:spPr>
              <a:xfrm>
                <a:off x="7827840" y="1727280"/>
                <a:ext cx="2273400" cy="1742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71" y="0"/>
                    </a:moveTo>
                    <a:lnTo>
                      <a:pt x="0" y="21600"/>
                    </a:lnTo>
                    <a:lnTo>
                      <a:pt x="19929" y="21600"/>
                    </a:lnTo>
                    <a:lnTo>
                      <a:pt x="21600" y="0"/>
                    </a:lnTo>
                    <a:close/>
                    <a:moveTo>
                      <a:pt x="1671" y="0"/>
                    </a:moveTo>
                  </a:path>
                </a:pathLst>
              </a:custGeom>
              <a:solidFill>
                <a:srgbClr val="33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7"/>
              <p:cNvSpPr/>
              <p:nvPr/>
            </p:nvSpPr>
            <p:spPr>
              <a:xfrm>
                <a:off x="9926640" y="1727280"/>
                <a:ext cx="176040" cy="3365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0" y="21600"/>
                    </a:lnTo>
                    <a:lnTo>
                      <a:pt x="21600" y="20468"/>
                    </a:lnTo>
                    <a:lnTo>
                      <a:pt x="21600" y="0"/>
                    </a:lnTo>
                    <a:close/>
                    <a:moveTo>
                      <a:pt x="0" y="1132"/>
                    </a:moveTo>
                  </a:path>
                </a:pathLst>
              </a:cu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8"/>
              <p:cNvSpPr/>
              <p:nvPr/>
            </p:nvSpPr>
            <p:spPr>
              <a:xfrm>
                <a:off x="7827840" y="1727280"/>
                <a:ext cx="2273400" cy="336528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3365280"/>
                  <a:gd name="textAreaBottom" fmla="*/ 3365640 h 336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132"/>
                    </a:moveTo>
                    <a:lnTo>
                      <a:pt x="19929" y="1132"/>
                    </a:lnTo>
                    <a:lnTo>
                      <a:pt x="21600" y="0"/>
                    </a:lnTo>
                    <a:moveTo>
                      <a:pt x="19929" y="1132"/>
                    </a:moveTo>
                    <a:lnTo>
                      <a:pt x="19929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9"/>
              <p:cNvSpPr/>
              <p:nvPr/>
            </p:nvSpPr>
            <p:spPr>
              <a:xfrm>
                <a:off x="8832600" y="3128760"/>
                <a:ext cx="88920" cy="7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Rectangle 10"/>
            <p:cNvSpPr/>
            <p:nvPr/>
          </p:nvSpPr>
          <p:spPr>
            <a:xfrm>
              <a:off x="8237880" y="20908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Group 11"/>
            <p:cNvGrpSpPr/>
            <p:nvPr/>
          </p:nvGrpSpPr>
          <p:grpSpPr>
            <a:xfrm>
              <a:off x="9235800" y="3035160"/>
              <a:ext cx="2705040" cy="545760"/>
              <a:chOff x="9235800" y="3035160"/>
              <a:chExt cx="2705040" cy="545760"/>
            </a:xfrm>
          </p:grpSpPr>
          <p:sp>
            <p:nvSpPr>
              <p:cNvPr id="668" name="AutoShape 12"/>
              <p:cNvSpPr/>
              <p:nvPr/>
            </p:nvSpPr>
            <p:spPr>
              <a:xfrm>
                <a:off x="9235800" y="3035160"/>
                <a:ext cx="2705040" cy="545760"/>
              </a:xfrm>
              <a:prstGeom prst="rightArrow">
                <a:avLst>
                  <a:gd name="adj1" fmla="val 50000"/>
                  <a:gd name="adj2" fmla="val 8726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13"/>
              <p:cNvSpPr/>
              <p:nvPr/>
            </p:nvSpPr>
            <p:spPr>
              <a:xfrm>
                <a:off x="10020600" y="3073680"/>
                <a:ext cx="799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7560" tIns="38160" bIns="38160" anchor="ctr">
                <a:spAutoFit/>
              </a:bodyPr>
              <a:p>
                <a:pPr marL="36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4"/>
            <p:cNvGrpSpPr/>
            <p:nvPr/>
          </p:nvGrpSpPr>
          <p:grpSpPr>
            <a:xfrm>
              <a:off x="9235440" y="3898800"/>
              <a:ext cx="1739880" cy="545400"/>
              <a:chOff x="9235440" y="3898800"/>
              <a:chExt cx="1739880" cy="545400"/>
            </a:xfrm>
          </p:grpSpPr>
          <p:sp>
            <p:nvSpPr>
              <p:cNvPr id="671" name="AutoShape 15"/>
              <p:cNvSpPr/>
              <p:nvPr/>
            </p:nvSpPr>
            <p:spPr>
              <a:xfrm flipH="1">
                <a:off x="9235080" y="3898800"/>
                <a:ext cx="1739880" cy="545400"/>
              </a:xfrm>
              <a:prstGeom prst="rightArrow">
                <a:avLst>
                  <a:gd name="adj1" fmla="val 50000"/>
                  <a:gd name="adj2" fmla="val 55886"/>
                </a:avLst>
              </a:prstGeom>
              <a:solidFill>
                <a:srgbClr val="ffff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6"/>
              <p:cNvSpPr/>
              <p:nvPr/>
            </p:nvSpPr>
            <p:spPr>
              <a:xfrm>
                <a:off x="9768960" y="3949920"/>
                <a:ext cx="8852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114120" tIns="38160" bIns="38160" anchor="ctr">
                <a:spAutoFit/>
              </a:bodyPr>
              <a:p>
                <a:pPr marL="205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Rectangle 17"/>
            <p:cNvSpPr/>
            <p:nvPr/>
          </p:nvSpPr>
          <p:spPr>
            <a:xfrm>
              <a:off x="10512360" y="2090880"/>
              <a:ext cx="2118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round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7D93-D9BD-4759-97C8-3CDB6D11642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78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79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684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01B9-53AB-4DD9-B7EC-AEAFB84AFA7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82093"/>
                </a:solidFill>
                <a:latin typeface="Arial"/>
              </a:rPr>
              <a:t>Which block is hotter?</a:t>
            </a:r>
            <a:endParaRPr b="0" lang="en-US" sz="56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12357360" cy="5131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Smaller block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8458200" y="330120"/>
            <a:ext cx="3683160" cy="3195360"/>
            <a:chOff x="8458200" y="330120"/>
            <a:chExt cx="3683160" cy="3195360"/>
          </a:xfrm>
        </p:grpSpPr>
        <p:grpSp>
          <p:nvGrpSpPr>
            <p:cNvPr id="694" name="Group 4"/>
            <p:cNvGrpSpPr/>
            <p:nvPr/>
          </p:nvGrpSpPr>
          <p:grpSpPr>
            <a:xfrm>
              <a:off x="8458200" y="330120"/>
              <a:ext cx="1841400" cy="3035160"/>
              <a:chOff x="8458200" y="330120"/>
              <a:chExt cx="1841400" cy="3035160"/>
            </a:xfrm>
          </p:grpSpPr>
          <p:sp>
            <p:nvSpPr>
              <p:cNvPr id="695" name="AutoShape 5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6"/>
              <p:cNvSpPr/>
              <p:nvPr/>
            </p:nvSpPr>
            <p:spPr>
              <a:xfrm>
                <a:off x="8458200" y="33012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7"/>
              <p:cNvSpPr/>
              <p:nvPr/>
            </p:nvSpPr>
            <p:spPr>
              <a:xfrm>
                <a:off x="9834480" y="33012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8"/>
              <p:cNvSpPr/>
              <p:nvPr/>
            </p:nvSpPr>
            <p:spPr>
              <a:xfrm>
                <a:off x="8458200" y="33012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9"/>
            <p:cNvGrpSpPr/>
            <p:nvPr/>
          </p:nvGrpSpPr>
          <p:grpSpPr>
            <a:xfrm>
              <a:off x="10515600" y="1409760"/>
              <a:ext cx="1625760" cy="1955520"/>
              <a:chOff x="10515600" y="1409760"/>
              <a:chExt cx="1625760" cy="1955520"/>
            </a:xfrm>
          </p:grpSpPr>
          <p:sp>
            <p:nvSpPr>
              <p:cNvPr id="700" name="AutoShape 10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1"/>
              <p:cNvSpPr/>
              <p:nvPr/>
            </p:nvSpPr>
            <p:spPr>
              <a:xfrm>
                <a:off x="10515600" y="140976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2"/>
              <p:cNvSpPr/>
              <p:nvPr/>
            </p:nvSpPr>
            <p:spPr>
              <a:xfrm>
                <a:off x="11729880" y="140976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13"/>
              <p:cNvSpPr/>
              <p:nvPr/>
            </p:nvSpPr>
            <p:spPr>
              <a:xfrm>
                <a:off x="10515600" y="140976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Rectangle 14"/>
            <p:cNvSpPr/>
            <p:nvPr/>
          </p:nvSpPr>
          <p:spPr>
            <a:xfrm>
              <a:off x="8558640" y="160488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"/>
            <p:cNvSpPr/>
            <p:nvPr/>
          </p:nvSpPr>
          <p:spPr>
            <a:xfrm>
              <a:off x="10542600" y="160488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2FDB-01CC-471B-9405-32394C62A26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10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11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16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085E-3A09-4A32-A860-BFF201B2FC1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contains more heat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30120" y="1383840"/>
            <a:ext cx="1235736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8521560" y="1384200"/>
            <a:ext cx="3683160" cy="3195360"/>
            <a:chOff x="8521560" y="1384200"/>
            <a:chExt cx="3683160" cy="3195360"/>
          </a:xfrm>
        </p:grpSpPr>
        <p:grpSp>
          <p:nvGrpSpPr>
            <p:cNvPr id="726" name="Group 4"/>
            <p:cNvGrpSpPr/>
            <p:nvPr/>
          </p:nvGrpSpPr>
          <p:grpSpPr>
            <a:xfrm>
              <a:off x="8521560" y="1384200"/>
              <a:ext cx="1841400" cy="3035160"/>
              <a:chOff x="8521560" y="1384200"/>
              <a:chExt cx="1841400" cy="3035160"/>
            </a:xfrm>
          </p:grpSpPr>
          <p:sp>
            <p:nvSpPr>
              <p:cNvPr id="727" name="AutoShape 5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6"/>
              <p:cNvSpPr/>
              <p:nvPr/>
            </p:nvSpPr>
            <p:spPr>
              <a:xfrm>
                <a:off x="8521560" y="13842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7"/>
              <p:cNvSpPr/>
              <p:nvPr/>
            </p:nvSpPr>
            <p:spPr>
              <a:xfrm>
                <a:off x="9897840" y="1384200"/>
                <a:ext cx="460440" cy="303516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8"/>
              <p:cNvSpPr/>
              <p:nvPr/>
            </p:nvSpPr>
            <p:spPr>
              <a:xfrm>
                <a:off x="8521560" y="1384200"/>
                <a:ext cx="1841400" cy="303516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9"/>
            <p:cNvGrpSpPr/>
            <p:nvPr/>
          </p:nvGrpSpPr>
          <p:grpSpPr>
            <a:xfrm>
              <a:off x="10578960" y="2463840"/>
              <a:ext cx="1625760" cy="1955520"/>
              <a:chOff x="10578960" y="2463840"/>
              <a:chExt cx="1625760" cy="1955520"/>
            </a:xfrm>
          </p:grpSpPr>
          <p:sp>
            <p:nvSpPr>
              <p:cNvPr id="732" name="AutoShape 10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1"/>
              <p:cNvSpPr/>
              <p:nvPr/>
            </p:nvSpPr>
            <p:spPr>
              <a:xfrm>
                <a:off x="10578960" y="2463840"/>
                <a:ext cx="1625760" cy="4060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2"/>
              <p:cNvSpPr/>
              <p:nvPr/>
            </p:nvSpPr>
            <p:spPr>
              <a:xfrm>
                <a:off x="11795040" y="2463840"/>
                <a:ext cx="406440" cy="19555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3"/>
              <p:cNvSpPr/>
              <p:nvPr/>
            </p:nvSpPr>
            <p:spPr>
              <a:xfrm>
                <a:off x="10578960" y="2463840"/>
                <a:ext cx="1625760" cy="195552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5520"/>
                  <a:gd name="textAreaBottom" fmla="*/ 1955880 h 19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Rectangle 14"/>
            <p:cNvSpPr/>
            <p:nvPr/>
          </p:nvSpPr>
          <p:spPr>
            <a:xfrm>
              <a:off x="8622000" y="265896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5"/>
            <p:cNvSpPr/>
            <p:nvPr/>
          </p:nvSpPr>
          <p:spPr>
            <a:xfrm>
              <a:off x="10606680" y="265896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F106-5E55-407F-995D-C8793B49FFA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42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43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48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F650-3C0F-44FC-860E-274C7CEDB94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(D) and the potential energy of the reactants (A) 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vapor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CE93-E92D-4554-9B18-62A5B4C8A5E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9760" y="216000"/>
            <a:ext cx="1004580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82093"/>
                </a:solidFill>
                <a:latin typeface="Arial"/>
              </a:rPr>
              <a:t>Which block has the higher specific heat capacity, c?</a:t>
            </a:r>
            <a:endParaRPr b="0" lang="en-US" sz="6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30120" y="2374560"/>
            <a:ext cx="123573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igg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maller block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Same because sam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d2067"/>
                </a:solidFill>
                <a:latin typeface="Arial"/>
              </a:rPr>
              <a:t>materia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8521560" y="2487600"/>
            <a:ext cx="3683160" cy="3196440"/>
            <a:chOff x="8521560" y="2487600"/>
            <a:chExt cx="3683160" cy="3196440"/>
          </a:xfrm>
        </p:grpSpPr>
        <p:grpSp>
          <p:nvGrpSpPr>
            <p:cNvPr id="758" name="Group 4"/>
            <p:cNvGrpSpPr/>
            <p:nvPr/>
          </p:nvGrpSpPr>
          <p:grpSpPr>
            <a:xfrm>
              <a:off x="8521560" y="2487600"/>
              <a:ext cx="1841400" cy="3036240"/>
              <a:chOff x="8521560" y="2487600"/>
              <a:chExt cx="1841400" cy="3036240"/>
            </a:xfrm>
          </p:grpSpPr>
          <p:sp>
            <p:nvSpPr>
              <p:cNvPr id="759" name="AutoShape 5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6"/>
              <p:cNvSpPr/>
              <p:nvPr/>
            </p:nvSpPr>
            <p:spPr>
              <a:xfrm>
                <a:off x="8521560" y="2487600"/>
                <a:ext cx="1841400" cy="4604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7"/>
              <p:cNvSpPr/>
              <p:nvPr/>
            </p:nvSpPr>
            <p:spPr>
              <a:xfrm>
                <a:off x="9897840" y="2487600"/>
                <a:ext cx="460440" cy="3036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AutoShape 8"/>
              <p:cNvSpPr/>
              <p:nvPr/>
            </p:nvSpPr>
            <p:spPr>
              <a:xfrm>
                <a:off x="8521560" y="2487600"/>
                <a:ext cx="1841400" cy="3036240"/>
              </a:xfrm>
              <a:custGeom>
                <a:avLst/>
                <a:gdLst>
                  <a:gd name="textAreaLeft" fmla="*/ 0 w 1841400"/>
                  <a:gd name="textAreaRight" fmla="*/ 1841760 w 1841400"/>
                  <a:gd name="textAreaTop" fmla="*/ 0 h 3036240"/>
                  <a:gd name="textAreaBottom" fmla="*/ 3036600 h 30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9"/>
            <p:cNvGrpSpPr/>
            <p:nvPr/>
          </p:nvGrpSpPr>
          <p:grpSpPr>
            <a:xfrm>
              <a:off x="10578960" y="3567600"/>
              <a:ext cx="1625760" cy="1956240"/>
              <a:chOff x="10578960" y="3567600"/>
              <a:chExt cx="1625760" cy="1956240"/>
            </a:xfrm>
          </p:grpSpPr>
          <p:sp>
            <p:nvSpPr>
              <p:cNvPr id="764" name="AutoShape 10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11"/>
              <p:cNvSpPr/>
              <p:nvPr/>
            </p:nvSpPr>
            <p:spPr>
              <a:xfrm>
                <a:off x="10578960" y="3567600"/>
                <a:ext cx="1625760" cy="4064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12"/>
              <p:cNvSpPr/>
              <p:nvPr/>
            </p:nvSpPr>
            <p:spPr>
              <a:xfrm>
                <a:off x="11795040" y="3567600"/>
                <a:ext cx="406440" cy="19562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13"/>
              <p:cNvSpPr/>
              <p:nvPr/>
            </p:nvSpPr>
            <p:spPr>
              <a:xfrm>
                <a:off x="10578960" y="3567600"/>
                <a:ext cx="1625760" cy="1956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956240"/>
                  <a:gd name="textAreaBottom" fmla="*/ 1956600 h 195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Rectangle 14"/>
            <p:cNvSpPr/>
            <p:nvPr/>
          </p:nvSpPr>
          <p:spPr>
            <a:xfrm>
              <a:off x="8622000" y="37634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5"/>
            <p:cNvSpPr/>
            <p:nvPr/>
          </p:nvSpPr>
          <p:spPr>
            <a:xfrm>
              <a:off x="10606680" y="37634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FA15-A05B-4ECE-B311-91DE6AC5898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30120" y="215640"/>
            <a:ext cx="1235736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If these two blocks were allowed to come to thermal equilibrium together, would the final temp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30120" y="2450880"/>
            <a:ext cx="8344080" cy="48639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9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closer to 100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97.5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 impossible to know without more inform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3"/>
          <p:cNvGrpSpPr/>
          <p:nvPr/>
        </p:nvGrpSpPr>
        <p:grpSpPr>
          <a:xfrm>
            <a:off x="8674200" y="2133720"/>
            <a:ext cx="3682440" cy="3206520"/>
            <a:chOff x="8674200" y="2133720"/>
            <a:chExt cx="3682440" cy="3206520"/>
          </a:xfrm>
        </p:grpSpPr>
        <p:grpSp>
          <p:nvGrpSpPr>
            <p:cNvPr id="774" name="Group 4"/>
            <p:cNvGrpSpPr/>
            <p:nvPr/>
          </p:nvGrpSpPr>
          <p:grpSpPr>
            <a:xfrm>
              <a:off x="8674200" y="2133720"/>
              <a:ext cx="1841040" cy="3035160"/>
              <a:chOff x="8674200" y="2133720"/>
              <a:chExt cx="1841040" cy="3035160"/>
            </a:xfrm>
          </p:grpSpPr>
          <p:sp>
            <p:nvSpPr>
              <p:cNvPr id="775" name="AutoShape 5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3279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6"/>
              <p:cNvSpPr/>
              <p:nvPr/>
            </p:nvSpPr>
            <p:spPr>
              <a:xfrm>
                <a:off x="8674200" y="2133720"/>
                <a:ext cx="1841040" cy="46044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7"/>
              <p:cNvSpPr/>
              <p:nvPr/>
            </p:nvSpPr>
            <p:spPr>
              <a:xfrm>
                <a:off x="10050120" y="2133720"/>
                <a:ext cx="460080" cy="303516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0" y="21600"/>
                    </a:lnTo>
                    <a:lnTo>
                      <a:pt x="21600" y="18321"/>
                    </a:lnTo>
                    <a:lnTo>
                      <a:pt x="21600" y="0"/>
                    </a:lnTo>
                    <a:close/>
                    <a:moveTo>
                      <a:pt x="0" y="3279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8"/>
              <p:cNvSpPr/>
              <p:nvPr/>
            </p:nvSpPr>
            <p:spPr>
              <a:xfrm>
                <a:off x="8674200" y="2133720"/>
                <a:ext cx="1841040" cy="3035160"/>
              </a:xfrm>
              <a:custGeom>
                <a:avLst/>
                <a:gdLst>
                  <a:gd name="textAreaLeft" fmla="*/ 0 w 1841040"/>
                  <a:gd name="textAreaRight" fmla="*/ 1841400 w 18410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279"/>
                    </a:moveTo>
                    <a:lnTo>
                      <a:pt x="16200" y="3279"/>
                    </a:lnTo>
                    <a:lnTo>
                      <a:pt x="21600" y="0"/>
                    </a:lnTo>
                    <a:moveTo>
                      <a:pt x="16200" y="3279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9"/>
            <p:cNvGrpSpPr/>
            <p:nvPr/>
          </p:nvGrpSpPr>
          <p:grpSpPr>
            <a:xfrm>
              <a:off x="10731240" y="3225960"/>
              <a:ext cx="1625400" cy="1955880"/>
              <a:chOff x="10731240" y="3225960"/>
              <a:chExt cx="1625400" cy="1955880"/>
            </a:xfrm>
          </p:grpSpPr>
          <p:sp>
            <p:nvSpPr>
              <p:cNvPr id="780" name="AutoShape 10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4500"/>
                    </a:ln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11"/>
              <p:cNvSpPr/>
              <p:nvPr/>
            </p:nvSpPr>
            <p:spPr>
              <a:xfrm>
                <a:off x="10731240" y="3225960"/>
                <a:ext cx="1625400" cy="40644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  <a:moveTo>
                      <a:pt x="5400" y="0"/>
                    </a:move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AutoShape 12"/>
              <p:cNvSpPr/>
              <p:nvPr/>
            </p:nvSpPr>
            <p:spPr>
              <a:xfrm>
                <a:off x="11946960" y="3225960"/>
                <a:ext cx="406080" cy="195588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0" y="21600"/>
                    </a:lnTo>
                    <a:lnTo>
                      <a:pt x="21600" y="17100"/>
                    </a:lnTo>
                    <a:lnTo>
                      <a:pt x="21600" y="0"/>
                    </a:lnTo>
                    <a:close/>
                    <a:moveTo>
                      <a:pt x="0" y="4500"/>
                    </a:move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utoShape 13"/>
              <p:cNvSpPr/>
              <p:nvPr/>
            </p:nvSpPr>
            <p:spPr>
              <a:xfrm>
                <a:off x="10731240" y="3225960"/>
                <a:ext cx="1625400" cy="1955880"/>
              </a:xfrm>
              <a:custGeom>
                <a:avLst/>
                <a:gdLst>
                  <a:gd name="textAreaLeft" fmla="*/ 0 w 1625400"/>
                  <a:gd name="textAreaRight" fmla="*/ 1625760 w 1625400"/>
                  <a:gd name="textAreaTop" fmla="*/ 0 h 1955880"/>
                  <a:gd name="textAreaBottom" fmla="*/ 1956240 h 19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00"/>
                    </a:moveTo>
                    <a:lnTo>
                      <a:pt x="16200" y="4500"/>
                    </a:lnTo>
                    <a:lnTo>
                      <a:pt x="21600" y="0"/>
                    </a:lnTo>
                    <a:moveTo>
                      <a:pt x="16200" y="4500"/>
                    </a:moveTo>
                    <a:lnTo>
                      <a:pt x="162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Rectangle 14"/>
            <p:cNvSpPr/>
            <p:nvPr/>
          </p:nvSpPr>
          <p:spPr>
            <a:xfrm>
              <a:off x="8774280" y="3419640"/>
              <a:ext cx="8924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10758960" y="3419640"/>
              <a:ext cx="1087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º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g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6E6D-5577-460D-A029-850108F50BF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2784-8E55-4A87-B744-D98DC23FC4C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specific heat capacity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F9B9-04B0-40A3-B964-9B52B3746C0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11464920" y="9398160"/>
            <a:ext cx="36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5D58-E6D3-41DD-A564-E5D85712F8F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The unit label on </a:t>
            </a:r>
            <a:r>
              <a:rPr b="0" lang="en-US" sz="5700" spc="-1" strike="noStrike">
                <a:solidFill>
                  <a:srgbClr val="182093"/>
                </a:solidFill>
                <a:latin typeface="Arial"/>
              </a:rPr>
              <a:t>∆Hº</a:t>
            </a:r>
            <a:r>
              <a:rPr b="0" lang="en-US" sz="5700" spc="-1" strike="noStrike" baseline="-6000">
                <a:solidFill>
                  <a:srgbClr val="182093"/>
                </a:solidFill>
                <a:latin typeface="Arial"/>
              </a:rPr>
              <a:t>f</a:t>
            </a:r>
            <a:r>
              <a:rPr b="0" lang="en-US" sz="5100" spc="-1" strike="noStrike">
                <a:solidFill>
                  <a:srgbClr val="182093"/>
                </a:solidFill>
                <a:latin typeface="Arial"/>
              </a:rPr>
              <a:t> is</a:t>
            </a:r>
            <a:endParaRPr b="0" lang="en-US" sz="51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30120" y="1231560"/>
            <a:ext cx="1235736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d2067"/>
                </a:solidFill>
                <a:latin typeface="Arial"/>
              </a:rPr>
              <a:t>kJ/mo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J/mole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03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/gº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4688-5EF6-46E0-B7DB-872B7D3C589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8748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12493800" y="929628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1CFE-6055-4230-963D-F783727DA50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30120" y="216000"/>
            <a:ext cx="1235736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2093"/>
                </a:solidFill>
                <a:latin typeface="Arial"/>
              </a:rPr>
              <a:t>Which metal will undergo the greatest temperature change if an equal amount of heat is added to each?</a:t>
            </a:r>
            <a:endParaRPr b="0" lang="en-US" sz="4800" spc="-1" strike="noStrike">
              <a:solidFill>
                <a:srgbClr val="18209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30120" y="2705040"/>
            <a:ext cx="1235736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45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90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38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Pb, </a:t>
            </a:r>
            <a:r>
              <a:rPr b="0" i="1" lang="en-US" sz="4800" spc="-1" strike="noStrike">
                <a:solidFill>
                  <a:srgbClr val="dd2067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dd2067"/>
                </a:solidFill>
                <a:latin typeface="Arial"/>
              </a:rPr>
              <a:t> = 0.13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2961b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61b0"/>
                </a:solidFill>
                <a:latin typeface="Arial"/>
              </a:rPr>
              <a:t>Materials with low specifi heat are easier to change their temperatu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4620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,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H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0.22 J/g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1246-5759-4698-A6E4-1F63670E724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In a chemical reaction, the difference between the potential energy of the products and the potential energy of the reactants is defined as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4160" y="3428640"/>
            <a:ext cx="57276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onization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heat of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tice energ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78B1-831A-4A5F-8453-F183C0098D0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3D13-B552-4765-A36A-83D0C842C6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02680" y="317520"/>
            <a:ext cx="126874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Which letter in the potential energy diagram shown below, represents the heat of the reaction, ∆H?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2680" y="3441240"/>
            <a:ext cx="572796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6197760" y="2946240"/>
            <a:ext cx="627840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C32F-ED1D-417F-833A-216FB1F42A1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4B74-FB33-47A9-81B9-6865DDC1997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The reaction represented by this graph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631188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is not enough information to determine the energetics of this reac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5986440" y="1308240"/>
            <a:ext cx="68454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410E-67C6-43E8-8996-41C36414041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43080" y="317520"/>
            <a:ext cx="121284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Bond breaking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42720" y="1472760"/>
            <a:ext cx="826740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x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endotherm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ends on the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8T21:28:30Z</dcterms:modified>
  <cp:revision>2</cp:revision>
  <dc:subject/>
  <dc:title>Thermochemistry</dc:title>
</cp:coreProperties>
</file>