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FA38-D126-4773-9AB2-51648D4CB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6F8C-A929-452F-87AF-D0F60AB561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075A-39E9-42E8-97B8-A29DD27756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3620-14CD-4BBF-A6FC-3F14F5EF16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F688-735D-4816-9C4A-A9390FE49B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C20D-163C-4BB5-BE5F-346560D57D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7A02-C5A6-48B9-ADE5-DA02230B85E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35B5-4843-4E45-840B-8D8B44D383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22CC-00AF-48D5-A57A-EF5EEB1361B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494A-ABD8-4DFB-B830-049223C9AC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93B0-AD8C-4523-BB03-1C265DF63C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C1390-F170-43EB-A900-8D8A2C690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312B-201C-4922-9538-E08B6C01C1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95959-EE72-466E-8F98-B6CCC537376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375AC-A7A5-43A2-9202-9C45CF94152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EFB90-5B11-4252-BBBA-F46CDEB754E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01E5F-BF8E-47FE-967A-FC3F639A52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5D83DB-A108-4161-A317-46EB345B30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05261-8497-40EC-9DDC-FBCEB33D800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14B14-F89D-4424-8F21-8271A2CA6C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D016D-3583-402C-AA96-EE0244833A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CD8A7-C60E-4D72-AF1F-3981E4C3F66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85097-8A23-4ADB-993D-1ADD1F69F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5BD9-7978-4B99-B37A-69EB99BABF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8A1FE-319C-408D-8579-2B8A8D89D5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7B22C-391C-4A4B-8B7E-A96E4E7513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AD967-FC52-4EC8-9588-F850259687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8143E-C188-490B-B336-78A553B827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2FD95-2341-4A11-9B9F-38692DC5F7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E070D-D129-4C7B-AAE9-6A8AAE70E0B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B8066-A5F9-4A3C-8C3B-45F9124C26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84183-8B21-4DFC-B1E6-795B54A7AC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6347D-B2D8-4482-BAA4-BE9A9CAA13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CDF57-1E12-49DD-8C42-0F3A005EF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6901-9BA6-4CF8-AE7F-018E5991DFB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08C5E-1809-4700-812C-D2C51BA975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B47E7-08A8-4B2A-AE77-5CC48F6AE87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7CA04-3285-4A2C-A953-1E8E6E9946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FB12-73A5-4F19-8A95-85C78ADD2A6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3498-BE48-4F1D-84E9-C14E13EE15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1DD3-B848-4EFB-A401-B7F8E971B6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0AB4-286C-4B98-9164-8FBF7D1B4D8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697A-617A-40B1-AA6A-37B78D7FDC6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75C7-8903-4578-8D71-E1E706F551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49C1-3C57-4217-BA14-4950B1543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2038-2888-41B7-8EDB-8908FEEBF13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2AD6-9A0E-417F-B413-B4B40BA07D1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09B73-CBE8-45AE-BC4A-FF6E09A2609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9FC5-992C-4035-8ECA-FB8EF3ACCB3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76B7-3DD7-4173-893A-77275E7E7A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B43B-33E8-4235-891D-24C96D23CD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15610-B5D0-4BC9-97E5-8F333AAD879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F1247-8CA6-4F05-BACB-EC55DF4D373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D6EA1-71EF-4D23-A9EC-1737D2DC20A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1105F-911A-4A4E-B9F2-9F9804BBDC1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8BB9A-FC58-48A4-9AAC-7FACBF88C2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9F3A-F359-456C-8C85-320BFE9D3F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7BC8D2-3B60-46A1-8919-83AEF3CC02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64861E-4E75-4840-87AF-ED042C3790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59E2C-9E6D-469E-B0EF-94F5F427DC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78952B-0A33-4EB2-9BC7-D5FC02102E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98AB4-1064-4108-959A-F3A157743E8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3181A9-2367-40BA-80A1-879D302175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3D54D7-43D3-432E-AF2D-AFB06A47CD3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297EB-1C4E-4371-9439-CDB8E69FF04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6F658-8C9A-45E1-9BB1-C54CCB71A7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1A4CE-BD0F-4B84-B779-C66914DE68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5E8D-B12C-448E-A938-314C45D843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0352A-AFB7-40E1-A36F-9981907545F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1690A-9785-478F-8BB2-94012B82C34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7550E-A9E9-4904-80A8-0CC07BF1B80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7A6BB-F1DF-4E72-8215-5D7BAD9969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C511F-2CB5-4E54-A96F-4434754B9AA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7CA53-8497-4B92-B7B3-AE22A6F05D4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77EBB-988A-43DF-9985-A6F3AA4621B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FDD7F-AADB-4BE2-9DBE-C8B10A1E27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F0E98-000B-4148-9CEA-6991ADC13B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2CB85-AC3D-457E-835F-53D2C0AC02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C05A-BF8B-45DF-9593-CBDC140851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B8CC-3CC3-4427-9045-AA7FD4EAB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A0F2-EB41-4F06-8180-5AA93D665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9F3C-D2CA-48FB-8643-872BCED39F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8395-A710-411E-A949-E83EC4AE5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FECF-F2DF-485C-8543-F8E0C50543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0572-C7C6-43B2-B445-04D2BADFD8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CD56-0DF4-4221-81A1-85F5D1A564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007-F8B1-48B4-90B0-17D057BC71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0E1-A527-47D7-A81B-EA94DE2683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5A8-9DB3-4DB7-91BA-0AF2C97271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DCB-18C6-4116-BA9A-B095E7C17F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8F3-8088-46D8-B14F-9CA7BCC8A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140F-9DCA-4E5B-A0C4-82F30AFEA8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358-43F2-4510-A1DD-6C54A62D27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BB2-9614-49B6-8A44-FFBF77D2C2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F47-5CFD-4573-A3FD-CACFB2A17C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F8E-3911-49BA-910F-76A4784403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018-454B-4561-975D-2CF0F57F25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561-3615-4466-BAC2-2872C3AE0E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A9D-40FC-4906-A7C4-94FE9B9F60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8FA8F-3D2F-4AFC-BBAC-13D1282460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8535E-7B24-4B6F-9E5F-BAFD37B63D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B2B58-12CB-4B90-8ED1-67C22DCF1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E85A-9975-45ED-8DD5-E5FEFE4B8D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51D4B-6D97-4310-A351-DBA600E5E3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ACB4D-B4D4-4E4A-BB9E-499C6B45DC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63465-2FC0-46A4-BCEB-B71F9DF468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AD37-FC71-4566-A90D-B73B17813F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42B6-B0F8-44A2-9D93-35C5CEC7F1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F3DF5-E8A8-4549-8AB8-B8320333A1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39253-0648-4314-B96F-4AA7EC27CC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C3A3E-B1CA-43B8-B84D-3852E55C38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10B2E-592D-4E42-AE93-D5658D87EC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91EE-5F12-427B-9482-E94D2ABA7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4B06-AB57-461F-B809-9D977C64A9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4BCAE-E48C-4936-A66C-7D44278F33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322E7-A5BB-46CC-B952-5F3D63B327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F2DF-C71E-4B78-9C0A-CEA11ECAF6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EC46E-E46B-44BC-8146-D4DD9F4BF4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45D54-76D1-4156-9B9C-6B0046DDF4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A7675-02A6-477A-8D3B-2F96ACFDC1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75C77-73B8-4CDF-B91D-9A5ABE0283B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764ED-FAE6-46E5-BF2D-A155BAEF07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09783-BF3F-401F-BED9-C45D85D7AC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21AE7-F8DB-46A2-AF0F-E3BAD832D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CF93-88CF-469F-8E7F-C63803297B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487D2-7371-430C-A603-271DC15A60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9CF-3D92-4018-B2AB-D9CA178059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356-4A16-46FE-93B5-B2B8CE259B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F680-A223-4190-840A-250A981582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B014-FD07-431D-B8E2-CAB3260B4F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0A9A-669F-4164-A7B6-D41D0CD091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9237-2C3A-4B49-A3C6-7DA8588E11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57EB-D0F9-4FC6-9E8C-4828079F3F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BD75-EBF1-4D5F-826E-F443966663B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52EE-5D07-4270-9D57-B44C9ADF0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056F-6D15-4103-95A0-D1FA52C6496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4472-E0F5-4A93-97AE-D74BE16ECBA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E5BB-E97A-47C1-8256-8EFF2D44EC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A752-C8AE-4812-8964-BDB2621C9CD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F34A2-BCC9-42A4-A921-AAC859DCED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54308-FEB4-4599-8486-87173C2C45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43AA2-8A04-4791-AA58-3B2B693DDF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48C2F-5660-4CDA-913C-9821BFB456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2F6EF-E979-47D2-8041-1EF55EA37F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D1D15-4BC2-4C7C-8019-FDB37D64C13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E6684-497F-4CA1-8925-6368911EA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AC28-EDC4-472A-8273-D597E2B5C11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1428B-8DB5-4D4E-B41E-5014CD0AB2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E4EC2-F1B6-4A28-81E0-F9A1BFB5973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46344-7757-47EA-8848-F6BCF8801A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B6CE5-58CA-423D-AB42-0996A62DB2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D505D-C5FC-43ED-84EB-404BF2F2E7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87541-C47E-4163-9318-9DD10469ED1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2B6A4-6AA3-48BA-87E8-5282B031A6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0359C-0EDF-4DA9-B53E-5AD2C36704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1ACFC-0F54-47C3-82B8-8700D9CF821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FC64C-C129-4D06-A84B-CCB9C68D0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351B-93DF-410E-AD48-2A7963FB6A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EA624-3CBD-4E66-9698-468BC7DCC3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7FDA4-80FD-4FBF-B026-F03121F8D7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30BEF-B484-4ACA-A40C-B72E3C4E3B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B870C-4F6E-47CE-81CB-6DD1D7AA339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FFD4D-A2C9-4605-A82D-C849935A89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27D6D-8434-4949-96DF-1464E2F905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2A0DE-BE27-479E-BCCD-F9441E78D07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6E45-39FC-462C-9D43-13797697F8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95E2-01B4-481B-93AB-5EF84FF66D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9014-409E-4F40-A8D1-65E54D2DB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DBE-A54A-4D2C-89C0-B1C915AEF8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6E2-FD0D-4A23-8BA6-43740CE4421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452E-97C1-42FE-91D8-06D6B59568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787-A4D5-441C-944A-E7EA102360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B09A-7E9C-45C6-84C0-A1E76EFBC4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3FBB-1DB9-4165-A712-12AE079210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1A1E-883C-4D79-B982-031911BFF9C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0081-30A3-4DD1-9979-FE5275B5E2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1295-1A13-4883-A6B7-AD9071AF4AE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E4F-A51F-4ECF-B789-2683322A7B8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011-7232-4FD4-BDA2-6994985AB94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C12-7470-4337-9131-5E2734A0925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BF68-462B-4787-9C40-FAD27542432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4AF-9490-485D-B7B1-5B5B0485DCB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F51D-BF24-4585-9D7C-C0731954F9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48E-223C-4FF7-8CAC-F6F30B9AA1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B4EE-5390-4EC3-8880-3068584BA0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FAD2-CA9D-42EE-BA05-AC7741DEE4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CF90-697B-45EF-A9A6-16D0097FE1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36EE-96B0-468A-BF35-D3839D6F9D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8E5-CC7E-4179-8CBC-54010B58E0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B679-5C2E-4AF3-85E6-CADA959A68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CE1-3CFC-4E5E-9AE6-473AEA341F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73A3-A86F-4629-96E1-B42C2C8196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AA49-E2ED-45E3-9F89-2DA3C2561D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026-5C3C-4625-8138-3C4A4573F3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30C-111F-4AB1-9160-69F20F252E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BF28-86F8-4CDA-A2CD-22F07905D7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84DC-7B42-4897-B487-5E6AAC7EE72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F47D-D442-4940-B115-459A2E06AB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C29-3589-4DCB-BCED-FDFE7EE83D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2B6D-C77E-4664-9FB7-1FF35048AD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B43A-E251-491A-A7F3-664E008AE62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6305-B6AB-44FC-B0E1-FA4F0ADE5C9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27A-1CB1-4566-A910-E956AFEBD84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C9B6-CBDD-428F-8095-EBF17F81910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DC05-1AB0-439D-83A4-0A3585907A5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786F-0E5F-49BF-9FCF-9EA6C8751DD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CB69-460B-4AD2-8726-B3B572B2CF0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B99-A2FD-4968-86A9-D25A903BFA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1BD-9211-4439-BF25-B84A7A2F0C3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6FC-7447-424F-8805-D9DE2273549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598C-1781-4D89-8447-33C26BFAC8A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7A28-9D6B-4660-BBEC-4982B8EAAAE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4030-A042-41B0-BC5D-54394D46B77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5967-587C-4971-8628-5AE38EBDC03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FF5F-6E4F-481A-90F3-028486E7F97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D81-5D0C-4B2F-B75C-89A79D712B4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6DEC-4599-4110-886C-271F390A63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325C-7261-4799-A930-E9F099C2E5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6853-1381-45F6-A686-1B365AB42D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5E85-211E-4DF2-801C-F54CA4A391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09A9-8000-40D0-AC9D-B38AE4BF74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4E6-14B6-4DA9-A013-8C7D47B396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3T15:21:19Z</dcterms:modified>
  <cp:revision>2</cp:revision>
  <dc:subject/>
  <dc:title>Thermochemistry</dc:title>
</cp:coreProperties>
</file>