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87A77-963B-4EB4-AC53-44E37E5D5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892B-C631-407F-BDB6-2D73796B97B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3C74F-3FBB-4FE6-994D-5B9115CD560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99817-9543-4879-B519-1C6982D4779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10F56-32E1-4DB3-9636-F22098D333A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056BE-8A07-4CDF-9E29-A84A1F1DE07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1F1D7-99B2-4260-B55F-A93DEEF47CA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6C600-5F24-4B4D-B961-F3E56581145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63399-55FA-4FAE-9A7D-288E472E5AD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444CD-85D9-4E80-B98F-997C981A10D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29E2C-44A4-40BF-A6E2-F19B1DF6509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C7F0A0-0AB3-4081-8AEA-71FE5D7F9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4749-538D-4B0B-9BD1-22841BB173A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437185-1462-4EA6-B573-1FC899F5F3E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C57CFA-882B-423A-84ED-BA67DF667B2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6963BE-6E88-4563-ADEA-D04EC5FA4B9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AE80CE-31D6-4A39-8568-C98CAC558C0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6D0EBF-9AE5-4770-B7EE-98C59A2ECA7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62F6D8-087E-423C-9A41-A6E1E4152D5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133A0C-8E72-44DF-BA2B-DE67F473BE9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930423-15FF-4A41-A15E-828FB3507AB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3681B8-FA97-4849-94D3-6251CBC876A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1B91C6-D912-4BDB-90A6-27F58F51F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DF3D-ABC0-47E8-A842-051C7F46753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F83A0E-B8FA-496F-AC85-777459C262E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C975FE-C4DB-4B47-BAEA-DD7E27CC80D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D6AA53-97C6-422B-8F99-25082CE5E26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627332-B005-4256-8A44-4E7ED990F1D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199B1D-EEB5-4D1B-957F-13EB9E31665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B96B82-936D-42E3-9694-36AEFE1EA0F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7F53ED-41E1-404C-A5AE-92825C3FC87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50849C-D5AB-4934-8F7C-F33AC6288E4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6E19A3-A22C-48DC-992A-2E012AA58EA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D2BBD5-6A3C-4224-84DC-50A0092B0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E3258-7A25-4A9E-B429-85A6BE58CD8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EB7A24-B58B-4A2C-A171-7AD52EC7A19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90D72-10F5-42BA-B167-55F80425792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373DAE-3A3C-4847-B6E0-8ADF2E966EC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783D3-A2E6-4C95-BC30-1DE61D0F6F2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C72D2-48D8-4FE4-A8E9-C06D3A7E4C9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8F672-A0F1-452A-B85A-A3A8CD0CC96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0A538-B363-4AF3-A231-F3D9701D0EB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79450-9148-437E-972F-18C39125D18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A9534-A615-40F8-91C2-E11668D9BA0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6EBF5-35FB-42F2-8C0B-7EF3495B8C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5D008-511B-4813-9D34-A16E0AF9A49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07E1E-BB01-49D0-B547-F0AAFE4680F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D3545-BC9B-42D5-AC60-1B2106A5087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38B76-9C54-4D82-A9EB-77A72694707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A8114-584C-4504-8187-1C427DE4400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419AD-49A6-4F2D-A666-C25595225C7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5A8374-FE89-435D-8890-69EC0E12061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AF1499-2318-43AB-8E79-35D9D71A09B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2DC100-4C94-43C5-9651-1061421493C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D94A67-FE62-459A-8249-9389DCD08F9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AE16F2-0184-4B7C-9550-741C390E33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82451-7954-4B09-9AF3-ACF8A736C9B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14BF47-09BF-40DC-8FBB-C0C4ED170F9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C52F7B-959E-46F5-8355-A82C9F620AF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462C97-9DCC-4C1C-913A-29DEC8DEC20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A76A0B-2865-4092-A6D3-F2CB6B8E1CB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EDA049-AC6F-4549-A56B-F779AA5DCE4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2D8C5C-3BBF-407B-AED6-4757EAA5164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CDE579-C9A6-48E2-8403-45826CBD2FC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9D5311-E882-4E52-BE37-2B7A8FA3EC2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48846-D537-423E-994D-E117D95E0EC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A456ED-F70A-4363-A187-D7B1B33F82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119D4-918B-4BFA-9379-86B8023BA50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357B44-A425-4DB9-B64B-49E1613DD73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A9F31E-552C-4EB7-AFA1-7BFE1257F6F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249835-246D-467C-9F17-5B8CCE13FFD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ABF3E-921C-46DF-B2C9-86636F64990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416E7B-7D39-4846-8A76-48FA4A3E245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C7BE69-CA46-4D37-9471-BA07D63E0CE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F77A67-4D79-41A0-B94D-2CC98267FBC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ABC550-6CA5-4E9A-BF9A-BF602D4B0AE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81DCBB-3788-4C9E-A8A4-0AC20E625B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60B4-2C98-4D9B-9487-ADD6BE8009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506F8-C1C0-428D-B5F3-8D1D86CFBB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9EB47-DAB7-46EC-A930-870B3EF1B2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7B415-EE81-4F2D-A740-3DFA345B4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17C68-8CE8-49DF-AD40-CE05F3F3AD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84CD-3DB4-4FB0-B2EB-9086EFB8F8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F9E99-6D5A-4EE7-A4C9-8E56478469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8A371-652B-483A-BF1A-67EB990701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386A0-7A41-4BC5-BC66-AFBF563391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991-E1EE-4B1D-8222-1B667A36EE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D08D-3FC1-4218-B8FA-0136508B0F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AA8-5F05-426F-8C7B-A82FC6C409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75B0-BA69-47CA-928E-C78ED276AF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3D5D-0E6E-4083-AE9D-76ABF5EB43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0CA5-8DEC-49B0-A27D-405441934A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388-47F0-4382-AE63-6F2B3EDD70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6C9-643F-4322-B2B0-AA97DB0AF3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FF5-5D53-4673-A1B1-25CC0E2A6F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6A0-A2AF-4EAF-B9C9-E3FFC571B3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26AB-66C6-48E2-890E-0CE7B133BD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DECC-0670-429E-BA1E-14808248C9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14F-32CF-4FC2-85BE-8302286BC3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025FF-943A-4822-8F29-6660616460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F6055-3DEE-432B-BB76-ADED36040A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6E848-6B60-4C02-936F-B10F2D07A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CFA8-1CB7-4342-9A27-9C81AB4033D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84591-F8BC-4AF8-A1EA-8ABDC4FDFE0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DC24A-FCFA-409A-9634-079511EA0C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16578-1673-4982-808A-A01B5FF753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EFE60-E30C-4FDD-9836-D8EAFE1049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DE52F-7C94-4AA2-9FEB-6BEA1C3254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1D03B-B222-4599-A521-864B538949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DE7CD-1B75-4908-BD22-A70D59575D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800DC-35A4-48B6-9991-9060C22D72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E6DAC-9ED7-46B9-B225-237941CAF71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B3240-612A-4443-92AF-67B5A9136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3E70-6079-4D8D-A4C5-CFD7928A946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B8EBE-4C82-44F3-AE9E-AB8AEC87C13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4BDBA-3490-4FE9-B545-B29E7AF2B7A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691FA-6A18-48AA-B010-D2AF98DD57E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C66AB-99B2-4AD8-90AC-301AB45F601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C1AEA-EF45-4055-8272-7FCD599B722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4B74A-7409-4BF3-A980-2789D2925C0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B47D3-1BAB-4CCE-9333-CAD89EF8105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6A086-E8AC-427A-8113-FE728E10D10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1200E-EA95-42E2-97C0-48C4186C585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2036A-ED28-47EC-87A3-904DF56ED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0117-F827-4D30-B842-9D739118773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B95E6-06FB-4A8E-90B1-7CFCB81243E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68A9-D24B-4ADD-BA40-58C2B7100C2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57A3-B5DF-455E-8FBC-1A89A26A241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2AA9-DCE3-4D3C-B25F-4E164930D49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30C4-CA7D-494B-A7E6-DB7C44D2C69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4D1F-07F3-47DA-B865-5F2ADE6540C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8817-373A-4C91-B28E-154F5EC6C13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7078-8721-4F08-8081-E6BA65D99AA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A441-00E6-4994-B8A0-89E73910474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F7FA-8D73-47B4-AF4A-AD8BFF763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49EFD-CC1C-48F3-9093-DCFA9543C52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167C-A0B4-4B36-9BD9-4E952CE07BE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DBCF-A3A0-428D-9C50-2AF728BBF97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A66F-7945-4B4B-85D0-D733FACA2D4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815792-732F-4E27-9B1D-95638BFE310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5F7DAC-06BA-42EB-8E0C-06B27C0AD9A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BEDBFE-9CBC-49E8-8654-A7E5B024AA8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DCE235-ED70-4150-8D9E-2F11213827B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406BFF-7ABF-490C-ADEA-0FC0C890A31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006500-0595-43CA-AD05-6B91735C695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4A07B0-CAB7-4742-905C-F061CC2F2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F4BE-B23A-4236-A69E-10B4C6E5943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D5B1F9-70F0-45E7-B73C-00B7A1D464E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16CEB7-1D57-404E-837E-6BAAA1AC166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B53BDD-5CEC-4B09-A5E4-01DE44DEF13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94572D-E938-424F-ABEF-9123EFD517E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3BE4CE-BA6F-40A2-B569-F100CB4B40B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F9503-A56D-4851-825A-ECF48186535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FE9EC-C66E-4603-BD93-1B106F6D753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8B592-7067-4732-9683-4DF203995A4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8DB0D-F772-49AE-A105-5B326D6B40F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8A246-B2DD-4CBC-BC7E-CF5A9B6DA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A252-0B3C-4A22-BB2B-61CF48B533C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642AB-94A5-4EC2-B09D-E0C01013581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AC37C-F674-4CA3-966E-227C4FF3666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58933-0250-4A8E-9BE4-84BCE2D91A3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F3DBE-F8B0-4FC4-BB48-4B01EBE0A20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570D8-BD4A-4018-B1CA-B0A990A34A8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992E0-2214-4579-A371-203837B789C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22195-F8BE-4B73-8714-BC33DBF9F05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905B6-D934-47C1-9F8D-C68482639AD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908B4-3BE7-452C-8710-C38513C34FD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A7EC3-E0A3-4474-9C7C-A167138D2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5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6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11160" y="933408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D179-C039-462D-BEF7-032B69CD4D9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0"/>
          </p:nvPr>
        </p:nvSpPr>
        <p:spPr>
          <a:xfrm>
            <a:off x="1249344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E218-DB15-484C-BC67-9ADE5AA1219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1"/>
          </p:nvPr>
        </p:nvSpPr>
        <p:spPr>
          <a:xfrm>
            <a:off x="1254708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4120-A556-46DB-AA63-987D22AA4EA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2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159C-8750-4778-B5D5-9076CBCFB79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82680" y="253800"/>
            <a:ext cx="1160784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202680" y="2311560"/>
            <a:ext cx="1268748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1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3E20-8E10-43B5-8877-1CBD3F8DA58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14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5260-7D4F-40CF-A424-FE187C4B789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BA1D-0254-4792-87EA-C23380ADA60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9785-D6A7-483B-B268-37F24A31823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1E79-FEFB-4068-A5D9-9C50C1952F3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EE57-A53A-45D6-ACE7-AB853E8E412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5483-8BF8-4512-BD96-04E3DAA7726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7377-3202-4B87-993F-08EC124CE1F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AE65-C4C3-447A-A5BA-ED81E81D615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4962-7B0E-4B88-A358-A7A685A7323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77FC-5DD4-49BC-AE13-FBC77EB0F80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Thermochemistry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986040" y="8089920"/>
            <a:ext cx="3593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Handwriting - Dakota"/>
                <a:ea typeface="Handwriting - Dakota"/>
              </a:rPr>
              <a:t>No Calcul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32A2-1546-4250-85D6-2D3E844CD57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42720" y="1168560"/>
            <a:ext cx="12661560" cy="80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</a:t>
            </a:r>
            <a:r>
              <a:rPr b="0" i="1" lang="en-US" sz="4200" spc="-1" strike="noStrike">
                <a:solidFill>
                  <a:srgbClr val="dd2067"/>
                </a:solidFill>
                <a:latin typeface="Arial"/>
              </a:rPr>
              <a:t>always</a:t>
            </a: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..A chemical bond is a stable arrangement of electrons shared between the bonded atoms. Therefore a bond cannot be broken without the input of energy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AE1F-A578-4314-BD7F-62E05833E92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42720" y="2222640"/>
            <a:ext cx="826740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1CD9-C7CF-4692-8C9E-638CB2B5F9C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12534840" cy="73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When a chemical reaction occurs, bonds must be broken, and other bonds must form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heat of the reaction is the net result of energy in (for bonds breaking) and energy out (for bonds forming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B39F-8397-4BAF-BAB5-24E0C945EAF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one of the above, because this cannot be determined from this graph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F781-4FDD-44D1-B3D5-B8B8CD44B9A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58720" y="2666880"/>
            <a:ext cx="12179520" cy="6756480"/>
          </a:xfrm>
          <a:prstGeom prst="rect">
            <a:avLst/>
          </a:prstGeom>
          <a:noFill/>
          <a:ln w="0">
            <a:noFill/>
          </a:ln>
        </p:spPr>
        <p:txBody>
          <a:bodyPr lIns="0" rIns="588024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961b0"/>
                </a:solidFill>
                <a:latin typeface="Arial"/>
              </a:rPr>
              <a:t>We know this because there is less energy produced by the formation of the products than needed to break the reactant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7264440" y="2476440"/>
            <a:ext cx="556740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8898-508E-4B2B-A0CE-2CD86291130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51920" y="5143320"/>
            <a:ext cx="126874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D016-BF86-4781-BB21-62E69B03D18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02680" y="380520"/>
            <a:ext cx="12687480" cy="29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45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02680" y="3593880"/>
            <a:ext cx="1268748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d2067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2961b0"/>
                </a:solidFill>
                <a:latin typeface="Arial"/>
              </a:rPr>
              <a:t>You know that gas → liquid is exothermic, so adding ∆H - to the ∆H above, will make it a smaller positive value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BB39-064C-4602-95E5-2003AFB7F14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D75D-F3B0-4D54-A3F0-91810F1CD97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8BD3-F812-478E-82BB-8E7A1ACDDD3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1C00-F8B8-4697-A5D1-86B17A45811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9736-D9DE-4A8A-9CFC-8EE6FCCD110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954F-2A9E-4C12-88A9-0FC011236E9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B662-F794-4F51-8F85-6CCD08D6325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1235700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Both of these sketches are called an </a:t>
            </a:r>
            <a:r>
              <a:rPr b="0" i="1" lang="en-US" sz="5100" spc="-1" strike="noStrike">
                <a:solidFill>
                  <a:srgbClr val="182093"/>
                </a:solidFill>
                <a:latin typeface="Arial"/>
              </a:rPr>
              <a:t>Energy Diagrams</a:t>
            </a:r>
            <a:br>
              <a:rPr sz="5100"/>
            </a:b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54160" y="6477120"/>
            <a:ext cx="699768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 fontScale="94000"/>
          </a:bodyPr>
          <a:p>
            <a:pPr marL="53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P Exam sometimes refers to them a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otential Energy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3"/>
          <p:cNvGrpSpPr/>
          <p:nvPr/>
        </p:nvGrpSpPr>
        <p:grpSpPr>
          <a:xfrm>
            <a:off x="4408560" y="1300320"/>
            <a:ext cx="8458200" cy="7556400"/>
            <a:chOff x="4408560" y="1300320"/>
            <a:chExt cx="8458200" cy="7556400"/>
          </a:xfrm>
        </p:grpSpPr>
        <p:sp>
          <p:nvSpPr>
            <p:cNvPr id="554" name="Rectangle 4"/>
            <p:cNvSpPr/>
            <p:nvPr/>
          </p:nvSpPr>
          <p:spPr>
            <a:xfrm>
              <a:off x="6664320" y="8070840"/>
              <a:ext cx="6202440" cy="6940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5"/>
            <p:cNvSpPr/>
            <p:nvPr/>
          </p:nvSpPr>
          <p:spPr>
            <a:xfrm>
              <a:off x="8918640" y="7979040"/>
              <a:ext cx="1692360" cy="87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6"/>
            <p:cNvSpPr/>
            <p:nvPr/>
          </p:nvSpPr>
          <p:spPr>
            <a:xfrm>
              <a:off x="6674040" y="1382760"/>
              <a:ext cx="569592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7554960" y="1300320"/>
              <a:ext cx="391644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+  1/2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10103040" y="5623200"/>
              <a:ext cx="198756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10253880" y="5540400"/>
              <a:ext cx="169848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0"/>
            <p:cNvSpPr/>
            <p:nvPr/>
          </p:nvSpPr>
          <p:spPr>
            <a:xfrm>
              <a:off x="7201080" y="2006640"/>
              <a:ext cx="403200" cy="59486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948640"/>
                <a:gd name="textAreaBottom" fmla="*/ 5949000 h 594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11"/>
            <p:cNvSpPr/>
            <p:nvPr/>
          </p:nvSpPr>
          <p:spPr>
            <a:xfrm>
              <a:off x="10771200" y="2006640"/>
              <a:ext cx="403200" cy="35989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598920"/>
                <a:gd name="textAreaBottom" fmla="*/ 3599280 h 359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2"/>
            <p:cNvSpPr/>
            <p:nvPr/>
          </p:nvSpPr>
          <p:spPr>
            <a:xfrm>
              <a:off x="10771200" y="6247080"/>
              <a:ext cx="403200" cy="17254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1725480"/>
                <a:gd name="textAreaBottom" fmla="*/ 1725840 h 172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3"/>
            <p:cNvSpPr/>
            <p:nvPr/>
          </p:nvSpPr>
          <p:spPr>
            <a:xfrm>
              <a:off x="4408560" y="3584880"/>
              <a:ext cx="300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8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286 kJ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4"/>
            <p:cNvSpPr/>
            <p:nvPr/>
          </p:nvSpPr>
          <p:spPr>
            <a:xfrm>
              <a:off x="8116920" y="6559560"/>
              <a:ext cx="27799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9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44 kJ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5"/>
            <p:cNvSpPr/>
            <p:nvPr/>
          </p:nvSpPr>
          <p:spPr>
            <a:xfrm>
              <a:off x="9312480" y="3108600"/>
              <a:ext cx="1788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4100" spc="-1" strike="noStrike" baseline="-14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?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16" descr=""/>
          <p:cNvPicPr/>
          <p:nvPr/>
        </p:nvPicPr>
        <p:blipFill>
          <a:blip r:embed="rId1"/>
          <a:stretch/>
        </p:blipFill>
        <p:spPr>
          <a:xfrm>
            <a:off x="165240" y="2146320"/>
            <a:ext cx="56973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244A-A0E3-4CE7-8E5A-B7645F9DFB5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BA94-2FE2-400C-A674-8F4AA12095A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BAA1-6DFA-4408-8452-B83165ED992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BA2B-A38D-4B8C-AB52-8CD4D88B6CC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42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43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50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53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6915-516C-48EF-B710-DEF60FC484F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60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61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68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71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9611-76D4-48E7-8372-B77B333F085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78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79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684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547C-D881-4C73-A18F-730746B0B20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d2067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94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95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700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6F85-DC6C-411F-8898-17ADFB15695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10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11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16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FFDB-6EA3-45D6-A839-DA93024B61C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26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27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32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3D03-3244-47B1-AF4B-71C89DA6AEC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42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43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48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1076-C82E-417A-99FA-00607F0DBE8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(D) and the potential energy of the reactants (A) 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vaporiz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FF92-5FE9-4E57-A2F9-25758F30495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Same because 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materia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58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59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64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8157-DDD2-4033-8C7C-BFD36990AFA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If these two blocks were allowed to come to thermal equilibrium together, would the final temp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30120" y="2450880"/>
            <a:ext cx="8344080" cy="4863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9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100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97.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impossible to know without more inform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3"/>
          <p:cNvGrpSpPr/>
          <p:nvPr/>
        </p:nvGrpSpPr>
        <p:grpSpPr>
          <a:xfrm>
            <a:off x="8674200" y="2133720"/>
            <a:ext cx="3682440" cy="3206520"/>
            <a:chOff x="8674200" y="2133720"/>
            <a:chExt cx="3682440" cy="3206520"/>
          </a:xfrm>
        </p:grpSpPr>
        <p:grpSp>
          <p:nvGrpSpPr>
            <p:cNvPr id="774" name="Group 4"/>
            <p:cNvGrpSpPr/>
            <p:nvPr/>
          </p:nvGrpSpPr>
          <p:grpSpPr>
            <a:xfrm>
              <a:off x="8674200" y="2133720"/>
              <a:ext cx="1841040" cy="3035160"/>
              <a:chOff x="8674200" y="2133720"/>
              <a:chExt cx="1841040" cy="3035160"/>
            </a:xfrm>
          </p:grpSpPr>
          <p:sp>
            <p:nvSpPr>
              <p:cNvPr id="775" name="AutoShape 5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6"/>
              <p:cNvSpPr/>
              <p:nvPr/>
            </p:nvSpPr>
            <p:spPr>
              <a:xfrm>
                <a:off x="8674200" y="2133720"/>
                <a:ext cx="1841040" cy="46044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AutoShape 7"/>
              <p:cNvSpPr/>
              <p:nvPr/>
            </p:nvSpPr>
            <p:spPr>
              <a:xfrm>
                <a:off x="10050120" y="2133720"/>
                <a:ext cx="460080" cy="3035160"/>
              </a:xfrm>
              <a:custGeom>
                <a:avLst/>
                <a:gdLst>
                  <a:gd name="textAreaLeft" fmla="*/ 0 w 460080"/>
                  <a:gd name="textAreaRight" fmla="*/ 460440 w 46008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AutoShape 8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9"/>
            <p:cNvGrpSpPr/>
            <p:nvPr/>
          </p:nvGrpSpPr>
          <p:grpSpPr>
            <a:xfrm>
              <a:off x="10731240" y="3225960"/>
              <a:ext cx="1625400" cy="1955880"/>
              <a:chOff x="10731240" y="3225960"/>
              <a:chExt cx="1625400" cy="1955880"/>
            </a:xfrm>
          </p:grpSpPr>
          <p:sp>
            <p:nvSpPr>
              <p:cNvPr id="780" name="AutoShape 10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AutoShape 11"/>
              <p:cNvSpPr/>
              <p:nvPr/>
            </p:nvSpPr>
            <p:spPr>
              <a:xfrm>
                <a:off x="10731240" y="3225960"/>
                <a:ext cx="1625400" cy="40644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AutoShape 12"/>
              <p:cNvSpPr/>
              <p:nvPr/>
            </p:nvSpPr>
            <p:spPr>
              <a:xfrm>
                <a:off x="11946960" y="3225960"/>
                <a:ext cx="406080" cy="1955880"/>
              </a:xfrm>
              <a:custGeom>
                <a:avLst/>
                <a:gdLst>
                  <a:gd name="textAreaLeft" fmla="*/ 0 w 406080"/>
                  <a:gd name="textAreaRight" fmla="*/ 406440 w 40608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AutoShape 13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Rectangle 14"/>
            <p:cNvSpPr/>
            <p:nvPr/>
          </p:nvSpPr>
          <p:spPr>
            <a:xfrm>
              <a:off x="8774280" y="34196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5"/>
            <p:cNvSpPr/>
            <p:nvPr/>
          </p:nvSpPr>
          <p:spPr>
            <a:xfrm>
              <a:off x="10758960" y="34196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6286-8B55-478A-ADCD-2DAF51CEF35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9FAC-B5E6-4908-896A-3E6901386A7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0FD7-DC2C-455B-B007-2212361164E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BBAF-1BB9-4CEB-AD02-C40E733E6F3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BD66-A45A-4BA4-A670-761B017E07F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36E1-D602-4259-A6A8-384C8E36E7A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dd2067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2961b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61b0"/>
                </a:solidFill>
                <a:latin typeface="Arial"/>
              </a:rPr>
              <a:t>Materials with low specifi heat are easier to change their temperatur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4B7C-A4B8-42A5-956E-A73CCBF9CEF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and the potential energy of the reactants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54160" y="3428640"/>
            <a:ext cx="57276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5DAD-E681-425B-92BB-91D2FB91213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F8F3-4FDD-45EB-952C-40550E468A5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F304-2776-451F-AB89-B5D162B8502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31BE-A656-4F2C-8047-442687D3E7B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5B5C-7F3D-414F-A60F-F6AEDF3ED8D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8267400" cy="3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sexton</cp:lastModifiedBy>
  <dcterms:modified xsi:type="dcterms:W3CDTF">2014-01-03T15:21:19Z</dcterms:modified>
  <cp:revision>2</cp:revision>
  <dc:subject/>
  <dc:title>Thermochemistry</dc:title>
</cp:coreProperties>
</file>