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EB93-38A9-41DF-B991-19A72EAE4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BF12-CCC6-466D-84D7-8F047A87DF1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A8A4-797F-4BDF-9DDC-1BA71C225E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DC5C-A398-4D7E-BE5E-BF94F3E0CA4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A1AD-64A1-49A4-9419-CE3FAD69177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EA8F-8D9A-4E2B-AC08-5AFC4A32D58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FF85-7F59-4D22-83E0-262174CFEC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CC26-4965-4EE5-BE49-079E92E091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7B26-6F16-4EF5-83EA-1B78AFA06A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1A57-06AC-4631-9A78-30905B9D2A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60E0-F8C2-4A3F-8A5E-7D32E443FC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E5BEA0-B0AA-4174-ADA5-DE1BCFF49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EF04-01C4-4BFB-8B65-7F5CE662EC9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5E6F6-95AA-413E-AEB8-D51CB08EAB2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B4672-5C2D-4090-9AFA-D825FC462AF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3F1189-5957-4672-9940-93316141EE8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CDF01-BBA7-406C-8E57-F6B535459CB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E55877-C315-4473-A891-CD0104A6012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F8CB3-18A4-4D3B-9A96-0CAB0F1F6A0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52943-C998-4E59-95C8-2A67C476A66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9EBEE-A2BD-43EF-A281-DEFFE1CC3D6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0CAB7-F517-457C-AFB6-7F0EC6F2B6B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04EB6-822A-4A76-9558-7784D5106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C942-05AA-4979-963F-3BA1240D3B8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572D9-A50D-4FFC-A216-B544DBE411A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020E5-61D3-4BFD-A1BB-95010D24C5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5B344-0050-4890-A7EF-202F925867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7E2B6-A3E0-4401-9E5D-FC671483FC8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4C2EDC-7813-474B-9F69-638E84C53A9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F7B92-B23A-4147-87FC-C3EC124ACC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5F172-1D37-425C-8FD6-63FD9DA0F57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7A43C-ACC8-4A2F-A943-1E3BD4E507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2DEBE-F9BE-46C0-919C-E3CA1C8157F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F39E7-6D0B-45AC-922B-983CE4778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E97E-8FA7-4088-A3D5-E6887907282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E4026B-10BE-43A3-9C95-70F55992B72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C8295-2FF1-4CBD-83E1-17D303780D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497AD-B331-42A9-8376-DF766F170C7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EF19-BC0A-4701-BC55-665B66BBD99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4C5BE-2EDC-46E2-AC11-12314DB6BB4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5F66D-DFCA-46C3-A6FD-C6E727430F0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C41D4-0404-4EF1-81FC-D887EDF3CFD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68D4C-6020-41D2-A9BA-383FE71E5E1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9FFE-2F7C-421D-8891-0FFB1CB1F3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A5FB-CED3-4567-877E-B02F2E36EB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573D-C499-4237-9834-73708AB3C52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58149-D60D-4E2B-908D-62E366A6A31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A03C-4D0C-4990-811F-29CC482FC55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4456-6340-4333-80EF-36312A183D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4843-3736-4EB5-84EE-B7CFE377B4B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2F8B9-31F2-4E6B-9C32-59B44FC8B61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1D193-D712-4C64-9B51-3B5693BD3A1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42EF3-E42C-4DA2-936A-57DCC6E4F62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71F5F5-7A0E-4A95-B07A-A7575A258D5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3023D4-9858-489F-9DE3-7F4FD77E3CE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1E9821-A141-46DC-8540-BCCDFE1092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44A4-A114-4C3B-84EA-BD7EDA0CE75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B12BCC-0349-4975-95F6-A82AAC617A3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7BCC35-7E1F-42FC-B5A0-E467D5A0B09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15851A-1BAF-4B79-8EB9-02DEEEBC2D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3C4F31-AFD0-495B-BA21-ACD34E65646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7DF5A3-6242-485D-855C-45BFB77BA23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C3461A-AE98-4285-965F-F738414BA3A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CD6CBB-D551-48F6-B5A9-068FEABA141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2BE69-5527-4C04-A0AE-5DACEB03D75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740D8-4747-4209-8300-EFA3D7B8F8B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324A7-B777-4785-8EE2-7BD4AE2F1B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D5E6-E74E-4D13-8948-ECB274A7986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25A92-4D3E-4768-83F8-64919554D4E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3260F-F858-4F56-9A6F-53A79342034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B8545-68B2-465F-9663-BBC86707192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6D16F-EE7A-407F-827A-084A654FE68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7D37D-5FBE-421D-A98D-DE1EA7BA242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A04BB-8E1E-4461-B487-550EAB5897A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A0EA9-3A8D-4FCE-AEA1-174EBE12824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1FE63-C40B-46AD-ADC0-FFD13546FC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116B2-A5B0-4937-9AED-3D8A807AA1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B7D4-F336-4743-887F-D32BBD2083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064E-927F-4158-BE57-D1D98C7AD0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FCC6-6FF9-4943-AC53-E3A3135216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FEE9-8C6F-4780-924C-A9A7A81B7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8AC1-39E6-4016-9BC5-6B0BF6A45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3D52-B58E-43E1-83BF-F5F1198326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8F4E-B73E-4455-BF45-359F6FD49D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81A9E-1F82-4DC5-9087-317C0AFE2E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84C3-3B24-49E0-BAD0-300BF221A0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ADE-B2AC-4B00-89E6-7D4598110F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AF8-7C88-4D09-99B7-4439E403CF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02F-ED96-4832-BB38-A87EFDA2FA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175-AABB-4C95-9C7A-7081FE3765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F62-F0ED-4B72-A6EF-BDFBABCC4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9E25-33C5-4C44-B438-D468A28460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9E0-FE29-4C61-A9D8-72F238F616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979-A413-4CF6-8609-E102B9CCCC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E31-B3C7-496C-9792-D292EEC573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193-7335-4DC8-BE73-D3716DCBCB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620-F3C5-4BA3-BF99-249FAA3A01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493-738F-4834-B31C-89BD9FE18D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36F-E581-4AFD-ACE2-F67CD5446C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10165-6B5C-47E8-8989-7DD85C3B1B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86551-C361-40E6-9E1A-D83C4705E2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F87F1-3DDF-40F1-80B2-68D078E30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8DFC-D77E-4B05-BE3E-FB29F5BDE9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AAE20-8AC8-4191-856A-8E9AE8FC4E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47AE7-BBD0-490B-B517-B52D08C6D4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EA7E1-32B2-4FC4-B4B0-D4C9E37B5C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FFED0-2637-4BC2-AE2F-D584944E1C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65947-4896-4EBA-9747-7C2E5507F1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789CA-06FE-45FF-87BE-D04676199E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2E893-D815-4E80-99CB-B205A0DCF4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7A24A-9C13-474F-BC3B-A2EFCD55B5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43C12-E643-463B-AE5E-6855A390A7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7624D-B7D1-4BB4-8B1D-F9B506DB3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A779-DD88-4E82-B9D1-30595A63DB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BF475-0522-4FBB-964C-1ED77891FE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84CAD-861D-4CA3-BD0D-38583D26C52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F7438-D40B-43A3-84EF-5FC196E5E2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F4047-32EF-4D3F-9181-400273D650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ABDE1-49B9-4674-B9FB-DAACFC1597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D6500-9E87-4664-981B-7C8B4F06F6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991CD-EE77-4A33-AE1C-54729C6E8F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0DA51-FA60-4AA6-8657-A7B31ADE41E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30770-D8EE-48BC-9BBA-D9A1F5DE12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AC5E5-B165-4DBF-BC94-32811876B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5208-1ED9-4BD4-B8E9-02353B6A7A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597B0-4F7F-4EBE-BDD2-E228D78F21C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A78C-2BFF-44C3-BB69-9E70560B3F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F2BC-3885-4912-B28F-427F8D45AB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305-5AD6-49D7-BC1B-8ECBFAC703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F2F4-C002-4BFB-9C51-B206AA2A91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050D-278E-4799-A557-82BF66146D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94FE-35B5-4ED6-BA0A-AF514AEC36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7214-D305-461E-B2AA-F48B2C3192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341B-8D9E-4A81-A872-67150EFF3F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58D3-8B96-4543-A760-AEF5B33EB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F7CE-62B5-4327-A16D-688E701409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6B5D-FD6C-4C35-A12A-411174D2AA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C1E0-AF6C-4DDB-93F0-9002C45D41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9CF6-676F-4772-B3FE-FECB4A9E4CC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DF943-49A8-4EC5-A003-D863CD7250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144E76-FD3C-46F0-914C-1787275C70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C558C-5284-4063-9725-BB57A5F65CD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B1577-5EE2-4914-BD52-6A93FD9C3C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90D82-B262-42FF-8743-E25937DD0D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FF1E4-D241-4B3A-8DE2-D49A574ADF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CA147-5064-45EF-BC95-BBE8C5F45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7417-C66B-4271-9FDF-1A3CABBB0B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829C4-E590-4090-AF6E-41F4EEE41A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9AB13-D84F-42A9-B29A-6CE061EA6B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BF3E3-5E4C-4C5B-A6FC-251E4ACDFB9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67095-4726-4333-892D-614403EE622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2920E-7043-4788-B3F8-0D86464BA4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1C7EA-706E-4FCB-BA21-B06FF1C6BDB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C8C0B-79DB-4889-BB05-5BD1BBF1374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0E2B8-8036-4FC4-90A2-FB103CBFBCC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AB1A0-A686-4DAF-88E5-247BE8FE423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E57A1-BA82-4D18-8F4E-F7FDC2038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D42D-B7F1-4719-B863-AEE10F845D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B6E4C-58BD-49BC-BDF8-D6459FFF2D3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44F73-5DC0-49EA-B4FB-E2391018DD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F5169-B525-4E31-B934-370830FE9A4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5401D-3685-4DF1-8C39-FB1EBF5AE5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52FB4-9239-48B1-BEC3-C574EE6BBC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1125D-C925-4A04-B14B-06B83FEA31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AB291-BBDB-452D-91C9-E474E77862C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1638-8927-4EA3-B959-046880823C5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2E95-DEFC-4606-A211-32A5D138BB3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D596-2AF4-47A2-8B4C-0C3A1CAFF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2746-E83F-4F4C-A093-A699610AAC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6C78-DE0F-42FA-8359-E36DD29538A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AF43-D739-4436-946C-2E997D59F55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4132-B8C7-4B75-91ED-8886C37ED6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AD90-D9F9-4D2F-966B-E0AFC3E46F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2953-FE10-448C-B904-71AE36F050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A28-7DFE-4A34-B903-5B2D30D3A1B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809-669E-4FC7-BE59-BEB26E225C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A5E2-8BEA-488A-A996-1BAA8FA1E1E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89A8-F450-4440-B9DC-A1A754925CF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299B-3874-4103-8806-5C4D7BF0418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DAD3-09B8-4807-AD4C-3E6884979C7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8C3F-B2A1-4E51-AB23-48F64A394C4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C356-9F9C-4C63-9C94-7A5C0067FA3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9298-9946-44C0-AB09-ACC0C35DB2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1BAC-4D75-45B3-907F-DD8348DE87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FF41-AA56-49B2-A2A9-C2DF426CA8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97D0-8B1A-48A6-8271-7FCAB549CB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2768-D1C1-451A-B813-FF09D9783D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2FAE-9859-4D7E-B266-C5086A7469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2529-DB2E-4D2B-96B0-53483DFF95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9C98-B13B-4E22-9EEE-1E2683C7FE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CBD9-6043-4B80-8FD3-58848EDE03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1842-FD50-4EB9-A9EF-F5B3B4AC861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C621-CED8-46FD-83EE-72B2D8993B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1576-F66D-427D-B970-54D30F8D1F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F01F-EC9B-49D2-882D-0E8F856C64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74CD-D74A-49A6-BA48-0FB194A1C3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BF1-B8DB-4FF8-BB1F-B3FCA337527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D8CC-BE4C-4513-BDEF-E4D0CAE998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D753-9F6C-43AB-A7C9-3D3AE19577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4E8D-0C2B-4445-8AD9-8E47D272CA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B5C6-2710-41F6-B96F-15307BE1351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F3D7-ADD6-410B-9618-879AD4DD3F8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99B9-38E7-41AC-B85C-B068E9CC004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95F-F8F8-407F-B7C5-15CF3D58DA3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1490-C5BE-4077-A882-F051BABE3D6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A612-71FB-48D6-B9F4-59BF54AF7B0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9D8C-7D16-4F25-8C14-EA0E866D655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F4F3-126B-4EED-B637-027FEA4EE6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B148-57B4-40EE-AE9A-A6E185FCEEC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0876-9E8D-4FDF-946B-BF7136DD101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E8C-0EC2-498E-A2B3-9AFE8F3E39E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23B1-7CA1-4A28-9F2F-1632E972079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15F7-549D-4592-9AD3-90C620AB1F9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36AD-96FA-4A21-8841-BC5254BC83B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F7C8-B64A-41EC-99A7-B1E353829CC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D641-5AEA-4FD8-838C-3FC3F6D7428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8BC1-81D0-4626-B094-E60CCE284F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0680-EB4E-4517-BFB5-1CD840079D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22E-8F08-4BE4-924F-DDA63C713B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0BE6-6FD3-46ED-A2B4-F130FEDEA5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69D-1697-4CCF-B18B-384CBB7249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0CCE-3D35-447E-A5F6-6E30540BC0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8:30Z</dcterms:modified>
  <cp:revision>2</cp:revision>
  <dc:subject/>
  <dc:title>Thermochemistry</dc:title>
</cp:coreProperties>
</file>