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32DE-EDF5-4E3E-AEB7-832547176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41C0-8E04-4AB4-8139-EF463B3EBC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DF069-5AFD-4E75-B073-1CC5793CA7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90C6-A9EF-4603-9879-216147A5E6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F0B37-2619-4C29-9C6D-853A059CB42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58C6-925F-4E29-8C31-DE59E88F3A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421E-4F16-4428-B32B-434682E397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95E7-21BD-4D4B-9201-D1576166F61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14223-3255-4365-B5BD-02D67F69D1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47875-5B02-4205-B56F-E0AE16E335A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EBF3-8C10-454E-8152-31BBB4EEB6A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A6D11-8499-40B6-8A0B-48EB084D8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C16C-AC71-4611-99DD-1FB1FB4183D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921E6-7787-4D7F-A5AB-EB529529AA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422B0-575A-4297-8AD5-D904FAA368F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4E629A-B110-4BA4-B53C-CAE245A0F2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9EE86-62B8-44E9-A3FE-602E9A9ACA7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26C7D-DF43-4816-8BE4-1AC30F8ED1A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35BF4-163D-4333-85AF-13379DCB29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80FC7-17A6-45FF-A6DC-A31B9264BE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6E677-73EA-4D7C-9D90-4BEAB7D81C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FF599-CB15-4C50-95E5-A65B4021FF5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95F6E-8B16-4DE1-9ECD-E2798DD1B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BAAA-F815-4562-8777-DF5684CDCE4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8F959-4F8B-4873-AA15-5B89151A7AF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29829-6AD2-4ED6-9B01-ACF6B088BB9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15427-D222-4DF5-84DA-421485A0861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1FF74-6155-4E3C-92D9-D7A4F2D01D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36DD6-040D-4EC3-B724-3AAFD712D4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63905-972A-4718-B6D9-AD46D6C2C86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F2CCE-F98B-4608-A77A-35699D36A6C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3909A-04B1-4254-8686-B91529A8CD7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28AD5-A91E-45DB-BD8B-3DB1F79FF8A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C4AD9-A958-4879-8F1E-301F8C2BA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FCE5-C29C-4F95-ABE1-7919EFE60E1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4A184-F1AE-48D5-B8AE-C46757C2F8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47F3B-B373-43CB-86F2-FB75FF2758B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AEAFF-1376-4768-9500-627935588AD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AB3A3-9312-4F97-BDF9-F102B42246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D370-6958-4572-80D1-31CDFC13232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2818-27C7-4FDA-A0DB-BBEEF0DA9C5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F0957-4E21-423A-B66C-88B0E927DF6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B001C-FDC0-4F44-B3F0-CE5FF1A665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210D-2284-4274-9F03-9FCA9BFF4D2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D3912-C532-4F8A-A18C-6EC9DCE7EB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FD31-EB36-4EB6-A574-738191A7484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27F38-E286-4831-971D-989F0E7260C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8CA9-EAAC-4A38-AC5F-5D31EDAC2E1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E376-0420-40BD-A0EB-89686B376CB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89BC-8E1E-4D73-B9F9-5B71F93B788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AD0E8-C193-4902-A6A7-5DF4BC4A308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D7F085-701A-468F-B339-2B2513DA4C9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AA2EA2-60E4-45B2-8C2C-D374FA5FBD7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597D3-8F80-4DA4-A84A-2941D235FAD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3C063D-5272-4B7B-BBB2-F0159418279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FE1645-5835-44C0-B422-6501B64453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3ADB-CC1E-476C-B342-E898CF7B2F4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D929F0-1887-40F5-A251-C4F46DD5D3C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B480D5-E016-448D-A172-6EA0098CE73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97AF6-0E49-4939-9A0C-110A10DB0E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2B64F0-ACD8-4DCA-A416-B0017CEDC3D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7B45D-0949-4BBF-8C68-A512B87C166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5C8F1-F218-4658-BA56-5508E398534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0B70A5-EF28-4AC5-82B3-2BAAE243CA9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20D5A-1FB4-4A77-BD24-2B0C0D9DD19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C4C16-F8C6-43FC-BFEA-19593243A2F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A96A9-01D9-4908-9278-2C813614CE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8420-011E-4CD5-8A85-3A40794B0BF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1424E-3E7A-444B-B5DA-4474E231265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6575F-3902-4945-A22B-C0D4D70A22C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31328-B553-4DA6-8290-57D3BD012A3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C421D-A1AE-481B-A815-8B9972B6275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30B3D-26D6-4D40-A7AC-1B77F546152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B0EBE-C214-4885-A469-6834E3D8009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DAFF7-1196-4648-8525-FBB4C976E95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44180-C9DA-4F77-BC82-CEA8C80276D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1C195-937B-4854-983B-E91173E654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E3A5-98E5-411A-AB49-03A447EF27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359A-04F4-401C-8522-5AF3AA7302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621D-43FF-413C-A06D-C7149D1071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F5ED-1C56-4FC5-82C9-B296328D3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63E3-9AA7-4CD0-8797-26A67FEFD9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8184-6668-4D5C-8032-078726ED60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36AF-5581-44AC-831F-6D392B7B24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6403-D434-4E49-8001-FB91A472AF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E0CD-5C7A-44F4-98C8-F129306A5F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839-B70C-4FA5-85B6-1821406584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569-D3F4-4FD1-A5C2-8036A2CE0A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789-A466-4F47-9206-3677E3293A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968-5336-4C7C-B2AA-70FD3F574C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3B5-2943-469A-8A9B-3BFEAB1B5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6464-2E70-4E68-AE0C-9C27A23F5C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EA2-2A34-45ED-9338-9536FDE3D5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B1A-776A-4EC9-A2A3-23470EB688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86A-B054-4E6C-A570-6E5D6336B8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75D-406E-419F-AAD7-BBBBE56FB3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5A7-8A69-4E61-8F63-1B5A5F939B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B97-02AA-4501-B0B7-A5E7140699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920-8B92-4F3C-8685-4A432FDDD1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92F96-EC30-4C1B-A4CB-920F4CA6E9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FCB88-C468-4E32-AC6A-11A8EC0CE2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C6F32-2784-4DA0-A882-A1B9E815C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44F1-BDCF-4C4B-B424-66FE1BD0D6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A3FC1-016F-4E1F-8B0E-9B6A234346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38607-7950-41C2-9F7D-3B6FD5B376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146CA-B130-468B-88AD-6723D5E231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C6529-A30A-4F3B-9716-8673520A5D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DC1C7-9121-401D-88BA-7517145FFD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0B94D-BB45-4B82-AE61-431B9DC1FD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4EF22-1B08-452C-A4A0-6F2E2C8DC8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23C85-298C-4832-B917-81D2BDD8A4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1F3ED-5A3D-4D4B-9778-044D3B7B46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57707-4C4C-4664-9077-C8B4A1841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13B9-4B60-4C09-8889-1F44D97B0A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D411E-02F6-4534-BDED-685148FA0D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9B994-BDE6-4EC3-992E-66862829E0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9F095-CBE4-4838-9717-8B915EF16FE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9DCE8-6A50-4E05-9C0F-BF7D8D7B17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B1496-4479-4293-A249-C5EA59876B4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75F4B-61C2-4FDC-8194-FB83950F45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A53C5-DF12-4E01-A527-94BB83FD12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B5DA6-0F9D-4255-AE00-2E5052A694A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B6A79-611A-496A-9E77-6506B6B55D0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A57C3-1146-4327-8AEF-7A9A4AD37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FC21-7798-4C82-89E1-47D27F1545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2F4BB-3970-4F42-8C7E-C2AC836BA0B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13CA-150E-48F4-849A-01030992E96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1764-629D-4C66-9687-2AC72089F5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3D9A-CD6E-4214-8A05-A6F467C0DD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B86F-12E5-414A-9F1E-396C7C7364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0DFB-48B4-411B-92BE-B71AB575E6C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685D-7114-4412-93E4-36D13ECFAD3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570F-4E19-4DAA-8DFA-15465BCCF2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BC43-03F8-42F5-86AD-2DB7BFF4EC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1A1-0C8E-46A6-96AD-2AC45B85B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9AF4-0FB8-4AC1-B069-797AC815224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1CCE-5754-4478-BBFC-1F72D55B24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8DFD-4FF6-485B-9187-449C64461D9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66A9-7C82-42E6-965C-3FB9C5EDF6C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4BEB6-8B15-4147-A40B-E373F9D394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9F4C93-B5EE-4FA9-AB1B-2F5D4DB6B4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AAE6C2-E510-471D-8444-C46B5197419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F31CE-F724-4F2C-99C4-47B0433E2CC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A431F-5CCE-4C85-B7CC-5C32C78B5E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A5F84-3135-4FA3-AA54-A2752963F7C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5D15A-A492-4FFA-B73D-AE98E7528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7971-96A5-4917-BEC6-141A4D83EC8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DAA60-3F9A-4CDE-8E5B-3688083D2E7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0CFB1-F681-4E16-97DF-AE01247488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39674-3F4B-4DAE-A812-FBDA13E665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1DB43-A46C-425D-9770-FFB8B5EEC8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2A5EB-B654-4EFF-B50B-F6EFC92A9C4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6C23C-2BE2-4127-A622-9B35E1D5347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4ADAF-5820-440F-9DD4-74A200BD872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D5B81-9D9C-4E6B-BF4A-62F4FDC845E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26E67-D0FD-4DC1-A3F3-2B002D71325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E9C10-2620-4F0F-AC91-B076ADF15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2FB7-188F-4AEC-B3AD-AA3EC0BCF5D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F401E-2F9A-442C-9002-86B2293245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3A926-9916-4C43-9D4F-DEEE66A5C1E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D4B5E-539F-4FF6-B5D1-24653BEADBE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E5BA9-B198-4283-8A30-D432150603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FF404-053C-430A-8142-600C648F076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4F6DF-D584-474B-AC4B-6695FB467F4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71FAB-7196-48E7-B118-3AF6C894CA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AFA3-F05D-4E55-BA21-8089F646847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193D-1438-4077-8E82-279204BC6CE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8937-5FBE-494F-A2C2-3CEFBA417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CC47-C930-4980-BF19-F17E469AC2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6E7F-B1A6-4D90-A8FC-BC397A574F9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1488-03E3-41A3-A574-75E8E48ECC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6347-9361-4ADD-A413-1028572B3B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A505-8F80-4111-A742-22D79FF9E0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3C1-C3E7-4E02-9DB2-1998CDC7BD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FABD-CEFC-4943-915E-473E9B4D279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EEEF-C527-4F52-9ED0-EEBE7C8E13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8C4B-EB6E-4CB9-8CD7-F71DBAC1A47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86BE-3635-42BA-9581-E07FA03202F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AB0C-A5EA-4355-AB40-E0BFCCE5513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7EFE-6527-4B99-AFF7-F1A5175186E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0233-B1EE-4B0E-8268-435EA85DA02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7BB4-2D5D-4CAF-8854-049AC7C765F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922F-7CB6-4AFD-903A-F2CC5A6589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CAD7-AEAC-4392-853D-F6E6E50B3B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FA3D-B251-4BC8-817A-C09F727F55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2BB-E2E8-4405-B9FA-906EAF077E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9002-F198-49E7-9289-117DE4763F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84E9-F4BB-4E97-9211-70565F52198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E5D3-FA82-4081-8553-BCE8E295DF7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E0B-5DDD-40D1-9104-63822C9952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343B-2227-468A-B12B-3B0A1DB620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0F64-840D-45FA-8ACA-9AC26BF5AF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EA3-BDCA-448D-AEC3-ED2DF0DE0F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7000-890C-47F1-A897-9A81EF433B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7D3F-DCAA-48F1-A902-95FB4EEC2E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87D4-30C6-4FCD-8D04-1A70AB510E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4DAD-E3FF-46BA-8E19-76A70400DEA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9CA4-24A5-4E73-BC5B-8E5EC0560A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F639-162F-4D66-B5D4-45399EBDBC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B47D-CBFE-49F2-A21B-52D4CC9110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C96E-739A-4CB2-B9D2-37320A717EA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D28B-2D7E-4965-AEF3-920FB60B97F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D612-BD05-4D88-B002-24CD67F3934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BFBC-2AFA-4C3A-9219-7DA24BE6D30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3249-0BF3-4517-BF4D-F2EE183CF95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43E-64F1-4BEE-B0AD-4EBB6E475D5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F17F-DB8C-4A4E-934A-C109CF1693B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7D60-FE11-4B5B-9E2A-8E359DD644A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8277-63E7-4012-BE89-60B92CF6688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3911-C44E-42A5-B899-3B751B46D75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285-0477-4D58-978D-45340C5C686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0567-3456-41D8-A450-E09CDF7C407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BA61-C1B9-4A88-B232-FA646A5E34C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B6CD-F05C-465A-BC0D-E332B743783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6407-EE56-4A31-8F09-6057EB9B020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584E-1F1B-4733-93DF-7E79D972F00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4663-5ABD-4692-84A3-BFAD9F61FD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6D7E-4BCD-4B2D-A519-B58EAB907E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9073-4213-4725-8A48-6A66C0135B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D182-40F4-4254-8AF4-F2FBFEA623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69FC-7FEB-4F36-8785-98D3F7346D2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938-0C9C-413B-B58F-497A184EA2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8:30Z</dcterms:modified>
  <cp:revision>2</cp:revision>
  <dc:subject/>
  <dc:title>Thermochemistry</dc:title>
</cp:coreProperties>
</file>