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C74D-549D-4789-A6E1-FD3A80158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EF25-F112-42AD-8C6E-277DD787758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0F9C-DB80-4770-BBB7-7A178E87C7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CB22-2416-4A78-BA8E-03BD21CDBD6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D645D-2266-491B-9792-7E7D4B80CD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510D-7FAE-4D4D-A927-AC80C9321C2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C5CB-4B43-4F65-8E25-F236B1388D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CF6B-F678-4867-9E11-0C2A8A00BCA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0A64-54C1-44A3-8D1A-612BA5DB667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8D9F1-1FC2-4502-B71F-53BE72260B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73A71-74FF-4FE8-90AC-4D6A4286D80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A6EB6-54E9-462F-8F55-2BD3C7B98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70F2-ED35-45F0-B839-4641DB69DC7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496633-E1B1-44DF-9780-688BE504061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9F288-8489-42E0-9401-6755DAAB51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526C3-47C1-499A-84B2-54164504E05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068EA-DC0B-4F17-BBE3-8CF72466E49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B9C48-6B66-4385-B4F7-0E1AF2D65BC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0FAA7-5E5F-43B3-B97F-7878347BCF2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5E68EA-8D94-4C8E-ACB1-F945EDD90DB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96584-4AA3-41B3-AB56-9C0DA350938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9A928-A959-466D-AC7F-23E99CEDC17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6507DA-4715-4473-BA99-81E3B857F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C594-5A6A-45D2-BA3A-C10D029608E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51887-08C5-4668-BF45-0D042E1F593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76061-D1DA-47A8-9AB4-0C51C17934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CE68E-2D04-4B4B-8772-F935FC3C3DF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6B32B-1E21-411C-9DCE-4BB80FE6A3C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4C3C2-A00C-425F-AA0F-A3630CEA04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FF635-2FA0-477D-9651-11737F3A9D7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AF68A-3077-4B84-9BF0-8CCA2AE830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06B10-AA50-499A-B518-06C1E7703E8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EFA1E-3E6D-4DCC-9719-D3005C1734C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EB714-3F7D-411E-A79A-26A019D57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06E5-ECE4-4C0C-BC42-29596CF2C9D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38AB7-29EE-422D-80B7-7B5BF186132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8FA0E-B175-439A-AD60-55D172AE123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9A03D-20EE-440E-B417-37BBEC02CDF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1CA7-4BB1-4EC5-A15E-62934D67689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25200-2264-4E4D-9031-FFC643C7F8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083DF-2F3E-465C-9381-2E5F8E35164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93BB-DE1D-494C-9015-F60D5C542FE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B7E2A-C839-4DA3-8C0D-5025B844A38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5871-F5AA-4DFA-A9CD-D1421B6B581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2473B-84A9-4FE3-AE50-26F0ADC176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D1FA-E184-4986-954A-57E10C75E49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731C-CB03-4D42-B948-60A7F0E82AE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C9000-795C-41BD-A065-9A0603A6007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5E3A-B868-40B3-9399-0071AE5859B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C5D75-FB97-4758-B88D-E6ADAC695A4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B7A5B-DBA5-4B0C-AC1C-A0EE0AAD2FA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16B56-3AC0-48E7-BF1F-95E765C206D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EAF3C-9903-41EB-9C12-7099D2852D7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3CBE9A-6293-48B9-9546-7D60EB20D6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5EC0AB-21CE-47FB-A72A-AC83809972C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EC72A0-7876-4710-8D55-A1C30B8C6A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A67D-84C3-4742-A59F-551FEF3F5D8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B5A074-3FD5-42EE-95CA-27A2B03B98A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A3D43-2A50-4690-B59A-41A3A618D39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6A1E39-6AC5-4E4F-9445-BD746F7B760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EB3241-85C4-4BB2-A077-06F4C6D7A0C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1D63A9-6A70-4F97-80C6-AF56F855DCA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F27FF9-1567-4676-BB74-A28EFC92519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C3245D-AF2E-4F17-A47A-60513C74B4C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C819E-C5BC-4B6C-B0B7-9B3D2ED5560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8840C-B259-4044-A05D-FA12CE396F9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E2C63-E336-42CE-929B-7E5F599252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C37F-4663-4369-97F2-AA3B7ABF5FB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4AB1E-2506-4496-969F-379EABACA9B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DD7D8-3F97-4B76-9735-1ED231F0547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F9117-BB09-4CAF-9B8B-EC163E53A9E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50E1E-13AB-47AB-968C-BA76047F69D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74730-2E0C-4C70-8FB2-A8A96B613F1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8E4E0-37C3-4698-AC9F-2B160D3CF38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03531-8CB2-4BB1-BB61-8336ABBBF74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B33EF-AA9C-40A9-97A3-BAC9525C8F6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6D749-2230-4B99-B20B-3AD2586F7F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7E93-C12E-4281-8359-6D99A8242F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5DC5-EAF3-4C4A-B62C-18336A0EE3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5A21-B039-4BD1-9CEF-585372E53C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1213-1570-4911-ABF8-2388541BA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348C-C8B0-45EC-A87F-207D69FA19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D98A-A783-423B-BEDC-7DAC8BD954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34F3-EC64-4AE3-9607-CEE2A1DD69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324D-BF27-4408-8F4E-186E0148FB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8CE88-36D7-4B13-BF3B-91E259B776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923-04C6-43E5-9B97-227E170EBA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45E-FAB2-434C-A0ED-3D62A82C3B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FC8-7EE6-49E0-87C2-EABFF59679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218-111D-4CAD-B647-EB9FEB83C9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B50-45DC-4561-A6EC-EDA87E211A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540B-E2E5-43C0-ADFE-50EE6DE30C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3D2-8EF1-4E34-9F3D-AAAA57481C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291-F154-415F-8814-5107746596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6BF-AF64-4CE9-8A8A-06ED78AC89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B22-CE1B-4EAE-9CA7-A8B9A65C29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355-8B90-4B24-A09F-CEEC66B1CB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671-C65E-4C19-853B-5A815AFBF6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F0A-9E92-41BE-8FD9-21FA12FB50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0AD25-60F0-4040-BC12-4656E495CE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BD29A-C1F5-4583-82B9-E0E4D0B557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D42E9-0B83-4F2E-ABF3-C3002EC15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8904-47D1-4978-9C5B-C0E7B98FF9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9EDC2-D770-43DC-963E-2D9A7CF662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3BA65-BB62-4747-94B2-7404FCEBAE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F55EB-9227-461F-88D5-86E0B09253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C8752-1413-4F95-AA9E-491CEF26F7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CAA95-2A5B-465A-B54C-E2464ACC9F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F903A-26BF-42B6-8A65-0CABF721AC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477B1-2F14-43FF-831A-AC73D863F0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C0B49-A786-4DFE-B69E-A9C70953B5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65C08-125D-4AF6-8825-E0F1FB699B2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76717-E508-4F06-8EC5-9ADA9AFF4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3720-1D8A-4885-9979-94585C99CD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00118-B20E-4E80-841B-2C22E88425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689A8-6494-4863-BE28-8D14D31E804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002D3-6F55-4D3B-B1A0-634D5CE5BC0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71B99-AB81-4C58-9C0A-F9F127BAF7D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7ABB3-A01F-4D5B-A6F0-701F98F820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5E0E5-2815-4CA2-ADC3-E97F66090EA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8AA26-A84F-45E5-BDB7-A50E33AAA1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30AFD-3998-4EBC-8712-F67F772612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312AC-7C83-41DF-9705-8C247C39B5C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4BBA0-C282-47A3-A650-287EA69CF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B8AD-F9A9-44E4-9125-3A9C1532C20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356AD-F5B1-4DC0-98F7-4962399E2B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023F-2C28-43E9-A26D-91D099B194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D748-D012-48C3-9F31-BB27AE171A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E4E6-C9EA-451D-994A-F2964383330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4B83-AB15-4147-8F3E-EAFD364B72D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CA01-DBB8-457B-8778-231613B4F4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0750-8A44-4912-9131-E81E066FCC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790D-74B4-491C-8FEA-773B2E1005F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8064-BA61-4B42-B192-27A3B8DF64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4259-86A2-4C7D-A67C-0705CC4F7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8BD8-7A84-46F9-962F-F9B3C5E6704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DB20-831D-4E6B-8B23-F8AF794AC2B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95D6-6540-4D13-8D8F-71FF60DDC76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2321-FC4D-4DA4-AE50-6A4AAD4150B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D59B85-2038-47A8-8402-98E8C180B0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3C80F-C71A-4EF3-8CAE-BA17915871D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7FC6E-D62F-4415-996C-A664931D352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3DF31-9C97-45BB-B508-4E49C6D36D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CD0F9-5554-4753-A823-05383B71655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1A465-485B-462F-91BB-B37C24CFD4D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A9CB46-D9AB-471D-A85D-FC67F7D6B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862E-2EF7-4888-865B-B440BAA9A11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347CE-21E5-4CEF-85FC-D37E0347250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C40DC-2159-4066-9066-728546A8CB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23340-E57B-4955-8491-FC4AE6BFD0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515E9-ACE9-4E63-B2D3-D67D23ABA7D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B862C-62F5-4021-AE6A-B24D112B8A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31DD0-B772-457B-9FC4-A07CFFBCC98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12C41-600A-4B83-93FA-FFDF0CE27D0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62118-EDD9-457E-A5EC-D38ACD385D8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F762E-C84E-4385-B696-57C4A920C8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CF9B9-32FB-4816-AD9D-3BEEDDB75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FE17-1E2B-4FC5-B077-615AAB7FCA5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378B1-E07C-49A8-B204-03CAFE5CC9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2F8D8-AF97-4CCC-915B-B5BF5B316F8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97162-F12F-4650-B79F-D6C70B443D9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9566B-2CC7-472E-850F-4340D45A9E6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FC344-D75C-4023-91D5-2478447C060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4F07F-01EC-4362-8040-C8C24883A97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ED196-B326-46DD-A400-BD5A0430142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0F67-0902-4034-80BF-54ABF79A52D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FD00-E6A6-4A7C-AF1D-15CC1F94A7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0B57-81E1-4574-9759-C2A32C2F2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F33E-E016-4062-9394-E4656AFD6C8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6648-D690-4B80-9FEF-AD576DE89F7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F12A-5547-4F8B-80C8-9355C1EBFD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94C1-D17F-422C-A3F3-968D317D6CC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C3E7-A914-4DE7-9E81-836D098024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67C3-6AB1-47EC-A44B-256FA46AF3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C2CC-B1DA-4112-92BE-DC05B08AD14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DB0E-18F0-4D93-B16C-5E547688E1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2F49-0B0F-4F12-BF7A-545F19229CE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09E8-81A9-47AB-89BB-0F0E776637F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99CE-2A7A-4CC6-B1C4-3E8800FD09F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A1E-3648-4D1D-86EC-A455DEB4321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579B-E65E-4848-BBBB-5112C6F6082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21CF-58F5-42EC-A36A-100C415B14A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8D9B-3897-4E71-947A-B63D3802A1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EF50-7903-40E9-861D-58CF2D1234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3809-D512-4263-94F4-9E390C35BD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CB78-FC1D-4613-AD52-815228592B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159E-99CE-4F8C-A6EA-E6A47E8543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760D-66AF-444F-B815-EC55B7CD6A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C2F1-A785-413E-9921-5E87AA3701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AEB0-20BE-4BF5-BBB8-38A9563D9A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07BB-257A-4763-BA4F-BF345C308D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D1D2-694D-4F46-891B-7246C0DE12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C72D-023D-4EC6-AB90-B28193A0C8B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D560-A381-4945-9DB7-1A75474949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CFBC-7BDF-461B-A0C0-4F6366E4547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6634-308D-4781-B413-8CB5717C117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00D7-5F91-415B-A96B-475E181E366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5D4C-EA8D-4402-9D6C-05F36D54BC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C0C3-FC93-4BD6-B036-5CDAD8F17A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0141-3E91-4138-B1A9-64879C83FA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DD82-7F02-433E-879F-B59D3CFD5A1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070-5046-488A-9570-21A164113C7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EBB5-8AB4-4591-ACE6-799CCD4173A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4609-88D4-45E8-A2AD-C44CA344629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5B3-E924-4740-A902-5DFE6FFE997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B447-FB20-428E-9E64-5B6361DF25A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8FA3-EA23-4ADC-B849-0729475EC9B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9D81-A908-4C47-ADE7-5FA4BC1BAF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F098-A89F-42A8-B895-94ED4D7BB29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F167-2863-4BF0-A875-51A73215998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94CA-6C8D-4402-BD66-3D285B9321D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E8F2-3CE4-47EC-994D-3AD7128D908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92D9-40FA-4F23-A1AA-DE24DD25BB7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A161-76BB-42D4-8E2E-E8DB7E1727E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79B9-3FF1-4787-9CE6-3F02D003206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99AC-5804-4F11-A0D8-B423EDAD538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EB4E-E24E-46AF-9048-715DEC2F69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DBD8-028B-48E7-BD28-1484FD787B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DE5F-72EF-4D3D-8A60-5AAE6FE1672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5728-D085-4E82-AA0C-2F6026CE3AA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3C4C-1AF1-4025-9AED-F54A28F013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1A79-992F-4A65-8F96-ECF92049E5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8:30Z</dcterms:modified>
  <cp:revision>2</cp:revision>
  <dc:subject/>
  <dc:title>Thermochemistry</dc:title>
</cp:coreProperties>
</file>