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982E-889E-49A2-BC6F-24CA7E94F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143AB-C622-4CE9-9386-4F83F7F185F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2339F-D4BF-4D2C-B322-61CA192B1DA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91151-E248-4FA6-9949-AA451BE840C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AE308-DDF5-40CD-941E-E1B716DFF62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89C0B-E280-4581-9324-B24314AA560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5C0AE-A8BA-4950-ACE2-1069FCE979D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4FD9B-2CA2-446B-9255-B4A8DA2B17F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B466-C4CF-4FAD-ABE4-DF9EAD7AECA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B95E3-540C-429F-A7F5-D214F485486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94C35-C46B-4116-9580-1FB65D8E25B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324FC6-A926-45E8-8F7A-AFA3B2CF9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F138-5A4D-4E3F-8A8E-C8207A5996B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8CDDD3-17F1-44F4-A409-04A510D619A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E8BB41-5C9D-4F8E-BF73-D169E7923B9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B7EADC-4311-4E71-8CB2-0F4845CC68A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67BAFB-083F-47CF-B81B-2349235A7EF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55F40D-F518-4774-AEFA-900BDF13902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854C41-F721-483A-A69F-4E581F52572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8A0EC4-E9EC-4D15-A434-72990F3A26B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54BB84-8E18-4DFE-9930-76A368D52E6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BEA009-9C97-45BF-A6B7-49DD46F4E17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43DFD6-82C7-4583-8B2B-878EBCCD2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6D6D-5E29-466F-A63A-5313275E95D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C8153F-7F63-49B1-9B35-00FF67F443D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3AE4B1-34CC-44E6-AB4C-BCD2AEBE554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516EF3-99F9-4FDA-BCAD-716E6312B78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6A5246-ADD9-4AF6-ACE6-4FA2DAF68A8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B186DC-8D96-4A15-B171-0485F3F5D14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C98445-FFCE-42E0-B673-711592679FC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84E3D4-F7AC-43DF-B1B0-3A27594AA57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95245D-3036-4463-8619-38F97DBFB72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DA3F63-905B-4650-A150-0312DD230ED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ADB95F-349B-439B-ACEC-A445A8159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02F4F-134E-4CA5-821D-98A0641A2A0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C5F0DE-2BE7-4EB8-A8FD-93A1EEC21DB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78A0D9-D29F-41A5-A858-0554A981282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9F2380-6078-42E7-AAEA-4E0473FFD39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310B9-1BF7-4415-92D4-D0404C79246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995D0-DFC5-48BD-8896-3FEFDA13D7D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029BB-662C-4B22-9A4C-930A8074B08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B5BDD-4635-4063-A13B-29C251CD04B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4AFFB-2BC0-4BCD-806E-218FEF71408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9A635-0AFC-43C0-A5FC-4D373468929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7E5F1-D71B-45E3-82A7-D686DCE5A5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1965B-5CFF-4392-BE11-220E82C5277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631B4-6D14-4BD0-8CEF-9D9E766F182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FFE43-B992-4FC6-8348-4230AD192D4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BAC20-5241-432A-A5D1-A2AAEB17C32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A5BA9-50FA-40B2-80B6-6F115776D3C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BB738-99A2-412E-90E9-3DC7621A1FF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2578F7-352B-41F4-A489-7653A784CE5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B15D41-5260-42A7-A940-B4970F6B6F2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B3BDE4-7302-4D27-890D-B728C1EAA52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8F71A8-6BB2-4242-899F-43D4A0801C7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DC329D-B048-42BC-A4DE-C8B78EC4E6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1C041-5726-4D1E-91B0-AE127F49BA3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FD2DFF-63A7-49C1-B648-5F60BF2B1AD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799B93-0C87-4607-B81A-B38E7049367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2F1034-2459-4E91-9089-9D578CA1FA8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CDC5AE-F171-4B97-97D3-10941660859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E7730C-7D6D-4273-A1B5-1DC0981BF77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F43399-B252-42D5-AB2A-1BDA0888BF7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B94F22-112B-4E23-9447-88E8F4A652A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6F273-626C-457C-8945-3925E251274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ADB631-2B57-4315-8B31-0E94C918162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628959-1768-440A-9F36-5B1F1A2AA5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EB4D6-CED8-4483-AF36-C3FEB7469C9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A99F8E-AFEB-4539-BCF3-4783ED6F838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E41AF0-B9B2-4DB8-A17E-B9C5973013D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40380-FB46-450F-B51A-F2EA5D35CFF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E92D0B-2D37-4669-A4A0-0933B4B84A9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5CF601-A55B-4402-ABD1-2D8C3F4B6F8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AF5BC5-814D-4308-9A4B-ACBCDC344B5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2573DB-F652-4490-8EF3-A2D9377732D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1B968-23F7-4E75-B482-DE435069E83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EC22E1-2DF0-413F-BF70-AC9463DC36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BB919-3BCD-486B-A8FF-CE0392E2B1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1725B-6975-4DAE-AB40-DF103DA80A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26821-6733-4D9F-91A7-55BF1C7140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9285-1579-42B6-8823-B21D26479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106EF-E3C9-4ACE-88CA-C7C6495219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E6469-D791-46C4-BF0C-D59DB19909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F6E4F-55A2-4540-9DE0-79705B65A2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17DE9-C9B6-4E9B-9556-B3B43084C7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CB037-08CA-4C0E-86F1-B58B96B1D2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E99-50E4-44E7-9D7A-343A2B40A0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6DA0-EAA2-4B0C-9629-A7C792C4FA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5961-42B6-476E-B4ED-0DF15B136C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3AB-22F0-482F-8CA9-F20EB47362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3BE1-171E-4C2C-A5D3-7868214ABF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300B-5B18-488E-A15B-654D835F9E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EDA-D56E-4ECF-8A3D-024A217F9C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6A18-8765-46CD-B64B-7766F96EF6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22A-563F-4989-8770-5445D961E2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71D-A20A-4BF7-9433-BFDA48E1A9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BDD-010F-4E69-8A9F-B8414CAA51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6A9C-D26B-4464-A5A7-E084F582C5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48C-F777-4362-87F7-29476A1137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C7A44-4196-4C09-B5DB-64B6F7D218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3330D-723E-45F0-8EFD-0D71F5127F9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A29EC-2BD8-423C-957A-480955D543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0F60-3368-404E-AA8B-DAB1A389636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3CC3D-693F-4318-8E52-E1D2993438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1E196-CF56-4318-A7E2-AD7D03B311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DA18C-DE28-408A-BAF6-2F167C38E6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B1294-82C1-492A-835F-1F70E02D96C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13C22-F7F7-4457-B666-3510742A68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9132A-F07E-4E33-A26C-353DC11CCF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887A6-93E3-4DD8-B9C1-4EA99C7133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2013B-55C1-4225-8755-DF8289537E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19449-B91E-44A2-9D46-E436E93854C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66C1D-83AD-47BB-8F9F-E24EC72F4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251FA-2CCA-4DB3-8971-BB6DDF02BE4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D993D-F8F3-44EE-B54E-7D0F69B42F3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B3ABC-85F5-4A0F-BAF9-5095BF44173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60F15-A27A-4234-936F-8B6C9729B6F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CC4C6-B990-48ED-BC60-BE6E2277867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D791B-8FAF-48F6-8F77-FC770587752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44D8F-04F0-4CD8-B9DB-2FDC48D0707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8D952-49DE-4F27-AA09-FA4290FAF00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8A52C-7BB9-4AB0-A6DC-A606FB6869E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A528C-9DBF-4EAF-8769-B50021FE36A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5B5D5-AB93-4649-974C-501561F4E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AB31-2E6B-43E0-AC5F-E9E2741D80E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07C81-8A75-4DC0-9BFA-FA740DA050B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2EFF-344B-43F6-A297-BB4B81FA03E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EC07-1205-4799-ABCF-A78177558AE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4D58-0B6B-48BC-BF78-AC4A27BA049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987A-C35A-4822-B2C8-6A389DA4525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878A-0579-4882-9124-7BB2D7FF22D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C31D-FBFD-4CE3-9B05-50407894A37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6217-49A3-48D2-9651-66372BAF5CB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75CB-A33B-49C6-8BCB-2ED8ED25800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F377-7BDA-4B60-A2AB-BFCFD3F6B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C7F2-A7A5-4BBD-A7B7-027298A474F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7BE9-F08A-4966-96BA-51CAB47BABA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9E59-2E36-46DE-A6E2-F082065AA95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FEB9-83B2-461E-826F-6A6ADF11276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BC7485-1843-432F-9DC9-F7176910597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7B5A5D-AD55-4BD5-B5A5-25DE85D03D4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A6AF95-142C-4CEC-BC3F-B90A08BE36E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BE102C-9141-4096-B8F8-42177A40426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341A7A-EBF6-4D0A-8D64-E273E80C19E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2FC816-DC1F-4630-B1E9-A4268354FEE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01C479-467B-4C6E-BEA7-6C6F3FF91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0710-6A16-4753-8574-165B6ACAFE4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FBC5C7-4AEF-400F-8D24-9D00B41BB2C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C569BD-B2F0-4323-829B-7E179E6C4B7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36719B-F264-423A-8877-F10A8CE4189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0A70FE-559F-4625-A3ED-0216F259F23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AD1297-7042-440D-959B-A3B9B586F91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39DBD-52C4-455C-BE09-7DF49AE223F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548CE-5CA7-4AC2-9A67-E00697C99B1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DD9A8-FBD6-4741-8390-AF00EDD822C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17FC5-EFE2-47A7-94DF-9EB03BC7269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189D4-955F-4F0C-BA18-29732091A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2A83C-4FFE-41CE-B1F7-97ACC1529B1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F4C9D-DE2D-4B42-9602-BA4EF69BDC9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ECA4A2-1CE6-40CA-94E5-0F1189324C5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30CE0-3B68-427B-B6D3-C3A73BEB06F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7DE89-8E4F-49C2-9FB9-16B8583046C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C2F7C-8D58-4316-BEB9-53284872D04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989307-DA36-41A5-B331-4BAE57D4F26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11537-1485-40A8-9F03-6BB5B7C859D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E7C4E-2E99-47A0-B6F4-C770360DC71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9D0BA-EEC9-4BB3-8A09-0337102778E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8D85F-C44C-4D32-BB43-E087C9892B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5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6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11160" y="933408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CE10-3384-49D7-A1E1-49C985E100B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0"/>
          </p:nvPr>
        </p:nvSpPr>
        <p:spPr>
          <a:xfrm>
            <a:off x="1249344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4F53-0469-4A3D-8701-993608CBCB5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1"/>
          </p:nvPr>
        </p:nvSpPr>
        <p:spPr>
          <a:xfrm>
            <a:off x="1254708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BDC0-8F61-4268-9D15-32EEF6F036B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2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2CA9-1EAA-4241-9684-5277BDBE3E1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82680" y="253800"/>
            <a:ext cx="1160784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202680" y="2311560"/>
            <a:ext cx="1268748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1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8185-2F2C-4116-B66F-0BA6B122700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14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9B10-1A69-4532-9C2C-4A4FB48137B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CA8A-0C89-4811-8344-9101853E6E4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7137-16C0-4F66-83CE-CC658190140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4314-4C0B-4A7A-85FB-7D319177F77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3210-6E30-4AE6-8544-A046585D1F9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6168-4947-4648-98B2-A33C0EC99AB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4091-E625-4D90-B73C-C7C875E9903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FD60-325B-40F3-9058-50910E09316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728A-012A-4B1B-A7C2-411D658E102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F0AE-4A08-40AE-8BE4-F8FE6D46C6C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Thermochemistry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986040" y="8089920"/>
            <a:ext cx="3593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Handwriting - Dakota"/>
                <a:ea typeface="Handwriting - Dakota"/>
              </a:rPr>
              <a:t>No Calcul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169C-0BE3-43FB-9E07-C350BDFB658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42720" y="1168560"/>
            <a:ext cx="12661560" cy="80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</a:t>
            </a:r>
            <a:r>
              <a:rPr b="0" i="1" lang="en-US" sz="4200" spc="-1" strike="noStrike">
                <a:solidFill>
                  <a:srgbClr val="dd2067"/>
                </a:solidFill>
                <a:latin typeface="Arial"/>
              </a:rPr>
              <a:t>always</a:t>
            </a: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..A chemical bond is a stable arrangement of electrons shared between the bonded atoms. Therefore a bond cannot be broken without the input of energy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6A68-4859-423A-B1C2-BA53CB9791F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42720" y="2222640"/>
            <a:ext cx="826740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019E-6A61-439B-A855-AEF1313812D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12534840" cy="73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When a chemical reaction occurs, bonds must be broken, and other bonds must form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heat of the reaction is the net result of energy in (for bonds breaking) and energy out (for bonds forming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E878-6F7E-47F2-9048-BE5DBEA20EB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one of the above, because this cannot be determined from this graph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47F7-D477-403A-AA61-8D51AABBA25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58720" y="2666880"/>
            <a:ext cx="12179520" cy="6756480"/>
          </a:xfrm>
          <a:prstGeom prst="rect">
            <a:avLst/>
          </a:prstGeom>
          <a:noFill/>
          <a:ln w="0">
            <a:noFill/>
          </a:ln>
        </p:spPr>
        <p:txBody>
          <a:bodyPr lIns="0" rIns="588024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961b0"/>
                </a:solidFill>
                <a:latin typeface="Arial"/>
              </a:rPr>
              <a:t>We know this because there is less energy produced by the formation of the products than needed to break the reactant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7264440" y="2476440"/>
            <a:ext cx="556740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9764-C198-4AD2-89A4-A501429DA9F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51920" y="5143320"/>
            <a:ext cx="126874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D0AD-DDC4-41F6-BA39-5FCFD3EA3BE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02680" y="380520"/>
            <a:ext cx="12687480" cy="29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45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02680" y="3593880"/>
            <a:ext cx="1268748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d2067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2961b0"/>
                </a:solidFill>
                <a:latin typeface="Arial"/>
              </a:rPr>
              <a:t>You know that gas → liquid is exothermic, so adding ∆H - to the ∆H above, will make it a smaller positive value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FB77-C20C-4CBB-B056-71A32DA2224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310B-C6F5-4847-9F82-6EDB1BD92D1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715D-7362-445E-A812-8A4B3B6241E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A4A5-FFC8-4C81-9E68-A3D0779D6FF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4B4B-BFD1-463D-9E45-BBBEC3FD4B0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D9B5-A16C-40E9-843D-5B57983141E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8621-EB6B-4C1C-B882-7AD0FDB780D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1235700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Both of these sketches are called an </a:t>
            </a:r>
            <a:r>
              <a:rPr b="0" i="1" lang="en-US" sz="5100" spc="-1" strike="noStrike">
                <a:solidFill>
                  <a:srgbClr val="182093"/>
                </a:solidFill>
                <a:latin typeface="Arial"/>
              </a:rPr>
              <a:t>Energy Diagrams</a:t>
            </a:r>
            <a:br>
              <a:rPr sz="5100"/>
            </a:b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54160" y="6477120"/>
            <a:ext cx="699768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 fontScale="94000"/>
          </a:bodyPr>
          <a:p>
            <a:pPr marL="53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P Exam sometimes refers to them a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otential Energy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3"/>
          <p:cNvGrpSpPr/>
          <p:nvPr/>
        </p:nvGrpSpPr>
        <p:grpSpPr>
          <a:xfrm>
            <a:off x="4408560" y="1300320"/>
            <a:ext cx="8458200" cy="7556400"/>
            <a:chOff x="4408560" y="1300320"/>
            <a:chExt cx="8458200" cy="7556400"/>
          </a:xfrm>
        </p:grpSpPr>
        <p:sp>
          <p:nvSpPr>
            <p:cNvPr id="554" name="Rectangle 4"/>
            <p:cNvSpPr/>
            <p:nvPr/>
          </p:nvSpPr>
          <p:spPr>
            <a:xfrm>
              <a:off x="6664320" y="8070840"/>
              <a:ext cx="6202440" cy="6940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5"/>
            <p:cNvSpPr/>
            <p:nvPr/>
          </p:nvSpPr>
          <p:spPr>
            <a:xfrm>
              <a:off x="8918640" y="7979040"/>
              <a:ext cx="1692360" cy="87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6"/>
            <p:cNvSpPr/>
            <p:nvPr/>
          </p:nvSpPr>
          <p:spPr>
            <a:xfrm>
              <a:off x="6674040" y="1382760"/>
              <a:ext cx="569592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7554960" y="1300320"/>
              <a:ext cx="391644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+  1/2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10103040" y="5623200"/>
              <a:ext cx="198756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10253880" y="5540400"/>
              <a:ext cx="169848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0"/>
            <p:cNvSpPr/>
            <p:nvPr/>
          </p:nvSpPr>
          <p:spPr>
            <a:xfrm>
              <a:off x="7201080" y="2006640"/>
              <a:ext cx="403200" cy="59486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948640"/>
                <a:gd name="textAreaBottom" fmla="*/ 5949000 h 594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11"/>
            <p:cNvSpPr/>
            <p:nvPr/>
          </p:nvSpPr>
          <p:spPr>
            <a:xfrm>
              <a:off x="10771200" y="2006640"/>
              <a:ext cx="403200" cy="35989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598920"/>
                <a:gd name="textAreaBottom" fmla="*/ 3599280 h 359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2"/>
            <p:cNvSpPr/>
            <p:nvPr/>
          </p:nvSpPr>
          <p:spPr>
            <a:xfrm>
              <a:off x="10771200" y="6247080"/>
              <a:ext cx="403200" cy="17254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1725480"/>
                <a:gd name="textAreaBottom" fmla="*/ 1725840 h 172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3"/>
            <p:cNvSpPr/>
            <p:nvPr/>
          </p:nvSpPr>
          <p:spPr>
            <a:xfrm>
              <a:off x="4408560" y="3584880"/>
              <a:ext cx="300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8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286 kJ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4"/>
            <p:cNvSpPr/>
            <p:nvPr/>
          </p:nvSpPr>
          <p:spPr>
            <a:xfrm>
              <a:off x="8116920" y="6559560"/>
              <a:ext cx="27799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9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44 kJ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5"/>
            <p:cNvSpPr/>
            <p:nvPr/>
          </p:nvSpPr>
          <p:spPr>
            <a:xfrm>
              <a:off x="9312480" y="3108600"/>
              <a:ext cx="1788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4100" spc="-1" strike="noStrike" baseline="-14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?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16" descr=""/>
          <p:cNvPicPr/>
          <p:nvPr/>
        </p:nvPicPr>
        <p:blipFill>
          <a:blip r:embed="rId1"/>
          <a:stretch/>
        </p:blipFill>
        <p:spPr>
          <a:xfrm>
            <a:off x="165240" y="2146320"/>
            <a:ext cx="56973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F08C-FF6B-4B2B-B08B-F5AF202EEBF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FCA3-BA18-436B-B169-5A475592971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F7EB-492A-40DB-B56E-C5C4395832C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508E-D0BB-4469-996F-316E124524A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42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43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50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53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6CF7-5A9C-4F1F-81F7-62D78B1E7C4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60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61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68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71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C420-329D-40A6-8977-84E1AAB3063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78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79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684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60BA-E40F-45F3-B50B-0696889B0A9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d2067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94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95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700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4AE8-64DC-447E-9EAE-FFAE5C0B6A5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10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11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16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5D9A-7591-475E-B421-0089A961A72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26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27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32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0936-BEC9-4CB0-A87B-7C9ADB6C28A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42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43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48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4EF9-97ED-4B14-9C9C-7109E61AAC9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(D) and the potential energy of the reactants (A) 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vaporiz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B069-89A8-4404-AA75-490BF9CEFEE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Same because 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materia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58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59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64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C848-5ACD-431E-B5F3-5EB406EA328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If these two blocks were allowed to come to thermal equilibrium together, would the final temp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30120" y="2450880"/>
            <a:ext cx="8344080" cy="4863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9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100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97.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impossible to know without more inform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3"/>
          <p:cNvGrpSpPr/>
          <p:nvPr/>
        </p:nvGrpSpPr>
        <p:grpSpPr>
          <a:xfrm>
            <a:off x="8674200" y="2133720"/>
            <a:ext cx="3682440" cy="3206520"/>
            <a:chOff x="8674200" y="2133720"/>
            <a:chExt cx="3682440" cy="3206520"/>
          </a:xfrm>
        </p:grpSpPr>
        <p:grpSp>
          <p:nvGrpSpPr>
            <p:cNvPr id="774" name="Group 4"/>
            <p:cNvGrpSpPr/>
            <p:nvPr/>
          </p:nvGrpSpPr>
          <p:grpSpPr>
            <a:xfrm>
              <a:off x="8674200" y="2133720"/>
              <a:ext cx="1841040" cy="3035160"/>
              <a:chOff x="8674200" y="2133720"/>
              <a:chExt cx="1841040" cy="3035160"/>
            </a:xfrm>
          </p:grpSpPr>
          <p:sp>
            <p:nvSpPr>
              <p:cNvPr id="775" name="AutoShape 5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6"/>
              <p:cNvSpPr/>
              <p:nvPr/>
            </p:nvSpPr>
            <p:spPr>
              <a:xfrm>
                <a:off x="8674200" y="2133720"/>
                <a:ext cx="1841040" cy="46044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AutoShape 7"/>
              <p:cNvSpPr/>
              <p:nvPr/>
            </p:nvSpPr>
            <p:spPr>
              <a:xfrm>
                <a:off x="10050120" y="2133720"/>
                <a:ext cx="460080" cy="3035160"/>
              </a:xfrm>
              <a:custGeom>
                <a:avLst/>
                <a:gdLst>
                  <a:gd name="textAreaLeft" fmla="*/ 0 w 460080"/>
                  <a:gd name="textAreaRight" fmla="*/ 460440 w 46008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AutoShape 8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9"/>
            <p:cNvGrpSpPr/>
            <p:nvPr/>
          </p:nvGrpSpPr>
          <p:grpSpPr>
            <a:xfrm>
              <a:off x="10731240" y="3225960"/>
              <a:ext cx="1625400" cy="1955880"/>
              <a:chOff x="10731240" y="3225960"/>
              <a:chExt cx="1625400" cy="1955880"/>
            </a:xfrm>
          </p:grpSpPr>
          <p:sp>
            <p:nvSpPr>
              <p:cNvPr id="780" name="AutoShape 10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AutoShape 11"/>
              <p:cNvSpPr/>
              <p:nvPr/>
            </p:nvSpPr>
            <p:spPr>
              <a:xfrm>
                <a:off x="10731240" y="3225960"/>
                <a:ext cx="1625400" cy="40644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AutoShape 12"/>
              <p:cNvSpPr/>
              <p:nvPr/>
            </p:nvSpPr>
            <p:spPr>
              <a:xfrm>
                <a:off x="11946960" y="3225960"/>
                <a:ext cx="406080" cy="1955880"/>
              </a:xfrm>
              <a:custGeom>
                <a:avLst/>
                <a:gdLst>
                  <a:gd name="textAreaLeft" fmla="*/ 0 w 406080"/>
                  <a:gd name="textAreaRight" fmla="*/ 406440 w 40608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AutoShape 13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Rectangle 14"/>
            <p:cNvSpPr/>
            <p:nvPr/>
          </p:nvSpPr>
          <p:spPr>
            <a:xfrm>
              <a:off x="8774280" y="34196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5"/>
            <p:cNvSpPr/>
            <p:nvPr/>
          </p:nvSpPr>
          <p:spPr>
            <a:xfrm>
              <a:off x="10758960" y="34196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C84E-273F-409E-B697-AC180B05C80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70FD-66E2-456B-8B63-C8DDA88EF01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092A-C704-49AF-BFA3-FA4252CA0C2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8565-85D4-4456-8A63-D4438C562FB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1C6E-271C-400E-B726-DA3A5846CA2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A9B7-FB6A-4745-A6C1-72359E98AD7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dd2067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2961b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61b0"/>
                </a:solidFill>
                <a:latin typeface="Arial"/>
              </a:rPr>
              <a:t>Materials with low specifi heat are easier to change their temperatur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C089-51B3-4F95-9BF5-D5749377835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and the potential energy of the reactants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54160" y="3428640"/>
            <a:ext cx="57276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86FA-A8E0-40F6-B0E8-1EEF3E692C8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7F7C-6956-48FE-9724-62B4F053240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62BA-48A7-4D1B-9E65-068AB2AD9CA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AC0E-999A-4558-A1C0-8773D2A0A81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9A6E-36F8-4094-9F55-38EFA915552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8267400" cy="3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sexton</cp:lastModifiedBy>
  <dcterms:modified xsi:type="dcterms:W3CDTF">2014-01-03T15:21:19Z</dcterms:modified>
  <cp:revision>2</cp:revision>
  <dc:subject/>
  <dc:title>Thermochemistry</dc:title>
</cp:coreProperties>
</file>