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C998-C4D5-410C-AAB7-9FE0E7770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81FB-6DC0-4F45-B2DF-B849AF55A41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6272-06DF-4E8A-829B-3ED6B902A30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3E798-78DE-4705-9D7A-23D239BC333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6E8F7-45F2-4EDD-B86F-BFC8E1A2AAE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8B9C4-8E87-4343-B248-C6844BDE640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C1698-AF21-4D85-8052-CC0F53221CD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BD234-9E54-40E8-A52C-A5F5CF47246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5FE98-9004-4A97-9DD8-3D525EEE0BE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8EE47-550E-4F59-8EA5-8014A026EC5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FF3F4-BCF7-4E27-87F1-94DDC30A486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57D40A-BA89-4310-8C48-D97B03FA0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AAAB-01BC-45B0-B11D-CD5BD6845D4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A95722-0104-4D4B-9F06-E075C5710CA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37F258-70FE-4BE8-B23D-0AB46BCB7FC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F62440-AAAB-4F04-B1CF-66E9DC00CBD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9C2C1E-F904-42D6-BBC8-95C8208DC18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23807F-1B11-443D-8530-753E3FA82A6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D40080-C8EC-4B1B-9FFB-2AA6DFF8E75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689F1B-D205-42F4-86D0-38523FD6261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CF7354-AFF4-483C-AE73-4DF7B793F31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561041-6A78-4F80-9553-F5145EF1343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BD1B39-BE7D-455D-8C87-4EA2B578C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DE67-BCBF-4B82-86FD-B79D95C7C69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BB2536-45A4-4EE8-A4AE-46365221C7B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6D081F-E10F-4FB0-A631-ED3B7CF38D6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26CC8F-7056-47CB-8D0F-9FFA2345C17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4F248E-8084-440B-B82D-461D85C1E99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256958-DDBE-4C4E-B65D-DF7FA935CC2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AD6988-E5B0-4964-8E87-B88A5ADA765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A47C2D-B219-46ED-873B-FA51FE12E98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66D9BD-B496-4A3C-AB27-26320ECC0B9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C085E0-B30B-4FBC-B807-A2CF4841235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1D3ADC-56A0-492E-A952-A18CB699F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26155-324D-435D-9F36-8B8767AC3CC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E0A2FD-F8EF-46FA-AE0F-F17DB545C14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8EB704-0333-43F0-BF02-F67A10BC742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3A94A2-126F-4F61-BC89-148B392E474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2D654-9785-4FCD-919D-E3F96C2C971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6DDB8-6542-4E43-81F6-306DF3D8CA7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D1012-5DA7-4DF5-9234-607693C6D2B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D379D-3917-4D28-BB6C-BB9EE23C033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5379D-3209-4629-B938-EA5B7EAFDEB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786FC-4010-4D36-B781-2A315608CEF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33C1B-6A20-4B71-BF90-B8A76E19D6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DEB8C-B521-455D-826E-EDCE58FF7D2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AB126-1469-433C-8CB1-80DA636A1FB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95FA9-30D3-4F2E-8D8F-04E26983DA8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08BD5-B671-4C1F-938E-DD0683FCD31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F2E61-628E-4E23-8820-46DEC071DF7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81C89-E990-48F4-B117-BE24EF6F58F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59C23F-F4D7-47E4-A424-7DAFD1ED7E8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940056-259A-468A-9948-B1B61320DA3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C62DB6-AE39-49BE-A461-A78BFB5F6B0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C95ABC-64E8-42A4-9D49-52028483C35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EFC10C-8A1E-4033-8C77-7DC6CD7722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6FAFC-6A2C-415B-A172-280E9342992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8EF753-33E2-49BE-A265-BA2AA2DA561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7BB5D8-E25F-4B95-B714-745457F9A73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AE2E4D-F087-4ADD-9B65-C9396F5BECF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2C4C71-00BE-4C79-8A41-3E68ACD5C1B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C285FB-42B5-4B3F-AF50-55D142C054B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ADCDF7-B8C9-4E86-9455-34E5E2CD31F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DE234C-5DFA-45B3-994D-7ACF72A853E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069FAC-3BD9-45D6-9D49-FEF023E8529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776EC4-783F-4E08-AC3B-09C75EF082C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D24AEC-8250-4462-B3A3-BF0A8DB6E5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97CFF-4C38-4B18-8798-30213572CBA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CF15C-3DEB-44BA-A93A-8485FBBBB03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B6F54F-0B95-4E5E-8220-61514504A1B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0E9FC-2C3B-4831-AEF4-47CC5F2A670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FEABB6-3581-4CAC-872A-246F7BDC221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14F90-C269-4FEC-9C3C-8BCED6CEF43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D0130-F048-4B39-9F74-038CE31FE90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A002DF-368A-45D4-A4D0-B9C9325B5A1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9A15D5-3889-46D1-B70F-9EF380E4F46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70370F-BD43-43F3-98C8-C9D7B20961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FC5B5-6362-4493-80CE-94A4F7CA36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66047-EF17-4E5B-849C-29322E7F4E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23C1E-D18D-4BE3-9F9E-112CF499F2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0A1F-C6B0-482C-827C-DCA38EE6E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E024E-AA29-49A4-9AAC-1585029C79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3638E-4ACF-431D-82C3-70A2AB386E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CDD17-CAD3-468B-8BAB-5D9DCEFB10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490A7-B9B4-42C4-9F5A-DAEBDFC836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1CB1-1833-4A06-AAFE-040E5423EE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245-2D71-4A72-AABC-07D07EA5EF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BE82-8E8D-4192-809F-95050992EC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935-A063-456E-8244-978B0BE63B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6F5E-89DC-46FB-8055-744B7DF47B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398-126C-474C-BBD5-2385747815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C389-05A1-45E6-81AE-7115A5E82F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B9EC-8BBE-4123-A3E2-949AD74931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FBE4-7F24-4C36-81D3-45C3D654F4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F50-5580-4276-8457-9D92EA3156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64E-B211-4E02-BA3A-5B40CCEA8B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682-2DE3-47C5-9E45-4C4CF581D1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8E1E-2C47-4790-AFB0-84BF146068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6A7E-0C3A-4E2C-92FA-4B3701A0DA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A230E-E54B-4371-ADA1-90C8CEF67FE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CA97B-D9F2-441F-9B6A-7E1E98E00C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825F0-BE63-4FC8-B462-3E53C0E19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F873-28BA-42B4-AAA2-A3D41065E5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A9CE6-923E-4337-AA68-E1E5E1891C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17BC3-3B05-4811-80E6-5CFD877C4D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FD2FD-6182-4E53-BBA2-651F3CFEC40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93643-89F3-423A-8A44-39BAA764F9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F7C22-BEDC-46D4-89D0-5877557E09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E9CF2-E9E7-43E4-9901-E1EA639626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21655-CF7A-447A-8794-0E0E6785E7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2B15D-E208-4E41-99F5-21C3983F83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8E857-BFEB-4D2E-A63A-7BA16FB8397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13BA5-51EE-4243-8DE8-25B967D48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C877-1FA8-4524-8B91-3BEF635D34A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33BCC-E733-4A97-A4AE-02E5693B003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F63AC-7388-435C-98EC-74060149DC2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CB477-86C0-4DC7-8CDF-F0858195921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DB45D-3E71-47FF-A829-7E70EC67133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08A7A-FA3A-47E3-A384-BC193E259AF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069DA-D3CD-4CA0-B5D3-71F5BB599D7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7026A-9AA6-46B3-AE27-144958E2A86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63A5B-C49B-440D-83E0-BE66A3E0EF9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AE2DC-CB7D-4D94-A3B8-A9C6A0A1BCF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CDD32-A39E-4BC9-932C-5EFCC5847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9D5C-C7AB-434F-BA04-CA407883003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CA0D1-AD79-494A-BF8D-77890541767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C2C1-2458-4599-B966-FE5F3A7CB3D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C408-0101-447E-9EA2-E2B2166BB3A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6763-C055-46CA-B194-7D076D26218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2A1A-2222-43FB-8C72-ED5AC57F467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0383-671F-4E78-8ADC-E56AF2EBDC1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072B-464E-4DD6-8D3D-E2DA7FC8C66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4668-368F-4791-AE52-2BBA6D510B6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E17D-B337-437E-B2DD-4255F1548FA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7CB3-C9BB-43A1-B30D-26C0D8284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FC9E-8543-4243-B0E6-03730ED050D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76B0-DC72-47BC-8549-102D4AE7B13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8116-E3FF-443B-B98D-3E90867E4B9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D508-AA38-4AC5-888B-E09077A7BAB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544E12-B4FC-407C-AE87-1E97F1E392D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BFDDD3-4517-4D81-B3F3-28E288379CE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B650E4-7309-432C-89F7-DF75F53E29F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D92485-04E1-4AFD-A519-685C873D24B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91F87F-B8AF-467B-97C1-6A493D6C27B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3DFBE1-D278-4659-956C-3D71FE7A6FB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7E0324-0806-4703-9D77-3182A001D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1F31-F165-4244-8C15-4CA4B829C5C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4EB60A-AEEC-4780-9F69-CD4CCCD2985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600365-0CE2-45CF-825E-89E177CCA23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9D5A22-F0B9-40EB-9D5F-FD9DAFF3BFA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D63934-0F77-4BBE-8826-1EAD70976BD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F245E9-2799-4DBB-B102-582D4AF6121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33A32-11A3-4514-B67E-4DFE723AEB9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F7A84-05EA-4A80-BD3B-DDAEAEB4884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BD50F-CFF8-43CD-BB52-8E791847711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9BA5B-2948-47A2-A4B6-9901A0EDAEE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6AC4B-205F-45D2-96AA-EBE819771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A907-E388-406A-BA27-29C6B0A3D4A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F5475-1BA9-401F-9D86-367F2CDBC1D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162C8-B384-419A-BC1F-493D1D19F9F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6F24E-F775-4CAE-A7EC-782F7C65985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75CE0-ACB1-4E34-B5E3-E08DB3F5CB3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96FFD-2571-49EA-859B-1995D65909B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EDB98-9AEF-4845-A9EF-9951CB01BC5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93EEB-0FB6-4F18-83FF-53FBE1C5B82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623D6-13A8-4330-BFE2-11B61017357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1AD52-C73F-416C-B929-26181B27A99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BF143-0ACE-4FCA-98A9-CEEED9290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5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6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11160" y="933408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581C-A03D-496E-943B-62F34CDA416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0"/>
          </p:nvPr>
        </p:nvSpPr>
        <p:spPr>
          <a:xfrm>
            <a:off x="1249344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F475-4DAE-4C5E-BA85-B0C6B9760B6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1"/>
          </p:nvPr>
        </p:nvSpPr>
        <p:spPr>
          <a:xfrm>
            <a:off x="1254708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BA91-5C23-4CB8-8F58-582C66A0244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2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DD4C-3EDC-4253-AA51-B0D5BD1628C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82680" y="253800"/>
            <a:ext cx="1160784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202680" y="2311560"/>
            <a:ext cx="1268748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1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7CAE-A210-4A78-9031-8CAC1899EC3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14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8EB5-19DA-41AA-83D0-A174ED84161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C895-D1DB-4F54-B018-D6715729B21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C3BD-BCF2-4E4C-8E42-B465430174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8782-9FA5-451D-89FB-BE687275ED4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7F8F-AA13-47C7-872A-04C5B507CE7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4AAE-155C-4775-9504-34D2DAB07F0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5632-D82C-4E91-8EC2-A3A598FE5E0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940E-5A16-4285-B467-57018EEEFE4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D1D0-7334-493E-A455-B2887395FFF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1168-D87B-4F77-A480-04CEB593072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Thermochemistry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986040" y="8089920"/>
            <a:ext cx="3593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Handwriting - Dakota"/>
                <a:ea typeface="Handwriting - Dakota"/>
              </a:rPr>
              <a:t>No Calcul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5B24-9932-4B0D-B60A-CDBBE72EFF8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42720" y="1168560"/>
            <a:ext cx="12661560" cy="80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</a:t>
            </a:r>
            <a:r>
              <a:rPr b="0" i="1" lang="en-US" sz="4200" spc="-1" strike="noStrike">
                <a:solidFill>
                  <a:srgbClr val="dd2067"/>
                </a:solidFill>
                <a:latin typeface="Arial"/>
              </a:rPr>
              <a:t>always</a:t>
            </a: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..A chemical bond is a stable arrangement of electrons shared between the bonded atoms. Therefore a bond cannot be broken without the input of energy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E50B-C418-4061-8AED-5381DAD4A45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42720" y="2222640"/>
            <a:ext cx="826740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ACEA-98CD-4B06-A4A5-4254BF32288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12534840" cy="73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When a chemical reaction occurs, bonds must be broken, and other bonds must form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heat of the reaction is the net result of energy in (for bonds breaking) and energy out (for bonds forming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CA8D-17D8-42E6-82DC-D87D83732BF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one of the above, because this cannot be determined from this graph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8A7E-CB15-4958-A3A9-D9F302ABC4E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58720" y="2666880"/>
            <a:ext cx="12179520" cy="6756480"/>
          </a:xfrm>
          <a:prstGeom prst="rect">
            <a:avLst/>
          </a:prstGeom>
          <a:noFill/>
          <a:ln w="0">
            <a:noFill/>
          </a:ln>
        </p:spPr>
        <p:txBody>
          <a:bodyPr lIns="0" rIns="588024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961b0"/>
                </a:solidFill>
                <a:latin typeface="Arial"/>
              </a:rPr>
              <a:t>We know this because there is less energy produced by the formation of the products than needed to break the reactant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7264440" y="2476440"/>
            <a:ext cx="556740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810D-A9A6-4554-99B5-BE641247D41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51920" y="5143320"/>
            <a:ext cx="126874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365F-64CB-41CC-BAE3-35315ECCF64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02680" y="380520"/>
            <a:ext cx="12687480" cy="29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45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02680" y="3593880"/>
            <a:ext cx="1268748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d2067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2961b0"/>
                </a:solidFill>
                <a:latin typeface="Arial"/>
              </a:rPr>
              <a:t>You know that gas → liquid is exothermic, so adding ∆H - to the ∆H above, will make it a smaller positive value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4E3A-22E2-45BC-97FD-AD67B0C3868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E010-C49D-4EDE-A024-BBE4FA0B991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44E3-ACE0-4262-974B-2EE96D3AB1B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430C-AB51-4FDB-AA4B-82907E55D96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C2C5-CC79-4687-B320-66CE4AEB4F7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C267-3A3F-4E8D-B350-CCF5B91E572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94FC-5174-4519-9679-1D9BDC81A0A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1235700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Both of these sketches are called an </a:t>
            </a:r>
            <a:r>
              <a:rPr b="0" i="1" lang="en-US" sz="5100" spc="-1" strike="noStrike">
                <a:solidFill>
                  <a:srgbClr val="182093"/>
                </a:solidFill>
                <a:latin typeface="Arial"/>
              </a:rPr>
              <a:t>Energy Diagrams</a:t>
            </a:r>
            <a:br>
              <a:rPr sz="5100"/>
            </a:b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54160" y="6477120"/>
            <a:ext cx="699768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 fontScale="94000"/>
          </a:bodyPr>
          <a:p>
            <a:pPr marL="53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P Exam sometimes refers to them a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otential Energy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3"/>
          <p:cNvGrpSpPr/>
          <p:nvPr/>
        </p:nvGrpSpPr>
        <p:grpSpPr>
          <a:xfrm>
            <a:off x="4408560" y="1300320"/>
            <a:ext cx="8458200" cy="7556400"/>
            <a:chOff x="4408560" y="1300320"/>
            <a:chExt cx="8458200" cy="7556400"/>
          </a:xfrm>
        </p:grpSpPr>
        <p:sp>
          <p:nvSpPr>
            <p:cNvPr id="554" name="Rectangle 4"/>
            <p:cNvSpPr/>
            <p:nvPr/>
          </p:nvSpPr>
          <p:spPr>
            <a:xfrm>
              <a:off x="6664320" y="8070840"/>
              <a:ext cx="6202440" cy="6940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5"/>
            <p:cNvSpPr/>
            <p:nvPr/>
          </p:nvSpPr>
          <p:spPr>
            <a:xfrm>
              <a:off x="8918640" y="7979040"/>
              <a:ext cx="1692360" cy="87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6"/>
            <p:cNvSpPr/>
            <p:nvPr/>
          </p:nvSpPr>
          <p:spPr>
            <a:xfrm>
              <a:off x="6674040" y="1382760"/>
              <a:ext cx="569592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7554960" y="1300320"/>
              <a:ext cx="391644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+  1/2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10103040" y="5623200"/>
              <a:ext cx="198756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10253880" y="5540400"/>
              <a:ext cx="169848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0"/>
            <p:cNvSpPr/>
            <p:nvPr/>
          </p:nvSpPr>
          <p:spPr>
            <a:xfrm>
              <a:off x="7201080" y="2006640"/>
              <a:ext cx="403200" cy="59486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948640"/>
                <a:gd name="textAreaBottom" fmla="*/ 5949000 h 594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11"/>
            <p:cNvSpPr/>
            <p:nvPr/>
          </p:nvSpPr>
          <p:spPr>
            <a:xfrm>
              <a:off x="10771200" y="2006640"/>
              <a:ext cx="403200" cy="35989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598920"/>
                <a:gd name="textAreaBottom" fmla="*/ 3599280 h 359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2"/>
            <p:cNvSpPr/>
            <p:nvPr/>
          </p:nvSpPr>
          <p:spPr>
            <a:xfrm>
              <a:off x="10771200" y="6247080"/>
              <a:ext cx="403200" cy="17254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1725480"/>
                <a:gd name="textAreaBottom" fmla="*/ 1725840 h 172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3"/>
            <p:cNvSpPr/>
            <p:nvPr/>
          </p:nvSpPr>
          <p:spPr>
            <a:xfrm>
              <a:off x="4408560" y="3584880"/>
              <a:ext cx="300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8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286 kJ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4"/>
            <p:cNvSpPr/>
            <p:nvPr/>
          </p:nvSpPr>
          <p:spPr>
            <a:xfrm>
              <a:off x="8116920" y="6559560"/>
              <a:ext cx="27799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9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44 kJ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5"/>
            <p:cNvSpPr/>
            <p:nvPr/>
          </p:nvSpPr>
          <p:spPr>
            <a:xfrm>
              <a:off x="9312480" y="3108600"/>
              <a:ext cx="1788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4100" spc="-1" strike="noStrike" baseline="-14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?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16" descr=""/>
          <p:cNvPicPr/>
          <p:nvPr/>
        </p:nvPicPr>
        <p:blipFill>
          <a:blip r:embed="rId1"/>
          <a:stretch/>
        </p:blipFill>
        <p:spPr>
          <a:xfrm>
            <a:off x="165240" y="2146320"/>
            <a:ext cx="56973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8AFB-C24C-4025-A447-D0A8F88E343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45DF-D141-4C3D-983E-151290318FC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02EF-37B1-4BFD-B7AA-AA3239008A6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B501-82D6-42E2-8D8B-17B0C2908A5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42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43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50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53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3C98-DAF9-47F8-B55A-82E0BA5205E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60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61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68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71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BCB9-1F2D-46FD-BA3E-4776B8E7D79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78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79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684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1A4A-BCB2-4772-A314-5E9D1BC6873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d2067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94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95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700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9BD4-F04A-4DE9-888D-66357993BA6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10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11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16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EA0E-D8D2-4481-8FE2-8A42604D719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26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27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32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3A68-7030-467B-9742-767514BAF33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42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43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48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925A-7B87-4350-B929-ADBB8D15E79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(D) and the potential energy of the reactants (A) 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vaporiz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8DD3-39D3-4C7F-9E9E-7EFCCE60450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Same because 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materia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58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59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64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CEFE-C814-4512-8324-717D59CBAC6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If these two blocks were allowed to come to thermal equilibrium together, would the final temp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30120" y="2450880"/>
            <a:ext cx="8344080" cy="4863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9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100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97.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impossible to know without more inform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3"/>
          <p:cNvGrpSpPr/>
          <p:nvPr/>
        </p:nvGrpSpPr>
        <p:grpSpPr>
          <a:xfrm>
            <a:off x="8674200" y="2133720"/>
            <a:ext cx="3682440" cy="3206520"/>
            <a:chOff x="8674200" y="2133720"/>
            <a:chExt cx="3682440" cy="3206520"/>
          </a:xfrm>
        </p:grpSpPr>
        <p:grpSp>
          <p:nvGrpSpPr>
            <p:cNvPr id="774" name="Group 4"/>
            <p:cNvGrpSpPr/>
            <p:nvPr/>
          </p:nvGrpSpPr>
          <p:grpSpPr>
            <a:xfrm>
              <a:off x="8674200" y="2133720"/>
              <a:ext cx="1841040" cy="3035160"/>
              <a:chOff x="8674200" y="2133720"/>
              <a:chExt cx="1841040" cy="3035160"/>
            </a:xfrm>
          </p:grpSpPr>
          <p:sp>
            <p:nvSpPr>
              <p:cNvPr id="775" name="AutoShape 5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6"/>
              <p:cNvSpPr/>
              <p:nvPr/>
            </p:nvSpPr>
            <p:spPr>
              <a:xfrm>
                <a:off x="8674200" y="2133720"/>
                <a:ext cx="1841040" cy="46044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AutoShape 7"/>
              <p:cNvSpPr/>
              <p:nvPr/>
            </p:nvSpPr>
            <p:spPr>
              <a:xfrm>
                <a:off x="10050120" y="2133720"/>
                <a:ext cx="460080" cy="3035160"/>
              </a:xfrm>
              <a:custGeom>
                <a:avLst/>
                <a:gdLst>
                  <a:gd name="textAreaLeft" fmla="*/ 0 w 460080"/>
                  <a:gd name="textAreaRight" fmla="*/ 460440 w 46008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AutoShape 8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9"/>
            <p:cNvGrpSpPr/>
            <p:nvPr/>
          </p:nvGrpSpPr>
          <p:grpSpPr>
            <a:xfrm>
              <a:off x="10731240" y="3225960"/>
              <a:ext cx="1625400" cy="1955880"/>
              <a:chOff x="10731240" y="3225960"/>
              <a:chExt cx="1625400" cy="1955880"/>
            </a:xfrm>
          </p:grpSpPr>
          <p:sp>
            <p:nvSpPr>
              <p:cNvPr id="780" name="AutoShape 10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AutoShape 11"/>
              <p:cNvSpPr/>
              <p:nvPr/>
            </p:nvSpPr>
            <p:spPr>
              <a:xfrm>
                <a:off x="10731240" y="3225960"/>
                <a:ext cx="1625400" cy="40644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AutoShape 12"/>
              <p:cNvSpPr/>
              <p:nvPr/>
            </p:nvSpPr>
            <p:spPr>
              <a:xfrm>
                <a:off x="11946960" y="3225960"/>
                <a:ext cx="406080" cy="1955880"/>
              </a:xfrm>
              <a:custGeom>
                <a:avLst/>
                <a:gdLst>
                  <a:gd name="textAreaLeft" fmla="*/ 0 w 406080"/>
                  <a:gd name="textAreaRight" fmla="*/ 406440 w 40608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AutoShape 13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Rectangle 14"/>
            <p:cNvSpPr/>
            <p:nvPr/>
          </p:nvSpPr>
          <p:spPr>
            <a:xfrm>
              <a:off x="8774280" y="34196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5"/>
            <p:cNvSpPr/>
            <p:nvPr/>
          </p:nvSpPr>
          <p:spPr>
            <a:xfrm>
              <a:off x="10758960" y="34196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3992-1D29-44A6-8D79-A8AFAA29267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51D3-3132-49F9-9283-AC469C50F21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3572-9CE9-41B5-84A5-FA983DA8B27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1780-8EB1-4044-9ACD-BCF8F2ECA6F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E28D-DB91-4337-A1EF-EE008DCB9D4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4744-446C-4352-AA5D-D9010E6E033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dd2067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2961b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61b0"/>
                </a:solidFill>
                <a:latin typeface="Arial"/>
              </a:rPr>
              <a:t>Materials with low specifi heat are easier to change their temperatur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6837-19AF-48B8-B859-5A81F9126B9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and the potential energy of the reactants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54160" y="3428640"/>
            <a:ext cx="57276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32F6-3A53-49D9-B7A2-43C6D598E1D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CFFC-B11D-43A8-8EFE-9DC4FB5F009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3335-BB93-403D-8B81-71F66C270BD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BEE9-69D5-48EC-8E0C-D400B04FEAE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C4ED-5E37-4BA9-B0DE-B43E2C12966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8267400" cy="3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sexton</cp:lastModifiedBy>
  <dcterms:modified xsi:type="dcterms:W3CDTF">2014-01-03T15:21:19Z</dcterms:modified>
  <cp:revision>2</cp:revision>
  <dc:subject/>
  <dc:title>Thermochemistry</dc:title>
</cp:coreProperties>
</file>