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CHIMP_OR.WAV" ContentType="audio/x-wav"/>
  <Override PartName="/ppt/media/image9.png" ContentType="image/png"/>
  <Override PartName="/ppt/media/image8.png" ContentType="image/png"/>
  <Override PartName="/ppt/media/image7.wmf" ContentType="image/x-wmf"/>
  <Override PartName="/ppt/media/image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2.gif" ContentType="image/gif"/>
  <Override PartName="/ppt/media/image5.wmf" ContentType="image/x-wmf"/>
  <Override PartName="/ppt/media/bomb.wav" ContentType="audio/x-wav"/>
  <Override PartName="/ppt/media/image10.wmf" ContentType="image/x-wmf"/>
  <Override PartName="/ppt/media/image11.wmf" ContentType="image/x-wmf"/>
  <Override PartName="/ppt/media/image3.png" ContentType="image/png"/>
  <Override PartName="/ppt/media/type.wav" ContentType="audio/x-wav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  <p:sldId id="379" r:id="rId131"/>
    <p:sldId id="380" r:id="rId132"/>
    <p:sldId id="381" r:id="rId133"/>
    <p:sldId id="382" r:id="rId134"/>
    <p:sldId id="383" r:id="rId135"/>
    <p:sldId id="384" r:id="rId136"/>
    <p:sldId id="385" r:id="rId137"/>
    <p:sldId id="386" r:id="rId138"/>
    <p:sldId id="387" r:id="rId139"/>
    <p:sldId id="388" r:id="rId140"/>
    <p:sldId id="389" r:id="rId141"/>
    <p:sldId id="390" r:id="rId142"/>
    <p:sldId id="391" r:id="rId143"/>
    <p:sldId id="392" r:id="rId144"/>
    <p:sldId id="393" r:id="rId145"/>
    <p:sldId id="394" r:id="rId146"/>
    <p:sldId id="395" r:id="rId147"/>
    <p:sldId id="396" r:id="rId148"/>
    <p:sldId id="397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slide" Target="slides/slide124.xml"/><Relationship Id="rId132" Type="http://schemas.openxmlformats.org/officeDocument/2006/relationships/slide" Target="slides/slide125.xml"/><Relationship Id="rId133" Type="http://schemas.openxmlformats.org/officeDocument/2006/relationships/slide" Target="slides/slide126.xml"/><Relationship Id="rId134" Type="http://schemas.openxmlformats.org/officeDocument/2006/relationships/slide" Target="slides/slide127.xml"/><Relationship Id="rId135" Type="http://schemas.openxmlformats.org/officeDocument/2006/relationships/slide" Target="slides/slide128.xml"/><Relationship Id="rId136" Type="http://schemas.openxmlformats.org/officeDocument/2006/relationships/slide" Target="slides/slide129.xml"/><Relationship Id="rId137" Type="http://schemas.openxmlformats.org/officeDocument/2006/relationships/slide" Target="slides/slide130.xml"/><Relationship Id="rId138" Type="http://schemas.openxmlformats.org/officeDocument/2006/relationships/slide" Target="slides/slide131.xml"/><Relationship Id="rId139" Type="http://schemas.openxmlformats.org/officeDocument/2006/relationships/slide" Target="slides/slide132.xml"/><Relationship Id="rId140" Type="http://schemas.openxmlformats.org/officeDocument/2006/relationships/slide" Target="slides/slide133.xml"/><Relationship Id="rId141" Type="http://schemas.openxmlformats.org/officeDocument/2006/relationships/slide" Target="slides/slide134.xml"/><Relationship Id="rId142" Type="http://schemas.openxmlformats.org/officeDocument/2006/relationships/slide" Target="slides/slide135.xml"/><Relationship Id="rId143" Type="http://schemas.openxmlformats.org/officeDocument/2006/relationships/slide" Target="slides/slide136.xml"/><Relationship Id="rId144" Type="http://schemas.openxmlformats.org/officeDocument/2006/relationships/slide" Target="slides/slide137.xml"/><Relationship Id="rId145" Type="http://schemas.openxmlformats.org/officeDocument/2006/relationships/slide" Target="slides/slide138.xml"/><Relationship Id="rId146" Type="http://schemas.openxmlformats.org/officeDocument/2006/relationships/slide" Target="slides/slide139.xml"/><Relationship Id="rId147" Type="http://schemas.openxmlformats.org/officeDocument/2006/relationships/slide" Target="slides/slide140.xml"/><Relationship Id="rId148" Type="http://schemas.openxmlformats.org/officeDocument/2006/relationships/slide" Target="slides/slide141.xml"/><Relationship Id="rId149" Type="http://schemas.openxmlformats.org/officeDocument/2006/relationships/slide" Target="slides/slide142.xml"/><Relationship Id="rId1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77F1-1225-4225-90F9-3476FDF722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C3A7-305C-44AF-A908-46E2F4BD3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DA14-F3D4-4983-AA6D-D0E828049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5F15-26B3-495E-8F8D-DD4D6B5F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52B-D3C8-443A-B39C-C32C7A32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975-80B3-4C51-80DB-3D5E18B3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811-75F1-47EE-8BB4-56017356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B65-6C3D-406E-AA94-5CD4311E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76FF-8E33-489B-A7E8-DCC4055AF7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C9B38-9111-41A0-8384-ABE3C26AB0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0DF1D-70AE-46C8-BBEA-E3AA89A7C8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77D9A-A11F-4E45-A29E-9DA05A9095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DF7BE-6259-4605-BF38-CAE12F4CDB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C2BBC-6625-4263-A63C-C2FD9999CE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01201-D641-437C-A721-C84DAD7F2B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46C-EE86-4A96-A56A-D39C7A83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850DB-B625-475F-A9F3-A79967A70D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3C34B-704A-45E3-BB96-A438656E0B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83767-3BB8-432E-AC3F-C5F396739E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B4028-975F-413E-80D5-D694717ABD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4B744-00DC-4C24-8F0D-D90A39C578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06FC7-1781-4EF0-9D4C-3CA19341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F433F-4079-4193-AD3A-D381DB9F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D2D8B-B8EB-4CBA-8CE6-F0752272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519FC-F230-412C-92F9-6FD62B08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8DD5F-0757-463A-A0BC-C845909F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F0C-BC77-4354-9A16-D01CCE81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5504A-1E58-4255-A483-F391F36B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652BE-1146-433C-BF98-12C09E61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BC7FE-2B17-4282-8DE5-D47C85CE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7B2FF-3277-483D-87D0-947FEC00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53396-9FEF-4258-B2B1-AC0D6B95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45B9A-25B6-46DF-A999-F698B00F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A086E-12BE-48E7-A10B-162CAE72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EEAE6-2948-4D40-BEE1-B966A0B6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179CA-1D44-43A0-B412-546F8879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87547-9A7A-4109-BC21-7A0BAF9D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820-B845-4AED-B02C-80C5E821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93126-FC9C-4819-BF9D-407E4569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A8E1A-97E1-4D49-AE28-BA5E6DD7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F2279-C1EB-43B9-A0BE-AA5AB83B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A1BB5-026F-47CA-BFF7-8C2D4A6B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5B5AC-81A2-49F9-B8ED-FA40FE11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1D6B1-7770-4BA3-A0A5-8E38D720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70B7D-7C95-4635-BA80-FF803F55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956CA-6836-45B3-9C18-CCD27C92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72532-40E8-4AA5-B2E4-88CCC828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782-38D0-403E-BD5C-2B23846E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409-5531-4EB8-96F8-173E4AF1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05B-EAFA-4369-9375-2EF57031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51A-2920-4D11-A70A-07DA623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5A4-484D-49E5-B1D5-0AB7A862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F181-8702-48D4-AF39-75AC7A3A9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609480" y="6324120"/>
            <a:ext cx="2743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Houghton Mifflin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3428640" y="6324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-</a:t>
            </a:r>
            <a:fld id="{03A2A2E7-4F8D-423E-8F30-A1C97CFF1F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8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911F-7073-4712-BDEC-ADEBB6EFA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A9493A58-916C-43EA-8D43-B66F65E70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6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CHIMP_OR.WAV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868320" y="61920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11120" y="160956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Formu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channel"/>
          <p:cNvPicPr/>
          <p:nvPr/>
        </p:nvPicPr>
        <p:blipFill>
          <a:blip r:embed="rId1"/>
          <a:stretch/>
        </p:blipFill>
        <p:spPr>
          <a:xfrm>
            <a:off x="5211720" y="1457280"/>
            <a:ext cx="3048120" cy="2133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868320" y="3591000"/>
            <a:ext cx="786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art cell rhythm depends on the opening and closing of a complex series of valves on the cell membrane, call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90000"/>
                </a:solidFill>
                <a:latin typeface="Comic Sans MS"/>
                <a:ea typeface="Arial"/>
              </a:rPr>
              <a:t>ion channel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ome valves let certain ions like potassium (K+) flow out, others let different ions like sodium (Na+) flow in.  There are also pumps that actively move ions one direction or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76212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9" descr="periodic"/>
          <p:cNvPicPr/>
          <p:nvPr/>
        </p:nvPicPr>
        <p:blipFill>
          <a:blip r:embed="rId1"/>
          <a:stretch/>
        </p:blipFill>
        <p:spPr>
          <a:xfrm>
            <a:off x="53352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504252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4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6095880" y="1814400"/>
            <a:ext cx="4572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or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 electr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457200" y="1357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ither!</a:t>
            </a: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oup 14 elements rarely form ions.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324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4225320" y="2895480"/>
            <a:ext cx="79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787400" y="457200"/>
            <a:ext cx="55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Phospho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1202760" y="5638680"/>
            <a:ext cx="72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P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2012040" y="571500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221076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1762200" y="5638680"/>
            <a:ext cx="57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8381880" y="198108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5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Divide by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030"/>
          <p:cNvSpPr/>
          <p:nvPr/>
        </p:nvSpPr>
        <p:spPr>
          <a:xfrm>
            <a:off x="2362320" y="4876920"/>
            <a:ext cx="761760" cy="53316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    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+3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5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2"/>
          <p:cNvSpPr/>
          <p:nvPr/>
        </p:nvSpPr>
        <p:spPr>
          <a:xfrm>
            <a:off x="6058080" y="1890720"/>
            <a:ext cx="83808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842840" y="129528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925280" y="1814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701720" y="22716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66675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620080" y="128124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540880" y="18144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hosph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98480" y="22716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rs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OH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4 -4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-2  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8 +4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1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18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4190040" y="2895480"/>
            <a:ext cx="73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2490120" y="45720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1242720" y="5638680"/>
            <a:ext cx="71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2204280" y="5715000"/>
            <a:ext cx="49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1878480" y="5638680"/>
            <a:ext cx="57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8620200" y="19810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6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70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026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0" y="1981080"/>
            <a:ext cx="9144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/>
          <p:cNvSpPr/>
          <p:nvPr/>
        </p:nvSpPr>
        <p:spPr>
          <a:xfrm>
            <a:off x="0" y="1981080"/>
            <a:ext cx="914400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Water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OH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6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6058080" y="1890720"/>
            <a:ext cx="129528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487692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843560" y="12952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967760" y="181440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1715760" y="227160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71247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616480" y="128124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2625840" y="18144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602800" y="22716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l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026"/>
          <p:cNvSpPr/>
          <p:nvPr/>
        </p:nvSpPr>
        <p:spPr>
          <a:xfrm>
            <a:off x="79200" y="95400"/>
            <a:ext cx="88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ll of th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27"/>
          <p:cNvSpPr/>
          <p:nvPr/>
        </p:nvSpPr>
        <p:spPr>
          <a:xfrm>
            <a:off x="255600" y="93348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028"/>
          <p:cNvSpPr/>
          <p:nvPr/>
        </p:nvSpPr>
        <p:spPr>
          <a:xfrm>
            <a:off x="1668960" y="93348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29"/>
          <p:cNvSpPr/>
          <p:nvPr/>
        </p:nvSpPr>
        <p:spPr>
          <a:xfrm>
            <a:off x="3286800" y="94464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030"/>
          <p:cNvSpPr/>
          <p:nvPr/>
        </p:nvSpPr>
        <p:spPr>
          <a:xfrm>
            <a:off x="226080" y="1619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031"/>
          <p:cNvSpPr/>
          <p:nvPr/>
        </p:nvSpPr>
        <p:spPr>
          <a:xfrm>
            <a:off x="1639800" y="161928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032"/>
          <p:cNvSpPr/>
          <p:nvPr/>
        </p:nvSpPr>
        <p:spPr>
          <a:xfrm>
            <a:off x="3355200" y="16304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033"/>
          <p:cNvSpPr/>
          <p:nvPr/>
        </p:nvSpPr>
        <p:spPr>
          <a:xfrm>
            <a:off x="232560" y="236232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034"/>
          <p:cNvSpPr/>
          <p:nvPr/>
        </p:nvSpPr>
        <p:spPr>
          <a:xfrm>
            <a:off x="1646280" y="236232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035"/>
          <p:cNvSpPr/>
          <p:nvPr/>
        </p:nvSpPr>
        <p:spPr>
          <a:xfrm>
            <a:off x="3297960" y="237348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36"/>
          <p:cNvSpPr/>
          <p:nvPr/>
        </p:nvSpPr>
        <p:spPr>
          <a:xfrm>
            <a:off x="-30600" y="396252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037"/>
          <p:cNvSpPr/>
          <p:nvPr/>
        </p:nvSpPr>
        <p:spPr>
          <a:xfrm>
            <a:off x="1574640" y="396252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38"/>
          <p:cNvSpPr/>
          <p:nvPr/>
        </p:nvSpPr>
        <p:spPr>
          <a:xfrm>
            <a:off x="3286800" y="39736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039"/>
          <p:cNvSpPr/>
          <p:nvPr/>
        </p:nvSpPr>
        <p:spPr>
          <a:xfrm>
            <a:off x="4887000" y="236232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040"/>
          <p:cNvSpPr/>
          <p:nvPr/>
        </p:nvSpPr>
        <p:spPr>
          <a:xfrm>
            <a:off x="241812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41"/>
          <p:cNvSpPr/>
          <p:nvPr/>
        </p:nvSpPr>
        <p:spPr>
          <a:xfrm>
            <a:off x="4022640" y="944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42"/>
          <p:cNvSpPr/>
          <p:nvPr/>
        </p:nvSpPr>
        <p:spPr>
          <a:xfrm>
            <a:off x="26640" y="312408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043"/>
          <p:cNvSpPr/>
          <p:nvPr/>
        </p:nvSpPr>
        <p:spPr>
          <a:xfrm>
            <a:off x="1701360" y="31240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044"/>
          <p:cNvSpPr/>
          <p:nvPr/>
        </p:nvSpPr>
        <p:spPr>
          <a:xfrm>
            <a:off x="3286800" y="31240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045"/>
          <p:cNvSpPr/>
          <p:nvPr/>
        </p:nvSpPr>
        <p:spPr>
          <a:xfrm>
            <a:off x="403992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046"/>
          <p:cNvSpPr/>
          <p:nvPr/>
        </p:nvSpPr>
        <p:spPr>
          <a:xfrm>
            <a:off x="2341800" y="16304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047"/>
          <p:cNvSpPr/>
          <p:nvPr/>
        </p:nvSpPr>
        <p:spPr>
          <a:xfrm>
            <a:off x="241812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048"/>
          <p:cNvSpPr/>
          <p:nvPr/>
        </p:nvSpPr>
        <p:spPr>
          <a:xfrm>
            <a:off x="5705280" y="23623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049"/>
          <p:cNvSpPr/>
          <p:nvPr/>
        </p:nvSpPr>
        <p:spPr>
          <a:xfrm>
            <a:off x="402444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050"/>
          <p:cNvSpPr/>
          <p:nvPr/>
        </p:nvSpPr>
        <p:spPr>
          <a:xfrm>
            <a:off x="4039920" y="39625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51"/>
          <p:cNvSpPr/>
          <p:nvPr/>
        </p:nvSpPr>
        <p:spPr>
          <a:xfrm>
            <a:off x="4039920" y="31240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052"/>
          <p:cNvSpPr/>
          <p:nvPr/>
        </p:nvSpPr>
        <p:spPr>
          <a:xfrm>
            <a:off x="2646720" y="31240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53"/>
          <p:cNvSpPr/>
          <p:nvPr/>
        </p:nvSpPr>
        <p:spPr>
          <a:xfrm>
            <a:off x="2511720" y="39625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5" dur="indefinite" restart="never" nodeType="tmRoot">
          <p:childTnLst>
            <p:seq>
              <p:cTn id="2666" dur="indefinite" nodeType="mainSeq">
                <p:childTnLst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2"/>
          <p:cNvSpPr/>
          <p:nvPr/>
        </p:nvSpPr>
        <p:spPr>
          <a:xfrm>
            <a:off x="-427680" y="95400"/>
            <a:ext cx="100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ighligh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63800" y="93348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O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284040" y="1619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"/>
          <p:cNvSpPr/>
          <p:nvPr/>
        </p:nvSpPr>
        <p:spPr>
          <a:xfrm>
            <a:off x="210240" y="23623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29680" y="304812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5"/>
          <p:cNvSpPr/>
          <p:nvPr/>
        </p:nvSpPr>
        <p:spPr>
          <a:xfrm>
            <a:off x="166248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74276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66248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3"/>
          <p:cNvSpPr/>
          <p:nvPr/>
        </p:nvSpPr>
        <p:spPr>
          <a:xfrm>
            <a:off x="1660320" y="3048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3424320" y="944640"/>
            <a:ext cx="47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hosphorous pent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3571560" y="163044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hyd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9"/>
          <p:cNvSpPr/>
          <p:nvPr/>
        </p:nvSpPr>
        <p:spPr>
          <a:xfrm>
            <a:off x="3717360" y="236232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0"/>
          <p:cNvSpPr/>
          <p:nvPr/>
        </p:nvSpPr>
        <p:spPr>
          <a:xfrm>
            <a:off x="3654000" y="30481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ium 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5" dur="indefinite" restart="never" nodeType="tmRoot">
          <p:childTnLst>
            <p:seq>
              <p:cTn id="2776" dur="indefinite" nodeType="mainSeq">
                <p:childTnLst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4109040" y="2895480"/>
            <a:ext cx="10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2250360" y="45720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1215360" y="56386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C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2024280" y="563868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205812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1850760" y="5638680"/>
            <a:ext cx="58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8458200" y="19810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4124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3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34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7"/>
          <p:cNvSpPr/>
          <p:nvPr/>
        </p:nvSpPr>
        <p:spPr>
          <a:xfrm>
            <a:off x="87624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6" descr="periodic"/>
          <p:cNvPicPr/>
          <p:nvPr/>
        </p:nvPicPr>
        <p:blipFill>
          <a:blip r:embed="rId1"/>
          <a:stretch/>
        </p:blipFill>
        <p:spPr>
          <a:xfrm>
            <a:off x="64764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5"/>
          <p:cNvSpPr/>
          <p:nvPr/>
        </p:nvSpPr>
        <p:spPr>
          <a:xfrm>
            <a:off x="515664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7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6210360" y="1890720"/>
            <a:ext cx="18288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502920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7440" y="12812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2760" y="196704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2760120" y="128124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7734240" y="3490920"/>
            <a:ext cx="38124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912240" y="12812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909720" y="1967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3405240" y="1281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2790360" y="19670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379680" y="19670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od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9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7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8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6058080" y="1890720"/>
            <a:ext cx="20574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495288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able Noble gas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do 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orm 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7962840" y="303372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2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1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80880" y="1219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n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more than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830880" y="22716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3585240" y="22716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3703680" y="41767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3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1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0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380880" y="1219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only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743040" y="22716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inc = Z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3460320" y="22716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lver = A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5456160" y="42530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4998960" y="47102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5533920" y="228600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dmium = C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6"/>
          <p:cNvSpPr/>
          <p:nvPr/>
        </p:nvSpPr>
        <p:spPr>
          <a:xfrm>
            <a:off x="5410080" y="46483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ments combine to form bo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alent Bond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sha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two non-met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onic Bo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transfer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a metal and a non-metal or polyatomic 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sodium chlo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616680" y="6019920"/>
            <a:ext cx="78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ystems of naming depending on the type of bond…BE CAREFU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Content Placeholder 3" descr="ion cartoon.bmp"/>
          <p:cNvPicPr/>
          <p:nvPr/>
        </p:nvPicPr>
        <p:blipFill>
          <a:blip r:embed="rId1"/>
          <a:stretch/>
        </p:blipFill>
        <p:spPr>
          <a:xfrm>
            <a:off x="1600200" y="304920"/>
            <a:ext cx="5815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6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5"/>
          <p:cNvSpPr/>
          <p:nvPr/>
        </p:nvSpPr>
        <p:spPr>
          <a:xfrm>
            <a:off x="167400" y="8380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rium 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5114160" y="320184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6766200" y="3216240"/>
            <a:ext cx="1363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0"/>
          <p:cNvSpPr/>
          <p:nvPr/>
        </p:nvSpPr>
        <p:spPr>
          <a:xfrm flipV="1">
            <a:off x="61308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81882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6207120" y="411624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6435720" y="3125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8503560" y="35067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0"/>
          <p:cNvSpPr/>
          <p:nvPr/>
        </p:nvSpPr>
        <p:spPr>
          <a:xfrm>
            <a:off x="5921640" y="3170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8002440" y="28195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5427720" y="3200400"/>
            <a:ext cx="2933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Ba(NO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93960" y="838080"/>
            <a:ext cx="456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mmonium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5279760" y="3125880"/>
            <a:ext cx="1344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H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7152120" y="3125880"/>
            <a:ext cx="1203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2"/>
          <p:cNvSpPr/>
          <p:nvPr/>
        </p:nvSpPr>
        <p:spPr>
          <a:xfrm flipV="1">
            <a:off x="85312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6550200" y="44974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4873680" y="304956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6865200" y="3583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6376680" y="2895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8178840" y="29718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5364720" y="3048120"/>
            <a:ext cx="35564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310320" y="838080"/>
            <a:ext cx="42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on (I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5648400" y="3124080"/>
            <a:ext cx="8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844680" y="312408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7642800" y="297180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5918400" y="3124080"/>
            <a:ext cx="19378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FeC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800600" y="762120"/>
            <a:ext cx="41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mes ending in –id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usually, but not always,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epresent an element from the periodic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05840" y="838080"/>
            <a:ext cx="43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uminum 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643360" y="3124080"/>
            <a:ext cx="78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6903360" y="3124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7648200" y="30211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6096960" y="3200400"/>
            <a:ext cx="17902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A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65635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89280" y="838080"/>
            <a:ext cx="50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gnesium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228600" y="2743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5428800" y="36957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g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7081560" y="3695760"/>
            <a:ext cx="157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65912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2"/>
          <p:cNvSpPr/>
          <p:nvPr/>
        </p:nvSpPr>
        <p:spPr>
          <a:xfrm flipV="1">
            <a:off x="84200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5981760" y="4991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a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5698080" y="3581280"/>
            <a:ext cx="26726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gC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1219320"/>
            <a:ext cx="3962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1-4 refer to the following generic chemical formul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190760" y="10666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of the above represents the chemical formula when A and B are combin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Be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B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mmonium 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6"/>
          <p:cNvSpPr/>
          <p:nvPr/>
        </p:nvSpPr>
        <p:spPr>
          <a:xfrm>
            <a:off x="838080" y="723960"/>
            <a:ext cx="74678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304920" y="140976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tion first, then an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 Monatomic cation = name of th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= calc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  Monatomic anion   =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-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  calcium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685800" y="5791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.  For  polyatomic ions, use the name of that polyatomic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9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gnesium Chlor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lver 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rontium Sulf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mmon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Hypochlor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5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5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0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609480" y="876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457200" y="270504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 metal forms more than 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tion</a:t>
            </a:r>
            <a:r>
              <a:rPr b="1" lang="en-US" sz="28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oman numeral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c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=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ad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66680" y="2095560"/>
            <a:ext cx="6872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tals with multiple oxidatio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6" dur="indefinite" restart="never" nodeType="tmRoot">
          <p:childTnLst>
            <p:seq>
              <p:cTn id="1927" dur="indefinite" nodeType="mainSeq">
                <p:childTnLst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09480" y="533520"/>
            <a:ext cx="22100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at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positive 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g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N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negative 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S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onic Bonding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rce of attraction between oppositely charged 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o we know that lead was +2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3929400" y="205740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b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582200" y="380988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chlorine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4643640" y="282888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067760" y="4343400"/>
            <a:ext cx="709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chlorine ions does Pb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5115600" y="243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941400" y="48769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chlorine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46483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649440" y="5410080"/>
            <a:ext cx="826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ounds are neutral, so what must the charge  of lead be in order to balance the -2 charge of chlor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39625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6"/>
          <p:cNvSpPr/>
          <p:nvPr/>
        </p:nvSpPr>
        <p:spPr>
          <a:xfrm>
            <a:off x="4648320" y="1523880"/>
            <a:ext cx="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lead is +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8"/>
          <p:cNvSpPr/>
          <p:nvPr/>
        </p:nvSpPr>
        <p:spPr>
          <a:xfrm flipV="1">
            <a:off x="3200400" y="1980720"/>
            <a:ext cx="762120" cy="228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79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t’s try Fe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651680" y="380988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oxygen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121040" y="4343400"/>
            <a:ext cx="69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oxygen ions does 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010880" y="4876920"/>
            <a:ext cx="73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oxygen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649440" y="5410080"/>
            <a:ext cx="826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must the charge  of iron be in order to balance the -6 charge of the oxyg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3886200" y="19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806720" y="19810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4572000" y="243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5189040" y="243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4899240" y="2819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4899240" y="1600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4876920" y="152388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4032360" y="1600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8"/>
          <p:cNvSpPr/>
          <p:nvPr/>
        </p:nvSpPr>
        <p:spPr>
          <a:xfrm>
            <a:off x="40323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9"/>
          <p:cNvSpPr/>
          <p:nvPr/>
        </p:nvSpPr>
        <p:spPr>
          <a:xfrm>
            <a:off x="5870880" y="21337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r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I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iron is +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1"/>
          <p:cNvSpPr/>
          <p:nvPr/>
        </p:nvSpPr>
        <p:spPr>
          <a:xfrm>
            <a:off x="3200400" y="2209680"/>
            <a:ext cx="83808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55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6" dur="1" fill="hold">
                                    <p:stCondLst>
                                      <p:cond evt="end">
                                        <p:tn val="2054"/>
                                      </p:cond>
                                    </p:stCondLst>
                                  </p:cTn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89" dur="indefinite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0" dur="1" fill="hold">
                                    <p:stCondLst>
                                      <p:cond evt="end">
                                        <p:tn val="2088"/>
                                      </p:cond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u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e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(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pper II Ox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balt III Fluo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Iod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ron II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9" dur="10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0" dur="1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4"/>
          <p:cNvSpPr/>
          <p:nvPr/>
        </p:nvSpPr>
        <p:spPr>
          <a:xfrm>
            <a:off x="609480" y="609480"/>
            <a:ext cx="7772400" cy="102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Binary Covalent Compound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304920" y="171468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ounds between tw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onmeta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First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the formula 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amed firs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econd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 named as if it were a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an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se prefi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ly u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mon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second element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4"/>
          <p:cNvSpPr/>
          <p:nvPr/>
        </p:nvSpPr>
        <p:spPr>
          <a:xfrm>
            <a:off x="914400" y="3048120"/>
            <a:ext cx="1981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550520" y="4038480"/>
            <a:ext cx="148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1609920" y="472428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1554840" y="5410080"/>
            <a:ext cx="156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2519280" y="289548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hosphoru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pen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3117240" y="4038480"/>
            <a:ext cx="35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2958120" y="4724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2980080" y="5302080"/>
            <a:ext cx="49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itrog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2334960" y="609480"/>
            <a:ext cx="176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– 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 –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 – 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 – t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 - p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4996800" y="609480"/>
            <a:ext cx="178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6 – he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7 – he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8 – o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 – 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 – d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372600" cy="6858000"/>
          </a:xfrm>
          <a:prstGeom prst="rect">
            <a:avLst/>
          </a:prstGeom>
          <a:ln w="38160">
            <a:solidFill>
              <a:srgbClr val="bc0024"/>
            </a:solidFill>
            <a:miter/>
          </a:ln>
        </p:spPr>
      </p:pic>
      <p:sp>
        <p:nvSpPr>
          <p:cNvPr id="658" name="Rectangle 3"/>
          <p:cNvSpPr/>
          <p:nvPr/>
        </p:nvSpPr>
        <p:spPr>
          <a:xfrm>
            <a:off x="1143000" y="609480"/>
            <a:ext cx="7010280" cy="563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Pause for a Cause #4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Write the formula of the following compound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WRITE WHAT YOU SEE DO NOT CHECK OXIDATION STATE!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143000" y="1828800"/>
            <a:ext cx="7010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sphorus Penta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Tetraflu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trogen Pent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traphosphorous Dec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Mon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9" dur="indefinite" restart="never" nodeType="tmRoot">
          <p:childTnLst>
            <p:seq>
              <p:cTn id="2240" dur="indefinite" nodeType="mainSeq">
                <p:childTnLst>
                  <p:par>
                    <p:cTn id="2241" fill="hold">
                      <p:stCondLst>
                        <p:cond delay="0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tomic 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elements exist in nature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tom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cu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are most commonly joined to another element and not found alone in nature. Why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s that form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ulas usually begin with ‘H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hydrochlo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it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sulfu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7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85800" y="2895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8580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 Flow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5" name="Object 3"/>
          <p:cNvGraphicFramePr/>
          <p:nvPr/>
        </p:nvGraphicFramePr>
        <p:xfrm>
          <a:off x="1876320" y="1523880"/>
          <a:ext cx="533268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1523880"/>
                    <a:ext cx="53326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3805560" y="2895480"/>
            <a:ext cx="152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1140120" y="563868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Na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2025360" y="5638680"/>
            <a:ext cx="52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2321640" y="45720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1775520" y="5638680"/>
            <a:ext cx="60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212760" y="198108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prot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574128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0" y="182880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555336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0" y="198108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’s the net charge on 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740952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74527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3"/>
          <p:cNvSpPr/>
          <p:nvPr/>
        </p:nvSpPr>
        <p:spPr>
          <a:xfrm>
            <a:off x="8229600" y="1905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838944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0" y="190512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w, 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557784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74995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8275320" y="198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4419720" y="1143000"/>
            <a:ext cx="4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433440" y="2590920"/>
            <a:ext cx="42274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,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433440" y="4037040"/>
            <a:ext cx="83516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433440" y="5477040"/>
            <a:ext cx="45655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4529160" y="2583000"/>
            <a:ext cx="4233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527720" y="4038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527720" y="5465880"/>
            <a:ext cx="38113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3" dur="indefinite" restart="never" nodeType="tmRoot">
          <p:childTnLst>
            <p:seq>
              <p:cTn id="2294" dur="indefinite" nodeType="mainSeq">
                <p:childTnLst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33440" y="2590920"/>
            <a:ext cx="30607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433440" y="4037040"/>
            <a:ext cx="41720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433440" y="5477040"/>
            <a:ext cx="4164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6840360" y="2590920"/>
            <a:ext cx="1990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6838920" y="4038480"/>
            <a:ext cx="2305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6838920" y="5467320"/>
            <a:ext cx="22608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4356000" y="2590920"/>
            <a:ext cx="2325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4354560" y="4038480"/>
            <a:ext cx="26924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4354560" y="5467320"/>
            <a:ext cx="2641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‘E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66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7" dur="4272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Formul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962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brom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tell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Text Box 2" descr=""/>
          <p:cNvPicPr/>
          <p:nvPr/>
        </p:nvPicPr>
        <p:blipFill>
          <a:blip r:embed="rId1"/>
          <a:stretch/>
        </p:blipFill>
        <p:spPr>
          <a:xfrm>
            <a:off x="-73080" y="225360"/>
            <a:ext cx="9290160" cy="107964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3"/>
          <p:cNvSpPr/>
          <p:nvPr/>
        </p:nvSpPr>
        <p:spPr>
          <a:xfrm>
            <a:off x="0" y="990720"/>
            <a:ext cx="8961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ydrocarb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olecules that possess hydrogen and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nes – hydrocarbons with only C-C sing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11"/>
          <p:cNvSpPr/>
          <p:nvPr/>
        </p:nvSpPr>
        <p:spPr>
          <a:xfrm>
            <a:off x="457200" y="2133720"/>
            <a:ext cx="80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a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6"/>
          <p:cNvSpPr/>
          <p:nvPr/>
        </p:nvSpPr>
        <p:spPr>
          <a:xfrm>
            <a:off x="533520" y="2743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enes – hydrocarbons with  C=C doub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7"/>
          <p:cNvSpPr/>
          <p:nvPr/>
        </p:nvSpPr>
        <p:spPr>
          <a:xfrm>
            <a:off x="643680" y="3352680"/>
            <a:ext cx="808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e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=CH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533520" y="3962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ynes – hydrocarbons with C     C trip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753840" y="4572000"/>
            <a:ext cx="772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yne 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     C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"/>
          <p:cNvSpPr/>
          <p:nvPr/>
        </p:nvSpPr>
        <p:spPr>
          <a:xfrm>
            <a:off x="572760" y="5181480"/>
            <a:ext cx="797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s – R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(-OH is hydroxyl group, NOT hydr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8"/>
          <p:cNvGrpSpPr/>
          <p:nvPr/>
        </p:nvGrpSpPr>
        <p:grpSpPr>
          <a:xfrm>
            <a:off x="4419720" y="4724280"/>
            <a:ext cx="380880" cy="152640"/>
            <a:chOff x="4419720" y="4724280"/>
            <a:chExt cx="380880" cy="152640"/>
          </a:xfrm>
        </p:grpSpPr>
        <p:sp>
          <p:nvSpPr>
            <p:cNvPr id="710" name="Straight Connector 22"/>
            <p:cNvSpPr/>
            <p:nvPr/>
          </p:nvSpPr>
          <p:spPr>
            <a:xfrm>
              <a:off x="4419720" y="47242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traight Connector 23"/>
            <p:cNvSpPr/>
            <p:nvPr/>
          </p:nvSpPr>
          <p:spPr>
            <a:xfrm>
              <a:off x="4419720" y="4800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traight Connector 24"/>
            <p:cNvSpPr/>
            <p:nvPr/>
          </p:nvSpPr>
          <p:spPr>
            <a:xfrm>
              <a:off x="4419720" y="48754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9"/>
          <p:cNvGrpSpPr/>
          <p:nvPr/>
        </p:nvGrpSpPr>
        <p:grpSpPr>
          <a:xfrm>
            <a:off x="4800600" y="4114800"/>
            <a:ext cx="380880" cy="152280"/>
            <a:chOff x="4800600" y="4114800"/>
            <a:chExt cx="380880" cy="152280"/>
          </a:xfrm>
        </p:grpSpPr>
        <p:sp>
          <p:nvSpPr>
            <p:cNvPr id="714" name="Straight Connector 30"/>
            <p:cNvSpPr/>
            <p:nvPr/>
          </p:nvSpPr>
          <p:spPr>
            <a:xfrm>
              <a:off x="4800600" y="41148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31"/>
            <p:cNvSpPr/>
            <p:nvPr/>
          </p:nvSpPr>
          <p:spPr>
            <a:xfrm>
              <a:off x="4800600" y="41907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32"/>
            <p:cNvSpPr/>
            <p:nvPr/>
          </p:nvSpPr>
          <p:spPr>
            <a:xfrm>
              <a:off x="4800600" y="4265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8" dur="indefinite" restart="never" nodeType="tmRoot">
          <p:childTnLst>
            <p:seq>
              <p:cTn id="2379" dur="indefinite" nodeType="mainSeq">
                <p:childTnLst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9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9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4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ming of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ydrocarbon names are based on: 1) type,       2) # of carbons, 3) side chain type and pos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) name will end in -ane, -ene, or -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) the number of carbons is given by a “prefix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 meth-   2 eth-     3 prop-   4 but-    5 pent-      6 hex-     7 hept-   8 oct-     9 non-   10 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ctually, all end in a, but a is dropped when next to a vowel.  E.g. a 6 C alkene is 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What names would be given to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7C, 9C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C, 4C alk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C, 3C alk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3429000" y="5105520"/>
            <a:ext cx="5715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ptane, non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yne, but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methene, prop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>
            <a:off x="3492360" y="6453360"/>
            <a:ext cx="158436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7" dur="5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9" dur="50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1" dur="50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3" dur="50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5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0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emonic for First Fou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First four prefi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p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3"/>
          <p:cNvGrpSpPr/>
          <p:nvPr/>
        </p:nvGrpSpPr>
        <p:grpSpPr>
          <a:xfrm>
            <a:off x="228600" y="1752480"/>
            <a:ext cx="8915400" cy="4552920"/>
            <a:chOff x="228600" y="1752480"/>
            <a:chExt cx="8915400" cy="4552920"/>
          </a:xfrm>
        </p:grpSpPr>
        <p:graphicFrame>
          <p:nvGraphicFramePr>
            <p:cNvPr id="724" name="Object 2"/>
            <p:cNvGraphicFramePr/>
            <p:nvPr/>
          </p:nvGraphicFramePr>
          <p:xfrm>
            <a:off x="228600" y="1752480"/>
            <a:ext cx="3438360" cy="455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343836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6" name="Rectangle 11"/>
            <p:cNvSpPr/>
            <p:nvPr/>
          </p:nvSpPr>
          <p:spPr>
            <a:xfrm>
              <a:off x="388620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0804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2"/>
            <p:cNvSpPr/>
            <p:nvPr/>
          </p:nvSpPr>
          <p:spPr>
            <a:xfrm>
              <a:off x="419112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M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onkey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E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P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ee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B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nan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0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6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2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8" dur="500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P_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67160" cy="36496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4"/>
          <p:cNvSpPr/>
          <p:nvPr/>
        </p:nvSpPr>
        <p:spPr>
          <a:xfrm>
            <a:off x="304920" y="2286000"/>
            <a:ext cx="335268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380880" y="2590920"/>
            <a:ext cx="3353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thal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962520" y="2362320"/>
            <a:ext cx="495288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3962520" y="307332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c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3962520" y="3784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e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3962520" y="4495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x-, Hept-, N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1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1244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4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c Compounds Containing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lcoh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mpound obtained by substituting a hydroxyl group (-OH) for an –H atom on a carbon atom of a hydrocarbon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Group 4"/>
          <p:cNvGrpSpPr/>
          <p:nvPr/>
        </p:nvGrpSpPr>
        <p:grpSpPr>
          <a:xfrm>
            <a:off x="609480" y="3887640"/>
            <a:ext cx="8096400" cy="4113360"/>
            <a:chOff x="609480" y="3887640"/>
            <a:chExt cx="8096400" cy="4113360"/>
          </a:xfrm>
        </p:grpSpPr>
        <p:sp>
          <p:nvSpPr>
            <p:cNvPr id="740" name="Rectangle 5"/>
            <p:cNvSpPr/>
            <p:nvPr/>
          </p:nvSpPr>
          <p:spPr>
            <a:xfrm>
              <a:off x="609480" y="3887640"/>
              <a:ext cx="776952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 examples a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1" name="Object 2"/>
            <p:cNvGraphicFramePr/>
            <p:nvPr/>
          </p:nvGraphicFramePr>
          <p:xfrm>
            <a:off x="1066680" y="4952880"/>
            <a:ext cx="1527120" cy="48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952880"/>
                      <a:ext cx="15271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3" name="Object 3"/>
            <p:cNvGraphicFramePr/>
            <p:nvPr/>
          </p:nvGraphicFramePr>
          <p:xfrm>
            <a:off x="3352680" y="4952880"/>
            <a:ext cx="2276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4952880"/>
                      <a:ext cx="2276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5" name="Object 4"/>
            <p:cNvGraphicFramePr/>
            <p:nvPr/>
          </p:nvGraphicFramePr>
          <p:xfrm>
            <a:off x="6210360" y="4194000"/>
            <a:ext cx="2495520" cy="121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0360" y="4194000"/>
                      <a:ext cx="249552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7" name="Text Box 9"/>
            <p:cNvSpPr/>
            <p:nvPr/>
          </p:nvSpPr>
          <p:spPr>
            <a:xfrm>
              <a:off x="1137960" y="548640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"/>
            <p:cNvSpPr/>
            <p:nvPr/>
          </p:nvSpPr>
          <p:spPr>
            <a:xfrm>
              <a:off x="3906360" y="5486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1"/>
            <p:cNvSpPr/>
            <p:nvPr/>
          </p:nvSpPr>
          <p:spPr>
            <a:xfrm>
              <a:off x="6649200" y="548640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596" dur="indefinite" restart="never" nodeType="tmRoot">
          <p:childTnLst>
            <p:seq>
              <p:cTn id="2597" dur="indefinite" nodeType="mainSeq">
                <p:childTnLst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-Give the name or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3"/>
          <p:cNvSpPr/>
          <p:nvPr/>
        </p:nvSpPr>
        <p:spPr>
          <a:xfrm>
            <a:off x="777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periodic"/>
          <p:cNvPicPr/>
          <p:nvPr/>
        </p:nvPicPr>
        <p:blipFill>
          <a:blip r:embed="rId1"/>
          <a:stretch/>
        </p:blipFill>
        <p:spPr>
          <a:xfrm>
            <a:off x="549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462960" y="150660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930240" y="196704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203920" y="1461960"/>
            <a:ext cx="63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1 electron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557360" y="2043000"/>
            <a:ext cx="5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37204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L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48200" y="204300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214520" y="204300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K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701640" y="2957400"/>
            <a:ext cx="457200" cy="30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termine if the compound is a binary (molecular) comp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the elements in the compound are non-metals or metalloids the compound is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refixes to name the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GES DON’T MATTER, DON’T WRITE CHARGES!!!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SWITCH THE PREFIXES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name the compound like an ionic comp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roman numerals to depicted the charge for Pb, Sn, and transition metals (except Zn, Ag, C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eck for prefix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prefixes are present, the compound is probably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WORRY ABOUT CHARGES, DON’T WRITE CHARGES, JUST WRITE WHAT YOU SEE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**Remember some polyatomic ions have prefixes (bicarbonate, dichromate, dimercury). Write these like ionic compou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use the rules for writing ionic comp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o use the correct char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 don’t change the subscripts of the polyatomic 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DOES NOT HAVE ANY CHARGES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927440" y="0"/>
            <a:ext cx="52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les for oxidati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-240480" y="533520"/>
            <a:ext cx="78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Oxidation number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1239840" y="10666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990080" y="10666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748960" y="107784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3929400" y="107784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5295960" y="10666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-196920" y="1600200"/>
            <a:ext cx="75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omic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0"/>
          <p:cNvSpPr/>
          <p:nvPr/>
        </p:nvSpPr>
        <p:spPr>
          <a:xfrm>
            <a:off x="1008360" y="262080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A =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3721320" y="2620800"/>
            <a:ext cx="36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-297000" y="3657600"/>
            <a:ext cx="946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xy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most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5571720" y="414504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ox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"/>
          <p:cNvSpPr/>
          <p:nvPr/>
        </p:nvSpPr>
        <p:spPr>
          <a:xfrm>
            <a:off x="7694640" y="4145040"/>
            <a:ext cx="6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113400" y="4678200"/>
            <a:ext cx="82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4"/>
          <p:cNvSpPr/>
          <p:nvPr/>
        </p:nvSpPr>
        <p:spPr>
          <a:xfrm>
            <a:off x="4597920" y="4114800"/>
            <a:ext cx="8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5"/>
          <p:cNvSpPr/>
          <p:nvPr/>
        </p:nvSpPr>
        <p:spPr>
          <a:xfrm>
            <a:off x="1011240" y="315432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IA =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3" dur="indefinite" restart="never" nodeType="tmRoot">
          <p:childTnLst>
            <p:seq>
              <p:cTn id="2604" dur="indefinite" nodeType="mainSeq">
                <p:childTnLst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1026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026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26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3756600" y="2895480"/>
            <a:ext cx="17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6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1922400" y="45720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7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047240" y="56386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Mg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2008440" y="563868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198216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1"/>
          <p:cNvSpPr/>
          <p:nvPr/>
        </p:nvSpPr>
        <p:spPr>
          <a:xfrm>
            <a:off x="1758600" y="563868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M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3"/>
          <p:cNvSpPr/>
          <p:nvPr/>
        </p:nvSpPr>
        <p:spPr>
          <a:xfrm>
            <a:off x="5689800" y="8380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7358040" y="838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7401240" y="1371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8153280" y="18288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9"/>
          <p:cNvSpPr/>
          <p:nvPr/>
        </p:nvSpPr>
        <p:spPr>
          <a:xfrm>
            <a:off x="5501520" y="13716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1"/>
          <p:cNvSpPr/>
          <p:nvPr/>
        </p:nvSpPr>
        <p:spPr>
          <a:xfrm>
            <a:off x="8223480" y="1828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2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1026"/>
          <p:cNvSpPr/>
          <p:nvPr/>
        </p:nvSpPr>
        <p:spPr>
          <a:xfrm>
            <a:off x="0" y="0"/>
            <a:ext cx="914400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1026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4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periodic"/>
          <p:cNvPicPr/>
          <p:nvPr/>
        </p:nvPicPr>
        <p:blipFill>
          <a:blip r:embed="rId1"/>
          <a:stretch/>
        </p:blipFill>
        <p:spPr>
          <a:xfrm>
            <a:off x="47160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2"/>
          <p:cNvSpPr/>
          <p:nvPr/>
        </p:nvSpPr>
        <p:spPr>
          <a:xfrm>
            <a:off x="858240" y="150984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"/>
          <p:cNvSpPr/>
          <p:nvPr/>
        </p:nvSpPr>
        <p:spPr>
          <a:xfrm>
            <a:off x="1309680" y="196704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590920" y="106668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2 electrons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480320" y="204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08920" y="20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Mg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44800" y="20430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029560" y="205740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201720" y="204300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081080" y="341460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1026"/>
          <p:cNvSpPr/>
          <p:nvPr/>
        </p:nvSpPr>
        <p:spPr>
          <a:xfrm>
            <a:off x="0" y="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0"/>
            <a:ext cx="9144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91440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026"/>
          <p:cNvSpPr/>
          <p:nvPr/>
        </p:nvSpPr>
        <p:spPr>
          <a:xfrm>
            <a:off x="0" y="0"/>
            <a:ext cx="91440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2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0" y="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0" y="0"/>
            <a:ext cx="914400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4018680" y="2895480"/>
            <a:ext cx="109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2060280" y="457200"/>
            <a:ext cx="50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0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1236600" y="563868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A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045880" y="5638680"/>
            <a:ext cx="50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213444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1796040" y="5638680"/>
            <a:ext cx="58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6"/>
          <p:cNvSpPr/>
          <p:nvPr/>
        </p:nvSpPr>
        <p:spPr>
          <a:xfrm>
            <a:off x="568980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735804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740124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9"/>
          <p:cNvSpPr/>
          <p:nvPr/>
        </p:nvSpPr>
        <p:spPr>
          <a:xfrm>
            <a:off x="550152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83059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1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>
            <a:off x="8229600" y="18288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027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723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eriodic"/>
          <p:cNvPicPr/>
          <p:nvPr/>
        </p:nvPicPr>
        <p:blipFill>
          <a:blip r:embed="rId1"/>
          <a:stretch/>
        </p:blipFill>
        <p:spPr>
          <a:xfrm>
            <a:off x="495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500436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6058080" y="181440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87692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976680" y="16621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976760" y="166212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024720" y="166212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G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5829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56:21Z</dcterms:created>
  <dc:creator> </dc:creator>
  <dc:description/>
  <dc:language>en-US</dc:language>
  <cp:lastModifiedBy>BOARD-CD3F073AA$</cp:lastModifiedBy>
  <dcterms:modified xsi:type="dcterms:W3CDTF">2011-11-22T18:54:57Z</dcterms:modified>
  <cp:revision>114</cp:revision>
  <dc:subject/>
  <dc:title>Slide 1</dc:title>
</cp:coreProperties>
</file>