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CHIMP_OR.WAV" ContentType="audio/x-wav"/>
  <Override PartName="/ppt/media/image9.png" ContentType="image/png"/>
  <Override PartName="/ppt/media/image8.png" ContentType="image/png"/>
  <Override PartName="/ppt/media/image7.wmf" ContentType="image/x-wmf"/>
  <Override PartName="/ppt/media/image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.gif" ContentType="image/gif"/>
  <Override PartName="/ppt/media/image5.wmf" ContentType="image/x-wmf"/>
  <Override PartName="/ppt/media/bomb.wav" ContentType="audio/x-wav"/>
  <Override PartName="/ppt/media/image10.wmf" ContentType="image/x-wmf"/>
  <Override PartName="/ppt/media/image11.wmf" ContentType="image/x-wmf"/>
  <Override PartName="/ppt/media/image3.png" ContentType="image/png"/>
  <Override PartName="/ppt/media/type.wav" ContentType="audio/x-wav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FDD-D43A-480B-BF05-99D66DCDD0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1E5C-7260-4DD0-8845-D2729FBD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1029-BD68-4837-8AA5-F63B83AF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ED5-A70F-4665-BD3D-B101A5ABC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F0A-160D-41F2-AA1E-1930DC8E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3D6-D9F8-44C5-83A4-BA0F6FC3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343-8430-4224-B49A-38A068A6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BEB-367C-4375-86D8-7747C016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EC86A-1993-4443-A6A5-16F63F7BD0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27076-61E1-4D77-B74C-AF0D3A2563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C2474-1A45-463F-AE2E-294CD442FB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189F9-BAE4-410D-91C1-B06338344A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3E61-AE57-4060-9DCF-1D5AEBF7B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4AAFA-3293-4681-8EDE-84FC21ABA8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646F3-69E8-43BD-9761-B4077C77D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7BA-7424-4343-8BAB-5B189E39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00711-A325-467F-96DA-FA57254812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5F41-8344-4F46-83EC-5250FBEF47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AB7F8-C24A-43F3-8327-50B091B4F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851B6-04D1-4FFA-9BD2-37AD055905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B88D0-F743-49E9-9959-640E25ACE1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53607-EF6A-44EF-84C0-EC8332E9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FE04B-2201-4C57-ADC0-AE4F70A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40F94-8F41-431C-BC72-08F4AAFC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3B294-C696-4914-85DA-13B08B16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A95FB-50A7-405E-9361-84800434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39C-59F1-4F37-86EE-C470756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7FA37-382A-44AC-B1D1-F3BBE11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3C71B-BF5B-40D0-9704-2222E84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0A2F3-2C2A-43DD-B1D3-5A43951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FDAAF-9318-4118-B18E-D44C7FE7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36E21-10AE-45F4-A019-AC1F6D2C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BD143-4DD2-4B32-A71D-D4DA16E8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2222C-304F-4DFA-9228-B6730CE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B27C2-CE8D-4B9C-9365-44A21680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12C3C-B3A7-4E35-9C35-1F2CA436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85233-4303-4034-A1C3-869C31A5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815-D42C-4ECC-9A30-7D662084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532D2-620E-4022-99C0-730E4AC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A8BFD-819E-4C20-893B-11700976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1AC26-87CC-46CC-952F-E5D13DEC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B25A6-2B09-4A04-8835-177900C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978D7-F8C8-466D-99C2-556E666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72B2C-AAB8-438D-9027-1884AF5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AC750-6880-4546-81A5-D7EAC92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D6DA6-8EB5-4002-A3E1-56CE6E43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7F063-B97B-4E1B-9BFD-9AD78802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D9E-807E-48A1-A458-8E08E7B8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556-C818-4D0E-97F6-9DB17C2A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93C-94F4-45C9-973D-089BF56D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CF0-8F86-4F69-B544-282F58C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C55-B0F0-4196-8087-D580EBC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3322-CAC0-4758-9FA4-1CA6A76AD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AB42B700-63C9-42BB-BC80-1BD1F1AB80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8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4C87-7061-41B3-8EBF-CEA202B7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9288BED0-7116-4094-980C-112E8221E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6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868320" y="6192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1120" y="160956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Formu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channel"/>
          <p:cNvPicPr/>
          <p:nvPr/>
        </p:nvPicPr>
        <p:blipFill>
          <a:blip r:embed="rId1"/>
          <a:stretch/>
        </p:blipFill>
        <p:spPr>
          <a:xfrm>
            <a:off x="5211720" y="145728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8320" y="359100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art cell rhythm depends on the opening and closing of a complex series of valves on the cell membrane, call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90000"/>
                </a:solidFill>
                <a:latin typeface="Comic Sans MS"/>
                <a:ea typeface="Arial"/>
              </a:rPr>
              <a:t>ion channel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ome valves let certain ions like potassium (K+) flow out, others let different ions like sodium (Na+) flow in.  There are also pumps that actively move ions one direction or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76212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periodic"/>
          <p:cNvPicPr/>
          <p:nvPr/>
        </p:nvPicPr>
        <p:blipFill>
          <a:blip r:embed="rId1"/>
          <a:stretch/>
        </p:blipFill>
        <p:spPr>
          <a:xfrm>
            <a:off x="53352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04252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4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6095880" y="1814400"/>
            <a:ext cx="4572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or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 electr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" y="1357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ither!</a:t>
            </a: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oup 14 elements rarely form ions.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324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27"/>
          <p:cNvSpPr/>
          <p:nvPr/>
        </p:nvSpPr>
        <p:spPr>
          <a:xfrm>
            <a:off x="0" y="2514600"/>
            <a:ext cx="914400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225320" y="2895480"/>
            <a:ext cx="79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787400" y="45720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Phospho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1202760" y="563868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P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2012040" y="57150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221076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762200" y="5638680"/>
            <a:ext cx="57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P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8381880" y="198108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Divide by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30"/>
          <p:cNvSpPr/>
          <p:nvPr/>
        </p:nvSpPr>
        <p:spPr>
          <a:xfrm>
            <a:off x="2362320" y="4876920"/>
            <a:ext cx="761760" cy="53316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r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1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14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26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2"/>
          <p:cNvSpPr/>
          <p:nvPr/>
        </p:nvSpPr>
        <p:spPr>
          <a:xfrm>
            <a:off x="0" y="1981080"/>
            <a:ext cx="952488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N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    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    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 +3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 +6   -8   =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5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6058080" y="1890720"/>
            <a:ext cx="83808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495288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842840" y="129528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925280" y="1814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701720" y="2271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6675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620080" y="128124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540880" y="1814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Phosp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98480" y="22716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rs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OH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Re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 -4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-2  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Z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8 +4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l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Al(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18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4190040" y="289548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2490120" y="4572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1242720" y="5638680"/>
            <a:ext cx="71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204280" y="57150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1878480" y="5638680"/>
            <a:ext cx="57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S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620200" y="1981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436572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6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7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026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1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- does not work, O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26"/>
          <p:cNvSpPr/>
          <p:nvPr/>
        </p:nvSpPr>
        <p:spPr>
          <a:xfrm>
            <a:off x="0" y="1981080"/>
            <a:ext cx="91440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0" y="1981080"/>
            <a:ext cx="9144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C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does not work, H must b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1981080"/>
            <a:ext cx="914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0" y="1981080"/>
            <a:ext cx="914400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Water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OH has a charge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5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4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3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6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6058080" y="1890720"/>
            <a:ext cx="1295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487692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843560" y="12952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967760" y="181440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1715760" y="227160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124760" y="349092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616480" y="12812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2625840" y="18144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602800" y="22716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ele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0" y="1981080"/>
            <a:ext cx="9144000" cy="49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H</a:t>
            </a:r>
            <a:r>
              <a:rPr b="0" lang="en-US" sz="4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O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(OH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  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-1       =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MS Mincho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026"/>
          <p:cNvSpPr/>
          <p:nvPr/>
        </p:nvSpPr>
        <p:spPr>
          <a:xfrm>
            <a:off x="79200" y="95400"/>
            <a:ext cx="88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 of th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27"/>
          <p:cNvSpPr/>
          <p:nvPr/>
        </p:nvSpPr>
        <p:spPr>
          <a:xfrm>
            <a:off x="255600" y="93348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028"/>
          <p:cNvSpPr/>
          <p:nvPr/>
        </p:nvSpPr>
        <p:spPr>
          <a:xfrm>
            <a:off x="1668960" y="93348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29"/>
          <p:cNvSpPr/>
          <p:nvPr/>
        </p:nvSpPr>
        <p:spPr>
          <a:xfrm>
            <a:off x="3286800" y="94464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030"/>
          <p:cNvSpPr/>
          <p:nvPr/>
        </p:nvSpPr>
        <p:spPr>
          <a:xfrm>
            <a:off x="226080" y="1619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31"/>
          <p:cNvSpPr/>
          <p:nvPr/>
        </p:nvSpPr>
        <p:spPr>
          <a:xfrm>
            <a:off x="1639800" y="161928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032"/>
          <p:cNvSpPr/>
          <p:nvPr/>
        </p:nvSpPr>
        <p:spPr>
          <a:xfrm>
            <a:off x="3355200" y="16304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33"/>
          <p:cNvSpPr/>
          <p:nvPr/>
        </p:nvSpPr>
        <p:spPr>
          <a:xfrm>
            <a:off x="232560" y="236232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034"/>
          <p:cNvSpPr/>
          <p:nvPr/>
        </p:nvSpPr>
        <p:spPr>
          <a:xfrm>
            <a:off x="1646280" y="23623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035"/>
          <p:cNvSpPr/>
          <p:nvPr/>
        </p:nvSpPr>
        <p:spPr>
          <a:xfrm>
            <a:off x="3297960" y="237348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6"/>
          <p:cNvSpPr/>
          <p:nvPr/>
        </p:nvSpPr>
        <p:spPr>
          <a:xfrm>
            <a:off x="-30600" y="396252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37"/>
          <p:cNvSpPr/>
          <p:nvPr/>
        </p:nvSpPr>
        <p:spPr>
          <a:xfrm>
            <a:off x="1574640" y="396252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38"/>
          <p:cNvSpPr/>
          <p:nvPr/>
        </p:nvSpPr>
        <p:spPr>
          <a:xfrm>
            <a:off x="3286800" y="3973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39"/>
          <p:cNvSpPr/>
          <p:nvPr/>
        </p:nvSpPr>
        <p:spPr>
          <a:xfrm>
            <a:off x="4887000" y="23623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40"/>
          <p:cNvSpPr/>
          <p:nvPr/>
        </p:nvSpPr>
        <p:spPr>
          <a:xfrm>
            <a:off x="241812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41"/>
          <p:cNvSpPr/>
          <p:nvPr/>
        </p:nvSpPr>
        <p:spPr>
          <a:xfrm>
            <a:off x="4022640" y="944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42"/>
          <p:cNvSpPr/>
          <p:nvPr/>
        </p:nvSpPr>
        <p:spPr>
          <a:xfrm>
            <a:off x="26640" y="31240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043"/>
          <p:cNvSpPr/>
          <p:nvPr/>
        </p:nvSpPr>
        <p:spPr>
          <a:xfrm>
            <a:off x="1701360" y="3124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44"/>
          <p:cNvSpPr/>
          <p:nvPr/>
        </p:nvSpPr>
        <p:spPr>
          <a:xfrm>
            <a:off x="3286800" y="31240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045"/>
          <p:cNvSpPr/>
          <p:nvPr/>
        </p:nvSpPr>
        <p:spPr>
          <a:xfrm>
            <a:off x="403992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046"/>
          <p:cNvSpPr/>
          <p:nvPr/>
        </p:nvSpPr>
        <p:spPr>
          <a:xfrm>
            <a:off x="2341800" y="16304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47"/>
          <p:cNvSpPr/>
          <p:nvPr/>
        </p:nvSpPr>
        <p:spPr>
          <a:xfrm>
            <a:off x="241812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048"/>
          <p:cNvSpPr/>
          <p:nvPr/>
        </p:nvSpPr>
        <p:spPr>
          <a:xfrm>
            <a:off x="5705280" y="23623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49"/>
          <p:cNvSpPr/>
          <p:nvPr/>
        </p:nvSpPr>
        <p:spPr>
          <a:xfrm>
            <a:off x="402444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50"/>
          <p:cNvSpPr/>
          <p:nvPr/>
        </p:nvSpPr>
        <p:spPr>
          <a:xfrm>
            <a:off x="4039920" y="3962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51"/>
          <p:cNvSpPr/>
          <p:nvPr/>
        </p:nvSpPr>
        <p:spPr>
          <a:xfrm>
            <a:off x="4039920" y="31240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052"/>
          <p:cNvSpPr/>
          <p:nvPr/>
        </p:nvSpPr>
        <p:spPr>
          <a:xfrm>
            <a:off x="2646720" y="31240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53"/>
          <p:cNvSpPr/>
          <p:nvPr/>
        </p:nvSpPr>
        <p:spPr>
          <a:xfrm>
            <a:off x="2511720" y="3962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5" dur="indefinite" restart="never" nodeType="tmRoot">
          <p:childTnLst>
            <p:seq>
              <p:cTn id="2666" dur="indefinite" nodeType="mainSeq">
                <p:childTnLst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2"/>
          <p:cNvSpPr/>
          <p:nvPr/>
        </p:nvSpPr>
        <p:spPr>
          <a:xfrm>
            <a:off x="-427680" y="95400"/>
            <a:ext cx="100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xidation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ghl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63800" y="93348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O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284040" y="1619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10240" y="2362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29680" y="3048120"/>
            <a:ext cx="12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5"/>
          <p:cNvSpPr/>
          <p:nvPr/>
        </p:nvSpPr>
        <p:spPr>
          <a:xfrm>
            <a:off x="1662480" y="9446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742760" y="1630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662480" y="23623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3"/>
          <p:cNvSpPr/>
          <p:nvPr/>
        </p:nvSpPr>
        <p:spPr>
          <a:xfrm>
            <a:off x="1660320" y="3048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3424320" y="944640"/>
            <a:ext cx="47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osphorous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3571560" y="16304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hyd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3717360" y="236232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3654000" y="3048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4109040" y="2895480"/>
            <a:ext cx="10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655308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2250360" y="45720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1215360" y="56386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C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024280" y="56386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2058120" y="571500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1850760" y="563868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C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918400" y="990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758664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7629840" y="15238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730120" y="152388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8458200" y="19810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412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65530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2670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7242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7"/>
          <p:cNvSpPr/>
          <p:nvPr/>
        </p:nvSpPr>
        <p:spPr>
          <a:xfrm>
            <a:off x="87624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6" descr="periodic"/>
          <p:cNvPicPr/>
          <p:nvPr/>
        </p:nvPicPr>
        <p:blipFill>
          <a:blip r:embed="rId1"/>
          <a:stretch/>
        </p:blipFill>
        <p:spPr>
          <a:xfrm>
            <a:off x="64764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515664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6210360" y="1890720"/>
            <a:ext cx="18288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502920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ains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 to for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7440" y="12812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2760" y="196704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760120" y="128124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7734240" y="3490920"/>
            <a:ext cx="38124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912240" y="12812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909720" y="1967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405240" y="1281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790360" y="19670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379680" y="19670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od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7239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periodic"/>
          <p:cNvPicPr/>
          <p:nvPr/>
        </p:nvPicPr>
        <p:blipFill>
          <a:blip r:embed="rId1"/>
          <a:stretch/>
        </p:blipFill>
        <p:spPr>
          <a:xfrm>
            <a:off x="4953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5004360" y="13572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6058080" y="1890720"/>
            <a:ext cx="20574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952880" y="13716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ble Noble ga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m 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7962840" y="303372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2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1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8088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n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more than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30880" y="2271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585240" y="22716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Iron (III) =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3703680" y="41767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3"/>
          <p:cNvSpPr/>
          <p:nvPr/>
        </p:nvSpPr>
        <p:spPr>
          <a:xfrm>
            <a:off x="884160" y="5954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periodic"/>
          <p:cNvPicPr/>
          <p:nvPr/>
        </p:nvPicPr>
        <p:blipFill>
          <a:blip r:embed="rId1"/>
          <a:stretch/>
        </p:blipFill>
        <p:spPr>
          <a:xfrm>
            <a:off x="655560" y="288144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1"/>
          <p:cNvSpPr/>
          <p:nvPr/>
        </p:nvSpPr>
        <p:spPr>
          <a:xfrm>
            <a:off x="655560" y="1204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s 3 - 1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2941560" y="1738440"/>
            <a:ext cx="6858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ns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ly one possible oxidatio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1722600" y="4329000"/>
            <a:ext cx="4267080" cy="175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743040" y="2271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inc = Z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3460320" y="22716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lver = A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5456160" y="42530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998960" y="471024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5533920" y="22860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dmium = C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6"/>
          <p:cNvSpPr/>
          <p:nvPr/>
        </p:nvSpPr>
        <p:spPr>
          <a:xfrm>
            <a:off x="5410080" y="4648320"/>
            <a:ext cx="6858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combine to form bo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alent Bond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sha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two non-me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ectrons are transfer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tween a metal and a non-metal or polyatomic 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sodium chlor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616680" y="6019920"/>
            <a:ext cx="78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ystems of naming depending on the type of bond…BE CARE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ntent Placeholder 3" descr="ion cartoon.bmp"/>
          <p:cNvPicPr/>
          <p:nvPr/>
        </p:nvPicPr>
        <p:blipFill>
          <a:blip r:embed="rId1"/>
          <a:stretch/>
        </p:blipFill>
        <p:spPr>
          <a:xfrm>
            <a:off x="1600200" y="304920"/>
            <a:ext cx="581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6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167400" y="8380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rium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5114160" y="32018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6766200" y="3216240"/>
            <a:ext cx="1363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 flipV="1">
            <a:off x="61308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8188200" y="37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207120" y="411624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6435720" y="312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8503560" y="3506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921640" y="3170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8002440" y="2819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427720" y="3200400"/>
            <a:ext cx="2933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Ba(NO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5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93960" y="838080"/>
            <a:ext cx="456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monium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5279760" y="3125880"/>
            <a:ext cx="134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7152120" y="3125880"/>
            <a:ext cx="1203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 flipV="1">
            <a:off x="85312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550200" y="44974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4873680" y="30495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865200" y="358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6376680" y="2895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8178840" y="29718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5364720" y="3048120"/>
            <a:ext cx="355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310320" y="83808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 (I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5648400" y="312408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844680" y="312408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7642800" y="29718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5918400" y="3124080"/>
            <a:ext cx="1937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FeC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800600" y="762120"/>
            <a:ext cx="41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mes ending in –id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usually, but not always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present an element from the periodic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5840" y="838080"/>
            <a:ext cx="43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uminum sulf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52280" y="2590920"/>
            <a:ext cx="550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lance charges , if necessary, us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bscript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ross over the charges by using the absolute value of each ion’s charge as the subscript for the other 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.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e parentheses if yo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ed more than on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polyatomic 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28600" y="48769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Check the subscripts and divide them by their largest common factor to give the smallest possible whole-number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28600" y="5791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643360" y="3124080"/>
            <a:ext cx="78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6903360" y="3124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 flipV="1">
            <a:off x="6702480" y="358308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 flipV="1">
            <a:off x="7848720" y="358092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6248520" y="449568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74779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6391080" y="3038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7648200" y="30211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6096960" y="3200400"/>
            <a:ext cx="1790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Al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6563520" y="3657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85800" y="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riting Ionic Compound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89280" y="838080"/>
            <a:ext cx="50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gnesium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52280" y="1371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Write the formulas for the cation and anion, includ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CHARGE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52280" y="1981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Check to see if charges are balanced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If so, skip to ste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28600" y="2743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Write the formula without the char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5428800" y="36957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g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081560" y="3695760"/>
            <a:ext cx="157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65912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2"/>
          <p:cNvSpPr/>
          <p:nvPr/>
        </p:nvSpPr>
        <p:spPr>
          <a:xfrm flipV="1">
            <a:off x="8420040" y="4304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5981760" y="499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balanc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5698080" y="3581280"/>
            <a:ext cx="2672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gCO</a:t>
            </a:r>
            <a:r>
              <a:rPr b="0" lang="en-US" sz="60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1219320"/>
            <a:ext cx="3962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1-4 refer to the following generic chemical formu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190760" y="10666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of the above represents the chemical formula when A and B are comb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Be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B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mmonium 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=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838080" y="723960"/>
            <a:ext cx="74678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04920" y="140976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tion first, then an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 Monatomic cation = name of th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= calc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  Monatomic anion   =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-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=  calcium</a:t>
            </a: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580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.  For  polyatomic ions, use the name of that polyatomic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gnesium Chlor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lver 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rontium Sulf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monium Hydrox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assium Hypochlo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609480" y="876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Ionic Compound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70504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 metal forms more than 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tion</a:t>
            </a:r>
            <a:r>
              <a:rPr b="1" lang="en-US" sz="2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oman numeral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c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b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d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66680" y="2095560"/>
            <a:ext cx="687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with multiple oxidati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09480" y="533520"/>
            <a:ext cx="221004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t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positive 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g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N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ion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negative 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S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onic Bonding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 of attraction between oppositely charged 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we know that lead was +2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3929400" y="205740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b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582200" y="380988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chlorine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643640" y="28288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67760" y="4343400"/>
            <a:ext cx="709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chlorine ions does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511560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941400" y="48769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chlorine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6483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49440" y="5410080"/>
            <a:ext cx="826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ounds are neutral, so what must the charge  of lead be in order to balance the -2 charge of chlor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39625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648320" y="15238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lead is +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"/>
          <p:cNvSpPr/>
          <p:nvPr/>
        </p:nvSpPr>
        <p:spPr>
          <a:xfrm flipV="1">
            <a:off x="3200400" y="1980720"/>
            <a:ext cx="76212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79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try F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51680" y="380988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is the charge of oxygen 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121040" y="4343400"/>
            <a:ext cx="69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oxygen ions does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10880" y="4876920"/>
            <a:ext cx="73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total charge of the oxygen 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649440" y="5410080"/>
            <a:ext cx="82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must the charge  of iron be in order to balance the -6 charge of the oxyg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3886200" y="19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806720" y="19810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572000" y="243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518904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4899240" y="2819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4899240" y="160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4876920" y="152388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4032360" y="1600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40323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9"/>
          <p:cNvSpPr/>
          <p:nvPr/>
        </p:nvSpPr>
        <p:spPr>
          <a:xfrm>
            <a:off x="5870880" y="21337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I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28600" y="1828800"/>
            <a:ext cx="31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oxidation number of iron is +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1"/>
          <p:cNvSpPr/>
          <p:nvPr/>
        </p:nvSpPr>
        <p:spPr>
          <a:xfrm>
            <a:off x="3200400" y="2209680"/>
            <a:ext cx="83808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5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6" dur="1" fill="hold">
                                    <p:stCondLst>
                                      <p:cond evt="end">
                                        <p:tn val="2054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remove" presetClass="emph" presetID="3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9" dur="indefinite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0" dur="1" fill="hold">
                                    <p:stCondLst>
                                      <p:cond evt="end">
                                        <p:tn val="2088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ou practice!!!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me the following compound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u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e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n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pper II Ox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balt III Fluo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Iod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ron II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in IV Sulf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9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4"/>
          <p:cNvSpPr/>
          <p:nvPr/>
        </p:nvSpPr>
        <p:spPr>
          <a:xfrm>
            <a:off x="609480" y="60948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aming Binary Covalent Compound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304920" y="171468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ounds between 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onmet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First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the formul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named firs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econd elemen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 named as if it were a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an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se prefi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ly u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mon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second element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914400" y="304812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550520" y="4038480"/>
            <a:ext cx="14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609920" y="472428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554840" y="5410080"/>
            <a:ext cx="156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519280" y="289548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hosphoru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pen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3117240" y="4038480"/>
            <a:ext cx="35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958120" y="4724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b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2980080" y="530208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d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itrog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mo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334960" y="609480"/>
            <a:ext cx="176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–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 –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 – 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 – t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 - p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4996800" y="609480"/>
            <a:ext cx="178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 – he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7 – he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 – o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 – 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 – d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372600" cy="6858000"/>
          </a:xfrm>
          <a:prstGeom prst="rect">
            <a:avLst/>
          </a:prstGeom>
          <a:ln w="38160">
            <a:solidFill>
              <a:srgbClr val="bc0024"/>
            </a:solidFill>
            <a:miter/>
          </a:ln>
        </p:spPr>
      </p:pic>
      <p:sp>
        <p:nvSpPr>
          <p:cNvPr id="658" name="Rectangle 3"/>
          <p:cNvSpPr/>
          <p:nvPr/>
        </p:nvSpPr>
        <p:spPr>
          <a:xfrm>
            <a:off x="1143000" y="609480"/>
            <a:ext cx="7010280" cy="563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ause for a Cause #4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rite the formula of the following compound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RITE WHAT YOU SEE DO NOT CHECK OXIDATION STATE!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143000" y="1828800"/>
            <a:ext cx="7010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Tetra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ous Deca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Mon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n 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9" dur="indefinite" restart="never" nodeType="tmRoot">
          <p:childTnLst>
            <p:seq>
              <p:cTn id="2240" dur="indefinite" nodeType="mainSeq">
                <p:childTnLst>
                  <p:par>
                    <p:cTn id="2241" fill="hold">
                      <p:stCondLst>
                        <p:cond delay="0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tomic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elements exist in nature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tom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re most commonly joined to another element and not found alone in nature. Why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s usually begin with ‘H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85800" y="2895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580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805560" y="2895480"/>
            <a:ext cx="152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140120" y="563868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N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025360" y="563868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321640" y="45720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05812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1775520" y="5638680"/>
            <a:ext cx="60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Na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212760" y="198108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prot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574128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0" y="182880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55336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19810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’s the net charge on 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740952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4527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3"/>
          <p:cNvSpPr/>
          <p:nvPr/>
        </p:nvSpPr>
        <p:spPr>
          <a:xfrm>
            <a:off x="822960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838944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0" y="19051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, how many electrons does N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557784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749952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8275320" y="198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419720" y="1143000"/>
            <a:ext cx="4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‘E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7" dur="4272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ext Box 2" descr=""/>
          <p:cNvPicPr/>
          <p:nvPr/>
        </p:nvPicPr>
        <p:blipFill>
          <a:blip r:embed="rId1"/>
          <a:stretch/>
        </p:blipFill>
        <p:spPr>
          <a:xfrm>
            <a:off x="-73080" y="225360"/>
            <a:ext cx="9290160" cy="10796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0" y="990720"/>
            <a:ext cx="8961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drocarb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lecules that possess hydrogen and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nes – hydrocarbons with only C-C sing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1"/>
          <p:cNvSpPr/>
          <p:nvPr/>
        </p:nvSpPr>
        <p:spPr>
          <a:xfrm>
            <a:off x="457200" y="2133720"/>
            <a:ext cx="80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a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6"/>
          <p:cNvSpPr/>
          <p:nvPr/>
        </p:nvSpPr>
        <p:spPr>
          <a:xfrm>
            <a:off x="5335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enes – hydrocarbons with  C=C doub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7"/>
          <p:cNvSpPr/>
          <p:nvPr/>
        </p:nvSpPr>
        <p:spPr>
          <a:xfrm>
            <a:off x="643680" y="3352680"/>
            <a:ext cx="808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ene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=CH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33520" y="3962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ynes – hydrocarbons with C     C tripl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753840" y="4572000"/>
            <a:ext cx="77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Butyne  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     C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"/>
          <p:cNvSpPr/>
          <p:nvPr/>
        </p:nvSpPr>
        <p:spPr>
          <a:xfrm>
            <a:off x="572760" y="5181480"/>
            <a:ext cx="797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s – R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(-OH is hydroxyl group, NOT hydr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8"/>
          <p:cNvGrpSpPr/>
          <p:nvPr/>
        </p:nvGrpSpPr>
        <p:grpSpPr>
          <a:xfrm>
            <a:off x="4419720" y="4724280"/>
            <a:ext cx="380880" cy="152640"/>
            <a:chOff x="4419720" y="4724280"/>
            <a:chExt cx="380880" cy="152640"/>
          </a:xfrm>
        </p:grpSpPr>
        <p:sp>
          <p:nvSpPr>
            <p:cNvPr id="710" name="Straight Connector 22"/>
            <p:cNvSpPr/>
            <p:nvPr/>
          </p:nvSpPr>
          <p:spPr>
            <a:xfrm>
              <a:off x="4419720" y="47242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23"/>
            <p:cNvSpPr/>
            <p:nvPr/>
          </p:nvSpPr>
          <p:spPr>
            <a:xfrm>
              <a:off x="441972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24"/>
            <p:cNvSpPr/>
            <p:nvPr/>
          </p:nvSpPr>
          <p:spPr>
            <a:xfrm>
              <a:off x="4419720" y="4875480"/>
              <a:ext cx="380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9"/>
          <p:cNvGrpSpPr/>
          <p:nvPr/>
        </p:nvGrpSpPr>
        <p:grpSpPr>
          <a:xfrm>
            <a:off x="4800600" y="4114800"/>
            <a:ext cx="380880" cy="152280"/>
            <a:chOff x="4800600" y="4114800"/>
            <a:chExt cx="380880" cy="152280"/>
          </a:xfrm>
        </p:grpSpPr>
        <p:sp>
          <p:nvSpPr>
            <p:cNvPr id="714" name="Straight Connector 30"/>
            <p:cNvSpPr/>
            <p:nvPr/>
          </p:nvSpPr>
          <p:spPr>
            <a:xfrm>
              <a:off x="4800600" y="41148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31"/>
            <p:cNvSpPr/>
            <p:nvPr/>
          </p:nvSpPr>
          <p:spPr>
            <a:xfrm>
              <a:off x="4800600" y="41907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32"/>
            <p:cNvSpPr/>
            <p:nvPr/>
          </p:nvSpPr>
          <p:spPr>
            <a:xfrm>
              <a:off x="4800600" y="4265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ing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type,       2) # of carbons, 3) side chain type and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3429000" y="510552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ethene, prop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3492360" y="6453360"/>
            <a:ext cx="1584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7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724" name="Object 2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6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  <a:ea typeface="ＭＳ Ｐゴシック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  <a:ea typeface="ＭＳ Ｐゴシック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8" dur="500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c Compounds Containing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ound obtained by substituting a hydroxyl group (-OH) for an –H atom on a carbon atom of a hydrocarbon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Group 4"/>
          <p:cNvGrpSpPr/>
          <p:nvPr/>
        </p:nvGrpSpPr>
        <p:grpSpPr>
          <a:xfrm>
            <a:off x="609480" y="3887640"/>
            <a:ext cx="8096400" cy="4113360"/>
            <a:chOff x="609480" y="3887640"/>
            <a:chExt cx="8096400" cy="4113360"/>
          </a:xfrm>
        </p:grpSpPr>
        <p:sp>
          <p:nvSpPr>
            <p:cNvPr id="740" name="Rectangle 5"/>
            <p:cNvSpPr/>
            <p:nvPr/>
          </p:nvSpPr>
          <p:spPr>
            <a:xfrm>
              <a:off x="609480" y="3887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 examples a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Object 2"/>
            <p:cNvGraphicFramePr/>
            <p:nvPr/>
          </p:nvGraphicFramePr>
          <p:xfrm>
            <a:off x="1066680" y="4952880"/>
            <a:ext cx="152712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1527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Object 3"/>
            <p:cNvGraphicFramePr/>
            <p:nvPr/>
          </p:nvGraphicFramePr>
          <p:xfrm>
            <a:off x="3352680" y="4952880"/>
            <a:ext cx="2276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4952880"/>
                      <a:ext cx="2276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Object 4"/>
            <p:cNvGraphicFramePr/>
            <p:nvPr/>
          </p:nvGraphicFramePr>
          <p:xfrm>
            <a:off x="6210360" y="4194000"/>
            <a:ext cx="249552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0360" y="4194000"/>
                      <a:ext cx="24955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7" name="Text Box 9"/>
            <p:cNvSpPr/>
            <p:nvPr/>
          </p:nvSpPr>
          <p:spPr>
            <a:xfrm>
              <a:off x="1137960" y="548640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3906360" y="5486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1"/>
            <p:cNvSpPr/>
            <p:nvPr/>
          </p:nvSpPr>
          <p:spPr>
            <a:xfrm>
              <a:off x="6649200" y="548640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-Give the name or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777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periodic"/>
          <p:cNvPicPr/>
          <p:nvPr/>
        </p:nvPicPr>
        <p:blipFill>
          <a:blip r:embed="rId1"/>
          <a:stretch/>
        </p:blipFill>
        <p:spPr>
          <a:xfrm>
            <a:off x="549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462960" y="15066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930240" y="196704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03920" y="1461960"/>
            <a:ext cx="63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 1 electron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557360" y="204300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37204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L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48200" y="2043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14520" y="204300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1640" y="2957400"/>
            <a:ext cx="45720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termine if the compound is a binary (molecular) 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the elements in the compound are non-metals or metalloids the compound is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refixes to name the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S DON’T MATTER, DON’T WRITE CHARGES!!!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WITCH THE PREFIXES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formula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name the compound like an ionic comp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roman numerals to depicted the charge for Pb, Sn, and transition metals (except Zn, Ag, C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ck for prefix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refixes are present, the compound is probably a binary compou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CHARGES, DON’T WRITE CHARGES, JUST WRITE WHAT YOU SEE!!!!!!!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**Remember some polyatomic ions have prefixes (bicarbonate, dichromate, dimercury). Write these like ionic compou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given the nam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und is not a binary compound, use the rules for writing ionic comp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o use the correct char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don’t change the subscripts of the polyatomic 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DOES NOT HAVE ANY CHARGES!!!!!!!!!!!!!!!!!!!!!!!!!!!!!!!!!!!!!!!!!!!!!!!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927440" y="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les for oxida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-240480" y="53352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xidation number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239840" y="10666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990080" y="10666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748960" y="107784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929400" y="107784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(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5295960" y="10666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-196920" y="1600200"/>
            <a:ext cx="75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0"/>
          <p:cNvSpPr/>
          <p:nvPr/>
        </p:nvSpPr>
        <p:spPr>
          <a:xfrm>
            <a:off x="1008360" y="262080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A =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21320" y="262080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-297000" y="3657600"/>
            <a:ext cx="94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xy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most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571720" y="414504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ox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"/>
          <p:cNvSpPr/>
          <p:nvPr/>
        </p:nvSpPr>
        <p:spPr>
          <a:xfrm>
            <a:off x="7694640" y="414504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113400" y="4678200"/>
            <a:ext cx="82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numbe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4"/>
          <p:cNvSpPr/>
          <p:nvPr/>
        </p:nvSpPr>
        <p:spPr>
          <a:xfrm>
            <a:off x="4597920" y="411480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5"/>
          <p:cNvSpPr/>
          <p:nvPr/>
        </p:nvSpPr>
        <p:spPr>
          <a:xfrm>
            <a:off x="1011240" y="315432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IIA =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3" dur="indefinite" restart="never" nodeType="tmRoot">
          <p:childTnLst>
            <p:seq>
              <p:cTn id="2604" dur="indefinite" nodeType="mainSeq">
                <p:childTnLst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1026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26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26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3756600" y="2895480"/>
            <a:ext cx="17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92240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7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047240" y="56386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Mg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2008440" y="56386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198216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1758600" y="563868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Mg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M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5689800" y="8380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7358040" y="838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7401240" y="1371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8153280" y="18288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9"/>
          <p:cNvSpPr/>
          <p:nvPr/>
        </p:nvSpPr>
        <p:spPr>
          <a:xfrm>
            <a:off x="5501520" y="13716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822348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026"/>
          <p:cNvSpPr/>
          <p:nvPr/>
        </p:nvSpPr>
        <p:spPr>
          <a:xfrm>
            <a:off x="0" y="0"/>
            <a:ext cx="91440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elements are zer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Pb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026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ons are their ch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91440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4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periodic"/>
          <p:cNvPicPr/>
          <p:nvPr/>
        </p:nvPicPr>
        <p:blipFill>
          <a:blip r:embed="rId1"/>
          <a:stretch/>
        </p:blipFill>
        <p:spPr>
          <a:xfrm>
            <a:off x="47160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2"/>
          <p:cNvSpPr/>
          <p:nvPr/>
        </p:nvSpPr>
        <p:spPr>
          <a:xfrm>
            <a:off x="858240" y="150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309680" y="196704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90920" y="106668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2 electrons to fo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480320" y="204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e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08920" y="20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44800" y="2043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29560" y="2057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S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201720" y="204300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81080" y="3414600"/>
            <a:ext cx="4572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1026"/>
          <p:cNvSpPr/>
          <p:nvPr/>
        </p:nvSpPr>
        <p:spPr>
          <a:xfrm>
            <a:off x="0" y="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026"/>
          <p:cNvSpPr/>
          <p:nvPr/>
        </p:nvSpPr>
        <p:spPr>
          <a:xfrm>
            <a:off x="0" y="0"/>
            <a:ext cx="91440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perox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HOOH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914400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018680" y="2895480"/>
            <a:ext cx="109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581280" y="2666880"/>
            <a:ext cx="2133720" cy="1752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3048120" y="2133720"/>
            <a:ext cx="3124080" cy="2743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666880" y="1676520"/>
            <a:ext cx="4038840" cy="3733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4956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80060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28954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60199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42670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47242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6553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60280" y="45720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44956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1236600" y="563868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any valence electrons does Al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45880" y="563868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134440" y="563868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can we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1796040" y="56386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does Al satisfy the octet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289080" y="11430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net charge of 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568980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ns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735804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+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401240" y="14479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× -1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>
            <a:off x="5501520" y="14479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83059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337280" y="1143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2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8229600" y="18288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1026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number fo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in a compound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metal hydrid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NaH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027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027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723960" y="671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icting Ionic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eriodic"/>
          <p:cNvPicPr/>
          <p:nvPr/>
        </p:nvPicPr>
        <p:blipFill>
          <a:blip r:embed="rId1"/>
          <a:stretch/>
        </p:blipFill>
        <p:spPr>
          <a:xfrm>
            <a:off x="495360" y="2805120"/>
            <a:ext cx="8137440" cy="33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5004360" y="128124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Group 1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058080" y="18144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876920" y="1295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es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ectrons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976680" y="16621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B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976760" y="166212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024720" y="166212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mic Sans MS"/>
                <a:ea typeface="Times New Roman"/>
              </a:rPr>
              <a:t>G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829480" y="3414600"/>
            <a:ext cx="457200" cy="2133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0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27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28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29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+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1" lang="en-US" sz="6000" spc="-1" strike="noStrike" baseline="30000">
                <a:solidFill>
                  <a:srgbClr val="cc3300"/>
                </a:solidFill>
                <a:latin typeface="Arial"/>
                <a:ea typeface="MS Mincho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2514600"/>
            <a:ext cx="914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2514600"/>
            <a:ext cx="91440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MS Mincho"/>
              </a:rPr>
              <a:t>Rules for 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All other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are assigned so tha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f all of th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 on the chemic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0" y="2514600"/>
            <a:ext cx="91440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MS Mincho"/>
              </a:rPr>
              <a:t>Oxidation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oxidation #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MS Mincho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MS Mincho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0" lang="en-US" sz="60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4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char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8   =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2514600" y="5715000"/>
            <a:ext cx="838080" cy="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56:21Z</dcterms:created>
  <dc:creator> </dc:creator>
  <dc:description/>
  <dc:language>en-US</dc:language>
  <cp:lastModifiedBy>BOARD-CD3F073AA$</cp:lastModifiedBy>
  <dcterms:modified xsi:type="dcterms:W3CDTF">2011-11-22T18:54:57Z</dcterms:modified>
  <cp:revision>114</cp:revision>
  <dc:subject/>
  <dc:title>Slide 1</dc:title>
</cp:coreProperties>
</file>