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P_OR.WAV" ContentType="audio/x-wav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.gif" ContentType="image/gif"/>
  <Override PartName="/ppt/media/image5.wmf" ContentType="image/x-wmf"/>
  <Override PartName="/ppt/media/bomb.wav" ContentType="audio/x-wav"/>
  <Override PartName="/ppt/media/image10.wmf" ContentType="image/x-wmf"/>
  <Override PartName="/ppt/media/image11.wmf" ContentType="image/x-wmf"/>
  <Override PartName="/ppt/media/image3.png" ContentType="image/png"/>
  <Override PartName="/ppt/media/type.wav" ContentType="audio/x-wav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0F81-54F8-4C77-A229-1F0FE8C3E1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A87-A25E-4398-B6D9-7FA29C34A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B50A-B791-4D9D-9534-930ED6CA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479C-C853-4C28-94C2-CA15BF03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357-7019-41DA-9592-9686ADD7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742-BAA6-45D4-A60A-3269BF3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3C4-0667-4B6A-A567-9AB4FC39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314-99EF-4C71-9216-0671F714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91646-DCDA-452C-8C94-DF7145D594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8DB80-E7E8-465C-8D16-3831A5FE6E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10AB3-E85A-43B2-BD0C-D7EE1DD609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83459-49B4-4F26-8E0A-DACA3905C2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63F05-8D9D-471B-97DA-6C498A6AE0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E0484-906C-4D20-A298-A64E77AA5C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25C65-E27B-456C-BD6B-5A3DD0435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370-69BE-4A4C-94D0-7D9E4D9E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B10FB-A354-4482-8521-E130EC169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0AB43-9422-4674-90BC-AA53FB9B20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F398E-0554-432E-A393-E1B09059F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84C6B-0A51-4AD6-9E28-1071489F51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0C475-EF2D-4724-A79A-F47D3910ED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43848-9979-4660-869B-E9F20127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8809A-B998-4DE3-B076-38FE619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09F9E-B59F-419E-8218-681887E4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9C84D-FB26-4A9C-889B-B885F069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5B561-F022-46E2-8833-203EF235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6D2-6020-4F20-9731-49D9566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B7FFD-074D-40D8-8EEE-E8EFA0B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C8102-A279-46A2-905A-036B6DA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21759-E8C2-4EFC-A69A-657D6D2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4FDDC-0D4F-4373-9554-935A26A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10BCE-98C0-404B-AE6F-E411BCA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6B25E-DD95-4C53-AB9B-AE765EB2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8C169-555C-4FC2-98C9-E2B38C51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46BE5-0CC6-4D81-924D-0472C446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1FCAB-071B-460D-A991-85E7279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B1DCB-0BEF-404C-B52D-66D39E4C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589-AC42-475E-9A14-6F476066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A3492-CB7B-4547-B8CB-413AAE5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AABA9-060F-45A5-A562-0F257F6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AA891-0050-4FF5-BFF0-AB157CA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1A8A8-C6BB-465B-894D-0D6DF99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A112F-EB62-4775-B664-FA1A737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13B4B-6434-42FE-8F3D-9FAC846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89510-5C66-4245-BF7F-94C38EC6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D8F5C-D111-4A3C-9101-EE35D704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2ADB4-1F41-4D52-B3FF-D4EB2D55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8B5-9BD8-4CE0-87CF-67A248C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CA3-8D15-4AB8-B29D-ECD8117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AA1-7014-4394-A6BA-AA574F5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E70-CCEC-4ECB-A40A-F18C05D0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C05-6FCF-42B6-B2D0-B3F739C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7F8E-B963-4192-9A4C-EBAEFFFD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37C1EB5A-C8F9-477F-BCFA-814DD8CAC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B614-5364-4582-BEDB-AA214718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C07ABE11-CB1A-48FF-9F92-34B4EB32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6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868320" y="619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1120" y="160956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Formu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hannel"/>
          <p:cNvPicPr/>
          <p:nvPr/>
        </p:nvPicPr>
        <p:blipFill>
          <a:blip r:embed="rId1"/>
          <a:stretch/>
        </p:blipFill>
        <p:spPr>
          <a:xfrm>
            <a:off x="5211720" y="145728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8320" y="359100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art cell rhythm depends on the opening and closing of a complex series of valves on the cell membrane, c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90000"/>
                </a:solidFill>
                <a:latin typeface="Comic Sans MS"/>
                <a:ea typeface="Arial"/>
              </a:rPr>
              <a:t>ion channe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ome valves let certain ions like potassium (K+) flow out, others let different ions like sodium (Na+) flow in.  There are also pumps that actively move ions one direction o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76212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periodic"/>
          <p:cNvPicPr/>
          <p:nvPr/>
        </p:nvPicPr>
        <p:blipFill>
          <a:blip r:embed="rId1"/>
          <a:stretch/>
        </p:blipFill>
        <p:spPr>
          <a:xfrm>
            <a:off x="53352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04252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4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6095880" y="181440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or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" y="1357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ither!</a:t>
            </a: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oup 14 elements rarely form ions.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324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225320" y="289548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787400" y="45720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Phospho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202760" y="56386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P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2012040" y="5715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221076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762200" y="563868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8381880" y="198108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Divide by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30"/>
          <p:cNvSpPr/>
          <p:nvPr/>
        </p:nvSpPr>
        <p:spPr>
          <a:xfrm>
            <a:off x="2362320" y="4876920"/>
            <a:ext cx="761760" cy="53316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    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+3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5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058080" y="1890720"/>
            <a:ext cx="83808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842840" y="129528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925280" y="1814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701720" y="2271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6675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620080" y="12812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540880" y="1814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hosp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98480" y="22716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rs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OH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 -4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-2  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 +4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18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190040" y="289548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490120" y="4572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242720" y="5638680"/>
            <a:ext cx="71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204280" y="57150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1878480" y="5638680"/>
            <a:ext cx="57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620200" y="1981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7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26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1981080"/>
            <a:ext cx="914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0" y="1981080"/>
            <a:ext cx="914400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Water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H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6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6058080" y="1890720"/>
            <a:ext cx="1295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7692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843560" y="12952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967760" y="181440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1715760" y="2271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1247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616480" y="12812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625840" y="18144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602800" y="2271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l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026"/>
          <p:cNvSpPr/>
          <p:nvPr/>
        </p:nvSpPr>
        <p:spPr>
          <a:xfrm>
            <a:off x="79200" y="9540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 of th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255600" y="9334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1668960" y="93348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3286800" y="94464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226080" y="1619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31"/>
          <p:cNvSpPr/>
          <p:nvPr/>
        </p:nvSpPr>
        <p:spPr>
          <a:xfrm>
            <a:off x="1639800" y="161928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032"/>
          <p:cNvSpPr/>
          <p:nvPr/>
        </p:nvSpPr>
        <p:spPr>
          <a:xfrm>
            <a:off x="3355200" y="16304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33"/>
          <p:cNvSpPr/>
          <p:nvPr/>
        </p:nvSpPr>
        <p:spPr>
          <a:xfrm>
            <a:off x="232560" y="236232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034"/>
          <p:cNvSpPr/>
          <p:nvPr/>
        </p:nvSpPr>
        <p:spPr>
          <a:xfrm>
            <a:off x="1646280" y="23623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35"/>
          <p:cNvSpPr/>
          <p:nvPr/>
        </p:nvSpPr>
        <p:spPr>
          <a:xfrm>
            <a:off x="3297960" y="237348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6"/>
          <p:cNvSpPr/>
          <p:nvPr/>
        </p:nvSpPr>
        <p:spPr>
          <a:xfrm>
            <a:off x="-30600" y="396252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37"/>
          <p:cNvSpPr/>
          <p:nvPr/>
        </p:nvSpPr>
        <p:spPr>
          <a:xfrm>
            <a:off x="1574640" y="396252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38"/>
          <p:cNvSpPr/>
          <p:nvPr/>
        </p:nvSpPr>
        <p:spPr>
          <a:xfrm>
            <a:off x="3286800" y="3973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39"/>
          <p:cNvSpPr/>
          <p:nvPr/>
        </p:nvSpPr>
        <p:spPr>
          <a:xfrm>
            <a:off x="4887000" y="23623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40"/>
          <p:cNvSpPr/>
          <p:nvPr/>
        </p:nvSpPr>
        <p:spPr>
          <a:xfrm>
            <a:off x="241812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41"/>
          <p:cNvSpPr/>
          <p:nvPr/>
        </p:nvSpPr>
        <p:spPr>
          <a:xfrm>
            <a:off x="4022640" y="944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42"/>
          <p:cNvSpPr/>
          <p:nvPr/>
        </p:nvSpPr>
        <p:spPr>
          <a:xfrm>
            <a:off x="26640" y="31240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043"/>
          <p:cNvSpPr/>
          <p:nvPr/>
        </p:nvSpPr>
        <p:spPr>
          <a:xfrm>
            <a:off x="1701360" y="3124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44"/>
          <p:cNvSpPr/>
          <p:nvPr/>
        </p:nvSpPr>
        <p:spPr>
          <a:xfrm>
            <a:off x="3286800" y="31240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045"/>
          <p:cNvSpPr/>
          <p:nvPr/>
        </p:nvSpPr>
        <p:spPr>
          <a:xfrm>
            <a:off x="403992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46"/>
          <p:cNvSpPr/>
          <p:nvPr/>
        </p:nvSpPr>
        <p:spPr>
          <a:xfrm>
            <a:off x="2341800" y="16304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47"/>
          <p:cNvSpPr/>
          <p:nvPr/>
        </p:nvSpPr>
        <p:spPr>
          <a:xfrm>
            <a:off x="241812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48"/>
          <p:cNvSpPr/>
          <p:nvPr/>
        </p:nvSpPr>
        <p:spPr>
          <a:xfrm>
            <a:off x="5705280" y="23623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49"/>
          <p:cNvSpPr/>
          <p:nvPr/>
        </p:nvSpPr>
        <p:spPr>
          <a:xfrm>
            <a:off x="402444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50"/>
          <p:cNvSpPr/>
          <p:nvPr/>
        </p:nvSpPr>
        <p:spPr>
          <a:xfrm>
            <a:off x="4039920" y="3962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51"/>
          <p:cNvSpPr/>
          <p:nvPr/>
        </p:nvSpPr>
        <p:spPr>
          <a:xfrm>
            <a:off x="4039920" y="31240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52"/>
          <p:cNvSpPr/>
          <p:nvPr/>
        </p:nvSpPr>
        <p:spPr>
          <a:xfrm>
            <a:off x="2646720" y="31240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53"/>
          <p:cNvSpPr/>
          <p:nvPr/>
        </p:nvSpPr>
        <p:spPr>
          <a:xfrm>
            <a:off x="2511720" y="3962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-427680" y="95400"/>
            <a:ext cx="100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ghl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63800" y="93348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O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284040" y="1619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10240" y="2362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29680" y="304812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"/>
          <p:cNvSpPr/>
          <p:nvPr/>
        </p:nvSpPr>
        <p:spPr>
          <a:xfrm>
            <a:off x="166248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74276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66248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1660320" y="3048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3424320" y="94464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osphorous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3571560" y="16304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3717360" y="236232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3654000" y="3048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4109040" y="2895480"/>
            <a:ext cx="10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2250360" y="45720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215360" y="56386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C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024280" y="56386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205812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1850760" y="563868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8458200" y="19810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412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7"/>
          <p:cNvSpPr/>
          <p:nvPr/>
        </p:nvSpPr>
        <p:spPr>
          <a:xfrm>
            <a:off x="87624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" descr="periodic"/>
          <p:cNvPicPr/>
          <p:nvPr/>
        </p:nvPicPr>
        <p:blipFill>
          <a:blip r:embed="rId1"/>
          <a:stretch/>
        </p:blipFill>
        <p:spPr>
          <a:xfrm>
            <a:off x="64764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515664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6210360" y="1890720"/>
            <a:ext cx="18288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2920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7440" y="1281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2760" y="196704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760120" y="12812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7734240" y="3490920"/>
            <a:ext cx="38124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12240" y="12812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909720" y="1967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405240" y="1281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790360" y="19670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379680" y="19670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od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6058080" y="189072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95288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ble Noble ga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m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962840" y="303372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8088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more than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30880" y="2271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585240" y="22716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3703680" y="41767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3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1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ly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43040" y="2271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nc =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460320" y="22716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lver = A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456160" y="42530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998960" y="47102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5533920" y="22860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dmium = C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6"/>
          <p:cNvSpPr/>
          <p:nvPr/>
        </p:nvSpPr>
        <p:spPr>
          <a:xfrm>
            <a:off x="5410080" y="46483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combine to form bo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alent Bond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sha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two non-me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transfer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a metal and a non-metal or polyatomic 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sodium chlo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616680" y="6019920"/>
            <a:ext cx="78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ystems of naming depending on the type of bond…BE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ntent Placeholder 3" descr="ion cartoon.bmp"/>
          <p:cNvPicPr/>
          <p:nvPr/>
        </p:nvPicPr>
        <p:blipFill>
          <a:blip r:embed="rId1"/>
          <a:stretch/>
        </p:blipFill>
        <p:spPr>
          <a:xfrm>
            <a:off x="1600200" y="304920"/>
            <a:ext cx="581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6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167400" y="8380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rium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5114160" y="32018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6766200" y="3216240"/>
            <a:ext cx="1363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 flipV="1">
            <a:off x="61308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81882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207120" y="411624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6435720" y="312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8503560" y="3506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921640" y="3170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8002440" y="2819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427720" y="3200400"/>
            <a:ext cx="2933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Ba(NO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3960" y="838080"/>
            <a:ext cx="45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279760" y="3125880"/>
            <a:ext cx="13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7152120" y="3125880"/>
            <a:ext cx="120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 flipV="1">
            <a:off x="85312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550200" y="44974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4873680" y="30495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65200" y="358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376680" y="289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8178840" y="2971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5364720" y="3048120"/>
            <a:ext cx="355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0320" y="83808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 (I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648400" y="312408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44680" y="312408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642800" y="29718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5918400" y="3124080"/>
            <a:ext cx="1937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FeC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800600" y="762120"/>
            <a:ext cx="41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s ending in –id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sually, but not always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present an element from the periodic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5840" y="838080"/>
            <a:ext cx="43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uminum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43360" y="3124080"/>
            <a:ext cx="78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903360" y="3124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7648200" y="3021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6096960" y="3200400"/>
            <a:ext cx="1790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65635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89280" y="838080"/>
            <a:ext cx="50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gnesium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28600" y="2743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5428800" y="36957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g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081560" y="3695760"/>
            <a:ext cx="157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5912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2"/>
          <p:cNvSpPr/>
          <p:nvPr/>
        </p:nvSpPr>
        <p:spPr>
          <a:xfrm flipV="1">
            <a:off x="84200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981760" y="499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5698080" y="3581280"/>
            <a:ext cx="2672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gC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1219320"/>
            <a:ext cx="3962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1-4 refer to the following generic chemical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190760" y="10666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of the above represents the chemical formula when A and B are comb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Be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mmonium 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838080" y="723960"/>
            <a:ext cx="74678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04920" y="140976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tion first, then an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 Monatomic cation = name of th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= calc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  Monatomic anion   =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-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  calcium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580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.  For  polyatomic ions, use the name of that polyatomic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gnesium Chlor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lver 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ontium Sulf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mon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Hypochlo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609480" y="876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70504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metal forms more than 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tion</a:t>
            </a: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oman numeral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d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66680" y="2095560"/>
            <a:ext cx="68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with multiple oxid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09480" y="533520"/>
            <a:ext cx="22100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t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positive 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g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N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negative 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onic Bonding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 of attraction between oppositely charged 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we know that lead was +2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929400" y="205740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b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582200" y="380988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chlorine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643640" y="28288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67760" y="4343400"/>
            <a:ext cx="709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chlorine ions does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511560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941400" y="48769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chlorine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6483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49440" y="5410080"/>
            <a:ext cx="826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ounds are neutral, so what must the charge  of lead be in order to balance the -2 charge of chlor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3962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648320" y="15238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lead is +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"/>
          <p:cNvSpPr/>
          <p:nvPr/>
        </p:nvSpPr>
        <p:spPr>
          <a:xfrm flipV="1">
            <a:off x="3200400" y="1980720"/>
            <a:ext cx="7621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9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try F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51680" y="380988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oxygen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121040" y="4343400"/>
            <a:ext cx="69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oxygen ions does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10880" y="487692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oxygen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649440" y="5410080"/>
            <a:ext cx="82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must the charge  of iron be in order to balance the -6 charge of the oxyg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3886200" y="19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806720" y="19810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572000" y="243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1890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9924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4899240" y="160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876920" y="152388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2360" y="1600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40323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870880" y="21337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iron is +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3200400" y="2209680"/>
            <a:ext cx="83808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6" dur="1" fill="hold">
                                    <p:stCondLst>
                                      <p:cond evt="end">
                                        <p:tn val="2054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9" dur="indefinite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0" dur="1" fill="hold">
                                    <p:stCondLst>
                                      <p:cond evt="end">
                                        <p:tn val="2088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u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e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pper II Ox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balt III Fluo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Iod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ron II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9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4"/>
          <p:cNvSpPr/>
          <p:nvPr/>
        </p:nvSpPr>
        <p:spPr>
          <a:xfrm>
            <a:off x="609480" y="60948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Binary Covalent Compound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304920" y="171468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ounds between 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onmet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First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the formul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amed firs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econd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named as if it were 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an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se prefi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ly u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mo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second element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914400" y="304812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550520" y="4038480"/>
            <a:ext cx="14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609920" y="47242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554840" y="5410080"/>
            <a:ext cx="156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519280" y="289548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hosphor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pen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3117240" y="403848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958120" y="4724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2980080" y="530208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trog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334960" y="609480"/>
            <a:ext cx="176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–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 –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 – t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 - p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4996800" y="609480"/>
            <a:ext cx="178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 – he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7 – he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 – o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 – 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 – 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372600" cy="6858000"/>
          </a:xfrm>
          <a:prstGeom prst="rect">
            <a:avLst/>
          </a:prstGeom>
          <a:ln w="38160">
            <a:solidFill>
              <a:srgbClr val="bc0024"/>
            </a:solidFill>
            <a:miter/>
          </a:ln>
        </p:spPr>
      </p:pic>
      <p:sp>
        <p:nvSpPr>
          <p:cNvPr id="658" name="Rectangle 3"/>
          <p:cNvSpPr/>
          <p:nvPr/>
        </p:nvSpPr>
        <p:spPr>
          <a:xfrm>
            <a:off x="1143000" y="609480"/>
            <a:ext cx="7010280" cy="563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use for a Cause #4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rite the formula of the following compound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RITE WHAT YOU SEE DO NOT CHECK OXIDATION STATE!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143000" y="182880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Tetra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ous Dec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fill="hold">
                      <p:stCondLst>
                        <p:cond delay="0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tomic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elements exist in natur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to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ost commonly joined to another element and not found alone in nature. Why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s usually begin with ‘H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858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580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805560" y="2895480"/>
            <a:ext cx="152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140120" y="56386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N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025360" y="563868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321640" y="45720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1775520" y="5638680"/>
            <a:ext cx="60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212760" y="19810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rot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74128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0" y="182880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55336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19810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’s the net charge on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7409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4527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822960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838944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0" y="1905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, 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557784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74995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8275320" y="198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419720" y="1143000"/>
            <a:ext cx="4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‘E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7" dur="4272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ext Box 2" descr=""/>
          <p:cNvPicPr/>
          <p:nvPr/>
        </p:nvPicPr>
        <p:blipFill>
          <a:blip r:embed="rId1"/>
          <a:stretch/>
        </p:blipFill>
        <p:spPr>
          <a:xfrm>
            <a:off x="-73080" y="225360"/>
            <a:ext cx="9290160" cy="1079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0" y="990720"/>
            <a:ext cx="8961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drocarb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lecules that possess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nes – hydrocarbons with only C-C sing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1"/>
          <p:cNvSpPr/>
          <p:nvPr/>
        </p:nvSpPr>
        <p:spPr>
          <a:xfrm>
            <a:off x="457200" y="2133720"/>
            <a:ext cx="80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a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6"/>
          <p:cNvSpPr/>
          <p:nvPr/>
        </p:nvSpPr>
        <p:spPr>
          <a:xfrm>
            <a:off x="5335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enes – hydrocarbons with  C=C doub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7"/>
          <p:cNvSpPr/>
          <p:nvPr/>
        </p:nvSpPr>
        <p:spPr>
          <a:xfrm>
            <a:off x="643680" y="3352680"/>
            <a:ext cx="808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e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=CH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33520" y="3962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ynes – hydrocarbons with C     C trip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753840" y="4572000"/>
            <a:ext cx="77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yne 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C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572760" y="5181480"/>
            <a:ext cx="797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s – R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(-OH is hydroxyl group, NOT hydr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8"/>
          <p:cNvGrpSpPr/>
          <p:nvPr/>
        </p:nvGrpSpPr>
        <p:grpSpPr>
          <a:xfrm>
            <a:off x="4419720" y="4724280"/>
            <a:ext cx="380880" cy="152640"/>
            <a:chOff x="4419720" y="4724280"/>
            <a:chExt cx="380880" cy="152640"/>
          </a:xfrm>
        </p:grpSpPr>
        <p:sp>
          <p:nvSpPr>
            <p:cNvPr id="710" name="Straight Connector 22"/>
            <p:cNvSpPr/>
            <p:nvPr/>
          </p:nvSpPr>
          <p:spPr>
            <a:xfrm>
              <a:off x="4419720" y="47242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23"/>
            <p:cNvSpPr/>
            <p:nvPr/>
          </p:nvSpPr>
          <p:spPr>
            <a:xfrm>
              <a:off x="441972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24"/>
            <p:cNvSpPr/>
            <p:nvPr/>
          </p:nvSpPr>
          <p:spPr>
            <a:xfrm>
              <a:off x="4419720" y="48754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9"/>
          <p:cNvGrpSpPr/>
          <p:nvPr/>
        </p:nvGrpSpPr>
        <p:grpSpPr>
          <a:xfrm>
            <a:off x="4800600" y="4114800"/>
            <a:ext cx="380880" cy="152280"/>
            <a:chOff x="4800600" y="4114800"/>
            <a:chExt cx="380880" cy="152280"/>
          </a:xfrm>
        </p:grpSpPr>
        <p:sp>
          <p:nvSpPr>
            <p:cNvPr id="714" name="Straight Connector 30"/>
            <p:cNvSpPr/>
            <p:nvPr/>
          </p:nvSpPr>
          <p:spPr>
            <a:xfrm>
              <a:off x="4800600" y="41148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31"/>
            <p:cNvSpPr/>
            <p:nvPr/>
          </p:nvSpPr>
          <p:spPr>
            <a:xfrm>
              <a:off x="4800600" y="4190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32"/>
            <p:cNvSpPr/>
            <p:nvPr/>
          </p:nvSpPr>
          <p:spPr>
            <a:xfrm>
              <a:off x="4800600" y="4265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724" name="Object 2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c Compounds Containing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ound obtained by substituting a hydroxyl group (-OH) for an –H atom on a carbon atom of a hydrocarbon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4"/>
          <p:cNvGrpSpPr/>
          <p:nvPr/>
        </p:nvGrpSpPr>
        <p:grpSpPr>
          <a:xfrm>
            <a:off x="609480" y="3887640"/>
            <a:ext cx="8096400" cy="4113360"/>
            <a:chOff x="609480" y="3887640"/>
            <a:chExt cx="8096400" cy="4113360"/>
          </a:xfrm>
        </p:grpSpPr>
        <p:sp>
          <p:nvSpPr>
            <p:cNvPr id="740" name="Rectangle 5"/>
            <p:cNvSpPr/>
            <p:nvPr/>
          </p:nvSpPr>
          <p:spPr>
            <a:xfrm>
              <a:off x="609480" y="3887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 examples a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2"/>
            <p:cNvGraphicFramePr/>
            <p:nvPr/>
          </p:nvGraphicFramePr>
          <p:xfrm>
            <a:off x="1066680" y="4952880"/>
            <a:ext cx="152712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1527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3"/>
            <p:cNvGraphicFramePr/>
            <p:nvPr/>
          </p:nvGraphicFramePr>
          <p:xfrm>
            <a:off x="3352680" y="4952880"/>
            <a:ext cx="2276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4952880"/>
                      <a:ext cx="2276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"/>
            <p:cNvGraphicFramePr/>
            <p:nvPr/>
          </p:nvGraphicFramePr>
          <p:xfrm>
            <a:off x="6210360" y="4194000"/>
            <a:ext cx="249552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194000"/>
                      <a:ext cx="24955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7" name="Text Box 9"/>
            <p:cNvSpPr/>
            <p:nvPr/>
          </p:nvSpPr>
          <p:spPr>
            <a:xfrm>
              <a:off x="1137960" y="54864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3906360" y="5486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6649200" y="548640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-Give the name or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777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periodic"/>
          <p:cNvPicPr/>
          <p:nvPr/>
        </p:nvPicPr>
        <p:blipFill>
          <a:blip r:embed="rId1"/>
          <a:stretch/>
        </p:blipFill>
        <p:spPr>
          <a:xfrm>
            <a:off x="549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462960" y="15066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930240" y="19670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3920" y="1461960"/>
            <a:ext cx="63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1 electron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557360" y="204300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37204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L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48200" y="2043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14520" y="20430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1640" y="2957400"/>
            <a:ext cx="45720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termine if the compound is a binary (molecular) 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the elements in the compound are non-metals or metalloids the compound is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refixes to name the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S DON’T MATTER, DON’T WRITE CHARGES!!!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WITCH THE PREFIXES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name the compound like an ionic comp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oman numerals to depicted the charge for Pb, Sn, and transition metals (except Zn, Ag, C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ck for prefix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refixes are present, the compound is probably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CHARGES, DON’T WRITE CHARGES, JUST WRITE WHAT YOU SEE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Remember some polyatomic ions have prefixes (bicarbonate, dichromate, dimercury). Write these like ionic compou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use the rules for writing ionic comp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o use the correct char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don’t change the subscripts of the polyatomic 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DOES NOT HAVE ANY CHARGES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927440" y="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les for oxida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-240480" y="53352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xidation number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39840" y="1066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990080" y="10666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748960" y="107784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929400" y="107784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5295960" y="10666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-196920" y="1600200"/>
            <a:ext cx="75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1008360" y="2620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A =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21320" y="262080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-297000" y="3657600"/>
            <a:ext cx="94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xy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st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571720" y="414504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7694640" y="414504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113400" y="4678200"/>
            <a:ext cx="82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4597920" y="41148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5"/>
          <p:cNvSpPr/>
          <p:nvPr/>
        </p:nvSpPr>
        <p:spPr>
          <a:xfrm>
            <a:off x="1011240" y="315432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IA =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3" dur="indefinite" restart="never" nodeType="tmRoot">
          <p:childTnLst>
            <p:seq>
              <p:cTn id="2604" dur="indefinite" nodeType="mainSeq">
                <p:childTnLst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026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26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26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3756600" y="2895480"/>
            <a:ext cx="17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92240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7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047240" y="56386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Mg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2008440" y="56386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198216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758600" y="563868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M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68980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735804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401240" y="1371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8153280" y="18288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9"/>
          <p:cNvSpPr/>
          <p:nvPr/>
        </p:nvSpPr>
        <p:spPr>
          <a:xfrm>
            <a:off x="5501520" y="1371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822348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026"/>
          <p:cNvSpPr/>
          <p:nvPr/>
        </p:nvSpPr>
        <p:spPr>
          <a:xfrm>
            <a:off x="0" y="0"/>
            <a:ext cx="91440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026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periodic"/>
          <p:cNvPicPr/>
          <p:nvPr/>
        </p:nvPicPr>
        <p:blipFill>
          <a:blip r:embed="rId1"/>
          <a:stretch/>
        </p:blipFill>
        <p:spPr>
          <a:xfrm>
            <a:off x="47160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2"/>
          <p:cNvSpPr/>
          <p:nvPr/>
        </p:nvSpPr>
        <p:spPr>
          <a:xfrm>
            <a:off x="858240" y="150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309680" y="196704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90920" y="106668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2 electrons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480320" y="204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08920" y="20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44800" y="2043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29560" y="2057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1720" y="2043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81080" y="341460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026"/>
          <p:cNvSpPr/>
          <p:nvPr/>
        </p:nvSpPr>
        <p:spPr>
          <a:xfrm>
            <a:off x="0" y="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0" y="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914400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018680" y="2895480"/>
            <a:ext cx="10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60280" y="45720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236600" y="56386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A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45880" y="563868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13444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1796040" y="56386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568980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735804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40124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>
            <a:off x="550152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83059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8229600" y="18288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7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723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eriodic"/>
          <p:cNvPicPr/>
          <p:nvPr/>
        </p:nvPicPr>
        <p:blipFill>
          <a:blip r:embed="rId1"/>
          <a:stretch/>
        </p:blipFill>
        <p:spPr>
          <a:xfrm>
            <a:off x="495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500436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058080" y="18144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7692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976680" y="16621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76760" y="16621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024720" y="166212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G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829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56:21Z</dcterms:created>
  <dc:creator> </dc:creator>
  <dc:description/>
  <dc:language>en-US</dc:language>
  <cp:lastModifiedBy>BOARD-CD3F073AA$</cp:lastModifiedBy>
  <dcterms:modified xsi:type="dcterms:W3CDTF">2011-11-22T18:54:57Z</dcterms:modified>
  <cp:revision>114</cp:revision>
  <dc:subject/>
  <dc:title>Slide 1</dc:title>
</cp:coreProperties>
</file>