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6.1-6.4" id="0">
      <p:sldLst>
        <p:sld r:id="rId11"/>
        <p:sld r:id="rId16"/>
        <p:sld r:id="rId17"/>
        <p:sld r:id="rId18"/>
        <p:sld r:id="rId19"/>
        <p:sld r:id="rId20"/>
        <p:sld r:id="rId37"/>
        <p:sld r:id="rId32"/>
      </p:sldLst>
    </p:custShow>
    <p:custShow name="6.5-6.9" id="1">
      <p:sldLst>
        <p:sld r:id="rId38"/>
        <p:sld r:id="rId39"/>
        <p:sld r:id="rId35"/>
        <p:sld r:id="rId40"/>
        <p:sld r:id="rId41"/>
        <p:sld r:id="rId42"/>
        <p:sld r:id="rId43"/>
        <p:sld r:id="rId45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868-04EC-4845-BBA7-207E7A1C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744-DB37-445C-9EF8-EF9BD09F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9E0-4C99-4707-93DA-5CBA5995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351-BB78-4B01-AA6F-88E8DF24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B24E-E5C4-455B-8092-1C760355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39B-8E8A-41D9-9128-4CAB1EB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3D1-49F1-4CF3-A72D-10AE5E8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FCA-CE5B-4879-BA28-BFE8DDE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504-B07F-4B88-8670-2531A2FA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5D8F-D4E8-4D82-AB3E-59E187DA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9CD-86AF-4568-8E0D-3E7AC39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6FA-1223-4493-B407-00D9638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ABEF-3BC4-43F1-AB4A-BCDD4FE3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3B94-60C1-4A27-A696-28BAA33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67B-1109-4A90-9D4C-6597C1A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B7C-A461-4EAB-90E7-72F28425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0A87-3CCF-4998-ACE0-2AB42520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540-00C0-45CE-96B3-B0E6B00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FE0-E281-4FFA-ADB8-7049C2A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8A1-5711-4693-AC3F-A21E4946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4C6-4941-4214-B261-B11D283D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BE6-EA85-49A7-A635-70A34C2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45C-6C5E-4EC2-9448-93397BD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811-C7AC-4E8B-B1B1-C58784BE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CB7-A2E8-4135-86DE-3E280B810D6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858-25B9-4B82-82C8-7159EB32F4A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iodic Trends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5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04" name="Group 16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05" name="Picture 1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18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07" name="Picture 1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0" name="Rectangle 22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se element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 They all exhibit similar properties of heat and electrical conduction, lust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657440" y="1962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These are the “alkali metals” …remember this fami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266760" y="1962000"/>
            <a:ext cx="723960" cy="3143520"/>
          </a:xfrm>
          <a:prstGeom prst="ellipse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15" name="Picture 9" descr="Periodic Table imagemap"/>
            <p:cNvPicPr/>
            <p:nvPr/>
          </p:nvPicPr>
          <p:blipFill>
            <a:blip r:embed="rId1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" descr="Periodic Table imagemap"/>
            <p:cNvPicPr/>
            <p:nvPr/>
          </p:nvPicPr>
          <p:blipFill>
            <a:blip r:embed="rId2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" descr="Periodic Table imagemap"/>
            <p:cNvPicPr/>
            <p:nvPr/>
          </p:nvPicPr>
          <p:blipFill>
            <a:blip r:embed="rId3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" descr="Periodic Table imagemap"/>
            <p:cNvPicPr/>
            <p:nvPr/>
          </p:nvPicPr>
          <p:blipFill>
            <a:blip r:embed="rId4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3" descr="Periodic Table imagemap"/>
            <p:cNvPicPr/>
            <p:nvPr/>
          </p:nvPicPr>
          <p:blipFill>
            <a:blip r:embed="rId5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elements are called “metalloids”, because their propertie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ose of metals and non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62120" y="2152800"/>
            <a:ext cx="422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they sometimes have the properties of metals AND non-metals, many of these are used as “semi-conductors” – the basis of our computer technolog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2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223" name="Picture 13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4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8" name="Picture 2" descr="Periodic Table imagemap"/>
          <p:cNvPicPr/>
          <p:nvPr/>
        </p:nvPicPr>
        <p:blipFill>
          <a:blip r:embed="rId2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30" name="Group 4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31" name="Picture 5" descr="Periodic Table imagemap"/>
              <p:cNvPicPr/>
              <p:nvPr/>
            </p:nvPicPr>
            <p:blipFill>
              <a:blip r:embed="rId3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" name="Group 6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33" name="Picture 7" descr="Periodic Table imagemap"/>
                <p:cNvPicPr/>
                <p:nvPr/>
              </p:nvPicPr>
              <p:blipFill>
                <a:blip r:embed="rId4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8" descr="Periodic Table imagemap"/>
                <p:cNvPicPr/>
                <p:nvPr/>
              </p:nvPicPr>
              <p:blipFill>
                <a:blip r:embed="rId5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9" descr="Periodic Table imagemap"/>
                <p:cNvPicPr/>
                <p:nvPr/>
              </p:nvPicPr>
              <p:blipFill>
                <a:blip r:embed="rId6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Rectangle 10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Text Box 11"/>
          <p:cNvSpPr/>
          <p:nvPr/>
        </p:nvSpPr>
        <p:spPr>
          <a:xfrm>
            <a:off x="1371600" y="83808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loi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39" name="Picture 19" descr="Periodic Table imagemap"/>
            <p:cNvPicPr/>
            <p:nvPr/>
          </p:nvPicPr>
          <p:blipFill>
            <a:blip r:embed="rId7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Periodic Table imagemap"/>
            <p:cNvPicPr/>
            <p:nvPr/>
          </p:nvPicPr>
          <p:blipFill>
            <a:blip r:embed="rId8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Periodic Table imagemap"/>
            <p:cNvPicPr/>
            <p:nvPr/>
          </p:nvPicPr>
          <p:blipFill>
            <a:blip r:embed="rId9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Periodic Table imagemap"/>
            <p:cNvPicPr/>
            <p:nvPr/>
          </p:nvPicPr>
          <p:blipFill>
            <a:blip r:embed="rId10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Periodic Table imagemap"/>
            <p:cNvPicPr/>
            <p:nvPr/>
          </p:nvPicPr>
          <p:blipFill>
            <a:blip r:embed="rId11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24" descr="Periodic Table imagemap"/>
          <p:cNvPicPr/>
          <p:nvPr/>
        </p:nvPicPr>
        <p:blipFill>
          <a:blip r:embed="rId1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80880" y="1066680"/>
            <a:ext cx="876312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all the words in the English language are made from only 26 lette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compounds in the known universe are made from only about 110 elements.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(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as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ajority of these compounds are made from only about 30-40 elements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3962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major types of bonding are “ionic” and “covalent” bond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ing seeks to reach low energy stat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5029200" y="3962520"/>
            <a:ext cx="3503160" cy="2209680"/>
            <a:chOff x="5029200" y="3962520"/>
            <a:chExt cx="3503160" cy="2209680"/>
          </a:xfrm>
        </p:grpSpPr>
        <p:sp>
          <p:nvSpPr>
            <p:cNvPr id="249" name="Freeform 5"/>
            <p:cNvSpPr/>
            <p:nvPr/>
          </p:nvSpPr>
          <p:spPr>
            <a:xfrm>
              <a:off x="5408280" y="4343400"/>
              <a:ext cx="3124080" cy="1828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V="1">
              <a:off x="5408280" y="39625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 rot="16200000">
              <a:off x="4748040" y="4841640"/>
              <a:ext cx="930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2" name="Oval 9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54864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7473240" y="46483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256440" y="362736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bonded &amp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33333E-006 C 0.01285 0.01134 0.0257 0.02269 0.03542 0.03611 C 0.04514 0.04954 0.04861 0.06065 0.05834 0.08056 C 0.06806 0.10046 0.08368 0.13611 0.09375 0.15556 C 0.10382 0.175 0.11077 0.18657 0.11875 0.19722 C 0.12674 0.20787 0.1316 0.21296 0.14167 0.21944 C 0.15174 0.22593 0.16598 0.23194 0.17917 0.23611 C 0.19236 0.24028 0.20868 0.24259 0.22084 0.24444 C 0.23299 0.2463 0.24254 0.24676 0.25209 0.24722 E">
                                      <p:cBhvr>
                                        <p:cTn id="39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556 C 0.03299 0.00972 0.04514 0.01389 0.05625 0.025 C 0.06736 0.03611 0.07778 0.05417 0.0875 0.07222 C 0.09723 0.09028 0.10313 0.10833 0.11459 0.13333 C 0.12605 0.15833 0.14549 0.20232 0.15625 0.22222 C 0.16702 0.24213 0.17361 0.2463 0.17917 0.25278 C 0.18473 0.25926 0.18091 0.25509 0.18959 0.26111 C 0.19827 0.26713 0.21771 0.28195 0.23125 0.28889 C 0.2448 0.29583 0.25782 0.29931 0.27084 0.30278 E">
                                      <p:cBhvr>
                                        <p:cTn id="39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4097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atoms with a stab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rangement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1219320" y="33908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why they don’t form compounds (easily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7" descr="Periodic Table imagemap"/>
          <p:cNvPicPr/>
          <p:nvPr/>
        </p:nvPicPr>
        <p:blipFill>
          <a:blip r:embed="rId1"/>
          <a:srcRect l="93593" t="0" r="682" b="40332"/>
          <a:stretch/>
        </p:blipFill>
        <p:spPr>
          <a:xfrm>
            <a:off x="7353360" y="1371600"/>
            <a:ext cx="765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80880" y="1371600"/>
            <a:ext cx="8382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ll other elements are Noble Gas “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Wannabe’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”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elements on the Periodic Tabl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gh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structur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on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a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41911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btain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the Noble Gas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4267080" y="3657240"/>
            <a:ext cx="4343400" cy="2514960"/>
            <a:chOff x="4267080" y="3657240"/>
            <a:chExt cx="4343400" cy="2514960"/>
          </a:xfrm>
        </p:grpSpPr>
        <p:sp>
          <p:nvSpPr>
            <p:cNvPr id="263" name="Rectangle 10"/>
            <p:cNvSpPr/>
            <p:nvPr/>
          </p:nvSpPr>
          <p:spPr>
            <a:xfrm>
              <a:off x="4267080" y="5715000"/>
              <a:ext cx="43434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 flipV="1">
              <a:off x="4724280" y="3657240"/>
              <a:ext cx="0" cy="2057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6200000">
              <a:off x="4415760" y="456012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AutoShape 32"/>
            <p:cNvSpPr/>
            <p:nvPr/>
          </p:nvSpPr>
          <p:spPr>
            <a:xfrm>
              <a:off x="4495680" y="3886200"/>
              <a:ext cx="2286000" cy="152280"/>
            </a:xfrm>
            <a:prstGeom prst="parallelogram">
              <a:avLst>
                <a:gd name="adj" fmla="val 3752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172200" y="5257800"/>
            <a:ext cx="2286000" cy="685800"/>
            <a:chOff x="6172200" y="5257800"/>
            <a:chExt cx="2286000" cy="685800"/>
          </a:xfrm>
        </p:grpSpPr>
        <p:grpSp>
          <p:nvGrpSpPr>
            <p:cNvPr id="268" name="Group 37"/>
            <p:cNvGrpSpPr/>
            <p:nvPr/>
          </p:nvGrpSpPr>
          <p:grpSpPr>
            <a:xfrm>
              <a:off x="7543800" y="5257800"/>
              <a:ext cx="533520" cy="457200"/>
              <a:chOff x="7543800" y="5257800"/>
              <a:chExt cx="533520" cy="45720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7543800" y="52578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39"/>
              <p:cNvSpPr/>
              <p:nvPr/>
            </p:nvSpPr>
            <p:spPr>
              <a:xfrm>
                <a:off x="7543800" y="5334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1" name="Group 24"/>
            <p:cNvGrpSpPr/>
            <p:nvPr/>
          </p:nvGrpSpPr>
          <p:grpSpPr>
            <a:xfrm>
              <a:off x="7924680" y="5334120"/>
              <a:ext cx="533520" cy="457200"/>
              <a:chOff x="7924680" y="5334120"/>
              <a:chExt cx="533520" cy="457200"/>
            </a:xfrm>
          </p:grpSpPr>
          <p:sp>
            <p:nvSpPr>
              <p:cNvPr id="272" name="Oval 7"/>
              <p:cNvSpPr/>
              <p:nvPr/>
            </p:nvSpPr>
            <p:spPr>
              <a:xfrm>
                <a:off x="792468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21"/>
              <p:cNvSpPr/>
              <p:nvPr/>
            </p:nvSpPr>
            <p:spPr>
              <a:xfrm>
                <a:off x="7924680" y="5410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6172200" y="5334120"/>
              <a:ext cx="511200" cy="457200"/>
              <a:chOff x="6172200" y="5334120"/>
              <a:chExt cx="511200" cy="457200"/>
            </a:xfrm>
          </p:grpSpPr>
          <p:sp>
            <p:nvSpPr>
              <p:cNvPr id="275" name="Oval 15"/>
              <p:cNvSpPr/>
              <p:nvPr/>
            </p:nvSpPr>
            <p:spPr>
              <a:xfrm>
                <a:off x="61722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Text Box 16"/>
              <p:cNvSpPr/>
              <p:nvPr/>
            </p:nvSpPr>
            <p:spPr>
              <a:xfrm>
                <a:off x="6172200" y="5410440"/>
                <a:ext cx="51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7238880" y="5486400"/>
              <a:ext cx="533160" cy="457200"/>
              <a:chOff x="7238880" y="5486400"/>
              <a:chExt cx="533160" cy="457200"/>
            </a:xfrm>
          </p:grpSpPr>
          <p:sp>
            <p:nvSpPr>
              <p:cNvPr id="278" name="Oval 11"/>
              <p:cNvSpPr/>
              <p:nvPr/>
            </p:nvSpPr>
            <p:spPr>
              <a:xfrm>
                <a:off x="7238880" y="54864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Text Box 18"/>
              <p:cNvSpPr/>
              <p:nvPr/>
            </p:nvSpPr>
            <p:spPr>
              <a:xfrm>
                <a:off x="7238880" y="5562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R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0" name="Group 26"/>
            <p:cNvGrpSpPr/>
            <p:nvPr/>
          </p:nvGrpSpPr>
          <p:grpSpPr>
            <a:xfrm>
              <a:off x="6477120" y="5410080"/>
              <a:ext cx="533160" cy="457200"/>
              <a:chOff x="6477120" y="5410080"/>
              <a:chExt cx="533160" cy="457200"/>
            </a:xfrm>
          </p:grpSpPr>
          <p:sp>
            <p:nvSpPr>
              <p:cNvPr id="281" name="Oval 14"/>
              <p:cNvSpPr/>
              <p:nvPr/>
            </p:nvSpPr>
            <p:spPr>
              <a:xfrm>
                <a:off x="6477120" y="5410080"/>
                <a:ext cx="456840" cy="45720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762f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6477120" y="54860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X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6858000" y="5334120"/>
              <a:ext cx="533520" cy="457200"/>
              <a:chOff x="6858000" y="5334120"/>
              <a:chExt cx="533520" cy="457200"/>
            </a:xfrm>
          </p:grpSpPr>
          <p:sp>
            <p:nvSpPr>
              <p:cNvPr id="284" name="Oval 12"/>
              <p:cNvSpPr/>
              <p:nvPr/>
            </p:nvSpPr>
            <p:spPr>
              <a:xfrm>
                <a:off x="68580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Text Box 22"/>
              <p:cNvSpPr/>
              <p:nvPr/>
            </p:nvSpPr>
            <p:spPr>
              <a:xfrm>
                <a:off x="6858000" y="54100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N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6" name="Group 41"/>
          <p:cNvGrpSpPr/>
          <p:nvPr/>
        </p:nvGrpSpPr>
        <p:grpSpPr>
          <a:xfrm>
            <a:off x="5410080" y="3429000"/>
            <a:ext cx="533160" cy="457200"/>
            <a:chOff x="5410080" y="3429000"/>
            <a:chExt cx="533160" cy="457200"/>
          </a:xfrm>
        </p:grpSpPr>
        <p:sp>
          <p:nvSpPr>
            <p:cNvPr id="287" name="Oval 35"/>
            <p:cNvSpPr/>
            <p:nvPr/>
          </p:nvSpPr>
          <p:spPr>
            <a:xfrm>
              <a:off x="5486040" y="34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Text Box 36"/>
            <p:cNvSpPr/>
            <p:nvPr/>
          </p:nvSpPr>
          <p:spPr>
            <a:xfrm>
              <a:off x="5410080" y="35049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omic Sans MS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 Box 46"/>
          <p:cNvSpPr/>
          <p:nvPr/>
        </p:nvSpPr>
        <p:spPr>
          <a:xfrm>
            <a:off x="4590720" y="56358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2"/>
          <p:cNvGrpSpPr/>
          <p:nvPr/>
        </p:nvGrpSpPr>
        <p:grpSpPr>
          <a:xfrm>
            <a:off x="5943600" y="3505320"/>
            <a:ext cx="457200" cy="457200"/>
            <a:chOff x="5943600" y="3505320"/>
            <a:chExt cx="457200" cy="457200"/>
          </a:xfrm>
        </p:grpSpPr>
        <p:sp>
          <p:nvSpPr>
            <p:cNvPr id="291" name="Oval 13"/>
            <p:cNvSpPr/>
            <p:nvPr/>
          </p:nvSpPr>
          <p:spPr>
            <a:xfrm>
              <a:off x="5943600" y="3505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6019920" y="3581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C 0.01458 -0.00972 0.0276 -0.01644 0.04375 -0.01944 C 0.07153 -0.03426 0.09965 -0.04167 0.12917 -0.04722 C 0.14219 -0.05417 0.15885 -0.05694 0.17083 -0.06667 C 0.18559 -0.0787 0.19479 -0.09236 0.20417 -0.11111 C 0.20139 -0.1412 0.20608 -0.12801 0.18958 -0.15 C 0.18472 -0.15648 0.17083 -0.16111 0.17083 -0.16111 C 0.1526 -0.15903 0.14635 -0.16157 0.13333 -0.15 C 0.12292 -0.12917 0.11979 -0.1213 0.1125 -0.09722 C 0.1092 -0.08634 0.1092 -0.07662 0.10417 -0.06667 C 0.09913 -0.03981 0.10104 -0.05185 0.09792 -0.03056 C 0.09601 -0.00278 0.09358 0.025 0.09167 0.05278 C 0.08698 0.26111 0.0875 0.17685 0.0875 0.30556 E">
                                      <p:cBhvr>
                                        <p:cTn id="46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944 C 0.01077 -0.0493 -0.0125 -0.00393 0.00625 -0.03611 C 0.01927 -0.05856 0.00868 -0.04768 0.02084 -0.05833 C 0.03056 -0.07801 0.04549 -0.09514 0.0625 -0.10277 C 0.06875 -0.10115 0.07466 -0.10139 0.07917 -0.09444 C 0.08247 -0.08935 0.0875 -0.07777 0.0875 -0.07754 C 0.08247 -0.05787 0.07848 -0.06088 0.06459 -0.06389 C 0.0625 -0.06574 0.0599 -0.06689 0.05834 -0.06944 C 0.05295 -0.07847 0.05504 -0.10208 0.0625 -0.10833 C 0.07327 -0.11736 0.08976 -0.11898 0.10209 -0.12222 C 0.13542 -0.1199 0.13698 -0.12152 0.16042 -0.11111 C 0.1625 -0.10833 0.16493 -0.10578 0.16667 -0.10277 C 0.1698 -0.09745 0.175 -0.08611 0.175 -0.08588 C 0.17153 -0.0449 0.17188 -0.05509 0.1375 -0.05833 C 0.12813 -0.0625 0.12795 -0.06574 0.125 -0.07777 C 0.1257 -0.0824 0.12552 -0.0875 0.12709 -0.09166 C 0.13125 -0.10301 0.14861 -0.11504 0.15834 -0.11944 C 0.18143 -0.11597 0.17118 -0.11921 0.18959 -0.11111 C 0.1974 -0.10764 0.20139 -0.09652 0.20625 -0.08889 C 0.21598 -0.07338 0.22466 -0.05602 0.23542 -0.04166 C 0.24011 -0.02314 0.25261 -0.01134 0.25625 0.00834 C 0.26094 0.0338 0.2573 0.02431 0.26459 0.03889 C 0.26667 0.07547 0.26875 0.11042 0.27084 0.14723 C 0.2724 0.17639 0.27726 0.20741 0.28125 0.23611 C 0.28247 0.24468 0.28525 0.24607 0.28542 0.25556 C 0.28594 0.28056 0.28542 0.30556 0.28542 0.33056 E">
                                      <p:cBhvr>
                                        <p:cTn id="4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w Energy States in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295280"/>
            <a:ext cx="8229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ach Noble gas (except He) has EIGHT outer shell electrons, most elem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8 valence electrons! (n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n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the “Octet Ru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try to obtain a stable “octet” in thei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except for Hydrogen, Lithium and Beryllium – (which form “duets”, like Helu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OMS BECOME IONS WHEN THEY LOSE OR GAIN ENOUGH ELECTRONS TO OBTAIN A NOBLE GAS OCTET (OR DUET) IN THEIR OUTER SHELL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okstate.edu/jgelder/bondfig36.gif"/>
          <p:cNvPicPr/>
          <p:nvPr/>
        </p:nvPicPr>
        <p:blipFill>
          <a:blip r:embed="rId1"/>
          <a:srcRect l="55869" t="0" r="0" b="0"/>
          <a:stretch/>
        </p:blipFill>
        <p:spPr>
          <a:xfrm>
            <a:off x="2416320" y="304920"/>
            <a:ext cx="430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2124000" y="509580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5"/>
          <p:cNvGrpSpPr/>
          <p:nvPr/>
        </p:nvGrpSpPr>
        <p:grpSpPr>
          <a:xfrm>
            <a:off x="1198440" y="1762200"/>
            <a:ext cx="6881760" cy="3228840"/>
            <a:chOff x="1198440" y="1762200"/>
            <a:chExt cx="6881760" cy="3228840"/>
          </a:xfrm>
        </p:grpSpPr>
        <p:grpSp>
          <p:nvGrpSpPr>
            <p:cNvPr id="299" name="Group 6"/>
            <p:cNvGrpSpPr/>
            <p:nvPr/>
          </p:nvGrpSpPr>
          <p:grpSpPr>
            <a:xfrm>
              <a:off x="1198440" y="1762200"/>
              <a:ext cx="6881760" cy="3228840"/>
              <a:chOff x="1198440" y="1762200"/>
              <a:chExt cx="6881760" cy="3228840"/>
            </a:xfrm>
          </p:grpSpPr>
          <p:pic>
            <p:nvPicPr>
              <p:cNvPr id="300" name="Picture 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1198440" y="176220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Group 8"/>
              <p:cNvGrpSpPr/>
              <p:nvPr/>
            </p:nvGrpSpPr>
            <p:grpSpPr>
              <a:xfrm>
                <a:off x="6715080" y="2705040"/>
                <a:ext cx="1365120" cy="1866960"/>
                <a:chOff x="6715080" y="2705040"/>
                <a:chExt cx="1365120" cy="1866960"/>
              </a:xfrm>
            </p:grpSpPr>
            <p:pic>
              <p:nvPicPr>
                <p:cNvPr id="302" name="Picture 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7591320" y="401004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1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7172280" y="359100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1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6715080" y="270504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5" name="Rectangle 12"/>
            <p:cNvSpPr/>
            <p:nvPr/>
          </p:nvSpPr>
          <p:spPr>
            <a:xfrm>
              <a:off x="1247760" y="1771560"/>
              <a:ext cx="533160" cy="4759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3371760" y="6285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52560" y="13143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 in their out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OS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Become CATIONS! (cat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57200" y="1676520"/>
            <a:ext cx="83628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k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+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alled “cations”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: aluminum is closer to Ne than Ar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5 e- 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1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=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Al loses these 3 elect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Remember: Losing electrons is like losing bad habits…atoms become more posi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390840" y="4000680"/>
            <a:ext cx="1524240" cy="819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66760" y="1238400"/>
            <a:ext cx="8496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across each period of the Periodic Table,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me shel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remains on the outsid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4th period (beginning with K) starts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s sub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right into 3d (Scantium), 4s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side! (4th shel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n the 3rd sh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on to the right, we next begin filling 4p (Gallium)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th shell – which is still the outside shel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…Moving across the perio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SO ADDS PROT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Time for a quick jok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odium atoms are walking down the street together, when one stopped and said, “Wait! I just lost an electron!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atom replied, ”Are you sure?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atom said, “Yeah… I’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sitive!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etal (+1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solidFill>
            <a:srgbClr val="e5e7e5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124080" y="2209680"/>
            <a:ext cx="2438280" cy="2438280"/>
            <a:chOff x="3124080" y="2209680"/>
            <a:chExt cx="2438280" cy="2438280"/>
          </a:xfrm>
        </p:grpSpPr>
        <p:sp>
          <p:nvSpPr>
            <p:cNvPr id="318" name="Oval 5"/>
            <p:cNvSpPr/>
            <p:nvPr/>
          </p:nvSpPr>
          <p:spPr>
            <a:xfrm>
              <a:off x="3124080" y="220968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114440" y="3497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7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321" name="Oval 8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9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Line 10"/>
          <p:cNvSpPr/>
          <p:nvPr/>
        </p:nvSpPr>
        <p:spPr>
          <a:xfrm flipV="1">
            <a:off x="5867280" y="2285640"/>
            <a:ext cx="1981440" cy="68580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33480" y="4762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 ion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their atoms, AND ARE ALWAY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ositive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1523880"/>
            <a:ext cx="7696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” is the energy needed to remove an electron from an at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Metals have LOW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old their valence electr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ose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Non-metals have HIGH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y hold their valence electron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ght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it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to remove electrons from non-metal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3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9960" y="1257480"/>
            <a:ext cx="621036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we remove one electron at a time from an at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asi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 to remove from an atom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valence electrons! = outer shell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inner shell electrons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os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nucleus and require more Energy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luminum ha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3 valenc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31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35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39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43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6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47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0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Oval 26"/>
          <p:cNvSpPr/>
          <p:nvPr/>
        </p:nvSpPr>
        <p:spPr>
          <a:xfrm>
            <a:off x="4324320" y="5695920"/>
            <a:ext cx="1562040" cy="6476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00200"/>
            <a:ext cx="5486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the large jump in ionization energy required to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4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electron must have come from an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inn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first three electrons ha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ization energy, they must have been OUTSIDE electrons! (valence electr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56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60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64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68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72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6"/>
          <p:cNvSpPr/>
          <p:nvPr/>
        </p:nvSpPr>
        <p:spPr>
          <a:xfrm flipV="1">
            <a:off x="4971960" y="1752120"/>
            <a:ext cx="3105360" cy="800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5905440" y="5334120"/>
            <a:ext cx="114300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5867280" y="5219280"/>
            <a:ext cx="1543320" cy="1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5886360" y="4724280"/>
            <a:ext cx="2019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8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38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7391520" y="1905120"/>
            <a:ext cx="337320" cy="4465080"/>
            <a:chOff x="7391520" y="1905120"/>
            <a:chExt cx="337320" cy="4465080"/>
          </a:xfrm>
        </p:grpSpPr>
        <p:sp>
          <p:nvSpPr>
            <p:cNvPr id="391" name="Rectangle 12"/>
            <p:cNvSpPr/>
            <p:nvPr/>
          </p:nvSpPr>
          <p:spPr>
            <a:xfrm>
              <a:off x="7392960" y="1905120"/>
              <a:ext cx="227160" cy="373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39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Group 18"/>
          <p:cNvGrpSpPr/>
          <p:nvPr/>
        </p:nvGrpSpPr>
        <p:grpSpPr>
          <a:xfrm>
            <a:off x="8229600" y="990720"/>
            <a:ext cx="337320" cy="5447160"/>
            <a:chOff x="8229600" y="990720"/>
            <a:chExt cx="337320" cy="5447160"/>
          </a:xfrm>
        </p:grpSpPr>
        <p:sp>
          <p:nvSpPr>
            <p:cNvPr id="398" name="Rectangle 19"/>
            <p:cNvSpPr/>
            <p:nvPr/>
          </p:nvSpPr>
          <p:spPr>
            <a:xfrm>
              <a:off x="8308800" y="990720"/>
              <a:ext cx="228600" cy="4649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 rot="16200000">
              <a:off x="8019720" y="58906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Text Box 21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6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40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40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7391520" y="1828800"/>
            <a:ext cx="337320" cy="4541400"/>
            <a:chOff x="7391520" y="1828800"/>
            <a:chExt cx="337320" cy="4541400"/>
          </a:xfrm>
        </p:grpSpPr>
        <p:sp>
          <p:nvSpPr>
            <p:cNvPr id="411" name="Rectangle 12"/>
            <p:cNvSpPr/>
            <p:nvPr/>
          </p:nvSpPr>
          <p:spPr>
            <a:xfrm>
              <a:off x="7392960" y="1828800"/>
              <a:ext cx="227160" cy="38098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41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685800" y="365760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Comic Sans MS"/>
              </a:rPr>
              <a:t>first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electro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asily… 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  3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rd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&amp;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4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th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d a large increase in Energy! (inside sh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fore, this atom must hav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outside electr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19"/>
          <p:cNvGrpSpPr/>
          <p:nvPr/>
        </p:nvGrpSpPr>
        <p:grpSpPr>
          <a:xfrm>
            <a:off x="8228160" y="990720"/>
            <a:ext cx="337320" cy="5436000"/>
            <a:chOff x="8228160" y="990720"/>
            <a:chExt cx="337320" cy="5436000"/>
          </a:xfrm>
        </p:grpSpPr>
        <p:sp>
          <p:nvSpPr>
            <p:cNvPr id="419" name="Rectangle 20"/>
            <p:cNvSpPr/>
            <p:nvPr/>
          </p:nvSpPr>
          <p:spPr>
            <a:xfrm>
              <a:off x="8305920" y="990720"/>
              <a:ext cx="228600" cy="4649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 rot="16200000">
              <a:off x="8018280" y="5879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Text Box 22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7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4"/>
          <p:cNvSpPr/>
          <p:nvPr/>
        </p:nvSpPr>
        <p:spPr>
          <a:xfrm>
            <a:off x="3219480" y="6667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N-MET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832200" y="2976480"/>
            <a:ext cx="2419200" cy="2782800"/>
            <a:chOff x="3832200" y="2976480"/>
            <a:chExt cx="2419200" cy="2782800"/>
          </a:xfrm>
        </p:grpSpPr>
        <p:pic>
          <p:nvPicPr>
            <p:cNvPr id="424" name="Picture 6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3875040" y="297648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7"/>
            <p:cNvSpPr/>
            <p:nvPr/>
          </p:nvSpPr>
          <p:spPr>
            <a:xfrm>
              <a:off x="3832200" y="395280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4286160" y="438156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4759200" y="482436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5200560" y="526716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9" name="Picture 11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065400" y="288612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2"/>
          <p:cNvSpPr/>
          <p:nvPr/>
        </p:nvSpPr>
        <p:spPr>
          <a:xfrm>
            <a:off x="971640" y="1619280"/>
            <a:ext cx="71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n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AIN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Form ANIONS! (An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1676520"/>
            <a:ext cx="82296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form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) ions (called “anions”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r example: sulfur… 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2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e-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r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647640" y="4933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member: gaining electrons is like gaining bad habits…atoms become nega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3962520" y="4095720"/>
            <a:ext cx="419040" cy="4381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8096400" y="4076640"/>
            <a:ext cx="457200" cy="495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14440" y="800280"/>
            <a:ext cx="8115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re protons means more nuclear pull on the electron clou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ded protons pu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constant outside shell, causing it to shrink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s we move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ft to r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cross the Periodic Table, the atoms becom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mal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mallest atom in any period is that period’s noble g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57200" y="4952880"/>
            <a:ext cx="1219320" cy="1143000"/>
            <a:chOff x="457200" y="4952880"/>
            <a:chExt cx="1219320" cy="1143000"/>
          </a:xfrm>
        </p:grpSpPr>
        <p:sp>
          <p:nvSpPr>
            <p:cNvPr id="115" name="Oval 5"/>
            <p:cNvSpPr/>
            <p:nvPr/>
          </p:nvSpPr>
          <p:spPr>
            <a:xfrm>
              <a:off x="457200" y="495288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761760" y="53341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752480" y="5029200"/>
            <a:ext cx="1143000" cy="1066680"/>
            <a:chOff x="1752480" y="5029200"/>
            <a:chExt cx="1143000" cy="1066680"/>
          </a:xfrm>
        </p:grpSpPr>
        <p:sp>
          <p:nvSpPr>
            <p:cNvPr id="118" name="Oval 8"/>
            <p:cNvSpPr/>
            <p:nvPr/>
          </p:nvSpPr>
          <p:spPr>
            <a:xfrm>
              <a:off x="1752480" y="50292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043360" y="5334120"/>
              <a:ext cx="6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4038480" y="5105520"/>
            <a:ext cx="990720" cy="914400"/>
            <a:chOff x="4038480" y="5105520"/>
            <a:chExt cx="990720" cy="914400"/>
          </a:xfrm>
        </p:grpSpPr>
        <p:sp>
          <p:nvSpPr>
            <p:cNvPr id="121" name="Oval 11"/>
            <p:cNvSpPr/>
            <p:nvPr/>
          </p:nvSpPr>
          <p:spPr>
            <a:xfrm>
              <a:off x="4038480" y="51055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361040" y="54100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5105520" y="5105520"/>
            <a:ext cx="838080" cy="838080"/>
            <a:chOff x="5105520" y="5105520"/>
            <a:chExt cx="838080" cy="838080"/>
          </a:xfrm>
        </p:grpSpPr>
        <p:sp>
          <p:nvSpPr>
            <p:cNvPr id="124" name="Oval 14"/>
            <p:cNvSpPr/>
            <p:nvPr/>
          </p:nvSpPr>
          <p:spPr>
            <a:xfrm>
              <a:off x="5105520" y="5105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360760" y="5334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6019920" y="5181480"/>
            <a:ext cx="685800" cy="685800"/>
            <a:chOff x="6019920" y="5181480"/>
            <a:chExt cx="685800" cy="685800"/>
          </a:xfrm>
        </p:grpSpPr>
        <p:sp>
          <p:nvSpPr>
            <p:cNvPr id="127" name="Oval 17"/>
            <p:cNvSpPr/>
            <p:nvPr/>
          </p:nvSpPr>
          <p:spPr>
            <a:xfrm>
              <a:off x="6019920" y="51814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6161400" y="533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6781680" y="5257800"/>
            <a:ext cx="609840" cy="609480"/>
            <a:chOff x="6781680" y="5257800"/>
            <a:chExt cx="609840" cy="609480"/>
          </a:xfrm>
        </p:grpSpPr>
        <p:sp>
          <p:nvSpPr>
            <p:cNvPr id="130" name="Oval 20"/>
            <p:cNvSpPr/>
            <p:nvPr/>
          </p:nvSpPr>
          <p:spPr>
            <a:xfrm>
              <a:off x="6781680" y="52578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88140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7467480" y="5334120"/>
            <a:ext cx="533520" cy="533160"/>
            <a:chOff x="7467480" y="5334120"/>
            <a:chExt cx="533520" cy="533160"/>
          </a:xfrm>
        </p:grpSpPr>
        <p:sp>
          <p:nvSpPr>
            <p:cNvPr id="133" name="Oval 23"/>
            <p:cNvSpPr/>
            <p:nvPr/>
          </p:nvSpPr>
          <p:spPr>
            <a:xfrm>
              <a:off x="7467480" y="53341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54380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8025840" y="5410080"/>
            <a:ext cx="508320" cy="459720"/>
            <a:chOff x="8025840" y="5410080"/>
            <a:chExt cx="508320" cy="459720"/>
          </a:xfrm>
        </p:grpSpPr>
        <p:sp>
          <p:nvSpPr>
            <p:cNvPr id="136" name="Oval 26"/>
            <p:cNvSpPr/>
            <p:nvPr/>
          </p:nvSpPr>
          <p:spPr>
            <a:xfrm>
              <a:off x="8076960" y="5410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8025840" y="541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666880" y="1600200"/>
            <a:ext cx="3124440" cy="3048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439" name="Oval 5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6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7"/>
          <p:cNvSpPr/>
          <p:nvPr/>
        </p:nvSpPr>
        <p:spPr>
          <a:xfrm flipH="1">
            <a:off x="5866920" y="2209680"/>
            <a:ext cx="21337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2133720" y="1066680"/>
            <a:ext cx="4267080" cy="4419720"/>
            <a:chOff x="2133720" y="1066680"/>
            <a:chExt cx="4267080" cy="4419720"/>
          </a:xfrm>
        </p:grpSpPr>
        <p:sp>
          <p:nvSpPr>
            <p:cNvPr id="444" name="Oval 3"/>
            <p:cNvSpPr/>
            <p:nvPr/>
          </p:nvSpPr>
          <p:spPr>
            <a:xfrm>
              <a:off x="2133720" y="1066680"/>
              <a:ext cx="4267080" cy="44197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4"/>
            <p:cNvSpPr/>
            <p:nvPr/>
          </p:nvSpPr>
          <p:spPr>
            <a:xfrm>
              <a:off x="4038480" y="3268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(-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800280" y="54291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 ions are LARGER than their atom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 HAVE A NEGATIVE CHAR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990720" y="129528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atoms lose or gain electrons to have noble gas outer shell octets (or duets), we can predict how many electrons are lost or gained using the periodic 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43040" y="3029040"/>
            <a:ext cx="7924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990720" y="12952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the charges of ions by famil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27846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3165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58672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095880" y="598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/+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7816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72388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76960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153280" y="278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Picture 12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62120" y="3200400"/>
            <a:ext cx="7924680" cy="3276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 rot="16120200">
            <a:off x="6327720" y="323892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477120" y="4917960"/>
            <a:ext cx="457200" cy="10670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609480" y="2743200"/>
            <a:ext cx="13716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5791320" y="3124080"/>
            <a:ext cx="76176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7"/>
          <p:cNvGrpSpPr/>
          <p:nvPr/>
        </p:nvGrpSpPr>
        <p:grpSpPr>
          <a:xfrm>
            <a:off x="1752480" y="3505320"/>
            <a:ext cx="4191120" cy="990360"/>
            <a:chOff x="1752480" y="3505320"/>
            <a:chExt cx="4191120" cy="990360"/>
          </a:xfrm>
        </p:grpSpPr>
        <p:sp>
          <p:nvSpPr>
            <p:cNvPr id="468" name="Text Box 18"/>
            <p:cNvSpPr/>
            <p:nvPr/>
          </p:nvSpPr>
          <p:spPr>
            <a:xfrm>
              <a:off x="2193120" y="37339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</a:rPr>
                <a:t>(# Electrons lost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 flipH="1" flipV="1">
              <a:off x="1752480" y="3505320"/>
              <a:ext cx="60984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 flipV="1">
              <a:off x="5334120" y="3657240"/>
              <a:ext cx="457200" cy="228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AutoShape 21"/>
            <p:cNvSpPr/>
            <p:nvPr/>
          </p:nvSpPr>
          <p:spPr>
            <a:xfrm rot="5400000">
              <a:off x="3733560" y="2285640"/>
              <a:ext cx="228600" cy="4191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5036040" y="22096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 Electrons g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781680" y="3124080"/>
            <a:ext cx="1447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6553080" y="25909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6134040" y="5810400"/>
            <a:ext cx="1085760" cy="780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6"/>
          <p:cNvSpPr/>
          <p:nvPr/>
        </p:nvSpPr>
        <p:spPr>
          <a:xfrm>
            <a:off x="5181480" y="4095720"/>
            <a:ext cx="1200240" cy="1943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1050840" y="2025720"/>
            <a:ext cx="30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Hydrogen is weird! More about it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electronic 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838080" y="137160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ons and/or atoms ha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ey are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electron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!(“iso” = “sam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9 –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7 +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atoms have………….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7"/>
          <p:cNvGrpSpPr/>
          <p:nvPr/>
        </p:nvGrpSpPr>
        <p:grpSpPr>
          <a:xfrm>
            <a:off x="6477120" y="3809880"/>
            <a:ext cx="2361600" cy="1923120"/>
            <a:chOff x="6477120" y="3809880"/>
            <a:chExt cx="2361600" cy="1923120"/>
          </a:xfrm>
        </p:grpSpPr>
        <p:sp>
          <p:nvSpPr>
            <p:cNvPr id="481" name="AutoShape 4"/>
            <p:cNvSpPr/>
            <p:nvPr/>
          </p:nvSpPr>
          <p:spPr>
            <a:xfrm>
              <a:off x="6477120" y="3809880"/>
              <a:ext cx="390600" cy="1905120"/>
            </a:xfrm>
            <a:custGeom>
              <a:avLst/>
              <a:gdLst>
                <a:gd name="textAreaLeft" fmla="*/ 0 w 390600"/>
                <a:gd name="textAreaRight" fmla="*/ 141120 w 3906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6"/>
            <p:cNvSpPr/>
            <p:nvPr/>
          </p:nvSpPr>
          <p:spPr>
            <a:xfrm>
              <a:off x="6867720" y="4419360"/>
              <a:ext cx="1971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se are all “isoelectronic”with each other!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nic Bond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lectron Transfer = Ionic Bond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609480" y="1676520"/>
            <a:ext cx="8077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given up by a metal atom is taken in by a nonmetal at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electrons are onl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fer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+) charge of the cations must be equal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-) charge of the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OUNDS ARE NEUTRA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57200" y="1295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occurs between cations and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33520" y="1905120"/>
            <a:ext cx="8076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takes 3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: (requiring energ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removed from the 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533520" y="5029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"/>
          <p:cNvGrpSpPr/>
          <p:nvPr/>
        </p:nvGrpSpPr>
        <p:grpSpPr>
          <a:xfrm>
            <a:off x="5715000" y="4343400"/>
            <a:ext cx="1905120" cy="1752480"/>
            <a:chOff x="5715000" y="4343400"/>
            <a:chExt cx="1905120" cy="1752480"/>
          </a:xfrm>
        </p:grpSpPr>
        <p:sp>
          <p:nvSpPr>
            <p:cNvPr id="492" name="Oval 7"/>
            <p:cNvSpPr/>
            <p:nvPr/>
          </p:nvSpPr>
          <p:spPr>
            <a:xfrm>
              <a:off x="5715000" y="4343400"/>
              <a:ext cx="1676520" cy="1752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867280" y="49528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a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523880" y="4343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ium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140000" y="50292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4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7302960" y="3733920"/>
            <a:ext cx="1558440" cy="1447560"/>
            <a:chOff x="7302960" y="3733920"/>
            <a:chExt cx="1558440" cy="1447560"/>
          </a:xfrm>
        </p:grpSpPr>
        <p:sp>
          <p:nvSpPr>
            <p:cNvPr id="497" name="AutoShape 12"/>
            <p:cNvSpPr/>
            <p:nvPr/>
          </p:nvSpPr>
          <p:spPr>
            <a:xfrm flipH="1">
              <a:off x="7315200" y="3733920"/>
              <a:ext cx="1371600" cy="144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7302960" y="4164120"/>
              <a:ext cx="15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9" name="Group 17"/>
          <p:cNvGrpSpPr/>
          <p:nvPr/>
        </p:nvGrpSpPr>
        <p:grpSpPr>
          <a:xfrm>
            <a:off x="6019920" y="3809520"/>
            <a:ext cx="2666520" cy="2362680"/>
            <a:chOff x="6019920" y="3809520"/>
            <a:chExt cx="2666520" cy="2362680"/>
          </a:xfrm>
        </p:grpSpPr>
        <p:grpSp>
          <p:nvGrpSpPr>
            <p:cNvPr id="500" name="Group 18"/>
            <p:cNvGrpSpPr/>
            <p:nvPr/>
          </p:nvGrpSpPr>
          <p:grpSpPr>
            <a:xfrm>
              <a:off x="6019920" y="4572000"/>
              <a:ext cx="1142640" cy="1218960"/>
              <a:chOff x="6019920" y="4572000"/>
              <a:chExt cx="1142640" cy="1218960"/>
            </a:xfrm>
          </p:grpSpPr>
          <p:sp>
            <p:nvSpPr>
              <p:cNvPr id="501" name="Oval 19"/>
              <p:cNvSpPr/>
              <p:nvPr/>
            </p:nvSpPr>
            <p:spPr>
              <a:xfrm>
                <a:off x="6019920" y="4572000"/>
                <a:ext cx="114264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Text Box 20"/>
              <p:cNvSpPr/>
              <p:nvPr/>
            </p:nvSpPr>
            <p:spPr>
              <a:xfrm>
                <a:off x="6248160" y="49528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3" name="Line 21"/>
            <p:cNvSpPr/>
            <p:nvPr/>
          </p:nvSpPr>
          <p:spPr>
            <a:xfrm flipV="1">
              <a:off x="7543800" y="3809520"/>
              <a:ext cx="106632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4" name="Group 22"/>
            <p:cNvGrpSpPr/>
            <p:nvPr/>
          </p:nvGrpSpPr>
          <p:grpSpPr>
            <a:xfrm>
              <a:off x="7772400" y="3962160"/>
              <a:ext cx="567360" cy="520560"/>
              <a:chOff x="7772400" y="3962160"/>
              <a:chExt cx="567360" cy="520560"/>
            </a:xfrm>
          </p:grpSpPr>
          <p:sp>
            <p:nvSpPr>
              <p:cNvPr id="505" name="Oval 23"/>
              <p:cNvSpPr/>
              <p:nvPr/>
            </p:nvSpPr>
            <p:spPr>
              <a:xfrm>
                <a:off x="7772400" y="39621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Text Box 24"/>
              <p:cNvSpPr/>
              <p:nvPr/>
            </p:nvSpPr>
            <p:spPr>
              <a:xfrm>
                <a:off x="7845120" y="39621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7" name="Line 25"/>
            <p:cNvSpPr/>
            <p:nvPr/>
          </p:nvSpPr>
          <p:spPr>
            <a:xfrm>
              <a:off x="7543800" y="5410080"/>
              <a:ext cx="11426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8" name="Group 26"/>
            <p:cNvGrpSpPr/>
            <p:nvPr/>
          </p:nvGrpSpPr>
          <p:grpSpPr>
            <a:xfrm>
              <a:off x="8001000" y="5562360"/>
              <a:ext cx="567360" cy="520560"/>
              <a:chOff x="8001000" y="5562360"/>
              <a:chExt cx="567360" cy="520560"/>
            </a:xfrm>
          </p:grpSpPr>
          <p:sp>
            <p:nvSpPr>
              <p:cNvPr id="509" name="Oval 27"/>
              <p:cNvSpPr/>
              <p:nvPr/>
            </p:nvSpPr>
            <p:spPr>
              <a:xfrm>
                <a:off x="8001000" y="55623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Text Box 28"/>
              <p:cNvSpPr/>
              <p:nvPr/>
            </p:nvSpPr>
            <p:spPr>
              <a:xfrm>
                <a:off x="8073720" y="55623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11" name="Text Box 29"/>
          <p:cNvSpPr/>
          <p:nvPr/>
        </p:nvSpPr>
        <p:spPr>
          <a:xfrm>
            <a:off x="277164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2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33520" y="18288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Electron affinity: a nonmetal atom (or atoms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akes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ns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leasing energy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“Affinity” = “attraction for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non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609480" y="5029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23880" y="43434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lfur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7" name="Group 22"/>
          <p:cNvGrpSpPr/>
          <p:nvPr/>
        </p:nvGrpSpPr>
        <p:grpSpPr>
          <a:xfrm>
            <a:off x="6095880" y="4648320"/>
            <a:ext cx="1143000" cy="1218960"/>
            <a:chOff x="6095880" y="4648320"/>
            <a:chExt cx="1143000" cy="1218960"/>
          </a:xfrm>
        </p:grpSpPr>
        <p:sp>
          <p:nvSpPr>
            <p:cNvPr id="518" name="Oval 8"/>
            <p:cNvSpPr/>
            <p:nvPr/>
          </p:nvSpPr>
          <p:spPr>
            <a:xfrm>
              <a:off x="6095880" y="4648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6095880" y="48006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0" name="Text Box 24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27"/>
          <p:cNvGrpSpPr/>
          <p:nvPr/>
        </p:nvGrpSpPr>
        <p:grpSpPr>
          <a:xfrm>
            <a:off x="5029920" y="4419720"/>
            <a:ext cx="2513880" cy="1881720"/>
            <a:chOff x="5029920" y="4419720"/>
            <a:chExt cx="2513880" cy="1881720"/>
          </a:xfrm>
        </p:grpSpPr>
        <p:grpSp>
          <p:nvGrpSpPr>
            <p:cNvPr id="524" name="Group 28"/>
            <p:cNvGrpSpPr/>
            <p:nvPr/>
          </p:nvGrpSpPr>
          <p:grpSpPr>
            <a:xfrm>
              <a:off x="5029920" y="4419720"/>
              <a:ext cx="2513880" cy="1881720"/>
              <a:chOff x="5029920" y="4419720"/>
              <a:chExt cx="2513880" cy="1881720"/>
            </a:xfrm>
          </p:grpSpPr>
          <p:sp>
            <p:nvSpPr>
              <p:cNvPr id="525" name="Oval 29"/>
              <p:cNvSpPr/>
              <p:nvPr/>
            </p:nvSpPr>
            <p:spPr>
              <a:xfrm>
                <a:off x="5791320" y="4419720"/>
                <a:ext cx="1752480" cy="17524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30"/>
              <p:cNvSpPr/>
              <p:nvPr/>
            </p:nvSpPr>
            <p:spPr>
              <a:xfrm>
                <a:off x="5029920" y="4709880"/>
                <a:ext cx="1217880" cy="48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7" name="Group 31"/>
              <p:cNvGrpSpPr/>
              <p:nvPr/>
            </p:nvGrpSpPr>
            <p:grpSpPr>
              <a:xfrm>
                <a:off x="5290560" y="4675680"/>
                <a:ext cx="610560" cy="561600"/>
                <a:chOff x="5290560" y="4675680"/>
                <a:chExt cx="610560" cy="561600"/>
              </a:xfrm>
            </p:grpSpPr>
            <p:sp>
              <p:nvSpPr>
                <p:cNvPr id="528" name="Oval 32"/>
                <p:cNvSpPr/>
                <p:nvPr/>
              </p:nvSpPr>
              <p:spPr>
                <a:xfrm rot="21301200">
                  <a:off x="5309280" y="470412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Text Box 33"/>
                <p:cNvSpPr/>
                <p:nvPr/>
              </p:nvSpPr>
              <p:spPr>
                <a:xfrm rot="21301200">
                  <a:off x="5384880" y="469584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0" name="Line 34"/>
              <p:cNvSpPr/>
              <p:nvPr/>
            </p:nvSpPr>
            <p:spPr>
              <a:xfrm flipV="1">
                <a:off x="5031360" y="5661360"/>
                <a:ext cx="1215000" cy="64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1" name="Group 35"/>
              <p:cNvGrpSpPr/>
              <p:nvPr/>
            </p:nvGrpSpPr>
            <p:grpSpPr>
              <a:xfrm>
                <a:off x="5398560" y="5697360"/>
                <a:ext cx="594720" cy="554760"/>
                <a:chOff x="5398560" y="5697360"/>
                <a:chExt cx="594720" cy="554760"/>
              </a:xfrm>
            </p:grpSpPr>
            <p:sp>
              <p:nvSpPr>
                <p:cNvPr id="532" name="Oval 36"/>
                <p:cNvSpPr/>
                <p:nvPr/>
              </p:nvSpPr>
              <p:spPr>
                <a:xfrm rot="212400">
                  <a:off x="5411880" y="571068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3" name="Text Box 37"/>
                <p:cNvSpPr/>
                <p:nvPr/>
              </p:nvSpPr>
              <p:spPr>
                <a:xfrm rot="212400">
                  <a:off x="5483160" y="571680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4" name="Text Box 38"/>
            <p:cNvSpPr/>
            <p:nvPr/>
          </p:nvSpPr>
          <p:spPr>
            <a:xfrm>
              <a:off x="6562800" y="49496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7010280" y="5410080"/>
            <a:ext cx="1734480" cy="1067040"/>
            <a:chOff x="7010280" y="5410080"/>
            <a:chExt cx="1734480" cy="1067040"/>
          </a:xfrm>
        </p:grpSpPr>
        <p:sp>
          <p:nvSpPr>
            <p:cNvPr id="536" name="AutoShape 39"/>
            <p:cNvSpPr/>
            <p:nvPr/>
          </p:nvSpPr>
          <p:spPr>
            <a:xfrm>
              <a:off x="7010280" y="5410080"/>
              <a:ext cx="1447920" cy="10670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Text Box 40"/>
            <p:cNvSpPr/>
            <p:nvPr/>
          </p:nvSpPr>
          <p:spPr>
            <a:xfrm>
              <a:off x="7378200" y="5943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09480" y="1828800"/>
            <a:ext cx="8077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tice Energy: (releas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energ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positely charged ions attract each other,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ming ionic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“crystal lattice”… a HUGE network of ions, all stuc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Group 29"/>
          <p:cNvGrpSpPr/>
          <p:nvPr/>
        </p:nvGrpSpPr>
        <p:grpSpPr>
          <a:xfrm>
            <a:off x="6248520" y="4267080"/>
            <a:ext cx="1752480" cy="1752840"/>
            <a:chOff x="6248520" y="4267080"/>
            <a:chExt cx="1752480" cy="1752840"/>
          </a:xfrm>
        </p:grpSpPr>
        <p:sp>
          <p:nvSpPr>
            <p:cNvPr id="541" name="Oval 19"/>
            <p:cNvSpPr/>
            <p:nvPr/>
          </p:nvSpPr>
          <p:spPr>
            <a:xfrm>
              <a:off x="6248520" y="4267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Text Box 28"/>
            <p:cNvSpPr/>
            <p:nvPr/>
          </p:nvSpPr>
          <p:spPr>
            <a:xfrm>
              <a:off x="6883560" y="4952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Group 31"/>
          <p:cNvGrpSpPr/>
          <p:nvPr/>
        </p:nvGrpSpPr>
        <p:grpSpPr>
          <a:xfrm>
            <a:off x="1066680" y="4572000"/>
            <a:ext cx="1143000" cy="1218960"/>
            <a:chOff x="1066680" y="4572000"/>
            <a:chExt cx="1143000" cy="1218960"/>
          </a:xfrm>
        </p:grpSpPr>
        <p:sp>
          <p:nvSpPr>
            <p:cNvPr id="544" name="Oval 32"/>
            <p:cNvSpPr/>
            <p:nvPr/>
          </p:nvSpPr>
          <p:spPr>
            <a:xfrm>
              <a:off x="1066680" y="4572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1295280" y="4952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6" name="Line 42"/>
          <p:cNvSpPr/>
          <p:nvPr/>
        </p:nvSpPr>
        <p:spPr>
          <a:xfrm>
            <a:off x="2057400" y="52578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43"/>
          <p:cNvSpPr/>
          <p:nvPr/>
        </p:nvSpPr>
        <p:spPr>
          <a:xfrm flipH="1">
            <a:off x="2057040" y="495288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4343400" y="5486400"/>
            <a:ext cx="1734480" cy="1066680"/>
            <a:chOff x="4343400" y="5486400"/>
            <a:chExt cx="1734480" cy="1066680"/>
          </a:xfrm>
        </p:grpSpPr>
        <p:sp>
          <p:nvSpPr>
            <p:cNvPr id="549" name="AutoShape 46"/>
            <p:cNvSpPr/>
            <p:nvPr/>
          </p:nvSpPr>
          <p:spPr>
            <a:xfrm>
              <a:off x="4343400" y="5486400"/>
              <a:ext cx="1447920" cy="10666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7"/>
            <p:cNvSpPr/>
            <p:nvPr/>
          </p:nvSpPr>
          <p:spPr>
            <a:xfrm>
              <a:off x="4711320" y="60195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4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9" dur="1" fill="hold">
                                    <p:stCondLst>
                                      <p:cond evt="end">
                                        <p:tn val="1106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42960" y="514440"/>
            <a:ext cx="71629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a new period begins,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w shel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- each shell contains electr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ones before 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tom size JUMPS LARGER when each new shell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304920" y="5410080"/>
            <a:ext cx="1218960" cy="1143000"/>
            <a:chOff x="304920" y="5410080"/>
            <a:chExt cx="1218960" cy="1143000"/>
          </a:xfrm>
        </p:grpSpPr>
        <p:sp>
          <p:nvSpPr>
            <p:cNvPr id="140" name="Oval 5"/>
            <p:cNvSpPr/>
            <p:nvPr/>
          </p:nvSpPr>
          <p:spPr>
            <a:xfrm>
              <a:off x="304920" y="54100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076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304920" y="4267080"/>
            <a:ext cx="1143000" cy="1066680"/>
            <a:chOff x="304920" y="4267080"/>
            <a:chExt cx="1143000" cy="1066680"/>
          </a:xfrm>
        </p:grpSpPr>
        <p:sp>
          <p:nvSpPr>
            <p:cNvPr id="143" name="Oval 8"/>
            <p:cNvSpPr/>
            <p:nvPr/>
          </p:nvSpPr>
          <p:spPr>
            <a:xfrm>
              <a:off x="304920" y="4267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09840" y="45720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10"/>
          <p:cNvGrpSpPr/>
          <p:nvPr/>
        </p:nvGrpSpPr>
        <p:grpSpPr>
          <a:xfrm>
            <a:off x="380880" y="3276720"/>
            <a:ext cx="990720" cy="914400"/>
            <a:chOff x="380880" y="3276720"/>
            <a:chExt cx="990720" cy="914400"/>
          </a:xfrm>
        </p:grpSpPr>
        <p:sp>
          <p:nvSpPr>
            <p:cNvPr id="146" name="Oval 11"/>
            <p:cNvSpPr/>
            <p:nvPr/>
          </p:nvSpPr>
          <p:spPr>
            <a:xfrm>
              <a:off x="380880" y="32767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5800" y="3581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457200" y="2362320"/>
            <a:ext cx="838080" cy="838080"/>
            <a:chOff x="457200" y="2362320"/>
            <a:chExt cx="838080" cy="838080"/>
          </a:xfrm>
        </p:grpSpPr>
        <p:sp>
          <p:nvSpPr>
            <p:cNvPr id="149" name="Oval 14"/>
            <p:cNvSpPr/>
            <p:nvPr/>
          </p:nvSpPr>
          <p:spPr>
            <a:xfrm>
              <a:off x="457200" y="2362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85440" y="25909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533520" y="1676520"/>
            <a:ext cx="685800" cy="685800"/>
            <a:chOff x="533520" y="1676520"/>
            <a:chExt cx="685800" cy="685800"/>
          </a:xfrm>
        </p:grpSpPr>
        <p:sp>
          <p:nvSpPr>
            <p:cNvPr id="152" name="Oval 17"/>
            <p:cNvSpPr/>
            <p:nvPr/>
          </p:nvSpPr>
          <p:spPr>
            <a:xfrm>
              <a:off x="533520" y="1676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94800" y="1829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533520" y="1066680"/>
            <a:ext cx="609480" cy="609480"/>
            <a:chOff x="533520" y="1066680"/>
            <a:chExt cx="609480" cy="609480"/>
          </a:xfrm>
        </p:grpSpPr>
        <p:sp>
          <p:nvSpPr>
            <p:cNvPr id="155" name="Oval 20"/>
            <p:cNvSpPr/>
            <p:nvPr/>
          </p:nvSpPr>
          <p:spPr>
            <a:xfrm>
              <a:off x="533520" y="10666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614880" y="114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3"/>
          <p:cNvGrpSpPr/>
          <p:nvPr/>
        </p:nvGrpSpPr>
        <p:grpSpPr>
          <a:xfrm>
            <a:off x="5410080" y="2666880"/>
            <a:ext cx="1752480" cy="1752840"/>
            <a:chOff x="5410080" y="2666880"/>
            <a:chExt cx="1752480" cy="1752840"/>
          </a:xfrm>
        </p:grpSpPr>
        <p:sp>
          <p:nvSpPr>
            <p:cNvPr id="552" name="Oval 34"/>
            <p:cNvSpPr/>
            <p:nvPr/>
          </p:nvSpPr>
          <p:spPr>
            <a:xfrm>
              <a:off x="5410080" y="2666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6045120" y="3352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4" name="Group 42"/>
          <p:cNvGrpSpPr/>
          <p:nvPr/>
        </p:nvGrpSpPr>
        <p:grpSpPr>
          <a:xfrm>
            <a:off x="2971800" y="2286000"/>
            <a:ext cx="1752480" cy="1752480"/>
            <a:chOff x="2971800" y="2286000"/>
            <a:chExt cx="1752480" cy="1752480"/>
          </a:xfrm>
        </p:grpSpPr>
        <p:sp>
          <p:nvSpPr>
            <p:cNvPr id="555" name="Oval 43"/>
            <p:cNvSpPr/>
            <p:nvPr/>
          </p:nvSpPr>
          <p:spPr>
            <a:xfrm>
              <a:off x="297180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44"/>
            <p:cNvSpPr/>
            <p:nvPr/>
          </p:nvSpPr>
          <p:spPr>
            <a:xfrm>
              <a:off x="3606840" y="2971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" name="Group 24"/>
          <p:cNvGrpSpPr/>
          <p:nvPr/>
        </p:nvGrpSpPr>
        <p:grpSpPr>
          <a:xfrm>
            <a:off x="4419720" y="2362320"/>
            <a:ext cx="1143000" cy="1218960"/>
            <a:chOff x="4419720" y="2362320"/>
            <a:chExt cx="1143000" cy="1218960"/>
          </a:xfrm>
        </p:grpSpPr>
        <p:sp>
          <p:nvSpPr>
            <p:cNvPr id="558" name="Oval 25"/>
            <p:cNvSpPr/>
            <p:nvPr/>
          </p:nvSpPr>
          <p:spPr>
            <a:xfrm>
              <a:off x="4419720" y="2362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Text Box 26"/>
            <p:cNvSpPr/>
            <p:nvPr/>
          </p:nvSpPr>
          <p:spPr>
            <a:xfrm>
              <a:off x="4648320" y="2743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0" name="Group 45"/>
          <p:cNvGrpSpPr/>
          <p:nvPr/>
        </p:nvGrpSpPr>
        <p:grpSpPr>
          <a:xfrm>
            <a:off x="3581280" y="3352680"/>
            <a:ext cx="1752480" cy="1752840"/>
            <a:chOff x="3581280" y="3352680"/>
            <a:chExt cx="1752480" cy="1752840"/>
          </a:xfrm>
        </p:grpSpPr>
        <p:sp>
          <p:nvSpPr>
            <p:cNvPr id="561" name="Oval 46"/>
            <p:cNvSpPr/>
            <p:nvPr/>
          </p:nvSpPr>
          <p:spPr>
            <a:xfrm>
              <a:off x="3581280" y="33526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4216320" y="40384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2590920" y="3124080"/>
            <a:ext cx="1143000" cy="1218960"/>
            <a:chOff x="2590920" y="3124080"/>
            <a:chExt cx="1143000" cy="1218960"/>
          </a:xfrm>
        </p:grpSpPr>
        <p:sp>
          <p:nvSpPr>
            <p:cNvPr id="564" name="Oval 19"/>
            <p:cNvSpPr/>
            <p:nvPr/>
          </p:nvSpPr>
          <p:spPr>
            <a:xfrm>
              <a:off x="2590920" y="31240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2819520" y="350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27"/>
          <p:cNvGrpSpPr/>
          <p:nvPr/>
        </p:nvGrpSpPr>
        <p:grpSpPr>
          <a:xfrm>
            <a:off x="5334120" y="4038480"/>
            <a:ext cx="1143000" cy="1218960"/>
            <a:chOff x="5334120" y="4038480"/>
            <a:chExt cx="1143000" cy="1218960"/>
          </a:xfrm>
        </p:grpSpPr>
        <p:sp>
          <p:nvSpPr>
            <p:cNvPr id="567" name="Oval 28"/>
            <p:cNvSpPr/>
            <p:nvPr/>
          </p:nvSpPr>
          <p:spPr>
            <a:xfrm>
              <a:off x="5334120" y="4038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562720" y="4419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48"/>
          <p:cNvGrpSpPr/>
          <p:nvPr/>
        </p:nvGrpSpPr>
        <p:grpSpPr>
          <a:xfrm>
            <a:off x="1752480" y="4038480"/>
            <a:ext cx="1752480" cy="1752840"/>
            <a:chOff x="1752480" y="4038480"/>
            <a:chExt cx="1752480" cy="1752840"/>
          </a:xfrm>
        </p:grpSpPr>
        <p:sp>
          <p:nvSpPr>
            <p:cNvPr id="570" name="Oval 49"/>
            <p:cNvSpPr/>
            <p:nvPr/>
          </p:nvSpPr>
          <p:spPr>
            <a:xfrm>
              <a:off x="1752480" y="40384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50"/>
            <p:cNvSpPr/>
            <p:nvPr/>
          </p:nvSpPr>
          <p:spPr>
            <a:xfrm>
              <a:off x="2387520" y="4724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5"/>
          <p:cNvGrpSpPr/>
          <p:nvPr/>
        </p:nvGrpSpPr>
        <p:grpSpPr>
          <a:xfrm>
            <a:off x="2209680" y="1828800"/>
            <a:ext cx="1752480" cy="1752480"/>
            <a:chOff x="2209680" y="1828800"/>
            <a:chExt cx="1752480" cy="1752480"/>
          </a:xfrm>
        </p:grpSpPr>
        <p:sp>
          <p:nvSpPr>
            <p:cNvPr id="573" name="Oval 6"/>
            <p:cNvSpPr/>
            <p:nvPr/>
          </p:nvSpPr>
          <p:spPr>
            <a:xfrm>
              <a:off x="220968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7"/>
            <p:cNvSpPr/>
            <p:nvPr/>
          </p:nvSpPr>
          <p:spPr>
            <a:xfrm>
              <a:off x="2844720" y="25142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2"/>
          <p:cNvGrpSpPr/>
          <p:nvPr/>
        </p:nvGrpSpPr>
        <p:grpSpPr>
          <a:xfrm>
            <a:off x="2057400" y="3352680"/>
            <a:ext cx="1143000" cy="1218960"/>
            <a:chOff x="2057400" y="3352680"/>
            <a:chExt cx="1143000" cy="1218960"/>
          </a:xfrm>
        </p:grpSpPr>
        <p:sp>
          <p:nvSpPr>
            <p:cNvPr id="576" name="Oval 13"/>
            <p:cNvSpPr/>
            <p:nvPr/>
          </p:nvSpPr>
          <p:spPr>
            <a:xfrm>
              <a:off x="2057400" y="33526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2286000" y="3733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8"/>
          <p:cNvGrpSpPr/>
          <p:nvPr/>
        </p:nvGrpSpPr>
        <p:grpSpPr>
          <a:xfrm>
            <a:off x="5943600" y="2286000"/>
            <a:ext cx="1143000" cy="1218960"/>
            <a:chOff x="5943600" y="2286000"/>
            <a:chExt cx="1143000" cy="1218960"/>
          </a:xfrm>
        </p:grpSpPr>
        <p:sp>
          <p:nvSpPr>
            <p:cNvPr id="579" name="Oval 9"/>
            <p:cNvSpPr/>
            <p:nvPr/>
          </p:nvSpPr>
          <p:spPr>
            <a:xfrm>
              <a:off x="5943600" y="2286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617220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ing the Lattice Releases HUGE Amounts of Energy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2" name="Group 30"/>
          <p:cNvGrpSpPr/>
          <p:nvPr/>
        </p:nvGrpSpPr>
        <p:grpSpPr>
          <a:xfrm>
            <a:off x="3352680" y="4800600"/>
            <a:ext cx="1143000" cy="1218960"/>
            <a:chOff x="3352680" y="4800600"/>
            <a:chExt cx="1143000" cy="1218960"/>
          </a:xfrm>
        </p:grpSpPr>
        <p:sp>
          <p:nvSpPr>
            <p:cNvPr id="583" name="Oval 31"/>
            <p:cNvSpPr/>
            <p:nvPr/>
          </p:nvSpPr>
          <p:spPr>
            <a:xfrm>
              <a:off x="3352680" y="48006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3581280" y="5181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39"/>
          <p:cNvGrpSpPr/>
          <p:nvPr/>
        </p:nvGrpSpPr>
        <p:grpSpPr>
          <a:xfrm>
            <a:off x="4343400" y="4952880"/>
            <a:ext cx="1752480" cy="1752840"/>
            <a:chOff x="4343400" y="4952880"/>
            <a:chExt cx="1752480" cy="1752840"/>
          </a:xfrm>
        </p:grpSpPr>
        <p:sp>
          <p:nvSpPr>
            <p:cNvPr id="586" name="Oval 40"/>
            <p:cNvSpPr/>
            <p:nvPr/>
          </p:nvSpPr>
          <p:spPr>
            <a:xfrm>
              <a:off x="4343400" y="4952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4978440" y="5638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Group 36"/>
          <p:cNvGrpSpPr/>
          <p:nvPr/>
        </p:nvGrpSpPr>
        <p:grpSpPr>
          <a:xfrm>
            <a:off x="5029200" y="3124080"/>
            <a:ext cx="1752480" cy="1752840"/>
            <a:chOff x="5029200" y="3124080"/>
            <a:chExt cx="1752480" cy="1752840"/>
          </a:xfrm>
        </p:grpSpPr>
        <p:sp>
          <p:nvSpPr>
            <p:cNvPr id="589" name="Oval 37"/>
            <p:cNvSpPr/>
            <p:nvPr/>
          </p:nvSpPr>
          <p:spPr>
            <a:xfrm>
              <a:off x="5029200" y="3124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5664240" y="3809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15"/>
          <p:cNvGrpSpPr/>
          <p:nvPr/>
        </p:nvGrpSpPr>
        <p:grpSpPr>
          <a:xfrm>
            <a:off x="4724280" y="4343400"/>
            <a:ext cx="1143000" cy="1218960"/>
            <a:chOff x="4724280" y="4343400"/>
            <a:chExt cx="1143000" cy="1218960"/>
          </a:xfrm>
        </p:grpSpPr>
        <p:sp>
          <p:nvSpPr>
            <p:cNvPr id="592" name="Oval 16"/>
            <p:cNvSpPr/>
            <p:nvPr/>
          </p:nvSpPr>
          <p:spPr>
            <a:xfrm>
              <a:off x="4724280" y="43434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49528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4" name="Group 21"/>
          <p:cNvGrpSpPr/>
          <p:nvPr/>
        </p:nvGrpSpPr>
        <p:grpSpPr>
          <a:xfrm>
            <a:off x="3962520" y="2895480"/>
            <a:ext cx="1143000" cy="1218960"/>
            <a:chOff x="3962520" y="2895480"/>
            <a:chExt cx="1143000" cy="1218960"/>
          </a:xfrm>
        </p:grpSpPr>
        <p:sp>
          <p:nvSpPr>
            <p:cNvPr id="595" name="Oval 22"/>
            <p:cNvSpPr/>
            <p:nvPr/>
          </p:nvSpPr>
          <p:spPr>
            <a:xfrm>
              <a:off x="3962520" y="2895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191120" y="3276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7" name="Group 51"/>
          <p:cNvGrpSpPr/>
          <p:nvPr/>
        </p:nvGrpSpPr>
        <p:grpSpPr>
          <a:xfrm>
            <a:off x="3048120" y="3733920"/>
            <a:ext cx="1752480" cy="1752480"/>
            <a:chOff x="3048120" y="3733920"/>
            <a:chExt cx="1752480" cy="1752480"/>
          </a:xfrm>
        </p:grpSpPr>
        <p:sp>
          <p:nvSpPr>
            <p:cNvPr id="598" name="Oval 52"/>
            <p:cNvSpPr/>
            <p:nvPr/>
          </p:nvSpPr>
          <p:spPr>
            <a:xfrm>
              <a:off x="3048120" y="37339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683160" y="44193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AutoShape 57"/>
          <p:cNvSpPr/>
          <p:nvPr/>
        </p:nvSpPr>
        <p:spPr>
          <a:xfrm>
            <a:off x="457200" y="1600200"/>
            <a:ext cx="8381880" cy="50292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>
                  <a:alpha val="76078"/>
                </a:srgbClr>
              </a:gs>
              <a:gs pos="100000">
                <a:srgbClr val="767600">
                  <a:alpha val="75294"/>
                </a:srgbClr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Things Affect Lattice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Smaller ions can pack in closer together, creating more attraction, and higher lattice energ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Ions with greater charge attra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ions of lesser charg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62120" y="48006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i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l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 much energy when they form the lattice, it tak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ount of energy 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eak 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lattice! (melting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2"/>
          <p:cNvSpPr/>
          <p:nvPr/>
        </p:nvSpPr>
        <p:spPr>
          <a:xfrm>
            <a:off x="380880" y="838080"/>
            <a:ext cx="84582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igh lattice energy of ionic compound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…makes them solids at room temperatur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…gives them a very high melting poin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…and create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rys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ionic bon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s are creat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ppositely charged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Ionic Bonding = Metals + Nonmetal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Few Notes About Ionic Comp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28600" y="990720"/>
            <a:ext cx="8686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un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s of ion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They are always found in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ug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rganized groups called “crystals”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An Ionic Formula is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of the ions in the crystal!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“NaCl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… “NaCl” does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mean just one NaCl group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Each NaCl crystal has a different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umb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ions, but the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ame ratio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( 1:1 ) of 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+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&amp; 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123920"/>
            <a:ext cx="838188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he energy need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electron from the atom.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ctrons are removed fir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lectron is held in the atom by the proton/electron at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atoms hold their electr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the nucle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as atoms get smaller, it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emove electrons! (it requi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ergy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onization energy INCREASES as atoms get smaller, so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Ionization energy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n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L</a:t>
            </a:r>
            <a:r>
              <a:rPr b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R across a period, and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de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</a:t>
            </a: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a famil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5320" y="7239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62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674440" y="187488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304920" y="2000520"/>
            <a:ext cx="533160" cy="3257280"/>
            <a:chOff x="304920" y="2000520"/>
            <a:chExt cx="533160" cy="3257280"/>
          </a:xfrm>
        </p:grpSpPr>
        <p:sp>
          <p:nvSpPr>
            <p:cNvPr id="165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 rot="16200000">
              <a:off x="-1079280" y="338508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68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argest atom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71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mallest atom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76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2671560" y="187488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304920" y="1840680"/>
            <a:ext cx="533160" cy="3417120"/>
            <a:chOff x="304920" y="1840680"/>
            <a:chExt cx="533160" cy="3417120"/>
          </a:xfrm>
        </p:grpSpPr>
        <p:sp>
          <p:nvSpPr>
            <p:cNvPr id="179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 rot="16200000">
              <a:off x="-1155600" y="330120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82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west I.E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85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ighest I.E.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190" name="Picture 4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5" name="Picture 48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5"/>
          <p:cNvSpPr/>
          <p:nvPr/>
        </p:nvSpPr>
        <p:spPr>
          <a:xfrm>
            <a:off x="590400" y="476280"/>
            <a:ext cx="765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rst order of Busine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YOUR METALS AND NON-METAL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1428840" y="2076480"/>
            <a:ext cx="621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include Hydroge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ble Gase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orine’s family – the “Haloge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lus carbon, nitrogen, phosphorus, oxygen, sulfur and seleni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57"/>
          <p:cNvSpPr/>
          <p:nvPr/>
        </p:nvSpPr>
        <p:spPr>
          <a:xfrm>
            <a:off x="228600" y="1581120"/>
            <a:ext cx="857160" cy="81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58"/>
          <p:cNvSpPr/>
          <p:nvPr/>
        </p:nvSpPr>
        <p:spPr>
          <a:xfrm>
            <a:off x="8134200" y="1333440"/>
            <a:ext cx="552600" cy="358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59"/>
          <p:cNvSpPr/>
          <p:nvPr/>
        </p:nvSpPr>
        <p:spPr>
          <a:xfrm>
            <a:off x="7658280" y="1943280"/>
            <a:ext cx="552240" cy="23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6267600" y="1828800"/>
            <a:ext cx="1466640" cy="240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3:50:27Z</dcterms:created>
  <dc:creator>Gregory Paul Marshall</dc:creator>
  <dc:description/>
  <dc:language>en-US</dc:language>
  <cp:lastModifiedBy>Brandon L. Williams</cp:lastModifiedBy>
  <dcterms:modified xsi:type="dcterms:W3CDTF">2008-10-06T00:31:28Z</dcterms:modified>
  <cp:revision>98</cp:revision>
  <dc:subject/>
  <dc:title>Chapter 6</dc:title>
</cp:coreProperties>
</file>